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CD97-1BC4-40FB-B09F-1D05FA6A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A2E9-CFEA-491F-B35B-6FF41117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989D-0AFA-4686-9727-A10605AFC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81BB-F0C0-47EA-BB2C-BF60630C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0DFF-5FB5-4FB8-A721-060ADD9F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AD8-D265-4D51-BF6D-831C0024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153D-C52E-4741-821E-AD6B2B3D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D2EE-C25F-43EE-AD74-47B62676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3A25-421C-44C8-951F-3CCE22E7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9C9A-4D9B-4158-ACF3-B05EC434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AF3A-9076-4673-94F4-3445BD70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1BF-B587-4B56-9D4C-529BFB2B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0403-A661-4451-B0F5-E84ACFEA4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rcot.com/content/cdr/html/real_time_system_conditions.html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on NERC field trial on elimination of manual Time-Error Cor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84872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78487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act of Time Error correction on the NERC Reliability Standard’s performance metr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 Frequency 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Authority ACE Limit (BAAL) field trial summary and impact of manual Time-Error cor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Trial details and tentative time-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"/>
          <p:cNvPicPr/>
          <p:nvPr/>
        </p:nvPicPr>
        <p:blipFill>
          <a:blip r:embed="rId1"/>
          <a:stretch/>
        </p:blipFill>
        <p:spPr>
          <a:xfrm>
            <a:off x="-23760" y="192240"/>
            <a:ext cx="9191520" cy="64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33200" y="297000"/>
            <a:ext cx="887760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able 4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68672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76320" y="990720"/>
            <a:ext cx="8839080" cy="571500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48" name="Title 1"/>
          <p:cNvSpPr/>
          <p:nvPr/>
        </p:nvSpPr>
        <p:spPr>
          <a:xfrm>
            <a:off x="457200" y="2286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2/02/2011 BAAL Low Exceedance for 23 minu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19240" y="762120"/>
            <a:ext cx="8705520" cy="5819760"/>
          </a:xfrm>
          <a:prstGeom prst="rect">
            <a:avLst/>
          </a:prstGeom>
          <a:ln w="0">
            <a:noFill/>
          </a:ln>
        </p:spPr>
      </p:pic>
      <p:sp>
        <p:nvSpPr>
          <p:cNvPr id="50" name="Oval 2"/>
          <p:cNvSpPr/>
          <p:nvPr/>
        </p:nvSpPr>
        <p:spPr>
          <a:xfrm>
            <a:off x="4114800" y="1447920"/>
            <a:ext cx="1905120" cy="2133360"/>
          </a:xfrm>
          <a:prstGeom prst="ellipse">
            <a:avLst/>
          </a:prstGeom>
          <a:solidFill>
            <a:srgbClr val="d1d1f0">
              <a:alpha val="17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457200" y="22860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2/02/2011 BAAL Low Exceedance continued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7848720" cy="7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eld Trial Time-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78487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entative date for the field trial to begin is currently December 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umulated Time Error is posted at ERCOT.COM at the link (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ntent/cdr/html/real_time_system_conditions.htm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trial will be conducted initially until accumulated Time Error exceeds threshold of 30 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trial will halt and manual Time Error correction will resume if the accumulated Time Error exceeds 30 secon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eld trial will re-start after accumulated Time Error falls below 27secon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approach is designed to give 6 months time to entities to have business process in place to mitigate any effect, the elimination of Time Error correction might h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 the deadline  of 6 months passes, ERCOT will not conduct any manual time error corr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2133720"/>
            <a:ext cx="7848720" cy="132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Question ?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0T17:13:32Z</dcterms:created>
  <dc:creator>Sydney L. Niemeyer</dc:creator>
  <dc:description/>
  <dc:language>en-US</dc:language>
  <cp:lastModifiedBy>ssharma</cp:lastModifiedBy>
  <dcterms:modified xsi:type="dcterms:W3CDTF">2011-09-13T16:07:29Z</dcterms:modified>
  <cp:revision>274</cp:revision>
  <dc:subject/>
  <dc:title>Slide 1</dc:title>
</cp:coreProperties>
</file>