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21BAB2-2DB3-4F9E-82AA-E49609BFD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6E3396-D610-4274-B435-8CB32658C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0EC7C2-E42E-414A-94A2-D24B8011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2070FD-B648-4806-B5AA-16227248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991C-1FB4-4053-82DE-8090B54D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172A-17F8-417E-85D6-F2B8B62F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0137-7266-4F8C-914F-EB126B72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F09F-8B92-4A19-879D-0D334004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8053-9FC8-4FD6-9C9F-2AD70CD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3257-6CB3-437D-8EDF-606CEFE1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6112-F2FF-496F-ACCC-E7ED957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168B-F472-4CFB-99DC-C7A025A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19A0-1939-4E10-831C-BFED9C80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DB0A-1AEA-4D58-ADCA-539A0CB5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7531-1D35-479A-A7FB-EB1980D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1B90-306C-419B-82D3-DD241C5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2133360" y="6400440"/>
            <a:ext cx="99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5D6-4E1B-4722-8A64-1B537109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64767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3"/>
          </p:nvPr>
        </p:nvSpPr>
        <p:spPr>
          <a:xfrm>
            <a:off x="106632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2009 - Sl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straints Competitiveness Tests (CCT) Resul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sented to WMS 9/14/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ic Transmission Limit ISSU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of GENERIC TRANSMISSION LIMITS NOT CONSIDERED IN PROTOCOLS – NOT SUPPORTED BY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performed was the two tests detailed in Protocols section 3.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ed that CMWG recommend Competitive/Non-Competitive Status of W-N and VALIMP to W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001-6F9C-44FF-AACC-6459B440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nual CCT Described in Section 3.19.1 of the Protocols has been performed on 45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of those Constraints passed the Annual CCT with the current DME data (14 did no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 of those Constraints passed the Annual CCT with the CMWG suggested revisions to the DME data (11 did no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2 Generic Transmission Limit Constraints that were significant in the studied time period were not tes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579-0D2F-4909-BECB-3399B475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1CF-3406-4EAA-9FD3-B7D8C847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al for Generic Transmission Lim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E9B8-85D2-4884-A126-919EEE3F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scription of Stud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Models for the upcoming annual CRR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to be posted 9/2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Go-live to 8/14/2011 there have only been 355 distinct binding constraints in the Real Tim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5 binding constraints were ranked by descending [shadow price * flow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MWG’s instructions, the constraints that accounted for 80% of Real-Time congestion from 12/1/2010 to 8/14/2011 were subjected to the C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Making Entity (DME) (2 se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info from registr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WG suggested edits to registr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ed Constraints (1 of 4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765000"/>
          <a:ext cx="8229600" cy="5648400"/>
        </p:xfrm>
        <a:graphic>
          <a:graphicData uri="http://schemas.openxmlformats.org/drawingml/2006/table">
            <a:tbl>
              <a:tblPr/>
              <a:tblGrid>
                <a:gridCol w="1162080"/>
                <a:gridCol w="1692360"/>
                <a:gridCol w="1189080"/>
                <a:gridCol w="2016000"/>
                <a:gridCol w="2170080"/>
              </a:tblGrid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GENCY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CONTING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EL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ow Price * Limit (Su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CA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_TO_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6,306,70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CA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8,859,59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_SAJO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_HI_NEDIN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_SAJO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_HI_NEDIN1_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,456,38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_DDEN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_W_DE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_DDEN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_W_DE_1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,890,63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LWS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LWS58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__A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,227,44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LE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ION_4AT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LE58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ION_24AT2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,583,75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MO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NTH_FMR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MO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NTH_AXFMR1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,032,73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BL2U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_OAKC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BL2U5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_OAKC1_1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,503,94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BY_G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T_MID90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BY_G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T_MID90_A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825,03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YWLV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__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YWLV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__C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547,67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WL2V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VEE_MR2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WL2V5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VEE_AXFMR2L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349,35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P_JN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_SMR98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P_JN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_SMR98_A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234,88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GRMG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5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GRMG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5__A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166,34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YWLV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YWLV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__A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987,72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8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1BC-516F-44F9-B6DA-1C8C3C3D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ed Constraints (2 of 4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384-0DFF-404C-A0C9-BE281B462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765000"/>
          <a:ext cx="8229600" cy="5648400"/>
        </p:xfrm>
        <a:graphic>
          <a:graphicData uri="http://schemas.openxmlformats.org/drawingml/2006/table">
            <a:tbl>
              <a:tblPr/>
              <a:tblGrid>
                <a:gridCol w="1162080"/>
                <a:gridCol w="1692360"/>
                <a:gridCol w="1189080"/>
                <a:gridCol w="2016000"/>
                <a:gridCol w="2170080"/>
              </a:tblGrid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GENCY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CONTING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EL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ow Price * Limit (Su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HB_KG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RPHR97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HB_KG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RPHR97_A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844,47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JEWSNG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K_TOKSW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JEWSNG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K_TOKSW_1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764,01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RSLNC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0_D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RSLNC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0__D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613,83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LI2G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__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LI2G5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__D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076,38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DOPHR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_NAL_HAS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DOPHR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_NAL_HAS_1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793,17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NSCN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__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NSCN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__C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777,02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RSTRC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SES_MR6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RSTRC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SES_AXFMR6L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718,89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KEN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DAL_AT1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KEN58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DAL_1HH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480,59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MPSND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MPBEL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__A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404,70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IBJK_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_A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IBJK_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__A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246,18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YWLV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__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YWLV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__D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222,97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DE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_902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DE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_902_1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205,38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NLON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ON_SKIDMO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NLON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ON_SKIDMO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085,32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DBODN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0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DBODN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0__A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048,62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15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ed Constraints (3 of 4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CDE2-A6AE-4C68-B084-0BAD59E5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765000"/>
          <a:ext cx="8229600" cy="5648400"/>
        </p:xfrm>
        <a:graphic>
          <a:graphicData uri="http://schemas.openxmlformats.org/drawingml/2006/table">
            <a:tbl>
              <a:tblPr/>
              <a:tblGrid>
                <a:gridCol w="1162080"/>
                <a:gridCol w="1692360"/>
                <a:gridCol w="1189080"/>
                <a:gridCol w="2016000"/>
                <a:gridCol w="2170080"/>
              </a:tblGrid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GENCY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CONTING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EL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ow Price * Limit (Su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LOS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_3122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LOS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_3122_1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737,16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RSLNC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0_D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RSLNC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0__D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713,52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GNON_MR4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GNON_AXFMR4H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563,29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KBCRL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__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KBCRL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__C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60,19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HLT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5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HLT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5__A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76,97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P_OB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T_MID90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P_OB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T_MID90_A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33,44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GNON_MR4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GNON_AXFMR4L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22,53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EDLON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SEC_LONH_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EDLON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HON_XCAP_1_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06,94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PNOR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0__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PNOR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0__C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274,24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FTSBAR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L_FTSW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FTSBAR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L_FTSW1_1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66,07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TRDES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VEE_FMR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TRDES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VEE_AXFMR1H_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39,60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TRDES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VEE_AXFMR1L_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BSVEN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BSVEN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__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861,27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MCKW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CHI_KWASS1_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MCKW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CHI_KWASS1_1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833,76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20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ed Constraints (4 of 4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FF29-75A7-472D-BA08-BC678ABE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765000"/>
          <a:ext cx="8229600" cy="1940040"/>
        </p:xfrm>
        <a:graphic>
          <a:graphicData uri="http://schemas.openxmlformats.org/drawingml/2006/table">
            <a:tbl>
              <a:tblPr/>
              <a:tblGrid>
                <a:gridCol w="1162080"/>
                <a:gridCol w="1692360"/>
                <a:gridCol w="1189080"/>
                <a:gridCol w="2016000"/>
                <a:gridCol w="2170080"/>
              </a:tblGrid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GENCY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_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CONTING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 EL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ow Price * Limit (Su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GAR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O_AT1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GAR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O_AU_AT1H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649,14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LSND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5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LTMP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5__A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631,34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MO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5__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MO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5__A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377,00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MO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5__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CWMOS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5__B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364,47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25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 CCT Failing CONSTRAINTS (14/11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066680"/>
          <a:ext cx="8229600" cy="2967120"/>
        </p:xfrm>
        <a:graphic>
          <a:graphicData uri="http://schemas.openxmlformats.org/drawingml/2006/table">
            <a:tbl>
              <a:tblPr/>
              <a:tblGrid>
                <a:gridCol w="1593720"/>
                <a:gridCol w="2341800"/>
                <a:gridCol w="287280"/>
                <a:gridCol w="1512720"/>
                <a:gridCol w="249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_SAJO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_HI_NEDIN1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LO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_3122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_DDEN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_W_DE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GNON_AXFMR4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P_JN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_SMR98_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KBCRL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__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GRMG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5__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GNON_AXFMR4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HB_KG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RPHR97_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EDLON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HON_XCAP_1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DOPHR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_NAL_HAS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BSVEN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__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IBJK_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__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MCKW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CHI_KWASS1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5F7-6D8A-43D2-B377-DF960768F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5200" y="4724280"/>
            <a:ext cx="813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constraints listed (except W-N and VALIMP) passed the 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Highlighted in ORANGE passed CCT with CMWG suggested 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straints Failed Test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2133720" y="640080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95C8-E10D-4E9B-9428-770218B3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64771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233360"/>
          <a:ext cx="9144000" cy="4229280"/>
        </p:xfrm>
        <a:graphic>
          <a:graphicData uri="http://schemas.openxmlformats.org/drawingml/2006/table">
            <a:tbl>
              <a:tblPr/>
              <a:tblGrid>
                <a:gridCol w="2016000"/>
                <a:gridCol w="208080"/>
                <a:gridCol w="196920"/>
                <a:gridCol w="198360"/>
                <a:gridCol w="196920"/>
                <a:gridCol w="198360"/>
                <a:gridCol w="196920"/>
                <a:gridCol w="198360"/>
                <a:gridCol w="198360"/>
                <a:gridCol w="196920"/>
                <a:gridCol w="198360"/>
                <a:gridCol w="196920"/>
                <a:gridCol w="198360"/>
                <a:gridCol w="196920"/>
                <a:gridCol w="198360"/>
                <a:gridCol w="196920"/>
                <a:gridCol w="198360"/>
                <a:gridCol w="196920"/>
                <a:gridCol w="198360"/>
                <a:gridCol w="198720"/>
                <a:gridCol w="196560"/>
                <a:gridCol w="198720"/>
                <a:gridCol w="196560"/>
                <a:gridCol w="198720"/>
                <a:gridCol w="196560"/>
                <a:gridCol w="198720"/>
                <a:gridCol w="196560"/>
                <a:gridCol w="198720"/>
                <a:gridCol w="198360"/>
                <a:gridCol w="196920"/>
                <a:gridCol w="198360"/>
                <a:gridCol w="196920"/>
                <a:gridCol w="198360"/>
                <a:gridCol w="196920"/>
                <a:gridCol w="198360"/>
                <a:gridCol w="196920"/>
                <a:gridCol w="198360"/>
              </a:tblGrid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_SAJO5_LON_HI_NEDIN1_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_DDEN8_AIR_W_DE_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02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P_JN5_BI_SMR98_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GRMGS8_6225__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HB_KG5_CTRPHR97_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DOPHR5_138_NAL_HAS_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02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GIBJK_5_265__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USLOS5_CKT_3122_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_CAGNON_AXFMR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KBCRL5_1140__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AG58_CAGNON_AXFMR4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1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EDLON5_RIOHON_XCAP_1_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BSVEN5_21__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7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MCKW25_KMCHI_KWASS1_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9"/>
          <p:cNvSpPr/>
          <p:nvPr/>
        </p:nvSpPr>
        <p:spPr>
          <a:xfrm>
            <a:off x="755640" y="5661000"/>
            <a:ext cx="79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IM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EXPOR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IVOTAL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3816360" y="6416640"/>
            <a:ext cx="2676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Shuye Teng</dc:creator>
  <dc:description/>
  <dc:language>en-US</dc:language>
  <cp:lastModifiedBy>sreedy</cp:lastModifiedBy>
  <dcterms:modified xsi:type="dcterms:W3CDTF">2011-09-14T06:15:42Z</dcterms:modified>
  <cp:revision>164</cp:revision>
  <dc:subject/>
  <dc:title>Instructions</dc:title>
</cp:coreProperties>
</file>