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21573-FF2E-4FDB-923D-D89836A30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8E8EB-B90A-43BF-AE91-D81051D7B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9027E-426D-4271-B565-4D8D67521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D9FDD-6BD3-4704-A237-2C0B6B6B7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9DF68-0D4C-4846-B8F6-26A9E996E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8CB21-AC53-4F36-9DAC-7B5E6C171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67860-1F6A-4C0A-8F2B-E31CF0ED2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ECDFD-875F-42F9-9D5B-E3E5CF6F1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79EFE-63F0-4027-A801-5937A3839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39777-2EB7-4443-BE2E-D51D78B5A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8A4B9-9192-48E0-AB18-6465BD1CB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9BFEC-C507-4E8D-8871-FC5D735A7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12A90-4528-4ACB-8686-FD0DDED2D2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COT Version 3.0 </a:t>
            </a:r>
            <a:br>
              <a:rPr sz="2800"/>
            </a:br>
            <a:r>
              <a:rPr b="0" lang="en-US" sz="2800" spc="-1" strike="noStrike">
                <a:solidFill>
                  <a:srgbClr val="000000"/>
                </a:solidFill>
                <a:latin typeface="Calibri"/>
              </a:rPr>
              <a:t>Setting the Shadow Price Caps and Power Balance Penalty in security Constrained Economic Dispatch</a:t>
            </a:r>
            <a:endParaRPr b="0" lang="en-US" sz="28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ddition of the Holistic Shadow Price Cap Methodolog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COT Clarifications to the TAC Approved Methodology Description</a:t>
            </a:r>
            <a:endParaRPr b="0" lang="en-US" sz="28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ment 4 – ERCOT understands that if the Shadow Price Cap is reset on Jan 1, it will never be less than $2,000 /MWh and could be higher depending on the value of Generation Resource C’s Mitigated Offer Cap and shift factor impact on the irresolvable constraint.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ment 5 - ERCOT proposes to insert the absolute value function to assure a positive dollar valuation for the purpose of the comparison.</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ment 6 - ERCOT suggests that the Holistic Shadow Price Cap Methodology be applied to competitive constraints that become non-competitive under Protocol 3.19.2 .</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RCOT proposes to ignore a similar daily reclassification of a constraint from competitive to non-competitive made in accordance with Protocol Section 3.10.3.</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ment 7 - ERCOT assumes that the holistic Shadow Price Cap does not apply if the constraint is no longer determined to be non‑competitive in accordance with Protocol Section 3.19.</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ment 8 - ERCOT will review the application of the holistic Shadow Price Caps for the various SCED constraints during December and reset these constraint caps as required to become effective in the month of January.</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nt of this review is to consider all of the holistic Shadow Price Caps applied through December 31 of the current year and revise these caps, as needed, to be effective in January of the new year.</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COT Clarifications to the TAC Approved Methodology Descrip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ment 10 - ERCOT proposes to substitute the FIP defined in Protocol Section 2 for “Houston Ship Channel natural gas price”.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assures consistency with all other Protocol requirements related to the FIP.</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ment 11 - ERCOT proposes that resetting the net margin value to zero on January 1 of each year is consistent with the TAC approved guidance to reset the Shadow Price Cap for each SCED irresolvable non-competitive constraint to the minimum of E and F (as described in the procedure) on January 1 of each year.</a:t>
            </a:r>
            <a:endParaRPr b="0" lang="en-US" sz="2700" spc="-1" strike="noStrike">
              <a:solidFill>
                <a:srgbClr val="000000"/>
              </a:solidFill>
              <a:latin typeface="Calibri"/>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COT Clarifications to the TAC Approved Methodology Descrip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5T18:46:51Z</dcterms:created>
  <dc:creator>RGS08222011</dc:creator>
  <dc:description/>
  <dc:language>en-US</dc:language>
  <cp:lastModifiedBy>KPL</cp:lastModifiedBy>
  <dcterms:modified xsi:type="dcterms:W3CDTF">2011-08-29T21:23:57Z</dcterms:modified>
  <cp:revision>9</cp:revision>
  <dc:subject/>
  <dc:title>ERCOT Version 3.0  Setting the Shadow Price Caps and Power Balance Penalty in security Constrained Economic Dispatch</dc:title>
</cp:coreProperties>
</file>