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C442-CC01-4620-9DB0-CA4D75D7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B35-8D1D-4D83-BF68-42674450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B1F6-22FB-42D6-A56A-A8F56C64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541D-A696-470E-BDE6-3CA3B5D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D179-0091-4986-BDC6-E32A474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E0F6-0A92-4513-8A4B-FA6AC29C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12F8-21C6-476F-9EB1-5BDAF5A5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9318-96A3-4CCA-93C6-B3CD79E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C0AD-D857-427F-98FC-2DD71B8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E9A3-EF09-4B53-B213-5CC2D166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250E-B8E3-4DD3-A05A-0E556AA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6C54-0290-42C7-92A2-68E2926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0AE6-260A-48E8-8110-89433D2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5836-4F6A-4E78-AD69-217AEF3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9242-A81D-4D2F-80CA-8ABE38B9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AE5F-4EF3-4965-9E36-0C7A831F7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E7A-CC1C-4850-B61D-BE715DA06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rak TF working with ERCOT on project timeline.  MTTF will be testing its upgrades during the TEXAS SET 4.0 Flight T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esentation on Time Error 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time on ROS agenda to disc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 4.0 Market Coordina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Date set for June 2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SET finalizing change controls for the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scripts being designed for fligh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606-111B-4E84-9F8A-E37D5AC2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10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838080"/>
          <a:ext cx="7924680" cy="46548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SET 4.0 including: Acquisition and Transfer of Customers from one REP to Another; Meter Tampering Transactional Solu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 with P.U.C. Subst. R. 25.493 and the ability to expeditiously transfer large volumes of ESI IDs from one CR to another C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RMS: Voted to endorse and forward the 7/20/11 RMS Report as amended by the 8/3/11 CenterPoint Energy comments and the revised Impact Analysis for RMGRR100 to TA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RMS: To recommend approval of RMGRR100 as amended by the 7/18/11 Texas SET Working Group commen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changes proposed in in RMGRR100 are in the existing Texas Standard Electronic Transaction (TX SET) project and are captured in the Impact Analysis for NPRR294:  Texas SET 4.0 Including: Acquisition and Transfer of Customers From One REP to Another; Meter Tampering Transactional Solutio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will be effective upon system implementatio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8-31T16:31:23Z</dcterms:modified>
  <cp:revision>125</cp:revision>
  <dc:subject/>
  <dc:title>Instructions</dc:title>
</cp:coreProperties>
</file>