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D4CC2-E372-454D-923E-9DA557649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06C54-214F-4112-936F-251A1E6C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CDC03-B610-4622-BEBA-3900DFD6F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7791B-FD5C-4A16-BF5C-9B9089DB7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07BFF-832A-48D3-A097-36A680CE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062D-B152-467F-BFF0-087FEA23A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B841-2C44-4A1B-AE3D-90377477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432F-41FA-473F-8852-0118EFA6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49DD-C796-48CA-BBED-E3AB1B2B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5CD5-EA0D-41DD-B856-446CEF1C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4CF87-00C9-43B5-ABA8-8247E32F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8708-E8D1-4F43-B3ED-9CA5DEE3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7B8F-D430-4B80-BFB6-0F169745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615F-C52A-4E6F-A719-6C7DE81F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0AD5-19C0-43D2-A413-68625CBA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C701-A7F9-44C4-8814-0050E75C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27D4-EC2C-4E4B-B819-AB5E40B95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E2EC-2899-4E71-AB4E-545A86875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D5D7F-6730-4ABF-AAFF-08B8E930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5E662-0138-4379-9A1A-EFC422E9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3A092-25CF-450A-BDCC-AE77237A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CD910-51F3-4969-9E6D-9F849C5E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F2AD5-1466-425B-98E7-9AF0F6BC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FD077-2A41-46BF-BE8E-F76223C8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CED4-DFB7-4F25-B2E8-215F5056D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5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FC2B-935D-4316-AEA4-A8DCD6786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y 5,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0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8224-CB5F-4F18-AB9E-7C2A916F3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1ECE-8A62-49AA-9682-B1A9232A7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7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nce and Audit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dt" idx="8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16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1600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modities Exchange Act Exemp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tatus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Rectangle 20"/>
          <p:cNvSpPr/>
          <p:nvPr/>
        </p:nvSpPr>
        <p:spPr>
          <a:xfrm>
            <a:off x="1143000" y="2743200"/>
            <a:ext cx="67057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ark R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ERCOT Vice President of Credit and Enterprise Risk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eptember 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 Black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RCOT 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authorized by the Board in May, ERCOT is in the process of preparing an application for a Commodity Exchange Act exemption with the CFTC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is continuing discussions with the CFTC with respect to the scope and terms of an exemp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joint exemption application with the other ISOs/RTOs is expected to be filed short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is time ERCOT expects to continue to seek Central Counterparty (CCP) status, which appears to provide setoff protections in bankruptc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ortion of the joint exemption application applicable to ERCOT is available on the ERCOT websi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ember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xpected CFTC Conditions for CEA Exemptio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80880" y="838080"/>
          <a:ext cx="8458200" cy="5430960"/>
        </p:xfrm>
        <a:graphic>
          <a:graphicData uri="http://schemas.openxmlformats.org/drawingml/2006/table">
            <a:tbl>
              <a:tblPr/>
              <a:tblGrid>
                <a:gridCol w="411120"/>
                <a:gridCol w="2103480"/>
                <a:gridCol w="5943600"/>
              </a:tblGrid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 settlement time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 347 combines  invoices for day-ahead and real  time markets (approved by Board in August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 391 shortens settlement cycle by one day and eliminates Automated Clearing House (ACH) payments (September TAC vote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wo-day limit to cure collateral ca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action necessar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mination of unsecured credit in CRR mark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 400 filed (September PRS review, October TAC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llowance of netting between CRR and non-CRR mark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m limitation on unsecured cred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on to Creditworthiness Standard approved by CWG on August 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To Board in Septemb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come a central counterparty (CC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S requested to confirm tax-exempt status of CC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eria for market particip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ed standards for participant attestation, capitalization and risk management capability verification reviewed with CWG on August 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NPRR to be drafted as scope finalized.  Verification standards under joint review by ISOs/RTOs and by CCR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2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ember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123720" y="2819160"/>
            <a:ext cx="44197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ember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mruane</cp:lastModifiedBy>
  <dcterms:modified xsi:type="dcterms:W3CDTF">2011-08-30T16:31:13Z</dcterms:modified>
  <cp:revision>456</cp:revision>
  <dc:subject/>
  <dc:title>Instructions</dc:title>
</cp:coreProperties>
</file>