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884F-8634-4D3D-99B7-4D8CAF16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BBC-CE8D-4E17-8867-336C8105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253-6375-4BFF-932A-6970A264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8E84-123F-4EB4-82B5-F193DF76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E41-91E8-4B08-A29A-5DC5F6C5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E1C-A5E3-4D17-A24D-1861C651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844-16A0-4640-BFAA-9D0CD96B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F05-4A60-435E-A4A9-4E576F4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42D-A1CC-4D7D-8BC1-15E4EEA3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E70-3F48-4EF9-8D6E-24A5ECF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C205-2BCF-4788-9C44-901B214D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E05-CE27-4300-8317-FB0A941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37F-85D8-44FD-AB8A-BE1121635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1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F3D-1CB0-46A0-8C19-DEB898DD4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Accomplishm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would like to thank the ERCOT Compliance group and their effort in working with the Market Participants in a positive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would like to thank the generators for their effort in improving their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819-8959-47A1-B31D-1F553CE086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Frequency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5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8D4-2BEE-4FAA-A0F2-3A1D7219B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7400" y="3886200"/>
            <a:ext cx="3962520" cy="1739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ystem went down.  When returning to service, SCED calculated ~4000 additional MW in the form of 5 minute Base Points that were dispatched to QSE’s.  Frequency went to 60.109 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A23-B36A-46CA-ABCA-77BA94B061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Practice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And QSE Operations Practices During The Operating Hour.  Section 3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the ERCOT LFC system provides for each On-Line Generation Resource an Updated Desired Base Point (UDBP) in the telemetry data set.  The UDBP is a calculated MW value representing the expected MW output of a Generation Resource ramping between successive SCED Base Points.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QSE is expected to control each of its Generation Resources to follow the UD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dditionally if the Generation Resource is assigned Regulation AS Resource Responsibility it must follow UDBP plus net Regulation deploy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E77-531B-4079-BA1B-0178BF0E43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 Point Deviation measures Resource performance to the average 5 Minute Base Points during the 15 minute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DP measures Resource performance to the average 5 Minute Base Points during the 5 minute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15B-F75E-4FA7-A965-6E9750794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QSE’s Implemented Resource Control defines their Response during this ev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requency exceeds a threshold, the UDBP will freeze if its direction contributes to the frequency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 QSE’s followed the UDBP and provided Primary Frequency Response to stabilize frequency.  Most dropped output during the event.  (PFR &gt; than the up change in UDB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QSE’s followed the 5 minute Base Points and contributed to the 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QSE’s did not receive upward Base Points but did not provide Primary Frequency Response to the high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1B9-EEE5-40BB-BBB2-5B849D1B8B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istent and Clear Instructions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Base Point Deviation calculation included a Primary Frequency Response obligation and followed the UDBP, the correct behavior would be incentiv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would impr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63D-B004-4FE5-9A0C-FDC8EF4A6D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DCWG Work on Review of RRS and Frequency Responsive Reser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July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ugust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DCWG meeting, work continued on the holistic review of frequency responsive reserves in ERC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CD4-1F93-485C-BE3D-61CE465467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ary Frequency Response During Short Supply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ve Reserve Ancillary Service Capacity on Generators and Load Dampening can be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urce of Primary Frequency Response for extended period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sensitivity will be greater during electrical energy and mechanical energy imbalances as frequency stabili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 Peak Load Dampening can be as high as -166 MW/0.1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 Peak Load dampening will be less, -73 MW/0.1 Hz, due to higher percent of resistive l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PFR from RRS Generators will provide an additional -191 MW/0.1 H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974-258D-43CE-84A2-22A998EDF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672480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15228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Operation During EEA Step 2A and 2B Emphasizes An Important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Up Service was fully depl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Resources fully depl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D Up Capacity was limited to the capacity of un-deployed Responsive Reserve Service from Genera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389-67AF-413D-99FF-89AE9467B3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 Improvement in Primary Frequency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Frequency Event July 15, 20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Supply conditions and Primary Frequency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Frequency Control Performance – May, June &amp;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On-going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CD8-0520-43EC-92D1-5B2C91640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COT Frequency Control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, June and July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891-1D37-4032-8774-C5276D6F4B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346-3140-447C-8AE2-6ABDF4CC90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57240" y="0"/>
            <a:ext cx="920124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B7B2-158C-4AC4-8F87-7159C74904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220320" cy="615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856-03E6-4368-A64F-1C4CE680B0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229680" cy="616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AE5-77E7-4017-9AE8-A1A4189781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BF2-C1A7-4A90-9063-CFADA78827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45D-D2EC-426E-87A6-1BCF9191C2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5872-AE35-43F8-9DDA-B70D47A501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3760" y="66672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16E-A5A0-4625-9421-84ACF4F7D58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760" y="66672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27B-5849-4553-B60F-0F95A26F2D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8176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6410160" cy="183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A2B-CB9C-4945-A139-E09B2D82BD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0" y="666720"/>
            <a:ext cx="9096480" cy="55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379-659E-45B7-AF0B-6C152B6035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677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BB9-2104-459E-AC04-0381C66F85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7960" y="57240"/>
            <a:ext cx="866808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799-ECCF-4584-A48D-20B59B5CC5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37960" y="-52560"/>
            <a:ext cx="8668080" cy="637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143-3ADA-415E-B0C0-C5FFC0DDB4D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86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38E-793C-4C81-A549-82EF45CAE06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786-881E-49DA-A8E9-4D28E64F85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25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1601-8532-43F7-8159-CD061EC772A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On-going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ng in the NERC BAL-003 Primary Frequency Response Field 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Response performance to be submitted to NERC by August 15 for all frequency events since Dec 1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Reliability Metrics Working Group and the measurement of Interconnection Primary Frequency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Response performance to be submitted to NERC by Sept 1, 2010 for all frequency events since Dec 1, 2009 to present using a continent wide standard measure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CWG next meeting is August 31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8C6-D3BE-48F2-AC27-3F08432B07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25146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88C-E15E-431E-819A-C95F3EA935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d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66800"/>
            <a:ext cx="822960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5538-F2DB-4ABF-817B-F39F34B84B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8696160" cy="631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BAF-6854-4D10-9A33-4AEE85D7F9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8696160" cy="631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2533680" cy="61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63C-0157-4BF8-A7DF-BFA443C3DA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8696160" cy="631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2419200" cy="11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FD4-E746-4E3F-995C-AB70EA02C2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8696160" cy="631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132-D018-46F1-B5B7-C93ECFED12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920" y="271440"/>
            <a:ext cx="8696160" cy="631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167-9B9B-419D-B579-5756AC71C9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9:06:35Z</dcterms:created>
  <dc:creator>NRG ENERGY</dc:creator>
  <dc:description/>
  <dc:language>en-US</dc:language>
  <cp:lastModifiedBy>PDCWG</cp:lastModifiedBy>
  <dcterms:modified xsi:type="dcterms:W3CDTF">2011-08-09T19:04:02Z</dcterms:modified>
  <cp:revision>13</cp:revision>
  <dc:subject/>
  <dc:title>Slide 1</dc:title>
</cp:coreProperties>
</file>