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867-FE5B-4DE0-B987-620F7F17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322-8C58-4BA2-AD81-3AB8D3EE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050-D95F-441E-AA99-5F6AD5B4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772-E9FB-4185-A6A3-4ADC8A44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8DD-9DB7-4218-A99E-DB0BACD6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2F92-93D5-4ABC-A8FE-7A04C56A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B9E-9BBB-4A32-ABEB-B000FC18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CE0-09E6-4802-B2E6-6B86127E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04B-595C-4596-AFB4-72CF8F9C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3A8-A4B3-4A7D-BB41-88213E35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30D-EB35-4D28-9991-2614CF16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909-5D1F-49C2-B217-C42849E5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A6C9-FC48-484B-95EC-313F02096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WG Update to 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11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Ged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4178-42F3-4623-9E14-2BDDC43B8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lights of August 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Storage Settlement NP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filed by the sponsors 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ly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has poli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consensus on supporting the concept and moving the NPRR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coming Storage Work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ly set for September 23rd 9:00 AM – 4:0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d Agenda should be posted shor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val of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arter ETIP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C4C2-4AB6-44AF-8647-43E4C8C52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50640" y="2590920"/>
            <a:ext cx="33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6:44Z</dcterms:created>
  <dc:creator>Henry Durrwachter</dc:creator>
  <dc:description/>
  <dc:language>en-US</dc:language>
  <cp:lastModifiedBy>FPL_User</cp:lastModifiedBy>
  <dcterms:modified xsi:type="dcterms:W3CDTF">2011-08-09T13:41:27Z</dcterms:modified>
  <cp:revision>32</cp:revision>
  <dc:subject/>
  <dc:title>Renewable Technology Working Group (RTWG)</dc:title>
</cp:coreProperties>
</file>