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DDC1-D549-40ED-9DEC-F240A2FD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A43F-5777-4732-8738-F3778712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44F9-6C9B-40F6-9BFE-445A4D27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9294-6CEE-4ADE-89D8-CBAEC956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F623-0FDA-4A17-B3CC-8A872AE6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9E96-3031-4A6D-86BA-CCCC37DA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B59F-009E-439D-A52F-381649B7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B128-A435-4338-B5AC-BAA5E972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F4EB-5FA5-42D9-A6CC-E3FE22F2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6ADB-46AF-4B9F-A728-BC652EFF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89CA-5017-468F-B6E1-2F89E8D9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A14B-B30C-4212-8580-D876DCD6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1C6E-F626-4BDE-BD5E-6DEE2548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CB8C-0426-4F83-9B39-6F8C4192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A2CC-B30C-49ED-A6B7-55EC5E89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32FF-182A-45E2-9A97-279CCBE1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210D-0238-422E-89E4-05CDF595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BB38-B712-415C-9765-1E635D2B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FB8DE-62B1-4645-8DD2-3949216F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F6330-7BB5-4B41-9B3A-00C2BE24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F5333-1671-4C55-8A7B-BCBA9960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E223-6713-4423-A084-CAA93D32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0304-41FE-47A3-899D-392E8650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CCCC-FF4E-4080-88C0-FE881788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EDA33-5F12-47E9-8E12-1D759CC9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2257-EA7F-4DEE-8D1F-710B860A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0F28-7453-4CCD-A42A-FBA0E08F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A393-DDE3-4A94-947F-13B83E82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434C0-7EC4-4C79-9A54-D2042215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9031-0FBC-45CB-9E9F-3D6DED13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E6752-6F7B-4F68-A96A-F4C68A00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3D8F-57E2-4477-BE07-45DAA3CF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CF54-076C-4719-8026-F18C089B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E2D4-F6E5-4229-989B-D122B625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986D-56E1-4485-B218-436AE31E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C08D-56EF-4F4E-BED3-F1808343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9F7F-1048-4F02-8512-FCF5E2523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5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6071-8D47-44A5-B944-5E4D02DCB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CE39-A29E-4EEB-952A-428ECFB198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8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5,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7B1A-38C7-498C-9410-763725FE4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2617-220D-4799-8CFA-4714336B9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e and Audit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dt" idx="11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16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odity Exchange Act Exemp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atu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1143000" y="2743200"/>
            <a:ext cx="6705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k R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RCOT Vice President of Credit and Enterprise Risk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ugust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RCOT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uthorized by the Board in May, ERCOT is in the process of preparing an application for a Commodity Exchange Act exemption with the CFTC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s continuing discussions with the CFTC with respect to the scope and terms of an exemp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oint exemption application with the other ISOs/RTOs is expected to be filed short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is time ERCOT expects to continue to seek Central Counterparty (CCP) status, which appears to provide setoff protections in bankruptc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pected CFTC Conditions for CEA Exemp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0666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d settlement time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-day limit to ‘cure’ collateral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ion of unsecured credit for CRR 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llowance of netting between CRR and non-CRR mar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ation on unsecured credit of $50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oming a central counterpar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ting criteria for market particip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pected CFTC Conditions for CEA Exemp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1295280"/>
          <a:ext cx="7848720" cy="4792680"/>
        </p:xfrm>
        <a:graphic>
          <a:graphicData uri="http://schemas.openxmlformats.org/drawingml/2006/table">
            <a:tbl>
              <a:tblPr/>
              <a:tblGrid>
                <a:gridCol w="380880"/>
                <a:gridCol w="2552760"/>
                <a:gridCol w="4915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settlement time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347 combines  invoices for day-ahead and real  time marke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391 shortens settlement cycle by one day and eliminates Automated Clearing House (ACH) paym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-day limit to cure collateral c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tion necessar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tion of unsecured credit in CRR mar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 pend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llowance of netting between CRR and non-CRR mark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m limitation on unsecured 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to Creditworthiness Standard for CWG review in early Augus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 a central counterpar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ing request to IRS for clarification of tax-exempt statu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 for market particip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ing of proposals for stakeholder review expected to begin shortl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7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ontent Placeholder 2"/>
          <p:cNvSpPr/>
          <p:nvPr/>
        </p:nvSpPr>
        <p:spPr>
          <a:xfrm>
            <a:off x="304920" y="914400"/>
            <a:ext cx="7467480" cy="457200"/>
          </a:xfrm>
          <a:prstGeom prst="rect">
            <a:avLst/>
          </a:prstGeom>
          <a:solidFill>
            <a:srgbClr val="bfbfb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pected Conditions of CFTC CEA Exemp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Criteria for market particip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vidual ISOs/RTOs are developing participation criteria through their respective stakeholder processes.  Proposals made public thus far are broadly similar in scop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 certifi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nual officer certification attesting t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ciency of risk management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44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ten policies, procedures and contr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44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work to identify the risks to which the participant is exp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44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some cases, requirements for appropriate segregation of duties and use of specified risk met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ise in ISO/RTO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44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s must have traders complete market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44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ers in financial products must attend product-specific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44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applicants must complete training prior to partici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Content Placeholder 2"/>
          <p:cNvSpPr/>
          <p:nvPr/>
        </p:nvSpPr>
        <p:spPr>
          <a:xfrm>
            <a:off x="304920" y="914400"/>
            <a:ext cx="7391160" cy="457200"/>
          </a:xfrm>
          <a:prstGeom prst="rect">
            <a:avLst/>
          </a:prstGeom>
          <a:solidFill>
            <a:srgbClr val="bfbfb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pected Conditions of CFTC CEA Exemp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Criteria for market particip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to respond to ISO di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operating procedures and technical abilities to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equate capita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 million tangible net worth (parent level)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 million in asset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$500,000 in additional collateral requirements for participants not meeting capitalization standard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438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may be less for participants not active in FTR/CRR marke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438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collateral not available to support other credit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Content Placeholder 2"/>
          <p:cNvSpPr/>
          <p:nvPr/>
        </p:nvSpPr>
        <p:spPr>
          <a:xfrm>
            <a:off x="304920" y="914400"/>
            <a:ext cx="7467480" cy="457200"/>
          </a:xfrm>
          <a:prstGeom prst="rect">
            <a:avLst/>
          </a:prstGeom>
          <a:solidFill>
            <a:srgbClr val="bfbfb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pected Conditions of CFTC CEA Exemp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eria for market particip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ddition to attestation requirement, proposals address ISO/RTO verification of risk management capabilitie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TR/CRR market participants may be required to submit current risk management policies, procedures and controls for the trading entity to the ISO/RT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reviewed by the ISO/RTO to verify broad conformance with generally accepted practices for entities trading in FTR/CRR market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ly accepted practices’ may be determined by reference to external authoritie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going market participation conditioned on acceptability of risk management and control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anticipates drafting attestation and verification proposals for stakeholder review as CFTC exemption requirements are finalized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42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123720" y="281916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mruane</cp:lastModifiedBy>
  <dcterms:modified xsi:type="dcterms:W3CDTF">2011-07-27T18:51:57Z</dcterms:modified>
  <cp:revision>448</cp:revision>
  <dc:subject/>
  <dc:title>Instructions</dc:title>
</cp:coreProperties>
</file>