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EB85-59E9-4E3B-A4C1-80065E44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2BE9-8899-4156-B6B9-E2EB5C5B5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E517-8607-4DFD-849D-95BE470F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EFA5-F83F-46B0-9B15-FE29030B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DB7A-C992-4A70-8AA3-487A2A5A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FC32-B251-4EA9-A163-457EB6FC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106C-43CC-44EE-AFCC-0AED956C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B16F-14A9-4465-BBA7-BBF7A7A8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7158-F652-4D55-B356-E098159A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3F25-C4A7-43B4-9B14-41213F6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3B3A-E2A4-44C3-AAF3-67735D2D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9106-C320-4498-8562-645C33CC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CBE8-B54B-43E3-A52F-3374B60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2D39-0CA2-4EC6-9676-E6351AD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11CE-3275-48A4-AD12-4B8657878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42F5-FA50-4254-BE22-6ED3FFA2B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4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ximately 3.6 Million AMS meters installed in mar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ght for new market entry concluded on 8/2/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rak TF working with ERCOT 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 presentation on LSE File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AS SET 4.0 Market Coordina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RMGRR100 for Market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ing two offsite sessions for Q&amp;A on TEXAS SET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/2 Dallas, 8/10, Hou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Date set for June 2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AS SET finalizing change controls for the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scripts being designed for flight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Deferred Payment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Critical Care &amp; Chronic C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4B6C-7529-4273-9859-136BD462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1-08-03T15:22:13Z</dcterms:modified>
  <cp:revision>120</cp:revision>
  <dc:subject/>
  <dc:title>Instructions</dc:title>
</cp:coreProperties>
</file>