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BF00DF-6A4B-45B9-B8E1-824A5152B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6BDCDE-F1F0-4814-A904-B6595FB9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1A4-C0AD-48D7-A015-23F2E20F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078-DC0B-4981-BE8F-51E67F85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BD1-531B-4914-9D25-895C4204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000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856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108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000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856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DFC-8494-4F2B-93E1-80977415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F54-FE00-4369-8D64-0B027C5B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181-0DED-4B7C-B34D-5391FE3A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F11-82FA-4753-9057-67547E6E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E5F-0023-420C-BA8D-B82BA6FA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221760"/>
            <a:ext cx="87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FCF-8AE5-4966-9055-D34A81D8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E60-9CCC-4E51-8B39-21F4D825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645-0A25-4583-9BC2-5C2CCFB8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057-74B1-4E09-9AC0-F011F07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79640" y="6559560"/>
            <a:ext cx="3403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9"/>
          <p:cNvGrpSpPr/>
          <p:nvPr/>
        </p:nvGrpSpPr>
        <p:grpSpPr>
          <a:xfrm>
            <a:off x="55440" y="87480"/>
            <a:ext cx="9044280" cy="6702120"/>
            <a:chOff x="55440" y="87480"/>
            <a:chExt cx="9044280" cy="6702120"/>
          </a:xfrm>
        </p:grpSpPr>
        <p:sp>
          <p:nvSpPr>
            <p:cNvPr id="4" name="Rectangle 8"/>
            <p:cNvSpPr/>
            <p:nvPr/>
          </p:nvSpPr>
          <p:spPr>
            <a:xfrm>
              <a:off x="139680" y="87480"/>
              <a:ext cx="8872560" cy="67021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3"/>
            <p:cNvSpPr/>
            <p:nvPr/>
          </p:nvSpPr>
          <p:spPr>
            <a:xfrm>
              <a:off x="55440" y="176040"/>
              <a:ext cx="9044280" cy="652788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98280" y="131760"/>
              <a:ext cx="895824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65240" y="6556320"/>
            <a:ext cx="21333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/04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D064-400C-4457-98AA-E6D3BF79A1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239760" y="457200"/>
            <a:ext cx="865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IABILITY AND OPERATIONS SUBCOMMITTE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port to TAC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, T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389240" y="4538520"/>
            <a:ext cx="640080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or Electric Delivery Company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/04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57AC-F4D9-4B19-9EC5-193F2855B5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AC Voting Ite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/04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625B-6800-4A7F-A10A-20F8092070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WG/CMWG Effo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mission Planning Process is Superior to Other Regions and Continues to Improv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lanning Data is Consistent with Operations Dat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gnificant Nodal Planning Go-Live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mission Planning Criteri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fines Minimum Reliability Planning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corporates NERC Planning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OS Review, Clarify and Up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 of Holistic Solution (ERCOT Board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al is Consistent Operations and Planning Environ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/04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B38D-1E5A-4A26-B45D-634254304D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0160" y="222120"/>
            <a:ext cx="87724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RANSMISSION PLANNING SENSITIV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2240" y="1282320"/>
            <a:ext cx="87804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Highest – Generation Commitment/Dispatc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isting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newable Var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uture Interconnections &amp; Mothball/Ret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vironmental Limi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ced Outages/Der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Higher – Transmission Top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ut of Service/Clear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e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High – Load MW &amp; Mv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cation and Coinc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istance From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/04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8232-AC4D-4B13-8D6D-4B6EB0E027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160" y="222120"/>
            <a:ext cx="877248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GESTION COSTS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op Ten Binding Each Mon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240" y="1954080"/>
          <a:ext cx="8781840" cy="2266920"/>
        </p:xfrm>
        <a:graphic>
          <a:graphicData uri="http://schemas.openxmlformats.org/drawingml/2006/table">
            <a:tbl>
              <a:tblPr/>
              <a:tblGrid>
                <a:gridCol w="1071360"/>
                <a:gridCol w="1189080"/>
                <a:gridCol w="1168560"/>
                <a:gridCol w="1116000"/>
                <a:gridCol w="1125360"/>
                <a:gridCol w="1104840"/>
                <a:gridCol w="2006640"/>
              </a:tblGrid>
              <a:tr h="113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05,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,549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383,9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52,8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29,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222,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51,843,8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4" name="TextBox 8"/>
          <p:cNvSpPr/>
          <p:nvPr/>
        </p:nvSpPr>
        <p:spPr>
          <a:xfrm>
            <a:off x="444600" y="4657680"/>
            <a:ext cx="60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Monthly ERCOT System Planning Report to 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/04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7604-360E-46C4-AEC9-3A88D4B566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WG/CMWG Effo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mission Planning Criteria Clarification/Improv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rmal Generation Un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ced Outages/Der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cillary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ironmental Li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/Hi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 Pea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vai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erational Constraints/Lim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ransmission Maintenance Ou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utotransformer Ou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ynamic Line Ra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ad Var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/04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571B-D80E-43D0-BD3B-30C2637D9A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WG/CMWG Effo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utotransformer Outag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ight to Twelve Weeks to Re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T Transportation Permit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 require additional station improvement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nits require 18 to 24 months to Bu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Var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50% Percent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 Weather 104 Degrees 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90% Percent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Temp 107 Degrees 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Tem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/04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F69C-CD3F-432B-8714-175B262501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WG/CMWG Effo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mission Cost Impac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ery Rough Estimat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Autotransfo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FW area 6 to 10 Additional 345/138 kV Autotransfor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50 to $100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ree to Five year acceleration of Transmission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ew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re Dynamic Reactive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580000" y="6559560"/>
            <a:ext cx="340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4"/>
          <p:cNvSpPr/>
          <p:nvPr/>
        </p:nvSpPr>
        <p:spPr>
          <a:xfrm>
            <a:off x="165240" y="6556320"/>
            <a:ext cx="213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/04/2011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21C1-D8D3-4FD7-904F-739E20B9BF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OS Next Meeting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2240" y="969840"/>
            <a:ext cx="87804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hursday, August 11, 9:30 AM at ERCOT Austi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11-08-04T15:32:31Z</dcterms:modified>
  <cp:revision>69</cp:revision>
  <dc:subject/>
  <dc:title>Slide 1</dc:title>
</cp:coreProperties>
</file>