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128F-3530-4D82-9EED-EDBA9A231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B85D-A990-4896-9C5C-0C6CEA636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323A-7AC5-4C06-AC2E-074D0DA03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DE12-4B81-4A76-9543-E32A65F6D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223DB2-0E4D-4691-9B2A-78BE7A107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79225E-1620-4F72-B9D4-A85FCCEB9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C695A3-949C-4FB2-BC2D-127286732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C91B5C-9385-4901-BDDF-F4EDBA6A3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B2DDAC-0778-45FD-8A58-C005B9E3C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ADFC93-77B9-4BDE-84FD-4D8A6E367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E5F2F1-A903-470E-AA89-E4B6AE175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6EDC7-E058-4AEF-8C37-2597DD80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CD4C-B302-4D8C-99C8-9B4BA1AE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189C-E2C4-449B-AF0C-F5F714B6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A578-02F9-4243-AD3B-A088F23F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7BA51-20A6-45E6-B33E-1D02894C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CCE2-441F-4D9A-BD49-B8667A0121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B143-C2E3-4363-8EB0-059547F7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A937-68DF-4461-821F-D61EF4EA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6A66-C2E6-4208-A83F-1AA72CBD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EE83-D56C-4F97-870C-C40762B4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2E34-A2A9-4AF6-9FA7-7E8F8BD5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21EF-6BB1-4EB6-8FFC-5E4FFE19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8C1B-7F3E-4E4E-B6B0-B7411E59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5C69-27D6-4F22-9A5D-2C33D669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891F-9D00-4284-AFA2-54A40F88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605B-B43A-4FF6-80C8-ACBD08C6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6277-F7CF-4D6F-96EE-C2499EF3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341F-BF93-45BB-AED6-CFE9D7602F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F6BE-B4F2-4865-9F99-CD946D4A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2F43-7766-4F0E-BCF6-1772539E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ABE3-2C46-4560-BE9F-A2B1596E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E00F1-5489-489E-9CD8-57267ADD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8CF1-E092-4557-B259-A0D838DA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39A5-B647-484F-AF88-33031C3D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26C6-60AB-40FD-92F7-4DE495BFA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 Readiness Seminar #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/28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807D-E13D-4DC3-8519-49F3063DB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/2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ket Readiness Seminar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2D5D-0177-4E19-8F11-31A343877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2BEB-1352-485B-9CDC-8A2B06B83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rcot.com/content/mktrules/issues/scr/750-774/760/keydocs/760SCR-26_Board_Report_032211.doc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143000" y="1676520"/>
            <a:ext cx="72104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siness Integration Update to P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371600" y="502920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133720" y="3657600"/>
            <a:ext cx="5410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1 Project Portfolio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king Deck Impact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2 Project Prior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228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endorsement langu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75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endorses the Impact Analysis documents for the following Parking Deck revision reques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spcBef>
                <a:spcPts val="20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181: FIP Definition R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07: Unit De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10: Wind Forecasting Change to P50, Sync with PRR8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22: Half-Hour Start RUC Claw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40: Proxy Energy Offer Cu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41: Aggregate Incremental Liability (AIL) Calculation and Credi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 Publish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44: Clarification of Other Binding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56: Sync with PRR787, Add Non-Compliance Language to Q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58: Sync with PRR824 and PRR8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72: Definition and Participation of Quick Star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on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arking Deck Impact Assessments – Phase 2 / 3 – Endorsemen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304920" y="3313080"/>
            <a:ext cx="6933960" cy="194472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2 Project Prioritization – Schedul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457200" y="762120"/>
            <a:ext cx="83059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repares draft 2012 project list and reviews schedule with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 input from the market on new ad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/endorsement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/endorsement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3884040" y="389736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3884040" y="41562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884040" y="44308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4653000" y="3897360"/>
            <a:ext cx="2814480" cy="33804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S endorsed 3 changes in ran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2 Project Prioritization – Introductory Commen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914040"/>
            <a:ext cx="883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is working diligently to limit the 2012 budget to the most critical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5M has been allocated for capital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$15M sufficient for ERCOT’s capital project need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he recent Data Center Hardware project, 2012 is expected to have a more labor-intensive project mix than u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 – total project labor estimate = 108,000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 – YTD internal PPL project labor = $2.31M  (~35,500 ho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 – total internal PPL project labor = $2.73M  (~42,000 ho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 – total internal PPL project labor = $3.96M  (~61,000 ho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 Category Defini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560" y="9140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Areas of Focus  (Project Categori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by Legislature, PUCT, NERC, FERC or legal r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driven enhancements and efficien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trategic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ies &amp;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ly driven operational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custom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maintenance and up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al evolution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ic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2 Project Prioritization - Funding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00120" y="914400"/>
          <a:ext cx="8077320" cy="2773440"/>
        </p:xfrm>
        <a:graphic>
          <a:graphicData uri="http://schemas.openxmlformats.org/drawingml/2006/table">
            <a:tbl>
              <a:tblPr/>
              <a:tblGrid>
                <a:gridCol w="2362320"/>
                <a:gridCol w="2057400"/>
                <a:gridCol w="2133360"/>
                <a:gridCol w="1524240"/>
              </a:tblGrid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Started in Previous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2012 Pro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6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9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cies &amp; Enhanc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0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Fou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6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85" name="Rectangle 3"/>
          <p:cNvSpPr/>
          <p:nvPr/>
        </p:nvSpPr>
        <p:spPr>
          <a:xfrm>
            <a:off x="762120" y="41148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manage within the projected $15M project funding allo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ctive projects move through the project lifecycle and new projects are considered for initiation, they will be reassessed for criticality, cost/benefit and resource availability against other projects in the portfol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sion on the preliminary 2012 PPL does not guarantee fund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2 Project Prioritization – Regulator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36600" y="1752480"/>
            <a:ext cx="8458200" cy="18288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5562720" y="29718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5562720" y="32767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537160" y="3776760"/>
            <a:ext cx="2616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ed carryover project from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124080" y="5715000"/>
            <a:ext cx="2814840" cy="33804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e Appendix for brief project descri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2 Project Prioritization – Business Strategy 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(page 1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676840" y="14479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5676840" y="6095880"/>
            <a:ext cx="26290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ed carryover project from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676840" y="17146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676840" y="19810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5676840" y="22860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8991360" cy="54100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5676840" y="48006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1828800" y="4699080"/>
            <a:ext cx="3808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b6bcf"/>
                </a:solidFill>
                <a:latin typeface="Wingdings"/>
                <a:ea typeface="Wingdings"/>
              </a:rPr>
              <a:t>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1093680" y="6172200"/>
            <a:ext cx="1878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b6bcf"/>
                </a:solidFill>
                <a:latin typeface="Wingdings"/>
                <a:ea typeface="Wingdings"/>
              </a:rPr>
              <a:t>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king changes by C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828800" y="5537160"/>
            <a:ext cx="3808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b6bcf"/>
                </a:solidFill>
                <a:latin typeface="Wingdings"/>
                <a:ea typeface="Wingdings"/>
              </a:rPr>
              <a:t>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1828800" y="5257800"/>
            <a:ext cx="3808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b6bcf"/>
                </a:solidFill>
                <a:latin typeface="Wingdings"/>
                <a:ea typeface="Wingdings"/>
              </a:rPr>
              <a:t>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3124080" y="6172200"/>
            <a:ext cx="2814840" cy="243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e Appendix for brief project descri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2 Project Prioritization – Business Strategy 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(page 2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9005760" cy="51814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3124080" y="5972040"/>
            <a:ext cx="2814840" cy="243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e Appendix for brief project descri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2 Project Prioritization – Efficiencies and Enhancemen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91440" cy="54864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5562720" y="13716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410080" y="6248520"/>
            <a:ext cx="277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ed carryover project from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5565600" y="19051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447920" y="6267600"/>
            <a:ext cx="2814480" cy="24264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e Appendix for brief project descri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2 Project Prioritization – Technical Founda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267680" cy="5553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4"/>
          <p:cNvSpPr/>
          <p:nvPr/>
        </p:nvSpPr>
        <p:spPr>
          <a:xfrm>
            <a:off x="5308560" y="12952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257800" y="6315120"/>
            <a:ext cx="2771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ed carryover project from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5308560" y="17524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5308560" y="19573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308560" y="22003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1523880" y="6329520"/>
            <a:ext cx="2814840" cy="24264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e Appendix for brief project descri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560160" indent="-2239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 Project Portfolio Up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 3-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20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Portfolio Gantt C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00040" indent="-2239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rted by go-live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20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nt Develop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spcBef>
                <a:spcPts val="224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king Deck Impact Assess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 8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20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tory Com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5220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 Assessmen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5220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orsement Consideration (vo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 Project Priorit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 11-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20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5220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tory Com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5220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ding 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5220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s by Project 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5220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orsement Consideration (vo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52200" indent="0">
              <a:spcBef>
                <a:spcPts val="24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nd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 21-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20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y Project Descri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spcBef>
                <a:spcPts val="49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20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usiness Integration Update – Agenda (revise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2 Project Prioritization – Mo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ed Mo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ion to approve/endorse ERCOT’s initial project rank and preliminary funding by project categ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s amended by PR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352320" y="2971440"/>
            <a:ext cx="54104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 Descriptions – Regulato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28600" y="1219320"/>
          <a:ext cx="8610480" cy="2027160"/>
        </p:xfrm>
        <a:graphic>
          <a:graphicData uri="http://schemas.openxmlformats.org/drawingml/2006/table">
            <a:tbl>
              <a:tblPr/>
              <a:tblGrid>
                <a:gridCol w="685800"/>
                <a:gridCol w="3021120"/>
                <a:gridCol w="4903560"/>
              </a:tblGrid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 Enhanc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 the REC tool to comply with PUCT rules and incorporate additional function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TC Compli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s for use in a project to support ERCOT’s application for a CFTC exem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ance Software T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e the tracking of compliance oblig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 Descriptions – Business Strateg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320" y="762120"/>
          <a:ext cx="8915400" cy="4518000"/>
        </p:xfrm>
        <a:graphic>
          <a:graphicData uri="http://schemas.openxmlformats.org/drawingml/2006/table">
            <a:tbl>
              <a:tblPr/>
              <a:tblGrid>
                <a:gridCol w="709560"/>
                <a:gridCol w="3128760"/>
                <a:gridCol w="50770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 SET 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inuation of TX SET 4.0 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SCR760 Recommended Changes Needed for Information Model Manager and Topology Processor for Planning Model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ber Security Project #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ment to system administrator infra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ber Security Project #2, Phase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ment to virus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SAT Wind 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 wind models in TSAT application.  Enhance reliability by delivering closer to real time stability inform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R830/NPRR269 – Reactive Power Cap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tential system changes needed due to final resolution between ERCOT and market stakehol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Response / Look-Ahead SC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l planning phase of the next major evolutionary phase of the Nodal systems (Nodal 2.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ies 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nding reserved for relocation of remaining functions from the Met Center (if necessa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ber Security Project #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ment to remote access cap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ber Security Project #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ment to malware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 Descriptions – Business Strateg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76320" y="762120"/>
          <a:ext cx="8915400" cy="4400280"/>
        </p:xfrm>
        <a:graphic>
          <a:graphicData uri="http://schemas.openxmlformats.org/drawingml/2006/table">
            <a:tbl>
              <a:tblPr/>
              <a:tblGrid>
                <a:gridCol w="709560"/>
                <a:gridCol w="3128760"/>
                <a:gridCol w="50770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347 – Single Daily Invo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RR347 - Single Daily Invo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60 – MIS Secure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RR260 - MIS Secure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rak Upgrade/Enhanc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 underlying MarkeTraksoftware and deploy enhancements agreed upon by ERCOT and market stakehol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L Transition to M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grate remaining functions that support the Retail market from TML to M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Site Transition to M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grate Planning functions/data that currently reside on the POI to M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22–Half Hour Start Claw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RR222 - Half Hour Start Claw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ber Security Project #2, Phase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end capabilities developed in the phase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326 – Adjust RT SPP Cal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RR326-Adjut RT SPP Cal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72 – Quick Start Resour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RR272 - Quick Start Resour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07 – Unit Des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RR207 - Unit Des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 Descriptions – Efficiencies / Enhance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6320" y="762120"/>
          <a:ext cx="8915400" cy="5635440"/>
        </p:xfrm>
        <a:graphic>
          <a:graphicData uri="http://schemas.openxmlformats.org/drawingml/2006/table">
            <a:tbl>
              <a:tblPr/>
              <a:tblGrid>
                <a:gridCol w="709560"/>
                <a:gridCol w="3128760"/>
                <a:gridCol w="50770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mental Update Capability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 incremental update capability to all production systems for all model related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Online Data Entry – Phas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ow Market Participant and Resource registration through an electronic user interface to submit and view MP and Resource registration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S and MIR Replac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 applications used to deploy web content to enhance scalability and reli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Website Enhancements 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inuous improvement of www.ercot.com and public market commun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omber Map NERC SA/Compliance Enhanc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 the Macomber Map application to further address control room situational aware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RID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operator situational awareness by bringing the Market, Outage Scheduler and EMS into a set of operator dashbo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gency Functionality Enhanc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 NMMS capabilities to allow business owners to submit, via NOMCR, contingency group configurations with a higher level of specifi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TNET Improv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TNET time point improvements to troubleshoot time po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Communications T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ate a tool to be placed in market participant control rooms, to ensure that they are receiving continual high-level status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rtphone Interface (“MyGrid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ate a smart-device (e.g., Android, Apple iOS, Blackberry) application showing a high-level view of system 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A Grid Health Operator 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ve operators a view into overall grid health that incorporates a variety of operational parameters into a single graphical dashboard interf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 Descriptions – Technical Found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6320" y="762120"/>
          <a:ext cx="8915400" cy="5526000"/>
        </p:xfrm>
        <a:graphic>
          <a:graphicData uri="http://schemas.openxmlformats.org/drawingml/2006/table">
            <a:tbl>
              <a:tblPr/>
              <a:tblGrid>
                <a:gridCol w="709560"/>
                <a:gridCol w="3128760"/>
                <a:gridCol w="50770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enter Mi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letion of Data Center Hardware 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or Cap – Critical –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itical Minor Cap items for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Lifecycle Management Phase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inuation of project to implement a strategy for efficient data storage utilization while continuing to meet Protocol data retention requir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lement Up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inuation of project to rewrite the modules of the settlement system so they run more efficiently and are easier to main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cle 11g Up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grade database software to the latest 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S Up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grade EMS software to the latest 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prise Data Warehouse Platform Trans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luate the platform that is the core foundation of market data transparency and archival requirements to determine the long-term approach to increasing overall reliability and maximize capacity util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Scheduling Upgrade v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grade batch job software to a more current 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bel Up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grade software to the latest 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MS Up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grade NMMS software to the latest 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enter Growth &amp; Asset Replac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nding for continued demand for growth of computing environment (storage, servers, etc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ject Portfolio – as of 6/13/2011 – Sorted by Go-Live Da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39600" y="676440"/>
            <a:ext cx="9068040" cy="55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ject Portfolio – as of 6/13/2011 – Sorted by Go-Live Da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47520" y="690480"/>
            <a:ext cx="9020160" cy="55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ject Portfolio – as of 6/13/2011 – Sorted by Go-Live Da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76320" y="671400"/>
            <a:ext cx="897228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ject Portfolio – as of 6/13/2011 – Sorted by Go-Live Da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57240" y="700200"/>
            <a:ext cx="903744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ject Portfolio – Recent Developmen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52280" y="725400"/>
            <a:ext cx="88394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C and Board Approved Several Additions to the PP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310, NPRR350, SCR7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-Lives Planned for June / Ju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85 – Settlements po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 6/6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341 – Remove AS Offers from SASM that Do Not Meet the Lead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 6/22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339 – Modifications to Heuristic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 6/22/2011 – Day Ahead and Real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 7/20/2011 – CR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146 – ICCP Telemetry Information Submit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 7/1/2011 if Board approves at June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323 – Correct DAM Credit Exposure Language and Enable Qualified Expir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Rs to Offset PTP Bid Expo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 7/20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82 – Dynamic Ramp Rates Use in S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 7/22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arking Deck Impact Assessments – Phase 2 / 3 – Commen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22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has completed the Impact Analysis for 10 of the NPRRs in the Phase 2 / Phase 3 portion of the Parking D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y of results on the next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the 2012 project prioritization process is also underway, ERCOT has suggested delivery targets for these NPR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“Delivery Target” column on the next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dates coincide with future year funding recommendations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lides 16-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B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BAs for these Parking Deck items are being worked in parallel with the approval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: Have draft CBAs ready for 6/23 PRS meeting and final CBAs ready for 7/7 T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will initiate market discussions on the remaining Parking Deck i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items will benefit from additional discussion before the IAs are comp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Impact Assessments – Phase 2 / 3 – IA Resul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762120"/>
          <a:ext cx="8839440" cy="5106960"/>
        </p:xfrm>
        <a:graphic>
          <a:graphicData uri="http://schemas.openxmlformats.org/drawingml/2006/table">
            <a:tbl>
              <a:tblPr/>
              <a:tblGrid>
                <a:gridCol w="1138320"/>
                <a:gridCol w="4576680"/>
                <a:gridCol w="1143000"/>
                <a:gridCol w="1067040"/>
                <a:gridCol w="914400"/>
              </a:tblGrid>
              <a:tr h="53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 Requ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Du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P Definition Revi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0k-$225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Desel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k-$55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1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 Forecasting Change to P50, Sync w/PRR8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5k-$55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6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f-Hour Start RUC Clawb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k-$2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7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xy Energy Offer Cur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k-$6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14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L Calc and Credit Reports Publish Corr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k-$12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0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ication of Other Binding Docu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k-$15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c w/PRR787, Add Non-Compliance Language to QSE Performance Stand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0k-$135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0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c with PRR824 and PRR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5k-$6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and Participation of Quick Start Generation 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45k-$16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2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chronization with Nodal Operating Guide Section 9, Monitoring Progr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Access to MIS Secure Area to MIS Registered Us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GRR0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cind Telemetry Performance Calculation Exclu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.com Website Enhanc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1295280" y="6248520"/>
            <a:ext cx="3048120" cy="228600"/>
          </a:xfrm>
          <a:prstGeom prst="rect">
            <a:avLst/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rther Discussion with the Market 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1295280" y="6016680"/>
            <a:ext cx="3048120" cy="2286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ed Impact Analy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5867280" y="317484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5981760" y="594360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&amp;M effort – no project requi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anderson</cp:lastModifiedBy>
  <cp:lastPrinted>2011-06-14T20:41:30Z</cp:lastPrinted>
  <dcterms:modified xsi:type="dcterms:W3CDTF">2011-06-16T18:28:04Z</dcterms:modified>
  <cp:revision>598</cp:revision>
  <dc:subject/>
  <dc:title>Instructions</dc:title>
</cp:coreProperties>
</file>