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B17A-78F8-4DE3-A4F8-F8E74983F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BF41-CEAD-4975-A3D9-707C18FB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BDF4-90E8-4151-8919-0672BC917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FA67-9482-4A8B-A58D-6E6930427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943C8E-4965-46E6-BC06-5299B150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3131-385C-454D-9766-3DD87D99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57B6-874B-4D95-A9B2-A3335760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AB74-37FF-4B13-A5EE-B3787B5B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DEF0-EE12-4894-8B00-738F6FED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A0DF-DB70-450D-988C-C1D39BDB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F391-6DE3-40C8-AD20-C18264594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D787-E267-44C9-87FD-983F5CB2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4E96-F5B8-4C35-889F-10B20F10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28ED-58F4-4BCE-9364-98F3E08E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B8C3-1B63-4B4F-A908-96D77D18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A290-CDBC-4A7A-B0B1-DF282020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5AF0-671D-4345-82BF-46FB046B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8B39-147F-4938-A9A4-D900227E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43CC-2B2D-4B99-BD29-8D2B24F1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E89C-A1EA-4629-80DE-13535F6C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7DD5-814B-4C82-9B77-11985078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0924-3F81-49BC-BE0D-0D656751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3C2B-3165-4640-BA88-586543C4BB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F3D5-0084-45AE-AEFA-489D03DD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7F09-06BA-468E-AD58-A24AFC02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4546-F457-462D-8198-C7A9F956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64B0-7909-44AE-93FA-B4ABCB35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F197-1226-4871-BA73-82F57F97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FE80-A9D2-4327-BBE2-7F352781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E8D3-A4A5-46C4-BAFE-A9DBC3108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 Readiness Seminar #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/28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68C7-2AAD-47CE-80D0-33C6A51A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/2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 Readiness Semina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C502-5A5D-4E71-8558-B29D9331D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F010-0B1E-4D9C-9543-EEA08CD33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371600" y="1676520"/>
            <a:ext cx="69818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siness Integr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371600" y="480060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133720" y="365760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king Deck Impact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 Project 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endorsement langu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75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rket Subcommittee&gt; endorses the Impact Analysis documents for the following Parking Deck revision reques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spcBef>
                <a:spcPts val="20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181: FIP Definition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07: Unit De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10: Wind Forecasting Change to P50, Sync with PRR8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22: Half-Hour Start RUC Claw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40: Proxy Energy Offer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41: Aggregate Incremental Liability (AIL) Calculation and Credi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 Publish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44: Clarification of Other Binding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56: Sync with PRR787, Add Non-Compliance Language to Q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58: Sync with PRR824 and PRR8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72: Definition and Participation of Quick Sta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rking Deck Impact Assessments – Phase 2 / 3 – Endorse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304920" y="3313080"/>
            <a:ext cx="6933960" cy="1944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Schedul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57200" y="762120"/>
            <a:ext cx="83059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repares draft 2012 project list and reviews schedule with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input from the market on new ad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/endorsement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/endorsement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Introductory Com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2280" y="914040"/>
            <a:ext cx="883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working diligently to limit the 2012 budget to the most critical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5M has been allocated for capital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$15M sufficient for ERCOT’s capital project need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recent Data Center Hardware project, 2012 is expected to have a more labor-intensive project mix than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 – total project labor estimate = 108,000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 – YTD internal PPL project labor = $2.31M  (~35,500 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– total internal PPL project labor = $2.73M  (~42,000 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– total internal PPL project labor = $3.96M  (~61,000 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Category Defini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56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Areas of Focus  (Project Categori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by Legislature, PUCT, NERC, FERC or legal r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driven enhancements and effici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trategic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ies &amp;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ly driven operational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custom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maintenance and up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evolution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Regulator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36600" y="1752480"/>
            <a:ext cx="8458200" cy="1828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5562720" y="29718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562720" y="32767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537160" y="3776760"/>
            <a:ext cx="2616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ed carryover project from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Business Strategy 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page 1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74360" cy="5105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5676840" y="14479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676840" y="5867280"/>
            <a:ext cx="26290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ed carryover project from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5676840" y="17146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676840" y="19810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5676840" y="2286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Business Strategy 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page 2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69920" y="762120"/>
            <a:ext cx="8789760" cy="53337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5676840" y="2286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511960" y="6108840"/>
            <a:ext cx="2641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ed carryover project from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Efficiencies and Enhance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91440" cy="54864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5562720" y="13716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410080" y="6248520"/>
            <a:ext cx="277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ed carryover project from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5565600" y="19051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Technical Found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67680" cy="5553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308560" y="12952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257800" y="6315120"/>
            <a:ext cx="2771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ed carryover project from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5308560" y="17524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5308560" y="1957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5308560" y="2200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2 Project Prioritization - Funding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00120" y="914400"/>
          <a:ext cx="8077320" cy="2773440"/>
        </p:xfrm>
        <a:graphic>
          <a:graphicData uri="http://schemas.openxmlformats.org/drawingml/2006/table">
            <a:tbl>
              <a:tblPr/>
              <a:tblGrid>
                <a:gridCol w="2362320"/>
                <a:gridCol w="2057400"/>
                <a:gridCol w="2133360"/>
                <a:gridCol w="152424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Previous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12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9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cies &amp; Enhanc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0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Fou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09" name="Rectangle 3"/>
          <p:cNvSpPr/>
          <p:nvPr/>
        </p:nvSpPr>
        <p:spPr>
          <a:xfrm>
            <a:off x="762120" y="41148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manage within the projected $15M project funding al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ctive projects move through the project lifecycle and new projects are considered for initiation, they will be reassessed for criticality, cost/benefit and resource availability against other projects in the portfo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sion on the preliminary 2012 PPL does not guarantee fund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7162920" y="12952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5294160" y="3627360"/>
            <a:ext cx="3048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jects projected to be funded in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5029200" y="129384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54400" indent="-221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1 Project Portfolio 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3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248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Portfolio Gant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rted by go-liv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248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Develo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ing Deck Impact Assess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8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248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ory Com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248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Assessmen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248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orsement Consideration (vo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 Project Priorit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11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248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248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ory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248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 by Project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248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248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orsement Consideration (vo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24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usiness Integration Update – 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2 Project Prioritization – Mo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ed Mo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to approve/endors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’s proposal to fund 2012 projects in the amount of $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’s initial project rank and preliminary funding by project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s amended by [market subcommittee]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Portfolio – as of 6/3/2011 – Sorted by Go-Live 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3760" y="639720"/>
            <a:ext cx="9096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Portfolio – as of 6/3/2011 – Sorted by Go-Live 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8160" y="685800"/>
            <a:ext cx="9063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Portfolio – as of 6/3/2011 – Sorted by Go-Live 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7520" y="685800"/>
            <a:ext cx="90378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Portfolio – as of 6/3/2011 – Sorted by Go-Live 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38240" y="1295280"/>
            <a:ext cx="88675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Portfolio – Recent Develop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280" y="725400"/>
            <a:ext cx="88394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C and Board Approved Several Additions to the PP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310, NPRR350, SCR7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-Lives Planned for June / Ju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85 – Settlements p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6/6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341 – Remove AS Offers from SASM that Do Not Meet the Lea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6/22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339 – Modifications to Heuristic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6/22/2011 – Day Ahead and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7/20/2011 – CR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146 – ICCP Telemetry Information Submit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7/1/2011 if Board approves at Jun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323 – Correct DAM Credit Exposure Language and Enable Qualified Expir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Rs to Offset PTP Bid Expo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7/20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82 – Dynamic Ramp Rates Use in S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7/22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rking Deck Impact Assessments – Phase 2 / 3 – Com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280" y="7617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has completed the Impact Analysis for 10 of the NPRRs in the Phase 2 / Phase 3 portion of the Parking D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 of results on the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the 2012 project prioritization process is also underway, ERCOT has suggested delivery targets for these NPR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“Delivery Target” column on the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dates coincide with future year funding recommendations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ides 15-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BAs for these Parking Deck items are being worked in parallel with the approval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will have draft CBAs available for review at the appropriate market subcommittee meetings in J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: Have CBAs ready for 6/23 PRS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will initiate market discussions on the remaining Parking Deck i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items will benefit from additional discussion before the IA is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Impact Assessments – Phase 2 / 3 – IA Resul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762120"/>
          <a:ext cx="8839440" cy="5106960"/>
        </p:xfrm>
        <a:graphic>
          <a:graphicData uri="http://schemas.openxmlformats.org/drawingml/2006/table">
            <a:tbl>
              <a:tblPr/>
              <a:tblGrid>
                <a:gridCol w="1138320"/>
                <a:gridCol w="4576680"/>
                <a:gridCol w="1143000"/>
                <a:gridCol w="1067040"/>
                <a:gridCol w="9144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 Req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P Definition Rev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0k-$22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De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k-$5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1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Forecasting Change to P50, Sync w/PRR8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5k-$5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6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-Hour Start RUC Claw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k-$2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7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y Energy Offer Cur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k-$6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4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L Calc and Credit Reports Publish Cor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k-$12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0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cation of Other Binding Docu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k-$1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 w/PRR787, Add Non-Compliance Language to QSE Performance Stand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0k-$13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 with PRR824 and PRR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45k-$16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and Participation of Quick Start Generation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k-$3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2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hronization with Nodal Operating Guide Section 9, Monitoring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Access to MIS Secure Area to MIS Registered Us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GRR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ind Telemetry Performance Calculation Exclu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 Website Enhanc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1295280" y="6248520"/>
            <a:ext cx="3048120" cy="228600"/>
          </a:xfrm>
          <a:prstGeom prst="rect">
            <a:avLst/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rther Discussion with the Market 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295280" y="6016680"/>
            <a:ext cx="3048120" cy="2286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d Impact Analy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5867280" y="317484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5981760" y="601992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&amp;M effort – no project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anderson</cp:lastModifiedBy>
  <cp:lastPrinted>2011-06-07T20:57:59Z</cp:lastPrinted>
  <dcterms:modified xsi:type="dcterms:W3CDTF">2011-06-07T23:16:22Z</dcterms:modified>
  <cp:revision>576</cp:revision>
  <dc:subject/>
  <dc:title>Instructions</dc:title>
</cp:coreProperties>
</file>