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8B9-CA18-495A-ACAA-A1755151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67F-65A2-420B-AE4F-A679783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DD6-541E-4241-AAE6-9DD830D9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6B9-50D7-4C50-BF03-5F8DA0FC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AF7-9C66-4265-A2BB-35D5A39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FD0-F20C-454D-A122-3C08976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10B-CB4C-4C2E-87FD-2E1441B7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748-EF78-491E-B5D3-4DF09E73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2F4-6FAF-4F66-8ECA-93EBB4F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D6F-C9F3-47FA-8391-D663A57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748-9A8D-4239-83B2-011A617C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E50-DDF5-482E-AED3-1CE9456C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D77C-EB6D-4B49-B98E-2593AB4B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6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A20-1786-4425-A836-DB3F9E73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s of May1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Solar Workshop Action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ody identified any issues for ETW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on ERCOT’s WGR definition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expect more details from ERCOT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y discussion on storage settlement issues – nodal/z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quarterly ETIP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will be Jun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storage settlement white paper &amp; N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22F-D1B3-43F6-A7F7-BEEFF191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6-10T17:33:01Z</dcterms:modified>
  <cp:revision>34</cp:revision>
  <dc:subject/>
  <dc:title>Renewable Technology Working Group (RTWG)</dc:title>
</cp:coreProperties>
</file>