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9D6-70D5-4A78-A33F-A01A590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AC8-8138-4AAD-9A37-15DD377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3BB-7ED0-4A1E-9F03-4A8A5C33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315-5E32-462D-ABBC-779A02D7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006-BA9D-4875-86C6-36202D9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153-BB32-404B-8B70-F0F5AE31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3D0-BB50-441D-B321-E44151A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02E-C550-417E-9C25-6F34711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7B8-E69C-472E-B4CE-1DBE7705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6A6-C7A2-460C-9ED8-44980688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026-0BCB-407F-887A-C697BA6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0C5-885E-483E-87AF-A24D398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E0B-A944-4D83-9A55-8902791E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Draft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7960" y="30960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7960" y="22860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160" y="1440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200160"/>
            <a:ext cx="86680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Events Review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Mar 16, 2011 @ 20: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8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39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3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 Mar 23, 2011 @ 06: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4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 Mar 24, 2011 @ 13: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9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1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1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day Mar 25, 2011 @ 16: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1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4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86.2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esday Mar 29, 2011 @ 6: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35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739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3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97.9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rsday Mar 31, 2011 @ 12: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20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76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8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16.6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esday April 5, 2011 @ 22: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9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496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6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50.2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dnesday April 20, 2011 @ 13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88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545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3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77.4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t May 4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disturbance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changes in summary reporting to 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Management presentation by Bob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control performance, profile and CPS1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ERCOT regulation deployment and SCED Base Point oscil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DP general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 Responsive Reserve and other generator RRS frequency responsiv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May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mplete this discussion and form cons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BAL-003 field trial and BA requirements for a minimum frequency response requirement with an October 2011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manual Time Error Correction field trial to eliminate manual Time Error Corrections is on target to begin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gional Standard BAL-001-TRE progress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5181480" y="1066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9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048120" y="76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466560"/>
            <a:ext cx="867384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8440" y="219240"/>
            <a:ext cx="920088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35244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2840" y="347760"/>
            <a:ext cx="92296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5:42:12Z</dcterms:created>
  <dc:creator>sniemeyer</dc:creator>
  <dc:description/>
  <dc:language>en-US</dc:language>
  <cp:lastModifiedBy>NRG ENERGY</cp:lastModifiedBy>
  <dcterms:modified xsi:type="dcterms:W3CDTF">2011-05-09T21:51:03Z</dcterms:modified>
  <cp:revision>13</cp:revision>
  <dc:subject/>
  <dc:title>Slide 1</dc:title>
</cp:coreProperties>
</file>