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4477-A526-45F3-8D74-D9E7E231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E0C-60EE-4640-AD99-4E6095C8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46A-19A9-48E4-931F-44C51DB8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805-AF21-4BD3-AE98-38265328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EE92-6BDD-4133-BB99-CE533C20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384-8BBB-4F6E-8ED4-D1309143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585-2F11-44BA-8908-E10DA5E1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52E6-53EB-4908-B0C8-243239B8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5F5-AC56-43C7-81D7-22A8DC20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566D-D0AA-4DB2-AF10-BAC1696D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A60-48E6-478A-BD30-4F6FCED1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787-A1CF-4EB4-87C0-B3E7E578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78E8-BF29-4018-8228-9ACF551A3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WG Update to 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2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Ged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1BF1-1E95-43EE-B8F0-95F962D90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lights of April 2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olar Work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108 Attendance In-person and Web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Top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planning &amp; operations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manufacturer and developer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 Technolo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workshop materials are posted on the ETWG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questions remain, so there may be a Solar Workshop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7EAF-96CA-4725-AD5E-5BBDF70AD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50640" y="2590920"/>
            <a:ext cx="33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 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6:44Z</dcterms:created>
  <dc:creator>Henry Durrwachter</dc:creator>
  <dc:description/>
  <dc:language>en-US</dc:language>
  <cp:lastModifiedBy>FPL_User</cp:lastModifiedBy>
  <dcterms:modified xsi:type="dcterms:W3CDTF">2011-05-04T19:09:51Z</dcterms:modified>
  <cp:revision>34</cp:revision>
  <dc:subject/>
  <dc:title>Renewable Technology Working Group (RTWG)</dc:title>
</cp:coreProperties>
</file>