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33E-54DC-4BF1-B64A-438560DC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D1A-7A31-4F69-BB27-3FEC4993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D89A-A3ED-47E7-A45C-7BBE21AF0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BEA0-B8AE-4BB3-A869-ED3E2843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9066-5391-4CC2-ACE3-010E67C0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769-5F52-4A2E-B4CE-3AE16FA6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966-B772-4C5E-88A1-1DD30EDA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B218-E502-48FE-999A-4C95D1A2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5FE-8977-4D89-A333-22EDD395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E1C7-E73C-4566-B36A-5A851E9C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B9C-4DB4-46BA-B684-5437D171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92A-9CEA-48FB-AF66-43949318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66BC-9CCD-49F0-87B5-4BD26CDF4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WG Update to 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2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an Ged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03FD-AC6E-4D2C-A685-D74C206EE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ghlights of April 2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lar Worksh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108 Attendance In-person and Web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Top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planning &amp; operations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manufacturer and developer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Technolog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workshop materials are posted on the ETWG web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questions remain, so there may be a Solar Workshop #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155B-1C85-4B66-8208-14E6790DD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50640" y="2590920"/>
            <a:ext cx="33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stions  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16:06:44Z</dcterms:created>
  <dc:creator>Henry Durrwachter</dc:creator>
  <dc:description/>
  <dc:language>en-US</dc:language>
  <cp:lastModifiedBy>FPL_User</cp:lastModifiedBy>
  <dcterms:modified xsi:type="dcterms:W3CDTF">2011-05-04T19:09:51Z</dcterms:modified>
  <cp:revision>34</cp:revision>
  <dc:subject/>
  <dc:title>Renewable Technology Working Group (RTWG)</dc:title>
</cp:coreProperties>
</file>