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AB5B-766A-48FD-831D-6D10658B4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2687-E3C5-47EF-BD5E-0784B539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EFF-8185-4E38-970B-65A801961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3CA9-1ADC-448A-8C4A-E9705C9CB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15F-CDE0-45C4-93E2-2E133D9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305A-4611-4815-A558-ED9B1207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B50-AFB4-44A1-AE2D-28ECFF74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EAC7-4CAF-48BC-97CF-C7BBDDFE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E577-C39A-4A72-B51F-ED127AD5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EB8E-5187-46F0-863E-1516BA51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D337-748F-4FF2-B349-3C3F6BA7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1A5C-439E-462A-8A5D-2FA4C48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61A7-EFA0-417D-BE72-566CBE235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Draft Report to 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12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dney Nieme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7960" y="309600"/>
            <a:ext cx="866808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37960" y="228600"/>
            <a:ext cx="86680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8160" y="14400"/>
            <a:ext cx="9220320" cy="68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37960" y="200160"/>
            <a:ext cx="8668080" cy="64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7520" y="309600"/>
            <a:ext cx="904896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840" y="304920"/>
            <a:ext cx="905832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160" y="299880"/>
            <a:ext cx="906768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quency Events Reviewe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 Mar 16, 2011 @ 20: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8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39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03.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 Mar 23, 2011 @ 06: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4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93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2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7.7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 Mar 24, 2011 @ 13: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9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313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21.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day Mar 25, 2011 @ 16: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91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343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2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86.2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esday Mar 29, 2011 @ 6: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35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739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13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97.9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ursday Mar 31, 2011 @ 12: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20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376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8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16.6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uesday April 5, 2011 @ 22: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19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496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6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150.2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dnesday April 20, 2011 @ 13: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88 M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545 MW/0.1 Hz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3% of Bi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77.4 µHz/sec/MW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DCWG Met May 4, 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ed disturbance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changes in summary reporting to 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Management presentation by Bob Gr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quency control performance, profile and CPS1 revie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ed ERCOT regulation deployment and SCED Base Point oscill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DP general re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dro Responsive Reserve and other generator RRS frequency responsive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eting May 2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omplete this discussion and form consens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BAL-003 field trial and BA requirements for a minimum frequency response requirement with an October 2011 tim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RC manual Time Error Correction field trial to eliminate manual Time Error Corrections is on target to begin this sum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COT Regional Standard BAL-001-TRE progress up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0" y="152280"/>
            <a:ext cx="909648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62000"/>
            <a:ext cx="9144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5"/>
          <p:cNvSpPr/>
          <p:nvPr/>
        </p:nvSpPr>
        <p:spPr>
          <a:xfrm>
            <a:off x="5181480" y="10666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S1 12 Month Rolling Average = 149.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048120" y="76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COT CPS1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5080" y="466560"/>
            <a:ext cx="8673840" cy="59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28440" y="219240"/>
            <a:ext cx="9200880" cy="64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8160" y="352440"/>
            <a:ext cx="922032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42840" y="347760"/>
            <a:ext cx="9229680" cy="61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5:42:12Z</dcterms:created>
  <dc:creator>sniemeyer</dc:creator>
  <dc:description/>
  <dc:language>en-US</dc:language>
  <cp:lastModifiedBy>NRG ENERGY</cp:lastModifiedBy>
  <dcterms:modified xsi:type="dcterms:W3CDTF">2011-05-09T21:51:03Z</dcterms:modified>
  <cp:revision>13</cp:revision>
  <dc:subject/>
  <dc:title>Slide 1</dc:title>
</cp:coreProperties>
</file>