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C66-212F-4FCC-9F00-CD6D19FB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DC9-84AA-4921-96D9-B762294D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2F1-223E-49E6-A43B-929781BC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D32-E2EA-457A-8386-7EB82BC7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B71-0E6D-4899-9FCC-06EDC46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2ED-2E52-4AF5-AA3D-306A3A3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90D-2758-4151-887F-77487F7B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253-7428-4467-BEE0-404F8B07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934D-CD41-4BB7-9DD4-7B5FF47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E84-5C86-4673-B151-4EB57630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E14-C4DE-4837-80AE-021EC655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459-282D-4E6D-A540-59F87EA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978-418D-4925-BCF7-6AC6C6BAC4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E83E-B7B8-4317-BC5C-D23530532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smi Surend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D9E6-BCB4-4C2A-A02B-1A20C7C10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ley Import Constra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 of SF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0.95 to -0.97 in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.03 to 0.045 outside valley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 competitive constraint and hence the Resources are moved based on offers capped by higher of  Reference LMP &amp; Mitigated Offer Cap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 case constraint and hence has a default Max Shadow Price of $5000/MW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130-3B62-445B-BE1E-B7B39596F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est Shadow Price when not violated is less than $100/MWh  (more than 16 hr in the first 4 month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raint cannot be resolved many times even with all the generation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uth LZ SPP when the constraint is violated ranges from $1500/MWh to $1850/MWh (more than 7 hr in the first 4 mont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 response in  majority of that load zone with the high price have no impact to the constra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straint is manually handled after it has been violated for more than an hour in SCED (roughly 43 hrs in the first 4 month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35E9-9146-451B-8847-496C944AD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tial Long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transmission network to support load grow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Load Zone for Valley to encourage demand participation that has impact on the constra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BBC3-2A14-4050-BD22-B960BDAF5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rt Term 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duce Max Shadow Price and let the constraint be managed by SCED and provide price signal to encourage new generation development or load particip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ort from DC tie is limited during peak hou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mand participation would be less since the deployment would be for long hours and payments would be based on the South LZ SP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validate the limit calculations in planning and oper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0438-269B-47AA-8BBC-1AEC6FB1C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Max Shadow Price - $350/MW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ould be able to move existing or new Resources to resolve constraint with out manual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fully dispatch the highest capped and bounded offer during non-scarcity interv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st offer from a new resource with no verifiable cost that needs to be moved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4.5 * high FIP/ lowest SF = 14.5 *10 /0.95 ~ 1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ighest offer from a new resource with verifiable cost that needs be moved i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igh Heat Rate * High FIP + corresponding high O&amp;M) * highest multiplier/ lowest S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14 .5*10 + 75 )*1.5/0.9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50/MW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301-6389-4ED1-8D33-1DC1B0107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rs of Binding/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04920" y="1600200"/>
          <a:ext cx="8381880" cy="1655640"/>
        </p:xfrm>
        <a:graphic>
          <a:graphicData uri="http://schemas.openxmlformats.org/drawingml/2006/table">
            <a:tbl>
              <a:tblPr/>
              <a:tblGrid>
                <a:gridCol w="2295360"/>
                <a:gridCol w="1014480"/>
                <a:gridCol w="1014480"/>
                <a:gridCol w="1014480"/>
                <a:gridCol w="1014120"/>
                <a:gridCol w="1014480"/>
                <a:gridCol w="1014480"/>
              </a:tblGrid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h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ctive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binding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violated in SC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with Violated &amp; overridd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152D-3BC2-4E01-917E-064807E47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33520" y="3733920"/>
            <a:ext cx="76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in SCED – Constraint is passed to 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ding in SCED – Constraint is resolved by SCED – Flow = Lim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olated in SCED – Constraint was not resolved by SCED – Flow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olated &amp; Overrriden – LDL was overriden and Flow &gt;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gestion Cost = (Flow MW * Shadow Price) per 5 min  * 1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estion C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371600"/>
          <a:ext cx="7696080" cy="885960"/>
        </p:xfrm>
        <a:graphic>
          <a:graphicData uri="http://schemas.openxmlformats.org/drawingml/2006/table">
            <a:tbl>
              <a:tblPr/>
              <a:tblGrid>
                <a:gridCol w="2108160"/>
                <a:gridCol w="930240"/>
                <a:gridCol w="932040"/>
                <a:gridCol w="931680"/>
                <a:gridCol w="932040"/>
                <a:gridCol w="930240"/>
                <a:gridCol w="931680"/>
              </a:tblGrid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h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active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binding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violated in SC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urs with Violated &amp; overridde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46B-7E70-4C59-AF40-9D5B6669C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438280"/>
          <a:ext cx="8534520" cy="3733920"/>
        </p:xfrm>
        <a:graphic>
          <a:graphicData uri="http://schemas.openxmlformats.org/drawingml/2006/table">
            <a:tbl>
              <a:tblPr/>
              <a:tblGrid>
                <a:gridCol w="2287440"/>
                <a:gridCol w="833760"/>
                <a:gridCol w="1037880"/>
                <a:gridCol w="1100160"/>
                <a:gridCol w="687600"/>
                <a:gridCol w="1336680"/>
                <a:gridCol w="1251000"/>
              </a:tblGrid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*MW F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bru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 in S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MP binding in SC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089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,224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,959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,011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5,285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736,118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MP violated in SCED @SP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,831,25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,809,58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640,833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9,12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,241,771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1,173,247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8,884,140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3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1,47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0,345,063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68,703,948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79,330,484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7,64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,896,708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2,469,299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19,553,656.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3,82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,448,354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6,234,649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9,776,828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5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6,912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724,177.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8,117,324.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,888,41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@ SP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,838.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206,92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,682,127.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0,921,889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ated &amp; overridden with 2 step limits $200 &amp; $2000 M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8,764.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465,179.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7,588,665.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99,072,609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Box 7"/>
          <p:cNvSpPr/>
          <p:nvPr/>
        </p:nvSpPr>
        <p:spPr>
          <a:xfrm>
            <a:off x="457200" y="64580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olated &amp; overridden with 2 step limits $200 &amp; $2000 MSP – One constraint  at limit + margin  with Max Shadow Price at $200 and another at limit with Max Shadow Price at $200 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th Load Zone Extra Pay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520" y="4724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erage $/MW for hours when constraint was violated in S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(7.3 + 43.3)*(1806.83-63.68)=50.6*1743.15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$88,203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EFE-45D1-4F34-B261-8B0650813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62320" y="1600200"/>
          <a:ext cx="4495680" cy="2706840"/>
        </p:xfrm>
        <a:graphic>
          <a:graphicData uri="http://schemas.openxmlformats.org/drawingml/2006/table">
            <a:tbl>
              <a:tblPr/>
              <a:tblGrid>
                <a:gridCol w="1857240"/>
                <a:gridCol w="1735200"/>
                <a:gridCol w="903240"/>
              </a:tblGrid>
              <a:tr h="71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LPNT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(LM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806.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8.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5.4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6.6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g N H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3.3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4:15:05Z</dcterms:created>
  <dc:creator>Resmi Surendran</dc:creator>
  <dc:description/>
  <dc:language>en-US</dc:language>
  <cp:lastModifiedBy>balbracht</cp:lastModifiedBy>
  <dcterms:modified xsi:type="dcterms:W3CDTF">2011-04-28T19:37:15Z</dcterms:modified>
  <cp:revision>11</cp:revision>
  <dc:subject/>
  <dc:title>Valley Import Constraint</dc:title>
</cp:coreProperties>
</file>