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EE91-23F3-4716-A744-880A4015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9020-845E-4069-8DF1-AA240BAF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3EBA-FA3A-4346-90AC-21A5DC8C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735F-34AA-443B-AFDE-B02BA66C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A65E-BBCB-4C59-A675-BD8A7BC9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4003-F7F0-40B5-B521-45D88F5A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76FC-FB24-4394-9489-C13E005F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8FA0-7540-4381-9DA0-E76A5918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D6249-55B9-427C-948B-E8FCF1F4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2392-6B09-44B9-B131-FF5DEF9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F9D2-9F9F-4820-B952-284B4F82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B3DC-F50D-46D2-BD24-631AA6C0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F02B-02E9-40A1-8954-383308B28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B3F0-47E5-49BD-B960-C95A53869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5"/>
          <p:cNvSpPr/>
          <p:nvPr/>
        </p:nvSpPr>
        <p:spPr>
          <a:xfrm>
            <a:off x="2209680" y="4648320"/>
            <a:ext cx="4419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 Me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-12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1828440"/>
            <a:ext cx="5486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ercial Operations Subcommitte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1080" y="35809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bbie McKee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Chair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CWG,  PWG, and SEWG – Activities in progres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– working on Load Profiling Guide Revision Reque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WG continues work on developing COP Handbook s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13, Congestion Revenue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ion 14, Short Pay and Market Participant Defaul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WG created new content addressing “Pre-settlement Activity” “Shadow Settlement Activity” and “Resettlement” (as need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MGRR025, Synchronization with NPRR291, Reduce the Comment Period for NPRRs and S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WG reviewed and endorsed Impac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s voted to approve at the April COPs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Vice Chair 2011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ika Basaran with Austin Energy was unanimously elected Vice Chair by COPs Members at the April 1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Ps mee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s seeks TAC’s vote for approv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 for TAC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MGRR025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chronization with NPRR291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e the Comment Period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RRs and SC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PS Communications Working Group (CCWG) Activities in Progres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CWG nearing completion of COP Handbook section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ion 13, Congestion Revenue Righ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tion 14, Short Pay and Market Participant Default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CWG continues work on COPMG Section 5.3, ERCOT Market Documents and Guiding Princip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ft Market Document matrix was revie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ing language explaining the governance process in words in support of the matri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PMGRR025, Synchronization with NPRR291, Reduce the Comment Period for NPRRs and SC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ved by COPS on April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ing all upcoming NPRRs impacting Commercial Operations Settlement and Billing (e.g. NPRR3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352680" y="640080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9FF6-0A23-437E-B3D7-B3539698BD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ttlement System Upgra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has initiated a project to make upgrades/removing proprietary code of the Lodestar System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Updates are being given and those updates will be given to COPs as needed…at least every other month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s will be included in the general monthly updates to 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ttlement System Upgrade – highlights!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ttlement System Upgrade is only intended to replace the calculation engine (replacing the existing solutions under the Lodestar proprietary rules language with a new internal ERCOT supported solutio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All input data, output data, and calculation rules are expected to remain unchang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 List of impacted topics currently written within the Lodestar proprietary rules langu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ata Loa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Load Aggregation(including estimation and profiling log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Generation Aggre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ay Ahead Market calc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al-Time Market calc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xt COPs Mee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uesday, May1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11-05-05T14:47:36Z</dcterms:modified>
  <cp:revision>151</cp:revision>
  <dc:subject/>
  <dc:title>Instructions</dc:title>
</cp:coreProperties>
</file>