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EC9-F5D7-463F-B108-2A13A690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761-B27A-4395-AEDF-FDF056B0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FE6-1530-450D-A97B-542E0BD0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886-B525-41BD-87C1-64C9DEAD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29A-599F-4731-86F3-82625D6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B55-DB54-4FD6-B19D-33A67E1E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5F5-C8FC-4E96-9235-77E89A6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E15-01A4-4FFF-A128-D5A75D5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AB4-6C4F-4EF4-8C11-4663A63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6E8-C06C-40E4-AA45-276F6A2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00-8FC9-40A4-9757-639FC41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07F-7FA0-4B4F-9B77-F0AE53D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159-63B3-4D89-A5FC-CAC807712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CAD-F564-4E94-A968-C3E0265F0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mi Surend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4ECE-1581-4386-8493-34713E4A0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 of S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0.95 to -0.97 in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03 to 0.045 outside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 competitive constraint and hence the Resources are moved based on offers capped by higher of  Reference LMP &amp; Mitigated Offer Cap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case constraint and hence has a default Max Shadow Price of $5000/MW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3D0E-8D96-4DFD-B3FE-8D4D33B7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est Shadow Price when not violated is less than $100/MWh  (more than 16 hr in the first 4 month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aint cannot be resolved many times even with all the generation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uth LZ SPP when the constraint is violated ranges from $1500/MWh to $1850/MWh (more than 7 hr in the first 4 mont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 response in  majority of that load zone with the high price have no impact to the constra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traint is manually handled after it has been violated for more than an hour in SCED (roughly 43 hrs in the first 4 mont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75D3-73BF-44BF-B557-11EE85DCA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tial Long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transmission network to support load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Load Zone for Valley to encourage demand participation that has impact on the constra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1754-E5FF-4B76-86EA-5E621BAEF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uce Max Shadow Price and let the constraint be managed by SCED and provide price signal to encourage new generation development or load particip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 from DC tie is limited during peak ho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and participation would be less since the deployment would be for long hours and payments would be based on the South LZ SP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alidate the limit calculations in planning and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39B-46C5-4779-A09F-D91D7D3CB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Max Shadow Price - $350/MW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be able to move existing or new Resources to resolve constraint with out manual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lly dispatch the highest capped and bounded offer during non-scarcity interv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st offer from a new resource with no verifiable cost that needs to be moved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.5 * high FIP/ lowest SF = 14.5 *10 /0.95 ~ 1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st offer from a new resource with verifiable cost that needs be moved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igh Heat Rate * High FIP + corresponding high O&amp;M) * highest multiplier/ lowest S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4 .5*10 + 75 )*1.5/0.9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0/MW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45A-9ABC-4523-9094-6E5DFB33C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rs of Binding/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600200"/>
          <a:ext cx="8381880" cy="1655640"/>
        </p:xfrm>
        <a:graphic>
          <a:graphicData uri="http://schemas.openxmlformats.org/drawingml/2006/table">
            <a:tbl>
              <a:tblPr/>
              <a:tblGrid>
                <a:gridCol w="2295360"/>
                <a:gridCol w="1014480"/>
                <a:gridCol w="1014480"/>
                <a:gridCol w="1014480"/>
                <a:gridCol w="1014120"/>
                <a:gridCol w="1014480"/>
                <a:gridCol w="1014480"/>
              </a:tblGrid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ctive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binding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violated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with Violated &amp; overridd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B49-0E0B-45DE-855F-F75C49EB4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33520" y="3733920"/>
            <a:ext cx="76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in SCED – Constraint is passed to 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ing in SCED – Constraint is resolved by SCED – Flow =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olated in SCED – Constraint was not resolved by SCED – Flow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olated &amp; Overrriden – LDL was overriden and Flow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estion Cost = (Flow MW * Shadow Price) per 5 min  * 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estion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371600"/>
          <a:ext cx="7696080" cy="885960"/>
        </p:xfrm>
        <a:graphic>
          <a:graphicData uri="http://schemas.openxmlformats.org/drawingml/2006/table">
            <a:tbl>
              <a:tblPr/>
              <a:tblGrid>
                <a:gridCol w="2108160"/>
                <a:gridCol w="930240"/>
                <a:gridCol w="932040"/>
                <a:gridCol w="931680"/>
                <a:gridCol w="932040"/>
                <a:gridCol w="930240"/>
                <a:gridCol w="931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h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ctive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binding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violated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with Violated &amp; overridd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E0D-A81F-4FC7-8EF7-B819789CA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438280"/>
          <a:ext cx="8534520" cy="3733920"/>
        </p:xfrm>
        <a:graphic>
          <a:graphicData uri="http://schemas.openxmlformats.org/drawingml/2006/table">
            <a:tbl>
              <a:tblPr/>
              <a:tblGrid>
                <a:gridCol w="2287440"/>
                <a:gridCol w="833760"/>
                <a:gridCol w="1037880"/>
                <a:gridCol w="1100160"/>
                <a:gridCol w="687600"/>
                <a:gridCol w="1336680"/>
                <a:gridCol w="1251000"/>
              </a:tblGrid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*MW 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 in S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MP binding in S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89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,2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,959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01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5,285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736,118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MP violated in SCED @SP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,831,2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,809,58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640,83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9,12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,241,77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1,173,247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8,884,14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1,47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345,06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8,703,948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9,330,484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7,64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896,70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2,469,299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9,553,656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3,82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48,35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,234,649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,776,82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912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24,177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,117,324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,888,41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,838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206,92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,682,12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921,889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with 2 step limits $200 &amp; $2000 M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,76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465,179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7,588,66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9,072,609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7"/>
          <p:cNvSpPr/>
          <p:nvPr/>
        </p:nvSpPr>
        <p:spPr>
          <a:xfrm>
            <a:off x="457200" y="645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olated &amp; overridden with 2 step limits $200 &amp; $2000 MSP – One constraint  at limit + margin  with Max Shadow Price at $200 and another at limit with Max Shadow Price at $200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Load Zone Extra Pa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4724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$/MW for hours when constraint was violated in S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(7.3 + 43.3)*(1806.83-63.68)=50.6*1743.15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$88,203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FFA3-EA7D-4922-9EA2-2E3CD583A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62320" y="1600200"/>
          <a:ext cx="4495680" cy="2706840"/>
        </p:xfrm>
        <a:graphic>
          <a:graphicData uri="http://schemas.openxmlformats.org/drawingml/2006/table">
            <a:tbl>
              <a:tblPr/>
              <a:tblGrid>
                <a:gridCol w="1857240"/>
                <a:gridCol w="1735200"/>
                <a:gridCol w="903240"/>
              </a:tblGrid>
              <a:tr h="71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LPNT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(LM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806.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8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5.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6.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 N H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3.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4:15:05Z</dcterms:created>
  <dc:creator>Resmi Surendran</dc:creator>
  <dc:description/>
  <dc:language>en-US</dc:language>
  <cp:lastModifiedBy>balbracht</cp:lastModifiedBy>
  <dcterms:modified xsi:type="dcterms:W3CDTF">2011-04-28T19:37:15Z</dcterms:modified>
  <cp:revision>11</cp:revision>
  <dc:subject/>
  <dc:title>Valley Import Constraint</dc:title>
</cp:coreProperties>
</file>