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3484-D407-4C9D-9B2C-29B619AF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C4B3-89BB-4153-8240-0E0F338C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A10A-7669-4996-BD0D-AC34E2CC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8A4-4F5E-4D36-BFE9-EBA70F4E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BBEE-EFC2-45F6-BC90-0E24AB96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C52-13C2-4AB5-8AFA-A473D32D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A876-1C9B-4BCD-B15C-E84D2258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351B-FF37-400A-8FEA-BC855F25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27A8-25DA-4FB7-A06F-F87E4F19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8584-7A27-4D07-A4DE-9664F3FD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FD14-73C8-4454-A1DE-07C0E685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FA4E-820D-4475-94E4-4ADFF011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BE9D-200C-4DE5-8E14-C64E2CE13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WG Update to 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11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Ged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3900-38CE-41B2-9FFF-467D4E03C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lights of April 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of NPRR 3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half of the group were suppor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ainder wanted to fully understand the issues that might develop, if implem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 was raised about it potentially being discrimin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of Solar Worksh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for April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9:00 AM – 4:00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RS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zed Agenda should be posted shor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meeting will be May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be review tha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ETP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FEBE-2DA3-4327-BB1D-97FFFAFFD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Meeting May 18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le Agenda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arter ETIP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C NOPR on Frequency Regulation Compensation – 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GR Defin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RR 340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50640" y="2590920"/>
            <a:ext cx="33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  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06:44Z</dcterms:created>
  <dc:creator>Henry Durrwachter</dc:creator>
  <dc:description/>
  <dc:language>en-US</dc:language>
  <cp:lastModifiedBy>FPL_User</cp:lastModifiedBy>
  <dcterms:modified xsi:type="dcterms:W3CDTF">2011-04-08T14:46:06Z</dcterms:modified>
  <cp:revision>31</cp:revision>
  <dc:subject/>
  <dc:title>Renewable Technology Working Group (RTWG)</dc:title>
</cp:coreProperties>
</file>