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5.wmf" ContentType="image/x-wmf"/>
  <Override PartName="/ppt/media/image16.wmf" ContentType="image/x-wmf"/>
  <Override PartName="/ppt/media/image14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5.jpeg" ContentType="image/jpeg"/>
  <Override PartName="/ppt/media/image9.wmf" ContentType="image/x-wmf"/>
  <Override PartName="/ppt/media/image6.jpeg" ContentType="image/jpeg"/>
  <Override PartName="/ppt/media/image11.jpeg" ContentType="image/jpeg"/>
  <Override PartName="/ppt/media/image12.wmf" ContentType="image/x-wmf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8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9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0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99B44-9890-46D9-8D1A-F80776264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A32DF-D22D-494C-AB16-2037141EE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76761-88E3-431C-9CE9-ED2C1D253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1741C-9D8B-4EF7-BE3F-C939B8D92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8CD1F-3403-45B1-899D-958D2866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06BEA-DF65-4EF2-882D-4F584E775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FA2AE-A3AA-4C85-9BF0-9FD401ADD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15390-8B93-4FEA-9BC3-F01A01992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3FC5C-6122-401B-AC66-762FCF558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D6CB0-6EA1-479C-953D-D631F8116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879FA-2797-4E6C-BB75-A2153D090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84C34-E1FB-4B5D-A117-B5E564030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3B674-F833-42B4-9993-545E40AE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C305B-BF34-4E1D-8321-18586076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3EBDD-B184-4E5F-80BA-9884B945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08597-5CCE-4F2C-BA9C-35093C6DA0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I MDM Fall 2010 Works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/8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FF6A0-E069-4610-9343-55584B5E3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2/8/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MI MDM Fall 2010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74B5D-6EAB-490E-990A-9BAE58868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6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dt" idx="7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/13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2640" y="1904760"/>
            <a:ext cx="721044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ISUG TAC Updat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Jackie Ashbaug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RCO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4/7/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/7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xternal Web Services Alerts/Notifications – February 2011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85345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/7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rket Extract &amp; Report Postings – February 2011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83" name="Picture 11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8769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2" descr=""/>
          <p:cNvPicPr/>
          <p:nvPr/>
        </p:nvPicPr>
        <p:blipFill>
          <a:blip r:embed="rId2"/>
          <a:stretch/>
        </p:blipFill>
        <p:spPr>
          <a:xfrm>
            <a:off x="3352680" y="5931000"/>
            <a:ext cx="2352960" cy="3524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"/>
          <p:cNvPicPr/>
          <p:nvPr/>
        </p:nvPicPr>
        <p:blipFill>
          <a:blip r:embed="rId3"/>
          <a:stretch/>
        </p:blipFill>
        <p:spPr>
          <a:xfrm>
            <a:off x="228600" y="743040"/>
            <a:ext cx="5495760" cy="1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/7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op 10 Market Extract &amp; Report Postings – February 2011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89" name="Picture 10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2578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2" descr=""/>
          <p:cNvPicPr/>
          <p:nvPr/>
        </p:nvPicPr>
        <p:blipFill>
          <a:blip r:embed="rId2"/>
          <a:stretch/>
        </p:blipFill>
        <p:spPr>
          <a:xfrm>
            <a:off x="76320" y="743040"/>
            <a:ext cx="5495760" cy="1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/7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rket Extract &amp; Report Downloads – February 2011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94" name="Picture 8" descr=""/>
          <p:cNvPicPr/>
          <p:nvPr/>
        </p:nvPicPr>
        <p:blipFill>
          <a:blip r:embed="rId1"/>
          <a:stretch/>
        </p:blipFill>
        <p:spPr>
          <a:xfrm>
            <a:off x="76320" y="762120"/>
            <a:ext cx="5495760" cy="171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9" descr=""/>
          <p:cNvPicPr/>
          <p:nvPr/>
        </p:nvPicPr>
        <p:blipFill>
          <a:blip r:embed="rId2"/>
          <a:stretch/>
        </p:blipFill>
        <p:spPr>
          <a:xfrm>
            <a:off x="0" y="914400"/>
            <a:ext cx="9144000" cy="50292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0" descr=""/>
          <p:cNvPicPr/>
          <p:nvPr/>
        </p:nvPicPr>
        <p:blipFill>
          <a:blip r:embed="rId3"/>
          <a:stretch/>
        </p:blipFill>
        <p:spPr>
          <a:xfrm>
            <a:off x="3433680" y="5915160"/>
            <a:ext cx="227664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/7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op 10 Market Extract &amp; Report Downloads – February 2011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00" name="Picture 7" descr=""/>
          <p:cNvPicPr/>
          <p:nvPr/>
        </p:nvPicPr>
        <p:blipFill>
          <a:blip r:embed="rId1"/>
          <a:stretch/>
        </p:blipFill>
        <p:spPr>
          <a:xfrm>
            <a:off x="76320" y="762120"/>
            <a:ext cx="5495760" cy="171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8" descr=""/>
          <p:cNvPicPr/>
          <p:nvPr/>
        </p:nvPicPr>
        <p:blipFill>
          <a:blip r:embed="rId2"/>
          <a:stretch/>
        </p:blipFill>
        <p:spPr>
          <a:xfrm>
            <a:off x="12600" y="1371600"/>
            <a:ext cx="913140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/7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Ques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/7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03/31/2011 Meeting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ed to focus on the high priority items from MISUG task lis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task list priorit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329 Security Classification Changes stat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761 Provide Price Republication Notifications via API and Provide Price Corrections via XML – provided feedback to W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ority 1 Dashboard Requirements Review (NPRRs &amp; SCRs for submission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aft NPR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 Ancillary Service Capacity Monitor Dashboard Change security classification to Publi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aft SC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motion of Select MIS Secure Dashboards to Public Dom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 Aggregated Wind Dashbo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/7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03/31/2011 Meeting continued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erts/Notifications review request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urn off 4 alerts (Adjustment window open/close, Mkt closed, duplicate two hr output scheduled fail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date 15 alerts/notices (conditions, text langua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 3 new alerts (SCED complete, SPPs availab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ed market requirements for new 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tal and Groupings of Wind Output Report (new from dashboard discuss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ily Grid Operations Report (#1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nthly TDSP Load by LSE Report (#5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m of HDLs/LDLs Report (#4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confirmed Trades Report (#2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/7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status of SCRs and NPRR submitted on behalf of MISU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 329Security Classification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submissions – 2 SCRs/1 NPRR dashboard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NPRRs/SCRs for submission for alerts/notifications where requirements were collected at the 3/31/2011 meet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NPRRs for submission for new reports where requirements were collected at the 3/31/2011 meet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tal and Groupings of Wind Output Report (new from dashboard discuss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ily Grid Operations Report (#1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nthly TDSP Load by LSE Report (#5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m of HDLs/LDLs Report (#4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confirmed Trades Report (#2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Reports – collect requir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RUC after approval Report (#4) – RUC V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C Tie Schedules Report (#5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 Load Zone/Hub Price Report (#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d Reporting (#6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pril Meeting Topic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/7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Referenc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et Data Transparenc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bruary Statist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/7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RCOT Website Page Views – February 2011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63" name="Chart 1" descr="cid:image002.png@01CBED32.28719070"/>
          <p:cNvPicPr/>
          <p:nvPr/>
        </p:nvPicPr>
        <p:blipFill>
          <a:blip r:embed="rId1"/>
          <a:stretch/>
        </p:blipFill>
        <p:spPr>
          <a:xfrm>
            <a:off x="76320" y="914400"/>
            <a:ext cx="89913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/7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xternal Web Services Market Transactions – February 2011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0" y="725400"/>
            <a:ext cx="9144000" cy="54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/7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xternal Web Services Market Info Reports – February 2011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/7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xternal Web Services Alerts/Notifications – February 2011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75" name="Picture 5" descr=""/>
          <p:cNvPicPr/>
          <p:nvPr/>
        </p:nvPicPr>
        <p:blipFill>
          <a:blip r:embed="rId1"/>
          <a:stretch/>
        </p:blipFill>
        <p:spPr>
          <a:xfrm>
            <a:off x="0" y="728640"/>
            <a:ext cx="914400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jashbaugh</cp:lastModifiedBy>
  <dcterms:modified xsi:type="dcterms:W3CDTF">2011-04-06T06:08:25Z</dcterms:modified>
  <cp:revision>493</cp:revision>
  <dc:subject/>
  <dc:title>Instruc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nformation Classification">
    <vt:lpwstr>ERCOT Limited</vt:lpwstr>
  </property>
</Properties>
</file>