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8D7D-2703-4C50-A76A-4E83AD0E5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1714-31CD-49F2-B4A8-0A7C8ABA7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84A6-4998-4E50-91F5-041CEBA16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516A-8249-4EFE-9E3C-98AF982A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0410-E7A2-452A-999B-75C6CC62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2528-3A68-4111-B29C-A7B60179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5F89-93A6-48C6-B0E3-443C3B36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9131-E09F-424B-866E-2F2124C7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FA0A-8327-47BB-B505-C5F809E4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0169-EE1A-44DE-9581-66F7AA54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F3B67-F0EB-4AFF-AB2D-454D1589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5147-4CAF-47B0-B110-644E1345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B7CD-EABA-41EB-ABED-A8BB2D7A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AD04-536E-4AD3-A36F-6F663F3C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2964-8B42-4715-9609-BF4C2381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86F2-109E-4872-AE56-07F65EA39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F516-CA46-4BD7-AFF7-D8E99724C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/7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yle Patr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0 Market Coordination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going into initialization in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anticipated Q2 or Q3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RR294 Com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March 23, 2011 RMS meeting, RMS discussed NPRR294, Texas SET 4.0 Including:  Acquisition and Transfer of Customers From One REP to Another; Meter Tampering Transactional Solution.  RMS proposed a correction to paragraph (6)(d) of Section 15, Customer Registration, to remove the 814_01 reference from Level 4 as the 814_01 was moved to Level 1.  Following the discussion, 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animous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d to endorse NPRR294 as revised by 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change controls for TEXAS SET 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MS Procedures (Vo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s required due to sunset of Retail Metering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5FD5-2747-4565-A6DE-F68799E8C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: RMGRR098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3520" y="1052640"/>
          <a:ext cx="7924680" cy="4545000"/>
        </p:xfrm>
        <a:graphic>
          <a:graphicData uri="http://schemas.openxmlformats.org/drawingml/2006/table">
            <a:tbl>
              <a:tblPr/>
              <a:tblGrid>
                <a:gridCol w="2168280"/>
                <a:gridCol w="1451160"/>
                <a:gridCol w="4305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 of Market Synchronization Rep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RMGRR provides documentation in the RMG for market synchronization reports that are currently in use in the market but are not documented in the RMG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bcommittee Acronym) 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2/16/11, RMS unanimously voted to recommend approval of RMGRR098 as amended by the 2/9/11 ERCOT comments.  All Market Segments were present for the vot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O Deter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roject required.  The Retail Market Guide Revision Request (RMGRR) can take effect upon the Technical Advisory Committee (TAC) approva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on TAC Approval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762120" y="1600200"/>
            <a:ext cx="7619760" cy="419112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289548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38862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48006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849960" y="207000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m Revie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5552640" y="199404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978640" y="1944720"/>
            <a:ext cx="8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762120" y="5181480"/>
            <a:ext cx="2103480" cy="5806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844560" y="26258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846000" y="31590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794880" y="368136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796680" y="42260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794880" y="47592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3888000" y="19447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4"/>
          <p:cNvSpPr/>
          <p:nvPr/>
        </p:nvSpPr>
        <p:spPr>
          <a:xfrm>
            <a:off x="3200400" y="31240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6"/>
          <p:cNvSpPr/>
          <p:nvPr/>
        </p:nvSpPr>
        <p:spPr>
          <a:xfrm>
            <a:off x="3200400" y="41911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9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0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"/>
          <p:cNvSpPr/>
          <p:nvPr/>
        </p:nvSpPr>
        <p:spPr>
          <a:xfrm>
            <a:off x="3200400" y="47242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6"/>
          <p:cNvSpPr/>
          <p:nvPr/>
        </p:nvSpPr>
        <p:spPr>
          <a:xfrm>
            <a:off x="3200400" y="36576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6"/>
          <p:cNvSpPr/>
          <p:nvPr/>
        </p:nvSpPr>
        <p:spPr>
          <a:xfrm>
            <a:off x="3200400" y="25909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: RMGRR0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kpatrick</cp:lastModifiedBy>
  <dcterms:modified xsi:type="dcterms:W3CDTF">2011-04-06T20:09:45Z</dcterms:modified>
  <cp:revision>117</cp:revision>
  <dc:subject/>
  <dc:title>Instructions</dc:title>
</cp:coreProperties>
</file>