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5E68-EEE9-4C4D-98F3-5D8217B6B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27C2-7586-4EB9-94A4-57134DF08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AC9EB7D-01CF-49ED-AD26-A533870EE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4A0882-2B4E-45DB-8C74-663DEF138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4CE724A-6E63-490E-B942-D70402C66D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931107F-ED7C-4D97-BF63-B263E06B44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9B5590-2771-42BD-83C3-BB63BE376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871AD4C-8BB9-4EAB-9886-79F1A0A80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FB27D3-7659-4043-AECA-E5B52C13B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407FEE8-3F0D-4ACB-B1FB-0142AADCD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CEA35F-94A8-4E42-A57D-988503D8E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24FC39-0B78-43B0-A555-AB5E03DB9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5ABB45-5D27-4A07-ADA9-88E1B092A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58BD69A-DFE8-42F1-951F-F274CD8D81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6FA8-18A5-461A-B27C-C9BF0DEC5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79F8-1008-433A-8AE8-34080D698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9" name="Picture 10" descr="ERCOT WMS1.eps"/>
          <p:cNvPicPr/>
          <p:nvPr/>
        </p:nvPicPr>
        <p:blipFill>
          <a:blip r:embed="rId2"/>
          <a:stretch/>
        </p:blipFill>
        <p:spPr>
          <a:xfrm>
            <a:off x="0" y="0"/>
            <a:ext cx="22860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2" descr="ERCOT WMS1.eps"/>
          <p:cNvPicPr/>
          <p:nvPr/>
        </p:nvPicPr>
        <p:blipFill>
          <a:blip r:embed="rId2"/>
          <a:stretch/>
        </p:blipFill>
        <p:spPr>
          <a:xfrm>
            <a:off x="0" y="0"/>
            <a:ext cx="3809880" cy="1119240"/>
          </a:xfrm>
          <a:prstGeom prst="rect">
            <a:avLst/>
          </a:prstGeom>
          <a:ln w="0">
            <a:noFill/>
          </a:ln>
        </p:spPr>
      </p:pic>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5"/>
          <p:cNvSpPr/>
          <p:nvPr/>
        </p:nvSpPr>
        <p:spPr>
          <a:xfrm>
            <a:off x="2362320" y="502920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ril 2011</a:t>
            </a:r>
            <a:endParaRPr b="0" lang="en-US" sz="1800" spc="-1" strike="noStrike">
              <a:solidFill>
                <a:srgbClr val="000000"/>
              </a:solidFill>
              <a:latin typeface="Arial"/>
            </a:endParaRPr>
          </a:p>
        </p:txBody>
      </p:sp>
      <p:sp>
        <p:nvSpPr>
          <p:cNvPr id="96" name="PlaceHolder 1"/>
          <p:cNvSpPr>
            <a:spLocks noGrp="1"/>
          </p:cNvSpPr>
          <p:nvPr>
            <p:ph type="title"/>
          </p:nvPr>
        </p:nvSpPr>
        <p:spPr>
          <a:xfrm>
            <a:off x="1676160" y="1904760"/>
            <a:ext cx="746748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olesale Market Subcommittee</a:t>
            </a:r>
            <a:endParaRPr b="0" lang="en-US" sz="2800" spc="-1" strike="noStrike">
              <a:solidFill>
                <a:srgbClr val="000000"/>
              </a:solidFill>
              <a:latin typeface="Arial Black"/>
            </a:endParaRPr>
          </a:p>
        </p:txBody>
      </p:sp>
      <p:sp>
        <p:nvSpPr>
          <p:cNvPr id="97" name="PlaceHolder 2"/>
          <p:cNvSpPr>
            <a:spLocks noGrp="1"/>
          </p:cNvSpPr>
          <p:nvPr>
            <p:ph type="subTitle"/>
          </p:nvPr>
        </p:nvSpPr>
        <p:spPr>
          <a:xfrm>
            <a:off x="1676160" y="3580920"/>
            <a:ext cx="701028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port to Technical Advisory Committe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143000"/>
            <a:ext cx="8305920" cy="5105520"/>
          </a:xfrm>
          <a:prstGeom prst="rect">
            <a:avLst/>
          </a:prstGeom>
          <a:noFill/>
          <a:ln w="0">
            <a:noFill/>
          </a:ln>
        </p:spPr>
        <p:txBody>
          <a:bodyPr anchor="t">
            <a:normAutofit/>
          </a:bodyPr>
          <a:p>
            <a:pPr marL="343080" indent="-343080">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TAC Voting Items</a:t>
            </a:r>
            <a:endParaRPr b="1" lang="en-US" sz="36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d bus resettlement issues (possible vote)</a:t>
            </a:r>
            <a:endParaRPr b="0" lang="en-US" sz="24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ley Import – Proposed new max shadow price (possible vote)</a:t>
            </a:r>
            <a:endParaRPr b="0" lang="en-US" sz="2400" spc="-1" strike="noStrike">
              <a:solidFill>
                <a:srgbClr val="000000"/>
              </a:solidFill>
              <a:latin typeface="Arial"/>
            </a:endParaRPr>
          </a:p>
          <a:p>
            <a:pPr lvl="1" marL="7430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TAC Action Items</a:t>
            </a:r>
            <a:endParaRPr b="1" lang="en-US" sz="2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Recommending Resettlement or Giving Further Direction to WMS for System Lambda Pricing of Dead Buses (Vote)</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at length at WMS, last TAC, and at the ERCOT Board of Directors meeting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 Protocols, ERCOT prices dead buses at:</a:t>
            </a:r>
            <a:endParaRPr b="0" lang="en-US" sz="1600" spc="-1" strike="noStrike">
              <a:solidFill>
                <a:srgbClr val="000000"/>
              </a:solidFill>
              <a:latin typeface="Arial"/>
            </a:endParaRPr>
          </a:p>
          <a:p>
            <a:pPr lvl="4" marL="2057400" indent="-228600">
              <a:lnSpc>
                <a:spcPct val="9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LMP for Electrical Buses within the same station having the same voltage level as the de-energized Electrical Bus, if any exist.</a:t>
            </a:r>
            <a:endParaRPr b="0" lang="en-US" sz="1400" spc="-1" strike="noStrike">
              <a:solidFill>
                <a:srgbClr val="000000"/>
              </a:solidFill>
              <a:latin typeface="Arial"/>
            </a:endParaRPr>
          </a:p>
          <a:p>
            <a:pPr lvl="4" marL="2057400" indent="-228600">
              <a:lnSpc>
                <a:spcPct val="9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LMP for all Electrical Buses within the same station, if any exist. </a:t>
            </a:r>
            <a:endParaRPr b="0" lang="en-US" sz="1400" spc="-1" strike="noStrike">
              <a:solidFill>
                <a:srgbClr val="000000"/>
              </a:solidFill>
              <a:latin typeface="Arial"/>
            </a:endParaRPr>
          </a:p>
          <a:p>
            <a:pPr lvl="4" marL="2057400" indent="-228600">
              <a:lnSpc>
                <a:spcPct val="9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lambda </a:t>
            </a:r>
            <a:endParaRPr b="0" lang="en-US" sz="14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ing at system lambda sometimes creates unusual pricing outcom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C could:</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 price correction and resettlement to the ERCOT Board of Director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WMS to modify the pricing outcome in specific or general way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no action</a:t>
            </a:r>
            <a:endParaRPr b="0" lang="en-US" sz="1600" spc="-1" strike="noStrike">
              <a:solidFill>
                <a:srgbClr val="000000"/>
              </a:solidFill>
              <a:latin typeface="Arial"/>
            </a:endParaRPr>
          </a:p>
          <a:p>
            <a:pPr lvl="1" marL="74304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TAC Action Items</a:t>
            </a:r>
            <a:endParaRPr b="1"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ley Import Proposed new Max Shadow Price (Vot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MS voted that it has concerns with ERCOT’s proposal to adjust the maximum shadow price for the Valley Import, and requested that ERCOT provide further analysis of the EDF Trading proposa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F proposal was based on the scarcity pricing mechanism in the Commission’s Rul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MS would welcome further direction from TAC, if TAC desires.</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rbara Clemenhagen</dc:creator>
  <dc:description/>
  <dc:language>en-US</dc:language>
  <cp:lastModifiedBy>Eric Goff</cp:lastModifiedBy>
  <dcterms:modified xsi:type="dcterms:W3CDTF">2011-03-29T18:49:41Z</dcterms:modified>
  <cp:revision>146</cp:revision>
  <dc:subject/>
  <dc:title>Instructions</dc:title>
</cp:coreProperties>
</file>