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15348606-EBE1-4143-AA2E-A6C0DA6B5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Line 7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9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0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2591EBD6-5A6B-430C-A673-068AC211F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2130120"/>
            <a:ext cx="6934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bserved impacts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al-Time Settlement Point Pric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PRR326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0200" y="3885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ch 24,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current method works for Energy payment if no DAM awar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1600200"/>
          <a:ext cx="8229600" cy="259560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TLMP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rt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y "Production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y Long (+)/ Energy Short (-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 SCED Energy imbalance char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1,00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0: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0: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11111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11111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(611.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50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0: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5: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36111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36111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(4,568.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10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5: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10: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4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4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(747.5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5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10: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15: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777777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777777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(388.8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P (energy weighte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52.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70" name="TextBox 4"/>
          <p:cNvSpPr/>
          <p:nvPr/>
        </p:nvSpPr>
        <p:spPr>
          <a:xfrm>
            <a:off x="99720" y="4800600"/>
            <a:ext cx="869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method = RT SPP * ENERGY LONG = $252.62 * (25 )=  ($6,315.5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le every SCED interval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LONG*SCED LMP = (611.11) + (4,568.0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(747.50) +(388.89) = ($6,315.56) =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urrent settlement wrong for PTP OB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tlement point price based on energy weigh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cause SPP prices to diverge even when there is no congestion (slides 3 &amp; 4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uses payouts to PTP OPT and OBL holders even when there is no conges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payouts are not supported by Congestion Rent and may lead to RT Neutrality Uplif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89FACB38-C3D2-4601-A255-F2A43C724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tle 7"/>
          <p:cNvSpPr/>
          <p:nvPr/>
        </p:nvSpPr>
        <p:spPr>
          <a:xfrm>
            <a:off x="152280" y="0"/>
            <a:ext cx="89917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8001000" cy="4257720"/>
          </a:xfrm>
          <a:prstGeom prst="rect">
            <a:avLst/>
          </a:prstGeom>
          <a:ln w="0">
            <a:noFill/>
          </a:ln>
        </p:spPr>
      </p:pic>
      <p:sp>
        <p:nvSpPr>
          <p:cNvPr id="76" name="TextBox 5"/>
          <p:cNvSpPr/>
          <p:nvPr/>
        </p:nvSpPr>
        <p:spPr>
          <a:xfrm>
            <a:off x="211680" y="5562720"/>
            <a:ext cx="864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MW CRR from 3 to 4 would pay holder $1,241.60  (= {564.06-67.42} * 10 * 0.2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at 15 minute inter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ttle PTP OBL on Time Weighted SPP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hematically equivalent to settling each SCED interv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 the right answer without the significant system change needed to settle per SCED interv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04920" y="1066680"/>
          <a:ext cx="8458200" cy="2880000"/>
        </p:xfrm>
        <a:graphic>
          <a:graphicData uri="http://schemas.openxmlformats.org/drawingml/2006/table">
            <a:tbl>
              <a:tblPr/>
              <a:tblGrid>
                <a:gridCol w="1207800"/>
                <a:gridCol w="1382760"/>
                <a:gridCol w="1295640"/>
                <a:gridCol w="947520"/>
                <a:gridCol w="1208160"/>
                <a:gridCol w="1208160"/>
                <a:gridCol w="1208160"/>
              </a:tblGrid>
              <a:tr h="513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TLMP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rt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TLMP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ue of CRR evaluated over SCED in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1,00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0: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0: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1,00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               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                     50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0: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5: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50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               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                     10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5: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10: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10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               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                        5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10: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15: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5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               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67.4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          239.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564.0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239.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               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3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P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Weighted SPP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P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Weighted SPP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TP OBL value if evaluated over each SCED in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85800" y="4419720"/>
          <a:ext cx="6095880" cy="17524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yment to PTP OBL Hol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 of calc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                               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ed over each SCED then summed (ide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                  1,241.5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ed based on energy weighted SPP (curren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                               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ed based on time weighted SPP (propose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urrent Settlement not ideal for Real-Time Imbalanc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Ideal  = Compliant with protocols, but not matching “per SCED run” ide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e settling DAM award/schedule based on time weighted SPP but Real Time generation/load based on energy weighted SP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hematically equivalent to settling each SCED interv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 the right answer without the significant system change needed to settle per SCED interv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posed method matches per SC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76320" y="4419720"/>
            <a:ext cx="9067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method = RT SPP * ENERGY LONG = $252.62 * (25-25 )=  ($0.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tle every SCED interval 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RGY LONG*SCED LMP = (0) + (415.28) + 83.06+ 0 = ($332.2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tle DAM award on time weighted SPP and Energy production on energy weighted S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25 * $239.33 – 25 * $252.62 = ($332.2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600200"/>
          <a:ext cx="8229600" cy="279396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</a:tblGrid>
              <a:tr h="51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TLMP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rt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y Oblig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y "Production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y Long (+)/ Energy Short (-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 SCED Energy imbalance char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1,00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0: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0: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11111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11111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50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0: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5: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3055555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36111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305555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(415.2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10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5: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10: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3055555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4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8305555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83.0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5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10: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15: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777777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777777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Weighted SP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39.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y Weighted SP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52.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S NPRR326 Discuss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600" y="838080"/>
            <a:ext cx="854712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inder/definition of the issue being resolved with NPRR32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idence of the issue becoming a larger problem over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endix of detailed example from CMWG in Janu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Reminder of the issue being addressed in NPRR326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838080"/>
            <a:ext cx="85471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l-Time Settlement Point prices are influenced by energy weigh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has caused RT-SPPs to separate even when there is no congestion  (examp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PRR326 would remove MW weighting and make time-weighted average SPP = $50 for bo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1447920" y="2514600"/>
            <a:ext cx="62211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ssue Escalat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3360" y="685440"/>
            <a:ext cx="9080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idence of this probl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oretical concerns have materi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observable pattern is price separatio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ithin station in real-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SEs increasing bids into DAM to secure PtPObligation Bids where there is no conges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 procures PtPObligation at low cost or free $0 (no DAM price sepa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SE paid/charged  holding the PtP for the price separation in real-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 from previous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Concer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 perform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subscribed/unreasonable activity within sta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ds within station in excess of 10x output of entire 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M solution diverging and was at risk in early March, but ERCOT mitigating r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enue neutrality impacts of paying congestion 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3000" y="685440"/>
            <a:ext cx="87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nothing is done, energy weighting of RTSPPs will continue to create price separation in real-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SE positions (PtPObligations) can be purchased at little or no c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a station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any 2 settlement points where the energy weighting contributes to price movement/separation of a resource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 where this can be $10,000 at single station in a single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ly there are winners and losers at this point, but issue could become more predictable  (over time and coming into summer peak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commend market-focus and timely consideration of NPRR326 to address this design issu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96880" y="3047760"/>
            <a:ext cx="70992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ENDIX- Detailed example from January CMW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1CB3597E-09F0-41E4-81B8-C9A9F4C84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C00900C1-C35D-4E64-8239-8BAC22D21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tle 7"/>
          <p:cNvSpPr/>
          <p:nvPr/>
        </p:nvSpPr>
        <p:spPr>
          <a:xfrm>
            <a:off x="152280" y="0"/>
            <a:ext cx="89917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eal-Time LMP and SPP F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709560" y="1271520"/>
            <a:ext cx="772488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8499EBC0-A70E-44F7-B5B0-0CA339712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tle 7"/>
          <p:cNvSpPr/>
          <p:nvPr/>
        </p:nvSpPr>
        <p:spPr>
          <a:xfrm>
            <a:off x="152280" y="0"/>
            <a:ext cx="89917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eal-Time LMP and SPP F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80010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urrent Settlement Point Pric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ppropriate for settling energy produced in Real-Time where there was no obligation to produ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3:37:36Z</dcterms:created>
  <dc:creator/>
  <dc:description/>
  <dc:language>en-US</dc:language>
  <cp:lastModifiedBy>MMereness</cp:lastModifiedBy>
  <dcterms:modified xsi:type="dcterms:W3CDTF">2011-03-23T20:05:08Z</dcterms:modified>
  <cp:revision>1134</cp:revision>
  <dc:subject/>
  <dc:title>Texas Nodal Detailled Market Trials Planning Process 30 January 2007</dc:title>
</cp:coreProperties>
</file>