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CC6CBE99-458E-4878-9359-A57A60490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7746193-C6F2-4FF6-83FC-8DC6DB1D9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bserved impact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al-Time Settlement Point Pr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PRR326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24,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current method works for Energy payment if no DAM awar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25956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LM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"Production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Long (+)/ Energy Short (-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SCED Energy imbalance char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1,0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1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1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(611.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5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36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36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(4,568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1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(747.5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5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5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7777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7777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(388.8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P (energy weight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52.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70" name="TextBox 4"/>
          <p:cNvSpPr/>
          <p:nvPr/>
        </p:nvSpPr>
        <p:spPr>
          <a:xfrm>
            <a:off x="99720" y="4800600"/>
            <a:ext cx="86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ethod = RT SPP * ENERGY LONG = $252.62 * (25 )=  ($6,315.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 every SCED interval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LONG*SCED LMP = (611.11) + (4,568.0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(747.50) +(388.89) = ($6,315.56) =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urrent settlement wrong for PTP OB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tlement point price based on energy weigh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use SPP prices to diverge even when there is no congestion (slides 3 &amp; 4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ses payouts to PTP OPT and OBL holders even when there is no conges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payouts are not supported by Congestion Rent and may lead to RT Neutrality Upli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6161DDD-940C-4438-B8CC-E2D258324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le 7"/>
          <p:cNvSpPr/>
          <p:nvPr/>
        </p:nvSpPr>
        <p:spPr>
          <a:xfrm>
            <a:off x="152280" y="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001000" cy="4257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211680" y="5562720"/>
            <a:ext cx="86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MW CRR from 3 to 4 would pay holder $1,241.60  (= {564.06-67.42} * 10 * 0.2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at 15 minute inter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tle PTP OBL on Time Weighted SPP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ematically equivalent to settling each SCED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the right answer without the significant system change needed to settle per SCED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04920" y="1066680"/>
          <a:ext cx="8458200" cy="2880000"/>
        </p:xfrm>
        <a:graphic>
          <a:graphicData uri="http://schemas.openxmlformats.org/drawingml/2006/table">
            <a:tbl>
              <a:tblPr/>
              <a:tblGrid>
                <a:gridCol w="1207800"/>
                <a:gridCol w="1382760"/>
                <a:gridCol w="1295640"/>
                <a:gridCol w="947520"/>
                <a:gridCol w="1208160"/>
                <a:gridCol w="1208160"/>
                <a:gridCol w="1208160"/>
              </a:tblGrid>
              <a:tr h="51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LM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LMP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of CRR evaluated over SCED in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1,0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1,0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   5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5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   1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1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      5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5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5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67.4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239.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564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239.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Weighted SP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P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Weighted SPP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TP OBL value if evaluated over each SCED in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4419720"/>
          <a:ext cx="6095880" cy="17524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ment to PTP OBL Ho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 of calc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d over each SCED then summed (ide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1,241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d based on energy weighted SPP (curr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d based on time weighted SPP (propos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urrent Settlement not ideal for Real-Time Imbalan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Ideal  = Compliant with protocols, but not matching “per SCED run” ide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 settling DAM award/schedule based on time weighted SPP but Real Time generation/load based on energy weighted SP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ematically equivalent to settling each SCED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the right answer without the significant system change needed to settle per SCED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posed method matches per SC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76320" y="4419720"/>
            <a:ext cx="9067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method = RT SPP * ENERGY LONG = $252.62 * (25-25 )=  ($0.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le every SCED interval 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LONG*SCED LMP = (0) + (415.28) + 83.06+ 0 = ($332.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le DAM award on time weighted SPP and Energy production on energy weighted S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25 * $239.33 – 25 * $252.62 = ($332.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27939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51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LM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Oblig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"Production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Long (+)/ Energy Short (-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SCED Energy imbalance char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1,0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1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1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5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05555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36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30555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(415.2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1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05555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30555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83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5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5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7777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7777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Weighted SP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39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Weighted SP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52.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S NPRR326 Discuss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838080"/>
            <a:ext cx="854712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inder/definition of the issue being resolved with NPRR32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dence of the issue becoming a larger problem over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ndix of detailed example from CMWG in Janu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Reminder of the issue being addressed in NPRR326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838080"/>
            <a:ext cx="85471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-Time Settlement Point prices are influenced by energy weigh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has caused RT-SPPs to separate even when there is no congestion  (examp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RR326 would remove MW weighting and make time-weighted average SPP = $50 for bo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2211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ssue Escalat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3360" y="685440"/>
            <a:ext cx="9080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idence of this probl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etical concerns have mater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observable pattern is price separa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ithin station in real-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SEs increasing bids into DAM to secure PtPObligation Bids where there is no cong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procures PtPObligation at low cost or free $0 (no DAM price sepa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SE paid/charged  holding the PtP for the price separation in real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from previous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Conce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subscribed/unreasonable activity within st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ds within station in excess of 10x output of entire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M solution diverging and was at risk in early March, but ERCOT mitigating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nue neutrality impacts of paying congestion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3000" y="685440"/>
            <a:ext cx="87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thing is done, energy weighting of RTSPPs will continue to create price separation in real-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SE positions (PtPObligations) can be purchased at little or no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a station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any 2 settlement points where the energy weighting contributes to price movement/separation of a resourc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where this can be $10,000 at single station in a singl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there are winners and losers at this point, but issue could become more predictable  (over time and coming into summer pea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commend market-focus and timely consideration of NPRR326 to address this design issu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6880" y="3047760"/>
            <a:ext cx="70992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NDIX- Detailed example from January CMW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3175671B-9908-400A-9BB7-6BA6089BA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FD92F75-05E1-4DF5-A930-E86BDD392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7"/>
          <p:cNvSpPr/>
          <p:nvPr/>
        </p:nvSpPr>
        <p:spPr>
          <a:xfrm>
            <a:off x="152280" y="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al-Time LMP and SPP F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709560" y="1271520"/>
            <a:ext cx="77248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B3DA5EF-9C6B-4F95-BDC3-ADD8839D0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7"/>
          <p:cNvSpPr/>
          <p:nvPr/>
        </p:nvSpPr>
        <p:spPr>
          <a:xfrm>
            <a:off x="152280" y="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al-Time LMP and SPP F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001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urrent Settlement Point Pric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ppropriate for settling energy produced in Real-Time where there was no obligation to produ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37:36Z</dcterms:created>
  <dc:creator/>
  <dc:description/>
  <dc:language>en-US</dc:language>
  <cp:lastModifiedBy>MMereness</cp:lastModifiedBy>
  <dcterms:modified xsi:type="dcterms:W3CDTF">2011-03-23T20:05:08Z</dcterms:modified>
  <cp:revision>1134</cp:revision>
  <dc:subject/>
  <dc:title>Texas Nodal Detailled Market Trials Planning Process 30 January 2007</dc:title>
</cp:coreProperties>
</file>