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254-186D-46D9-AEEF-C8A5DC93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D350-4112-46A6-AE30-D91C9AB4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B23-6490-4DF1-BE0D-83F894EA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2EC-CDCD-4AF3-9AE4-BF7B6B0D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ED2-D2A1-4DE0-A939-DAFE53F7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6CB-22B0-4BD1-B9B5-0923D57C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FDB-548D-4A19-8ECF-4BD07BBF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8B9-CFAA-40A5-8F43-1D88E4D1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AD8-9DD6-4C88-B564-76635094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EB5-A5FC-4A41-B2E2-23546E1D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304-F643-4715-AB6B-93B2A9B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169-E2F0-4EEC-A4B0-FB4CFE13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6D7-463E-4AED-B0D9-E1B9B035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F21-B1A6-446D-968F-8322727D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F5E0-802E-48AF-A64B-593E9D11E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/9/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/ Collateral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51120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dal Total Potential Exposure reported by ERCOT as of 1/31/11 remains less than Zonal Estimated Aggregate Liability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b050"/>
                </a:solidFill>
                <a:latin typeface="Calibri"/>
              </a:rPr>
              <a:t>(TPE = ↓27% since 10/31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llateral Posted has increased since 10/3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sh/LOCs </a:t>
            </a: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↑22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uarantees </a:t>
            </a: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↑1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t Impact – Secured MPs are posting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6.2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PE vs. 2.0x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nsecured Credit Limits have increas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llar % ∆ = </a:t>
            </a: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↑22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[Dollar / CPTY] ∆ = </a:t>
            </a: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↑19.6MM from $13.2M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MPs </a:t>
            </a: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↑+6 from 2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te – Exposure reported does not include DAM Credit Exposure nor CRR Auction Credit Exposure as calculated in Section 4 and 7 of the Protoco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457200" y="6400800"/>
            <a:ext cx="822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Finance And Audit Committee Meeting Material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ERCOT Market Credit Statu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Sept 2010 – February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7"/>
          <p:cNvSpPr/>
          <p:nvPr/>
        </p:nvSpPr>
        <p:spPr>
          <a:xfrm>
            <a:off x="3429000" y="1447920"/>
            <a:ext cx="0" cy="4876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9"/>
          <p:cNvSpPr/>
          <p:nvPr/>
        </p:nvSpPr>
        <p:spPr>
          <a:xfrm>
            <a:off x="3505320" y="3733920"/>
            <a:ext cx="5333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hart 13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5181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11 Status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371600"/>
          <a:ext cx="8229600" cy="53578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1218960"/>
                <a:gridCol w="2819520"/>
              </a:tblGrid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unsecured credit polic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of the unsecured credit c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DAM Credit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if PTP Obligations can be offset with CR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Progress – TAC Vote 3/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M Core Sys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ghten invoice timelines and collateral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Progress – ERCOT assessing OD+9 or OD+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M Core Sys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ine adequacy of collateral held for forward 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Progress – MCWG reviewing options to  decrease the default 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unsecured credit polic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ine Form of LCs and guarante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Progress – Chad Seely to circulate 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ting/Mutua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alternatives to First Priority Secured Interest agre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ime for balance of year or annual a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MM Core Sys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ine FCE calcul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ime for balance of year or annual a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R Auction Credit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ine Initial Margin (A&amp;M) and Collateralization of purchase pr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time for balance of year or annual a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-DAM Credit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e-factors or replacement for e-fac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unsecured credit polic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arison to best practic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ew Investment Pract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 changes to current investment pract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unsecured credit polic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ve review of unsecured credit 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6" descr=""/>
          <p:cNvPicPr/>
          <p:nvPr/>
        </p:nvPicPr>
        <p:blipFill>
          <a:blip r:embed="rId1"/>
          <a:stretch/>
        </p:blipFill>
        <p:spPr>
          <a:xfrm>
            <a:off x="3575160" y="1447920"/>
            <a:ext cx="5111640" cy="4678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l Time Invoicing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wo options are being conside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oice 10 days after the Operating D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oice 9 days after the Operating D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efit to be evaluat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duce working capital at risk by reducing ADTE multip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duce unbilled risk  with comparable contractions in unsecured risk lim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further evaluation at an undetermined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oicing consolidated by Operating Date (net DAM and R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rther reducing the Real Time statement / invoicing cyc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5"/>
          <p:cNvSpPr/>
          <p:nvPr/>
        </p:nvSpPr>
        <p:spPr>
          <a:xfrm>
            <a:off x="3505320" y="1447920"/>
            <a:ext cx="0" cy="4876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8"/>
          <p:cNvSpPr/>
          <p:nvPr/>
        </p:nvSpPr>
        <p:spPr>
          <a:xfrm flipV="1">
            <a:off x="6324480" y="2437920"/>
            <a:ext cx="0" cy="3581640"/>
          </a:xfrm>
          <a:prstGeom prst="line">
            <a:avLst/>
          </a:prstGeom>
          <a:ln w="316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Callout 2 (Border and Accent Bar) 9"/>
          <p:cNvSpPr/>
          <p:nvPr/>
        </p:nvSpPr>
        <p:spPr>
          <a:xfrm>
            <a:off x="6934320" y="2971800"/>
            <a:ext cx="1218960" cy="533520"/>
          </a:xfr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verage ≈ 6.5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0"/>
          <p:cNvGrpSpPr/>
          <p:nvPr/>
        </p:nvGrpSpPr>
        <p:grpSpPr>
          <a:xfrm>
            <a:off x="3576600" y="3200400"/>
            <a:ext cx="5108760" cy="568440"/>
            <a:chOff x="3576600" y="3200400"/>
            <a:chExt cx="5108760" cy="568440"/>
          </a:xfrm>
        </p:grpSpPr>
        <p:sp>
          <p:nvSpPr>
            <p:cNvPr id="66" name="Freeform 31"/>
            <p:cNvSpPr/>
            <p:nvPr/>
          </p:nvSpPr>
          <p:spPr>
            <a:xfrm>
              <a:off x="3576600" y="3215880"/>
              <a:ext cx="1380600" cy="5529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00" rIns="29196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Margin C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2"/>
            <p:cNvSpPr/>
            <p:nvPr/>
          </p:nvSpPr>
          <p:spPr>
            <a:xfrm>
              <a:off x="4819320" y="3200400"/>
              <a:ext cx="1380600" cy="5529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00" rIns="29196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Weekend R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3"/>
            <p:cNvSpPr/>
            <p:nvPr/>
          </p:nvSpPr>
          <p:spPr>
            <a:xfrm>
              <a:off x="6062040" y="3200400"/>
              <a:ext cx="1380600" cy="5529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00" rIns="29196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ure Peri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>
              <a:off x="7304760" y="3200400"/>
              <a:ext cx="1380600" cy="55296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00" rIns="29196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Mass Transition Ris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ault Risk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527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CWG is evaluating the risk associated with permitting a market participant 4 days to cure a financial obligation related to a margin cal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ustry Best Pract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JM &amp; NYISO currently only provide 2 days to c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RC is requiring all ISOs/RTOs to adopt a 2 day cure limi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ducing the cure period risk associated with a margin call may also provide for an opportunity to decrease the ADTE multi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roximately +50% of the ADTE multiple covers future exposure (20-26 day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3505320" y="1447920"/>
            <a:ext cx="0" cy="4876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81280" y="3805200"/>
            <a:ext cx="106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2 Bank Business Days to post financial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6095880" y="3805200"/>
            <a:ext cx="1067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2 Bank Business Days to cure a “Payment Brea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4724280" y="3805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on Bank Business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3657600" y="236232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s 16.1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6095880" y="236232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s 16.1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7238880" y="2286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Market Guide, Section 7.11, 9F2, 9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9"/>
          <p:cNvSpPr/>
          <p:nvPr/>
        </p:nvSpPr>
        <p:spPr>
          <a:xfrm>
            <a:off x="3657600" y="2286000"/>
            <a:ext cx="5105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Diagram 20" descr=""/>
          <p:cNvPicPr/>
          <p:nvPr/>
        </p:nvPicPr>
        <p:blipFill>
          <a:blip r:embed="rId1"/>
          <a:stretch/>
        </p:blipFill>
        <p:spPr>
          <a:xfrm>
            <a:off x="3621240" y="1828800"/>
            <a:ext cx="5162400" cy="426960"/>
          </a:xfrm>
          <a:prstGeom prst="rect">
            <a:avLst/>
          </a:prstGeom>
          <a:ln w="0">
            <a:noFill/>
          </a:ln>
        </p:spPr>
      </p:pic>
      <p:sp>
        <p:nvSpPr>
          <p:cNvPr id="81" name="Title 1"/>
          <p:cNvSpPr/>
          <p:nvPr/>
        </p:nvSpPr>
        <p:spPr>
          <a:xfrm>
            <a:off x="3581280" y="1219320"/>
            <a:ext cx="5029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ss Transition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7"/>
          <p:cNvSpPr/>
          <p:nvPr/>
        </p:nvSpPr>
        <p:spPr>
          <a:xfrm>
            <a:off x="3505320" y="5024520"/>
            <a:ext cx="5486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3733920" y="51055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ing 2 days from the cure period reduces the default uplift timeline associated with a mass transition by 2.8 days on a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36"/>
          <p:cNvSpPr/>
          <p:nvPr/>
        </p:nvSpPr>
        <p:spPr>
          <a:xfrm>
            <a:off x="7315200" y="3784680"/>
            <a:ext cx="0" cy="177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7315200" y="3962520"/>
            <a:ext cx="1523880" cy="1006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0 CPT Default confirmed &amp; Mass Transition Notification e-mail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l Time Load Estim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21 SEWG Meeting 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WG requested SEWG to assist in improving the load estimates used to equate real time imbalance values before a statement is produ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is evaluating the following potential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= Load ratio share from 2 weeks pr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d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ofile data that has been adjusted for actual wea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state estimator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will be provided at next SEWG Meeting on 3/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R Auction Credit 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dit improvements for the balance of term auction have not been iden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ting/Mutuality Solu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 municipalities an AR lien exemption to obtain n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establish a Central Counterparty (PJM &amp; FERC Solu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Party Cle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/18 CRR Credit Subcommittee Results – Brainstorm yet to be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ositive Attribu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raint based on cleared MWhs, auction credit limit tools, use of unsecured credit, FCE daily calc with inventory up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e Au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ecrease collateral on negative bids , shorten credit lock down period , schedule around other ISO annual auctions , calculate max exposure or use shadow price as the price in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e &amp; Post Au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ath/term specific risk adders, increase frequency of auctions &amp; use ACP in MTM, revise settlement schedule, outsource to 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ty, unsecured credit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RR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PRR 32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Minimum PTP Option Bids and CRR Auction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PRR 3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Correct DAM Credit Exposure Language and Enable Qualified Expiring CRRs to Offset PTP Bid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pcoming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/10 – CWG/MCWG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 Voting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review of default timeline &amp; forward expo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/TBD – Next CRR subcommittee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brainstorming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/30 – Joint MCWG/CWG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da not yet determ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9:19:22Z</dcterms:created>
  <dc:creator>XJSV</dc:creator>
  <dc:description/>
  <dc:language>en-US</dc:language>
  <cp:lastModifiedBy>Kelly P. Landry</cp:lastModifiedBy>
  <dcterms:modified xsi:type="dcterms:W3CDTF">2011-02-28T22:03:44Z</dcterms:modified>
  <cp:revision>54</cp:revision>
  <dc:subject/>
  <dc:title>MCWG Update to WMS</dc:title>
</cp:coreProperties>
</file>