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0D5-3FB7-4B5C-B0A3-6856FA8B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41C-40F4-40DB-9452-922BF705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051-4E02-4BAC-BB78-14900D34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430-2B63-4B1A-8B2B-DD54749A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846-1D9A-4CEE-973D-3329D4D3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E69-8C56-4877-A09F-811441A9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193-DC5F-4C5A-BF31-4F564AFD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459-BEA4-4672-AE79-0AD98833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9A2-BBDD-47E0-935A-6B8DB59E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CED-0BA0-47D8-A7F1-F3A94D8F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1E7-5C93-4A5F-872B-3A19E98D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342-1254-4EC8-BA99-342E2F0D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F3DC-23EE-4E13-B0C8-DCB6A53394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84BF-667C-4B2A-8323-163EF690D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ley Import Constra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mi Surend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28A4-2B39-4A36-918D-8F0669EAF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ley Import Constra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 of S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0.95 to -0.97 in valley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.03 to 0.45 outside valley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 competitive constraint and hence the Resources are moved based on offers capped by higher of  Reference LMP &amp; Mitigated Offer Cap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 case constraint and hence has a default Max Shadow Price of $5000/MW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11C6-98DC-466A-8AB3-CA0E4BE94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est Shadow Price when not violated is less than $100/MWh  (more than 28hrs after go live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raint cannot be resolved many times even with all the generation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uth LZ SPP when the constraint is violated ranges from $1500/MWh to $1850/MWh (roughly 15 hrs after go liv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 response in  majority of that load zone with the high price have no impact to the constrai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straint is manually handled after it has been violated for more than an hour in SCED (roughly 65 hrs after go liv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1857-848B-46EC-8FE9-E1C20F8DE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ential Long Term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transmission network to support load grow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Load Zone for Valley to encourage demand participation that has impact on the constra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CE70-AAB8-4C22-A497-DA3E7A44C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rt Term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duce Max Shadow Price and let the constraint be managed by SCED and provide price signal to encourage new generation development or load particip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ort from DC tie is limited during peak hou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mand participation would be less since the deployment would be for long hours and payments would be based on the South LZ SP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validate the limit calculations in planning and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DEB7-5F64-4D6B-8E75-3F5C8D3FE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Max Shadow Price - $350/MW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be able to move existing or new Resources to resolve constraint with out manual ac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ighest offer from a new resource with no verifiable cost that needs to be moved i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.5 * high FIP/ lowest SF = 14.5 *10 /0.95 ~ 1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ighest offer from a new resource with verifiable cost that needs be moved i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igh Heat Rate * High FIP + corresponding high O&amp;M) * highest multiplier/ lowest S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14 .5*10 + 75 )*1.5/0.95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~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50/MW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7DFD-0BAD-4FE4-A5B5-B72D1B84D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4:15:05Z</dcterms:created>
  <dc:creator>Resmi Surendran</dc:creator>
  <dc:description/>
  <dc:language>en-US</dc:language>
  <cp:lastModifiedBy>Kelly P. Landry</cp:lastModifiedBy>
  <dcterms:modified xsi:type="dcterms:W3CDTF">2011-03-07T19:48:02Z</dcterms:modified>
  <cp:revision>7</cp:revision>
  <dc:subject/>
  <dc:title>Valley Import Constraint</dc:title>
</cp:coreProperties>
</file>