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8FC-5FD2-4ADB-B929-542ECF49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CCD-F67C-47E9-9C30-74A4F44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073-F37F-4D60-B472-0ACA0B8A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D8F-DBA0-4555-A0D2-EE97FD71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D8E-C979-40D5-AC30-2CD3C1B8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F80-396B-4C99-A9AA-8924D151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E2C-7482-4566-B113-E060895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28E-7D18-4603-AF7E-9396BAF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E69-ADF6-41E2-8F60-203EC7F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216-BE74-4280-B65A-84D30BA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458-4888-40E3-9535-B53010B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3D4-DF62-4DB7-BD70-7FF21DB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D4C-E03B-4C47-BB84-BBFD0D77D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SWG Update to W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/9/201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SWG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drawingml/2006/table">
            <a:tbl>
              <a:tblPr/>
              <a:tblGrid>
                <a:gridCol w="316080"/>
                <a:gridCol w="2885760"/>
                <a:gridCol w="2746440"/>
                <a:gridCol w="736560"/>
                <a:gridCol w="774720"/>
                <a:gridCol w="947880"/>
                <a:gridCol w="736560"/>
              </a:tblGrid>
              <a:tr h="644400"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WG G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968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776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D Load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analysis of issues, Develop business requirements and a draft NP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3rd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Jack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P, Tim C, Jay Z,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c G, Mark S, Floy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CAISO RDRP and identify potential parallel effort that could take place in 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to DSWG on feasibility and sc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3rd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 Notice of Real Time Energy Pr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 potential solutions and report on feas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4th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Sm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ved to QST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784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 Issues (Functional Model WG, DADS, CIP Standards for UF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 and Report to DSW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4th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Watt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opportunity to deploy EILS via XML (or other electronic messag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issues, cost, timel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1st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820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Improv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Subgroup Report to the DSW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4th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erto Marin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3820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participation of small and midsize loads in ERCOT market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potential opportunities and any barriers to entry; Report to W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of 4th Qu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 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 H., Eric G, Tim C, ERCOT sta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604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e Load Participation issues with Nodal Market Implementation( e.g. NOM updates, outage impac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Issues, develop potential solutions and report to DSWG and W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Car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y Anne, Nelson, ERCOT sta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P and Price Responsive Load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and Presentation to the DSW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968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er to sometime in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9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8" descr="MCWB01372_0000[1]"/>
          <p:cNvPicPr/>
          <p:nvPr/>
        </p:nvPicPr>
        <p:blipFill>
          <a:blip r:embed="rId1"/>
          <a:stretch/>
        </p:blipFill>
        <p:spPr>
          <a:xfrm>
            <a:off x="8534520" y="2438280"/>
            <a:ext cx="4572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r-May EILS Procu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28-hour event duration, EILS procured for Feb–May Contract Period cannot be re-deplo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ial performance statistics from ERCOT still 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seeks to procure additional EILS for Apr – M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on PUCT waiver of 90 day posting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process as normal Contract Period but with accelerated tim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 Resources in SCED (LR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 on 2/24/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d areas within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issues to resolve to meet 2011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meeting on 3/10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3520" y="1676520"/>
          <a:ext cx="8229600" cy="4081320"/>
        </p:xfrm>
        <a:graphic>
          <a:graphicData uri="http://schemas.openxmlformats.org/drawingml/2006/table">
            <a:tbl>
              <a:tblPr/>
              <a:tblGrid>
                <a:gridCol w="3962160"/>
                <a:gridCol w="1981440"/>
                <a:gridCol w="22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RIS Subgroup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30 am – 3:3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LS Sub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1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30 am – 3:3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SW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30 am – 3:30 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Reliant Austi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5 Congress Avenue, STE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th floor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in, TX 78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VP Eric G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SWG Meeting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37:31Z</dcterms:created>
  <dc:creator>e63371</dc:creator>
  <dc:description/>
  <dc:language>en-US</dc:language>
  <cp:lastModifiedBy>Kelly P. Landry</cp:lastModifiedBy>
  <dcterms:modified xsi:type="dcterms:W3CDTF">2011-03-08T16:55:09Z</dcterms:modified>
  <cp:revision>15</cp:revision>
  <dc:subject/>
  <dc:title>“Supplemental” EILS Procurement</dc:title>
</cp:coreProperties>
</file>