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B05-4DE7-4919-B791-ABDE3CF6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7E85-3130-4644-9364-0680A197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D3DA-C194-46A5-B5F1-E2D9FCFD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8E01-FAFB-4064-931A-325E6A1E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FB84-D7EB-419F-A5D5-DE72F773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BC58-4646-4C97-8C73-735A24B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ECDA-3343-4310-A612-6AFBB8B8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EFC3-AEA1-4C60-A27C-7FBCD421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AB30-648A-46B4-9788-66EEA097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D595-544E-4CA9-BB87-3C0279E9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DBE2-F3C4-47A4-AAC8-C65726EBD2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B60-35CD-4E99-906E-C1F0F79F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40B2-A3DB-452F-AA27-61E99C7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31A5-7C97-45FF-A810-AFF1A2AB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EEB0-8557-4449-B770-012F6F0A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88E0-F482-4406-ABB5-998838E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254-9ACF-414A-B1C0-E3747358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07EF-B482-4BF5-9D0D-4557D1DE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117-9D2B-4121-90C0-3B58C841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2CA9-CD7C-4C8A-9D9D-60E8B18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26ED-34DC-48EB-B709-6686C9C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9524-6047-4034-845C-08A3785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34E-C18D-4C31-90F1-99FB56D3F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BE84-F59F-431E-ABBB-3CE822CF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2AC7-0B94-4493-A0B0-1A473B99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6E42-15C7-4C00-93F2-C1755BA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F6FF-25E2-4CE1-9FAF-F5B86F2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3DFB-08E0-4F1D-94B8-86ED773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D249-4575-48C8-8F0A-80BD5A0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46F5-64BF-4198-99C8-35DDB7E69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eadiness Seminar #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/28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1ACE-5938-4D63-A40B-997D3036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/2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Readiness Semina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F89-87E5-447A-9A15-4BCC14C9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196-C453-4F2C-AC09-E2C63D63D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371600" y="1905120"/>
            <a:ext cx="6981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iness Integr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371600" y="457200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9140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Not Recommended at Th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19 – Resolution of Alignment Items A33,A92,A106,A150 - TSPs Must Submit Outages for Resource Owned Equipment &amp; Clarification of Changes in Status of Transmission Element P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to implement greatly exceeds the offsetting labor savings achieved with this project  ($565k-$750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consider alternate approaches or combining with one or more relat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GRR050 – Resolution of Reporting Issues Related to NPRR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recommended at this time due to its connection to NPRR2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act Analysis Results – Phase 1 I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5228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tems Assessed in the Same Timeframe as Phas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85 – Generation Resource Base Point Deviation Charge Cor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. Cost = $30k-$40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livery = Jun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ing to expedite the curtailment flag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 approved in February – will be considered by the Board in 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90 – ERCOT Publication of DAM PSS/E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. Cost = $15k-$25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livery = August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02 – Correct Fuel Type Language for Mitigated Offer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. Cost = &lt;$5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livery =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approved in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03 – Requirement to Post PTP Options Quantities Cleared in DAM or Taken to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. Cost = $10k-$15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livery = Jul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2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ed Default Uplift In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. Cost = $45k-$65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Delivery = Sept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formation only ite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this is the automation of existing Protoco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59 – acLineSegment Name Length Increase in Information Model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ly combined with SCR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60 – Recommended Changes Needed for Information Model Manager and Topology Processor for Planning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d Cost = $1.9M-$2.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act Analysis Results – Additional Phase 1 I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Prioritiz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8377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3 of Parking Deck IAs and CB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31: Ancillary Service Trades with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move from Phase 3 to TBD based on outcome of a revision that is being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81: FIP Definition Re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07: Unit De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22: Half-Hour Start Unit RUC Claw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57: Synchronization with Nodal Operating Guide Section 9, Monitoring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complexity, IA/CBA development might not finish until 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58: Sync with PRR824 and PRR833 and Additional Clar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60: Providing Access to MIS Secure Area to MIS Registered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72: Definition and Participation of Quick Start Generation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GRR034: Rescind Telemetry Performance Calculation Exclu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/M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A/CBA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endo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AC and Board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Prioritiz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880" y="8377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4 – Final Phase of Parking Deck IAs and CB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46: ICCP Telemetry Information Submit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53: Generation Resource Fixed Quantity Block O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/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A/CBA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endo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AC and Board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164: Resubmitting Ancillary Service Offers in SA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ding resolution of NPRR3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uld conclude the Impact Analysis and CBA development of the Board-approved Parking Deck i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ortfol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3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 of Parking Deck Impact Assess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s for Assigning Items to the IA Pha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 Res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8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3 I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4 I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usiness Integration Update – 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3/7/201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ject Portfolio – as of 3/7/201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39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and New NPRR/SCR Prioritiz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8377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2 of Parking Deck IAs and CB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10: Wind Forecasting Change to P50, Sync with PRR8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40: Proxy Energy Offer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41: Aggregate Incremental Liability (AIL) Calculation and Credit Reports Publis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44: Clarification of Other Bi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56: Sync Nodal Protocols with PRR787, Add Non-Compliance Language to Q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55: ERCOT.com Website Enhanc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/M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A/CBA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endo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AC and Board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371600" y="1905120"/>
            <a:ext cx="6400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pend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Determining Placement of a Parking Deck Item in the Impact Assessmen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75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ived impact on reliability and the market based on our experience since Nodal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75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sources to Conduct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75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Placement in Releas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604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begins Q3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8604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expected in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ies with Other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Manual Worka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1920" y="-3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Prioritization – Guidelin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rking Deck Prioritiz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ase 1 – First Phase of Impact Analysis &amp; Cost Benefit Analys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08: Registration and Settlement of Distributed Generation (DG) Less Than One M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19: TSPs Must Submit Outages for Resource Owned Equipment and Clarification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s in Status of Transmission Element Pos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NOGRR050: Resolution of Reporting Issues Related to NPRR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21: Day-Ahead Market and Real-Time Market Default Allocation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51: Synchronization of PRR845, Definition for IDR Meters and Optional Removal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R Meters at a Premise Where an Advanced Meter Can be Provisio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82: Dynamic Ramp Rates Use in S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PRR285: Generation Resource Base Point Deviation Charge Corre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90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Publication of DAM PSS/E F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293: Requirement to Post PTP Obligation Quantities Awarded in D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02: Correct Fuel Type Language for Mitigated Offer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RR303: Requirement to Post PTP Options Cleared in DAM or Taken to 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760: Recommended Changes Needed for Information Model Manager and Topolog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r for Planning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CR759: acLineSegment Name Length Increase in Information Model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/Janu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A/CBA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 subcommittee endo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AC and Board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943600" y="5029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PRR285 will go to TAC in February.  If the Board approves, ERCOT will seek to expedite the implementation of the curtailment flag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52280" y="9140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 Implementation Recomm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08 – Registration &amp; Settlement of Distributed Generation (DG) Less Than 1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. Cost = $5k-$10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Delivery = September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50 day notice requi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5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 PRR845, Definition for IDR Meters and Optional Removal of ID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s at a Premise Where an Advanced Meter Can be Provisio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. Cost = $30k-$50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Delivery = Jun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82 – Dynamic Ramp Rates Use in S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. Cost = $30k-$35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Delivery = Jun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R293 – Requirement to Post PTP Obligation Quantities Awarded in 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. Cost = $12k-$15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Delivery = May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act Analysis Results – Phase 1 I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elly P. Landry</cp:lastModifiedBy>
  <dcterms:modified xsi:type="dcterms:W3CDTF">2011-03-08T17:56:49Z</dcterms:modified>
  <cp:revision>465</cp:revision>
  <dc:subject/>
  <dc:title>Instructions</dc:title>
</cp:coreProperties>
</file>