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878-AD97-4AF6-9F10-142430F3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17B-E126-4664-8564-A564F5FA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193-1DC5-436E-BD6E-756FC79A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A32-00E8-4C8B-92C8-C11AF535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526-9666-4712-81A2-D95AE68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AA9-8BE5-4830-8E49-23EAA1F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104-8A5C-469C-9C25-AB7D317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BCC-E675-4617-AFDE-867B4AC7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6BB-5246-4B3E-9B9F-7B8E9B6D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8FD-8D4E-4A80-8DF7-44DEA01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496-DABC-4CB2-9232-8EBB3E1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E4A-6E3A-483D-830D-990F85CC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3C3-BA7A-4955-ABCB-A10756DD6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WG Update to W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9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/11 CMWG/PL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vided a review of economic planning fundamen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al Impact Test:  the increase in the societal surplus (equal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ction in production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ue to a project must exceed the incremental cost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Impact Test:  the increase in consumer surplus (equal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duction in generator reven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ue to a project must exceed the incremental cost of the pro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minant provided materials to encourage discussion on the consumer benefit vs societal benefi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bout technicalities of modeling (less about whether existing societal/consumer impact test are appropriate, more about how to potentially refine existing processes that feed into the deter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WG/PLWG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the following/and any others—determine if these should be used in the analysis, if so why/why not, and potentially how to d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or Short-Term Outages and De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or Schedules of Ancilla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of Key Transmission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Price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s Rul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meeting not yet schedu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MWG not discu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P Options in the Day Ahea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not able to conduct the back cast—so issue is out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R Clear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upgrades to HW/SW and protocols changes mitigated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Time SPP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6:27:30Z</dcterms:created>
  <dc:creator>PDMAW</dc:creator>
  <dc:description/>
  <dc:language>en-US</dc:language>
  <cp:lastModifiedBy>PDMAW</cp:lastModifiedBy>
  <dcterms:modified xsi:type="dcterms:W3CDTF">2011-03-09T04:00:33Z</dcterms:modified>
  <cp:revision>14</cp:revision>
  <dc:subject/>
  <dc:title>CMWG Update to WMS</dc:title>
</cp:coreProperties>
</file>