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795C-386C-455E-B2CE-6D4415730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9DDE-0345-40B2-9551-EAC219829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F7AC-7242-46F0-8DAB-B17C6A311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7277-3527-42CB-9FB0-87E2EC2CC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5E3D-6043-49CF-B73D-45D4419E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3F66-A341-4EA2-AC5E-4C129FCB2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26A5C-7798-405A-9DB9-1EC94995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A12F9-85EA-4B79-A6DF-D39C0E4B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2ABD-65A8-4770-B9C6-81B8D109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B2F2E-4101-4D94-A764-EDEFA960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D3981-93A3-4E79-A368-EE6A5BA1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2FE1D-74B1-48D2-94BD-6F21A87D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48B8E-E32E-48B5-9C46-5C8A4323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F54A-8D35-41A5-8F8F-CF702B08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9396-F3E3-43D4-A638-07878BFA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F512-6EBD-4674-A1D4-57C4366F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2C3C-17DF-41EF-9DE9-406290CA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5E43-E1B7-4CC4-98CF-5E1A0CC87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EEEA-624D-405E-9DC4-27FC569F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/3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Kyle Patri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MS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S approved Parking Deck Priority L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MS discussed the 2/2/2011 Winter Sto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0 Market Coordination T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going into initialization in J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anticipated Q2 or Q3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CT AMIT Pro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uraging engagement from 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ing action items from A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d updates to working group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4100-2A8D-4512-B44A-683533933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4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33520" y="1052640"/>
          <a:ext cx="7924680" cy="475128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ing the Competitive Metering Guide to the Retail Market Gui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tail Market Guide Revision Request (RMGRR) incorporates the Competitive Metering Guide (CMG) into the RMG and will dissolve the Competitive Metering Guide upon implementation of this RMGR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dorse and forward the 1/19/11 RMS Report and Impact Analysis for RMGRR094 to TA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ject required.  This Retail Market Guide Revision Request (RMGRR) can take effect upon Technical Advisory Committee (TAC) approv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TAC Approv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5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33520" y="1052640"/>
          <a:ext cx="7924680" cy="454500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 Tampering Business Processes Clarific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MGRR provides clarification for the process that facilitates Market Participant compliance with P.U.C. Subst. R. 25.126, Adjustments Due to Non-Compliant Meters and Meter Tampering in Areas Where Customer Choice Has Been Introduced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dorse and forward the 1/19/11 RMS Report and Impact Analysis for RMGRR095 to TA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ject required.  This Retail Market Guide Revision Request (RMGRR) can take effect upon Technical Advisory Committee (TAC) approval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TAC Approv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6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33520" y="1052640"/>
          <a:ext cx="7924680" cy="5322600"/>
        </p:xfrm>
        <a:graphic>
          <a:graphicData uri="http://schemas.openxmlformats.org/drawingml/2006/table">
            <a:tbl>
              <a:tblPr/>
              <a:tblGrid>
                <a:gridCol w="2168280"/>
                <a:gridCol w="1451160"/>
                <a:gridCol w="430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Processes and Communications for Switch Holds Related to Deferred Payment Pl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Retail Market Guide Revision Request (RMGRR) creates Section 7.17 to provide a process that facilitates Market Participant compliance with P.U.C. Subst. R. 25.480, Bill Payment and Adjustments.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ubcommittee Acronym)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ndorse and forward the 1/19/11 RMS Recommendation Report and Impact Analysis for RMGRR096 to TAC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O Deter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roject required.  This Retail Market Guide Revision Request (RMGRR) can take effect upon Technical Advisory Committee (TAC) approva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on TAC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le is effective June 1, 2011.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762120" y="1600200"/>
            <a:ext cx="7619760" cy="419112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289548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4800600" y="1600200"/>
            <a:ext cx="0" cy="419112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762120" y="25146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762120" y="30481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"/>
          <p:cNvSpPr/>
          <p:nvPr/>
        </p:nvSpPr>
        <p:spPr>
          <a:xfrm>
            <a:off x="762120" y="35812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762120" y="411480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"/>
          <p:cNvSpPr/>
          <p:nvPr/>
        </p:nvSpPr>
        <p:spPr>
          <a:xfrm>
            <a:off x="762120" y="4648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2"/>
          <p:cNvSpPr/>
          <p:nvPr/>
        </p:nvSpPr>
        <p:spPr>
          <a:xfrm>
            <a:off x="762120" y="518148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849960" y="207000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em Review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5552640" y="199404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2978640" y="1944720"/>
            <a:ext cx="822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762120" y="5181480"/>
            <a:ext cx="2103480" cy="58068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Monitor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844560" y="2625840"/>
            <a:ext cx="87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46000" y="3159000"/>
            <a:ext cx="93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794880" y="3681360"/>
            <a:ext cx="202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uter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796680" y="4226040"/>
            <a:ext cx="210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794880" y="47592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id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3888000" y="1944720"/>
            <a:ext cx="83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4"/>
          <p:cNvSpPr/>
          <p:nvPr/>
        </p:nvSpPr>
        <p:spPr>
          <a:xfrm>
            <a:off x="3200400" y="31240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6"/>
          <p:cNvSpPr/>
          <p:nvPr/>
        </p:nvSpPr>
        <p:spPr>
          <a:xfrm>
            <a:off x="3200400" y="41911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8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33ef4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762120" y="5791320"/>
            <a:ext cx="7619760" cy="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0"/>
          <p:cNvSpPr/>
          <p:nvPr/>
        </p:nvSpPr>
        <p:spPr>
          <a:xfrm>
            <a:off x="3200400" y="52578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6"/>
          <p:cNvSpPr/>
          <p:nvPr/>
        </p:nvSpPr>
        <p:spPr>
          <a:xfrm>
            <a:off x="3200400" y="4724280"/>
            <a:ext cx="380880" cy="38124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1240"/>
              <a:gd name="textAreaBottom" fmla="*/ 291240 h 38124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>
            <a:off x="3200400" y="365760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3200400" y="2590920"/>
            <a:ext cx="380880" cy="380880"/>
          </a:xfrm>
          <a:custGeom>
            <a:avLst/>
            <a:gdLst>
              <a:gd name="textAreaLeft" fmla="*/ 117720 w 380880"/>
              <a:gd name="textAreaRight" fmla="*/ 263160 w 380880"/>
              <a:gd name="textAreaTop" fmla="*/ 145440 h 380880"/>
              <a:gd name="textAreaBottom" fmla="*/ 290880 h 380880"/>
            </a:gdLst>
            <a:ahLst/>
            <a:rect l="textAreaLeft" t="textAreaTop" r="textAreaRight" b="textAreaBottom"/>
            <a:pathLst>
              <a:path w="381000" h="381000">
                <a:moveTo>
                  <a:pt x="0" y="145529"/>
                </a:moveTo>
                <a:lnTo>
                  <a:pt x="145530" y="145530"/>
                </a:lnTo>
                <a:lnTo>
                  <a:pt x="190500" y="0"/>
                </a:lnTo>
                <a:lnTo>
                  <a:pt x="235470" y="145530"/>
                </a:lnTo>
                <a:lnTo>
                  <a:pt x="381000" y="145529"/>
                </a:lnTo>
                <a:lnTo>
                  <a:pt x="263263" y="235470"/>
                </a:lnTo>
                <a:lnTo>
                  <a:pt x="308236" y="380999"/>
                </a:lnTo>
                <a:lnTo>
                  <a:pt x="190500" y="291056"/>
                </a:lnTo>
                <a:lnTo>
                  <a:pt x="72764" y="380999"/>
                </a:lnTo>
                <a:lnTo>
                  <a:pt x="117737" y="23547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Voting Items: RMGRR0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kpatrick</cp:lastModifiedBy>
  <dcterms:modified xsi:type="dcterms:W3CDTF">2011-03-01T20:26:14Z</dcterms:modified>
  <cp:revision>113</cp:revision>
  <dc:subject/>
  <dc:title>Instructions</dc:title>
</cp:coreProperties>
</file>