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DBF73-2F62-4161-B558-B1172A5AC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7182C-082A-4C4F-8720-FD92CBB0C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D444EB-8F43-4337-B545-910052439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EE41F-5AE6-4BEC-B6FF-D80A5EA4E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46CB39-B47B-4BD5-A34C-831F743CE6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8D97B-8570-4243-AF9F-75205FE1E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1C74D-1A34-4A97-AA53-9E01E4FA7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F92CC-DA09-47BB-9CCB-0DFD5FA15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C67B0E-1609-473D-B061-73571D8E5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9142E3-054D-4CDB-9F57-772F163A1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8E73A3-8743-4F98-8772-80BC82BF4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9AA19-01D0-4C96-BA2E-3714CFF78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A4464-F464-4FEB-A6AD-85EB36FA0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9AB81-35A4-46AB-97DB-50085EC0E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1650F0-5A40-4232-9647-47FBF69C0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F0A8C-358E-4CC8-BCF1-2313E4E31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85566A-D9F6-446A-A26A-05A18E4D67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09D6E0C-E96E-47A8-929B-DD8AF21CE2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126C3D6-61C6-40A9-B2C0-011C5ABCFF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848BC64-FBC1-4D3B-B3FC-11C4261DD1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ADDC00-A139-4DC2-9E46-7F4981E288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B3D120D-819A-460C-BFF6-FAD5694804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D28C7-E260-4AD6-B08E-1617FEED0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F9DF5B0-5250-4EF7-920F-63C883FB04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1A37B6-3013-4E2C-B6E1-269B20C9B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1FF20E3-BF1F-4F4A-A21F-65BEEACA6A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C99714-CD24-462E-B352-2D993C7FF4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2D94061-D5DE-4EE3-87B5-F6590062DA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74760A6-4690-4DCB-8D99-C206C80D2E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092526F-CF4F-4FC4-AC3A-A55A230724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B90F06-A69D-43C0-B9FE-9D47FB2588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DA93CC-EFCF-4508-9D53-FEBA36961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511FB5-14B4-4667-A290-63F7FF064B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6103B-A1D7-4D80-81C3-06CEACD1A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87661D-6267-4BA0-9C03-3593FB3280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DA87B0-53C9-4F3C-945B-73B7958953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DEB97C-D49D-44E1-91CD-691ADEE174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0C873-6DA0-4563-8EA9-93CF6F0878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96F4C8-104D-4621-91C0-F2BF85661B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7347BA-D837-4A36-9D40-3FAE978A57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B0289F-EC69-444D-9ECF-C34988FAC3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2D732F-A647-4713-B513-5D70D06322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7E24E6-8908-4715-B926-438AC4DC5B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F483771-50B2-4B85-B382-3C6E83278D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B18A8-53B2-4D88-9B1C-28CB110FC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3E3B09C-D035-462C-A1AF-679E23F230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14E44CC-8DFF-4C15-96A0-C695262A18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28C1D75-8C7A-43B6-A216-2B15924A81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3C526AB-2552-4903-B636-21F053D5C8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29D9BA3-24FB-48A5-9596-8B343D97A2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47D1BA1-4CC6-4027-8B93-52A34F82AC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72E16B8-AA8F-4596-A422-7DF6F2F59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121BF14-3517-43D9-B176-6657679248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EB1AD66-3011-4793-BF95-E16FB23F0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96907B4-0CA0-44E0-BCB9-8ECF6DA890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E5958-05BD-4A24-90DD-F52DDED57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E6F4A53-89D9-45F6-B7BF-B0EA9554CC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E1D9B8D-07F8-4295-8CD0-93F112A048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B172BCE-1979-4426-9183-307D833A30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DAD408A-9FC4-4178-83AF-C07F91F662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D933336-76DF-4B70-8797-9681C4FF18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80766B4-ADD2-4B65-A119-A30546A12C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39D7743-0E67-4FE9-916D-27A18B13C0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58270A8-D75B-4408-8B02-6F52B78B1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D5A6F85-8794-44BF-89E9-8A936B1015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037A84E-33AF-4374-AC4A-F0F6BB0C5D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800D4-EC95-4656-A3A8-9E6EBB96C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124FAB5-4277-4631-AAA2-BB53296666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F3DF442-09E5-4B24-B826-2292EFCA656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0B52967-A2A5-47E8-AB2A-F03D6E0971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40B16A9-FFE9-4836-94D3-58F23DB3FA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F1DABE5-4F4D-4827-88E4-C3A628666B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970072B-29A2-4A48-BF4D-C77CBD667A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93A4385-8EC6-4F92-9525-736EDD69E7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AA45894-090E-41A5-B343-F227841EB2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36ACF62-6F66-4718-A51F-61347D25D3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39E6A95-0769-40A4-B389-E34D23F99A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2DCC6-3968-4093-8707-F3B0063BC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7292307-5778-40E2-B54C-42A3AB3C0F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EE19B0F-6C0F-4F03-B08F-3BA42DA74A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5B750B8-4D1A-441D-9D75-5A15012F18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7DB9346-3CD2-4EBB-BC2F-E8FED60995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B13A153-036D-4F34-81F3-34FD009555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3EE57-0829-4C45-B364-62BFA7E84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9720-CF29-4037-8D79-B9719B1EC58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71CD-FB5E-4011-9CE6-39C321AB02B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1080-42C3-456C-8620-1C7DB94A1D7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6ecff"/>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607C-CCB2-431D-8F20-C7A0DFF8433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9AAE4-952C-4360-B0F5-0FB1E6EB19F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0048A-5032-471D-B2AC-1988F33A4523}"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e5b6f"/>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e5b6f"/>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0AF4-F2CF-487E-8987-CFE12115899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rcot.com/content/meetings/board/keydocs/2011/0214/Review_of_February_2,_2011_EEA_Event.pdf"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980720" y="1828440"/>
            <a:ext cx="6629400" cy="2133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e5b6f"/>
                </a:solidFill>
                <a:latin typeface="Calibri"/>
              </a:rPr>
              <a:t>DISCUSSION POINTS FROM THE PWG MONTHLY CALL REGARDING ADJUSTMENT OF LOAD PROFILES FOR</a:t>
            </a:r>
            <a:br>
              <a:rPr sz="2700"/>
            </a:br>
            <a:r>
              <a:rPr b="1" lang="en-US" sz="2700" spc="-1" strike="noStrike">
                <a:solidFill>
                  <a:srgbClr val="4e5b6f"/>
                </a:solidFill>
                <a:latin typeface="Calibri"/>
              </a:rPr>
              <a:t>THE RECENT COLD WEATHER EVENT</a:t>
            </a:r>
            <a:br>
              <a:rPr sz="2700"/>
            </a:br>
            <a:r>
              <a:rPr b="1" lang="en-US" sz="2700" spc="-1" strike="noStrike">
                <a:solidFill>
                  <a:srgbClr val="4e5b6f"/>
                </a:solidFill>
                <a:latin typeface="Calibri"/>
              </a:rPr>
              <a:t> </a:t>
            </a:r>
            <a:br>
              <a:rPr sz="2700"/>
            </a:br>
            <a:r>
              <a:rPr b="1" lang="en-US" sz="2700" spc="-1" strike="noStrike">
                <a:solidFill>
                  <a:srgbClr val="4e5b6f"/>
                </a:solidFill>
                <a:latin typeface="Calibri"/>
              </a:rPr>
              <a:t>FEBRUARY 23, 2011</a:t>
            </a:r>
            <a:endParaRPr b="0" lang="en-US" sz="2700" spc="-1" strike="noStrike">
              <a:solidFill>
                <a:srgbClr val="4e5b6f"/>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609480" y="533160"/>
            <a:ext cx="7467840" cy="5940360"/>
          </a:xfrm>
          <a:prstGeom prst="rect">
            <a:avLst/>
          </a:prstGeom>
          <a:noFill/>
          <a:ln w="0">
            <a:noFill/>
          </a:ln>
        </p:spPr>
        <p:txBody>
          <a:bodyPr anchor="t">
            <a:normAutofit/>
          </a:bodyPr>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iscussions following Hurricane Rita resulted in load profiles not being adjusted because, after the fact, the mix of those so-called winners and losers would change.</a:t>
            </a:r>
            <a:endParaRPr b="0" lang="en-US" sz="2200" spc="-1" strike="noStrike">
              <a:solidFill>
                <a:srgbClr val="000000"/>
              </a:solidFill>
              <a:latin typeface="Century Schoolbook"/>
            </a:endParaRPr>
          </a:p>
          <a:p>
            <a:pPr marL="272880" indent="-2728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	</a:t>
            </a:r>
            <a:r>
              <a:rPr b="0" lang="en-US" sz="2200" spc="-1" strike="noStrike">
                <a:solidFill>
                  <a:srgbClr val="000000"/>
                </a:solidFill>
                <a:latin typeface="Calibri"/>
                <a:ea typeface="Arial"/>
              </a:rPr>
              <a:t>Plus there was no prior notice of adjustments so forecasts, hedging and supply schedules could be planned in the forward position.</a:t>
            </a:r>
            <a:endParaRPr b="0" lang="en-US" sz="2200" spc="-1" strike="noStrike">
              <a:solidFill>
                <a:srgbClr val="000000"/>
              </a:solidFill>
              <a:latin typeface="Century Schoolbook"/>
            </a:endParaRPr>
          </a:p>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Load profiles were adjusted for Hurricane Ike because of the magnitude of the problem and relatively good estimated data.  Also the PUCT authorized ERCOT to make settlements more accurate. Only the coast weather zone was adjusted to keep the other zones from subsidizing excess UFE not incurred in the area.</a:t>
            </a:r>
            <a:endParaRPr b="0" lang="en-US" sz="2200" spc="-1" strike="noStrike">
              <a:solidFill>
                <a:srgbClr val="000000"/>
              </a:solidFill>
              <a:latin typeface="Century Schoolbook"/>
            </a:endParaRPr>
          </a:p>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Rolling outages were a much smaller event than Hurricane Ike.  See the BOD presentation. (</a:t>
            </a:r>
            <a:r>
              <a:rPr b="0" lang="en-US" sz="2200" spc="-1" strike="noStrike" u="sng">
                <a:solidFill>
                  <a:srgbClr val="eb8803"/>
                </a:solidFill>
                <a:uFillTx/>
                <a:latin typeface="Calibri"/>
                <a:ea typeface="Arial"/>
                <a:hlinkClick r:id="rId1"/>
              </a:rPr>
              <a:t>http://www.ercot.com/content/meetings/board/keydocs/2011/0214/Review_of_February_2,_2011_EEA_Event.pdf</a:t>
            </a:r>
            <a:r>
              <a:rPr b="0" lang="en-US" sz="2200" spc="-1" strike="noStrike">
                <a:solidFill>
                  <a:srgbClr val="000000"/>
                </a:solidFill>
                <a:latin typeface="Calibri"/>
                <a:ea typeface="Arial"/>
              </a:rPr>
              <a:t>) </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09480" y="533160"/>
            <a:ext cx="7467840" cy="5940360"/>
          </a:xfrm>
          <a:prstGeom prst="rect">
            <a:avLst/>
          </a:prstGeom>
          <a:noFill/>
          <a:ln w="0">
            <a:noFill/>
          </a:ln>
        </p:spPr>
        <p:txBody>
          <a:bodyPr anchor="t">
            <a:normAutofit/>
          </a:bodyPr>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justing the load profiles could and does create problems for billing systems where profiles are a part of process.</a:t>
            </a:r>
            <a:endParaRPr b="0" lang="en-US" sz="2400" spc="-1" strike="noStrike">
              <a:solidFill>
                <a:srgbClr val="000000"/>
              </a:solidFill>
              <a:latin typeface="Century Schoolbook"/>
            </a:endParaRPr>
          </a:p>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justing the load profiles could create confusion for customers.</a:t>
            </a:r>
            <a:endParaRPr b="0" lang="en-US" sz="2400" spc="-1" strike="noStrike">
              <a:solidFill>
                <a:srgbClr val="000000"/>
              </a:solidFill>
              <a:latin typeface="Century Schoolbook"/>
            </a:endParaRPr>
          </a:p>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ough magnitude of rolling outages was relatively low, $3000/MWh could significantly hurt some REPs.</a:t>
            </a:r>
            <a:endParaRPr b="0" lang="en-US" sz="2400" spc="-1" strike="noStrike">
              <a:solidFill>
                <a:srgbClr val="000000"/>
              </a:solidFill>
              <a:latin typeface="Century Schoolbook"/>
            </a:endParaRPr>
          </a:p>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known at this time how rolling outages will affect UFE.</a:t>
            </a:r>
            <a:endParaRPr b="0" lang="en-US" sz="2400" spc="-1" strike="noStrike">
              <a:solidFill>
                <a:srgbClr val="000000"/>
              </a:solidFill>
              <a:latin typeface="Century Schoolbook"/>
            </a:endParaRPr>
          </a:p>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ource-intensive to determine adjustments to be made.</a:t>
            </a:r>
            <a:endParaRPr b="0" lang="en-US" sz="2400" spc="-1" strike="noStrike">
              <a:solidFill>
                <a:srgbClr val="000000"/>
              </a:solidFill>
              <a:latin typeface="Century Schoolbook"/>
            </a:endParaRPr>
          </a:p>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ing adjustments to reduce load profiles might effectively allocate more UFE to IDRs if UFE is negative.</a:t>
            </a:r>
            <a:endParaRPr b="0" lang="en-US" sz="2400" spc="-1" strike="noStrike">
              <a:solidFill>
                <a:srgbClr val="000000"/>
              </a:solidFill>
              <a:latin typeface="Century Schoolbook"/>
            </a:endParaRPr>
          </a:p>
          <a:p>
            <a:pPr marL="272880" indent="-272880">
              <a:lnSpc>
                <a:spcPct val="100000"/>
              </a:lnSpc>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09480" y="533160"/>
            <a:ext cx="7467840" cy="5940360"/>
          </a:xfrm>
          <a:prstGeom prst="rect">
            <a:avLst/>
          </a:prstGeom>
          <a:noFill/>
          <a:ln w="0">
            <a:noFill/>
          </a:ln>
        </p:spPr>
        <p:txBody>
          <a:bodyPr anchor="t">
            <a:normAutofit/>
          </a:bodyPr>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king adjustments to load profiles might do more harm than good.</a:t>
            </a:r>
            <a:endParaRPr b="0" lang="en-US" sz="2400" spc="-1" strike="noStrike">
              <a:solidFill>
                <a:srgbClr val="000000"/>
              </a:solidFill>
              <a:latin typeface="Century Schoolbook"/>
            </a:endParaRPr>
          </a:p>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estimation process of how to calculate the outage with ERCOT or TDSP input can be shown to be accurate. So application of high level estimates for Non-IDR profiles may alter the accuracy of other intervals in the current settlement process. That is, any simple assumptions on adjustments are likely to be no more accurate than current settlement.</a:t>
            </a:r>
            <a:endParaRPr b="0" lang="en-US" sz="2400" spc="-1" strike="noStrike">
              <a:solidFill>
                <a:srgbClr val="000000"/>
              </a:solidFill>
              <a:latin typeface="Century Schoolbook"/>
            </a:endParaRPr>
          </a:p>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le changes require 150 day notice and the stakeholder approval process with even an urgent request would push the effective date well past the true up settlement unless these timelines were suspended. A request by ERCOT to the PUCT for such timeline waver might be neede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09480" y="533160"/>
            <a:ext cx="7467840" cy="5715000"/>
          </a:xfrm>
          <a:prstGeom prst="rect">
            <a:avLst/>
          </a:prstGeom>
          <a:noFill/>
          <a:ln w="0">
            <a:noFill/>
          </a:ln>
        </p:spPr>
        <p:txBody>
          <a:bodyPr anchor="t">
            <a:normAutofit/>
          </a:bodyPr>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market participant has noticed a dramatic increase in </a:t>
            </a:r>
            <a:r>
              <a:rPr b="0" lang="en-US" sz="2200" spc="-1" strike="noStrike">
                <a:solidFill>
                  <a:srgbClr val="ff0000"/>
                </a:solidFill>
                <a:latin typeface="Calibri"/>
              </a:rPr>
              <a:t>AMS metered </a:t>
            </a:r>
            <a:r>
              <a:rPr b="0" lang="en-US" sz="2200" spc="-1" strike="noStrike">
                <a:solidFill>
                  <a:srgbClr val="000000"/>
                </a:solidFill>
                <a:latin typeface="Calibri"/>
              </a:rPr>
              <a:t>load on Feb. 2, 2011 over their Non-IDR profiled customers. This supports that the event may show in hind site that profiles were short and UFE positive at final settlement similar to the event documented by SEWG for January 6-9, 2010. </a:t>
            </a:r>
            <a:endParaRPr b="0" lang="en-US" sz="2200" spc="-1" strike="noStrike">
              <a:solidFill>
                <a:srgbClr val="000000"/>
              </a:solidFill>
              <a:latin typeface="Century Schoolbook"/>
            </a:endParaRPr>
          </a:p>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ge 14 of the Board Report shows the ERCOT dispatched events of the day. How this request for load changes translates to reductions in the profiles is problematic if not impossible to estimate accurately. ERCOT Staff believe the outage calculations would best be in the hands of the TDSPs.</a:t>
            </a:r>
            <a:endParaRPr b="0" lang="en-US" sz="2200" spc="-1" strike="noStrike">
              <a:solidFill>
                <a:srgbClr val="000000"/>
              </a:solidFill>
              <a:latin typeface="Century Schoolbook"/>
            </a:endParaRPr>
          </a:p>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ith new AMS meters now estimated to comprise one third of settlement load plus IDR load, perhaps as much as 50% of the market is settled on 15 minute interval data resulting in  great improvement in settlement accuracy on Feb. 2.</a:t>
            </a:r>
            <a:endParaRPr b="0" lang="en-US" sz="2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609480" y="533160"/>
            <a:ext cx="7467840" cy="5940360"/>
          </a:xfrm>
          <a:prstGeom prst="rect">
            <a:avLst/>
          </a:prstGeom>
          <a:noFill/>
          <a:ln w="0">
            <a:noFill/>
          </a:ln>
        </p:spPr>
        <p:txBody>
          <a:bodyPr anchor="t">
            <a:normAutofit/>
          </a:bodyPr>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ering the profiles in the high dollar intervals would not change the fact that a specific non-IDR load is calculated proportionately from the profiles with the same shape.</a:t>
            </a:r>
            <a:endParaRPr b="0" lang="en-US" sz="2400" spc="-1" strike="noStrike">
              <a:solidFill>
                <a:srgbClr val="000000"/>
              </a:solidFill>
              <a:latin typeface="Century Schoolbook"/>
            </a:endParaRPr>
          </a:p>
          <a:p>
            <a:pPr marL="272880" indent="-27288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us the 30 day meter read has the lost load from the outage spread over all 30 days of the meter read. The reduction in specific intervals for the morning of Feb. 2 would not mitigate the error in the load during the outages.</a:t>
            </a:r>
            <a:endParaRPr b="0" lang="en-US" sz="2400" spc="-1" strike="noStrike">
              <a:solidFill>
                <a:srgbClr val="000000"/>
              </a:solidFill>
              <a:latin typeface="Century Schoolbook"/>
            </a:endParaRPr>
          </a:p>
          <a:p>
            <a:pPr marL="272880" indent="-272880">
              <a:lnSpc>
                <a:spcPct val="100000"/>
              </a:lnSpc>
              <a:spcBef>
                <a:spcPts val="601"/>
              </a:spcBef>
              <a:spcAft>
                <a:spcPts val="601"/>
              </a:spcAft>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op down analysis of separating known metered load for IDR and AMS from generation is proposed to help estimate non-IDR profile contribut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9:17:46Z</dcterms:created>
  <dc:creator>bboswell</dc:creator>
  <dc:description/>
  <dc:language>en-US</dc:language>
  <cp:lastModifiedBy>epodraza</cp:lastModifiedBy>
  <dcterms:modified xsi:type="dcterms:W3CDTF">2011-02-23T20:53:07Z</dcterms:modified>
  <cp:revision>13</cp:revision>
  <dc:subject/>
  <dc:title>Discussion Points from the Agenda Item Regarding Adjust PWG Monthly Call on February 23, 2011 </dc:title>
</cp:coreProperties>
</file>