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1D2C-75B1-40D1-AD1B-B0C4E643D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189A-69F9-43CC-9B8E-5E12B7B734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C1B9-3041-4DA9-A516-8AE7EA1426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C490-13AE-4C5D-8761-25D4DBB00A4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934C-D22A-46A4-A51E-7D597039D6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9A8B-A0AF-435B-A031-30C0DC00B6C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884A-D80C-43EE-9F2D-EE38B4DAD7B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4DDF-D9CC-4155-A4AE-3194A284CA1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C4C5-9827-4C86-AEE1-72595A58E81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6956-3CA3-4A6B-A29A-49184E3ECDF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9812-0E97-4A48-857B-8984BA15F50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A03F-D81E-4CBA-9766-B7B7B55B92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D35C-F379-41B8-A97D-8141FEF7B09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3633-4397-4219-9644-F830E6F2C50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9BF4-1C06-4691-B272-F745AE8886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6F78-5C61-4D76-9555-EDF4BA40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B4CC-11EF-42A3-A64C-97E3860F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3B7-D691-499E-AC58-A1A112E4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8EA6-8B11-4EC3-80E0-05AA3347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18A7-3986-4E29-A3C2-09686ED6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21574-94F7-48D8-86B3-B5E767B2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FA7D-A58A-48B9-8746-204CA3C7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0760-CAB1-49B4-81C9-95663C2C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8614-9E88-4DC9-BFD9-35752118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FE30-07BC-4AF0-9B95-7ADC4AE3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7AE6-3F8D-401B-81C5-B756B145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0180-EF7E-49D1-BE0C-FAA5F2AC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1D4C-30C2-4789-B680-23489FF8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A4E0-3304-4DAF-A4E9-A222D53F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9A02-317A-4DC6-B445-D8BDA4F8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4306-8E97-4A56-A0CF-C41AC7B3C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420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6280" y="177336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420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6280" y="4255200"/>
            <a:ext cx="24778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B7EC-9EF7-45B9-93EB-3C6F8497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B22-2388-4294-A8FF-F8B8EBF0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40EE-BE71-43FD-A2FB-6359287C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0A77-3FFD-42FE-8DB2-3DCD498F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333000"/>
            <a:ext cx="76960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47C-0B3D-4436-8708-73D0E667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22C3-5230-4EAE-8A36-9A00F5E40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5920" y="425520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EEB-CA11-4BD6-B5B5-E4FB89DF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5920" y="1773360"/>
            <a:ext cx="375552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255200"/>
            <a:ext cx="769608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498-B899-44A3-B08B-F5134C00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9FBC-62AC-4AED-9D5F-76CEEB0A283D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4709-A0E5-4D50-B1EB-A42091293F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2AA4-78C9-4579-B4EB-BC625A2BAC1A}" type="datetime">
              <a:rPr b="0" lang="en-US" sz="1400" spc="-1" strike="noStrike">
                <a:solidFill>
                  <a:srgbClr val="ffffff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33FD-BB8C-432A-A41D-9A01D6D0BF5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c.state.tx.us/electric/projects/34610/34610.cf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560" y="5229360"/>
            <a:ext cx="772308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MARS Taskforce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4560" y="6021000"/>
            <a:ext cx="7723080" cy="79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PS Update March 8, 20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IT’s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New Working Groups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perations and Maintenance Working Group (OMW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puc.state.tx.us/electric/projects/34610/AMITMtg111610/WorkgroupScopeandProcedures-OperationsandMaintenance.pd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 and Strategy Working Group (PSW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ttp://www.puc.state.tx.us/electric/projects/34610/AMITMtg111610/WorkgroupScopeandProcedures-ProjectsandStrategy.pd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3C69-5319-4C0A-ADFC-3C0DC4BD6A7B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IT’s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New Working Groups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2120" y="177336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stration, Administration and Access Working Group  (RAAW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puc.state.tx.us/electric/projects/34610/AMITMtg111610/WorkgroupScopeandProcedures-RegistrationAdminstrationandAccess.pd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urity Working Group (SW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ttp://www.puc.state.tx.us/electric/projects/34610/AMITMtg111610/WorkgroupScopeandProcedures-Security.pdf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78C8-E701-4682-9C90-F62DAFDC624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60948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ARCH 2011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ahoma"/>
              </a:rPr>
              <a:t>29th   (F2F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PRIL 2011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ff00"/>
                </a:solidFill>
                <a:uFillTx/>
                <a:latin typeface="Tahoma"/>
              </a:rPr>
              <a:t>26th   (F2F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80000"/>
              </a:lnSpc>
              <a:spcBef>
                <a:spcPts val="4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7EE6-20F0-47F9-AE04-572B532A2E6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MAY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4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JUNE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8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lnSpc>
                <a:spcPct val="90000"/>
              </a:lnSpc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3929-EB16-4867-AAED-24930BC1E60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JULY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6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6092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AUGUST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3rd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4620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60920" indent="-22608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9E2D-77AA-4A9C-B8E5-64D5DACD8D47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479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dvanced Metering Implementation Team (AMIT)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145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74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ff"/>
                </a:solidFill>
                <a:latin typeface="Tahoma"/>
              </a:rPr>
              <a:t>SEPTEMBER 2011    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27th   (F2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es:  9:30 AM – 5:30 PM        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MIT Steering Committee  meeting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981080" indent="-228600">
              <a:spcBef>
                <a:spcPts val="4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ocation:  ERCOT Met Center Conference Room 20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2106-F4FD-42E3-943C-7DA17B03D86E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31F1-57CB-427F-9E4A-B914DD1049E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2" descr="C:\Documents and Settings\00015621\Local Settings\Temporary Internet Files\Content.IE5\UZYJAF85\MCj04344110000[1].wmf"/>
          <p:cNvPicPr/>
          <p:nvPr/>
        </p:nvPicPr>
        <p:blipFill>
          <a:blip r:embed="rId1"/>
          <a:stretch/>
        </p:blipFill>
        <p:spPr>
          <a:xfrm>
            <a:off x="380880" y="1905120"/>
            <a:ext cx="208296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40" name="Picture 3" descr="C:\Documents and Settings\00015621\Local Settings\Temporary Internet Files\Content.IE5\2NCNMXYB\MCj03833080000[1].wmf"/>
          <p:cNvPicPr/>
          <p:nvPr/>
        </p:nvPicPr>
        <p:blipFill>
          <a:blip r:embed="rId2"/>
          <a:stretch/>
        </p:blipFill>
        <p:spPr>
          <a:xfrm>
            <a:off x="4952880" y="1828800"/>
            <a:ext cx="3733920" cy="2438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C:\Documents and Settings\00015621\Local Settings\Temporary Internet Files\Content.IE5\W7FBEKXX\MCj00787620000[1].wmf"/>
          <p:cNvPicPr/>
          <p:nvPr/>
        </p:nvPicPr>
        <p:blipFill>
          <a:blip r:embed="rId3"/>
          <a:stretch/>
        </p:blipFill>
        <p:spPr>
          <a:xfrm>
            <a:off x="2428920" y="3733920"/>
            <a:ext cx="25239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Initial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Settlemen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04920" y="1523520"/>
            <a:ext cx="861048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 of March 1,  201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erating Date:   February 22, 20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C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,426,69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DG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44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stimated Percent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0.5089%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B73B-9A25-4424-AE62-32A374B17D8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Final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Settlement</a:t>
            </a: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04920" y="1523520"/>
            <a:ext cx="861048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 of March 1,  201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erating Date:   January 4, 20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C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2,194,596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DG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5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stimated Percent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.0677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2C09-BC30-4078-9BB9-1960307AFD2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True-Up Settlemen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523520"/>
            <a:ext cx="861048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 of March 1,  2011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Operating Date:    September 2,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C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1,422,0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MDG ESI ID Total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stimated Percent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0.4932%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775C-7B26-4305-A6C9-F99DDE8CE74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Tahoma"/>
              </a:rPr>
              <a:t>Oncor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(approximately)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50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Installed: </a:t>
            </a:r>
            <a:r>
              <a:rPr b="1" lang="en-US" sz="3800" spc="-1" strike="noStrike">
                <a:solidFill>
                  <a:srgbClr val="ffff00"/>
                </a:solidFill>
                <a:latin typeface="Tahoma"/>
              </a:rPr>
              <a:t>1,580,147 </a:t>
            </a: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as of 02.28.2011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ployment Plan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0 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29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1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02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2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02,00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FB73-C532-4B64-9A08-26F44EA8E51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NP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(approximately):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ed: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998,079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s of 01.31.201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loyment Plan, includes projected growth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0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756,684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1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960,327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2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373,423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0B76-4770-418D-83AD-4305265DBB5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AMS Meter Installation </a:t>
            </a:r>
            <a:br>
              <a:rPr sz="4400"/>
            </a:b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Status Report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914400"/>
            <a:ext cx="8610480" cy="541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EP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(approximately):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lled: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216,591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s of 02.21.2011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ployment Plan schedu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0 –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188,212</a:t>
            </a:r>
            <a:r>
              <a:rPr b="1" lang="en-US" sz="35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1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51,571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2 –  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79,329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me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013 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278,280  met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62040" indent="-2286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1581120" indent="-342720">
              <a:lnSpc>
                <a:spcPct val="90000"/>
              </a:lnSpc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010280" y="6477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AEAA-3CA8-4C85-B1F8-263377EA85B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Market  AMS</a:t>
            </a:r>
            <a:br>
              <a:rPr sz="4400"/>
            </a:br>
            <a:r>
              <a:rPr b="1" lang="en-US" sz="4400" spc="-1" strike="noStrike">
                <a:solidFill>
                  <a:srgbClr val="e8edf2"/>
                </a:solidFill>
                <a:latin typeface="Tahoma"/>
              </a:rPr>
              <a:t>Installed Totals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60C5-A2E8-46BC-A9BB-0CB925F8A5A5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Rectangle 11" descr=""/>
          <p:cNvPicPr/>
          <p:nvPr/>
        </p:nvPicPr>
        <p:blipFill>
          <a:blip r:embed="rId1"/>
          <a:stretch/>
        </p:blipFill>
        <p:spPr>
          <a:xfrm>
            <a:off x="1042920" y="2170080"/>
            <a:ext cx="7126200" cy="2077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C:\Documents and Settings\00015621\Local Settings\Temporary Internet Files\Content.IE5\4H9UELBM\MC900093373[1].wmf"/>
          <p:cNvPicPr/>
          <p:nvPr/>
        </p:nvPicPr>
        <p:blipFill>
          <a:blip r:embed="rId2"/>
          <a:stretch/>
        </p:blipFill>
        <p:spPr>
          <a:xfrm rot="3883200">
            <a:off x="5520240" y="2562840"/>
            <a:ext cx="2692440" cy="473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C:\Documents and Settings\00015621\Local Settings\Temporary Internet Files\Content.IE5\4H9UELBM\MC900093373[1].wmf"/>
          <p:cNvPicPr/>
          <p:nvPr/>
        </p:nvPicPr>
        <p:blipFill>
          <a:blip r:embed="rId3"/>
          <a:stretch/>
        </p:blipFill>
        <p:spPr>
          <a:xfrm rot="2458200">
            <a:off x="361440" y="743040"/>
            <a:ext cx="2097360" cy="3279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C:\Documents and Settings\00015621\Local Settings\Temporary Internet Files\Content.IE5\4H9UELBM\MC900093373[1].wmf"/>
          <p:cNvPicPr/>
          <p:nvPr/>
        </p:nvPicPr>
        <p:blipFill>
          <a:blip r:embed="rId4"/>
          <a:stretch/>
        </p:blipFill>
        <p:spPr>
          <a:xfrm rot="17194200">
            <a:off x="1327320" y="2801880"/>
            <a:ext cx="2504880" cy="51148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15" name="Picture 12" descr="C:\Documents and Settings\00015621\Local Settings\Temporary Internet Files\Content.IE5\4H9UELBM\MC900093373[1].wmf"/>
          <p:cNvPicPr/>
          <p:nvPr/>
        </p:nvPicPr>
        <p:blipFill>
          <a:blip r:embed="rId5"/>
          <a:stretch/>
        </p:blipFill>
        <p:spPr>
          <a:xfrm rot="18459000">
            <a:off x="6443640" y="220320"/>
            <a:ext cx="2281320" cy="33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333000"/>
            <a:ext cx="769608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edf2"/>
                </a:solidFill>
                <a:latin typeface="Tahoma"/>
              </a:rPr>
              <a:t>PUCT Project 34610 </a:t>
            </a:r>
            <a:endParaRPr b="0" lang="en-US" sz="4400" spc="-1" strike="noStrike">
              <a:solidFill>
                <a:srgbClr val="e8edf2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05120"/>
            <a:ext cx="7696080" cy="475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dvanced Metering Implementation Team (AMIT) Documentation &amp; Meeting Schedules can be found on: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ublic Utility Commission of Texas Project 34610 Websi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762120" indent="-343080">
              <a:spcBef>
                <a:spcPts val="799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d59f07"/>
                </a:solidFill>
                <a:uFillTx/>
                <a:latin typeface="Tahoma"/>
                <a:hlinkClick r:id="rId1"/>
              </a:rPr>
              <a:t>http://www.puc.state.tx.us/electric/projects/34610/34610.cfm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26"/>
              </a:spcBef>
              <a:buClr>
                <a:srgbClr val="d8e1e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D04D-F39B-493C-BDFA-4BBCCACBC7D8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1:21:15Z</dcterms:created>
  <dc:creator>Scott, Kathy D.</dc:creator>
  <dc:description/>
  <dc:language>en-US</dc:language>
  <cp:lastModifiedBy>00015621</cp:lastModifiedBy>
  <dcterms:modified xsi:type="dcterms:W3CDTF">2011-03-04T04:19:28Z</dcterms:modified>
  <cp:revision>551</cp:revision>
  <dc:subject/>
  <dc:title>MARS Taskforce </dc:title>
</cp:coreProperties>
</file>