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E4ED-C98A-42E0-88E1-69756FD93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7AA1-E21B-4598-9DB2-5CF2355C0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D889-463D-44AE-A60B-BD8043A8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74688-C6F2-4DEA-A059-2896D103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C132-DECF-4656-A428-7D6C1BEC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28A5-0AAC-4C0B-B954-A3A579C3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1C68-A260-4E8A-890A-D0FD0F6B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F14D-5713-4384-9207-18242592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4462-8F6C-4DD4-825E-C70D6F80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9ED2-E09E-4DBC-965E-582D521C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6D29-E61D-4A5A-827A-EB331DCD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F2B5-019E-4F35-9FF5-7B59BB52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67885-AB9A-4FC6-89FA-65E816C9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931A-21B4-4902-A2AC-B7315876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F3C1-5B80-4EFF-9D51-B3A6631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C2CB-59E2-4205-B9A5-A4628790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05E6-CB75-4F49-B391-98CB3E45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1CC2-999B-409A-B453-43D59160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988E-5059-48EF-BEAF-F5538E4D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27CA-450E-437E-BA9B-7788C1F0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F1CE3-A6C0-4944-8FB3-A4256691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C1BF-DEE0-4DE8-8BCC-85562C25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218C6-C136-4BCA-8CBB-C41F4F5F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C672A-19EC-4BA9-911E-3CB5B420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5E865-D50A-4A93-BAE4-F2DE7461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738B-D3FA-4EB5-8928-4AFFF2EE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D295-2143-4A42-AFA0-C682F183E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BDB4-6310-45A5-8E27-61DEC3F7D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7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ch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PS/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90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3304-6267-4278-AB36-3975FF87F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614D-18F9-4FC4-AC6B-020068A47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dt" idx="8"/>
          </p:nvPr>
        </p:nvSpPr>
        <p:spPr>
          <a:xfrm>
            <a:off x="1142640" y="6476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formation Technology Re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rey Felt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anager, IT Service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Availability: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ail and Market Operations SLA targets were exceeded for all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al Market Systems missed one SLA target (EMS LF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 Area Network disk issues (1/7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 Information Repository (MIR) failed over to alternate site due to storage disk device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 services unavailable (MIS, Report Explorer, API) for up to 2 h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planned site failover (1/11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 precautionary response to a failed power supply alert, CMM, CRR and MIR were failed over to alternate s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 Current Day Reports were mi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s were unable to access web services (MIS, Report Explorer, API) for up to 70 minu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11 Net Service Availability (Retail and Market Ops)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914400" y="658800"/>
            <a:ext cx="67327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011 Data Center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2189160" y="914400"/>
            <a:ext cx="49402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ebruary 2011 Net Service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Date Placeholder 5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914400" y="658800"/>
            <a:ext cx="673272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ebruary 2011 Data Center Power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2133720" y="930240"/>
            <a:ext cx="507348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ML Report Explorer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938160" y="896760"/>
            <a:ext cx="726768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API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985680" y="928800"/>
            <a:ext cx="71708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 Availab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S/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1001880" y="896760"/>
            <a:ext cx="7138800" cy="50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Forfia, David</dc:creator>
  <dc:description/>
  <dc:language>en-US</dc:language>
  <cp:lastModifiedBy>tfelton</cp:lastModifiedBy>
  <dcterms:modified xsi:type="dcterms:W3CDTF">2011-03-07T16:07:21Z</dcterms:modified>
  <cp:revision>702</cp:revision>
  <dc:subject/>
  <dc:title>Instructions</dc:title>
</cp:coreProperties>
</file>