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dt" idx="9"/>
          </p:nvPr>
        </p:nvSpPr>
        <p:spPr>
          <a:xfrm>
            <a:off x="388584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ftr" idx="10"/>
          </p:nvPr>
        </p:nvSpPr>
        <p:spPr>
          <a:xfrm>
            <a:off x="-36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 type="sldNum" idx="11"/>
          </p:nvPr>
        </p:nvSpPr>
        <p:spPr>
          <a:xfrm>
            <a:off x="388584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A0B22-C68A-40D5-8546-BA4233D691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6DF96-C19C-48BF-81E6-C71632DF17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F0209-9A5F-4C5A-94AD-9B5BF7B462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66320-653A-4127-9A4B-17DA1A6E86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3885C7-5892-4E05-B226-3D26BFA4619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61760" y="384228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5B39B1-38EE-4019-8E11-89216EDD5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2744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B98AA3-E2D8-471F-934B-1E663E923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236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6332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6176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236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6332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5AF81-B8D1-423D-8381-177997094AA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9E39-B2DD-4738-9F33-219009D627D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61760" y="12949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FACB-E14A-4B2C-9C93-CF6375131FF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8030-22D7-4BB8-82E5-C9BD158A591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5CEA-7421-4F36-B1C0-6953C4063AA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5D32-2EA6-499E-A573-AD6ACC8A692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FBC7-EB1C-45D0-BD50-90D07285351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7C49-4A9D-4FC7-A62D-D64D037C37D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61760" y="12949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87F615-10F1-4B8C-89F8-490F5B9DB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2744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2DB4-7322-4BB8-A4A2-DD950A4DAC7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C0B2-20AE-45F3-BDBF-260726F4D1A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61760" y="384228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D19A-CB37-48FA-8540-1F92213CAB7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2744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797F-1B3C-4BE7-B549-E1CFFEE453D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236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86332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6176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236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86332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F0DF-CC30-48C4-ACA2-5DFE96D4F43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F9930-9F65-4047-AD5F-8F4FE87F2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761760" y="12949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757D7-D35A-4367-B926-97FC82812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4DA1B-E5EC-4CED-BC8C-50232AF90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02C8E-F6DD-4CF1-A0A9-23A5B1F8C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F0EBD-4293-420C-86EC-CC4ABEC7D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D40CE2-3BFF-49F2-BFDC-9955F5452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F0735-B989-4DC9-BD6B-03D4B0272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8FBF2-E09F-4A4B-B03E-D5A2673BA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2744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CA3DA-3B32-4DE7-9CE6-33DCE0832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D848B-6564-4975-8402-1A20CC013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761760" y="384228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0A28B-81B6-4924-84CB-F1D299DD8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2744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88BE5-F74E-44DD-B196-8D4F3BE1C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31236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86332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76176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31236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586332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270FB-D86A-491C-9D42-C6A3FC1F5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D5C406-AB53-474E-B1DF-731E365E94F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761760" y="12949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E8AF61-1F22-4F98-8B9B-E131E1A37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DDEE6E-801A-4976-8C2A-DBABA85BB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603E9F-310C-40FE-911A-D46325E37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F69DD0-FEE3-45B5-864F-547290761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95D3A6-F650-4469-A8C3-3CE443D1C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716D8C-55CD-4C1F-B5D1-AF3168C84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834D44-DE1A-43B2-92A4-B1E65DECC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2744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986BD6-0F67-4435-B057-F1C457D79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EEDA88-B6D6-4D39-8DE0-0167A872D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761760" y="384228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51E927-6580-421E-B72C-8A0980BA3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2744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59C43F-D8DE-42D4-818E-C2C3039F5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31236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86332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76176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31236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586332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9133AB-F01F-4DBF-83C1-339CC4A21EA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3A2391-1369-4C6D-9709-EBA71D343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57B6C1-A531-44FC-A980-AA35526E3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8BFCAB-3A2D-4BFF-9FAC-2E8631E38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2744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A1453E-4DA0-45A3-ABDA-386A9DF50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5F1036-9A08-4052-8ABC-EE1ED683B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Ercot Logo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380880" y="76320"/>
            <a:ext cx="2590920" cy="1050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61760" y="12949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3429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382AB-EF5E-46F7-A690-3175C5F77B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494"/>
          <p:cNvSpPr/>
          <p:nvPr/>
        </p:nvSpPr>
        <p:spPr>
          <a:xfrm>
            <a:off x="3352680" y="380880"/>
            <a:ext cx="49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rofiling Working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497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5400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43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" name="Picture 9" descr="Ercot Logo"/>
          <p:cNvPicPr/>
          <p:nvPr/>
        </p:nvPicPr>
        <p:blipFill>
          <a:blip r:embed="rId2"/>
          <a:stretch/>
        </p:blipFill>
        <p:spPr>
          <a:xfrm>
            <a:off x="7620120" y="228600"/>
            <a:ext cx="1295280" cy="6969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3"/>
          <p:cNvSpPr>
            <a:spLocks noGrp="1"/>
          </p:cNvSpPr>
          <p:nvPr>
            <p:ph type="sldNum" idx="3"/>
          </p:nvPr>
        </p:nvSpPr>
        <p:spPr>
          <a:xfrm>
            <a:off x="6915240" y="619416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E18F2-62B8-42AB-8B52-7C193C058A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E4445-5A04-4069-92C0-ADAAB49373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7" descr="Copy of Ercot Logo"/>
          <p:cNvPicPr/>
          <p:nvPr/>
        </p:nvPicPr>
        <p:blipFill>
          <a:blip r:embed="rId2"/>
          <a:stretch/>
        </p:blipFill>
        <p:spPr>
          <a:xfrm>
            <a:off x="7315200" y="76320"/>
            <a:ext cx="1752480" cy="941400"/>
          </a:xfrm>
          <a:prstGeom prst="rect">
            <a:avLst/>
          </a:prstGeom>
          <a:ln w="0">
            <a:noFill/>
          </a:ln>
        </p:spPr>
      </p:pic>
      <p:sp>
        <p:nvSpPr>
          <p:cNvPr id="92" name="Line 8"/>
          <p:cNvSpPr/>
          <p:nvPr/>
        </p:nvSpPr>
        <p:spPr>
          <a:xfrm flipV="1">
            <a:off x="0" y="980640"/>
            <a:ext cx="9144000" cy="9720"/>
          </a:xfrm>
          <a:prstGeom prst="line">
            <a:avLst/>
          </a:prstGeom>
          <a:ln w="316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9"/>
          <p:cNvSpPr/>
          <p:nvPr/>
        </p:nvSpPr>
        <p:spPr>
          <a:xfrm>
            <a:off x="458640" y="6248520"/>
            <a:ext cx="822672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131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4" name="Picture 10" descr="Ercot Logo"/>
          <p:cNvPicPr/>
          <p:nvPr/>
        </p:nvPicPr>
        <p:blipFill>
          <a:blip r:embed="rId2"/>
          <a:stretch/>
        </p:blipFill>
        <p:spPr>
          <a:xfrm>
            <a:off x="7620120" y="228600"/>
            <a:ext cx="1295280" cy="69696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5A7A7-073A-4A7E-8638-254BBCD43E4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Slide Number Placeholder 4"/>
          <p:cNvSpPr/>
          <p:nvPr/>
        </p:nvSpPr>
        <p:spPr>
          <a:xfrm>
            <a:off x="3429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CDF09-F7BD-4E5C-9FFB-065253C8BE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WG Update Re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nie Podra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Direct Ene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COT PWG Ch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 Ech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Onc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COT PWG Vice Ch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OPS Me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arch 8,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4"/>
          <p:cNvSpPr/>
          <p:nvPr/>
        </p:nvSpPr>
        <p:spPr>
          <a:xfrm>
            <a:off x="3429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B3FAB-2D3E-46F7-9118-46C3EE6B36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5" descr=""/>
          <p:cNvPicPr/>
          <p:nvPr/>
        </p:nvPicPr>
        <p:blipFill>
          <a:blip r:embed="rId1"/>
          <a:stretch/>
        </p:blipFill>
        <p:spPr>
          <a:xfrm>
            <a:off x="228600" y="1798560"/>
            <a:ext cx="8686800" cy="40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F60E0-7298-4C2A-840C-1D58F0768E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3"/>
          <p:cNvSpPr/>
          <p:nvPr/>
        </p:nvSpPr>
        <p:spPr>
          <a:xfrm>
            <a:off x="309600" y="395280"/>
            <a:ext cx="722160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PGRR  and NPRR / PRR Stat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3"/>
          <p:cNvSpPr/>
          <p:nvPr/>
        </p:nvSpPr>
        <p:spPr>
          <a:xfrm>
            <a:off x="380880" y="1295280"/>
            <a:ext cx="838224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PGRR042 Updating of Weather Sensitivity Assignment, Suspension of Annual Validation for Advanced Meters, Addition of Load Research Sampling Documents, and Removal of Unused TOUS Codes;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On the TAC agenda in March for normal vo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PGRR043 - Synchronization with NPRR291, Reduce the Comment Period for NPRRs and SCRs;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Impact Analysis shall be reviewed at the PWG March mee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PGRR044 - Addition of Distributed Generation (DG) Load Profiles;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On the COPS agenda in March for urgent vo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77CB2-9E1B-45B9-B433-BE7682E165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3"/>
          <p:cNvSpPr/>
          <p:nvPr/>
        </p:nvSpPr>
        <p:spPr>
          <a:xfrm>
            <a:off x="309600" y="395280"/>
            <a:ext cx="722160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ckout Adjustments of Pro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3"/>
          <p:cNvSpPr/>
          <p:nvPr/>
        </p:nvSpPr>
        <p:spPr>
          <a:xfrm>
            <a:off x="380880" y="1066680"/>
            <a:ext cx="838224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380880" y="1066680"/>
            <a:ext cx="838224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day Feb. 14 Notice of PWG Meeting on Wednesday February 23, 2011 was issu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esday Feb. 15, 2011 COPS Leadership asked  that the PWG meeting agenda include a discussion on possible blackout adjustments of Load Profiles per MP inqui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dnesday Feb. 23, 2011 the PWG met and discussed the issue as reques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dnesday Feb. 23 ERCOT Staff distributed the draft meeting notes to the PWG exploder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ursday Feb. 24 ERCOT Staff compiled the draft presentation of discussion points complied per meeting action item and distributed to the Profiling Exploder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o to key document presentation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Slide Number Placeholder 4"/>
          <p:cNvSpPr/>
          <p:nvPr/>
        </p:nvSpPr>
        <p:spPr>
          <a:xfrm>
            <a:off x="3429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CED80-49F0-4F33-9EE0-635B881C51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2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6"/>
          <p:cNvSpPr/>
          <p:nvPr/>
        </p:nvSpPr>
        <p:spPr>
          <a:xfrm>
            <a:off x="533520" y="4572000"/>
            <a:ext cx="8001000" cy="10782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xt PWG meet dat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rch 23,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meetings are posted and planned as half day morning WebEx cal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11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2419200" cy="3048120"/>
          </a:xfrm>
          <a:prstGeom prst="rect">
            <a:avLst/>
          </a:prstGeom>
          <a:ln w="0">
            <a:noFill/>
          </a:ln>
        </p:spPr>
      </p:pic>
      <p:grpSp>
        <p:nvGrpSpPr>
          <p:cNvPr id="197" name="Group 63"/>
          <p:cNvGrpSpPr/>
          <p:nvPr/>
        </p:nvGrpSpPr>
        <p:grpSpPr>
          <a:xfrm>
            <a:off x="3581280" y="1600200"/>
            <a:ext cx="4800600" cy="2743200"/>
            <a:chOff x="3581280" y="1600200"/>
            <a:chExt cx="4800600" cy="2743200"/>
          </a:xfrm>
        </p:grpSpPr>
        <p:grpSp>
          <p:nvGrpSpPr>
            <p:cNvPr id="198" name="Group 3"/>
            <p:cNvGrpSpPr/>
            <p:nvPr/>
          </p:nvGrpSpPr>
          <p:grpSpPr>
            <a:xfrm>
              <a:off x="5058360" y="2221920"/>
              <a:ext cx="1844280" cy="1216080"/>
              <a:chOff x="5058360" y="2221920"/>
              <a:chExt cx="1844280" cy="1216080"/>
            </a:xfrm>
          </p:grpSpPr>
          <p:sp>
            <p:nvSpPr>
              <p:cNvPr id="199" name="Freeform 4"/>
              <p:cNvSpPr/>
              <p:nvPr/>
            </p:nvSpPr>
            <p:spPr>
              <a:xfrm>
                <a:off x="5088240" y="2382480"/>
                <a:ext cx="1783440" cy="691200"/>
              </a:xfrm>
              <a:custGeom>
                <a:avLst/>
                <a:gdLst>
                  <a:gd name="textAreaLeft" fmla="*/ 0 w 1783440"/>
                  <a:gd name="textAreaRight" fmla="*/ 1783800 w 1783440"/>
                  <a:gd name="textAreaTop" fmla="*/ 0 h 691200"/>
                  <a:gd name="textAreaBottom" fmla="*/ 691560 h 691200"/>
                </a:gdLst>
                <a:ahLst/>
                <a:rect l="textAreaLeft" t="textAreaTop" r="textAreaRight" b="textAreaBottom"/>
                <a:pathLst>
                  <a:path w="1897" h="1579">
                    <a:moveTo>
                      <a:pt x="1004" y="1567"/>
                    </a:moveTo>
                    <a:lnTo>
                      <a:pt x="1002" y="1570"/>
                    </a:lnTo>
                    <a:lnTo>
                      <a:pt x="999" y="1572"/>
                    </a:lnTo>
                    <a:lnTo>
                      <a:pt x="995" y="1574"/>
                    </a:lnTo>
                    <a:lnTo>
                      <a:pt x="991" y="1576"/>
                    </a:lnTo>
                    <a:lnTo>
                      <a:pt x="986" y="1576"/>
                    </a:lnTo>
                    <a:lnTo>
                      <a:pt x="980" y="1578"/>
                    </a:lnTo>
                    <a:lnTo>
                      <a:pt x="973" y="1578"/>
                    </a:lnTo>
                    <a:lnTo>
                      <a:pt x="967" y="1579"/>
                    </a:lnTo>
                    <a:lnTo>
                      <a:pt x="959" y="1579"/>
                    </a:lnTo>
                    <a:lnTo>
                      <a:pt x="952" y="1579"/>
                    </a:lnTo>
                    <a:lnTo>
                      <a:pt x="944" y="1579"/>
                    </a:lnTo>
                    <a:lnTo>
                      <a:pt x="937" y="1579"/>
                    </a:lnTo>
                    <a:lnTo>
                      <a:pt x="930" y="1578"/>
                    </a:lnTo>
                    <a:lnTo>
                      <a:pt x="924" y="1578"/>
                    </a:lnTo>
                    <a:lnTo>
                      <a:pt x="917" y="1576"/>
                    </a:lnTo>
                    <a:lnTo>
                      <a:pt x="912" y="1576"/>
                    </a:lnTo>
                    <a:lnTo>
                      <a:pt x="907" y="1574"/>
                    </a:lnTo>
                    <a:lnTo>
                      <a:pt x="904" y="1572"/>
                    </a:lnTo>
                    <a:lnTo>
                      <a:pt x="901" y="1569"/>
                    </a:lnTo>
                    <a:lnTo>
                      <a:pt x="898" y="1567"/>
                    </a:lnTo>
                    <a:lnTo>
                      <a:pt x="0" y="0"/>
                    </a:lnTo>
                    <a:lnTo>
                      <a:pt x="41" y="39"/>
                    </a:lnTo>
                    <a:lnTo>
                      <a:pt x="95" y="77"/>
                    </a:lnTo>
                    <a:lnTo>
                      <a:pt x="165" y="109"/>
                    </a:lnTo>
                    <a:lnTo>
                      <a:pt x="249" y="138"/>
                    </a:lnTo>
                    <a:lnTo>
                      <a:pt x="343" y="161"/>
                    </a:lnTo>
                    <a:lnTo>
                      <a:pt x="448" y="181"/>
                    </a:lnTo>
                    <a:lnTo>
                      <a:pt x="562" y="197"/>
                    </a:lnTo>
                    <a:lnTo>
                      <a:pt x="685" y="207"/>
                    </a:lnTo>
                    <a:lnTo>
                      <a:pt x="816" y="215"/>
                    </a:lnTo>
                    <a:lnTo>
                      <a:pt x="952" y="216"/>
                    </a:lnTo>
                    <a:lnTo>
                      <a:pt x="1086" y="215"/>
                    </a:lnTo>
                    <a:lnTo>
                      <a:pt x="1214" y="207"/>
                    </a:lnTo>
                    <a:lnTo>
                      <a:pt x="1336" y="197"/>
                    </a:lnTo>
                    <a:lnTo>
                      <a:pt x="1449" y="182"/>
                    </a:lnTo>
                    <a:lnTo>
                      <a:pt x="1553" y="163"/>
                    </a:lnTo>
                    <a:lnTo>
                      <a:pt x="1647" y="138"/>
                    </a:lnTo>
                    <a:lnTo>
                      <a:pt x="1729" y="111"/>
                    </a:lnTo>
                    <a:lnTo>
                      <a:pt x="1799" y="79"/>
                    </a:lnTo>
                    <a:lnTo>
                      <a:pt x="1855" y="43"/>
                    </a:lnTo>
                    <a:lnTo>
                      <a:pt x="1897" y="3"/>
                    </a:lnTo>
                    <a:lnTo>
                      <a:pt x="1005" y="1567"/>
                    </a:lnTo>
                    <a:lnTo>
                      <a:pt x="1004" y="1567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Freeform 5"/>
              <p:cNvSpPr/>
              <p:nvPr/>
            </p:nvSpPr>
            <p:spPr>
              <a:xfrm>
                <a:off x="5088240" y="2382480"/>
                <a:ext cx="1783440" cy="691200"/>
              </a:xfrm>
              <a:custGeom>
                <a:avLst/>
                <a:gdLst>
                  <a:gd name="textAreaLeft" fmla="*/ 0 w 1783440"/>
                  <a:gd name="textAreaRight" fmla="*/ 1783800 w 1783440"/>
                  <a:gd name="textAreaTop" fmla="*/ 0 h 691200"/>
                  <a:gd name="textAreaBottom" fmla="*/ 691560 h 691200"/>
                </a:gdLst>
                <a:ahLst/>
                <a:rect l="textAreaLeft" t="textAreaTop" r="textAreaRight" b="textAreaBottom"/>
                <a:pathLst>
                  <a:path w="1897" h="1579">
                    <a:moveTo>
                      <a:pt x="1004" y="1567"/>
                    </a:moveTo>
                    <a:lnTo>
                      <a:pt x="1002" y="1570"/>
                    </a:lnTo>
                    <a:lnTo>
                      <a:pt x="999" y="1572"/>
                    </a:lnTo>
                    <a:lnTo>
                      <a:pt x="995" y="1574"/>
                    </a:lnTo>
                    <a:lnTo>
                      <a:pt x="991" y="1576"/>
                    </a:lnTo>
                    <a:lnTo>
                      <a:pt x="986" y="1576"/>
                    </a:lnTo>
                    <a:lnTo>
                      <a:pt x="980" y="1578"/>
                    </a:lnTo>
                    <a:lnTo>
                      <a:pt x="973" y="1578"/>
                    </a:lnTo>
                    <a:lnTo>
                      <a:pt x="967" y="1579"/>
                    </a:lnTo>
                    <a:lnTo>
                      <a:pt x="959" y="1579"/>
                    </a:lnTo>
                    <a:lnTo>
                      <a:pt x="952" y="1579"/>
                    </a:lnTo>
                    <a:lnTo>
                      <a:pt x="944" y="1579"/>
                    </a:lnTo>
                    <a:lnTo>
                      <a:pt x="937" y="1579"/>
                    </a:lnTo>
                    <a:lnTo>
                      <a:pt x="930" y="1578"/>
                    </a:lnTo>
                    <a:lnTo>
                      <a:pt x="924" y="1578"/>
                    </a:lnTo>
                    <a:lnTo>
                      <a:pt x="917" y="1576"/>
                    </a:lnTo>
                    <a:lnTo>
                      <a:pt x="912" y="1576"/>
                    </a:lnTo>
                    <a:lnTo>
                      <a:pt x="907" y="1574"/>
                    </a:lnTo>
                    <a:lnTo>
                      <a:pt x="904" y="1572"/>
                    </a:lnTo>
                    <a:lnTo>
                      <a:pt x="901" y="1569"/>
                    </a:lnTo>
                    <a:lnTo>
                      <a:pt x="898" y="1567"/>
                    </a:lnTo>
                    <a:lnTo>
                      <a:pt x="0" y="0"/>
                    </a:lnTo>
                    <a:lnTo>
                      <a:pt x="41" y="39"/>
                    </a:lnTo>
                    <a:lnTo>
                      <a:pt x="95" y="77"/>
                    </a:lnTo>
                    <a:lnTo>
                      <a:pt x="165" y="109"/>
                    </a:lnTo>
                    <a:lnTo>
                      <a:pt x="249" y="138"/>
                    </a:lnTo>
                    <a:lnTo>
                      <a:pt x="343" y="161"/>
                    </a:lnTo>
                    <a:lnTo>
                      <a:pt x="448" y="181"/>
                    </a:lnTo>
                    <a:lnTo>
                      <a:pt x="562" y="197"/>
                    </a:lnTo>
                    <a:lnTo>
                      <a:pt x="685" y="207"/>
                    </a:lnTo>
                    <a:lnTo>
                      <a:pt x="816" y="215"/>
                    </a:lnTo>
                    <a:lnTo>
                      <a:pt x="952" y="216"/>
                    </a:lnTo>
                    <a:lnTo>
                      <a:pt x="1086" y="215"/>
                    </a:lnTo>
                    <a:lnTo>
                      <a:pt x="1214" y="207"/>
                    </a:lnTo>
                    <a:lnTo>
                      <a:pt x="1336" y="197"/>
                    </a:lnTo>
                    <a:lnTo>
                      <a:pt x="1449" y="182"/>
                    </a:lnTo>
                    <a:lnTo>
                      <a:pt x="1553" y="163"/>
                    </a:lnTo>
                    <a:lnTo>
                      <a:pt x="1647" y="138"/>
                    </a:lnTo>
                    <a:lnTo>
                      <a:pt x="1729" y="111"/>
                    </a:lnTo>
                    <a:lnTo>
                      <a:pt x="1799" y="79"/>
                    </a:lnTo>
                    <a:lnTo>
                      <a:pt x="1855" y="43"/>
                    </a:lnTo>
                    <a:lnTo>
                      <a:pt x="1897" y="3"/>
                    </a:lnTo>
                    <a:lnTo>
                      <a:pt x="1005" y="1567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Freeform 6"/>
              <p:cNvSpPr/>
              <p:nvPr/>
            </p:nvSpPr>
            <p:spPr>
              <a:xfrm>
                <a:off x="5126760" y="2246400"/>
                <a:ext cx="1711080" cy="19296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192960"/>
                  <a:gd name="textAreaBottom" fmla="*/ 193320 h 192960"/>
                </a:gdLst>
                <a:ahLst/>
                <a:rect l="textAreaLeft" t="textAreaTop" r="textAreaRight" b="textAreaBottom"/>
                <a:pathLst>
                  <a:path w="1820" h="442">
                    <a:moveTo>
                      <a:pt x="909" y="441"/>
                    </a:moveTo>
                    <a:lnTo>
                      <a:pt x="1059" y="439"/>
                    </a:lnTo>
                    <a:lnTo>
                      <a:pt x="1201" y="432"/>
                    </a:lnTo>
                    <a:lnTo>
                      <a:pt x="1332" y="419"/>
                    </a:lnTo>
                    <a:lnTo>
                      <a:pt x="1451" y="401"/>
                    </a:lnTo>
                    <a:lnTo>
                      <a:pt x="1557" y="380"/>
                    </a:lnTo>
                    <a:lnTo>
                      <a:pt x="1647" y="356"/>
                    </a:lnTo>
                    <a:lnTo>
                      <a:pt x="1720" y="328"/>
                    </a:lnTo>
                    <a:lnTo>
                      <a:pt x="1775" y="297"/>
                    </a:lnTo>
                    <a:lnTo>
                      <a:pt x="1809" y="263"/>
                    </a:lnTo>
                    <a:lnTo>
                      <a:pt x="1820" y="228"/>
                    </a:lnTo>
                    <a:lnTo>
                      <a:pt x="1809" y="192"/>
                    </a:lnTo>
                    <a:lnTo>
                      <a:pt x="1775" y="158"/>
                    </a:lnTo>
                    <a:lnTo>
                      <a:pt x="1720" y="125"/>
                    </a:lnTo>
                    <a:lnTo>
                      <a:pt x="1647" y="95"/>
                    </a:lnTo>
                    <a:lnTo>
                      <a:pt x="1557" y="68"/>
                    </a:lnTo>
                    <a:lnTo>
                      <a:pt x="1451" y="45"/>
                    </a:lnTo>
                    <a:lnTo>
                      <a:pt x="1332" y="27"/>
                    </a:lnTo>
                    <a:lnTo>
                      <a:pt x="1201" y="13"/>
                    </a:lnTo>
                    <a:lnTo>
                      <a:pt x="1059" y="4"/>
                    </a:lnTo>
                    <a:lnTo>
                      <a:pt x="911" y="0"/>
                    </a:lnTo>
                    <a:lnTo>
                      <a:pt x="761" y="4"/>
                    </a:lnTo>
                    <a:lnTo>
                      <a:pt x="620" y="13"/>
                    </a:lnTo>
                    <a:lnTo>
                      <a:pt x="489" y="27"/>
                    </a:lnTo>
                    <a:lnTo>
                      <a:pt x="370" y="45"/>
                    </a:lnTo>
                    <a:lnTo>
                      <a:pt x="265" y="68"/>
                    </a:lnTo>
                    <a:lnTo>
                      <a:pt x="174" y="95"/>
                    </a:lnTo>
                    <a:lnTo>
                      <a:pt x="101" y="125"/>
                    </a:lnTo>
                    <a:lnTo>
                      <a:pt x="47" y="158"/>
                    </a:lnTo>
                    <a:lnTo>
                      <a:pt x="12" y="192"/>
                    </a:lnTo>
                    <a:lnTo>
                      <a:pt x="0" y="228"/>
                    </a:lnTo>
                    <a:lnTo>
                      <a:pt x="12" y="263"/>
                    </a:lnTo>
                    <a:lnTo>
                      <a:pt x="47" y="297"/>
                    </a:lnTo>
                    <a:lnTo>
                      <a:pt x="101" y="328"/>
                    </a:lnTo>
                    <a:lnTo>
                      <a:pt x="174" y="356"/>
                    </a:lnTo>
                    <a:lnTo>
                      <a:pt x="265" y="380"/>
                    </a:lnTo>
                    <a:lnTo>
                      <a:pt x="370" y="401"/>
                    </a:lnTo>
                    <a:lnTo>
                      <a:pt x="489" y="419"/>
                    </a:lnTo>
                    <a:lnTo>
                      <a:pt x="620" y="432"/>
                    </a:lnTo>
                    <a:lnTo>
                      <a:pt x="761" y="439"/>
                    </a:lnTo>
                    <a:lnTo>
                      <a:pt x="911" y="442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Freeform 7"/>
              <p:cNvSpPr/>
              <p:nvPr/>
            </p:nvSpPr>
            <p:spPr>
              <a:xfrm>
                <a:off x="5931360" y="3375000"/>
                <a:ext cx="101160" cy="63000"/>
              </a:xfrm>
              <a:custGeom>
                <a:avLst/>
                <a:gdLst>
                  <a:gd name="textAreaLeft" fmla="*/ 0 w 101160"/>
                  <a:gd name="textAreaRight" fmla="*/ 101520 w 101160"/>
                  <a:gd name="textAreaTop" fmla="*/ 0 h 63000"/>
                  <a:gd name="textAreaBottom" fmla="*/ 63360 h 63000"/>
                </a:gdLst>
                <a:ahLst/>
                <a:rect l="textAreaLeft" t="textAreaTop" r="textAreaRight" b="textAreaBottom"/>
                <a:pathLst>
                  <a:path w="108" h="145">
                    <a:moveTo>
                      <a:pt x="0" y="127"/>
                    </a:moveTo>
                    <a:lnTo>
                      <a:pt x="1" y="120"/>
                    </a:lnTo>
                    <a:lnTo>
                      <a:pt x="4" y="111"/>
                    </a:lnTo>
                    <a:lnTo>
                      <a:pt x="7" y="101"/>
                    </a:lnTo>
                    <a:lnTo>
                      <a:pt x="12" y="90"/>
                    </a:lnTo>
                    <a:lnTo>
                      <a:pt x="17" y="77"/>
                    </a:lnTo>
                    <a:lnTo>
                      <a:pt x="23" y="66"/>
                    </a:lnTo>
                    <a:lnTo>
                      <a:pt x="31" y="54"/>
                    </a:lnTo>
                    <a:lnTo>
                      <a:pt x="38" y="43"/>
                    </a:lnTo>
                    <a:lnTo>
                      <a:pt x="47" y="32"/>
                    </a:lnTo>
                    <a:lnTo>
                      <a:pt x="56" y="22"/>
                    </a:lnTo>
                    <a:lnTo>
                      <a:pt x="66" y="13"/>
                    </a:lnTo>
                    <a:lnTo>
                      <a:pt x="74" y="7"/>
                    </a:lnTo>
                    <a:lnTo>
                      <a:pt x="81" y="2"/>
                    </a:lnTo>
                    <a:lnTo>
                      <a:pt x="88" y="0"/>
                    </a:lnTo>
                    <a:lnTo>
                      <a:pt x="94" y="0"/>
                    </a:lnTo>
                    <a:lnTo>
                      <a:pt x="99" y="0"/>
                    </a:lnTo>
                    <a:lnTo>
                      <a:pt x="103" y="4"/>
                    </a:lnTo>
                    <a:lnTo>
                      <a:pt x="105" y="7"/>
                    </a:lnTo>
                    <a:lnTo>
                      <a:pt x="107" y="13"/>
                    </a:lnTo>
                    <a:lnTo>
                      <a:pt x="108" y="20"/>
                    </a:lnTo>
                    <a:lnTo>
                      <a:pt x="107" y="27"/>
                    </a:lnTo>
                    <a:lnTo>
                      <a:pt x="105" y="36"/>
                    </a:lnTo>
                    <a:lnTo>
                      <a:pt x="103" y="47"/>
                    </a:lnTo>
                    <a:lnTo>
                      <a:pt x="98" y="56"/>
                    </a:lnTo>
                    <a:lnTo>
                      <a:pt x="93" y="66"/>
                    </a:lnTo>
                    <a:lnTo>
                      <a:pt x="88" y="77"/>
                    </a:lnTo>
                    <a:lnTo>
                      <a:pt x="80" y="88"/>
                    </a:lnTo>
                    <a:lnTo>
                      <a:pt x="72" y="99"/>
                    </a:lnTo>
                    <a:lnTo>
                      <a:pt x="64" y="109"/>
                    </a:lnTo>
                    <a:lnTo>
                      <a:pt x="55" y="118"/>
                    </a:lnTo>
                    <a:lnTo>
                      <a:pt x="46" y="127"/>
                    </a:lnTo>
                    <a:lnTo>
                      <a:pt x="37" y="135"/>
                    </a:lnTo>
                    <a:lnTo>
                      <a:pt x="29" y="140"/>
                    </a:lnTo>
                    <a:lnTo>
                      <a:pt x="22" y="144"/>
                    </a:lnTo>
                    <a:lnTo>
                      <a:pt x="17" y="145"/>
                    </a:lnTo>
                    <a:lnTo>
                      <a:pt x="10" y="145"/>
                    </a:lnTo>
                    <a:lnTo>
                      <a:pt x="7" y="144"/>
                    </a:lnTo>
                    <a:lnTo>
                      <a:pt x="4" y="140"/>
                    </a:lnTo>
                    <a:lnTo>
                      <a:pt x="1" y="135"/>
                    </a:lnTo>
                    <a:lnTo>
                      <a:pt x="1" y="127"/>
                    </a:lnTo>
                    <a:lnTo>
                      <a:pt x="0" y="127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Freeform 8"/>
              <p:cNvSpPr/>
              <p:nvPr/>
            </p:nvSpPr>
            <p:spPr>
              <a:xfrm>
                <a:off x="5931360" y="3375000"/>
                <a:ext cx="101160" cy="63000"/>
              </a:xfrm>
              <a:custGeom>
                <a:avLst/>
                <a:gdLst>
                  <a:gd name="textAreaLeft" fmla="*/ 0 w 101160"/>
                  <a:gd name="textAreaRight" fmla="*/ 101520 w 101160"/>
                  <a:gd name="textAreaTop" fmla="*/ 0 h 63000"/>
                  <a:gd name="textAreaBottom" fmla="*/ 63360 h 63000"/>
                </a:gdLst>
                <a:ahLst/>
                <a:rect l="textAreaLeft" t="textAreaTop" r="textAreaRight" b="textAreaBottom"/>
                <a:pathLst>
                  <a:path w="108" h="145">
                    <a:moveTo>
                      <a:pt x="0" y="127"/>
                    </a:moveTo>
                    <a:lnTo>
                      <a:pt x="1" y="120"/>
                    </a:lnTo>
                    <a:lnTo>
                      <a:pt x="4" y="111"/>
                    </a:lnTo>
                    <a:lnTo>
                      <a:pt x="7" y="101"/>
                    </a:lnTo>
                    <a:lnTo>
                      <a:pt x="12" y="90"/>
                    </a:lnTo>
                    <a:lnTo>
                      <a:pt x="17" y="77"/>
                    </a:lnTo>
                    <a:lnTo>
                      <a:pt x="23" y="66"/>
                    </a:lnTo>
                    <a:lnTo>
                      <a:pt x="31" y="54"/>
                    </a:lnTo>
                    <a:lnTo>
                      <a:pt x="38" y="43"/>
                    </a:lnTo>
                    <a:lnTo>
                      <a:pt x="47" y="32"/>
                    </a:lnTo>
                    <a:lnTo>
                      <a:pt x="56" y="22"/>
                    </a:lnTo>
                    <a:lnTo>
                      <a:pt x="66" y="13"/>
                    </a:lnTo>
                    <a:lnTo>
                      <a:pt x="74" y="7"/>
                    </a:lnTo>
                    <a:lnTo>
                      <a:pt x="81" y="2"/>
                    </a:lnTo>
                    <a:lnTo>
                      <a:pt x="88" y="0"/>
                    </a:lnTo>
                    <a:lnTo>
                      <a:pt x="94" y="0"/>
                    </a:lnTo>
                    <a:lnTo>
                      <a:pt x="99" y="0"/>
                    </a:lnTo>
                    <a:lnTo>
                      <a:pt x="103" y="4"/>
                    </a:lnTo>
                    <a:lnTo>
                      <a:pt x="105" y="7"/>
                    </a:lnTo>
                    <a:lnTo>
                      <a:pt x="107" y="13"/>
                    </a:lnTo>
                    <a:lnTo>
                      <a:pt x="108" y="20"/>
                    </a:lnTo>
                    <a:lnTo>
                      <a:pt x="107" y="27"/>
                    </a:lnTo>
                    <a:lnTo>
                      <a:pt x="105" y="36"/>
                    </a:lnTo>
                    <a:lnTo>
                      <a:pt x="103" y="47"/>
                    </a:lnTo>
                    <a:lnTo>
                      <a:pt x="98" y="56"/>
                    </a:lnTo>
                    <a:lnTo>
                      <a:pt x="93" y="66"/>
                    </a:lnTo>
                    <a:lnTo>
                      <a:pt x="88" y="77"/>
                    </a:lnTo>
                    <a:lnTo>
                      <a:pt x="80" y="88"/>
                    </a:lnTo>
                    <a:lnTo>
                      <a:pt x="72" y="99"/>
                    </a:lnTo>
                    <a:lnTo>
                      <a:pt x="64" y="109"/>
                    </a:lnTo>
                    <a:lnTo>
                      <a:pt x="55" y="118"/>
                    </a:lnTo>
                    <a:lnTo>
                      <a:pt x="46" y="127"/>
                    </a:lnTo>
                    <a:lnTo>
                      <a:pt x="37" y="135"/>
                    </a:lnTo>
                    <a:lnTo>
                      <a:pt x="29" y="140"/>
                    </a:lnTo>
                    <a:lnTo>
                      <a:pt x="22" y="144"/>
                    </a:lnTo>
                    <a:lnTo>
                      <a:pt x="17" y="145"/>
                    </a:lnTo>
                    <a:lnTo>
                      <a:pt x="10" y="145"/>
                    </a:lnTo>
                    <a:lnTo>
                      <a:pt x="7" y="144"/>
                    </a:lnTo>
                    <a:lnTo>
                      <a:pt x="4" y="140"/>
                    </a:lnTo>
                    <a:lnTo>
                      <a:pt x="1" y="135"/>
                    </a:lnTo>
                    <a:lnTo>
                      <a:pt x="1" y="127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Freeform 9"/>
              <p:cNvSpPr/>
              <p:nvPr/>
            </p:nvSpPr>
            <p:spPr>
              <a:xfrm>
                <a:off x="5948640" y="3385440"/>
                <a:ext cx="69480" cy="42840"/>
              </a:xfrm>
              <a:custGeom>
                <a:avLst/>
                <a:gdLst>
                  <a:gd name="textAreaLeft" fmla="*/ 0 w 69480"/>
                  <a:gd name="textAreaRight" fmla="*/ 69840 w 6948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74" h="97">
                    <a:moveTo>
                      <a:pt x="0" y="90"/>
                    </a:moveTo>
                    <a:lnTo>
                      <a:pt x="1" y="86"/>
                    </a:lnTo>
                    <a:lnTo>
                      <a:pt x="2" y="81"/>
                    </a:lnTo>
                    <a:lnTo>
                      <a:pt x="5" y="74"/>
                    </a:lnTo>
                    <a:lnTo>
                      <a:pt x="8" y="67"/>
                    </a:lnTo>
                    <a:lnTo>
                      <a:pt x="11" y="59"/>
                    </a:lnTo>
                    <a:lnTo>
                      <a:pt x="15" y="52"/>
                    </a:lnTo>
                    <a:lnTo>
                      <a:pt x="19" y="45"/>
                    </a:lnTo>
                    <a:lnTo>
                      <a:pt x="24" y="38"/>
                    </a:lnTo>
                    <a:lnTo>
                      <a:pt x="30" y="31"/>
                    </a:lnTo>
                    <a:lnTo>
                      <a:pt x="35" y="24"/>
                    </a:lnTo>
                    <a:lnTo>
                      <a:pt x="42" y="18"/>
                    </a:lnTo>
                    <a:lnTo>
                      <a:pt x="47" y="13"/>
                    </a:lnTo>
                    <a:lnTo>
                      <a:pt x="52" y="9"/>
                    </a:lnTo>
                    <a:lnTo>
                      <a:pt x="57" y="6"/>
                    </a:lnTo>
                    <a:lnTo>
                      <a:pt x="62" y="2"/>
                    </a:lnTo>
                    <a:lnTo>
                      <a:pt x="66" y="0"/>
                    </a:lnTo>
                    <a:lnTo>
                      <a:pt x="68" y="0"/>
                    </a:lnTo>
                    <a:lnTo>
                      <a:pt x="71" y="2"/>
                    </a:lnTo>
                    <a:lnTo>
                      <a:pt x="72" y="4"/>
                    </a:lnTo>
                    <a:lnTo>
                      <a:pt x="74" y="7"/>
                    </a:lnTo>
                    <a:lnTo>
                      <a:pt x="72" y="11"/>
                    </a:lnTo>
                    <a:lnTo>
                      <a:pt x="71" y="18"/>
                    </a:lnTo>
                    <a:lnTo>
                      <a:pt x="68" y="24"/>
                    </a:lnTo>
                    <a:lnTo>
                      <a:pt x="66" y="31"/>
                    </a:lnTo>
                    <a:lnTo>
                      <a:pt x="62" y="38"/>
                    </a:lnTo>
                    <a:lnTo>
                      <a:pt x="57" y="45"/>
                    </a:lnTo>
                    <a:lnTo>
                      <a:pt x="52" y="54"/>
                    </a:lnTo>
                    <a:lnTo>
                      <a:pt x="47" y="61"/>
                    </a:lnTo>
                    <a:lnTo>
                      <a:pt x="41" y="67"/>
                    </a:lnTo>
                    <a:lnTo>
                      <a:pt x="35" y="74"/>
                    </a:lnTo>
                    <a:lnTo>
                      <a:pt x="30" y="79"/>
                    </a:lnTo>
                    <a:lnTo>
                      <a:pt x="24" y="84"/>
                    </a:lnTo>
                    <a:lnTo>
                      <a:pt x="20" y="88"/>
                    </a:lnTo>
                    <a:lnTo>
                      <a:pt x="15" y="92"/>
                    </a:lnTo>
                    <a:lnTo>
                      <a:pt x="11" y="95"/>
                    </a:lnTo>
                    <a:lnTo>
                      <a:pt x="8" y="97"/>
                    </a:lnTo>
                    <a:lnTo>
                      <a:pt x="5" y="97"/>
                    </a:lnTo>
                    <a:lnTo>
                      <a:pt x="2" y="97"/>
                    </a:lnTo>
                    <a:lnTo>
                      <a:pt x="1" y="93"/>
                    </a:lnTo>
                    <a:lnTo>
                      <a:pt x="1" y="90"/>
                    </a:lnTo>
                    <a:lnTo>
                      <a:pt x="0" y="9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10"/>
              <p:cNvSpPr/>
              <p:nvPr/>
            </p:nvSpPr>
            <p:spPr>
              <a:xfrm>
                <a:off x="5948640" y="3385440"/>
                <a:ext cx="69480" cy="42840"/>
              </a:xfrm>
              <a:custGeom>
                <a:avLst/>
                <a:gdLst>
                  <a:gd name="textAreaLeft" fmla="*/ 0 w 69480"/>
                  <a:gd name="textAreaRight" fmla="*/ 69840 w 6948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74" h="97">
                    <a:moveTo>
                      <a:pt x="0" y="90"/>
                    </a:moveTo>
                    <a:lnTo>
                      <a:pt x="1" y="86"/>
                    </a:lnTo>
                    <a:lnTo>
                      <a:pt x="2" y="81"/>
                    </a:lnTo>
                    <a:lnTo>
                      <a:pt x="5" y="74"/>
                    </a:lnTo>
                    <a:lnTo>
                      <a:pt x="8" y="67"/>
                    </a:lnTo>
                    <a:lnTo>
                      <a:pt x="11" y="59"/>
                    </a:lnTo>
                    <a:lnTo>
                      <a:pt x="15" y="52"/>
                    </a:lnTo>
                    <a:lnTo>
                      <a:pt x="19" y="45"/>
                    </a:lnTo>
                    <a:lnTo>
                      <a:pt x="24" y="38"/>
                    </a:lnTo>
                    <a:lnTo>
                      <a:pt x="30" y="31"/>
                    </a:lnTo>
                    <a:lnTo>
                      <a:pt x="35" y="24"/>
                    </a:lnTo>
                    <a:lnTo>
                      <a:pt x="42" y="18"/>
                    </a:lnTo>
                    <a:lnTo>
                      <a:pt x="47" y="13"/>
                    </a:lnTo>
                    <a:lnTo>
                      <a:pt x="52" y="9"/>
                    </a:lnTo>
                    <a:lnTo>
                      <a:pt x="57" y="6"/>
                    </a:lnTo>
                    <a:lnTo>
                      <a:pt x="62" y="2"/>
                    </a:lnTo>
                    <a:lnTo>
                      <a:pt x="66" y="0"/>
                    </a:lnTo>
                    <a:lnTo>
                      <a:pt x="68" y="0"/>
                    </a:lnTo>
                    <a:lnTo>
                      <a:pt x="71" y="2"/>
                    </a:lnTo>
                    <a:lnTo>
                      <a:pt x="72" y="4"/>
                    </a:lnTo>
                    <a:lnTo>
                      <a:pt x="74" y="7"/>
                    </a:lnTo>
                    <a:lnTo>
                      <a:pt x="72" y="11"/>
                    </a:lnTo>
                    <a:lnTo>
                      <a:pt x="71" y="18"/>
                    </a:lnTo>
                    <a:lnTo>
                      <a:pt x="68" y="24"/>
                    </a:lnTo>
                    <a:lnTo>
                      <a:pt x="66" y="31"/>
                    </a:lnTo>
                    <a:lnTo>
                      <a:pt x="62" y="38"/>
                    </a:lnTo>
                    <a:lnTo>
                      <a:pt x="57" y="45"/>
                    </a:lnTo>
                    <a:lnTo>
                      <a:pt x="52" y="54"/>
                    </a:lnTo>
                    <a:lnTo>
                      <a:pt x="47" y="61"/>
                    </a:lnTo>
                    <a:lnTo>
                      <a:pt x="41" y="67"/>
                    </a:lnTo>
                    <a:lnTo>
                      <a:pt x="35" y="74"/>
                    </a:lnTo>
                    <a:lnTo>
                      <a:pt x="30" y="79"/>
                    </a:lnTo>
                    <a:lnTo>
                      <a:pt x="24" y="84"/>
                    </a:lnTo>
                    <a:lnTo>
                      <a:pt x="20" y="88"/>
                    </a:lnTo>
                    <a:lnTo>
                      <a:pt x="15" y="92"/>
                    </a:lnTo>
                    <a:lnTo>
                      <a:pt x="11" y="95"/>
                    </a:lnTo>
                    <a:lnTo>
                      <a:pt x="8" y="97"/>
                    </a:lnTo>
                    <a:lnTo>
                      <a:pt x="5" y="97"/>
                    </a:lnTo>
                    <a:lnTo>
                      <a:pt x="2" y="97"/>
                    </a:lnTo>
                    <a:lnTo>
                      <a:pt x="1" y="93"/>
                    </a:lnTo>
                    <a:lnTo>
                      <a:pt x="1" y="9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Freeform 11"/>
              <p:cNvSpPr/>
              <p:nvPr/>
            </p:nvSpPr>
            <p:spPr>
              <a:xfrm>
                <a:off x="5931360" y="3067920"/>
                <a:ext cx="101160" cy="362880"/>
              </a:xfrm>
              <a:custGeom>
                <a:avLst/>
                <a:gdLst>
                  <a:gd name="textAreaLeft" fmla="*/ 0 w 101160"/>
                  <a:gd name="textAreaRight" fmla="*/ 101520 w 101160"/>
                  <a:gd name="textAreaTop" fmla="*/ 0 h 362880"/>
                  <a:gd name="textAreaBottom" fmla="*/ 363240 h 362880"/>
                </a:gdLst>
                <a:ahLst/>
                <a:rect l="textAreaLeft" t="textAreaTop" r="textAreaRight" b="textAreaBottom"/>
                <a:pathLst>
                  <a:path w="108" h="829">
                    <a:moveTo>
                      <a:pt x="0" y="827"/>
                    </a:moveTo>
                    <a:lnTo>
                      <a:pt x="1" y="820"/>
                    </a:lnTo>
                    <a:lnTo>
                      <a:pt x="4" y="811"/>
                    </a:lnTo>
                    <a:lnTo>
                      <a:pt x="7" y="801"/>
                    </a:lnTo>
                    <a:lnTo>
                      <a:pt x="12" y="790"/>
                    </a:lnTo>
                    <a:lnTo>
                      <a:pt x="17" y="777"/>
                    </a:lnTo>
                    <a:lnTo>
                      <a:pt x="23" y="766"/>
                    </a:lnTo>
                    <a:lnTo>
                      <a:pt x="31" y="754"/>
                    </a:lnTo>
                    <a:lnTo>
                      <a:pt x="38" y="743"/>
                    </a:lnTo>
                    <a:lnTo>
                      <a:pt x="47" y="732"/>
                    </a:lnTo>
                    <a:lnTo>
                      <a:pt x="56" y="722"/>
                    </a:lnTo>
                    <a:lnTo>
                      <a:pt x="66" y="713"/>
                    </a:lnTo>
                    <a:lnTo>
                      <a:pt x="74" y="707"/>
                    </a:lnTo>
                    <a:lnTo>
                      <a:pt x="81" y="702"/>
                    </a:lnTo>
                    <a:lnTo>
                      <a:pt x="88" y="700"/>
                    </a:lnTo>
                    <a:lnTo>
                      <a:pt x="94" y="700"/>
                    </a:lnTo>
                    <a:lnTo>
                      <a:pt x="99" y="700"/>
                    </a:lnTo>
                    <a:lnTo>
                      <a:pt x="103" y="704"/>
                    </a:lnTo>
                    <a:lnTo>
                      <a:pt x="105" y="707"/>
                    </a:lnTo>
                    <a:lnTo>
                      <a:pt x="107" y="713"/>
                    </a:lnTo>
                    <a:lnTo>
                      <a:pt x="108" y="720"/>
                    </a:lnTo>
                    <a:lnTo>
                      <a:pt x="108" y="0"/>
                    </a:lnTo>
                    <a:lnTo>
                      <a:pt x="105" y="3"/>
                    </a:lnTo>
                    <a:lnTo>
                      <a:pt x="102" y="5"/>
                    </a:lnTo>
                    <a:lnTo>
                      <a:pt x="98" y="7"/>
                    </a:lnTo>
                    <a:lnTo>
                      <a:pt x="94" y="9"/>
                    </a:lnTo>
                    <a:lnTo>
                      <a:pt x="89" y="9"/>
                    </a:lnTo>
                    <a:lnTo>
                      <a:pt x="83" y="11"/>
                    </a:lnTo>
                    <a:lnTo>
                      <a:pt x="76" y="11"/>
                    </a:lnTo>
                    <a:lnTo>
                      <a:pt x="70" y="12"/>
                    </a:lnTo>
                    <a:lnTo>
                      <a:pt x="62" y="12"/>
                    </a:lnTo>
                    <a:lnTo>
                      <a:pt x="55" y="12"/>
                    </a:lnTo>
                    <a:lnTo>
                      <a:pt x="47" y="12"/>
                    </a:lnTo>
                    <a:lnTo>
                      <a:pt x="40" y="12"/>
                    </a:lnTo>
                    <a:lnTo>
                      <a:pt x="33" y="11"/>
                    </a:lnTo>
                    <a:lnTo>
                      <a:pt x="27" y="11"/>
                    </a:lnTo>
                    <a:lnTo>
                      <a:pt x="20" y="9"/>
                    </a:lnTo>
                    <a:lnTo>
                      <a:pt x="15" y="9"/>
                    </a:lnTo>
                    <a:lnTo>
                      <a:pt x="10" y="7"/>
                    </a:lnTo>
                    <a:lnTo>
                      <a:pt x="7" y="5"/>
                    </a:lnTo>
                    <a:lnTo>
                      <a:pt x="4" y="2"/>
                    </a:lnTo>
                    <a:lnTo>
                      <a:pt x="1" y="0"/>
                    </a:lnTo>
                    <a:lnTo>
                      <a:pt x="1" y="829"/>
                    </a:lnTo>
                    <a:lnTo>
                      <a:pt x="1" y="827"/>
                    </a:lnTo>
                    <a:lnTo>
                      <a:pt x="0" y="827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Freeform 12"/>
              <p:cNvSpPr/>
              <p:nvPr/>
            </p:nvSpPr>
            <p:spPr>
              <a:xfrm>
                <a:off x="5931360" y="3067920"/>
                <a:ext cx="101160" cy="362880"/>
              </a:xfrm>
              <a:custGeom>
                <a:avLst/>
                <a:gdLst>
                  <a:gd name="textAreaLeft" fmla="*/ 0 w 101160"/>
                  <a:gd name="textAreaRight" fmla="*/ 101520 w 101160"/>
                  <a:gd name="textAreaTop" fmla="*/ 0 h 362880"/>
                  <a:gd name="textAreaBottom" fmla="*/ 363240 h 362880"/>
                </a:gdLst>
                <a:ahLst/>
                <a:rect l="textAreaLeft" t="textAreaTop" r="textAreaRight" b="textAreaBottom"/>
                <a:pathLst>
                  <a:path w="108" h="829">
                    <a:moveTo>
                      <a:pt x="0" y="827"/>
                    </a:moveTo>
                    <a:lnTo>
                      <a:pt x="1" y="820"/>
                    </a:lnTo>
                    <a:lnTo>
                      <a:pt x="4" y="811"/>
                    </a:lnTo>
                    <a:lnTo>
                      <a:pt x="7" y="801"/>
                    </a:lnTo>
                    <a:lnTo>
                      <a:pt x="12" y="790"/>
                    </a:lnTo>
                    <a:lnTo>
                      <a:pt x="17" y="777"/>
                    </a:lnTo>
                    <a:lnTo>
                      <a:pt x="23" y="766"/>
                    </a:lnTo>
                    <a:lnTo>
                      <a:pt x="31" y="754"/>
                    </a:lnTo>
                    <a:lnTo>
                      <a:pt x="38" y="743"/>
                    </a:lnTo>
                    <a:lnTo>
                      <a:pt x="47" y="732"/>
                    </a:lnTo>
                    <a:lnTo>
                      <a:pt x="56" y="722"/>
                    </a:lnTo>
                    <a:lnTo>
                      <a:pt x="66" y="713"/>
                    </a:lnTo>
                    <a:lnTo>
                      <a:pt x="74" y="707"/>
                    </a:lnTo>
                    <a:lnTo>
                      <a:pt x="81" y="702"/>
                    </a:lnTo>
                    <a:lnTo>
                      <a:pt x="88" y="700"/>
                    </a:lnTo>
                    <a:lnTo>
                      <a:pt x="94" y="700"/>
                    </a:lnTo>
                    <a:lnTo>
                      <a:pt x="99" y="700"/>
                    </a:lnTo>
                    <a:lnTo>
                      <a:pt x="103" y="704"/>
                    </a:lnTo>
                    <a:lnTo>
                      <a:pt x="105" y="707"/>
                    </a:lnTo>
                    <a:lnTo>
                      <a:pt x="107" y="713"/>
                    </a:lnTo>
                    <a:lnTo>
                      <a:pt x="108" y="720"/>
                    </a:lnTo>
                    <a:lnTo>
                      <a:pt x="108" y="0"/>
                    </a:lnTo>
                    <a:lnTo>
                      <a:pt x="105" y="3"/>
                    </a:lnTo>
                    <a:lnTo>
                      <a:pt x="102" y="5"/>
                    </a:lnTo>
                    <a:lnTo>
                      <a:pt x="98" y="7"/>
                    </a:lnTo>
                    <a:lnTo>
                      <a:pt x="94" y="9"/>
                    </a:lnTo>
                    <a:lnTo>
                      <a:pt x="89" y="9"/>
                    </a:lnTo>
                    <a:lnTo>
                      <a:pt x="83" y="11"/>
                    </a:lnTo>
                    <a:lnTo>
                      <a:pt x="76" y="11"/>
                    </a:lnTo>
                    <a:lnTo>
                      <a:pt x="70" y="12"/>
                    </a:lnTo>
                    <a:lnTo>
                      <a:pt x="62" y="12"/>
                    </a:lnTo>
                    <a:lnTo>
                      <a:pt x="55" y="12"/>
                    </a:lnTo>
                    <a:lnTo>
                      <a:pt x="47" y="12"/>
                    </a:lnTo>
                    <a:lnTo>
                      <a:pt x="40" y="12"/>
                    </a:lnTo>
                    <a:lnTo>
                      <a:pt x="33" y="11"/>
                    </a:lnTo>
                    <a:lnTo>
                      <a:pt x="27" y="11"/>
                    </a:lnTo>
                    <a:lnTo>
                      <a:pt x="20" y="9"/>
                    </a:lnTo>
                    <a:lnTo>
                      <a:pt x="15" y="9"/>
                    </a:lnTo>
                    <a:lnTo>
                      <a:pt x="10" y="7"/>
                    </a:lnTo>
                    <a:lnTo>
                      <a:pt x="7" y="5"/>
                    </a:lnTo>
                    <a:lnTo>
                      <a:pt x="4" y="2"/>
                    </a:lnTo>
                    <a:lnTo>
                      <a:pt x="1" y="0"/>
                    </a:lnTo>
                    <a:lnTo>
                      <a:pt x="1" y="829"/>
                    </a:lnTo>
                    <a:lnTo>
                      <a:pt x="1" y="827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Freeform 13"/>
              <p:cNvSpPr/>
              <p:nvPr/>
            </p:nvSpPr>
            <p:spPr>
              <a:xfrm>
                <a:off x="5949360" y="3385440"/>
                <a:ext cx="68400" cy="42840"/>
              </a:xfrm>
              <a:custGeom>
                <a:avLst/>
                <a:gdLst>
                  <a:gd name="textAreaLeft" fmla="*/ 0 w 68400"/>
                  <a:gd name="textAreaRight" fmla="*/ 68400 w 6840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73" h="97">
                    <a:moveTo>
                      <a:pt x="34" y="72"/>
                    </a:moveTo>
                    <a:lnTo>
                      <a:pt x="40" y="67"/>
                    </a:lnTo>
                    <a:lnTo>
                      <a:pt x="46" y="61"/>
                    </a:lnTo>
                    <a:lnTo>
                      <a:pt x="51" y="54"/>
                    </a:lnTo>
                    <a:lnTo>
                      <a:pt x="56" y="45"/>
                    </a:lnTo>
                    <a:lnTo>
                      <a:pt x="61" y="38"/>
                    </a:lnTo>
                    <a:lnTo>
                      <a:pt x="65" y="31"/>
                    </a:lnTo>
                    <a:lnTo>
                      <a:pt x="67" y="24"/>
                    </a:lnTo>
                    <a:lnTo>
                      <a:pt x="70" y="18"/>
                    </a:lnTo>
                    <a:lnTo>
                      <a:pt x="71" y="11"/>
                    </a:lnTo>
                    <a:lnTo>
                      <a:pt x="73" y="7"/>
                    </a:lnTo>
                    <a:lnTo>
                      <a:pt x="71" y="4"/>
                    </a:lnTo>
                    <a:lnTo>
                      <a:pt x="70" y="2"/>
                    </a:lnTo>
                    <a:lnTo>
                      <a:pt x="67" y="0"/>
                    </a:lnTo>
                    <a:lnTo>
                      <a:pt x="65" y="0"/>
                    </a:lnTo>
                    <a:lnTo>
                      <a:pt x="61" y="2"/>
                    </a:lnTo>
                    <a:lnTo>
                      <a:pt x="56" y="6"/>
                    </a:lnTo>
                    <a:lnTo>
                      <a:pt x="51" y="9"/>
                    </a:lnTo>
                    <a:lnTo>
                      <a:pt x="46" y="13"/>
                    </a:lnTo>
                    <a:lnTo>
                      <a:pt x="41" y="18"/>
                    </a:lnTo>
                    <a:lnTo>
                      <a:pt x="34" y="24"/>
                    </a:lnTo>
                    <a:lnTo>
                      <a:pt x="29" y="31"/>
                    </a:lnTo>
                    <a:lnTo>
                      <a:pt x="23" y="38"/>
                    </a:lnTo>
                    <a:lnTo>
                      <a:pt x="18" y="45"/>
                    </a:lnTo>
                    <a:lnTo>
                      <a:pt x="14" y="52"/>
                    </a:lnTo>
                    <a:lnTo>
                      <a:pt x="10" y="59"/>
                    </a:lnTo>
                    <a:lnTo>
                      <a:pt x="7" y="67"/>
                    </a:lnTo>
                    <a:lnTo>
                      <a:pt x="4" y="74"/>
                    </a:lnTo>
                    <a:lnTo>
                      <a:pt x="1" y="81"/>
                    </a:lnTo>
                    <a:lnTo>
                      <a:pt x="0" y="86"/>
                    </a:lnTo>
                    <a:lnTo>
                      <a:pt x="0" y="90"/>
                    </a:lnTo>
                    <a:lnTo>
                      <a:pt x="0" y="93"/>
                    </a:lnTo>
                    <a:lnTo>
                      <a:pt x="1" y="97"/>
                    </a:lnTo>
                    <a:lnTo>
                      <a:pt x="4" y="97"/>
                    </a:lnTo>
                    <a:lnTo>
                      <a:pt x="7" y="97"/>
                    </a:lnTo>
                    <a:lnTo>
                      <a:pt x="10" y="95"/>
                    </a:lnTo>
                    <a:lnTo>
                      <a:pt x="14" y="92"/>
                    </a:lnTo>
                    <a:lnTo>
                      <a:pt x="19" y="88"/>
                    </a:lnTo>
                    <a:lnTo>
                      <a:pt x="23" y="84"/>
                    </a:lnTo>
                    <a:lnTo>
                      <a:pt x="29" y="79"/>
                    </a:lnTo>
                    <a:lnTo>
                      <a:pt x="34" y="74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Freeform 14"/>
              <p:cNvSpPr/>
              <p:nvPr/>
            </p:nvSpPr>
            <p:spPr>
              <a:xfrm>
                <a:off x="5058360" y="2221920"/>
                <a:ext cx="1844280" cy="255240"/>
              </a:xfrm>
              <a:custGeom>
                <a:avLst/>
                <a:gdLst>
                  <a:gd name="textAreaLeft" fmla="*/ 0 w 1844280"/>
                  <a:gd name="textAreaRight" fmla="*/ 1844640 w 1844280"/>
                  <a:gd name="textAreaTop" fmla="*/ 0 h 255240"/>
                  <a:gd name="textAreaBottom" fmla="*/ 255600 h 255240"/>
                </a:gdLst>
                <a:ahLst/>
                <a:rect l="textAreaLeft" t="textAreaTop" r="textAreaRight" b="textAreaBottom"/>
                <a:pathLst>
                  <a:path w="1962" h="583">
                    <a:moveTo>
                      <a:pt x="0" y="283"/>
                    </a:moveTo>
                    <a:lnTo>
                      <a:pt x="14" y="236"/>
                    </a:lnTo>
                    <a:lnTo>
                      <a:pt x="51" y="191"/>
                    </a:lnTo>
                    <a:lnTo>
                      <a:pt x="111" y="150"/>
                    </a:lnTo>
                    <a:lnTo>
                      <a:pt x="189" y="114"/>
                    </a:lnTo>
                    <a:lnTo>
                      <a:pt x="287" y="80"/>
                    </a:lnTo>
                    <a:lnTo>
                      <a:pt x="401" y="53"/>
                    </a:lnTo>
                    <a:lnTo>
                      <a:pt x="531" y="30"/>
                    </a:lnTo>
                    <a:lnTo>
                      <a:pt x="672" y="14"/>
                    </a:lnTo>
                    <a:lnTo>
                      <a:pt x="824" y="3"/>
                    </a:lnTo>
                    <a:lnTo>
                      <a:pt x="984" y="0"/>
                    </a:lnTo>
                    <a:lnTo>
                      <a:pt x="1144" y="3"/>
                    </a:lnTo>
                    <a:lnTo>
                      <a:pt x="1295" y="14"/>
                    </a:lnTo>
                    <a:lnTo>
                      <a:pt x="1435" y="30"/>
                    </a:lnTo>
                    <a:lnTo>
                      <a:pt x="1564" y="53"/>
                    </a:lnTo>
                    <a:lnTo>
                      <a:pt x="1678" y="80"/>
                    </a:lnTo>
                    <a:lnTo>
                      <a:pt x="1775" y="114"/>
                    </a:lnTo>
                    <a:lnTo>
                      <a:pt x="1854" y="150"/>
                    </a:lnTo>
                    <a:lnTo>
                      <a:pt x="1912" y="191"/>
                    </a:lnTo>
                    <a:lnTo>
                      <a:pt x="1949" y="236"/>
                    </a:lnTo>
                    <a:lnTo>
                      <a:pt x="1962" y="283"/>
                    </a:lnTo>
                    <a:lnTo>
                      <a:pt x="1949" y="338"/>
                    </a:lnTo>
                    <a:lnTo>
                      <a:pt x="1912" y="388"/>
                    </a:lnTo>
                    <a:lnTo>
                      <a:pt x="1854" y="433"/>
                    </a:lnTo>
                    <a:lnTo>
                      <a:pt x="1775" y="472"/>
                    </a:lnTo>
                    <a:lnTo>
                      <a:pt x="1678" y="506"/>
                    </a:lnTo>
                    <a:lnTo>
                      <a:pt x="1564" y="533"/>
                    </a:lnTo>
                    <a:lnTo>
                      <a:pt x="1435" y="557"/>
                    </a:lnTo>
                    <a:lnTo>
                      <a:pt x="1295" y="571"/>
                    </a:lnTo>
                    <a:lnTo>
                      <a:pt x="1144" y="582"/>
                    </a:lnTo>
                    <a:lnTo>
                      <a:pt x="984" y="583"/>
                    </a:lnTo>
                    <a:lnTo>
                      <a:pt x="824" y="582"/>
                    </a:lnTo>
                    <a:lnTo>
                      <a:pt x="672" y="571"/>
                    </a:lnTo>
                    <a:lnTo>
                      <a:pt x="531" y="557"/>
                    </a:lnTo>
                    <a:lnTo>
                      <a:pt x="401" y="533"/>
                    </a:lnTo>
                    <a:lnTo>
                      <a:pt x="287" y="506"/>
                    </a:lnTo>
                    <a:lnTo>
                      <a:pt x="189" y="472"/>
                    </a:lnTo>
                    <a:lnTo>
                      <a:pt x="111" y="433"/>
                    </a:lnTo>
                    <a:lnTo>
                      <a:pt x="51" y="388"/>
                    </a:lnTo>
                    <a:lnTo>
                      <a:pt x="14" y="338"/>
                    </a:lnTo>
                    <a:lnTo>
                      <a:pt x="2" y="283"/>
                    </a:lnTo>
                  </a:path>
                </a:pathLst>
              </a:custGeom>
              <a:noFill/>
              <a:ln w="20520">
                <a:solidFill>
                  <a:srgbClr val="73737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Freeform 15"/>
              <p:cNvSpPr/>
              <p:nvPr/>
            </p:nvSpPr>
            <p:spPr>
              <a:xfrm>
                <a:off x="5060880" y="2222640"/>
                <a:ext cx="1837800" cy="252720"/>
              </a:xfrm>
              <a:custGeom>
                <a:avLst/>
                <a:gdLst>
                  <a:gd name="textAreaLeft" fmla="*/ 0 w 1837800"/>
                  <a:gd name="textAreaRight" fmla="*/ 1838160 w 1837800"/>
                  <a:gd name="textAreaTop" fmla="*/ 0 h 252720"/>
                  <a:gd name="textAreaBottom" fmla="*/ 253080 h 252720"/>
                </a:gdLst>
                <a:ahLst/>
                <a:rect l="textAreaLeft" t="textAreaTop" r="textAreaRight" b="textAreaBottom"/>
                <a:pathLst>
                  <a:path w="1955" h="579">
                    <a:moveTo>
                      <a:pt x="0" y="280"/>
                    </a:moveTo>
                    <a:lnTo>
                      <a:pt x="14" y="235"/>
                    </a:lnTo>
                    <a:lnTo>
                      <a:pt x="51" y="190"/>
                    </a:lnTo>
                    <a:lnTo>
                      <a:pt x="109" y="151"/>
                    </a:lnTo>
                    <a:lnTo>
                      <a:pt x="189" y="113"/>
                    </a:lnTo>
                    <a:lnTo>
                      <a:pt x="287" y="81"/>
                    </a:lnTo>
                    <a:lnTo>
                      <a:pt x="400" y="52"/>
                    </a:lnTo>
                    <a:lnTo>
                      <a:pt x="529" y="31"/>
                    </a:lnTo>
                    <a:lnTo>
                      <a:pt x="670" y="13"/>
                    </a:lnTo>
                    <a:lnTo>
                      <a:pt x="821" y="4"/>
                    </a:lnTo>
                    <a:lnTo>
                      <a:pt x="981" y="0"/>
                    </a:lnTo>
                    <a:lnTo>
                      <a:pt x="1141" y="4"/>
                    </a:lnTo>
                    <a:lnTo>
                      <a:pt x="1292" y="13"/>
                    </a:lnTo>
                    <a:lnTo>
                      <a:pt x="1431" y="31"/>
                    </a:lnTo>
                    <a:lnTo>
                      <a:pt x="1559" y="52"/>
                    </a:lnTo>
                    <a:lnTo>
                      <a:pt x="1672" y="81"/>
                    </a:lnTo>
                    <a:lnTo>
                      <a:pt x="1770" y="113"/>
                    </a:lnTo>
                    <a:lnTo>
                      <a:pt x="1849" y="151"/>
                    </a:lnTo>
                    <a:lnTo>
                      <a:pt x="1907" y="190"/>
                    </a:lnTo>
                    <a:lnTo>
                      <a:pt x="1942" y="235"/>
                    </a:lnTo>
                    <a:lnTo>
                      <a:pt x="1955" y="280"/>
                    </a:lnTo>
                    <a:lnTo>
                      <a:pt x="1942" y="335"/>
                    </a:lnTo>
                    <a:lnTo>
                      <a:pt x="1907" y="385"/>
                    </a:lnTo>
                    <a:lnTo>
                      <a:pt x="1849" y="430"/>
                    </a:lnTo>
                    <a:lnTo>
                      <a:pt x="1770" y="468"/>
                    </a:lnTo>
                    <a:lnTo>
                      <a:pt x="1672" y="502"/>
                    </a:lnTo>
                    <a:lnTo>
                      <a:pt x="1559" y="529"/>
                    </a:lnTo>
                    <a:lnTo>
                      <a:pt x="1431" y="550"/>
                    </a:lnTo>
                    <a:lnTo>
                      <a:pt x="1292" y="566"/>
                    </a:lnTo>
                    <a:lnTo>
                      <a:pt x="1141" y="575"/>
                    </a:lnTo>
                    <a:lnTo>
                      <a:pt x="981" y="579"/>
                    </a:lnTo>
                    <a:lnTo>
                      <a:pt x="821" y="575"/>
                    </a:lnTo>
                    <a:lnTo>
                      <a:pt x="670" y="566"/>
                    </a:lnTo>
                    <a:lnTo>
                      <a:pt x="529" y="550"/>
                    </a:lnTo>
                    <a:lnTo>
                      <a:pt x="400" y="529"/>
                    </a:lnTo>
                    <a:lnTo>
                      <a:pt x="287" y="502"/>
                    </a:lnTo>
                    <a:lnTo>
                      <a:pt x="189" y="468"/>
                    </a:lnTo>
                    <a:lnTo>
                      <a:pt x="109" y="430"/>
                    </a:lnTo>
                    <a:lnTo>
                      <a:pt x="51" y="385"/>
                    </a:lnTo>
                    <a:lnTo>
                      <a:pt x="14" y="335"/>
                    </a:lnTo>
                    <a:lnTo>
                      <a:pt x="1" y="280"/>
                    </a:lnTo>
                  </a:path>
                </a:pathLst>
              </a:custGeom>
              <a:noFill/>
              <a:ln w="20520">
                <a:solidFill>
                  <a:srgbClr val="7b7b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Freeform 16"/>
              <p:cNvSpPr/>
              <p:nvPr/>
            </p:nvSpPr>
            <p:spPr>
              <a:xfrm>
                <a:off x="5063040" y="2222640"/>
                <a:ext cx="1833840" cy="250920"/>
              </a:xfrm>
              <a:custGeom>
                <a:avLst/>
                <a:gdLst>
                  <a:gd name="textAreaLeft" fmla="*/ 0 w 1833840"/>
                  <a:gd name="textAreaRight" fmla="*/ 1834200 w 1833840"/>
                  <a:gd name="textAreaTop" fmla="*/ 0 h 250920"/>
                  <a:gd name="textAreaBottom" fmla="*/ 251280 h 250920"/>
                </a:gdLst>
                <a:ahLst/>
                <a:rect l="textAreaLeft" t="textAreaTop" r="textAreaRight" b="textAreaBottom"/>
                <a:pathLst>
                  <a:path w="1951" h="573">
                    <a:moveTo>
                      <a:pt x="0" y="280"/>
                    </a:moveTo>
                    <a:lnTo>
                      <a:pt x="13" y="233"/>
                    </a:lnTo>
                    <a:lnTo>
                      <a:pt x="50" y="190"/>
                    </a:lnTo>
                    <a:lnTo>
                      <a:pt x="110" y="151"/>
                    </a:lnTo>
                    <a:lnTo>
                      <a:pt x="188" y="113"/>
                    </a:lnTo>
                    <a:lnTo>
                      <a:pt x="286" y="81"/>
                    </a:lnTo>
                    <a:lnTo>
                      <a:pt x="399" y="54"/>
                    </a:lnTo>
                    <a:lnTo>
                      <a:pt x="527" y="33"/>
                    </a:lnTo>
                    <a:lnTo>
                      <a:pt x="668" y="15"/>
                    </a:lnTo>
                    <a:lnTo>
                      <a:pt x="819" y="4"/>
                    </a:lnTo>
                    <a:lnTo>
                      <a:pt x="979" y="0"/>
                    </a:lnTo>
                    <a:lnTo>
                      <a:pt x="1139" y="4"/>
                    </a:lnTo>
                    <a:lnTo>
                      <a:pt x="1288" y="15"/>
                    </a:lnTo>
                    <a:lnTo>
                      <a:pt x="1428" y="33"/>
                    </a:lnTo>
                    <a:lnTo>
                      <a:pt x="1556" y="54"/>
                    </a:lnTo>
                    <a:lnTo>
                      <a:pt x="1669" y="81"/>
                    </a:lnTo>
                    <a:lnTo>
                      <a:pt x="1765" y="113"/>
                    </a:lnTo>
                    <a:lnTo>
                      <a:pt x="1843" y="151"/>
                    </a:lnTo>
                    <a:lnTo>
                      <a:pt x="1901" y="190"/>
                    </a:lnTo>
                    <a:lnTo>
                      <a:pt x="1938" y="233"/>
                    </a:lnTo>
                    <a:lnTo>
                      <a:pt x="1951" y="280"/>
                    </a:lnTo>
                    <a:lnTo>
                      <a:pt x="1938" y="333"/>
                    </a:lnTo>
                    <a:lnTo>
                      <a:pt x="1901" y="384"/>
                    </a:lnTo>
                    <a:lnTo>
                      <a:pt x="1843" y="427"/>
                    </a:lnTo>
                    <a:lnTo>
                      <a:pt x="1765" y="466"/>
                    </a:lnTo>
                    <a:lnTo>
                      <a:pt x="1669" y="498"/>
                    </a:lnTo>
                    <a:lnTo>
                      <a:pt x="1556" y="525"/>
                    </a:lnTo>
                    <a:lnTo>
                      <a:pt x="1428" y="547"/>
                    </a:lnTo>
                    <a:lnTo>
                      <a:pt x="1288" y="561"/>
                    </a:lnTo>
                    <a:lnTo>
                      <a:pt x="1139" y="572"/>
                    </a:lnTo>
                    <a:lnTo>
                      <a:pt x="979" y="573"/>
                    </a:lnTo>
                    <a:lnTo>
                      <a:pt x="819" y="572"/>
                    </a:lnTo>
                    <a:lnTo>
                      <a:pt x="668" y="561"/>
                    </a:lnTo>
                    <a:lnTo>
                      <a:pt x="527" y="547"/>
                    </a:lnTo>
                    <a:lnTo>
                      <a:pt x="399" y="525"/>
                    </a:lnTo>
                    <a:lnTo>
                      <a:pt x="286" y="498"/>
                    </a:lnTo>
                    <a:lnTo>
                      <a:pt x="188" y="466"/>
                    </a:lnTo>
                    <a:lnTo>
                      <a:pt x="110" y="427"/>
                    </a:lnTo>
                    <a:lnTo>
                      <a:pt x="50" y="384"/>
                    </a:lnTo>
                    <a:lnTo>
                      <a:pt x="13" y="333"/>
                    </a:lnTo>
                    <a:lnTo>
                      <a:pt x="0" y="280"/>
                    </a:lnTo>
                  </a:path>
                </a:pathLst>
              </a:custGeom>
              <a:noFill/>
              <a:ln w="20520">
                <a:solidFill>
                  <a:srgbClr val="82828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Freeform 17"/>
              <p:cNvSpPr/>
              <p:nvPr/>
            </p:nvSpPr>
            <p:spPr>
              <a:xfrm>
                <a:off x="5065560" y="2223360"/>
                <a:ext cx="1827360" cy="248400"/>
              </a:xfrm>
              <a:custGeom>
                <a:avLst/>
                <a:gdLst>
                  <a:gd name="textAreaLeft" fmla="*/ 0 w 1827360"/>
                  <a:gd name="textAreaRight" fmla="*/ 1827720 w 1827360"/>
                  <a:gd name="textAreaTop" fmla="*/ 0 h 248400"/>
                  <a:gd name="textAreaBottom" fmla="*/ 248760 h 248400"/>
                </a:gdLst>
                <a:ahLst/>
                <a:rect l="textAreaLeft" t="textAreaTop" r="textAreaRight" b="textAreaBottom"/>
                <a:pathLst>
                  <a:path w="1944" h="568">
                    <a:moveTo>
                      <a:pt x="0" y="276"/>
                    </a:moveTo>
                    <a:lnTo>
                      <a:pt x="13" y="231"/>
                    </a:lnTo>
                    <a:lnTo>
                      <a:pt x="50" y="188"/>
                    </a:lnTo>
                    <a:lnTo>
                      <a:pt x="108" y="149"/>
                    </a:lnTo>
                    <a:lnTo>
                      <a:pt x="188" y="113"/>
                    </a:lnTo>
                    <a:lnTo>
                      <a:pt x="284" y="81"/>
                    </a:lnTo>
                    <a:lnTo>
                      <a:pt x="397" y="54"/>
                    </a:lnTo>
                    <a:lnTo>
                      <a:pt x="525" y="31"/>
                    </a:lnTo>
                    <a:lnTo>
                      <a:pt x="666" y="14"/>
                    </a:lnTo>
                    <a:lnTo>
                      <a:pt x="816" y="4"/>
                    </a:lnTo>
                    <a:lnTo>
                      <a:pt x="976" y="0"/>
                    </a:lnTo>
                    <a:lnTo>
                      <a:pt x="1134" y="4"/>
                    </a:lnTo>
                    <a:lnTo>
                      <a:pt x="1285" y="14"/>
                    </a:lnTo>
                    <a:lnTo>
                      <a:pt x="1424" y="31"/>
                    </a:lnTo>
                    <a:lnTo>
                      <a:pt x="1550" y="54"/>
                    </a:lnTo>
                    <a:lnTo>
                      <a:pt x="1663" y="81"/>
                    </a:lnTo>
                    <a:lnTo>
                      <a:pt x="1760" y="113"/>
                    </a:lnTo>
                    <a:lnTo>
                      <a:pt x="1837" y="149"/>
                    </a:lnTo>
                    <a:lnTo>
                      <a:pt x="1896" y="188"/>
                    </a:lnTo>
                    <a:lnTo>
                      <a:pt x="1931" y="231"/>
                    </a:lnTo>
                    <a:lnTo>
                      <a:pt x="1944" y="278"/>
                    </a:lnTo>
                    <a:lnTo>
                      <a:pt x="1931" y="331"/>
                    </a:lnTo>
                    <a:lnTo>
                      <a:pt x="1896" y="380"/>
                    </a:lnTo>
                    <a:lnTo>
                      <a:pt x="1837" y="423"/>
                    </a:lnTo>
                    <a:lnTo>
                      <a:pt x="1760" y="460"/>
                    </a:lnTo>
                    <a:lnTo>
                      <a:pt x="1663" y="493"/>
                    </a:lnTo>
                    <a:lnTo>
                      <a:pt x="1550" y="520"/>
                    </a:lnTo>
                    <a:lnTo>
                      <a:pt x="1424" y="541"/>
                    </a:lnTo>
                    <a:lnTo>
                      <a:pt x="1285" y="555"/>
                    </a:lnTo>
                    <a:lnTo>
                      <a:pt x="1134" y="564"/>
                    </a:lnTo>
                    <a:lnTo>
                      <a:pt x="976" y="568"/>
                    </a:lnTo>
                    <a:lnTo>
                      <a:pt x="816" y="564"/>
                    </a:lnTo>
                    <a:lnTo>
                      <a:pt x="666" y="555"/>
                    </a:lnTo>
                    <a:lnTo>
                      <a:pt x="525" y="541"/>
                    </a:lnTo>
                    <a:lnTo>
                      <a:pt x="397" y="520"/>
                    </a:lnTo>
                    <a:lnTo>
                      <a:pt x="284" y="493"/>
                    </a:lnTo>
                    <a:lnTo>
                      <a:pt x="188" y="460"/>
                    </a:lnTo>
                    <a:lnTo>
                      <a:pt x="108" y="423"/>
                    </a:lnTo>
                    <a:lnTo>
                      <a:pt x="50" y="380"/>
                    </a:lnTo>
                    <a:lnTo>
                      <a:pt x="13" y="331"/>
                    </a:lnTo>
                    <a:lnTo>
                      <a:pt x="0" y="278"/>
                    </a:lnTo>
                  </a:path>
                </a:pathLst>
              </a:custGeom>
              <a:noFill/>
              <a:ln w="20520">
                <a:solidFill>
                  <a:srgbClr val="8a8a8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Freeform 18"/>
              <p:cNvSpPr/>
              <p:nvPr/>
            </p:nvSpPr>
            <p:spPr>
              <a:xfrm>
                <a:off x="5068440" y="2224440"/>
                <a:ext cx="1820880" cy="244800"/>
              </a:xfrm>
              <a:custGeom>
                <a:avLst/>
                <a:gdLst>
                  <a:gd name="textAreaLeft" fmla="*/ 0 w 1820880"/>
                  <a:gd name="textAreaRight" fmla="*/ 1821240 w 1820880"/>
                  <a:gd name="textAreaTop" fmla="*/ 0 h 244800"/>
                  <a:gd name="textAreaBottom" fmla="*/ 245160 h 244800"/>
                </a:gdLst>
                <a:ahLst/>
                <a:rect l="textAreaLeft" t="textAreaTop" r="textAreaRight" b="textAreaBottom"/>
                <a:pathLst>
                  <a:path w="1937" h="561">
                    <a:moveTo>
                      <a:pt x="0" y="274"/>
                    </a:moveTo>
                    <a:lnTo>
                      <a:pt x="12" y="229"/>
                    </a:lnTo>
                    <a:lnTo>
                      <a:pt x="49" y="186"/>
                    </a:lnTo>
                    <a:lnTo>
                      <a:pt x="107" y="147"/>
                    </a:lnTo>
                    <a:lnTo>
                      <a:pt x="186" y="111"/>
                    </a:lnTo>
                    <a:lnTo>
                      <a:pt x="283" y="81"/>
                    </a:lnTo>
                    <a:lnTo>
                      <a:pt x="397" y="52"/>
                    </a:lnTo>
                    <a:lnTo>
                      <a:pt x="524" y="30"/>
                    </a:lnTo>
                    <a:lnTo>
                      <a:pt x="663" y="14"/>
                    </a:lnTo>
                    <a:lnTo>
                      <a:pt x="814" y="3"/>
                    </a:lnTo>
                    <a:lnTo>
                      <a:pt x="973" y="0"/>
                    </a:lnTo>
                    <a:lnTo>
                      <a:pt x="1131" y="3"/>
                    </a:lnTo>
                    <a:lnTo>
                      <a:pt x="1281" y="14"/>
                    </a:lnTo>
                    <a:lnTo>
                      <a:pt x="1419" y="30"/>
                    </a:lnTo>
                    <a:lnTo>
                      <a:pt x="1546" y="52"/>
                    </a:lnTo>
                    <a:lnTo>
                      <a:pt x="1658" y="81"/>
                    </a:lnTo>
                    <a:lnTo>
                      <a:pt x="1754" y="111"/>
                    </a:lnTo>
                    <a:lnTo>
                      <a:pt x="1832" y="147"/>
                    </a:lnTo>
                    <a:lnTo>
                      <a:pt x="1889" y="186"/>
                    </a:lnTo>
                    <a:lnTo>
                      <a:pt x="1926" y="229"/>
                    </a:lnTo>
                    <a:lnTo>
                      <a:pt x="1937" y="274"/>
                    </a:lnTo>
                    <a:lnTo>
                      <a:pt x="1926" y="328"/>
                    </a:lnTo>
                    <a:lnTo>
                      <a:pt x="1889" y="376"/>
                    </a:lnTo>
                    <a:lnTo>
                      <a:pt x="1832" y="419"/>
                    </a:lnTo>
                    <a:lnTo>
                      <a:pt x="1754" y="455"/>
                    </a:lnTo>
                    <a:lnTo>
                      <a:pt x="1658" y="487"/>
                    </a:lnTo>
                    <a:lnTo>
                      <a:pt x="1546" y="514"/>
                    </a:lnTo>
                    <a:lnTo>
                      <a:pt x="1419" y="534"/>
                    </a:lnTo>
                    <a:lnTo>
                      <a:pt x="1281" y="550"/>
                    </a:lnTo>
                    <a:lnTo>
                      <a:pt x="1131" y="559"/>
                    </a:lnTo>
                    <a:lnTo>
                      <a:pt x="973" y="561"/>
                    </a:lnTo>
                    <a:lnTo>
                      <a:pt x="814" y="559"/>
                    </a:lnTo>
                    <a:lnTo>
                      <a:pt x="663" y="550"/>
                    </a:lnTo>
                    <a:lnTo>
                      <a:pt x="524" y="534"/>
                    </a:lnTo>
                    <a:lnTo>
                      <a:pt x="397" y="514"/>
                    </a:lnTo>
                    <a:lnTo>
                      <a:pt x="283" y="487"/>
                    </a:lnTo>
                    <a:lnTo>
                      <a:pt x="186" y="455"/>
                    </a:lnTo>
                    <a:lnTo>
                      <a:pt x="107" y="419"/>
                    </a:lnTo>
                    <a:lnTo>
                      <a:pt x="49" y="376"/>
                    </a:lnTo>
                    <a:lnTo>
                      <a:pt x="12" y="328"/>
                    </a:lnTo>
                    <a:lnTo>
                      <a:pt x="0" y="274"/>
                    </a:lnTo>
                  </a:path>
                </a:pathLst>
              </a:custGeom>
              <a:noFill/>
              <a:ln w="20520">
                <a:solidFill>
                  <a:srgbClr val="92929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Freeform 19"/>
              <p:cNvSpPr/>
              <p:nvPr/>
            </p:nvSpPr>
            <p:spPr>
              <a:xfrm>
                <a:off x="5069160" y="2225160"/>
                <a:ext cx="1817280" cy="241920"/>
              </a:xfrm>
              <a:custGeom>
                <a:avLst/>
                <a:gdLst>
                  <a:gd name="textAreaLeft" fmla="*/ 0 w 1817280"/>
                  <a:gd name="textAreaRight" fmla="*/ 1817640 w 1817280"/>
                  <a:gd name="textAreaTop" fmla="*/ 0 h 241920"/>
                  <a:gd name="textAreaBottom" fmla="*/ 242280 h 241920"/>
                </a:gdLst>
                <a:ahLst/>
                <a:rect l="textAreaLeft" t="textAreaTop" r="textAreaRight" b="textAreaBottom"/>
                <a:pathLst>
                  <a:path w="1933" h="555">
                    <a:moveTo>
                      <a:pt x="0" y="270"/>
                    </a:moveTo>
                    <a:lnTo>
                      <a:pt x="14" y="227"/>
                    </a:lnTo>
                    <a:lnTo>
                      <a:pt x="49" y="184"/>
                    </a:lnTo>
                    <a:lnTo>
                      <a:pt x="108" y="147"/>
                    </a:lnTo>
                    <a:lnTo>
                      <a:pt x="186" y="111"/>
                    </a:lnTo>
                    <a:lnTo>
                      <a:pt x="284" y="79"/>
                    </a:lnTo>
                    <a:lnTo>
                      <a:pt x="397" y="52"/>
                    </a:lnTo>
                    <a:lnTo>
                      <a:pt x="524" y="30"/>
                    </a:lnTo>
                    <a:lnTo>
                      <a:pt x="663" y="14"/>
                    </a:lnTo>
                    <a:lnTo>
                      <a:pt x="813" y="3"/>
                    </a:lnTo>
                    <a:lnTo>
                      <a:pt x="972" y="0"/>
                    </a:lnTo>
                    <a:lnTo>
                      <a:pt x="1130" y="3"/>
                    </a:lnTo>
                    <a:lnTo>
                      <a:pt x="1279" y="14"/>
                    </a:lnTo>
                    <a:lnTo>
                      <a:pt x="1417" y="30"/>
                    </a:lnTo>
                    <a:lnTo>
                      <a:pt x="1544" y="52"/>
                    </a:lnTo>
                    <a:lnTo>
                      <a:pt x="1654" y="79"/>
                    </a:lnTo>
                    <a:lnTo>
                      <a:pt x="1751" y="111"/>
                    </a:lnTo>
                    <a:lnTo>
                      <a:pt x="1827" y="147"/>
                    </a:lnTo>
                    <a:lnTo>
                      <a:pt x="1885" y="184"/>
                    </a:lnTo>
                    <a:lnTo>
                      <a:pt x="1921" y="227"/>
                    </a:lnTo>
                    <a:lnTo>
                      <a:pt x="1933" y="272"/>
                    </a:lnTo>
                    <a:lnTo>
                      <a:pt x="1921" y="324"/>
                    </a:lnTo>
                    <a:lnTo>
                      <a:pt x="1885" y="372"/>
                    </a:lnTo>
                    <a:lnTo>
                      <a:pt x="1827" y="413"/>
                    </a:lnTo>
                    <a:lnTo>
                      <a:pt x="1751" y="451"/>
                    </a:lnTo>
                    <a:lnTo>
                      <a:pt x="1654" y="482"/>
                    </a:lnTo>
                    <a:lnTo>
                      <a:pt x="1544" y="508"/>
                    </a:lnTo>
                    <a:lnTo>
                      <a:pt x="1417" y="528"/>
                    </a:lnTo>
                    <a:lnTo>
                      <a:pt x="1279" y="542"/>
                    </a:lnTo>
                    <a:lnTo>
                      <a:pt x="1130" y="551"/>
                    </a:lnTo>
                    <a:lnTo>
                      <a:pt x="972" y="555"/>
                    </a:lnTo>
                    <a:lnTo>
                      <a:pt x="813" y="551"/>
                    </a:lnTo>
                    <a:lnTo>
                      <a:pt x="663" y="542"/>
                    </a:lnTo>
                    <a:lnTo>
                      <a:pt x="524" y="528"/>
                    </a:lnTo>
                    <a:lnTo>
                      <a:pt x="397" y="508"/>
                    </a:lnTo>
                    <a:lnTo>
                      <a:pt x="284" y="482"/>
                    </a:lnTo>
                    <a:lnTo>
                      <a:pt x="186" y="451"/>
                    </a:lnTo>
                    <a:lnTo>
                      <a:pt x="108" y="413"/>
                    </a:lnTo>
                    <a:lnTo>
                      <a:pt x="49" y="372"/>
                    </a:lnTo>
                    <a:lnTo>
                      <a:pt x="14" y="324"/>
                    </a:lnTo>
                    <a:lnTo>
                      <a:pt x="1" y="272"/>
                    </a:lnTo>
                  </a:path>
                </a:pathLst>
              </a:custGeom>
              <a:noFill/>
              <a:ln w="20520">
                <a:solidFill>
                  <a:srgbClr val="9a9a9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Freeform 20"/>
              <p:cNvSpPr/>
              <p:nvPr/>
            </p:nvSpPr>
            <p:spPr>
              <a:xfrm>
                <a:off x="5071320" y="2226240"/>
                <a:ext cx="1812600" cy="239400"/>
              </a:xfrm>
              <a:custGeom>
                <a:avLst/>
                <a:gdLst>
                  <a:gd name="textAreaLeft" fmla="*/ 0 w 1812600"/>
                  <a:gd name="textAreaRight" fmla="*/ 1812960 w 1812600"/>
                  <a:gd name="textAreaTop" fmla="*/ 0 h 239400"/>
                  <a:gd name="textAreaBottom" fmla="*/ 239760 h 239400"/>
                </a:gdLst>
                <a:ahLst/>
                <a:rect l="textAreaLeft" t="textAreaTop" r="textAreaRight" b="textAreaBottom"/>
                <a:pathLst>
                  <a:path w="1928" h="549">
                    <a:moveTo>
                      <a:pt x="0" y="269"/>
                    </a:moveTo>
                    <a:lnTo>
                      <a:pt x="13" y="226"/>
                    </a:lnTo>
                    <a:lnTo>
                      <a:pt x="50" y="183"/>
                    </a:lnTo>
                    <a:lnTo>
                      <a:pt x="108" y="146"/>
                    </a:lnTo>
                    <a:lnTo>
                      <a:pt x="187" y="110"/>
                    </a:lnTo>
                    <a:lnTo>
                      <a:pt x="283" y="79"/>
                    </a:lnTo>
                    <a:lnTo>
                      <a:pt x="396" y="52"/>
                    </a:lnTo>
                    <a:lnTo>
                      <a:pt x="523" y="31"/>
                    </a:lnTo>
                    <a:lnTo>
                      <a:pt x="661" y="15"/>
                    </a:lnTo>
                    <a:lnTo>
                      <a:pt x="811" y="4"/>
                    </a:lnTo>
                    <a:lnTo>
                      <a:pt x="970" y="0"/>
                    </a:lnTo>
                    <a:lnTo>
                      <a:pt x="1127" y="4"/>
                    </a:lnTo>
                    <a:lnTo>
                      <a:pt x="1277" y="15"/>
                    </a:lnTo>
                    <a:lnTo>
                      <a:pt x="1414" y="31"/>
                    </a:lnTo>
                    <a:lnTo>
                      <a:pt x="1539" y="52"/>
                    </a:lnTo>
                    <a:lnTo>
                      <a:pt x="1651" y="79"/>
                    </a:lnTo>
                    <a:lnTo>
                      <a:pt x="1746" y="110"/>
                    </a:lnTo>
                    <a:lnTo>
                      <a:pt x="1822" y="146"/>
                    </a:lnTo>
                    <a:lnTo>
                      <a:pt x="1879" y="183"/>
                    </a:lnTo>
                    <a:lnTo>
                      <a:pt x="1915" y="226"/>
                    </a:lnTo>
                    <a:lnTo>
                      <a:pt x="1928" y="269"/>
                    </a:lnTo>
                    <a:lnTo>
                      <a:pt x="1915" y="321"/>
                    </a:lnTo>
                    <a:lnTo>
                      <a:pt x="1879" y="368"/>
                    </a:lnTo>
                    <a:lnTo>
                      <a:pt x="1822" y="411"/>
                    </a:lnTo>
                    <a:lnTo>
                      <a:pt x="1746" y="446"/>
                    </a:lnTo>
                    <a:lnTo>
                      <a:pt x="1651" y="477"/>
                    </a:lnTo>
                    <a:lnTo>
                      <a:pt x="1539" y="504"/>
                    </a:lnTo>
                    <a:lnTo>
                      <a:pt x="1414" y="523"/>
                    </a:lnTo>
                    <a:lnTo>
                      <a:pt x="1277" y="538"/>
                    </a:lnTo>
                    <a:lnTo>
                      <a:pt x="1127" y="545"/>
                    </a:lnTo>
                    <a:lnTo>
                      <a:pt x="970" y="549"/>
                    </a:lnTo>
                    <a:lnTo>
                      <a:pt x="811" y="545"/>
                    </a:lnTo>
                    <a:lnTo>
                      <a:pt x="661" y="538"/>
                    </a:lnTo>
                    <a:lnTo>
                      <a:pt x="523" y="523"/>
                    </a:lnTo>
                    <a:lnTo>
                      <a:pt x="396" y="504"/>
                    </a:lnTo>
                    <a:lnTo>
                      <a:pt x="283" y="477"/>
                    </a:lnTo>
                    <a:lnTo>
                      <a:pt x="187" y="446"/>
                    </a:lnTo>
                    <a:lnTo>
                      <a:pt x="108" y="411"/>
                    </a:lnTo>
                    <a:lnTo>
                      <a:pt x="50" y="368"/>
                    </a:lnTo>
                    <a:lnTo>
                      <a:pt x="13" y="321"/>
                    </a:lnTo>
                    <a:lnTo>
                      <a:pt x="0" y="269"/>
                    </a:lnTo>
                  </a:path>
                </a:pathLst>
              </a:custGeom>
              <a:noFill/>
              <a:ln w="20520">
                <a:solidFill>
                  <a:srgbClr val="a2a2a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Freeform 21"/>
              <p:cNvSpPr/>
              <p:nvPr/>
            </p:nvSpPr>
            <p:spPr>
              <a:xfrm>
                <a:off x="5073840" y="2226960"/>
                <a:ext cx="1806120" cy="236880"/>
              </a:xfrm>
              <a:custGeom>
                <a:avLst/>
                <a:gdLst>
                  <a:gd name="textAreaLeft" fmla="*/ 0 w 1806120"/>
                  <a:gd name="textAreaRight" fmla="*/ 1806480 w 1806120"/>
                  <a:gd name="textAreaTop" fmla="*/ 0 h 236880"/>
                  <a:gd name="textAreaBottom" fmla="*/ 237240 h 236880"/>
                </a:gdLst>
                <a:ahLst/>
                <a:rect l="textAreaLeft" t="textAreaTop" r="textAreaRight" b="textAreaBottom"/>
                <a:pathLst>
                  <a:path w="1921" h="543">
                    <a:moveTo>
                      <a:pt x="0" y="265"/>
                    </a:moveTo>
                    <a:lnTo>
                      <a:pt x="13" y="222"/>
                    </a:lnTo>
                    <a:lnTo>
                      <a:pt x="49" y="181"/>
                    </a:lnTo>
                    <a:lnTo>
                      <a:pt x="108" y="144"/>
                    </a:lnTo>
                    <a:lnTo>
                      <a:pt x="185" y="110"/>
                    </a:lnTo>
                    <a:lnTo>
                      <a:pt x="282" y="77"/>
                    </a:lnTo>
                    <a:lnTo>
                      <a:pt x="395" y="50"/>
                    </a:lnTo>
                    <a:lnTo>
                      <a:pt x="520" y="29"/>
                    </a:lnTo>
                    <a:lnTo>
                      <a:pt x="660" y="15"/>
                    </a:lnTo>
                    <a:lnTo>
                      <a:pt x="809" y="4"/>
                    </a:lnTo>
                    <a:lnTo>
                      <a:pt x="967" y="0"/>
                    </a:lnTo>
                    <a:lnTo>
                      <a:pt x="1124" y="4"/>
                    </a:lnTo>
                    <a:lnTo>
                      <a:pt x="1273" y="15"/>
                    </a:lnTo>
                    <a:lnTo>
                      <a:pt x="1410" y="29"/>
                    </a:lnTo>
                    <a:lnTo>
                      <a:pt x="1535" y="50"/>
                    </a:lnTo>
                    <a:lnTo>
                      <a:pt x="1646" y="77"/>
                    </a:lnTo>
                    <a:lnTo>
                      <a:pt x="1739" y="110"/>
                    </a:lnTo>
                    <a:lnTo>
                      <a:pt x="1817" y="144"/>
                    </a:lnTo>
                    <a:lnTo>
                      <a:pt x="1874" y="181"/>
                    </a:lnTo>
                    <a:lnTo>
                      <a:pt x="1909" y="222"/>
                    </a:lnTo>
                    <a:lnTo>
                      <a:pt x="1921" y="267"/>
                    </a:lnTo>
                    <a:lnTo>
                      <a:pt x="1909" y="319"/>
                    </a:lnTo>
                    <a:lnTo>
                      <a:pt x="1874" y="364"/>
                    </a:lnTo>
                    <a:lnTo>
                      <a:pt x="1817" y="405"/>
                    </a:lnTo>
                    <a:lnTo>
                      <a:pt x="1739" y="441"/>
                    </a:lnTo>
                    <a:lnTo>
                      <a:pt x="1646" y="471"/>
                    </a:lnTo>
                    <a:lnTo>
                      <a:pt x="1535" y="496"/>
                    </a:lnTo>
                    <a:lnTo>
                      <a:pt x="1410" y="516"/>
                    </a:lnTo>
                    <a:lnTo>
                      <a:pt x="1273" y="530"/>
                    </a:lnTo>
                    <a:lnTo>
                      <a:pt x="1124" y="539"/>
                    </a:lnTo>
                    <a:lnTo>
                      <a:pt x="967" y="543"/>
                    </a:lnTo>
                    <a:lnTo>
                      <a:pt x="809" y="539"/>
                    </a:lnTo>
                    <a:lnTo>
                      <a:pt x="660" y="530"/>
                    </a:lnTo>
                    <a:lnTo>
                      <a:pt x="520" y="516"/>
                    </a:lnTo>
                    <a:lnTo>
                      <a:pt x="395" y="496"/>
                    </a:lnTo>
                    <a:lnTo>
                      <a:pt x="282" y="471"/>
                    </a:lnTo>
                    <a:lnTo>
                      <a:pt x="185" y="441"/>
                    </a:lnTo>
                    <a:lnTo>
                      <a:pt x="108" y="405"/>
                    </a:lnTo>
                    <a:lnTo>
                      <a:pt x="49" y="364"/>
                    </a:lnTo>
                    <a:lnTo>
                      <a:pt x="13" y="319"/>
                    </a:lnTo>
                    <a:lnTo>
                      <a:pt x="0" y="267"/>
                    </a:lnTo>
                  </a:path>
                </a:pathLst>
              </a:custGeom>
              <a:noFill/>
              <a:ln w="2052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Freeform 22"/>
              <p:cNvSpPr/>
              <p:nvPr/>
            </p:nvSpPr>
            <p:spPr>
              <a:xfrm>
                <a:off x="5076000" y="2228040"/>
                <a:ext cx="1801080" cy="233280"/>
              </a:xfrm>
              <a:custGeom>
                <a:avLst/>
                <a:gdLst>
                  <a:gd name="textAreaLeft" fmla="*/ 0 w 1801080"/>
                  <a:gd name="textAreaRight" fmla="*/ 1801440 w 1801080"/>
                  <a:gd name="textAreaTop" fmla="*/ 0 h 233280"/>
                  <a:gd name="textAreaBottom" fmla="*/ 233640 h 233280"/>
                </a:gdLst>
                <a:ahLst/>
                <a:rect l="textAreaLeft" t="textAreaTop" r="textAreaRight" b="textAreaBottom"/>
                <a:pathLst>
                  <a:path w="1916" h="536">
                    <a:moveTo>
                      <a:pt x="0" y="263"/>
                    </a:moveTo>
                    <a:lnTo>
                      <a:pt x="13" y="220"/>
                    </a:lnTo>
                    <a:lnTo>
                      <a:pt x="49" y="179"/>
                    </a:lnTo>
                    <a:lnTo>
                      <a:pt x="107" y="142"/>
                    </a:lnTo>
                    <a:lnTo>
                      <a:pt x="186" y="108"/>
                    </a:lnTo>
                    <a:lnTo>
                      <a:pt x="281" y="77"/>
                    </a:lnTo>
                    <a:lnTo>
                      <a:pt x="394" y="50"/>
                    </a:lnTo>
                    <a:lnTo>
                      <a:pt x="519" y="29"/>
                    </a:lnTo>
                    <a:lnTo>
                      <a:pt x="658" y="13"/>
                    </a:lnTo>
                    <a:lnTo>
                      <a:pt x="807" y="4"/>
                    </a:lnTo>
                    <a:lnTo>
                      <a:pt x="965" y="0"/>
                    </a:lnTo>
                    <a:lnTo>
                      <a:pt x="1122" y="4"/>
                    </a:lnTo>
                    <a:lnTo>
                      <a:pt x="1269" y="13"/>
                    </a:lnTo>
                    <a:lnTo>
                      <a:pt x="1406" y="29"/>
                    </a:lnTo>
                    <a:lnTo>
                      <a:pt x="1531" y="50"/>
                    </a:lnTo>
                    <a:lnTo>
                      <a:pt x="1641" y="77"/>
                    </a:lnTo>
                    <a:lnTo>
                      <a:pt x="1735" y="108"/>
                    </a:lnTo>
                    <a:lnTo>
                      <a:pt x="1812" y="142"/>
                    </a:lnTo>
                    <a:lnTo>
                      <a:pt x="1868" y="179"/>
                    </a:lnTo>
                    <a:lnTo>
                      <a:pt x="1904" y="220"/>
                    </a:lnTo>
                    <a:lnTo>
                      <a:pt x="1916" y="263"/>
                    </a:lnTo>
                    <a:lnTo>
                      <a:pt x="1904" y="315"/>
                    </a:lnTo>
                    <a:lnTo>
                      <a:pt x="1868" y="360"/>
                    </a:lnTo>
                    <a:lnTo>
                      <a:pt x="1812" y="401"/>
                    </a:lnTo>
                    <a:lnTo>
                      <a:pt x="1735" y="437"/>
                    </a:lnTo>
                    <a:lnTo>
                      <a:pt x="1641" y="466"/>
                    </a:lnTo>
                    <a:lnTo>
                      <a:pt x="1531" y="491"/>
                    </a:lnTo>
                    <a:lnTo>
                      <a:pt x="1406" y="511"/>
                    </a:lnTo>
                    <a:lnTo>
                      <a:pt x="1269" y="525"/>
                    </a:lnTo>
                    <a:lnTo>
                      <a:pt x="1122" y="532"/>
                    </a:lnTo>
                    <a:lnTo>
                      <a:pt x="965" y="536"/>
                    </a:lnTo>
                    <a:lnTo>
                      <a:pt x="807" y="532"/>
                    </a:lnTo>
                    <a:lnTo>
                      <a:pt x="658" y="525"/>
                    </a:lnTo>
                    <a:lnTo>
                      <a:pt x="519" y="511"/>
                    </a:lnTo>
                    <a:lnTo>
                      <a:pt x="394" y="491"/>
                    </a:lnTo>
                    <a:lnTo>
                      <a:pt x="281" y="466"/>
                    </a:lnTo>
                    <a:lnTo>
                      <a:pt x="186" y="437"/>
                    </a:lnTo>
                    <a:lnTo>
                      <a:pt x="107" y="401"/>
                    </a:lnTo>
                    <a:lnTo>
                      <a:pt x="49" y="360"/>
                    </a:lnTo>
                    <a:lnTo>
                      <a:pt x="13" y="315"/>
                    </a:lnTo>
                    <a:lnTo>
                      <a:pt x="0" y="263"/>
                    </a:lnTo>
                  </a:path>
                </a:pathLst>
              </a:custGeom>
              <a:noFill/>
              <a:ln w="2052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Freeform 23"/>
              <p:cNvSpPr/>
              <p:nvPr/>
            </p:nvSpPr>
            <p:spPr>
              <a:xfrm>
                <a:off x="5077800" y="2228040"/>
                <a:ext cx="1796400" cy="231840"/>
              </a:xfrm>
              <a:custGeom>
                <a:avLst/>
                <a:gdLst>
                  <a:gd name="textAreaLeft" fmla="*/ 0 w 1796400"/>
                  <a:gd name="textAreaRight" fmla="*/ 1796760 w 1796400"/>
                  <a:gd name="textAreaTop" fmla="*/ 0 h 231840"/>
                  <a:gd name="textAreaBottom" fmla="*/ 232200 h 231840"/>
                </a:gdLst>
                <a:ahLst/>
                <a:rect l="textAreaLeft" t="textAreaTop" r="textAreaRight" b="textAreaBottom"/>
                <a:pathLst>
                  <a:path w="1911" h="528">
                    <a:moveTo>
                      <a:pt x="0" y="260"/>
                    </a:moveTo>
                    <a:lnTo>
                      <a:pt x="14" y="218"/>
                    </a:lnTo>
                    <a:lnTo>
                      <a:pt x="49" y="177"/>
                    </a:lnTo>
                    <a:lnTo>
                      <a:pt x="108" y="140"/>
                    </a:lnTo>
                    <a:lnTo>
                      <a:pt x="185" y="106"/>
                    </a:lnTo>
                    <a:lnTo>
                      <a:pt x="281" y="75"/>
                    </a:lnTo>
                    <a:lnTo>
                      <a:pt x="393" y="50"/>
                    </a:lnTo>
                    <a:lnTo>
                      <a:pt x="519" y="29"/>
                    </a:lnTo>
                    <a:lnTo>
                      <a:pt x="657" y="12"/>
                    </a:lnTo>
                    <a:lnTo>
                      <a:pt x="805" y="3"/>
                    </a:lnTo>
                    <a:lnTo>
                      <a:pt x="963" y="0"/>
                    </a:lnTo>
                    <a:lnTo>
                      <a:pt x="1119" y="3"/>
                    </a:lnTo>
                    <a:lnTo>
                      <a:pt x="1267" y="12"/>
                    </a:lnTo>
                    <a:lnTo>
                      <a:pt x="1403" y="29"/>
                    </a:lnTo>
                    <a:lnTo>
                      <a:pt x="1527" y="50"/>
                    </a:lnTo>
                    <a:lnTo>
                      <a:pt x="1638" y="75"/>
                    </a:lnTo>
                    <a:lnTo>
                      <a:pt x="1730" y="106"/>
                    </a:lnTo>
                    <a:lnTo>
                      <a:pt x="1806" y="140"/>
                    </a:lnTo>
                    <a:lnTo>
                      <a:pt x="1864" y="177"/>
                    </a:lnTo>
                    <a:lnTo>
                      <a:pt x="1898" y="218"/>
                    </a:lnTo>
                    <a:lnTo>
                      <a:pt x="1911" y="261"/>
                    </a:lnTo>
                    <a:lnTo>
                      <a:pt x="1898" y="312"/>
                    </a:lnTo>
                    <a:lnTo>
                      <a:pt x="1864" y="356"/>
                    </a:lnTo>
                    <a:lnTo>
                      <a:pt x="1806" y="397"/>
                    </a:lnTo>
                    <a:lnTo>
                      <a:pt x="1730" y="432"/>
                    </a:lnTo>
                    <a:lnTo>
                      <a:pt x="1638" y="462"/>
                    </a:lnTo>
                    <a:lnTo>
                      <a:pt x="1527" y="485"/>
                    </a:lnTo>
                    <a:lnTo>
                      <a:pt x="1403" y="505"/>
                    </a:lnTo>
                    <a:lnTo>
                      <a:pt x="1267" y="517"/>
                    </a:lnTo>
                    <a:lnTo>
                      <a:pt x="1119" y="526"/>
                    </a:lnTo>
                    <a:lnTo>
                      <a:pt x="963" y="528"/>
                    </a:lnTo>
                    <a:lnTo>
                      <a:pt x="805" y="526"/>
                    </a:lnTo>
                    <a:lnTo>
                      <a:pt x="657" y="517"/>
                    </a:lnTo>
                    <a:lnTo>
                      <a:pt x="519" y="505"/>
                    </a:lnTo>
                    <a:lnTo>
                      <a:pt x="393" y="485"/>
                    </a:lnTo>
                    <a:lnTo>
                      <a:pt x="281" y="462"/>
                    </a:lnTo>
                    <a:lnTo>
                      <a:pt x="185" y="432"/>
                    </a:lnTo>
                    <a:lnTo>
                      <a:pt x="108" y="397"/>
                    </a:lnTo>
                    <a:lnTo>
                      <a:pt x="49" y="356"/>
                    </a:lnTo>
                    <a:lnTo>
                      <a:pt x="14" y="312"/>
                    </a:lnTo>
                    <a:lnTo>
                      <a:pt x="1" y="261"/>
                    </a:lnTo>
                  </a:path>
                </a:pathLst>
              </a:custGeom>
              <a:noFill/>
              <a:ln w="20520">
                <a:solidFill>
                  <a:srgbClr val="b9b9b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Freeform 24"/>
              <p:cNvSpPr/>
              <p:nvPr/>
            </p:nvSpPr>
            <p:spPr>
              <a:xfrm>
                <a:off x="5079600" y="2228760"/>
                <a:ext cx="1790640" cy="229320"/>
              </a:xfrm>
              <a:custGeom>
                <a:avLst/>
                <a:gdLst>
                  <a:gd name="textAreaLeft" fmla="*/ 0 w 1790640"/>
                  <a:gd name="textAreaRight" fmla="*/ 1791000 w 1790640"/>
                  <a:gd name="textAreaTop" fmla="*/ 0 h 229320"/>
                  <a:gd name="textAreaBottom" fmla="*/ 229680 h 229320"/>
                </a:gdLst>
                <a:ahLst/>
                <a:rect l="textAreaLeft" t="textAreaTop" r="textAreaRight" b="textAreaBottom"/>
                <a:pathLst>
                  <a:path w="1905" h="523">
                    <a:moveTo>
                      <a:pt x="0" y="258"/>
                    </a:moveTo>
                    <a:lnTo>
                      <a:pt x="13" y="216"/>
                    </a:lnTo>
                    <a:lnTo>
                      <a:pt x="50" y="175"/>
                    </a:lnTo>
                    <a:lnTo>
                      <a:pt x="107" y="139"/>
                    </a:lnTo>
                    <a:lnTo>
                      <a:pt x="186" y="105"/>
                    </a:lnTo>
                    <a:lnTo>
                      <a:pt x="281" y="75"/>
                    </a:lnTo>
                    <a:lnTo>
                      <a:pt x="392" y="50"/>
                    </a:lnTo>
                    <a:lnTo>
                      <a:pt x="518" y="28"/>
                    </a:lnTo>
                    <a:lnTo>
                      <a:pt x="656" y="12"/>
                    </a:lnTo>
                    <a:lnTo>
                      <a:pt x="803" y="3"/>
                    </a:lnTo>
                    <a:lnTo>
                      <a:pt x="961" y="0"/>
                    </a:lnTo>
                    <a:lnTo>
                      <a:pt x="1117" y="3"/>
                    </a:lnTo>
                    <a:lnTo>
                      <a:pt x="1264" y="12"/>
                    </a:lnTo>
                    <a:lnTo>
                      <a:pt x="1400" y="28"/>
                    </a:lnTo>
                    <a:lnTo>
                      <a:pt x="1524" y="50"/>
                    </a:lnTo>
                    <a:lnTo>
                      <a:pt x="1633" y="75"/>
                    </a:lnTo>
                    <a:lnTo>
                      <a:pt x="1726" y="105"/>
                    </a:lnTo>
                    <a:lnTo>
                      <a:pt x="1802" y="139"/>
                    </a:lnTo>
                    <a:lnTo>
                      <a:pt x="1858" y="175"/>
                    </a:lnTo>
                    <a:lnTo>
                      <a:pt x="1893" y="216"/>
                    </a:lnTo>
                    <a:lnTo>
                      <a:pt x="1905" y="258"/>
                    </a:lnTo>
                    <a:lnTo>
                      <a:pt x="1893" y="308"/>
                    </a:lnTo>
                    <a:lnTo>
                      <a:pt x="1858" y="353"/>
                    </a:lnTo>
                    <a:lnTo>
                      <a:pt x="1802" y="392"/>
                    </a:lnTo>
                    <a:lnTo>
                      <a:pt x="1726" y="426"/>
                    </a:lnTo>
                    <a:lnTo>
                      <a:pt x="1633" y="456"/>
                    </a:lnTo>
                    <a:lnTo>
                      <a:pt x="1524" y="480"/>
                    </a:lnTo>
                    <a:lnTo>
                      <a:pt x="1400" y="498"/>
                    </a:lnTo>
                    <a:lnTo>
                      <a:pt x="1264" y="512"/>
                    </a:lnTo>
                    <a:lnTo>
                      <a:pt x="1117" y="519"/>
                    </a:lnTo>
                    <a:lnTo>
                      <a:pt x="961" y="523"/>
                    </a:lnTo>
                    <a:lnTo>
                      <a:pt x="803" y="519"/>
                    </a:lnTo>
                    <a:lnTo>
                      <a:pt x="656" y="512"/>
                    </a:lnTo>
                    <a:lnTo>
                      <a:pt x="518" y="498"/>
                    </a:lnTo>
                    <a:lnTo>
                      <a:pt x="392" y="480"/>
                    </a:lnTo>
                    <a:lnTo>
                      <a:pt x="281" y="456"/>
                    </a:lnTo>
                    <a:lnTo>
                      <a:pt x="186" y="426"/>
                    </a:lnTo>
                    <a:lnTo>
                      <a:pt x="107" y="392"/>
                    </a:lnTo>
                    <a:lnTo>
                      <a:pt x="50" y="353"/>
                    </a:lnTo>
                    <a:lnTo>
                      <a:pt x="13" y="308"/>
                    </a:lnTo>
                    <a:lnTo>
                      <a:pt x="2" y="258"/>
                    </a:lnTo>
                  </a:path>
                </a:pathLst>
              </a:custGeom>
              <a:noFill/>
              <a:ln w="20520">
                <a:solidFill>
                  <a:srgbClr val="c1c1c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Freeform 25"/>
              <p:cNvSpPr/>
              <p:nvPr/>
            </p:nvSpPr>
            <p:spPr>
              <a:xfrm>
                <a:off x="5082480" y="2229840"/>
                <a:ext cx="1785240" cy="225360"/>
              </a:xfrm>
              <a:custGeom>
                <a:avLst/>
                <a:gdLst>
                  <a:gd name="textAreaLeft" fmla="*/ 0 w 1785240"/>
                  <a:gd name="textAreaRight" fmla="*/ 1785600 w 1785240"/>
                  <a:gd name="textAreaTop" fmla="*/ 0 h 225360"/>
                  <a:gd name="textAreaBottom" fmla="*/ 225720 h 225360"/>
                </a:gdLst>
                <a:ahLst/>
                <a:rect l="textAreaLeft" t="textAreaTop" r="textAreaRight" b="textAreaBottom"/>
                <a:pathLst>
                  <a:path w="1899" h="516">
                    <a:moveTo>
                      <a:pt x="0" y="257"/>
                    </a:moveTo>
                    <a:lnTo>
                      <a:pt x="12" y="215"/>
                    </a:lnTo>
                    <a:lnTo>
                      <a:pt x="48" y="176"/>
                    </a:lnTo>
                    <a:lnTo>
                      <a:pt x="106" y="138"/>
                    </a:lnTo>
                    <a:lnTo>
                      <a:pt x="184" y="104"/>
                    </a:lnTo>
                    <a:lnTo>
                      <a:pt x="279" y="76"/>
                    </a:lnTo>
                    <a:lnTo>
                      <a:pt x="391" y="49"/>
                    </a:lnTo>
                    <a:lnTo>
                      <a:pt x="516" y="29"/>
                    </a:lnTo>
                    <a:lnTo>
                      <a:pt x="653" y="13"/>
                    </a:lnTo>
                    <a:lnTo>
                      <a:pt x="802" y="4"/>
                    </a:lnTo>
                    <a:lnTo>
                      <a:pt x="958" y="0"/>
                    </a:lnTo>
                    <a:lnTo>
                      <a:pt x="1114" y="4"/>
                    </a:lnTo>
                    <a:lnTo>
                      <a:pt x="1260" y="13"/>
                    </a:lnTo>
                    <a:lnTo>
                      <a:pt x="1395" y="29"/>
                    </a:lnTo>
                    <a:lnTo>
                      <a:pt x="1519" y="49"/>
                    </a:lnTo>
                    <a:lnTo>
                      <a:pt x="1628" y="76"/>
                    </a:lnTo>
                    <a:lnTo>
                      <a:pt x="1720" y="104"/>
                    </a:lnTo>
                    <a:lnTo>
                      <a:pt x="1796" y="138"/>
                    </a:lnTo>
                    <a:lnTo>
                      <a:pt x="1852" y="176"/>
                    </a:lnTo>
                    <a:lnTo>
                      <a:pt x="1886" y="215"/>
                    </a:lnTo>
                    <a:lnTo>
                      <a:pt x="1899" y="257"/>
                    </a:lnTo>
                    <a:lnTo>
                      <a:pt x="1886" y="305"/>
                    </a:lnTo>
                    <a:lnTo>
                      <a:pt x="1852" y="350"/>
                    </a:lnTo>
                    <a:lnTo>
                      <a:pt x="1796" y="389"/>
                    </a:lnTo>
                    <a:lnTo>
                      <a:pt x="1720" y="423"/>
                    </a:lnTo>
                    <a:lnTo>
                      <a:pt x="1628" y="452"/>
                    </a:lnTo>
                    <a:lnTo>
                      <a:pt x="1519" y="475"/>
                    </a:lnTo>
                    <a:lnTo>
                      <a:pt x="1395" y="493"/>
                    </a:lnTo>
                    <a:lnTo>
                      <a:pt x="1260" y="506"/>
                    </a:lnTo>
                    <a:lnTo>
                      <a:pt x="1114" y="514"/>
                    </a:lnTo>
                    <a:lnTo>
                      <a:pt x="958" y="516"/>
                    </a:lnTo>
                    <a:lnTo>
                      <a:pt x="802" y="514"/>
                    </a:lnTo>
                    <a:lnTo>
                      <a:pt x="653" y="506"/>
                    </a:lnTo>
                    <a:lnTo>
                      <a:pt x="516" y="493"/>
                    </a:lnTo>
                    <a:lnTo>
                      <a:pt x="391" y="475"/>
                    </a:lnTo>
                    <a:lnTo>
                      <a:pt x="279" y="452"/>
                    </a:lnTo>
                    <a:lnTo>
                      <a:pt x="184" y="423"/>
                    </a:lnTo>
                    <a:lnTo>
                      <a:pt x="106" y="389"/>
                    </a:lnTo>
                    <a:lnTo>
                      <a:pt x="48" y="350"/>
                    </a:lnTo>
                    <a:lnTo>
                      <a:pt x="12" y="305"/>
                    </a:lnTo>
                    <a:lnTo>
                      <a:pt x="0" y="257"/>
                    </a:lnTo>
                  </a:path>
                </a:pathLst>
              </a:custGeom>
              <a:noFill/>
              <a:ln w="20520">
                <a:solidFill>
                  <a:srgbClr val="c9c9c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Freeform 26"/>
              <p:cNvSpPr/>
              <p:nvPr/>
            </p:nvSpPr>
            <p:spPr>
              <a:xfrm>
                <a:off x="5084280" y="2230560"/>
                <a:ext cx="1779480" cy="223200"/>
              </a:xfrm>
              <a:custGeom>
                <a:avLst/>
                <a:gdLst>
                  <a:gd name="textAreaLeft" fmla="*/ 0 w 1779480"/>
                  <a:gd name="textAreaRight" fmla="*/ 1779840 w 1779480"/>
                  <a:gd name="textAreaTop" fmla="*/ 0 h 223200"/>
                  <a:gd name="textAreaBottom" fmla="*/ 223560 h 223200"/>
                </a:gdLst>
                <a:ahLst/>
                <a:rect l="textAreaLeft" t="textAreaTop" r="textAreaRight" b="textAreaBottom"/>
                <a:pathLst>
                  <a:path w="1893" h="511">
                    <a:moveTo>
                      <a:pt x="0" y="253"/>
                    </a:moveTo>
                    <a:lnTo>
                      <a:pt x="13" y="212"/>
                    </a:lnTo>
                    <a:lnTo>
                      <a:pt x="49" y="174"/>
                    </a:lnTo>
                    <a:lnTo>
                      <a:pt x="107" y="136"/>
                    </a:lnTo>
                    <a:lnTo>
                      <a:pt x="183" y="104"/>
                    </a:lnTo>
                    <a:lnTo>
                      <a:pt x="278" y="74"/>
                    </a:lnTo>
                    <a:lnTo>
                      <a:pt x="390" y="49"/>
                    </a:lnTo>
                    <a:lnTo>
                      <a:pt x="515" y="27"/>
                    </a:lnTo>
                    <a:lnTo>
                      <a:pt x="652" y="13"/>
                    </a:lnTo>
                    <a:lnTo>
                      <a:pt x="800" y="4"/>
                    </a:lnTo>
                    <a:lnTo>
                      <a:pt x="956" y="0"/>
                    </a:lnTo>
                    <a:lnTo>
                      <a:pt x="1111" y="4"/>
                    </a:lnTo>
                    <a:lnTo>
                      <a:pt x="1258" y="13"/>
                    </a:lnTo>
                    <a:lnTo>
                      <a:pt x="1392" y="27"/>
                    </a:lnTo>
                    <a:lnTo>
                      <a:pt x="1515" y="49"/>
                    </a:lnTo>
                    <a:lnTo>
                      <a:pt x="1623" y="74"/>
                    </a:lnTo>
                    <a:lnTo>
                      <a:pt x="1716" y="104"/>
                    </a:lnTo>
                    <a:lnTo>
                      <a:pt x="1791" y="136"/>
                    </a:lnTo>
                    <a:lnTo>
                      <a:pt x="1846" y="174"/>
                    </a:lnTo>
                    <a:lnTo>
                      <a:pt x="1882" y="212"/>
                    </a:lnTo>
                    <a:lnTo>
                      <a:pt x="1893" y="253"/>
                    </a:lnTo>
                    <a:lnTo>
                      <a:pt x="1882" y="303"/>
                    </a:lnTo>
                    <a:lnTo>
                      <a:pt x="1846" y="346"/>
                    </a:lnTo>
                    <a:lnTo>
                      <a:pt x="1791" y="384"/>
                    </a:lnTo>
                    <a:lnTo>
                      <a:pt x="1716" y="418"/>
                    </a:lnTo>
                    <a:lnTo>
                      <a:pt x="1623" y="446"/>
                    </a:lnTo>
                    <a:lnTo>
                      <a:pt x="1515" y="470"/>
                    </a:lnTo>
                    <a:lnTo>
                      <a:pt x="1392" y="487"/>
                    </a:lnTo>
                    <a:lnTo>
                      <a:pt x="1258" y="500"/>
                    </a:lnTo>
                    <a:lnTo>
                      <a:pt x="1111" y="507"/>
                    </a:lnTo>
                    <a:lnTo>
                      <a:pt x="956" y="511"/>
                    </a:lnTo>
                    <a:lnTo>
                      <a:pt x="800" y="507"/>
                    </a:lnTo>
                    <a:lnTo>
                      <a:pt x="652" y="500"/>
                    </a:lnTo>
                    <a:lnTo>
                      <a:pt x="515" y="487"/>
                    </a:lnTo>
                    <a:lnTo>
                      <a:pt x="390" y="470"/>
                    </a:lnTo>
                    <a:lnTo>
                      <a:pt x="278" y="446"/>
                    </a:lnTo>
                    <a:lnTo>
                      <a:pt x="183" y="418"/>
                    </a:lnTo>
                    <a:lnTo>
                      <a:pt x="107" y="384"/>
                    </a:lnTo>
                    <a:lnTo>
                      <a:pt x="49" y="346"/>
                    </a:lnTo>
                    <a:lnTo>
                      <a:pt x="13" y="303"/>
                    </a:lnTo>
                    <a:lnTo>
                      <a:pt x="0" y="253"/>
                    </a:lnTo>
                  </a:path>
                </a:pathLst>
              </a:custGeom>
              <a:noFill/>
              <a:ln w="20520">
                <a:solidFill>
                  <a:srgbClr val="d1d1d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Freeform 27"/>
              <p:cNvSpPr/>
              <p:nvPr/>
            </p:nvSpPr>
            <p:spPr>
              <a:xfrm>
                <a:off x="5086440" y="2231640"/>
                <a:ext cx="1774800" cy="220320"/>
              </a:xfrm>
              <a:custGeom>
                <a:avLst/>
                <a:gdLst>
                  <a:gd name="textAreaLeft" fmla="*/ 0 w 1774800"/>
                  <a:gd name="textAreaRight" fmla="*/ 1775160 w 1774800"/>
                  <a:gd name="textAreaTop" fmla="*/ 0 h 220320"/>
                  <a:gd name="textAreaBottom" fmla="*/ 220680 h 220320"/>
                </a:gdLst>
                <a:ahLst/>
                <a:rect l="textAreaLeft" t="textAreaTop" r="textAreaRight" b="textAreaBottom"/>
                <a:pathLst>
                  <a:path w="1888" h="503">
                    <a:moveTo>
                      <a:pt x="0" y="251"/>
                    </a:moveTo>
                    <a:lnTo>
                      <a:pt x="14" y="210"/>
                    </a:lnTo>
                    <a:lnTo>
                      <a:pt x="49" y="172"/>
                    </a:lnTo>
                    <a:lnTo>
                      <a:pt x="106" y="134"/>
                    </a:lnTo>
                    <a:lnTo>
                      <a:pt x="184" y="102"/>
                    </a:lnTo>
                    <a:lnTo>
                      <a:pt x="279" y="73"/>
                    </a:lnTo>
                    <a:lnTo>
                      <a:pt x="389" y="48"/>
                    </a:lnTo>
                    <a:lnTo>
                      <a:pt x="513" y="27"/>
                    </a:lnTo>
                    <a:lnTo>
                      <a:pt x="650" y="13"/>
                    </a:lnTo>
                    <a:lnTo>
                      <a:pt x="798" y="2"/>
                    </a:lnTo>
                    <a:lnTo>
                      <a:pt x="954" y="0"/>
                    </a:lnTo>
                    <a:lnTo>
                      <a:pt x="1109" y="2"/>
                    </a:lnTo>
                    <a:lnTo>
                      <a:pt x="1254" y="13"/>
                    </a:lnTo>
                    <a:lnTo>
                      <a:pt x="1389" y="27"/>
                    </a:lnTo>
                    <a:lnTo>
                      <a:pt x="1512" y="48"/>
                    </a:lnTo>
                    <a:lnTo>
                      <a:pt x="1620" y="73"/>
                    </a:lnTo>
                    <a:lnTo>
                      <a:pt x="1711" y="102"/>
                    </a:lnTo>
                    <a:lnTo>
                      <a:pt x="1786" y="134"/>
                    </a:lnTo>
                    <a:lnTo>
                      <a:pt x="1842" y="172"/>
                    </a:lnTo>
                    <a:lnTo>
                      <a:pt x="1876" y="210"/>
                    </a:lnTo>
                    <a:lnTo>
                      <a:pt x="1888" y="251"/>
                    </a:lnTo>
                    <a:lnTo>
                      <a:pt x="1876" y="299"/>
                    </a:lnTo>
                    <a:lnTo>
                      <a:pt x="1842" y="342"/>
                    </a:lnTo>
                    <a:lnTo>
                      <a:pt x="1786" y="380"/>
                    </a:lnTo>
                    <a:lnTo>
                      <a:pt x="1711" y="412"/>
                    </a:lnTo>
                    <a:lnTo>
                      <a:pt x="1620" y="441"/>
                    </a:lnTo>
                    <a:lnTo>
                      <a:pt x="1512" y="464"/>
                    </a:lnTo>
                    <a:lnTo>
                      <a:pt x="1389" y="480"/>
                    </a:lnTo>
                    <a:lnTo>
                      <a:pt x="1254" y="494"/>
                    </a:lnTo>
                    <a:lnTo>
                      <a:pt x="1109" y="502"/>
                    </a:lnTo>
                    <a:lnTo>
                      <a:pt x="954" y="503"/>
                    </a:lnTo>
                    <a:lnTo>
                      <a:pt x="798" y="502"/>
                    </a:lnTo>
                    <a:lnTo>
                      <a:pt x="650" y="494"/>
                    </a:lnTo>
                    <a:lnTo>
                      <a:pt x="513" y="480"/>
                    </a:lnTo>
                    <a:lnTo>
                      <a:pt x="389" y="464"/>
                    </a:lnTo>
                    <a:lnTo>
                      <a:pt x="279" y="441"/>
                    </a:lnTo>
                    <a:lnTo>
                      <a:pt x="184" y="412"/>
                    </a:lnTo>
                    <a:lnTo>
                      <a:pt x="106" y="380"/>
                    </a:lnTo>
                    <a:lnTo>
                      <a:pt x="49" y="342"/>
                    </a:lnTo>
                    <a:lnTo>
                      <a:pt x="14" y="299"/>
                    </a:lnTo>
                    <a:lnTo>
                      <a:pt x="1" y="251"/>
                    </a:lnTo>
                  </a:path>
                </a:pathLst>
              </a:custGeom>
              <a:noFill/>
              <a:ln w="20520">
                <a:solidFill>
                  <a:srgbClr val="d9d9d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Freeform 28"/>
              <p:cNvSpPr/>
              <p:nvPr/>
            </p:nvSpPr>
            <p:spPr>
              <a:xfrm>
                <a:off x="5088960" y="2232360"/>
                <a:ext cx="1770120" cy="218520"/>
              </a:xfrm>
              <a:custGeom>
                <a:avLst/>
                <a:gdLst>
                  <a:gd name="textAreaLeft" fmla="*/ 0 w 1770120"/>
                  <a:gd name="textAreaRight" fmla="*/ 1770480 w 1770120"/>
                  <a:gd name="textAreaTop" fmla="*/ 0 h 218520"/>
                  <a:gd name="textAreaBottom" fmla="*/ 218880 h 218520"/>
                </a:gdLst>
                <a:ahLst/>
                <a:rect l="textAreaLeft" t="textAreaTop" r="textAreaRight" b="textAreaBottom"/>
                <a:pathLst>
                  <a:path w="1883" h="500">
                    <a:moveTo>
                      <a:pt x="0" y="249"/>
                    </a:moveTo>
                    <a:lnTo>
                      <a:pt x="13" y="209"/>
                    </a:lnTo>
                    <a:lnTo>
                      <a:pt x="49" y="170"/>
                    </a:lnTo>
                    <a:lnTo>
                      <a:pt x="106" y="134"/>
                    </a:lnTo>
                    <a:lnTo>
                      <a:pt x="183" y="102"/>
                    </a:lnTo>
                    <a:lnTo>
                      <a:pt x="277" y="73"/>
                    </a:lnTo>
                    <a:lnTo>
                      <a:pt x="387" y="48"/>
                    </a:lnTo>
                    <a:lnTo>
                      <a:pt x="512" y="28"/>
                    </a:lnTo>
                    <a:lnTo>
                      <a:pt x="649" y="12"/>
                    </a:lnTo>
                    <a:lnTo>
                      <a:pt x="796" y="3"/>
                    </a:lnTo>
                    <a:lnTo>
                      <a:pt x="951" y="0"/>
                    </a:lnTo>
                    <a:lnTo>
                      <a:pt x="1106" y="3"/>
                    </a:lnTo>
                    <a:lnTo>
                      <a:pt x="1250" y="12"/>
                    </a:lnTo>
                    <a:lnTo>
                      <a:pt x="1385" y="28"/>
                    </a:lnTo>
                    <a:lnTo>
                      <a:pt x="1508" y="48"/>
                    </a:lnTo>
                    <a:lnTo>
                      <a:pt x="1616" y="73"/>
                    </a:lnTo>
                    <a:lnTo>
                      <a:pt x="1707" y="102"/>
                    </a:lnTo>
                    <a:lnTo>
                      <a:pt x="1782" y="134"/>
                    </a:lnTo>
                    <a:lnTo>
                      <a:pt x="1836" y="170"/>
                    </a:lnTo>
                    <a:lnTo>
                      <a:pt x="1871" y="209"/>
                    </a:lnTo>
                    <a:lnTo>
                      <a:pt x="1883" y="249"/>
                    </a:lnTo>
                    <a:lnTo>
                      <a:pt x="1871" y="297"/>
                    </a:lnTo>
                    <a:lnTo>
                      <a:pt x="1836" y="338"/>
                    </a:lnTo>
                    <a:lnTo>
                      <a:pt x="1782" y="376"/>
                    </a:lnTo>
                    <a:lnTo>
                      <a:pt x="1707" y="408"/>
                    </a:lnTo>
                    <a:lnTo>
                      <a:pt x="1616" y="437"/>
                    </a:lnTo>
                    <a:lnTo>
                      <a:pt x="1508" y="458"/>
                    </a:lnTo>
                    <a:lnTo>
                      <a:pt x="1385" y="476"/>
                    </a:lnTo>
                    <a:lnTo>
                      <a:pt x="1250" y="489"/>
                    </a:lnTo>
                    <a:lnTo>
                      <a:pt x="1106" y="498"/>
                    </a:lnTo>
                    <a:lnTo>
                      <a:pt x="951" y="500"/>
                    </a:lnTo>
                    <a:lnTo>
                      <a:pt x="796" y="498"/>
                    </a:lnTo>
                    <a:lnTo>
                      <a:pt x="649" y="489"/>
                    </a:lnTo>
                    <a:lnTo>
                      <a:pt x="512" y="476"/>
                    </a:lnTo>
                    <a:lnTo>
                      <a:pt x="387" y="458"/>
                    </a:lnTo>
                    <a:lnTo>
                      <a:pt x="277" y="437"/>
                    </a:lnTo>
                    <a:lnTo>
                      <a:pt x="183" y="408"/>
                    </a:lnTo>
                    <a:lnTo>
                      <a:pt x="106" y="376"/>
                    </a:lnTo>
                    <a:lnTo>
                      <a:pt x="49" y="338"/>
                    </a:lnTo>
                    <a:lnTo>
                      <a:pt x="13" y="297"/>
                    </a:lnTo>
                    <a:lnTo>
                      <a:pt x="0" y="249"/>
                    </a:lnTo>
                  </a:path>
                </a:pathLst>
              </a:custGeom>
              <a:noFill/>
              <a:ln w="20520">
                <a:solidFill>
                  <a:srgbClr val="d1d1d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Freeform 29"/>
              <p:cNvSpPr/>
              <p:nvPr/>
            </p:nvSpPr>
            <p:spPr>
              <a:xfrm>
                <a:off x="5092920" y="2234160"/>
                <a:ext cx="1764360" cy="216000"/>
              </a:xfrm>
              <a:custGeom>
                <a:avLst/>
                <a:gdLst>
                  <a:gd name="textAreaLeft" fmla="*/ 0 w 1764360"/>
                  <a:gd name="textAreaRight" fmla="*/ 1764720 w 1764360"/>
                  <a:gd name="textAreaTop" fmla="*/ 0 h 216000"/>
                  <a:gd name="textAreaBottom" fmla="*/ 216360 h 216000"/>
                </a:gdLst>
                <a:ahLst/>
                <a:rect l="textAreaLeft" t="textAreaTop" r="textAreaRight" b="textAreaBottom"/>
                <a:pathLst>
                  <a:path w="1877" h="495">
                    <a:moveTo>
                      <a:pt x="0" y="248"/>
                    </a:moveTo>
                    <a:lnTo>
                      <a:pt x="13" y="208"/>
                    </a:lnTo>
                    <a:lnTo>
                      <a:pt x="48" y="169"/>
                    </a:lnTo>
                    <a:lnTo>
                      <a:pt x="106" y="133"/>
                    </a:lnTo>
                    <a:lnTo>
                      <a:pt x="182" y="101"/>
                    </a:lnTo>
                    <a:lnTo>
                      <a:pt x="276" y="72"/>
                    </a:lnTo>
                    <a:lnTo>
                      <a:pt x="386" y="47"/>
                    </a:lnTo>
                    <a:lnTo>
                      <a:pt x="510" y="27"/>
                    </a:lnTo>
                    <a:lnTo>
                      <a:pt x="646" y="13"/>
                    </a:lnTo>
                    <a:lnTo>
                      <a:pt x="792" y="2"/>
                    </a:lnTo>
                    <a:lnTo>
                      <a:pt x="947" y="0"/>
                    </a:lnTo>
                    <a:lnTo>
                      <a:pt x="1100" y="2"/>
                    </a:lnTo>
                    <a:lnTo>
                      <a:pt x="1246" y="13"/>
                    </a:lnTo>
                    <a:lnTo>
                      <a:pt x="1379" y="27"/>
                    </a:lnTo>
                    <a:lnTo>
                      <a:pt x="1501" y="47"/>
                    </a:lnTo>
                    <a:lnTo>
                      <a:pt x="1609" y="72"/>
                    </a:lnTo>
                    <a:lnTo>
                      <a:pt x="1702" y="101"/>
                    </a:lnTo>
                    <a:lnTo>
                      <a:pt x="1775" y="133"/>
                    </a:lnTo>
                    <a:lnTo>
                      <a:pt x="1831" y="169"/>
                    </a:lnTo>
                    <a:lnTo>
                      <a:pt x="1865" y="208"/>
                    </a:lnTo>
                    <a:lnTo>
                      <a:pt x="1877" y="248"/>
                    </a:lnTo>
                    <a:lnTo>
                      <a:pt x="1865" y="294"/>
                    </a:lnTo>
                    <a:lnTo>
                      <a:pt x="1831" y="335"/>
                    </a:lnTo>
                    <a:lnTo>
                      <a:pt x="1775" y="371"/>
                    </a:lnTo>
                    <a:lnTo>
                      <a:pt x="1702" y="403"/>
                    </a:lnTo>
                    <a:lnTo>
                      <a:pt x="1609" y="432"/>
                    </a:lnTo>
                    <a:lnTo>
                      <a:pt x="1501" y="454"/>
                    </a:lnTo>
                    <a:lnTo>
                      <a:pt x="1379" y="471"/>
                    </a:lnTo>
                    <a:lnTo>
                      <a:pt x="1246" y="484"/>
                    </a:lnTo>
                    <a:lnTo>
                      <a:pt x="1100" y="491"/>
                    </a:lnTo>
                    <a:lnTo>
                      <a:pt x="947" y="495"/>
                    </a:lnTo>
                    <a:lnTo>
                      <a:pt x="792" y="491"/>
                    </a:lnTo>
                    <a:lnTo>
                      <a:pt x="646" y="484"/>
                    </a:lnTo>
                    <a:lnTo>
                      <a:pt x="510" y="471"/>
                    </a:lnTo>
                    <a:lnTo>
                      <a:pt x="386" y="454"/>
                    </a:lnTo>
                    <a:lnTo>
                      <a:pt x="276" y="432"/>
                    </a:lnTo>
                    <a:lnTo>
                      <a:pt x="182" y="403"/>
                    </a:lnTo>
                    <a:lnTo>
                      <a:pt x="106" y="371"/>
                    </a:lnTo>
                    <a:lnTo>
                      <a:pt x="48" y="335"/>
                    </a:lnTo>
                    <a:lnTo>
                      <a:pt x="13" y="294"/>
                    </a:lnTo>
                    <a:lnTo>
                      <a:pt x="0" y="248"/>
                    </a:lnTo>
                  </a:path>
                </a:pathLst>
              </a:custGeom>
              <a:noFill/>
              <a:ln w="20520">
                <a:solidFill>
                  <a:srgbClr val="c9c9c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Freeform 30"/>
              <p:cNvSpPr/>
              <p:nvPr/>
            </p:nvSpPr>
            <p:spPr>
              <a:xfrm>
                <a:off x="5095800" y="2234880"/>
                <a:ext cx="1759680" cy="214200"/>
              </a:xfrm>
              <a:custGeom>
                <a:avLst/>
                <a:gdLst>
                  <a:gd name="textAreaLeft" fmla="*/ 0 w 1759680"/>
                  <a:gd name="textAreaRight" fmla="*/ 1760040 w 1759680"/>
                  <a:gd name="textAreaTop" fmla="*/ 0 h 214200"/>
                  <a:gd name="textAreaBottom" fmla="*/ 214560 h 214200"/>
                </a:gdLst>
                <a:ahLst/>
                <a:rect l="textAreaLeft" t="textAreaTop" r="textAreaRight" b="textAreaBottom"/>
                <a:pathLst>
                  <a:path w="1872" h="491">
                    <a:moveTo>
                      <a:pt x="0" y="246"/>
                    </a:moveTo>
                    <a:lnTo>
                      <a:pt x="12" y="206"/>
                    </a:lnTo>
                    <a:lnTo>
                      <a:pt x="48" y="169"/>
                    </a:lnTo>
                    <a:lnTo>
                      <a:pt x="105" y="133"/>
                    </a:lnTo>
                    <a:lnTo>
                      <a:pt x="181" y="100"/>
                    </a:lnTo>
                    <a:lnTo>
                      <a:pt x="275" y="72"/>
                    </a:lnTo>
                    <a:lnTo>
                      <a:pt x="384" y="49"/>
                    </a:lnTo>
                    <a:lnTo>
                      <a:pt x="509" y="29"/>
                    </a:lnTo>
                    <a:lnTo>
                      <a:pt x="644" y="13"/>
                    </a:lnTo>
                    <a:lnTo>
                      <a:pt x="789" y="4"/>
                    </a:lnTo>
                    <a:lnTo>
                      <a:pt x="944" y="0"/>
                    </a:lnTo>
                    <a:lnTo>
                      <a:pt x="1097" y="4"/>
                    </a:lnTo>
                    <a:lnTo>
                      <a:pt x="1242" y="13"/>
                    </a:lnTo>
                    <a:lnTo>
                      <a:pt x="1376" y="29"/>
                    </a:lnTo>
                    <a:lnTo>
                      <a:pt x="1497" y="49"/>
                    </a:lnTo>
                    <a:lnTo>
                      <a:pt x="1605" y="72"/>
                    </a:lnTo>
                    <a:lnTo>
                      <a:pt x="1696" y="100"/>
                    </a:lnTo>
                    <a:lnTo>
                      <a:pt x="1771" y="133"/>
                    </a:lnTo>
                    <a:lnTo>
                      <a:pt x="1826" y="169"/>
                    </a:lnTo>
                    <a:lnTo>
                      <a:pt x="1861" y="206"/>
                    </a:lnTo>
                    <a:lnTo>
                      <a:pt x="1872" y="246"/>
                    </a:lnTo>
                    <a:lnTo>
                      <a:pt x="1861" y="292"/>
                    </a:lnTo>
                    <a:lnTo>
                      <a:pt x="1826" y="332"/>
                    </a:lnTo>
                    <a:lnTo>
                      <a:pt x="1771" y="369"/>
                    </a:lnTo>
                    <a:lnTo>
                      <a:pt x="1696" y="400"/>
                    </a:lnTo>
                    <a:lnTo>
                      <a:pt x="1605" y="428"/>
                    </a:lnTo>
                    <a:lnTo>
                      <a:pt x="1497" y="450"/>
                    </a:lnTo>
                    <a:lnTo>
                      <a:pt x="1376" y="468"/>
                    </a:lnTo>
                    <a:lnTo>
                      <a:pt x="1242" y="480"/>
                    </a:lnTo>
                    <a:lnTo>
                      <a:pt x="1097" y="487"/>
                    </a:lnTo>
                    <a:lnTo>
                      <a:pt x="944" y="491"/>
                    </a:lnTo>
                    <a:lnTo>
                      <a:pt x="789" y="487"/>
                    </a:lnTo>
                    <a:lnTo>
                      <a:pt x="644" y="480"/>
                    </a:lnTo>
                    <a:lnTo>
                      <a:pt x="509" y="468"/>
                    </a:lnTo>
                    <a:lnTo>
                      <a:pt x="384" y="450"/>
                    </a:lnTo>
                    <a:lnTo>
                      <a:pt x="275" y="428"/>
                    </a:lnTo>
                    <a:lnTo>
                      <a:pt x="181" y="400"/>
                    </a:lnTo>
                    <a:lnTo>
                      <a:pt x="105" y="369"/>
                    </a:lnTo>
                    <a:lnTo>
                      <a:pt x="48" y="332"/>
                    </a:lnTo>
                    <a:lnTo>
                      <a:pt x="12" y="292"/>
                    </a:lnTo>
                    <a:lnTo>
                      <a:pt x="1" y="246"/>
                    </a:lnTo>
                  </a:path>
                </a:pathLst>
              </a:custGeom>
              <a:noFill/>
              <a:ln w="20520">
                <a:solidFill>
                  <a:srgbClr val="c1c1c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Freeform 31"/>
              <p:cNvSpPr/>
              <p:nvPr/>
            </p:nvSpPr>
            <p:spPr>
              <a:xfrm>
                <a:off x="5099400" y="2235960"/>
                <a:ext cx="1753920" cy="211680"/>
              </a:xfrm>
              <a:custGeom>
                <a:avLst/>
                <a:gdLst>
                  <a:gd name="textAreaLeft" fmla="*/ 0 w 1753920"/>
                  <a:gd name="textAreaRight" fmla="*/ 1754280 w 1753920"/>
                  <a:gd name="textAreaTop" fmla="*/ 0 h 211680"/>
                  <a:gd name="textAreaBottom" fmla="*/ 212040 h 211680"/>
                </a:gdLst>
                <a:ahLst/>
                <a:rect l="textAreaLeft" t="textAreaTop" r="textAreaRight" b="textAreaBottom"/>
                <a:pathLst>
                  <a:path w="1866" h="483">
                    <a:moveTo>
                      <a:pt x="0" y="242"/>
                    </a:moveTo>
                    <a:lnTo>
                      <a:pt x="12" y="204"/>
                    </a:lnTo>
                    <a:lnTo>
                      <a:pt x="48" y="166"/>
                    </a:lnTo>
                    <a:lnTo>
                      <a:pt x="104" y="131"/>
                    </a:lnTo>
                    <a:lnTo>
                      <a:pt x="180" y="100"/>
                    </a:lnTo>
                    <a:lnTo>
                      <a:pt x="274" y="71"/>
                    </a:lnTo>
                    <a:lnTo>
                      <a:pt x="383" y="46"/>
                    </a:lnTo>
                    <a:lnTo>
                      <a:pt x="506" y="27"/>
                    </a:lnTo>
                    <a:lnTo>
                      <a:pt x="640" y="12"/>
                    </a:lnTo>
                    <a:lnTo>
                      <a:pt x="786" y="2"/>
                    </a:lnTo>
                    <a:lnTo>
                      <a:pt x="940" y="0"/>
                    </a:lnTo>
                    <a:lnTo>
                      <a:pt x="1093" y="2"/>
                    </a:lnTo>
                    <a:lnTo>
                      <a:pt x="1237" y="12"/>
                    </a:lnTo>
                    <a:lnTo>
                      <a:pt x="1371" y="27"/>
                    </a:lnTo>
                    <a:lnTo>
                      <a:pt x="1492" y="46"/>
                    </a:lnTo>
                    <a:lnTo>
                      <a:pt x="1600" y="71"/>
                    </a:lnTo>
                    <a:lnTo>
                      <a:pt x="1691" y="100"/>
                    </a:lnTo>
                    <a:lnTo>
                      <a:pt x="1766" y="131"/>
                    </a:lnTo>
                    <a:lnTo>
                      <a:pt x="1820" y="166"/>
                    </a:lnTo>
                    <a:lnTo>
                      <a:pt x="1855" y="204"/>
                    </a:lnTo>
                    <a:lnTo>
                      <a:pt x="1866" y="243"/>
                    </a:lnTo>
                    <a:lnTo>
                      <a:pt x="1855" y="288"/>
                    </a:lnTo>
                    <a:lnTo>
                      <a:pt x="1820" y="328"/>
                    </a:lnTo>
                    <a:lnTo>
                      <a:pt x="1766" y="363"/>
                    </a:lnTo>
                    <a:lnTo>
                      <a:pt x="1691" y="394"/>
                    </a:lnTo>
                    <a:lnTo>
                      <a:pt x="1600" y="421"/>
                    </a:lnTo>
                    <a:lnTo>
                      <a:pt x="1492" y="444"/>
                    </a:lnTo>
                    <a:lnTo>
                      <a:pt x="1371" y="462"/>
                    </a:lnTo>
                    <a:lnTo>
                      <a:pt x="1237" y="474"/>
                    </a:lnTo>
                    <a:lnTo>
                      <a:pt x="1093" y="482"/>
                    </a:lnTo>
                    <a:lnTo>
                      <a:pt x="940" y="483"/>
                    </a:lnTo>
                    <a:lnTo>
                      <a:pt x="786" y="482"/>
                    </a:lnTo>
                    <a:lnTo>
                      <a:pt x="640" y="474"/>
                    </a:lnTo>
                    <a:lnTo>
                      <a:pt x="506" y="462"/>
                    </a:lnTo>
                    <a:lnTo>
                      <a:pt x="383" y="444"/>
                    </a:lnTo>
                    <a:lnTo>
                      <a:pt x="274" y="421"/>
                    </a:lnTo>
                    <a:lnTo>
                      <a:pt x="180" y="394"/>
                    </a:lnTo>
                    <a:lnTo>
                      <a:pt x="104" y="363"/>
                    </a:lnTo>
                    <a:lnTo>
                      <a:pt x="48" y="328"/>
                    </a:lnTo>
                    <a:lnTo>
                      <a:pt x="12" y="288"/>
                    </a:lnTo>
                    <a:lnTo>
                      <a:pt x="0" y="243"/>
                    </a:lnTo>
                  </a:path>
                </a:pathLst>
              </a:custGeom>
              <a:noFill/>
              <a:ln w="20520">
                <a:solidFill>
                  <a:srgbClr val="b9b9b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Freeform 32"/>
              <p:cNvSpPr/>
              <p:nvPr/>
            </p:nvSpPr>
            <p:spPr>
              <a:xfrm>
                <a:off x="5101200" y="2236680"/>
                <a:ext cx="1751400" cy="209880"/>
              </a:xfrm>
              <a:custGeom>
                <a:avLst/>
                <a:gdLst>
                  <a:gd name="textAreaLeft" fmla="*/ 0 w 1751400"/>
                  <a:gd name="textAreaRight" fmla="*/ 1751760 w 1751400"/>
                  <a:gd name="textAreaTop" fmla="*/ 0 h 209880"/>
                  <a:gd name="textAreaBottom" fmla="*/ 210240 h 209880"/>
                </a:gdLst>
                <a:ahLst/>
                <a:rect l="textAreaLeft" t="textAreaTop" r="textAreaRight" b="textAreaBottom"/>
                <a:pathLst>
                  <a:path w="1863" h="480">
                    <a:moveTo>
                      <a:pt x="0" y="241"/>
                    </a:moveTo>
                    <a:lnTo>
                      <a:pt x="13" y="204"/>
                    </a:lnTo>
                    <a:lnTo>
                      <a:pt x="48" y="166"/>
                    </a:lnTo>
                    <a:lnTo>
                      <a:pt x="104" y="130"/>
                    </a:lnTo>
                    <a:lnTo>
                      <a:pt x="180" y="100"/>
                    </a:lnTo>
                    <a:lnTo>
                      <a:pt x="274" y="71"/>
                    </a:lnTo>
                    <a:lnTo>
                      <a:pt x="382" y="46"/>
                    </a:lnTo>
                    <a:lnTo>
                      <a:pt x="505" y="26"/>
                    </a:lnTo>
                    <a:lnTo>
                      <a:pt x="640" y="12"/>
                    </a:lnTo>
                    <a:lnTo>
                      <a:pt x="784" y="3"/>
                    </a:lnTo>
                    <a:lnTo>
                      <a:pt x="938" y="0"/>
                    </a:lnTo>
                    <a:lnTo>
                      <a:pt x="1090" y="3"/>
                    </a:lnTo>
                    <a:lnTo>
                      <a:pt x="1235" y="12"/>
                    </a:lnTo>
                    <a:lnTo>
                      <a:pt x="1368" y="26"/>
                    </a:lnTo>
                    <a:lnTo>
                      <a:pt x="1488" y="46"/>
                    </a:lnTo>
                    <a:lnTo>
                      <a:pt x="1596" y="71"/>
                    </a:lnTo>
                    <a:lnTo>
                      <a:pt x="1688" y="100"/>
                    </a:lnTo>
                    <a:lnTo>
                      <a:pt x="1761" y="130"/>
                    </a:lnTo>
                    <a:lnTo>
                      <a:pt x="1817" y="166"/>
                    </a:lnTo>
                    <a:lnTo>
                      <a:pt x="1851" y="204"/>
                    </a:lnTo>
                    <a:lnTo>
                      <a:pt x="1863" y="241"/>
                    </a:lnTo>
                    <a:lnTo>
                      <a:pt x="1851" y="284"/>
                    </a:lnTo>
                    <a:lnTo>
                      <a:pt x="1817" y="324"/>
                    </a:lnTo>
                    <a:lnTo>
                      <a:pt x="1761" y="360"/>
                    </a:lnTo>
                    <a:lnTo>
                      <a:pt x="1688" y="390"/>
                    </a:lnTo>
                    <a:lnTo>
                      <a:pt x="1596" y="417"/>
                    </a:lnTo>
                    <a:lnTo>
                      <a:pt x="1488" y="440"/>
                    </a:lnTo>
                    <a:lnTo>
                      <a:pt x="1368" y="456"/>
                    </a:lnTo>
                    <a:lnTo>
                      <a:pt x="1235" y="469"/>
                    </a:lnTo>
                    <a:lnTo>
                      <a:pt x="1090" y="478"/>
                    </a:lnTo>
                    <a:lnTo>
                      <a:pt x="938" y="480"/>
                    </a:lnTo>
                    <a:lnTo>
                      <a:pt x="784" y="478"/>
                    </a:lnTo>
                    <a:lnTo>
                      <a:pt x="640" y="469"/>
                    </a:lnTo>
                    <a:lnTo>
                      <a:pt x="505" y="456"/>
                    </a:lnTo>
                    <a:lnTo>
                      <a:pt x="382" y="440"/>
                    </a:lnTo>
                    <a:lnTo>
                      <a:pt x="274" y="417"/>
                    </a:lnTo>
                    <a:lnTo>
                      <a:pt x="180" y="390"/>
                    </a:lnTo>
                    <a:lnTo>
                      <a:pt x="104" y="360"/>
                    </a:lnTo>
                    <a:lnTo>
                      <a:pt x="48" y="324"/>
                    </a:lnTo>
                    <a:lnTo>
                      <a:pt x="13" y="284"/>
                    </a:lnTo>
                    <a:lnTo>
                      <a:pt x="1" y="241"/>
                    </a:lnTo>
                  </a:path>
                </a:pathLst>
              </a:custGeom>
              <a:noFill/>
              <a:ln w="2052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Freeform 33"/>
              <p:cNvSpPr/>
              <p:nvPr/>
            </p:nvSpPr>
            <p:spPr>
              <a:xfrm>
                <a:off x="5105160" y="2238480"/>
                <a:ext cx="1744560" cy="207000"/>
              </a:xfrm>
              <a:custGeom>
                <a:avLst/>
                <a:gdLst>
                  <a:gd name="textAreaLeft" fmla="*/ 0 w 1744560"/>
                  <a:gd name="textAreaRight" fmla="*/ 1744920 w 1744560"/>
                  <a:gd name="textAreaTop" fmla="*/ 0 h 207000"/>
                  <a:gd name="textAreaBottom" fmla="*/ 207360 h 207000"/>
                </a:gdLst>
                <a:ahLst/>
                <a:rect l="textAreaLeft" t="textAreaTop" r="textAreaRight" b="textAreaBottom"/>
                <a:pathLst>
                  <a:path w="1856" h="475">
                    <a:moveTo>
                      <a:pt x="0" y="238"/>
                    </a:moveTo>
                    <a:lnTo>
                      <a:pt x="13" y="201"/>
                    </a:lnTo>
                    <a:lnTo>
                      <a:pt x="47" y="165"/>
                    </a:lnTo>
                    <a:lnTo>
                      <a:pt x="104" y="129"/>
                    </a:lnTo>
                    <a:lnTo>
                      <a:pt x="179" y="99"/>
                    </a:lnTo>
                    <a:lnTo>
                      <a:pt x="271" y="70"/>
                    </a:lnTo>
                    <a:lnTo>
                      <a:pt x="381" y="47"/>
                    </a:lnTo>
                    <a:lnTo>
                      <a:pt x="502" y="27"/>
                    </a:lnTo>
                    <a:lnTo>
                      <a:pt x="637" y="13"/>
                    </a:lnTo>
                    <a:lnTo>
                      <a:pt x="781" y="2"/>
                    </a:lnTo>
                    <a:lnTo>
                      <a:pt x="934" y="0"/>
                    </a:lnTo>
                    <a:lnTo>
                      <a:pt x="1086" y="2"/>
                    </a:lnTo>
                    <a:lnTo>
                      <a:pt x="1229" y="13"/>
                    </a:lnTo>
                    <a:lnTo>
                      <a:pt x="1363" y="27"/>
                    </a:lnTo>
                    <a:lnTo>
                      <a:pt x="1483" y="47"/>
                    </a:lnTo>
                    <a:lnTo>
                      <a:pt x="1590" y="70"/>
                    </a:lnTo>
                    <a:lnTo>
                      <a:pt x="1681" y="99"/>
                    </a:lnTo>
                    <a:lnTo>
                      <a:pt x="1756" y="129"/>
                    </a:lnTo>
                    <a:lnTo>
                      <a:pt x="1810" y="165"/>
                    </a:lnTo>
                    <a:lnTo>
                      <a:pt x="1845" y="201"/>
                    </a:lnTo>
                    <a:lnTo>
                      <a:pt x="1856" y="240"/>
                    </a:lnTo>
                    <a:lnTo>
                      <a:pt x="1845" y="281"/>
                    </a:lnTo>
                    <a:lnTo>
                      <a:pt x="1810" y="321"/>
                    </a:lnTo>
                    <a:lnTo>
                      <a:pt x="1756" y="355"/>
                    </a:lnTo>
                    <a:lnTo>
                      <a:pt x="1681" y="385"/>
                    </a:lnTo>
                    <a:lnTo>
                      <a:pt x="1590" y="412"/>
                    </a:lnTo>
                    <a:lnTo>
                      <a:pt x="1483" y="434"/>
                    </a:lnTo>
                    <a:lnTo>
                      <a:pt x="1363" y="452"/>
                    </a:lnTo>
                    <a:lnTo>
                      <a:pt x="1229" y="464"/>
                    </a:lnTo>
                    <a:lnTo>
                      <a:pt x="1086" y="473"/>
                    </a:lnTo>
                    <a:lnTo>
                      <a:pt x="934" y="475"/>
                    </a:lnTo>
                    <a:lnTo>
                      <a:pt x="781" y="473"/>
                    </a:lnTo>
                    <a:lnTo>
                      <a:pt x="637" y="464"/>
                    </a:lnTo>
                    <a:lnTo>
                      <a:pt x="502" y="452"/>
                    </a:lnTo>
                    <a:lnTo>
                      <a:pt x="381" y="434"/>
                    </a:lnTo>
                    <a:lnTo>
                      <a:pt x="271" y="412"/>
                    </a:lnTo>
                    <a:lnTo>
                      <a:pt x="179" y="385"/>
                    </a:lnTo>
                    <a:lnTo>
                      <a:pt x="104" y="355"/>
                    </a:lnTo>
                    <a:lnTo>
                      <a:pt x="47" y="321"/>
                    </a:lnTo>
                    <a:lnTo>
                      <a:pt x="13" y="281"/>
                    </a:lnTo>
                    <a:lnTo>
                      <a:pt x="0" y="240"/>
                    </a:lnTo>
                  </a:path>
                </a:pathLst>
              </a:custGeom>
              <a:noFill/>
              <a:ln w="2052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Freeform 34"/>
              <p:cNvSpPr/>
              <p:nvPr/>
            </p:nvSpPr>
            <p:spPr>
              <a:xfrm>
                <a:off x="5108760" y="2239200"/>
                <a:ext cx="1739880" cy="205560"/>
              </a:xfrm>
              <a:custGeom>
                <a:avLst/>
                <a:gdLst>
                  <a:gd name="textAreaLeft" fmla="*/ 0 w 1739880"/>
                  <a:gd name="textAreaRight" fmla="*/ 1740240 w 1739880"/>
                  <a:gd name="textAreaTop" fmla="*/ 0 h 205560"/>
                  <a:gd name="textAreaBottom" fmla="*/ 205920 h 205560"/>
                </a:gdLst>
                <a:ahLst/>
                <a:rect l="textAreaLeft" t="textAreaTop" r="textAreaRight" b="textAreaBottom"/>
                <a:pathLst>
                  <a:path w="1851" h="471">
                    <a:moveTo>
                      <a:pt x="0" y="238"/>
                    </a:moveTo>
                    <a:lnTo>
                      <a:pt x="11" y="201"/>
                    </a:lnTo>
                    <a:lnTo>
                      <a:pt x="47" y="165"/>
                    </a:lnTo>
                    <a:lnTo>
                      <a:pt x="102" y="129"/>
                    </a:lnTo>
                    <a:lnTo>
                      <a:pt x="177" y="98"/>
                    </a:lnTo>
                    <a:lnTo>
                      <a:pt x="270" y="70"/>
                    </a:lnTo>
                    <a:lnTo>
                      <a:pt x="378" y="47"/>
                    </a:lnTo>
                    <a:lnTo>
                      <a:pt x="500" y="27"/>
                    </a:lnTo>
                    <a:lnTo>
                      <a:pt x="634" y="12"/>
                    </a:lnTo>
                    <a:lnTo>
                      <a:pt x="777" y="4"/>
                    </a:lnTo>
                    <a:lnTo>
                      <a:pt x="930" y="0"/>
                    </a:lnTo>
                    <a:lnTo>
                      <a:pt x="1082" y="4"/>
                    </a:lnTo>
                    <a:lnTo>
                      <a:pt x="1224" y="12"/>
                    </a:lnTo>
                    <a:lnTo>
                      <a:pt x="1357" y="27"/>
                    </a:lnTo>
                    <a:lnTo>
                      <a:pt x="1478" y="47"/>
                    </a:lnTo>
                    <a:lnTo>
                      <a:pt x="1584" y="70"/>
                    </a:lnTo>
                    <a:lnTo>
                      <a:pt x="1676" y="98"/>
                    </a:lnTo>
                    <a:lnTo>
                      <a:pt x="1749" y="129"/>
                    </a:lnTo>
                    <a:lnTo>
                      <a:pt x="1805" y="165"/>
                    </a:lnTo>
                    <a:lnTo>
                      <a:pt x="1839" y="201"/>
                    </a:lnTo>
                    <a:lnTo>
                      <a:pt x="1851" y="238"/>
                    </a:lnTo>
                    <a:lnTo>
                      <a:pt x="1839" y="279"/>
                    </a:lnTo>
                    <a:lnTo>
                      <a:pt x="1805" y="317"/>
                    </a:lnTo>
                    <a:lnTo>
                      <a:pt x="1749" y="353"/>
                    </a:lnTo>
                    <a:lnTo>
                      <a:pt x="1676" y="381"/>
                    </a:lnTo>
                    <a:lnTo>
                      <a:pt x="1584" y="408"/>
                    </a:lnTo>
                    <a:lnTo>
                      <a:pt x="1478" y="430"/>
                    </a:lnTo>
                    <a:lnTo>
                      <a:pt x="1357" y="448"/>
                    </a:lnTo>
                    <a:lnTo>
                      <a:pt x="1224" y="460"/>
                    </a:lnTo>
                    <a:lnTo>
                      <a:pt x="1082" y="467"/>
                    </a:lnTo>
                    <a:lnTo>
                      <a:pt x="930" y="471"/>
                    </a:lnTo>
                    <a:lnTo>
                      <a:pt x="777" y="467"/>
                    </a:lnTo>
                    <a:lnTo>
                      <a:pt x="634" y="460"/>
                    </a:lnTo>
                    <a:lnTo>
                      <a:pt x="500" y="448"/>
                    </a:lnTo>
                    <a:lnTo>
                      <a:pt x="378" y="430"/>
                    </a:lnTo>
                    <a:lnTo>
                      <a:pt x="270" y="408"/>
                    </a:lnTo>
                    <a:lnTo>
                      <a:pt x="177" y="381"/>
                    </a:lnTo>
                    <a:lnTo>
                      <a:pt x="102" y="353"/>
                    </a:lnTo>
                    <a:lnTo>
                      <a:pt x="47" y="317"/>
                    </a:lnTo>
                    <a:lnTo>
                      <a:pt x="11" y="279"/>
                    </a:lnTo>
                    <a:lnTo>
                      <a:pt x="0" y="238"/>
                    </a:lnTo>
                  </a:path>
                </a:pathLst>
              </a:custGeom>
              <a:noFill/>
              <a:ln w="20520">
                <a:solidFill>
                  <a:srgbClr val="a2a2a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Freeform 35"/>
              <p:cNvSpPr/>
              <p:nvPr/>
            </p:nvSpPr>
            <p:spPr>
              <a:xfrm>
                <a:off x="5110560" y="2241000"/>
                <a:ext cx="1737360" cy="203760"/>
              </a:xfrm>
              <a:custGeom>
                <a:avLst/>
                <a:gdLst>
                  <a:gd name="textAreaLeft" fmla="*/ 0 w 1737360"/>
                  <a:gd name="textAreaRight" fmla="*/ 1737720 w 1737360"/>
                  <a:gd name="textAreaTop" fmla="*/ 0 h 203760"/>
                  <a:gd name="textAreaBottom" fmla="*/ 204120 h 203760"/>
                </a:gdLst>
                <a:ahLst/>
                <a:rect l="textAreaLeft" t="textAreaTop" r="textAreaRight" b="textAreaBottom"/>
                <a:pathLst>
                  <a:path w="1848" h="465">
                    <a:moveTo>
                      <a:pt x="0" y="234"/>
                    </a:moveTo>
                    <a:lnTo>
                      <a:pt x="13" y="198"/>
                    </a:lnTo>
                    <a:lnTo>
                      <a:pt x="47" y="161"/>
                    </a:lnTo>
                    <a:lnTo>
                      <a:pt x="103" y="127"/>
                    </a:lnTo>
                    <a:lnTo>
                      <a:pt x="178" y="96"/>
                    </a:lnTo>
                    <a:lnTo>
                      <a:pt x="270" y="69"/>
                    </a:lnTo>
                    <a:lnTo>
                      <a:pt x="378" y="44"/>
                    </a:lnTo>
                    <a:lnTo>
                      <a:pt x="499" y="26"/>
                    </a:lnTo>
                    <a:lnTo>
                      <a:pt x="632" y="12"/>
                    </a:lnTo>
                    <a:lnTo>
                      <a:pt x="775" y="1"/>
                    </a:lnTo>
                    <a:lnTo>
                      <a:pt x="928" y="0"/>
                    </a:lnTo>
                    <a:lnTo>
                      <a:pt x="1079" y="1"/>
                    </a:lnTo>
                    <a:lnTo>
                      <a:pt x="1222" y="12"/>
                    </a:lnTo>
                    <a:lnTo>
                      <a:pt x="1354" y="26"/>
                    </a:lnTo>
                    <a:lnTo>
                      <a:pt x="1475" y="44"/>
                    </a:lnTo>
                    <a:lnTo>
                      <a:pt x="1581" y="69"/>
                    </a:lnTo>
                    <a:lnTo>
                      <a:pt x="1673" y="96"/>
                    </a:lnTo>
                    <a:lnTo>
                      <a:pt x="1746" y="127"/>
                    </a:lnTo>
                    <a:lnTo>
                      <a:pt x="1801" y="161"/>
                    </a:lnTo>
                    <a:lnTo>
                      <a:pt x="1835" y="198"/>
                    </a:lnTo>
                    <a:lnTo>
                      <a:pt x="1848" y="236"/>
                    </a:lnTo>
                    <a:lnTo>
                      <a:pt x="1835" y="275"/>
                    </a:lnTo>
                    <a:lnTo>
                      <a:pt x="1801" y="313"/>
                    </a:lnTo>
                    <a:lnTo>
                      <a:pt x="1746" y="347"/>
                    </a:lnTo>
                    <a:lnTo>
                      <a:pt x="1673" y="376"/>
                    </a:lnTo>
                    <a:lnTo>
                      <a:pt x="1581" y="403"/>
                    </a:lnTo>
                    <a:lnTo>
                      <a:pt x="1475" y="424"/>
                    </a:lnTo>
                    <a:lnTo>
                      <a:pt x="1354" y="442"/>
                    </a:lnTo>
                    <a:lnTo>
                      <a:pt x="1222" y="454"/>
                    </a:lnTo>
                    <a:lnTo>
                      <a:pt x="1079" y="462"/>
                    </a:lnTo>
                    <a:lnTo>
                      <a:pt x="928" y="465"/>
                    </a:lnTo>
                    <a:lnTo>
                      <a:pt x="775" y="462"/>
                    </a:lnTo>
                    <a:lnTo>
                      <a:pt x="632" y="454"/>
                    </a:lnTo>
                    <a:lnTo>
                      <a:pt x="499" y="442"/>
                    </a:lnTo>
                    <a:lnTo>
                      <a:pt x="378" y="424"/>
                    </a:lnTo>
                    <a:lnTo>
                      <a:pt x="270" y="403"/>
                    </a:lnTo>
                    <a:lnTo>
                      <a:pt x="178" y="376"/>
                    </a:lnTo>
                    <a:lnTo>
                      <a:pt x="103" y="347"/>
                    </a:lnTo>
                    <a:lnTo>
                      <a:pt x="47" y="313"/>
                    </a:lnTo>
                    <a:lnTo>
                      <a:pt x="13" y="275"/>
                    </a:lnTo>
                    <a:lnTo>
                      <a:pt x="2" y="236"/>
                    </a:lnTo>
                  </a:path>
                </a:pathLst>
              </a:custGeom>
              <a:noFill/>
              <a:ln w="20520">
                <a:solidFill>
                  <a:srgbClr val="9a9a9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Freeform 36"/>
              <p:cNvSpPr/>
              <p:nvPr/>
            </p:nvSpPr>
            <p:spPr>
              <a:xfrm>
                <a:off x="5114520" y="2241720"/>
                <a:ext cx="1730520" cy="201960"/>
              </a:xfrm>
              <a:custGeom>
                <a:avLst/>
                <a:gdLst>
                  <a:gd name="textAreaLeft" fmla="*/ 0 w 1730520"/>
                  <a:gd name="textAreaRight" fmla="*/ 1730880 w 1730520"/>
                  <a:gd name="textAreaTop" fmla="*/ 0 h 201960"/>
                  <a:gd name="textAreaBottom" fmla="*/ 202320 h 201960"/>
                </a:gdLst>
                <a:ahLst/>
                <a:rect l="textAreaLeft" t="textAreaTop" r="textAreaRight" b="textAreaBottom"/>
                <a:pathLst>
                  <a:path w="1841" h="462">
                    <a:moveTo>
                      <a:pt x="0" y="235"/>
                    </a:moveTo>
                    <a:lnTo>
                      <a:pt x="13" y="197"/>
                    </a:lnTo>
                    <a:lnTo>
                      <a:pt x="47" y="162"/>
                    </a:lnTo>
                    <a:lnTo>
                      <a:pt x="103" y="127"/>
                    </a:lnTo>
                    <a:lnTo>
                      <a:pt x="176" y="97"/>
                    </a:lnTo>
                    <a:lnTo>
                      <a:pt x="269" y="70"/>
                    </a:lnTo>
                    <a:lnTo>
                      <a:pt x="376" y="47"/>
                    </a:lnTo>
                    <a:lnTo>
                      <a:pt x="497" y="27"/>
                    </a:lnTo>
                    <a:lnTo>
                      <a:pt x="629" y="13"/>
                    </a:lnTo>
                    <a:lnTo>
                      <a:pt x="773" y="4"/>
                    </a:lnTo>
                    <a:lnTo>
                      <a:pt x="924" y="0"/>
                    </a:lnTo>
                    <a:lnTo>
                      <a:pt x="1075" y="4"/>
                    </a:lnTo>
                    <a:lnTo>
                      <a:pt x="1217" y="13"/>
                    </a:lnTo>
                    <a:lnTo>
                      <a:pt x="1349" y="27"/>
                    </a:lnTo>
                    <a:lnTo>
                      <a:pt x="1469" y="47"/>
                    </a:lnTo>
                    <a:lnTo>
                      <a:pt x="1576" y="70"/>
                    </a:lnTo>
                    <a:lnTo>
                      <a:pt x="1667" y="97"/>
                    </a:lnTo>
                    <a:lnTo>
                      <a:pt x="1741" y="127"/>
                    </a:lnTo>
                    <a:lnTo>
                      <a:pt x="1795" y="162"/>
                    </a:lnTo>
                    <a:lnTo>
                      <a:pt x="1830" y="197"/>
                    </a:lnTo>
                    <a:lnTo>
                      <a:pt x="1841" y="235"/>
                    </a:lnTo>
                    <a:lnTo>
                      <a:pt x="1830" y="274"/>
                    </a:lnTo>
                    <a:lnTo>
                      <a:pt x="1795" y="310"/>
                    </a:lnTo>
                    <a:lnTo>
                      <a:pt x="1741" y="344"/>
                    </a:lnTo>
                    <a:lnTo>
                      <a:pt x="1667" y="373"/>
                    </a:lnTo>
                    <a:lnTo>
                      <a:pt x="1576" y="400"/>
                    </a:lnTo>
                    <a:lnTo>
                      <a:pt x="1469" y="421"/>
                    </a:lnTo>
                    <a:lnTo>
                      <a:pt x="1349" y="439"/>
                    </a:lnTo>
                    <a:lnTo>
                      <a:pt x="1217" y="452"/>
                    </a:lnTo>
                    <a:lnTo>
                      <a:pt x="1075" y="459"/>
                    </a:lnTo>
                    <a:lnTo>
                      <a:pt x="924" y="462"/>
                    </a:lnTo>
                    <a:lnTo>
                      <a:pt x="773" y="459"/>
                    </a:lnTo>
                    <a:lnTo>
                      <a:pt x="629" y="452"/>
                    </a:lnTo>
                    <a:lnTo>
                      <a:pt x="497" y="439"/>
                    </a:lnTo>
                    <a:lnTo>
                      <a:pt x="376" y="421"/>
                    </a:lnTo>
                    <a:lnTo>
                      <a:pt x="269" y="400"/>
                    </a:lnTo>
                    <a:lnTo>
                      <a:pt x="176" y="373"/>
                    </a:lnTo>
                    <a:lnTo>
                      <a:pt x="103" y="344"/>
                    </a:lnTo>
                    <a:lnTo>
                      <a:pt x="47" y="310"/>
                    </a:lnTo>
                    <a:lnTo>
                      <a:pt x="13" y="274"/>
                    </a:lnTo>
                    <a:lnTo>
                      <a:pt x="0" y="235"/>
                    </a:lnTo>
                  </a:path>
                </a:pathLst>
              </a:custGeom>
              <a:noFill/>
              <a:ln w="20520">
                <a:solidFill>
                  <a:srgbClr val="92929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Freeform 37"/>
              <p:cNvSpPr/>
              <p:nvPr/>
            </p:nvSpPr>
            <p:spPr>
              <a:xfrm>
                <a:off x="5117400" y="2242800"/>
                <a:ext cx="1726920" cy="199080"/>
              </a:xfrm>
              <a:custGeom>
                <a:avLst/>
                <a:gdLst>
                  <a:gd name="textAreaLeft" fmla="*/ 0 w 1726920"/>
                  <a:gd name="textAreaRight" fmla="*/ 1727280 w 1726920"/>
                  <a:gd name="textAreaTop" fmla="*/ 0 h 199080"/>
                  <a:gd name="textAreaBottom" fmla="*/ 199440 h 199080"/>
                </a:gdLst>
                <a:ahLst/>
                <a:rect l="textAreaLeft" t="textAreaTop" r="textAreaRight" b="textAreaBottom"/>
                <a:pathLst>
                  <a:path w="1837" h="455">
                    <a:moveTo>
                      <a:pt x="0" y="231"/>
                    </a:moveTo>
                    <a:lnTo>
                      <a:pt x="12" y="195"/>
                    </a:lnTo>
                    <a:lnTo>
                      <a:pt x="47" y="159"/>
                    </a:lnTo>
                    <a:lnTo>
                      <a:pt x="102" y="127"/>
                    </a:lnTo>
                    <a:lnTo>
                      <a:pt x="176" y="95"/>
                    </a:lnTo>
                    <a:lnTo>
                      <a:pt x="267" y="68"/>
                    </a:lnTo>
                    <a:lnTo>
                      <a:pt x="375" y="45"/>
                    </a:lnTo>
                    <a:lnTo>
                      <a:pt x="496" y="25"/>
                    </a:lnTo>
                    <a:lnTo>
                      <a:pt x="628" y="11"/>
                    </a:lnTo>
                    <a:lnTo>
                      <a:pt x="770" y="2"/>
                    </a:lnTo>
                    <a:lnTo>
                      <a:pt x="921" y="0"/>
                    </a:lnTo>
                    <a:lnTo>
                      <a:pt x="1070" y="2"/>
                    </a:lnTo>
                    <a:lnTo>
                      <a:pt x="1213" y="11"/>
                    </a:lnTo>
                    <a:lnTo>
                      <a:pt x="1345" y="25"/>
                    </a:lnTo>
                    <a:lnTo>
                      <a:pt x="1465" y="45"/>
                    </a:lnTo>
                    <a:lnTo>
                      <a:pt x="1572" y="68"/>
                    </a:lnTo>
                    <a:lnTo>
                      <a:pt x="1662" y="95"/>
                    </a:lnTo>
                    <a:lnTo>
                      <a:pt x="1735" y="127"/>
                    </a:lnTo>
                    <a:lnTo>
                      <a:pt x="1790" y="159"/>
                    </a:lnTo>
                    <a:lnTo>
                      <a:pt x="1824" y="195"/>
                    </a:lnTo>
                    <a:lnTo>
                      <a:pt x="1837" y="233"/>
                    </a:lnTo>
                    <a:lnTo>
                      <a:pt x="1824" y="270"/>
                    </a:lnTo>
                    <a:lnTo>
                      <a:pt x="1790" y="306"/>
                    </a:lnTo>
                    <a:lnTo>
                      <a:pt x="1735" y="338"/>
                    </a:lnTo>
                    <a:lnTo>
                      <a:pt x="1662" y="367"/>
                    </a:lnTo>
                    <a:lnTo>
                      <a:pt x="1572" y="394"/>
                    </a:lnTo>
                    <a:lnTo>
                      <a:pt x="1465" y="415"/>
                    </a:lnTo>
                    <a:lnTo>
                      <a:pt x="1345" y="432"/>
                    </a:lnTo>
                    <a:lnTo>
                      <a:pt x="1213" y="444"/>
                    </a:lnTo>
                    <a:lnTo>
                      <a:pt x="1070" y="453"/>
                    </a:lnTo>
                    <a:lnTo>
                      <a:pt x="921" y="455"/>
                    </a:lnTo>
                    <a:lnTo>
                      <a:pt x="770" y="453"/>
                    </a:lnTo>
                    <a:lnTo>
                      <a:pt x="628" y="444"/>
                    </a:lnTo>
                    <a:lnTo>
                      <a:pt x="496" y="432"/>
                    </a:lnTo>
                    <a:lnTo>
                      <a:pt x="375" y="415"/>
                    </a:lnTo>
                    <a:lnTo>
                      <a:pt x="267" y="394"/>
                    </a:lnTo>
                    <a:lnTo>
                      <a:pt x="176" y="367"/>
                    </a:lnTo>
                    <a:lnTo>
                      <a:pt x="102" y="338"/>
                    </a:lnTo>
                    <a:lnTo>
                      <a:pt x="47" y="306"/>
                    </a:lnTo>
                    <a:lnTo>
                      <a:pt x="12" y="270"/>
                    </a:lnTo>
                    <a:lnTo>
                      <a:pt x="1" y="233"/>
                    </a:lnTo>
                  </a:path>
                </a:pathLst>
              </a:custGeom>
              <a:noFill/>
              <a:ln w="20520">
                <a:solidFill>
                  <a:srgbClr val="8a8a8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Freeform 38"/>
              <p:cNvSpPr/>
              <p:nvPr/>
            </p:nvSpPr>
            <p:spPr>
              <a:xfrm>
                <a:off x="5120280" y="2243520"/>
                <a:ext cx="1721160" cy="197640"/>
              </a:xfrm>
              <a:custGeom>
                <a:avLst/>
                <a:gdLst>
                  <a:gd name="textAreaLeft" fmla="*/ 0 w 1721160"/>
                  <a:gd name="textAreaRight" fmla="*/ 1721520 w 1721160"/>
                  <a:gd name="textAreaTop" fmla="*/ 0 h 197640"/>
                  <a:gd name="textAreaBottom" fmla="*/ 198000 h 197640"/>
                </a:gdLst>
                <a:ahLst/>
                <a:rect l="textAreaLeft" t="textAreaTop" r="textAreaRight" b="textAreaBottom"/>
                <a:pathLst>
                  <a:path w="1831" h="451">
                    <a:moveTo>
                      <a:pt x="0" y="231"/>
                    </a:moveTo>
                    <a:lnTo>
                      <a:pt x="13" y="195"/>
                    </a:lnTo>
                    <a:lnTo>
                      <a:pt x="47" y="159"/>
                    </a:lnTo>
                    <a:lnTo>
                      <a:pt x="102" y="127"/>
                    </a:lnTo>
                    <a:lnTo>
                      <a:pt x="175" y="96"/>
                    </a:lnTo>
                    <a:lnTo>
                      <a:pt x="267" y="70"/>
                    </a:lnTo>
                    <a:lnTo>
                      <a:pt x="373" y="46"/>
                    </a:lnTo>
                    <a:lnTo>
                      <a:pt x="494" y="27"/>
                    </a:lnTo>
                    <a:lnTo>
                      <a:pt x="626" y="12"/>
                    </a:lnTo>
                    <a:lnTo>
                      <a:pt x="768" y="3"/>
                    </a:lnTo>
                    <a:lnTo>
                      <a:pt x="918" y="0"/>
                    </a:lnTo>
                    <a:lnTo>
                      <a:pt x="1067" y="3"/>
                    </a:lnTo>
                    <a:lnTo>
                      <a:pt x="1210" y="12"/>
                    </a:lnTo>
                    <a:lnTo>
                      <a:pt x="1340" y="27"/>
                    </a:lnTo>
                    <a:lnTo>
                      <a:pt x="1461" y="46"/>
                    </a:lnTo>
                    <a:lnTo>
                      <a:pt x="1566" y="70"/>
                    </a:lnTo>
                    <a:lnTo>
                      <a:pt x="1657" y="96"/>
                    </a:lnTo>
                    <a:lnTo>
                      <a:pt x="1731" y="127"/>
                    </a:lnTo>
                    <a:lnTo>
                      <a:pt x="1786" y="159"/>
                    </a:lnTo>
                    <a:lnTo>
                      <a:pt x="1820" y="195"/>
                    </a:lnTo>
                    <a:lnTo>
                      <a:pt x="1831" y="231"/>
                    </a:lnTo>
                    <a:lnTo>
                      <a:pt x="1820" y="268"/>
                    </a:lnTo>
                    <a:lnTo>
                      <a:pt x="1786" y="302"/>
                    </a:lnTo>
                    <a:lnTo>
                      <a:pt x="1731" y="335"/>
                    </a:lnTo>
                    <a:lnTo>
                      <a:pt x="1657" y="363"/>
                    </a:lnTo>
                    <a:lnTo>
                      <a:pt x="1566" y="390"/>
                    </a:lnTo>
                    <a:lnTo>
                      <a:pt x="1461" y="412"/>
                    </a:lnTo>
                    <a:lnTo>
                      <a:pt x="1340" y="428"/>
                    </a:lnTo>
                    <a:lnTo>
                      <a:pt x="1210" y="440"/>
                    </a:lnTo>
                    <a:lnTo>
                      <a:pt x="1067" y="449"/>
                    </a:lnTo>
                    <a:lnTo>
                      <a:pt x="918" y="451"/>
                    </a:lnTo>
                    <a:lnTo>
                      <a:pt x="768" y="449"/>
                    </a:lnTo>
                    <a:lnTo>
                      <a:pt x="626" y="440"/>
                    </a:lnTo>
                    <a:lnTo>
                      <a:pt x="494" y="428"/>
                    </a:lnTo>
                    <a:lnTo>
                      <a:pt x="373" y="412"/>
                    </a:lnTo>
                    <a:lnTo>
                      <a:pt x="267" y="390"/>
                    </a:lnTo>
                    <a:lnTo>
                      <a:pt x="175" y="363"/>
                    </a:lnTo>
                    <a:lnTo>
                      <a:pt x="102" y="335"/>
                    </a:lnTo>
                    <a:lnTo>
                      <a:pt x="47" y="302"/>
                    </a:lnTo>
                    <a:lnTo>
                      <a:pt x="13" y="268"/>
                    </a:lnTo>
                    <a:lnTo>
                      <a:pt x="0" y="231"/>
                    </a:lnTo>
                  </a:path>
                </a:pathLst>
              </a:custGeom>
              <a:noFill/>
              <a:ln w="20520">
                <a:solidFill>
                  <a:srgbClr val="82828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Freeform 39"/>
              <p:cNvSpPr/>
              <p:nvPr/>
            </p:nvSpPr>
            <p:spPr>
              <a:xfrm>
                <a:off x="5123160" y="2245320"/>
                <a:ext cx="1717560" cy="194760"/>
              </a:xfrm>
              <a:custGeom>
                <a:avLst/>
                <a:gdLst>
                  <a:gd name="textAreaLeft" fmla="*/ 0 w 1717560"/>
                  <a:gd name="textAreaRight" fmla="*/ 1717920 w 1717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827" h="446">
                    <a:moveTo>
                      <a:pt x="0" y="228"/>
                    </a:moveTo>
                    <a:lnTo>
                      <a:pt x="13" y="192"/>
                    </a:lnTo>
                    <a:lnTo>
                      <a:pt x="47" y="158"/>
                    </a:lnTo>
                    <a:lnTo>
                      <a:pt x="101" y="126"/>
                    </a:lnTo>
                    <a:lnTo>
                      <a:pt x="175" y="95"/>
                    </a:lnTo>
                    <a:lnTo>
                      <a:pt x="266" y="68"/>
                    </a:lnTo>
                    <a:lnTo>
                      <a:pt x="373" y="45"/>
                    </a:lnTo>
                    <a:lnTo>
                      <a:pt x="492" y="25"/>
                    </a:lnTo>
                    <a:lnTo>
                      <a:pt x="623" y="11"/>
                    </a:lnTo>
                    <a:lnTo>
                      <a:pt x="765" y="2"/>
                    </a:lnTo>
                    <a:lnTo>
                      <a:pt x="915" y="0"/>
                    </a:lnTo>
                    <a:lnTo>
                      <a:pt x="1064" y="2"/>
                    </a:lnTo>
                    <a:lnTo>
                      <a:pt x="1205" y="11"/>
                    </a:lnTo>
                    <a:lnTo>
                      <a:pt x="1337" y="25"/>
                    </a:lnTo>
                    <a:lnTo>
                      <a:pt x="1457" y="45"/>
                    </a:lnTo>
                    <a:lnTo>
                      <a:pt x="1562" y="68"/>
                    </a:lnTo>
                    <a:lnTo>
                      <a:pt x="1653" y="95"/>
                    </a:lnTo>
                    <a:lnTo>
                      <a:pt x="1727" y="126"/>
                    </a:lnTo>
                    <a:lnTo>
                      <a:pt x="1781" y="158"/>
                    </a:lnTo>
                    <a:lnTo>
                      <a:pt x="1814" y="192"/>
                    </a:lnTo>
                    <a:lnTo>
                      <a:pt x="1827" y="228"/>
                    </a:lnTo>
                    <a:lnTo>
                      <a:pt x="1814" y="265"/>
                    </a:lnTo>
                    <a:lnTo>
                      <a:pt x="1781" y="299"/>
                    </a:lnTo>
                    <a:lnTo>
                      <a:pt x="1727" y="332"/>
                    </a:lnTo>
                    <a:lnTo>
                      <a:pt x="1653" y="360"/>
                    </a:lnTo>
                    <a:lnTo>
                      <a:pt x="1562" y="384"/>
                    </a:lnTo>
                    <a:lnTo>
                      <a:pt x="1457" y="405"/>
                    </a:lnTo>
                    <a:lnTo>
                      <a:pt x="1337" y="423"/>
                    </a:lnTo>
                    <a:lnTo>
                      <a:pt x="1205" y="436"/>
                    </a:lnTo>
                    <a:lnTo>
                      <a:pt x="1064" y="443"/>
                    </a:lnTo>
                    <a:lnTo>
                      <a:pt x="915" y="446"/>
                    </a:lnTo>
                    <a:lnTo>
                      <a:pt x="765" y="443"/>
                    </a:lnTo>
                    <a:lnTo>
                      <a:pt x="623" y="436"/>
                    </a:lnTo>
                    <a:lnTo>
                      <a:pt x="492" y="423"/>
                    </a:lnTo>
                    <a:lnTo>
                      <a:pt x="373" y="405"/>
                    </a:lnTo>
                    <a:lnTo>
                      <a:pt x="266" y="384"/>
                    </a:lnTo>
                    <a:lnTo>
                      <a:pt x="175" y="360"/>
                    </a:lnTo>
                    <a:lnTo>
                      <a:pt x="101" y="332"/>
                    </a:lnTo>
                    <a:lnTo>
                      <a:pt x="47" y="299"/>
                    </a:lnTo>
                    <a:lnTo>
                      <a:pt x="13" y="265"/>
                    </a:lnTo>
                    <a:lnTo>
                      <a:pt x="1" y="228"/>
                    </a:lnTo>
                  </a:path>
                </a:pathLst>
              </a:custGeom>
              <a:noFill/>
              <a:ln w="20520">
                <a:solidFill>
                  <a:srgbClr val="7b7b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Freeform 40"/>
              <p:cNvSpPr/>
              <p:nvPr/>
            </p:nvSpPr>
            <p:spPr>
              <a:xfrm>
                <a:off x="5126760" y="2246400"/>
                <a:ext cx="1711080" cy="19296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192960"/>
                  <a:gd name="textAreaBottom" fmla="*/ 193320 h 192960"/>
                </a:gdLst>
                <a:ahLst/>
                <a:rect l="textAreaLeft" t="textAreaTop" r="textAreaRight" b="textAreaBottom"/>
                <a:pathLst>
                  <a:path w="1820" h="442">
                    <a:moveTo>
                      <a:pt x="909" y="441"/>
                    </a:moveTo>
                    <a:lnTo>
                      <a:pt x="1059" y="439"/>
                    </a:lnTo>
                    <a:lnTo>
                      <a:pt x="1201" y="432"/>
                    </a:lnTo>
                    <a:lnTo>
                      <a:pt x="1332" y="419"/>
                    </a:lnTo>
                    <a:lnTo>
                      <a:pt x="1451" y="401"/>
                    </a:lnTo>
                    <a:lnTo>
                      <a:pt x="1557" y="380"/>
                    </a:lnTo>
                    <a:lnTo>
                      <a:pt x="1647" y="356"/>
                    </a:lnTo>
                    <a:lnTo>
                      <a:pt x="1720" y="328"/>
                    </a:lnTo>
                    <a:lnTo>
                      <a:pt x="1775" y="297"/>
                    </a:lnTo>
                    <a:lnTo>
                      <a:pt x="1809" y="263"/>
                    </a:lnTo>
                    <a:lnTo>
                      <a:pt x="1820" y="228"/>
                    </a:lnTo>
                    <a:lnTo>
                      <a:pt x="1809" y="192"/>
                    </a:lnTo>
                    <a:lnTo>
                      <a:pt x="1775" y="158"/>
                    </a:lnTo>
                    <a:lnTo>
                      <a:pt x="1720" y="125"/>
                    </a:lnTo>
                    <a:lnTo>
                      <a:pt x="1647" y="95"/>
                    </a:lnTo>
                    <a:lnTo>
                      <a:pt x="1557" y="68"/>
                    </a:lnTo>
                    <a:lnTo>
                      <a:pt x="1451" y="45"/>
                    </a:lnTo>
                    <a:lnTo>
                      <a:pt x="1332" y="27"/>
                    </a:lnTo>
                    <a:lnTo>
                      <a:pt x="1201" y="13"/>
                    </a:lnTo>
                    <a:lnTo>
                      <a:pt x="1059" y="4"/>
                    </a:lnTo>
                    <a:lnTo>
                      <a:pt x="911" y="0"/>
                    </a:lnTo>
                    <a:lnTo>
                      <a:pt x="761" y="4"/>
                    </a:lnTo>
                    <a:lnTo>
                      <a:pt x="620" y="13"/>
                    </a:lnTo>
                    <a:lnTo>
                      <a:pt x="489" y="27"/>
                    </a:lnTo>
                    <a:lnTo>
                      <a:pt x="370" y="45"/>
                    </a:lnTo>
                    <a:lnTo>
                      <a:pt x="265" y="68"/>
                    </a:lnTo>
                    <a:lnTo>
                      <a:pt x="174" y="95"/>
                    </a:lnTo>
                    <a:lnTo>
                      <a:pt x="101" y="125"/>
                    </a:lnTo>
                    <a:lnTo>
                      <a:pt x="47" y="158"/>
                    </a:lnTo>
                    <a:lnTo>
                      <a:pt x="12" y="192"/>
                    </a:lnTo>
                    <a:lnTo>
                      <a:pt x="0" y="228"/>
                    </a:lnTo>
                    <a:lnTo>
                      <a:pt x="12" y="263"/>
                    </a:lnTo>
                    <a:lnTo>
                      <a:pt x="47" y="297"/>
                    </a:lnTo>
                    <a:lnTo>
                      <a:pt x="101" y="328"/>
                    </a:lnTo>
                    <a:lnTo>
                      <a:pt x="174" y="356"/>
                    </a:lnTo>
                    <a:lnTo>
                      <a:pt x="265" y="380"/>
                    </a:lnTo>
                    <a:lnTo>
                      <a:pt x="370" y="401"/>
                    </a:lnTo>
                    <a:lnTo>
                      <a:pt x="489" y="419"/>
                    </a:lnTo>
                    <a:lnTo>
                      <a:pt x="620" y="432"/>
                    </a:lnTo>
                    <a:lnTo>
                      <a:pt x="761" y="439"/>
                    </a:lnTo>
                    <a:lnTo>
                      <a:pt x="911" y="442"/>
                    </a:lnTo>
                  </a:path>
                </a:pathLst>
              </a:custGeom>
              <a:noFill/>
              <a:ln w="20520">
                <a:solidFill>
                  <a:srgbClr val="73737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Freeform 41"/>
              <p:cNvSpPr/>
              <p:nvPr/>
            </p:nvSpPr>
            <p:spPr>
              <a:xfrm>
                <a:off x="5058360" y="2221920"/>
                <a:ext cx="1844280" cy="255240"/>
              </a:xfrm>
              <a:custGeom>
                <a:avLst/>
                <a:gdLst>
                  <a:gd name="textAreaLeft" fmla="*/ 0 w 1844280"/>
                  <a:gd name="textAreaRight" fmla="*/ 1844640 w 1844280"/>
                  <a:gd name="textAreaTop" fmla="*/ 0 h 255240"/>
                  <a:gd name="textAreaBottom" fmla="*/ 255600 h 255240"/>
                </a:gdLst>
                <a:ahLst/>
                <a:rect l="textAreaLeft" t="textAreaTop" r="textAreaRight" b="textAreaBottom"/>
                <a:pathLst>
                  <a:path w="1962" h="583">
                    <a:moveTo>
                      <a:pt x="0" y="283"/>
                    </a:moveTo>
                    <a:lnTo>
                      <a:pt x="14" y="236"/>
                    </a:lnTo>
                    <a:lnTo>
                      <a:pt x="51" y="191"/>
                    </a:lnTo>
                    <a:lnTo>
                      <a:pt x="111" y="150"/>
                    </a:lnTo>
                    <a:lnTo>
                      <a:pt x="189" y="114"/>
                    </a:lnTo>
                    <a:lnTo>
                      <a:pt x="287" y="80"/>
                    </a:lnTo>
                    <a:lnTo>
                      <a:pt x="401" y="53"/>
                    </a:lnTo>
                    <a:lnTo>
                      <a:pt x="531" y="30"/>
                    </a:lnTo>
                    <a:lnTo>
                      <a:pt x="672" y="14"/>
                    </a:lnTo>
                    <a:lnTo>
                      <a:pt x="824" y="3"/>
                    </a:lnTo>
                    <a:lnTo>
                      <a:pt x="984" y="0"/>
                    </a:lnTo>
                    <a:lnTo>
                      <a:pt x="1144" y="3"/>
                    </a:lnTo>
                    <a:lnTo>
                      <a:pt x="1295" y="14"/>
                    </a:lnTo>
                    <a:lnTo>
                      <a:pt x="1435" y="30"/>
                    </a:lnTo>
                    <a:lnTo>
                      <a:pt x="1564" y="53"/>
                    </a:lnTo>
                    <a:lnTo>
                      <a:pt x="1678" y="80"/>
                    </a:lnTo>
                    <a:lnTo>
                      <a:pt x="1775" y="114"/>
                    </a:lnTo>
                    <a:lnTo>
                      <a:pt x="1854" y="150"/>
                    </a:lnTo>
                    <a:lnTo>
                      <a:pt x="1912" y="191"/>
                    </a:lnTo>
                    <a:lnTo>
                      <a:pt x="1949" y="236"/>
                    </a:lnTo>
                    <a:lnTo>
                      <a:pt x="1962" y="283"/>
                    </a:lnTo>
                    <a:lnTo>
                      <a:pt x="1949" y="338"/>
                    </a:lnTo>
                    <a:lnTo>
                      <a:pt x="1912" y="388"/>
                    </a:lnTo>
                    <a:lnTo>
                      <a:pt x="1854" y="433"/>
                    </a:lnTo>
                    <a:lnTo>
                      <a:pt x="1775" y="472"/>
                    </a:lnTo>
                    <a:lnTo>
                      <a:pt x="1678" y="506"/>
                    </a:lnTo>
                    <a:lnTo>
                      <a:pt x="1564" y="533"/>
                    </a:lnTo>
                    <a:lnTo>
                      <a:pt x="1435" y="557"/>
                    </a:lnTo>
                    <a:lnTo>
                      <a:pt x="1295" y="571"/>
                    </a:lnTo>
                    <a:lnTo>
                      <a:pt x="1144" y="582"/>
                    </a:lnTo>
                    <a:lnTo>
                      <a:pt x="984" y="583"/>
                    </a:lnTo>
                    <a:lnTo>
                      <a:pt x="824" y="582"/>
                    </a:lnTo>
                    <a:lnTo>
                      <a:pt x="672" y="571"/>
                    </a:lnTo>
                    <a:lnTo>
                      <a:pt x="531" y="557"/>
                    </a:lnTo>
                    <a:lnTo>
                      <a:pt x="401" y="533"/>
                    </a:lnTo>
                    <a:lnTo>
                      <a:pt x="287" y="506"/>
                    </a:lnTo>
                    <a:lnTo>
                      <a:pt x="189" y="472"/>
                    </a:lnTo>
                    <a:lnTo>
                      <a:pt x="111" y="433"/>
                    </a:lnTo>
                    <a:lnTo>
                      <a:pt x="51" y="388"/>
                    </a:lnTo>
                    <a:lnTo>
                      <a:pt x="14" y="338"/>
                    </a:lnTo>
                    <a:lnTo>
                      <a:pt x="2" y="283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Freeform 42"/>
              <p:cNvSpPr/>
              <p:nvPr/>
            </p:nvSpPr>
            <p:spPr>
              <a:xfrm>
                <a:off x="5126760" y="2246400"/>
                <a:ext cx="1711080" cy="19296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192960"/>
                  <a:gd name="textAreaBottom" fmla="*/ 193320 h 192960"/>
                </a:gdLst>
                <a:ahLst/>
                <a:rect l="textAreaLeft" t="textAreaTop" r="textAreaRight" b="textAreaBottom"/>
                <a:pathLst>
                  <a:path w="1820" h="442">
                    <a:moveTo>
                      <a:pt x="0" y="228"/>
                    </a:moveTo>
                    <a:lnTo>
                      <a:pt x="12" y="192"/>
                    </a:lnTo>
                    <a:lnTo>
                      <a:pt x="47" y="158"/>
                    </a:lnTo>
                    <a:lnTo>
                      <a:pt x="101" y="125"/>
                    </a:lnTo>
                    <a:lnTo>
                      <a:pt x="174" y="95"/>
                    </a:lnTo>
                    <a:lnTo>
                      <a:pt x="265" y="68"/>
                    </a:lnTo>
                    <a:lnTo>
                      <a:pt x="370" y="45"/>
                    </a:lnTo>
                    <a:lnTo>
                      <a:pt x="489" y="27"/>
                    </a:lnTo>
                    <a:lnTo>
                      <a:pt x="620" y="13"/>
                    </a:lnTo>
                    <a:lnTo>
                      <a:pt x="761" y="4"/>
                    </a:lnTo>
                    <a:lnTo>
                      <a:pt x="911" y="0"/>
                    </a:lnTo>
                    <a:lnTo>
                      <a:pt x="1059" y="4"/>
                    </a:lnTo>
                    <a:lnTo>
                      <a:pt x="1201" y="13"/>
                    </a:lnTo>
                    <a:lnTo>
                      <a:pt x="1332" y="27"/>
                    </a:lnTo>
                    <a:lnTo>
                      <a:pt x="1451" y="45"/>
                    </a:lnTo>
                    <a:lnTo>
                      <a:pt x="1557" y="68"/>
                    </a:lnTo>
                    <a:lnTo>
                      <a:pt x="1647" y="95"/>
                    </a:lnTo>
                    <a:lnTo>
                      <a:pt x="1720" y="125"/>
                    </a:lnTo>
                    <a:lnTo>
                      <a:pt x="1775" y="158"/>
                    </a:lnTo>
                    <a:lnTo>
                      <a:pt x="1809" y="192"/>
                    </a:lnTo>
                    <a:lnTo>
                      <a:pt x="1820" y="228"/>
                    </a:lnTo>
                    <a:lnTo>
                      <a:pt x="1809" y="263"/>
                    </a:lnTo>
                    <a:lnTo>
                      <a:pt x="1775" y="297"/>
                    </a:lnTo>
                    <a:lnTo>
                      <a:pt x="1720" y="328"/>
                    </a:lnTo>
                    <a:lnTo>
                      <a:pt x="1647" y="356"/>
                    </a:lnTo>
                    <a:lnTo>
                      <a:pt x="1557" y="380"/>
                    </a:lnTo>
                    <a:lnTo>
                      <a:pt x="1451" y="401"/>
                    </a:lnTo>
                    <a:lnTo>
                      <a:pt x="1332" y="419"/>
                    </a:lnTo>
                    <a:lnTo>
                      <a:pt x="1201" y="432"/>
                    </a:lnTo>
                    <a:lnTo>
                      <a:pt x="1059" y="439"/>
                    </a:lnTo>
                    <a:lnTo>
                      <a:pt x="911" y="442"/>
                    </a:lnTo>
                    <a:lnTo>
                      <a:pt x="761" y="439"/>
                    </a:lnTo>
                    <a:lnTo>
                      <a:pt x="620" y="432"/>
                    </a:lnTo>
                    <a:lnTo>
                      <a:pt x="489" y="419"/>
                    </a:lnTo>
                    <a:lnTo>
                      <a:pt x="370" y="401"/>
                    </a:lnTo>
                    <a:lnTo>
                      <a:pt x="265" y="380"/>
                    </a:lnTo>
                    <a:lnTo>
                      <a:pt x="174" y="356"/>
                    </a:lnTo>
                    <a:lnTo>
                      <a:pt x="101" y="328"/>
                    </a:lnTo>
                    <a:lnTo>
                      <a:pt x="47" y="297"/>
                    </a:lnTo>
                    <a:lnTo>
                      <a:pt x="12" y="263"/>
                    </a:lnTo>
                    <a:lnTo>
                      <a:pt x="0" y="228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Freeform 43"/>
              <p:cNvSpPr/>
              <p:nvPr/>
            </p:nvSpPr>
            <p:spPr>
              <a:xfrm>
                <a:off x="5126760" y="2246400"/>
                <a:ext cx="1711080" cy="19296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192960"/>
                  <a:gd name="textAreaBottom" fmla="*/ 193320 h 192960"/>
                </a:gdLst>
                <a:ahLst/>
                <a:rect l="textAreaLeft" t="textAreaTop" r="textAreaRight" b="textAreaBottom"/>
                <a:pathLst>
                  <a:path w="1820" h="442">
                    <a:moveTo>
                      <a:pt x="0" y="228"/>
                    </a:moveTo>
                    <a:lnTo>
                      <a:pt x="12" y="192"/>
                    </a:lnTo>
                    <a:lnTo>
                      <a:pt x="47" y="158"/>
                    </a:lnTo>
                    <a:lnTo>
                      <a:pt x="101" y="125"/>
                    </a:lnTo>
                    <a:lnTo>
                      <a:pt x="174" y="95"/>
                    </a:lnTo>
                    <a:lnTo>
                      <a:pt x="265" y="68"/>
                    </a:lnTo>
                    <a:lnTo>
                      <a:pt x="370" y="45"/>
                    </a:lnTo>
                    <a:lnTo>
                      <a:pt x="489" y="27"/>
                    </a:lnTo>
                    <a:lnTo>
                      <a:pt x="620" y="13"/>
                    </a:lnTo>
                    <a:lnTo>
                      <a:pt x="761" y="4"/>
                    </a:lnTo>
                    <a:lnTo>
                      <a:pt x="911" y="0"/>
                    </a:lnTo>
                    <a:lnTo>
                      <a:pt x="1059" y="4"/>
                    </a:lnTo>
                    <a:lnTo>
                      <a:pt x="1201" y="13"/>
                    </a:lnTo>
                    <a:lnTo>
                      <a:pt x="1332" y="27"/>
                    </a:lnTo>
                    <a:lnTo>
                      <a:pt x="1451" y="45"/>
                    </a:lnTo>
                    <a:lnTo>
                      <a:pt x="1557" y="68"/>
                    </a:lnTo>
                    <a:lnTo>
                      <a:pt x="1647" y="95"/>
                    </a:lnTo>
                    <a:lnTo>
                      <a:pt x="1720" y="125"/>
                    </a:lnTo>
                    <a:lnTo>
                      <a:pt x="1775" y="158"/>
                    </a:lnTo>
                    <a:lnTo>
                      <a:pt x="1809" y="192"/>
                    </a:lnTo>
                    <a:lnTo>
                      <a:pt x="1820" y="228"/>
                    </a:lnTo>
                    <a:lnTo>
                      <a:pt x="1809" y="263"/>
                    </a:lnTo>
                    <a:lnTo>
                      <a:pt x="1775" y="297"/>
                    </a:lnTo>
                    <a:lnTo>
                      <a:pt x="1720" y="328"/>
                    </a:lnTo>
                    <a:lnTo>
                      <a:pt x="1647" y="356"/>
                    </a:lnTo>
                    <a:lnTo>
                      <a:pt x="1557" y="380"/>
                    </a:lnTo>
                    <a:lnTo>
                      <a:pt x="1451" y="401"/>
                    </a:lnTo>
                    <a:lnTo>
                      <a:pt x="1332" y="419"/>
                    </a:lnTo>
                    <a:lnTo>
                      <a:pt x="1201" y="432"/>
                    </a:lnTo>
                    <a:lnTo>
                      <a:pt x="1059" y="439"/>
                    </a:lnTo>
                    <a:lnTo>
                      <a:pt x="911" y="442"/>
                    </a:lnTo>
                    <a:lnTo>
                      <a:pt x="761" y="439"/>
                    </a:lnTo>
                    <a:lnTo>
                      <a:pt x="620" y="432"/>
                    </a:lnTo>
                    <a:lnTo>
                      <a:pt x="489" y="419"/>
                    </a:lnTo>
                    <a:lnTo>
                      <a:pt x="370" y="401"/>
                    </a:lnTo>
                    <a:lnTo>
                      <a:pt x="265" y="380"/>
                    </a:lnTo>
                    <a:lnTo>
                      <a:pt x="174" y="356"/>
                    </a:lnTo>
                    <a:lnTo>
                      <a:pt x="101" y="328"/>
                    </a:lnTo>
                    <a:lnTo>
                      <a:pt x="47" y="297"/>
                    </a:lnTo>
                    <a:lnTo>
                      <a:pt x="12" y="263"/>
                    </a:lnTo>
                    <a:lnTo>
                      <a:pt x="0" y="228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Freeform 44"/>
              <p:cNvSpPr/>
              <p:nvPr/>
            </p:nvSpPr>
            <p:spPr>
              <a:xfrm>
                <a:off x="5126760" y="2346120"/>
                <a:ext cx="1711080" cy="9360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93600"/>
                  <a:gd name="textAreaBottom" fmla="*/ 93960 h 93600"/>
                </a:gdLst>
                <a:ahLst/>
                <a:rect l="textAreaLeft" t="textAreaTop" r="textAreaRight" b="textAreaBottom"/>
                <a:pathLst>
                  <a:path w="1820" h="214">
                    <a:moveTo>
                      <a:pt x="0" y="0"/>
                    </a:moveTo>
                    <a:lnTo>
                      <a:pt x="12" y="35"/>
                    </a:lnTo>
                    <a:lnTo>
                      <a:pt x="47" y="69"/>
                    </a:lnTo>
                    <a:lnTo>
                      <a:pt x="101" y="100"/>
                    </a:lnTo>
                    <a:lnTo>
                      <a:pt x="174" y="128"/>
                    </a:lnTo>
                    <a:lnTo>
                      <a:pt x="265" y="152"/>
                    </a:lnTo>
                    <a:lnTo>
                      <a:pt x="370" y="173"/>
                    </a:lnTo>
                    <a:lnTo>
                      <a:pt x="489" y="191"/>
                    </a:lnTo>
                    <a:lnTo>
                      <a:pt x="620" y="204"/>
                    </a:lnTo>
                    <a:lnTo>
                      <a:pt x="761" y="211"/>
                    </a:lnTo>
                    <a:lnTo>
                      <a:pt x="911" y="214"/>
                    </a:lnTo>
                    <a:lnTo>
                      <a:pt x="1059" y="211"/>
                    </a:lnTo>
                    <a:lnTo>
                      <a:pt x="1201" y="204"/>
                    </a:lnTo>
                    <a:lnTo>
                      <a:pt x="1332" y="191"/>
                    </a:lnTo>
                    <a:lnTo>
                      <a:pt x="1451" y="173"/>
                    </a:lnTo>
                    <a:lnTo>
                      <a:pt x="1557" y="152"/>
                    </a:lnTo>
                    <a:lnTo>
                      <a:pt x="1647" y="128"/>
                    </a:lnTo>
                    <a:lnTo>
                      <a:pt x="1720" y="100"/>
                    </a:lnTo>
                    <a:lnTo>
                      <a:pt x="1775" y="69"/>
                    </a:lnTo>
                    <a:lnTo>
                      <a:pt x="1809" y="35"/>
                    </a:lnTo>
                    <a:lnTo>
                      <a:pt x="1820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0" name="AutoShape 46"/>
            <p:cNvSpPr/>
            <p:nvPr/>
          </p:nvSpPr>
          <p:spPr>
            <a:xfrm flipH="1" rot="16200000">
              <a:off x="6341040" y="853200"/>
              <a:ext cx="473400" cy="2679840"/>
            </a:xfrm>
            <a:custGeom>
              <a:avLst/>
              <a:gdLst>
                <a:gd name="textAreaLeft" fmla="*/ 272160 w 473400"/>
                <a:gd name="textAreaRight" fmla="*/ 432000 w 473400"/>
                <a:gd name="textAreaTop" fmla="*/ 525240 h 2679840"/>
                <a:gd name="textAreaBottom" fmla="*/ 983160 h 267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6079"/>
                  </a:moveTo>
                  <a:lnTo>
                    <a:pt x="15422" y="0"/>
                  </a:lnTo>
                  <a:lnTo>
                    <a:pt x="15422" y="4239"/>
                  </a:lnTo>
                  <a:lnTo>
                    <a:pt x="12427" y="4239"/>
                  </a:lnTo>
                  <a:cubicBezTo>
                    <a:pt x="5564" y="4239"/>
                    <a:pt x="0" y="7784"/>
                    <a:pt x="0" y="12158"/>
                  </a:cubicBezTo>
                  <a:lnTo>
                    <a:pt x="0" y="21600"/>
                  </a:lnTo>
                  <a:lnTo>
                    <a:pt x="3761" y="21600"/>
                  </a:lnTo>
                  <a:lnTo>
                    <a:pt x="3761" y="12158"/>
                  </a:lnTo>
                  <a:cubicBezTo>
                    <a:pt x="3761" y="9817"/>
                    <a:pt x="7641" y="7919"/>
                    <a:pt x="12427" y="7919"/>
                  </a:cubicBezTo>
                  <a:lnTo>
                    <a:pt x="15422" y="7919"/>
                  </a:lnTo>
                  <a:lnTo>
                    <a:pt x="15422" y="12158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AutoShape 49"/>
            <p:cNvSpPr/>
            <p:nvPr/>
          </p:nvSpPr>
          <p:spPr>
            <a:xfrm rot="5400000">
              <a:off x="5136480" y="848520"/>
              <a:ext cx="473040" cy="2688840"/>
            </a:xfrm>
            <a:custGeom>
              <a:avLst/>
              <a:gdLst>
                <a:gd name="textAreaLeft" fmla="*/ 272160 w 473040"/>
                <a:gd name="textAreaRight" fmla="*/ 432360 w 473040"/>
                <a:gd name="textAreaTop" fmla="*/ 527400 h 2688840"/>
                <a:gd name="textAreaBottom" fmla="*/ 985680 h 2688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6079"/>
                  </a:moveTo>
                  <a:lnTo>
                    <a:pt x="15422" y="0"/>
                  </a:lnTo>
                  <a:lnTo>
                    <a:pt x="15422" y="4239"/>
                  </a:lnTo>
                  <a:lnTo>
                    <a:pt x="12427" y="4239"/>
                  </a:lnTo>
                  <a:cubicBezTo>
                    <a:pt x="5564" y="4239"/>
                    <a:pt x="0" y="7784"/>
                    <a:pt x="0" y="12158"/>
                  </a:cubicBezTo>
                  <a:lnTo>
                    <a:pt x="0" y="21600"/>
                  </a:lnTo>
                  <a:lnTo>
                    <a:pt x="3761" y="21600"/>
                  </a:lnTo>
                  <a:lnTo>
                    <a:pt x="3761" y="12158"/>
                  </a:lnTo>
                  <a:cubicBezTo>
                    <a:pt x="3761" y="9817"/>
                    <a:pt x="7641" y="7919"/>
                    <a:pt x="12427" y="7919"/>
                  </a:cubicBezTo>
                  <a:lnTo>
                    <a:pt x="15422" y="7919"/>
                  </a:lnTo>
                  <a:lnTo>
                    <a:pt x="15422" y="12158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2" name="Group 52"/>
            <p:cNvGrpSpPr/>
            <p:nvPr/>
          </p:nvGrpSpPr>
          <p:grpSpPr>
            <a:xfrm>
              <a:off x="4633920" y="3396960"/>
              <a:ext cx="2726640" cy="946440"/>
              <a:chOff x="4633920" y="3396960"/>
              <a:chExt cx="2726640" cy="946440"/>
            </a:xfrm>
          </p:grpSpPr>
          <p:sp>
            <p:nvSpPr>
              <p:cNvPr id="243" name="Freeform 53"/>
              <p:cNvSpPr/>
              <p:nvPr/>
            </p:nvSpPr>
            <p:spPr>
              <a:xfrm>
                <a:off x="4633920" y="3396960"/>
                <a:ext cx="2726640" cy="946440"/>
              </a:xfrm>
              <a:custGeom>
                <a:avLst/>
                <a:gdLst>
                  <a:gd name="textAreaLeft" fmla="*/ 0 w 2726640"/>
                  <a:gd name="textAreaRight" fmla="*/ 2727000 w 2726640"/>
                  <a:gd name="textAreaTop" fmla="*/ 0 h 946440"/>
                  <a:gd name="textAreaBottom" fmla="*/ 946800 h 946440"/>
                </a:gdLst>
                <a:ahLst/>
                <a:rect l="textAreaLeft" t="textAreaTop" r="textAreaRight" b="textAreaBottom"/>
                <a:pathLst>
                  <a:path w="1152" h="1150">
                    <a:moveTo>
                      <a:pt x="577" y="0"/>
                    </a:moveTo>
                    <a:lnTo>
                      <a:pt x="592" y="38"/>
                    </a:lnTo>
                    <a:lnTo>
                      <a:pt x="607" y="76"/>
                    </a:lnTo>
                    <a:lnTo>
                      <a:pt x="622" y="111"/>
                    </a:lnTo>
                    <a:lnTo>
                      <a:pt x="637" y="143"/>
                    </a:lnTo>
                    <a:lnTo>
                      <a:pt x="652" y="174"/>
                    </a:lnTo>
                    <a:lnTo>
                      <a:pt x="670" y="202"/>
                    </a:lnTo>
                    <a:lnTo>
                      <a:pt x="685" y="229"/>
                    </a:lnTo>
                    <a:lnTo>
                      <a:pt x="702" y="254"/>
                    </a:lnTo>
                    <a:lnTo>
                      <a:pt x="722" y="277"/>
                    </a:lnTo>
                    <a:lnTo>
                      <a:pt x="742" y="302"/>
                    </a:lnTo>
                    <a:lnTo>
                      <a:pt x="767" y="327"/>
                    </a:lnTo>
                    <a:lnTo>
                      <a:pt x="792" y="352"/>
                    </a:lnTo>
                    <a:lnTo>
                      <a:pt x="820" y="378"/>
                    </a:lnTo>
                    <a:lnTo>
                      <a:pt x="852" y="405"/>
                    </a:lnTo>
                    <a:lnTo>
                      <a:pt x="885" y="431"/>
                    </a:lnTo>
                    <a:lnTo>
                      <a:pt x="920" y="458"/>
                    </a:lnTo>
                    <a:lnTo>
                      <a:pt x="962" y="488"/>
                    </a:lnTo>
                    <a:lnTo>
                      <a:pt x="1007" y="523"/>
                    </a:lnTo>
                    <a:lnTo>
                      <a:pt x="1045" y="559"/>
                    </a:lnTo>
                    <a:lnTo>
                      <a:pt x="1077" y="594"/>
                    </a:lnTo>
                    <a:lnTo>
                      <a:pt x="1105" y="629"/>
                    </a:lnTo>
                    <a:lnTo>
                      <a:pt x="1125" y="665"/>
                    </a:lnTo>
                    <a:lnTo>
                      <a:pt x="1140" y="700"/>
                    </a:lnTo>
                    <a:lnTo>
                      <a:pt x="1150" y="735"/>
                    </a:lnTo>
                    <a:lnTo>
                      <a:pt x="1152" y="770"/>
                    </a:lnTo>
                    <a:lnTo>
                      <a:pt x="1150" y="808"/>
                    </a:lnTo>
                    <a:lnTo>
                      <a:pt x="1142" y="846"/>
                    </a:lnTo>
                    <a:lnTo>
                      <a:pt x="1127" y="881"/>
                    </a:lnTo>
                    <a:lnTo>
                      <a:pt x="1110" y="916"/>
                    </a:lnTo>
                    <a:lnTo>
                      <a:pt x="1085" y="949"/>
                    </a:lnTo>
                    <a:lnTo>
                      <a:pt x="1057" y="981"/>
                    </a:lnTo>
                    <a:lnTo>
                      <a:pt x="1022" y="1011"/>
                    </a:lnTo>
                    <a:lnTo>
                      <a:pt x="982" y="1039"/>
                    </a:lnTo>
                    <a:lnTo>
                      <a:pt x="960" y="1052"/>
                    </a:lnTo>
                    <a:lnTo>
                      <a:pt x="937" y="1065"/>
                    </a:lnTo>
                    <a:lnTo>
                      <a:pt x="915" y="1077"/>
                    </a:lnTo>
                    <a:lnTo>
                      <a:pt x="892" y="1087"/>
                    </a:lnTo>
                    <a:lnTo>
                      <a:pt x="870" y="1097"/>
                    </a:lnTo>
                    <a:lnTo>
                      <a:pt x="845" y="1107"/>
                    </a:lnTo>
                    <a:lnTo>
                      <a:pt x="820" y="1115"/>
                    </a:lnTo>
                    <a:lnTo>
                      <a:pt x="795" y="1122"/>
                    </a:lnTo>
                    <a:lnTo>
                      <a:pt x="770" y="1128"/>
                    </a:lnTo>
                    <a:lnTo>
                      <a:pt x="742" y="1135"/>
                    </a:lnTo>
                    <a:lnTo>
                      <a:pt x="717" y="1140"/>
                    </a:lnTo>
                    <a:lnTo>
                      <a:pt x="690" y="1143"/>
                    </a:lnTo>
                    <a:lnTo>
                      <a:pt x="662" y="1147"/>
                    </a:lnTo>
                    <a:lnTo>
                      <a:pt x="635" y="1148"/>
                    </a:lnTo>
                    <a:lnTo>
                      <a:pt x="607" y="1150"/>
                    </a:lnTo>
                    <a:lnTo>
                      <a:pt x="577" y="1150"/>
                    </a:lnTo>
                    <a:lnTo>
                      <a:pt x="547" y="1150"/>
                    </a:lnTo>
                    <a:lnTo>
                      <a:pt x="517" y="1148"/>
                    </a:lnTo>
                    <a:lnTo>
                      <a:pt x="490" y="1147"/>
                    </a:lnTo>
                    <a:lnTo>
                      <a:pt x="462" y="1143"/>
                    </a:lnTo>
                    <a:lnTo>
                      <a:pt x="435" y="1140"/>
                    </a:lnTo>
                    <a:lnTo>
                      <a:pt x="407" y="1135"/>
                    </a:lnTo>
                    <a:lnTo>
                      <a:pt x="382" y="1128"/>
                    </a:lnTo>
                    <a:lnTo>
                      <a:pt x="355" y="1122"/>
                    </a:lnTo>
                    <a:lnTo>
                      <a:pt x="330" y="1115"/>
                    </a:lnTo>
                    <a:lnTo>
                      <a:pt x="305" y="1107"/>
                    </a:lnTo>
                    <a:lnTo>
                      <a:pt x="282" y="1097"/>
                    </a:lnTo>
                    <a:lnTo>
                      <a:pt x="257" y="1087"/>
                    </a:lnTo>
                    <a:lnTo>
                      <a:pt x="235" y="1077"/>
                    </a:lnTo>
                    <a:lnTo>
                      <a:pt x="212" y="1065"/>
                    </a:lnTo>
                    <a:lnTo>
                      <a:pt x="192" y="1052"/>
                    </a:lnTo>
                    <a:lnTo>
                      <a:pt x="170" y="1039"/>
                    </a:lnTo>
                    <a:lnTo>
                      <a:pt x="130" y="1011"/>
                    </a:lnTo>
                    <a:lnTo>
                      <a:pt x="95" y="981"/>
                    </a:lnTo>
                    <a:lnTo>
                      <a:pt x="65" y="949"/>
                    </a:lnTo>
                    <a:lnTo>
                      <a:pt x="42" y="916"/>
                    </a:lnTo>
                    <a:lnTo>
                      <a:pt x="22" y="881"/>
                    </a:lnTo>
                    <a:lnTo>
                      <a:pt x="10" y="846"/>
                    </a:lnTo>
                    <a:lnTo>
                      <a:pt x="2" y="808"/>
                    </a:lnTo>
                    <a:lnTo>
                      <a:pt x="0" y="770"/>
                    </a:lnTo>
                    <a:lnTo>
                      <a:pt x="2" y="735"/>
                    </a:lnTo>
                    <a:lnTo>
                      <a:pt x="12" y="700"/>
                    </a:lnTo>
                    <a:lnTo>
                      <a:pt x="27" y="665"/>
                    </a:lnTo>
                    <a:lnTo>
                      <a:pt x="47" y="629"/>
                    </a:lnTo>
                    <a:lnTo>
                      <a:pt x="75" y="594"/>
                    </a:lnTo>
                    <a:lnTo>
                      <a:pt x="107" y="559"/>
                    </a:lnTo>
                    <a:lnTo>
                      <a:pt x="145" y="523"/>
                    </a:lnTo>
                    <a:lnTo>
                      <a:pt x="190" y="488"/>
                    </a:lnTo>
                    <a:lnTo>
                      <a:pt x="232" y="458"/>
                    </a:lnTo>
                    <a:lnTo>
                      <a:pt x="267" y="431"/>
                    </a:lnTo>
                    <a:lnTo>
                      <a:pt x="300" y="405"/>
                    </a:lnTo>
                    <a:lnTo>
                      <a:pt x="332" y="378"/>
                    </a:lnTo>
                    <a:lnTo>
                      <a:pt x="360" y="352"/>
                    </a:lnTo>
                    <a:lnTo>
                      <a:pt x="385" y="327"/>
                    </a:lnTo>
                    <a:lnTo>
                      <a:pt x="410" y="302"/>
                    </a:lnTo>
                    <a:lnTo>
                      <a:pt x="430" y="277"/>
                    </a:lnTo>
                    <a:lnTo>
                      <a:pt x="450" y="254"/>
                    </a:lnTo>
                    <a:lnTo>
                      <a:pt x="467" y="229"/>
                    </a:lnTo>
                    <a:lnTo>
                      <a:pt x="485" y="202"/>
                    </a:lnTo>
                    <a:lnTo>
                      <a:pt x="502" y="174"/>
                    </a:lnTo>
                    <a:lnTo>
                      <a:pt x="517" y="143"/>
                    </a:lnTo>
                    <a:lnTo>
                      <a:pt x="532" y="111"/>
                    </a:lnTo>
                    <a:lnTo>
                      <a:pt x="547" y="76"/>
                    </a:lnTo>
                    <a:lnTo>
                      <a:pt x="562" y="38"/>
                    </a:lnTo>
                    <a:lnTo>
                      <a:pt x="577" y="0"/>
                    </a:ln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>
                <a:off x="4932000" y="3671640"/>
                <a:ext cx="2260440" cy="67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248 Load Profile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5" name="Group 57"/>
            <p:cNvGrpSpPr/>
            <p:nvPr/>
          </p:nvGrpSpPr>
          <p:grpSpPr>
            <a:xfrm>
              <a:off x="6957720" y="1600200"/>
              <a:ext cx="1424160" cy="767880"/>
              <a:chOff x="6957720" y="1600200"/>
              <a:chExt cx="1424160" cy="767880"/>
            </a:xfrm>
          </p:grpSpPr>
          <p:sp>
            <p:nvSpPr>
              <p:cNvPr id="246" name="Oval 58"/>
              <p:cNvSpPr/>
              <p:nvPr/>
            </p:nvSpPr>
            <p:spPr>
              <a:xfrm>
                <a:off x="6957720" y="1600200"/>
                <a:ext cx="1424160" cy="767880"/>
              </a:xfrm>
              <a:prstGeom prst="ellipse">
                <a:avLst/>
              </a:prstGeom>
              <a:solidFill>
                <a:srgbClr val="0099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TextBox 16"/>
              <p:cNvSpPr/>
              <p:nvPr/>
            </p:nvSpPr>
            <p:spPr>
              <a:xfrm>
                <a:off x="7056360" y="1709640"/>
                <a:ext cx="12463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8 Weather Zone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8" name="Group 60"/>
            <p:cNvGrpSpPr/>
            <p:nvPr/>
          </p:nvGrpSpPr>
          <p:grpSpPr>
            <a:xfrm>
              <a:off x="3581280" y="1600200"/>
              <a:ext cx="1424160" cy="767880"/>
              <a:chOff x="3581280" y="1600200"/>
              <a:chExt cx="1424160" cy="767880"/>
            </a:xfrm>
          </p:grpSpPr>
          <p:sp>
            <p:nvSpPr>
              <p:cNvPr id="249" name="Oval 61"/>
              <p:cNvSpPr/>
              <p:nvPr/>
            </p:nvSpPr>
            <p:spPr>
              <a:xfrm>
                <a:off x="3581280" y="1600200"/>
                <a:ext cx="1424160" cy="767880"/>
              </a:xfrm>
              <a:prstGeom prst="ellipse">
                <a:avLst/>
              </a:prstGeom>
              <a:solidFill>
                <a:srgbClr val="0099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TextBox 14"/>
              <p:cNvSpPr/>
              <p:nvPr/>
            </p:nvSpPr>
            <p:spPr>
              <a:xfrm>
                <a:off x="3679560" y="1709640"/>
                <a:ext cx="12463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31 Profile Type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1" name="TextBox 61"/>
          <p:cNvSpPr/>
          <p:nvPr/>
        </p:nvSpPr>
        <p:spPr>
          <a:xfrm>
            <a:off x="533520" y="579132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ercot.com/committees/board/tac/cops/pwg/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1T21:33:53Z</dcterms:created>
  <dc:creator>Administrator</dc:creator>
  <dc:description/>
  <dc:language>en-US</dc:language>
  <cp:lastModifiedBy>epodraza</cp:lastModifiedBy>
  <dcterms:modified xsi:type="dcterms:W3CDTF">2011-02-25T18:50:26Z</dcterms:modified>
  <cp:revision>590</cp:revision>
  <dc:subject/>
  <dc:title>PowerPoint Presentation</dc:title>
</cp:coreProperties>
</file>