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14FF-6B3F-4A07-B424-0D4B7F892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2217-AEC1-45DC-854C-1C91D6F9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D7C5-1006-4912-912D-019CB5A2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2ECB-CE59-4ED1-89BA-18DFB655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2943-0890-4B43-9395-A4B347DA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4231-2B39-4DA8-9702-468BDB6F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3D2F-6F1A-4626-A376-342C6B54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C439-499C-40C1-8A0D-ECFCB0A1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0801-B38C-4AF7-86ED-14EA97CB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D3E7-8D23-4243-B07E-9AA8F9BA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341A-BB6F-4E98-A7B7-609CC519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A21F-4067-4293-BF3A-1E3EEBD4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630F-968C-4480-95D9-37E533F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2384-F85C-4826-8449-9BD1A8A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DD40-DA7E-424F-97E5-FA087E4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DDC-9599-4CA3-BB51-39D3F3F59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 MDM Fall 2010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8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A1C-6495-4252-90DB-6300BEC2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/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I MDM Fall 2010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807B-6E99-4D33-A97F-818AA650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13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21044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UG TAC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ckie Ashbau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7/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Alerts/Notification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Alerts/Notification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Extract &amp; Report Posting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152280" y="735120"/>
            <a:ext cx="449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xtract &amp; Report P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on Feb. 3, 2011 6:11:02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3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09440" y="1828800"/>
            <a:ext cx="894096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2971800" y="5562720"/>
            <a:ext cx="3352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10 Market Extract &amp; Report Posting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152280" y="735120"/>
            <a:ext cx="487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10 Market Extract &amp; Report P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on Feb. 3, 2011 6:09:38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3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rcRect l="17515" t="383" r="770" b="2894"/>
          <a:stretch/>
        </p:blipFill>
        <p:spPr>
          <a:xfrm>
            <a:off x="380880" y="16765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Extract &amp; Report Download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52280" y="735120"/>
            <a:ext cx="449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xtract &amp; Report Down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on Feb. 3, 2011 5:14:42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3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176040" y="1905120"/>
            <a:ext cx="8739360" cy="3571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2743200" y="5524560"/>
            <a:ext cx="365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10 Market Extract &amp; Report Download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152280" y="735120"/>
            <a:ext cx="487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10 Market Extract &amp; Report Down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 on Feb. 3, 2011 6:04:12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 Dat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 31,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rcRect l="15641" t="383" r="829" b="1672"/>
          <a:stretch/>
        </p:blipFill>
        <p:spPr>
          <a:xfrm>
            <a:off x="457200" y="167652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02/22/2011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the high priority items from MISU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task list prioritization from January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NPRR for security classification changes from SECURE to PUBL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 market MIS dashboard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329, Correct Security Classification Changes for Extracts/Repor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ted 2/23/2011 with request for Urg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gency was gran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s the Protocol language to post on MIS PUBLIC for the following repor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-Day Load Forecast by Forecast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-Day Load Forecast by Weather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 Term System Adequacy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Forecast Distribution F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ment Points List and Electrical Buses Map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M Ancillary Servic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 Assum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gregated Wind Generation Resource Power Potential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ual and Forecasted Regional Win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rly RMR Services De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RUC Active &amp; Binding Transmission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rly RUC Active &amp; Binding Transmission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se 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-Wide De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Estimator Load Report - Load by Electrical Bus by Loa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Estimator Load Report - Total System Load on Electrical B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Estimator Load Report - Total ERCOT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s to Transmission Facility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D Shadow Prices and Binding Transmission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ed Service Four Coincident Peak Calculation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Estimator Load Report – DC Tie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shboard Enhancement Summary from 2/22 MISU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 Priority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ke Dashboards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promotion of following dashboards to public domain considering costs and benefit in public communication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MP Contour m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Forecast vs. 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-Time System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D Up/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ncillary Services Capacity Mon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Wind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nhance Real-Time System Conditions Dashboa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using new 5-minute SE report implementing this month that includes all discreet element flows that make up CSCs and CREs except Valley Import and Lare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terface and CSCs with DC Ties on this display with lab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 new display of all available CSC/CRE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frequency of wind refresh to align with DC Tie frequency of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ED UpDown Dashboa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ge to be on same axis so SCED Up is positive, and SCED down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d Graph Dashboa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graph and corresponding report - Total and Groupings of wind outp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 values Day-Ahead or 48-hr, Adjustment Period/Hourly, Actual (similar to load forecast vs act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-total grouping for actual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sides of W-N constra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astal w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ore granular the better in regional without confidentia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 solar (other renewab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03/31/2011 Meeting Agenda Top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new task list items and priorit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update on NPRR329, Correct Security Classification Changes for Extracts/Repor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draft SCRs and NPRRs for high priority dashboard requirements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market requirements for high priority new reports to draft NPRRs/OGR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Grid Operation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TDSP Load by LSE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Tie Schedule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 HDLs/LDL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firmed Trade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d Groupings of Wind Outpu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Referenc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nuary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Website Page View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91044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Market Transaction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ternal Web Services Market Info Reports – January 201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ashbaugh</cp:lastModifiedBy>
  <dcterms:modified xsi:type="dcterms:W3CDTF">2011-03-02T02:03:09Z</dcterms:modified>
  <cp:revision>400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</Properties>
</file>