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CCFD-4579-4DCF-8134-BFA440892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965C-CAA4-44ED-8108-3D00C5755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F996-6C33-445C-ACDA-6699BADD9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F3CB-8F66-4DC1-A3C6-9148A309D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AFF7-15EE-4F11-82ED-63E86BB52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6FEC1-AD89-4D86-9137-F718367C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589CC-AF03-4DF7-B990-E21E4902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DB87E-7D8F-4423-A8E4-4ECEF9EC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908A8-3A9F-4C37-8E07-3868343D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17601-E237-40D5-A8B9-B9789324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F71E2-374C-4407-9C6C-4EE11188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A388C-F814-4CAC-B376-64C47742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32967-1227-4ECD-A541-72F566CB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D312C-803E-4908-A8A2-D69B56F4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3D082-D5CE-4BB5-AA81-259D33B4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8E2F7-0D02-49E4-AC7E-C3DB06BD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7AB8-08AD-47F7-92F0-06CEBD2F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83F6-D149-466E-A483-DEA71F10F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BF50-ADB7-42BA-BED4-4773A3E94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/3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MS Upd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yle Patr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MS Updat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MS approved Parking Deck Priority L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MS discussed the 2/2/2011 Winter Sto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0 Market Coordination 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going into initialization in J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anticipated Q2 or Q3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CT AMIT Pro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ing engagement from 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ing action items from A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updates to working group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0A78-BEBA-45D2-8584-F49178F44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oting Items: RMGRR094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3520" y="1052640"/>
          <a:ext cx="7924680" cy="4751280"/>
        </p:xfrm>
        <a:graphic>
          <a:graphicData uri="http://schemas.openxmlformats.org/drawingml/2006/table">
            <a:tbl>
              <a:tblPr/>
              <a:tblGrid>
                <a:gridCol w="2168280"/>
                <a:gridCol w="1451160"/>
                <a:gridCol w="430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ng the Competitive Metering Guide to the Retail Market Gui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mp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Retail Market Guide Revision Request (RMGRR) incorporates the Competitive Metering Guide (CMG) into the RMG and will dissolve the Competitive Metering Guide upon implementation of this RMGR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ubcommittee Acronym) V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ndorse and forward the 1/19/11 RMS Report and Impact Analysis for RMGRR094 to TAC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O Deter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roject required.  This Retail Market Guide Revision Request (RMGRR) can take effect upon Technical Advisory Committee (TAC) approv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on TAC Approval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762120" y="1600200"/>
            <a:ext cx="7619760" cy="419112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289548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38862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48006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849960" y="207000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em Revie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5552640" y="199404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978640" y="1944720"/>
            <a:ext cx="82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762120" y="5181480"/>
            <a:ext cx="2103480" cy="5806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844560" y="26258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846000" y="315900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794880" y="368136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796680" y="42260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794880" y="47592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3888000" y="19447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4"/>
          <p:cNvSpPr/>
          <p:nvPr/>
        </p:nvSpPr>
        <p:spPr>
          <a:xfrm>
            <a:off x="3200400" y="31240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6"/>
          <p:cNvSpPr/>
          <p:nvPr/>
        </p:nvSpPr>
        <p:spPr>
          <a:xfrm>
            <a:off x="3200400" y="41911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8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9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0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6"/>
          <p:cNvSpPr/>
          <p:nvPr/>
        </p:nvSpPr>
        <p:spPr>
          <a:xfrm>
            <a:off x="3200400" y="47242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6"/>
          <p:cNvSpPr/>
          <p:nvPr/>
        </p:nvSpPr>
        <p:spPr>
          <a:xfrm>
            <a:off x="3200400" y="36576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6"/>
          <p:cNvSpPr/>
          <p:nvPr/>
        </p:nvSpPr>
        <p:spPr>
          <a:xfrm>
            <a:off x="3200400" y="25909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oting Items: RMGRR0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oting Items: RMGRR095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33520" y="1052640"/>
          <a:ext cx="7924680" cy="4545000"/>
        </p:xfrm>
        <a:graphic>
          <a:graphicData uri="http://schemas.openxmlformats.org/drawingml/2006/table">
            <a:tbl>
              <a:tblPr/>
              <a:tblGrid>
                <a:gridCol w="2168280"/>
                <a:gridCol w="1451160"/>
                <a:gridCol w="430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er Tampering Business Processes Clarific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mp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RMGRR provides clarification for the process that facilitates Market Participant compliance with P.U.C. Subst. R. 25.126, Adjustments Due to Non-Compliant Meters and Meter Tampering in Areas Where Customer Choice Has Been Introduce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ubcommittee Acronym) V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ndorse and forward the 1/19/11 RMS Report and Impact Analysis for RMGRR095 to TAC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O Deter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roject required.  This Retail Market Guide Revision Request (RMGRR) can take effect upon Technical Advisory Committee (TAC) approva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on TAC Approval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762120" y="1600200"/>
            <a:ext cx="7619760" cy="419112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289548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38862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48006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849960" y="207000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em Revie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5552640" y="199404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2978640" y="1944720"/>
            <a:ext cx="82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762120" y="5181480"/>
            <a:ext cx="2103480" cy="5806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844560" y="26258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846000" y="315900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794880" y="368136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796680" y="42260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794880" y="47592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3888000" y="19447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4"/>
          <p:cNvSpPr/>
          <p:nvPr/>
        </p:nvSpPr>
        <p:spPr>
          <a:xfrm>
            <a:off x="3200400" y="31240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6"/>
          <p:cNvSpPr/>
          <p:nvPr/>
        </p:nvSpPr>
        <p:spPr>
          <a:xfrm>
            <a:off x="3200400" y="41911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9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6"/>
          <p:cNvSpPr/>
          <p:nvPr/>
        </p:nvSpPr>
        <p:spPr>
          <a:xfrm>
            <a:off x="3200400" y="47242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6"/>
          <p:cNvSpPr/>
          <p:nvPr/>
        </p:nvSpPr>
        <p:spPr>
          <a:xfrm>
            <a:off x="3200400" y="36576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6"/>
          <p:cNvSpPr/>
          <p:nvPr/>
        </p:nvSpPr>
        <p:spPr>
          <a:xfrm>
            <a:off x="3200400" y="25909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oting Items: RMGRR0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oting Items: RMGRR096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33520" y="1052640"/>
          <a:ext cx="7924680" cy="5322600"/>
        </p:xfrm>
        <a:graphic>
          <a:graphicData uri="http://schemas.openxmlformats.org/drawingml/2006/table">
            <a:tbl>
              <a:tblPr/>
              <a:tblGrid>
                <a:gridCol w="2168280"/>
                <a:gridCol w="1451160"/>
                <a:gridCol w="430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Processes and Communications for Switch Holds Related to Deferred Payment Pl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mp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Retail Market Guide Revision Request (RMGRR) creates Section 7.17 to provide a process that facilitates Market Participant compliance with P.U.C. Subst. R. 25.480, Bill Payment and Adjustments.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ubcommittee Acronym) V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ndorse and forward the 1/19/11 RMS Recommendation Report and Impact Analysis for RMGRR096 to TAC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O Deter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roject required.  This Retail Market Guide Revision Request (RMGRR) can take effect upon Technical Advisory Committee (TAC) approv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on TAC Appro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ule is effective June 1, 2011.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762120" y="1600200"/>
            <a:ext cx="7619760" cy="419112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289548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38862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48006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0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849960" y="207000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em Revie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5552640" y="199404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8640" y="1944720"/>
            <a:ext cx="82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762120" y="5181480"/>
            <a:ext cx="2103480" cy="5806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844560" y="26258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846000" y="315900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794880" y="368136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796680" y="42260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794880" y="47592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3888000" y="19447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4"/>
          <p:cNvSpPr/>
          <p:nvPr/>
        </p:nvSpPr>
        <p:spPr>
          <a:xfrm>
            <a:off x="3200400" y="31240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6"/>
          <p:cNvSpPr/>
          <p:nvPr/>
        </p:nvSpPr>
        <p:spPr>
          <a:xfrm>
            <a:off x="3200400" y="41911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8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9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0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6"/>
          <p:cNvSpPr/>
          <p:nvPr/>
        </p:nvSpPr>
        <p:spPr>
          <a:xfrm>
            <a:off x="3200400" y="47242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6"/>
          <p:cNvSpPr/>
          <p:nvPr/>
        </p:nvSpPr>
        <p:spPr>
          <a:xfrm>
            <a:off x="3200400" y="36576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6"/>
          <p:cNvSpPr/>
          <p:nvPr/>
        </p:nvSpPr>
        <p:spPr>
          <a:xfrm>
            <a:off x="3200400" y="25909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oting Items: RMGRR0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kpatrick</cp:lastModifiedBy>
  <dcterms:modified xsi:type="dcterms:W3CDTF">2011-03-01T20:26:14Z</dcterms:modified>
  <cp:revision>113</cp:revision>
  <dc:subject/>
  <dc:title>Instructions</dc:title>
</cp:coreProperties>
</file>