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8562-F750-4ABE-A753-EB6D7DA0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F56-D852-4E1C-9290-AE356BA6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C3D-2064-42DD-9164-FD2D8E341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5B69-5767-413E-93B0-197914DE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F75-D5E1-4ECF-9DE6-3D36D708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8369-DB1C-4184-B559-FF6193B3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205F-E081-4D71-A5A1-B7516D46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3FB-F23D-443C-AE9E-6F58988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BAF-1B84-45B2-84E0-209BB07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7CB-7BF4-45D2-B24B-7CA7351F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7BA-A721-4A9E-8592-E93F5A0D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768-2A07-492D-80A9-DA43B611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33F-02F0-423F-A540-DA7C295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040-64B5-4052-9495-A3A6F7E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9A4-C987-4E6F-8E1D-C96A24B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404-DF30-484C-9DF0-A8FF390D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A32-3BE1-4449-A499-59B8526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07D-7EF0-4FD8-8B91-34D4CDFF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A8E-C871-4F09-A8EF-BAB9957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2958-9825-4E1B-847C-8E4D994CD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5960" y="2354040"/>
            <a:ext cx="7758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044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Generation (DG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file Segment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6" descr="ClipArt"/>
          <p:cNvPicPr/>
          <p:nvPr/>
        </p:nvPicPr>
        <p:blipFill>
          <a:blip r:embed="rId1"/>
          <a:stretch/>
        </p:blipFill>
        <p:spPr>
          <a:xfrm>
            <a:off x="6070680" y="4119480"/>
            <a:ext cx="17668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54E0-8CF9-422A-A692-6A51BA862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160" y="1440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5920" y="1123920"/>
            <a:ext cx="83721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request of DGTF, PWG provided NIDR DRG profiles by 1/2009 for premises of with DRG of 50 kW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08 changes registration requirements for non-renewable distributed generation less than or equal the DG registration 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08 gray-box section modifies the method for allocating energy exported to the grid by wind D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anges are required to implement NPRR208 gray-box languag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has developed DG Load Profile Segment assignments and Profile Models (same as respective ‘standard’ models) to be applied to ESI IDs with non-PV and non-wind distributed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 new Load Profile IDs require a market noti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days prior to their implement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1544 valid Profile IDs based on LPRRR042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86A8-478D-4A29-A45D-842C5D4C6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ipated DG Profile Segmen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1181160"/>
            <a:ext cx="83185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anges (from NPRR208) necessary to implement this LPGRR are expected to be completed in September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ticipated implementation date for this LPG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rgency is granted:  September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rgency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nted:  October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pen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mpletion of system changes described in the gray-box language and the notice of 150 days (or mor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forecasted profiles 3 days before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backcasted profiles 1 day after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A26-A3AC-4E93-9CCD-3C4C8005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43000"/>
            <a:ext cx="82202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hanges for this effort will be prioritized by the market as part of the post go-live prioritization process.  Once the schedule is known, the 150-day notice will be given to try to coincide with the project completion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the 150-day market notice is published, TDSPs may begin sending documentation to ERCOT initiating a DG Profile Segment assignment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accumulate and validate DG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five business days after the implementation date, ERCOT shall send files of validated change requests to TDSPs for dis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TDSPs receive validated change requests from ERCOT, they may submit 814_20 transactions changing to DG Profile Segments with an effective date of a meter reading on or after the implementation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84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G Profile Segment Assignment Tran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9B3-18A0-4553-8724-4F6E616B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96880" y="1047600"/>
            <a:ext cx="831852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ed Schedule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r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ows for September 2011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review – January 26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 filed January 3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cy request to COPS standing members on January 3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Review – February 8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– March 3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-Day (minimum) Market Notice for DG Profile Segments: March 4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pen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mpletion of system changes (expected Sep. 2011) described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-box language and the 150 day no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forecasted profiles 3 days before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backcasted profiles 1 day after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9B2-58B5-4D09-B8DB-222BBC154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96880" y="1041480"/>
            <a:ext cx="8318520" cy="51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ed Schedule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ows for October 2011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review – January 26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 filed January 3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day comment period ends February 2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Language Consideration – February 23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IA Review – March 23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Review – April 12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– May 5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-Day (minimum) Market Notice for DG Profile Segments:  May 6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pen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mpletion of system (expected Sep. 2011) changes described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-box language and the 150 day no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forecasted profiles 3 days before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backcasted profiles 1 day after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Market Rules</cp:lastModifiedBy>
  <cp:lastPrinted>2002-05-17T20:57:43Z</cp:lastPrinted>
  <dcterms:modified xsi:type="dcterms:W3CDTF">2011-02-28T16:51:55Z</dcterms:modified>
  <cp:revision>382</cp:revision>
  <dc:subject/>
  <dc:title>Retail Transactions Report</dc:title>
</cp:coreProperties>
</file>