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0DEA-E49A-4198-B78B-4DD9B8CA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667C-D8B7-4CFD-AF49-BF1BA57D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9FB1-FA92-4BBE-BDA6-D9248FA6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F20-D1FC-41EA-AD66-F3C6655C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0FA-1F07-4652-BC05-E2B6F457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AAA8-E362-41D3-ABFF-9CEB130B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B50B-E66F-4C90-B471-EB990EE6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00D-61BB-4CDE-B44A-C6F3B716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9A36-DCE9-4F25-B8C5-F098AAEE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8F7D-8CF7-4BE8-A228-02DF91BC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906D-F281-4C92-A50F-A2A365CE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0D61-7B7F-4BA1-8A05-0A77EA2E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89AD-695D-46BE-A8FD-AE3A596A4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904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as Emerging Technolog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egration Pl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ly Update for the 3-Month Period Ending December 31, 2010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1904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to T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3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Ged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2318-4FA6-4D71-A833-2E4D90B02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th Quarter TRIP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November 4, 2010, the ERCOT Technical Advisory Committee (TAC) approved the Emerging Technologies Implementation Plant (ETIP) and the Recommendations contained therei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December 11, 2010 at 7:16 AM, ERCOT set a record for instantaneous wind generation of 7,227 MW (76.3% of installed capacity), breaking the previous record set on June 12, 2010 of 7,016 MW (75.3% of installed capacity).  This event also set a new ERCOT record for the highest percentage of load served by wind at 25.8% of the total load served at tha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D344-1396-4A7F-BC82-AD04D3569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ed Wind Generation Capacity in ERCOT as of December 31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F1B6-21C3-4CE2-8C32-0DE777E41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81835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% of Total ERCOT Energy Provided by 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0DAD-E2E5-413F-9F73-34467DAD6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81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ative Wind Energy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9C21-40A3-4B5F-AAC0-D3613E0AC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140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2666880"/>
          <a:ext cx="8229600" cy="2394000"/>
        </p:xfrm>
        <a:graphic>
          <a:graphicData uri="http://schemas.openxmlformats.org/drawingml/2006/table">
            <a:tbl>
              <a:tblPr/>
              <a:tblGrid>
                <a:gridCol w="4876920"/>
                <a:gridCol w="1143000"/>
                <a:gridCol w="1143000"/>
                <a:gridCol w="1066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acity 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ct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om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cts with Interconnect Agreement/Public Le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cts Under Full Interconnect Stu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,5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idential Proj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1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,7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Quarter TRIP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4"/>
          <p:cNvSpPr/>
          <p:nvPr/>
        </p:nvSpPr>
        <p:spPr>
          <a:xfrm>
            <a:off x="331920" y="1981080"/>
            <a:ext cx="85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newable Generation Capacity Under Study at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4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5106-CAFA-4C47-8185-3AB807428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Quarter TRIP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d NPRRs Related to Renewable Re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RR 258 - Synchronization with PRR824 and PRR833 and Additional Clar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RR 269 - Synchronization of PRR830, Reactive Power Capability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RR 270 - Defining the Variable Used in the Wind Generation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RR 281 - Replace 7-Day Forecast Requirement for QSEs Representing WG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D0C6-09B0-4A16-8989-BD5885BF5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06:44Z</dcterms:created>
  <dc:creator>Henry Durrwachter</dc:creator>
  <dc:description/>
  <dc:language>en-US</dc:language>
  <cp:lastModifiedBy>FPL_User</cp:lastModifiedBy>
  <dcterms:modified xsi:type="dcterms:W3CDTF">2011-02-14T15:24:53Z</dcterms:modified>
  <cp:revision>26</cp:revision>
  <dc:subject/>
  <dc:title>Renewable Technology Working Group (RTWG)</dc:title>
</cp:coreProperties>
</file>