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AD5200-0777-4328-AEA2-0A91B6F9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4FF57B-7761-4A06-B6B1-3FEECD0F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0E0-8F28-46E4-B216-BB4F67C0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F57-B736-4A11-89EE-ECBB9D5F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979-5653-4166-BBC0-1F448769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000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856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108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000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856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DB7-F13A-4E19-A4DD-F0253E0D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F48-7ABE-496A-9E13-E5498859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5B4-1DEF-4149-A5DF-8CBD9C77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585-39A2-4EA9-939D-A82DCA2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E62-88C3-40CF-B3DB-CFFD8E32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221760"/>
            <a:ext cx="87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E82-9833-4375-B05A-0A96FD78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0D0-FF77-47BA-B010-D2C97732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C84-EA50-4A86-9C0F-1130FB1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32C-358A-494A-8FD9-05B49A63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79640" y="6559560"/>
            <a:ext cx="3403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9"/>
          <p:cNvGrpSpPr/>
          <p:nvPr/>
        </p:nvGrpSpPr>
        <p:grpSpPr>
          <a:xfrm>
            <a:off x="55440" y="87480"/>
            <a:ext cx="9044280" cy="6702120"/>
            <a:chOff x="55440" y="87480"/>
            <a:chExt cx="9044280" cy="6702120"/>
          </a:xfrm>
        </p:grpSpPr>
        <p:sp>
          <p:nvSpPr>
            <p:cNvPr id="4" name="Rectangle 8"/>
            <p:cNvSpPr/>
            <p:nvPr/>
          </p:nvSpPr>
          <p:spPr>
            <a:xfrm>
              <a:off x="139680" y="87480"/>
              <a:ext cx="8872560" cy="67021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3"/>
            <p:cNvSpPr/>
            <p:nvPr/>
          </p:nvSpPr>
          <p:spPr>
            <a:xfrm>
              <a:off x="55440" y="176040"/>
              <a:ext cx="9044280" cy="652788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98280" y="131760"/>
              <a:ext cx="895824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65240" y="6556320"/>
            <a:ext cx="21333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6F50-132E-4615-8814-9BB323A79E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239760" y="457200"/>
            <a:ext cx="865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dal Planning Go Live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, T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389240" y="4538520"/>
            <a:ext cx="64008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Chair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DD68-B620-49C7-806C-1827BC5877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dal Planning Go Liv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Complete coordination of operating and planning databases is the goa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Must meet the full needs of both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Recognize importance of existing planning knowledge and long term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One Stop Shop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providing power system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Continuous significant ongoing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Coordination with operation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Not create new manual workar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Increasing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upports short and long term 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Planning cannot be dela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Recognize NERC standards requirements for “Planning Authority” (PA) and “Transmission Planner” (TP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Compliance cannot be delayed or stop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D59-2EC9-47D9-877B-72E2273534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dal Plann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ny TSPs already have large existing planning databases of previously-vetted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ern expressed over rushing process resulting in loosing large amounts of existing planning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dal Planning is an entirely new method to build future planning cases from operations databa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erations database missing many needed planning elements and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y complex environ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inimal testing and documentation provid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posed single process 4 to 8 times previous eff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tion 2 Process support by ROS at January Mee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EP requested mod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ual process proposed by ERCO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900F-59E2-4BD2-92D1-00AF91E46E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CR 760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waiting TAC decision (March 3 Meeting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Updated CBA from ERC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March 22 BOD Mee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CR 760 Summa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ully supports current protoco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pdate TP/IMM to output latest PSSE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stribution substation capacitor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clude zero impedance line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ociate loads and cap banks to correct C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itional autotransform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mprove FACTS device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ign valid PSS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clude 30 degree phase shift for autotransfo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ulti-Section Lines (reliability load throwover sche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29D3-9585-42BA-BB95-81C9C13117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MMS/NOM to  Ca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74640" y="2271600"/>
            <a:ext cx="1435320" cy="12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873680" y="4254480"/>
            <a:ext cx="1447920" cy="124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896000" y="2271600"/>
            <a:ext cx="1434960" cy="1235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053120" y="2308320"/>
            <a:ext cx="1435320" cy="123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2135160" y="293688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6391440" y="292896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200480" y="294624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5649840" y="3533760"/>
            <a:ext cx="0" cy="6793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779560" y="2265480"/>
            <a:ext cx="1449720" cy="124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58F-375E-42EC-8191-8B0C12764D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dal Planning Progre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C tasked ROS to develop solu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nual Planning Model Protocol Discu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rrent approved SSWG procedures in-pla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LWG document on 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M/NMMS to IMM to TP Mapping docu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akeholder review and accept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cedures for Option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erim to ROS in M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LWG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lanning Modeling Expectations White Pap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raft  to ROS in M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difications expected as initial process go for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11-02-18T14:08:48Z</dcterms:modified>
  <cp:revision>69</cp:revision>
  <dc:subject/>
  <dc:title>Slide 1</dc:title>
</cp:coreProperties>
</file>