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31.wmf" ContentType="image/x-wmf"/>
  <Override PartName="/ppt/media/image68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DA5-F703-4C84-B17E-76DF0A85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D71-D535-4ADE-9EA5-C745D23D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6D0-5908-41A4-8E26-A84D6428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DB95-1066-4A5A-8768-9A043A0F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73A0-8E39-456B-80AB-8E7D136E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C82-87BD-4B1C-9425-17AE4851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925F-9341-47EE-96FC-CF341BF9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CBF-EEF2-4BE2-8691-CB8078DD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D48-A58E-4DEA-8D31-518472B8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9433-D848-43DE-B86E-F14EB772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020-1650-4B1E-9381-50C43B09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48A-0C16-45B1-A99C-569510F9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8E2B-657D-4468-8EE8-8E1765180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DCWG Report on ERCOT Frequency Rate of Change 2010 and January 2011 Frequency Res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8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095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dney Niemeyer &amp; David K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0F8C-874D-4E33-9198-7942E45396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BB0B-AAF6-4241-A366-A03828E45A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263080" cy="623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DBC-D4F6-411B-B7AE-A8052D058C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305920" cy="626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2C4-B484-4B17-9C25-AE04D7E4B2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et of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2010 event with frequency rate of change.  (Slide 13 through 8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 up look at Nov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aR tripping and frequency rate of change. (Slide 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(Slide 7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A98-7A06-4DB7-B087-9A40E2AB3D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05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5AA-A18E-48A7-AADA-679D2E7391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05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D998-4E00-4004-A15F-F992DCF9C0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05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C26-5076-460D-B340-19D0EDF3A4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710-2F0B-49E3-B225-63315D2F39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FBF8-3430-4F51-BCF9-F3D62D5DB5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61B-4CFC-46D1-9B2C-14B13401A9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rt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 Frequency Event’s Rate of Change in Frequency and Grid Inert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 3 through 7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2011 Frequency Response Performance during five ev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 79 through 9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2439-5FE7-4CA4-8D13-19E7D04BD3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D391-57D7-406F-B62B-72AA6E7B1A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4D46-FB3D-4D5F-81A9-BED778A6D6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05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314-5D60-4BAB-95AA-59CE2DEB2A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265-2C71-4A5D-A671-D9884A4879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E72-1DEF-43EF-8B3B-AAB8C98480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0BF-91B5-4598-81DC-9F27D179D3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828D-AFDF-4056-A46B-90B185285F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76EB-FF99-4D30-97A9-D8BDEBA671C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1C8-9571-451B-AEB2-535F1C5357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05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7209-6238-4601-ABC0-F1E084F954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est Rate of Change in Frequ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high speed frequency data,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ling one second change in frequ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cu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most negative rate of change in frequency (highest change in frequency within any one second period) during the initial frequency decline,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y change per MW of imbal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cu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z per second per MW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-0.067 Hz/second maximum rate of change of frequency during the trip of a 585 MW gene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067/585 MW = -0.000115 Hz/second/MW lost. (11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Hz/sec/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re negative number between different events indicates lower Grid Inert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8C9-34D8-4F9C-B981-9A51463338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D87B-4636-43ED-8020-8A912264DE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AFA-32A1-4C05-ADF8-2A5FDD7AA2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2560" y="187200"/>
            <a:ext cx="9038880" cy="613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EC6-0258-40C0-BCBA-3154EF103FA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560" y="187200"/>
            <a:ext cx="9038880" cy="613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2EA7-F434-447E-BAC6-BF084526217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2560" y="187200"/>
            <a:ext cx="9038880" cy="613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1BC-E7B4-4EFE-92C1-EEDDC00B563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560" y="187200"/>
            <a:ext cx="9038880" cy="606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00D-416F-49D0-A147-FA45777E9EF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2560" y="187200"/>
            <a:ext cx="9038880" cy="613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F041-CC19-44C7-8079-323889ECB51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2560" y="187200"/>
            <a:ext cx="9038880" cy="613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441-5056-4223-8F76-F4070B6A7B4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560" y="187200"/>
            <a:ext cx="9038880" cy="613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87E-580D-417D-AE94-A9883798910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2560" y="187200"/>
            <a:ext cx="9038880" cy="606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B59-558C-40C7-9D9C-51194C06166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st Inertia Events in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 31, 2010 @ 00:11:02 -1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Hz/sec/M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 19, 2010 @ 02:39:27 -142 µHz/sec/M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b 27, 2010 @ 22:55:04 -138 µHz/sec/M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r 25, 2010 @ 00:11:42 -136 µHz/sec/M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p 19, 2010 @ 06:59:52 -127 µHz/sec/M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r 7, 2010 @ 00:33:50 -126 µHz/sec/M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v 7, 2010 @ 01:57:54 -126 µHz/sec/M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EEA-BCB1-4111-9FCC-C2BFA01D8D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2560" y="187200"/>
            <a:ext cx="9038880" cy="606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3C3-3EF0-4345-84B9-046C32FD417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2560" y="187200"/>
            <a:ext cx="9038880" cy="613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16B3-A99A-4F8A-8CC3-B12E70617B4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05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742C-FEF5-4072-99B0-05EB438C40C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05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FBF-A1CA-4C20-86F5-97C11420ACC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05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A20-DD35-4728-807C-74BD5AA3A26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836-8103-48D3-98EA-2432692DCAD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05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A9D-ABF7-4E9A-8DB7-D10E65413BD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3FD6-C441-467F-BEE9-D4B469561D0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560" y="187200"/>
            <a:ext cx="9038880" cy="606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DAE7-FA4D-469C-8164-2A26AD93DFD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7B3-9385-4984-80FE-3A93D763BBB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90720" y="3505320"/>
            <a:ext cx="228600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rate of change in any one second period during the frequency dec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38098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1295280"/>
            <a:ext cx="2514600" cy="1310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rate of change in any one second period during the frequency reset.  Between Point C and Point 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495680" y="1523880"/>
            <a:ext cx="1371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971800" y="2133360"/>
            <a:ext cx="685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295280"/>
            <a:ext cx="213336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15 µHz/sec/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971800" y="1142640"/>
            <a:ext cx="2666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153E-9D37-40DE-BBB6-1618E8A8CC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05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3D98-E4B7-406B-8FE7-6F1C59F9CAF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F8F-7FB0-4130-9CBC-274972C49DA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2F23-E694-45C5-ACBB-D48C1F94101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55A-19D1-4EED-A8EF-181BD0E50F2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9F7-938E-49E0-86AE-C005179B7B2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21C1-88A4-47B5-9067-D7E75D8AF28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05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A19-5C5A-4119-835E-FFD5BF949F3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05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D32-4E3A-4267-931F-BBD466C911B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05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19D9-BABD-4509-B98A-FFB84418E43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920" y="196920"/>
            <a:ext cx="9020160" cy="605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366E-1D8A-43FF-8393-D8D62E1482A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163-73BB-4D5D-9E16-4959BA199A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7048-FBD0-4E30-81CF-CEA82D502DA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597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895F-718E-4609-A46A-391A94D15D4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480" y="228600"/>
            <a:ext cx="9029520" cy="647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356-9120-4A37-BD08-DF031E58733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920" y="196920"/>
            <a:ext cx="9020160" cy="6051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19920" y="3048120"/>
            <a:ext cx="2057400" cy="1736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1445.83 MW actual generation trip.  680 MW of LaaR tripped @ 59.700 Hz plus relay &amp; breaker time beginning before Pt C for a net loss of 765 MW.  An additional 100 MW of LaaR tripped between Pt B and recovery to 60.00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114440" y="3581280"/>
            <a:ext cx="1981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202-5599-4858-B626-E91FB9A9957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724960" cy="6095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90920" y="1371600"/>
            <a:ext cx="1218960" cy="55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“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21:05.7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2133720"/>
            <a:ext cx="1219320" cy="1840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21:09.2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474 seconds after Point “A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aR tripping contributed to earlier than normal Nad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952880" y="21333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18288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3581280"/>
            <a:ext cx="1219320" cy="1284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21:06.9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Rate of Change @ +1.191 seconds from Point “A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E0CB-CE09-4D1F-8BCF-5D5C83B9CA8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6600" y="201600"/>
            <a:ext cx="9010800" cy="604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AB4-4CFC-446B-8939-C8BB9D6EFFE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0" y="192240"/>
            <a:ext cx="902952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B75-0D8D-4010-A338-906EBEA4AF3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21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A50-37EE-4493-88D5-865665422BE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13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E2B-46B6-429B-A8A1-96F3421F04E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21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FC2-58B2-44E3-B5B8-33C0582B7AB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F9AD-9021-4540-8EB1-A0EF532A43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21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B7A5-434E-4F60-BEF4-BA6684D43F9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21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5F61-241B-4227-B192-8B6A3919DA9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21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1D47-D20C-4053-A964-F0915A7DDBB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28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902-FFE2-471E-BC82-8EE8748D943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21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F4C-97AD-4F28-84EA-A2B53A67CA2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28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E0C-FBB9-48BE-B4A8-C199FC50E77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21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209-A2D2-4A1F-8464-56D319604EF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21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1C6-2D77-4654-8AC5-E3A20C5CE65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rrelation between total wind generation and frequency rate of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correlation between total energy and frequency rate of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f Resources lost as percent of total energy correlates to frequency nadir closer than total wind generation as a percent of total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BED0-AAF1-4DF4-8CB1-C40AE1C78B7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quency Response Performance to January 2011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s 80 through 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BBE-FE50-47C7-9856-66A1BB93F2F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993-67FF-4457-8D80-4BD4D6BC0B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Par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on of Interconnection Frequency Response at a average Point B settling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on of frequency rate of change per MW of grid imbalance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µHz/second/MW l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st two events had low frequency response that was not sustained.  (Frequency response at Point B was lower than Point C respons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CE8-F84A-4128-8B4F-C9788CDA33E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uary Frequency Event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B Average Frequency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day Jan 9, 2011 @ 18: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6 M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80 MW/0.1 H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3% of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esday Jan 11, 2011 @ 06: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3 M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570 MW/0.1 H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% of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 Jan 20, 2011 @ 00: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M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397 MW/0.1 H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1% of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day Jan 21, 2011 @ 03: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4 M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364 MW/0.1 H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6% of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day Jan 23, 2011 @ 14: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1 M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310 MW/0.1 H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% of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5F7-EEBE-434A-AD8C-774B2EAC6BF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35080" y="465120"/>
            <a:ext cx="8673840" cy="5931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343400" y="4419720"/>
            <a:ext cx="18288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Response Sustain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4724280" y="41911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61EA-FE7C-47B4-956A-290558E17769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400" y="34920"/>
            <a:ext cx="9115200" cy="6791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295280" y="3581280"/>
            <a:ext cx="1600200" cy="459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Rate of Change Hz/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8862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657240" y="48769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2209680"/>
            <a:ext cx="3352680" cy="916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4.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z/second/MW Tripped (more negative number indicates less grid inert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715000" y="13716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B4E-DC77-4D9E-A2A3-C5503D74932A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35080" y="465120"/>
            <a:ext cx="8673840" cy="5931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019920" y="3733920"/>
            <a:ext cx="18288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Response Sustain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105520" y="3886200"/>
            <a:ext cx="1218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187-47AF-440A-B9C8-CAAC150238F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791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143000" y="3962520"/>
            <a:ext cx="1600200" cy="459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Rate of Change Hz/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42670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2209680"/>
            <a:ext cx="3352680" cy="916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84.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z/second/MW Tripped (more negative number indicates less grid inert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715000" y="13716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8A66-7518-414A-A241-68B13625CF5F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35080" y="465120"/>
            <a:ext cx="8673840" cy="5931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48320" y="4419720"/>
            <a:ext cx="18288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Response Sustain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572000" y="4191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E5C-3FA8-4360-9187-713225B644C4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0" y="34920"/>
            <a:ext cx="9134640" cy="67914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143000" y="3962520"/>
            <a:ext cx="1600200" cy="459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Rate of Change Hz/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4267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1447920"/>
            <a:ext cx="3353040" cy="733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14.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z/second/MW Tripped (more negative number indicates less grid inert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715000" y="12952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3F2-F6AA-4671-866E-F04C32AA26B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5080" y="465120"/>
            <a:ext cx="8673840" cy="5931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334120" y="3429000"/>
            <a:ext cx="18288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Response Withdraw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105520" y="4114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4A30-150E-44AB-B79A-00978E74179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80" y="34920"/>
            <a:ext cx="9134640" cy="6791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14400" y="3809880"/>
            <a:ext cx="1600200" cy="459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Rate of Change Hz/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40384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1371600"/>
            <a:ext cx="3353040" cy="733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75.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z/second/MW Tripped (more negative number indicates less grid inert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562720" y="12952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416-7076-4F99-9562-26290C9964B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C29D-7700-466B-A9D1-AD9560FA93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35080" y="465120"/>
            <a:ext cx="8673840" cy="5931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809880" y="3276720"/>
            <a:ext cx="18288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Response Withdraw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3FF-25A8-4016-BC0C-29A7B57D33F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80" y="34920"/>
            <a:ext cx="9134640" cy="6791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143000" y="3581280"/>
            <a:ext cx="1600200" cy="459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Rate of Change Hz/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3809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286000"/>
            <a:ext cx="3352680" cy="733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00.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z/second/MW Tripped (more negative number indicates less grid inert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91320" y="137160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A40-2F2C-4E08-BB1A-56C7A807216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st inertia event Jan 20, -11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z/second/MW l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st Primary frequency respo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Point C for UFLS protection -320 MW/0.1 Hz Jan 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Point B for sustained response -310 MW/0.1 Hz Jan 2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n 21 and 23 events did not sustain response and had low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Frequency response withdrawal is still apparent on some Resources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ll Responsive Reserve capacity is frequency responsiv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uct burners, steam augmentation and inlet chillers require equipment to be placed in servic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BF8-5A5B-40DA-A164-9CF80DA880E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20:28:56Z</dcterms:created>
  <dc:creator>sniemeyer</dc:creator>
  <dc:description/>
  <dc:language>en-US</dc:language>
  <cp:lastModifiedBy>sniemeyer</cp:lastModifiedBy>
  <dcterms:modified xsi:type="dcterms:W3CDTF">2011-02-15T19:08:14Z</dcterms:modified>
  <cp:revision>23</cp:revision>
  <dc:subject/>
  <dc:title>Slide 1</dc:title>
</cp:coreProperties>
</file>