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DE1CAAD-B44E-4FD9-B190-8AED82A69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F8ADFCE-0EF1-499A-8109-F9A4188D8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86CB-748F-4049-90FB-56F1E0CF8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8780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81080" y="3944880"/>
            <a:ext cx="8780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4ECF-E08E-4281-8B3F-85C0E521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360" y="142236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81080" y="394488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360" y="394488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3EFE-9F01-4604-B2EB-381AAEDAA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28270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50000" y="1422360"/>
            <a:ext cx="28270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8560" y="1422360"/>
            <a:ext cx="28270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81080" y="3944880"/>
            <a:ext cx="28270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50000" y="3944880"/>
            <a:ext cx="28270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8560" y="3944880"/>
            <a:ext cx="28270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F4D6-C4E8-45EB-A5F4-4960BDC3B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81080" y="1422360"/>
            <a:ext cx="87804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FE80-B83F-4FDB-BA5D-28AC89BA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8780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6BD7-9DF9-43AA-B9B1-20456199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428472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360" y="1422360"/>
            <a:ext cx="428472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2E8F-FC2A-4C55-8586-965D5779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0F6F-4962-4A4E-8B33-D3DD70F0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0160" y="221760"/>
            <a:ext cx="8772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B25D-8EF8-49BB-B7A7-0911821D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360" y="1422360"/>
            <a:ext cx="428472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1080" y="394488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8D48-6E0C-43CA-AD72-8D50F847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428472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360" y="142236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360" y="394488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3A5B-CABC-4AC8-A71D-6BCD0588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360" y="142236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81080" y="3944880"/>
            <a:ext cx="8780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81B4-CF2D-431F-A60A-B265C3FE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1080" y="1422360"/>
            <a:ext cx="8780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579640" y="6559560"/>
            <a:ext cx="340380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COT ROS Meeting - Nodal Planning Go L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9"/>
          <p:cNvGrpSpPr/>
          <p:nvPr/>
        </p:nvGrpSpPr>
        <p:grpSpPr>
          <a:xfrm>
            <a:off x="55440" y="87480"/>
            <a:ext cx="9044280" cy="6702120"/>
            <a:chOff x="55440" y="87480"/>
            <a:chExt cx="9044280" cy="6702120"/>
          </a:xfrm>
        </p:grpSpPr>
        <p:sp>
          <p:nvSpPr>
            <p:cNvPr id="4" name="Rectangle 8"/>
            <p:cNvSpPr/>
            <p:nvPr/>
          </p:nvSpPr>
          <p:spPr>
            <a:xfrm>
              <a:off x="139680" y="87480"/>
              <a:ext cx="8872560" cy="670212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13"/>
            <p:cNvSpPr/>
            <p:nvPr/>
          </p:nvSpPr>
          <p:spPr>
            <a:xfrm>
              <a:off x="55440" y="176040"/>
              <a:ext cx="9044280" cy="652788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98280" y="131760"/>
              <a:ext cx="8958240" cy="661680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165240" y="6556320"/>
            <a:ext cx="21333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2/18/2011 Ken Donoho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45400" y="6397560"/>
            <a:ext cx="213336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199E-D1C7-45E0-B948-0B5FE15535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239760" y="457200"/>
            <a:ext cx="8651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Nodal Planning Go Live</a:t>
            </a:r>
            <a:br>
              <a:rPr sz="2400"/>
            </a:b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stin, TX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ruary 18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S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389240" y="4538520"/>
            <a:ext cx="6400800" cy="15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nneth A. Donohoo, P.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S Chair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or Electric Delivery Company L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3"/>
          <p:cNvSpPr/>
          <p:nvPr/>
        </p:nvSpPr>
        <p:spPr>
          <a:xfrm>
            <a:off x="5580000" y="6559560"/>
            <a:ext cx="340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COT ROS Meeting - Nodal Planning Go L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ate Placeholder 4"/>
          <p:cNvSpPr/>
          <p:nvPr/>
        </p:nvSpPr>
        <p:spPr>
          <a:xfrm>
            <a:off x="165240" y="6556320"/>
            <a:ext cx="213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2/18/2011 Ken Donoho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6845400" y="6397560"/>
            <a:ext cx="2133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5B0A-17DC-4C43-BAD7-533709118F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Nodal Planning Go Liv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2240" y="969840"/>
            <a:ext cx="8780400" cy="54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Complete coordination of operating and planning databases is the goa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Must meet the full needs of both environ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Recognize importance of existing planning knowledge and long term experi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One Stop Shop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providing power system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Continuous significant ongoing eff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Coordination with operations essent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Not create new manual workarou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Increasing effici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Supports short and long term reli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Planning cannot be delay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Recognize NERC standards requirements for “Planning Authority” (PA) and “Transmission Planner” (TP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Compliance cannot be delayed or stopp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3"/>
          <p:cNvSpPr/>
          <p:nvPr/>
        </p:nvSpPr>
        <p:spPr>
          <a:xfrm>
            <a:off x="5580000" y="6559560"/>
            <a:ext cx="340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COT ROS Meeting - Nodal Planning Go L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ate Placeholder 4"/>
          <p:cNvSpPr/>
          <p:nvPr/>
        </p:nvSpPr>
        <p:spPr>
          <a:xfrm>
            <a:off x="165240" y="6556320"/>
            <a:ext cx="213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2/18/2011 Ken Donoho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845400" y="6397560"/>
            <a:ext cx="2133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09F8-BBF4-4704-9C89-F3B2B8AAD1F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Nodal Plannin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2240" y="969840"/>
            <a:ext cx="8780400" cy="54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any TSPs already have large existing planning databases of previously-vetted dat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ern expressed over rushing process resulting in loosing large amounts of existing planning dat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odal Planning is an entirely new method to build future planning cases from operations databas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perations database missing many needed planning elements and dat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Very complex environ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inimal testing and documentation provide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roposed single process 4 to 8 times previous eff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ption 2 Process support by ROS at January Meet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EP requested mod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ual process proposed by ERCO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3"/>
          <p:cNvSpPr/>
          <p:nvPr/>
        </p:nvSpPr>
        <p:spPr>
          <a:xfrm>
            <a:off x="5580000" y="6559560"/>
            <a:ext cx="340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COT ROS Meeting - Nodal Planning Go L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Date Placeholder 4"/>
          <p:cNvSpPr/>
          <p:nvPr/>
        </p:nvSpPr>
        <p:spPr>
          <a:xfrm>
            <a:off x="165240" y="6556320"/>
            <a:ext cx="213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2/18/2011 Ken Donoho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845400" y="6397560"/>
            <a:ext cx="2133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775C-B29C-462B-87FA-5EC14E3AB5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CR 760 Statu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2240" y="969840"/>
            <a:ext cx="8780400" cy="54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Awaiting TAC decision (March 3 Meeting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Updated CBA from ERC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March 22 BOD Meet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SCR 760 Summar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ully supports current protoco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Update TP/IMM to output latest PSSE 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Distribution substation capacitor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nclude zero impedance line ra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ssociate loads and cap banks to correct C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dditional autotransformer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mprove FACTS device mod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ssign valid PSSE 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nclude 30 degree phase shift for autotransfor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ulti-Section Lines (reliability load throwover sche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3"/>
          <p:cNvSpPr/>
          <p:nvPr/>
        </p:nvSpPr>
        <p:spPr>
          <a:xfrm>
            <a:off x="5580000" y="6559560"/>
            <a:ext cx="340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COT ROS Meeting - Nodal Planning Go L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ate Placeholder 4"/>
          <p:cNvSpPr/>
          <p:nvPr/>
        </p:nvSpPr>
        <p:spPr>
          <a:xfrm>
            <a:off x="165240" y="6556320"/>
            <a:ext cx="213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2/18/2011 Ken Donoho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5"/>
          <p:cNvSpPr/>
          <p:nvPr/>
        </p:nvSpPr>
        <p:spPr>
          <a:xfrm>
            <a:off x="6845400" y="6397560"/>
            <a:ext cx="2133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A583-B6B2-4578-BB8D-3FC2AAD817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NMMS/NOM to  Cas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74640" y="2271600"/>
            <a:ext cx="1435320" cy="1235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M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4873680" y="4254480"/>
            <a:ext cx="1447920" cy="124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4896000" y="2271600"/>
            <a:ext cx="1434960" cy="1235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oftw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7053120" y="2308320"/>
            <a:ext cx="1435320" cy="1235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3"/>
          <p:cNvSpPr/>
          <p:nvPr/>
        </p:nvSpPr>
        <p:spPr>
          <a:xfrm>
            <a:off x="2135160" y="2936880"/>
            <a:ext cx="67932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4"/>
          <p:cNvSpPr/>
          <p:nvPr/>
        </p:nvSpPr>
        <p:spPr>
          <a:xfrm>
            <a:off x="6391440" y="2928960"/>
            <a:ext cx="67932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5"/>
          <p:cNvSpPr/>
          <p:nvPr/>
        </p:nvSpPr>
        <p:spPr>
          <a:xfrm>
            <a:off x="4200480" y="2946240"/>
            <a:ext cx="67932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5"/>
          <p:cNvSpPr/>
          <p:nvPr/>
        </p:nvSpPr>
        <p:spPr>
          <a:xfrm>
            <a:off x="5649840" y="3533760"/>
            <a:ext cx="0" cy="67932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2779560" y="2265480"/>
            <a:ext cx="1449720" cy="124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oftw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3"/>
          <p:cNvSpPr/>
          <p:nvPr/>
        </p:nvSpPr>
        <p:spPr>
          <a:xfrm>
            <a:off x="5580000" y="6559560"/>
            <a:ext cx="340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COT ROS Meeting - Nodal Planning Go L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ate Placeholder 4"/>
          <p:cNvSpPr/>
          <p:nvPr/>
        </p:nvSpPr>
        <p:spPr>
          <a:xfrm>
            <a:off x="165240" y="6556320"/>
            <a:ext cx="213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2/18/2011 Ken Donoho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6845400" y="6397560"/>
            <a:ext cx="2133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280E-D5E1-4A2A-9A3F-BDC4E06D73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Nodal Planning Progres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2240" y="969840"/>
            <a:ext cx="8780400" cy="54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AC tasked ROS to develop solu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nnual Planning Model Protocol Discuss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sistenc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rrent approved SSWG procedures in-plac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LWG document on 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OM/NMMS to IMM to TP Mapping documen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takeholder review and acceptan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rocedures for Option 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nterim to ROS in M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LWG re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lanning Modeling Expectations White Pape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raft  to ROS in M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odifications expected as initial process go forw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5:00:00Z</dcterms:created>
  <dc:creator/>
  <dc:description/>
  <dc:language>en-US</dc:language>
  <cp:lastModifiedBy/>
  <dcterms:modified xsi:type="dcterms:W3CDTF">2011-02-18T14:08:48Z</dcterms:modified>
  <cp:revision>69</cp:revision>
  <dc:subject/>
  <dc:title>Slide 1</dc:title>
</cp:coreProperties>
</file>