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52DB-0008-4719-8390-9FD2EE69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2FD5-09FC-4CAA-AE3C-A04CB2BD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0BB3-71A5-4FB3-AB5B-79FF9A43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334F-A89B-4ED0-895D-DD14755A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A63E-0B13-4C94-BD1F-C058BB3D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1C21-EC9C-4D05-AA50-6536C9EF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B2AB-66A3-4E96-A586-9DFE5D72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D3D0-FCED-4AFD-AE4E-CE65BA20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6FBB-EAFA-49D4-BB43-09B4EA77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B69D-4B38-4ACB-8030-85C952E0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B402-F1D9-4212-A452-EC095875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115F-03CF-4659-93C0-CA139A2A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96C6-F5E9-4851-BD7E-EC020ABB9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66DE-E202-419F-BC28-583AC6E53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6629400" y="62485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10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7975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tical Infrastructure Protection Working Group (CIPW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r – David Grubbs, Garland Power &amp;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 Chair – Scott Rosenberger, L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ynamics Working Group (DW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r – Charles DeWitt, LC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 Chair – David Mercado, CenterPoin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Data Support Working Group (NDSW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r – Trieu Vo, C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 Chair – Doug Evans, ST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ions Working Group (OW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r – Frank Owens, TM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 Chair – Brad Calhoun, C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formance, Disturbance, Compliance Working Group (PDCW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r – Sydney Niemeyer, NRG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 Chair – David Kee, CP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ning Working Group (PLW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r – Rob Lane, L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 Chair – Sergio Garza, LC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 Protection Working Group (SPW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r – Peter Belkin, A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 Chair – Kristian Koellner, LC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ady State Working Group (SSW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r – Tony Hudson, TN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 Chair – Brad Myers, A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25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78360" y="152280"/>
            <a:ext cx="55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11 ROS Working Group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lbracht</cp:lastModifiedBy>
  <dcterms:modified xsi:type="dcterms:W3CDTF">2011-02-03T20:13:57Z</dcterms:modified>
  <cp:revision>76</cp:revision>
  <dc:subject/>
  <dc:title>Instructions</dc:title>
</cp:coreProperties>
</file>