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4AF-0B13-40B3-A372-D6A0E265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E6CB-6E51-4108-A06A-2F0D6C4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3BD1-43D2-4E87-BAEC-564E568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1C33-46CB-42DE-9F90-63771B92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FDBE-4EAE-43B1-AA30-D191DCB1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759E-CCB6-406C-884E-83E3C23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50B0-C20F-4583-8105-5C35C88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45A8-04D7-4922-AFB5-9736D76E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A1A6-676F-40A7-AB54-EFE6D42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7AEF-D0A6-4848-8765-8F0C085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35C3-5D8F-42DE-97E7-AAF73B45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D0CB-A4EB-47CD-AB1C-B8BAAC1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F86-DFD1-459A-B7A9-6E0947277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Measures 3rd Quarter 2010 Transaction Compar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8,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220-07D5-451A-B980-9FBD5660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ember 8, 2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ormance Measures 3rd Quarter 2010 Transaction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6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ail Market Sub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rformance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th Quarter 20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Comparis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510552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 Quarter 2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su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porting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the analysis process, the number of 814_06 Sent Pending transactions reported in October 2010 appears to be somewhat low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detailed analysis, an issue causing summarization to lag was addressed in an emergency fix that released into production on November 2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sue impacted Switch, Standard Move-In and Priority Move-In 814_06 (Scheduled Notifications) transactions.  The percentages in protocol for the counts reported are verified corr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as no impact with the transactions being sent to the Market Particip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 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066680"/>
          <a:ext cx="7924680" cy="4876920"/>
        </p:xfrm>
        <a:graphic>
          <a:graphicData uri="http://schemas.openxmlformats.org/drawingml/2006/table">
            <a:tbl>
              <a:tblPr/>
              <a:tblGrid>
                <a:gridCol w="2825640"/>
                <a:gridCol w="1465200"/>
                <a:gridCol w="1122480"/>
                <a:gridCol w="1466640"/>
                <a:gridCol w="1044720"/>
              </a:tblGrid>
              <a:tr h="2844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C #36141 Performance Measur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 Market Subcommitte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3,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3,9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,4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,0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7,9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5,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0,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6,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5,0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4,9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,6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6,6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5,4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7,9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8,9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9,4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7,4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9,4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4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7,7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5,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ndard Move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 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219320"/>
          <a:ext cx="7924680" cy="4800600"/>
        </p:xfrm>
        <a:graphic>
          <a:graphicData uri="http://schemas.openxmlformats.org/drawingml/2006/table">
            <a:tbl>
              <a:tblPr/>
              <a:tblGrid>
                <a:gridCol w="3109680"/>
                <a:gridCol w="1428840"/>
                <a:gridCol w="1093680"/>
                <a:gridCol w="1428840"/>
                <a:gridCol w="863640"/>
              </a:tblGrid>
              <a:tr h="2793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C #36141 Performance Measur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 Market Subcommitte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1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65,9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58,6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 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1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4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,2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1,8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8,8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6,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6,3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5,1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3,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2,1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5,4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0,2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3,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7,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86,7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6,4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86,7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4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5,8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20,2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iority Move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143000"/>
          <a:ext cx="7848720" cy="4952880"/>
        </p:xfrm>
        <a:graphic>
          <a:graphicData uri="http://schemas.openxmlformats.org/drawingml/2006/table">
            <a:tbl>
              <a:tblPr/>
              <a:tblGrid>
                <a:gridCol w="2579760"/>
                <a:gridCol w="1303560"/>
                <a:gridCol w="1512720"/>
                <a:gridCol w="1303200"/>
                <a:gridCol w="1149480"/>
              </a:tblGrid>
              <a:tr h="287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C #36141 Performance Measur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 Market Subcommitte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1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3,2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5,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1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8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6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4,2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,7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7,4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9,2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6,8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98,2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2,5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0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3,8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2,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2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3,4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2,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4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,9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7,6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 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e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143000"/>
          <a:ext cx="7696080" cy="4419720"/>
        </p:xfrm>
        <a:graphic>
          <a:graphicData uri="http://schemas.openxmlformats.org/drawingml/2006/table">
            <a:tbl>
              <a:tblPr/>
              <a:tblGrid>
                <a:gridCol w="2458800"/>
                <a:gridCol w="1349640"/>
                <a:gridCol w="1269720"/>
                <a:gridCol w="1347840"/>
                <a:gridCol w="1270080"/>
              </a:tblGrid>
              <a:tr h="363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C #36141 Performance Measur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 Market Subcommitte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20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4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5,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3,2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4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6,0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3,8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5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6,3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6,0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5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2,2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1,6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3 Receiv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5,8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41,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7_03 S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2,7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41,1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SI ID Create/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 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219320"/>
          <a:ext cx="7772400" cy="4267080"/>
        </p:xfrm>
        <a:graphic>
          <a:graphicData uri="http://schemas.openxmlformats.org/drawingml/2006/table">
            <a:tbl>
              <a:tblPr/>
              <a:tblGrid>
                <a:gridCol w="2878200"/>
                <a:gridCol w="1530360"/>
                <a:gridCol w="909720"/>
                <a:gridCol w="1620720"/>
                <a:gridCol w="833400"/>
              </a:tblGrid>
              <a:tr h="447480">
                <a:tc gridSpan="5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C #36141 Performance Measure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gridSpan="5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 Market Subcommitte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0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201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201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ctio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ty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68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0 Creat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1,6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,1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1 Create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,9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,0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0 Maintai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,325,5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877,6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4_21 Maintai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,293,9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886,5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6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676520" y="297180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6019920" y="6324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Measures 4thQuarter 2010 Transaction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elly P. Landry</cp:lastModifiedBy>
  <dcterms:modified xsi:type="dcterms:W3CDTF">2011-02-09T22:02:37Z</dcterms:modified>
  <cp:revision>46</cp:revision>
  <dc:subject/>
  <dc:title>Instructions</dc:title>
</cp:coreProperties>
</file>