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3D4-9A78-489F-B5C3-DF940823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725-37C4-4F4F-B4E9-0E7FFD3A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1084-8545-43F0-AB8A-13487B04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BB8C-F07E-4106-A3B1-6A8A0B9F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CC6-A675-48FD-A4EC-639AE26B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5A2-164C-483F-B639-1F84060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738-9C77-4183-8FC3-E859B315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C81-F67E-46E2-888E-009A6733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E713-219A-40B3-9734-17FC8BAE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28A-43D0-45D4-ABFE-CDDAA55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A62-9F91-4D74-B64F-DE7DE97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EC47-998A-4CA7-BCA7-22AE33BB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317E-0A88-4C16-A3A5-9C25C48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2A8-A828-47A5-9716-E3F8CF4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6911-50BF-451C-BBD8-EF4471C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211-23BF-4F37-AC1B-07A3B6F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FC9-040E-4A93-AA2E-85BEED94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A28-35D5-468B-8F2F-82A0F05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3A0-5354-47E6-8B4E-8D3B8180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9C93-78F4-49FF-A363-D4674E6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A683-1992-4A05-9F2E-A9E2B355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5245-D73D-4267-A1D3-70428C9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ED50-34FD-4DA2-BB91-0A97347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8F91-B984-4574-A470-0B87ED9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6F53-0489-4285-B189-0F35449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0B8A-82A8-461C-8C07-7ACE47BE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3FB-18A4-495E-82D3-19DF986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02AE-0086-4718-89F2-23E8EF3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02C0-3E51-4EB3-8966-A38B58A0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F35E-21D6-4A49-B4EC-D5E9DBF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3ED1-7C46-4523-8DA2-9D55ADF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0F97-9A6B-44FA-B767-E24E89D3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FC41-63AA-46B7-B429-73DCFB9B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2FAD-D12F-4C0A-8DBB-6D7E6E78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DE58-937A-4232-A542-5DF439BD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FC5F-2606-4ADC-B08A-D4ED1BB7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7996-7DBF-4936-AABA-78019905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B8B-4920-4D76-AD53-4080697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0AB1-3AAE-4612-9093-AC7CC611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DB98-E355-4634-B917-ACA386AD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0707-48B3-473B-9262-DEE19BB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C0C7-ED61-404B-B4C4-C1B0B21B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4E44-C2C5-4568-AA3D-5337BBD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B0D1-07B4-4136-8B5E-C312D14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710D-1C5F-4F5B-8EF1-A8AE51D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5999-3686-48AE-9AB4-942FFA7D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12AD-AA28-44E4-94C5-4D185709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4A7F-4E03-4B57-8D21-B8D5F4FD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030-B89A-4AD8-8E18-94C465A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3885-04DF-45CA-8641-B98C83C0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5E9A-3D09-41E8-87E7-433986E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87B0-3804-47E2-83C6-13C99D65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9469-BFBD-49B8-AF07-4D2DC06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172E-A0C7-4AE8-8D54-29BDE30E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D4FE-AB1C-41E8-A9D8-86C2DDA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72EE-5EE5-4F51-A708-8360637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A67D-9D37-4212-83BD-C755CA8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5445-45F1-41C9-A92C-C4C55BB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045B-318E-42AF-A2A8-B8363006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BF7-7D2F-4431-89B6-36D37F5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CF90-4AFB-4424-B475-8AA45E6A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034E-66F0-480B-B050-3E134E23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F00E-1296-4F53-9A62-59334D44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142E-3436-40CF-AEE1-767131F1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C3F54-D0F7-4603-8D59-782B4FD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4370-EE3B-46C5-A0E4-32EA811E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5B5B-0316-42ED-895E-EFABE21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81627-23A4-40F5-8D69-6DC52A8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BC32-F8BD-44E1-A171-5BC0442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0E7E-574D-42EB-9BA4-28B8A49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849-AD40-440E-A77C-F0AB50F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15C5-AA3E-45B5-9D28-178FBF6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9DED9-1F3C-4F24-AD06-871C35F8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E6F3-DA59-4135-86BE-EFAC13C3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3F8C-B7D2-4667-B4F8-B7FA4C4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17ED-840D-4410-B26B-40081735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E7EE-E9F4-4BBF-89BF-0AC224D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B535-2B8C-469F-8262-04CAE12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9CFE-8595-4B88-89D1-34A3EA0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5AF58-2F23-4F70-A5CA-1F09CFF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F206-FFEB-4FFD-B80A-DE2B4B4B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B45-669B-441F-ADA3-622C8EE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D641-B255-4D5E-AEB2-FD347968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67BF-AE6C-44A1-B51E-BC3520E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925C-B0AB-4B0B-8D99-49FBE35F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278A-2BC4-4BD9-A770-7E0337B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8461-223C-4E06-AB00-36E9E737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6B95-5EFF-40B3-98D1-0728F657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9BDD6-888C-45A5-95A4-3F61D622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3864-AE2B-4B47-9645-B973F29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272C-0A63-4FC3-879C-477198D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36029-4218-47F2-AE99-683620C0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0A2-1468-4D02-A155-55147364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76D4-2E8F-4487-A3D1-995895F2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F447-176A-4790-9F2F-B8FE8D5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6A47-D1E7-4A20-94EA-E374857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A72E-73D9-4CE2-A1C9-A81BDB3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C47F0-43D3-416E-942D-506AFFA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7994-9D14-4E54-A69C-10A62FEF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FD3D-A185-4BEF-9B5E-FF047EA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60F1-F065-49D2-9D4B-15A7578142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1444-D891-4055-951C-41CE53B59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747-AD7C-4646-8B97-98F2935F59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EE71-9D1C-42B1-846D-732EEB210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8C0-7CFA-4E1D-A762-3B1C6E79DA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08E-ECE4-4823-AE3E-7786A69A72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B4E2-1936-4EDB-B24F-4BB1AB5B60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191-658B-4DFC-A603-E849DA5772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January 13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1692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MarkeTrak Task Force 2011 Objectiv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continue to work with Market Participants, ERCOT, a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 interested parties to maintain the MarkeTrak databa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lication responsible for the tracking, managing and stor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 retail market issue management and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screpancies in the market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68580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2011 Objective and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MarkeTrak Task Force 2011 Objectiv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velop both interim and long term processes to support PUCT rulemakings and Texas SET 4.0 Implemen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ferred Payment Plan (Switch hol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er Tampering (Switch hold) (project 37291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ustomer Resciss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MS Missing and disputed interval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68580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2011 Objective and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1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develop new subtype(s) to accommodate requirements of PUCT Rule 25.126 related to meter tampering, and PUCT Rule 25.480 related to alternative payment pl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coordinate activities with TDTWG to monitor 2011 SLA benchmarks and response times for the MarkeTrak too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pdate the MarkeTrak User Guide to support the interim process for the Deferred Payment Plan Ru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1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inue to encourage MarkeTrak users and Market Participants toward increased participation in regular MarkeTrak meetin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ordinate with ERCOT to emphasize the importance of updated contact lists for all MarkeTrak users and administra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view and finalize all 46 use cases for the Phase III proj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1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k with ERCOT to develop training and educational materi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gin initial planning of Phase III implemen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velop survey for MarkeTrak us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hat users like and dislike about the MarkeTrak too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hat changes and improvements are desire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view results as a Task Forc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Accomplishme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R756 received Critical designation within ERCOT Project Priority List (PP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ked with TDTWG to develop new SLA benchmarks and response times for various components of MarkeTrak within the ERCOT monitoring platfor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ganized Task Force enhancement suggestions into use c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ssigned use cases to individual Market participan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ave begun to review use cas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Accomplishme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ked with Meter Tampering Task Force to develop interim processes for switch hold remov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llaborated with ERCOT to implement changes to improve MarkeTrak perform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duced auto-logoff timeout from 60 minutes to 30 minut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duced archival time from 13 months to 7 month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ncreased thread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pdated the MarkeTrak User Guide reflect workarounds within several subtyp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witch Hold Removal (Other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MS interval data (Project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jonathan.landry</cp:lastModifiedBy>
  <dcterms:modified xsi:type="dcterms:W3CDTF">2011-02-15T15:59:40Z</dcterms:modified>
  <cp:revision>539</cp:revision>
  <dc:subject/>
  <dc:title>MarkeTrak Task Force</dc:title>
</cp:coreProperties>
</file>