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20BF-DA49-4DDD-BE3F-DF3F7843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FBC0-6BE5-45D9-AE30-6BA7E746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6F1E-3EB4-4A3A-A4DA-8F68732E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7C5C-E388-4BCE-9ADF-23029696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CB58-BEA5-4BDA-9778-C27260DF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6198-1C41-439A-BFB1-D3E31EA4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2F03-F392-4366-806C-66B849D1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A7A2-3C7F-446D-849D-A17EA8B8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C6E7-DFE1-4D09-ABFD-23413D45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344B-E7C1-43AD-9EED-96E52B9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F6AF-C746-4CA3-A038-BE879F09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DD89-2C0E-41D9-A5E5-8296A7EC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3CAD-77A2-4ABD-AE8D-CE602DD7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4EE3-A74A-4D65-9737-55A1F2BA7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5"/>
          <p:cNvSpPr/>
          <p:nvPr/>
        </p:nvSpPr>
        <p:spPr>
          <a:xfrm>
            <a:off x="2209680" y="4648320"/>
            <a:ext cx="441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16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82844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ercial Operations Subcommitte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5809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bbie McKee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Chair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ttlement Observations – Post Nod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 evaluated and discussed 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anuary 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SEWG meet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ttlement Observations- Load Zone Market Pric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00200" y="1905120"/>
          <a:ext cx="5486400" cy="1600200"/>
        </p:xfrm>
        <a:graphic>
          <a:graphicData uri="http://schemas.openxmlformats.org/drawingml/2006/table">
            <a:tbl>
              <a:tblPr/>
              <a:tblGrid>
                <a:gridCol w="887400"/>
                <a:gridCol w="1103400"/>
                <a:gridCol w="1197000"/>
                <a:gridCol w="1155600"/>
                <a:gridCol w="1143000"/>
              </a:tblGrid>
              <a:tr h="2826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thmetic Average Adjusted 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Pea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-Pea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7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.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600200" y="4419720"/>
          <a:ext cx="5486400" cy="1523880"/>
        </p:xfrm>
        <a:graphic>
          <a:graphicData uri="http://schemas.openxmlformats.org/drawingml/2006/table">
            <a:tbl>
              <a:tblPr/>
              <a:tblGrid>
                <a:gridCol w="890640"/>
                <a:gridCol w="1104840"/>
                <a:gridCol w="1193760"/>
                <a:gridCol w="1157400"/>
                <a:gridCol w="1139760"/>
              </a:tblGrid>
              <a:tr h="65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Pea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6.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6.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6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8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-Pea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0.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0.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0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5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7"/>
          <p:cNvSpPr/>
          <p:nvPr/>
        </p:nvSpPr>
        <p:spPr>
          <a:xfrm>
            <a:off x="1600200" y="1371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523880" y="38862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ttlement Observations- Load Zone to Hub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676520"/>
          <a:ext cx="8305920" cy="4267080"/>
        </p:xfrm>
        <a:graphic>
          <a:graphicData uri="http://schemas.openxmlformats.org/drawingml/2006/table">
            <a:tbl>
              <a:tblPr/>
              <a:tblGrid>
                <a:gridCol w="1119240"/>
                <a:gridCol w="968400"/>
                <a:gridCol w="495360"/>
                <a:gridCol w="458640"/>
                <a:gridCol w="873360"/>
                <a:gridCol w="969840"/>
                <a:gridCol w="111240"/>
                <a:gridCol w="912600"/>
                <a:gridCol w="970200"/>
                <a:gridCol w="109440"/>
                <a:gridCol w="1317600"/>
              </a:tblGrid>
              <a:tr h="284040">
                <a:tc gridSpan="2"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Zone/HUB RTS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 gridSpan="2"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ocation 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one over HUB Compari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SPP 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RTSP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RTSP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one over HUB Del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  <a:tr h="284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$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$0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A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Wide 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to Serve Load (December 2010, based on RTM Settlemen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eems within Zonal values where price per MWh is $1.11with the premium for Responsive Reserve at $0.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D Uplift charges are a credit to Loads at less than $0.01 per MWh, total BPD charges to resources through is approximately $1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C Uplift Charge is negligible (~$2K), meaning that most all of the RUC is being assigned to Loads that are short in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C Capacity Shortfall Charges have averaged over $45 K per day, total of over $1.1 M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 Neutrality uplift to Loads currently an expense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$0.46/M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WG will evaluate the drivers of Revenue Neu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ttlement Observations- Cost to Serve Load Decemb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to Serve Load (January, based on RTM Settlements through 1/10/20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eems within Zonal values where price per MWh is $1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D Uplift charges are a credit to Loads at less than $0.01 per MWh, total BPD charges to resources through is approximately $10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C Uplift Charge trends as in December neglig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 Neutrality uplift to Loads currently an expense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$0.27/MW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s to be decreasing, still needs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WG will evaluate the drivers of Revenue Neutr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ttlement Observations- Cost to Serve Load Decemb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xt COPs Mee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uesday, March 8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vided to TA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r Board Upd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Three Primary Accomplishments - 2010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d and created new major sections of the Commercial Operations Market Guide (COPMG) in support of Nodal settlement processes.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the Nodal Settlements Algorithms Document as a first draft to the eventual Nodal Settlements Handbook/Gu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2 Load Research Sample Collections and Evaluation resulting in no Load Profile refresh due to AMS implementation and Nodal implemen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Working Group Activities in Progr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to ensure the COPMG and other documentation supporting  Commercial Operations accurately reflects Market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ng work to ensure Profiles are maintained and/or established to meet Market processes and changes including completing all annual profiling activ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W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Settlement Algorithms User Guide, responding to Market needs for Settlement Extract issues, providing updates/education as needed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DFDA-177D-4D00-8E5D-D2438816CB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29916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lement Extracts Working Group (SEWG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 Go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#1: Completion of Nodal Settlement Handbook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#2: Provide overall support to nodal project relating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ment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#3: Supporting MCWG in evaluation of sett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#4: SEWG Reporting Matrix to C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#5: Enhancing Nodal Settlement Training/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Communications Working Group (CCWG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11 Goals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Commercial Operations and Settlement Handboo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conjunction with SEWG to complete Nodal Settlement objectiv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Commercial Operations Market Guide (COPMG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n-going review of ERCOT Market Not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NPRRs, COPMGRRs and other revision requests, comments and projects as nee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A446-66E6-43FD-94E8-0DF67C0B7D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2AA1-EFAD-4CED-B46B-EF993EF51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52280" y="228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ing Working Group (PWG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 Go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775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02-08-11 Meeting Highligh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S  endorses the Impact Analysis and Cost Benefit Analysis documents for Phase 1 of the Parking deck impact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2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25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29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2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GRR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S endorses the delivery targets for the revision requests listed ab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352680" y="640080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7F9A-C99C-4108-B416-420DB5602C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Meeting Highlights continued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WG received approval from COPS to create a Commercial Operations Handbook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book will mirror the COPMG section titles,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311, Correction of Wind Adjust Formula to Account for Daylight Savings Time -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registered DG Report - Presented by Don Tucker with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C Start Type/Implementation of NPRR272, Definition and Participation of Quick Start Generation Resources – Mandy Bauld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on Interval Data “c” Cuts – Jackie Asbaugh presented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discussed at SEW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Meeting Highlights continued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42. Updating of Weather Sensitivity Assignment, Suspension of Annual Validation for Advanced Meters, Addition of Load Research Sampling Documents, and Removal of Unused TOUS Codes -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44, Addition of Distributed Generation (DG) Load Profiles - - Approved with recommendation to TAC to approve with Urg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Registered User</cp:lastModifiedBy>
  <dcterms:modified xsi:type="dcterms:W3CDTF">2011-02-15T03:50:14Z</dcterms:modified>
  <cp:revision>139</cp:revision>
  <dc:subject/>
  <dc:title>Instructions</dc:title>
</cp:coreProperties>
</file>