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A22-BB8D-4FEC-B08D-5ED2CD8DF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69D9-8744-490F-A00F-B125BADFC0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F62-3781-49AF-BD2B-F77E92D135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47FF-9CB6-4F85-80BB-F7FA8C3119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08B5-417B-46D5-9086-695ED594D7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AB39-E1BD-41AB-B2C6-BCE1ADB031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A4FE-EECC-45F6-BA65-34C44441D9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8B3B-D933-480F-91E9-9C361AF47F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CC3-BFBB-4531-AD0A-69BA060D47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4C3-219C-4C57-A056-CFA5D1B55F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0A2-A521-49C8-9A14-51C28F0B55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EC8-3C93-4987-A53B-2B3BBAEC60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129D-1892-4E62-B92B-DC180E8CCC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6244-8C77-4CD1-AA45-96956027BA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B847-0774-47B7-92C6-786FC94728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E723-FC17-4D6B-9FA6-D31133937E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43B-AD1C-4D93-B090-2702660C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D5E-EC75-4586-AAD5-50DB8783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3EA-CCFE-495B-B9EC-7E38E3E8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616-998E-4A2D-8073-E18A1074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56BB-CDCD-495B-91D9-B5295C96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DD0-2048-4419-AECE-21D89657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A4C4-99AC-4B55-BF94-B191DB3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B537-A807-4160-BD05-A072B794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EA78-85EA-4FB6-B371-B192A1A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4E45-CB23-49E2-B4FD-2EC65E54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9BDD-F49E-430A-939E-204C0DD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AAC-78E7-4BAC-99AA-BD49231E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FE5B-1044-4602-BEA4-3EA435D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A06A-3327-45B8-967B-CA41D77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F08A-5CF9-443E-A7EA-F429063C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8D24-5CC0-4A68-A3C0-555DA936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16AD-5F96-4CB1-8E77-2BEC3814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A77-43FE-433E-AEEC-CA0FACB5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945-6872-418C-B29F-BFBE224B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1D1-7FDF-4BE1-B724-EA06DACF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233-EB06-4E44-878A-C4187A4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9CC-7D06-4817-BDCC-AAE1987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7BC-9CB4-40AB-A35D-366A5A7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B13-C2C8-4485-8C12-3C19DB3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9DB-48D3-420D-8B32-DAC9B02550B1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6A-67F6-4D55-8827-A8CA12338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D756-D290-4B55-BF61-440FDFFA9083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FCFE-EBEF-4197-9D3E-B9B1BBF8D11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S Update February 16, 20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s and Maintenance Working Group (OM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OperationsandMaintenance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and Strategy Working Group (P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ProjectsandStrategy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F072-8E30-4E73-81E9-39696A144AF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, Administration and Access Working Group  (RAA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RegistrationAdminstrationandAccess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 Working Group (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Security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4503-9EB6-41AC-A237-B217C1A1E83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FEBR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8-9</a:t>
            </a:r>
            <a:r>
              <a:rPr b="1" lang="en-US" sz="2800" spc="-1" strike="noStrike" u="sng" baseline="30000">
                <a:solidFill>
                  <a:srgbClr val="ffff00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  9:30 AM – 5:30 PM 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PUCT Commission Hearing Room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ress:   1701 N. Congress – Austin, T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Ex and Conference Bridge will be provided for those wanting to attend via teleconfer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2962-076D-4FD3-A819-CF8C84919F7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800" y="-27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FEBR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2nd   (F2F)---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ANCELL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RCH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9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ED1-3425-459B-ABE8-ABB9CBD53D1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PRIL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4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A102-E7ED-4841-965B-496D869395F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NE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8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L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4251-6C6F-483F-AB3F-1283355FD6D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UGUST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3rd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SEPTEMBER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7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95F8-A281-4165-919F-86A1CD7F63F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434-983B-4DF5-8ED1-2C796E8B89A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4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iti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February 13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February 6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335,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1.354%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F1A9-2A05-443D-900B-462F7A251CB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Fin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February 13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December 19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138,96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.0425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837-683B-4F1E-B880-72B0EB1F91D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True-Up 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February 13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 August 17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,333,8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0.1193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C9B0-11AB-4954-A1E1-404EDE15E03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Oncor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1,553,043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s of 01.31.2011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77C5-2358-4FF6-84A5-A33169BAEF4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998,079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 of 01.31.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684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327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73,423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3DF-0161-4722-903E-DD85CA9457B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87,65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01.11.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ployment Plan sche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,212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51,571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9,329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8,28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2E1-C6CD-435F-AB23-195861E4782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Market  AMS</a:t>
            </a:r>
            <a:br>
              <a:rPr sz="4400"/>
            </a:b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stalled Total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BD16-8822-4BF0-83D5-D0CEEBFE907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11" descr=""/>
          <p:cNvPicPr/>
          <p:nvPr/>
        </p:nvPicPr>
        <p:blipFill>
          <a:blip r:embed="rId1"/>
          <a:stretch/>
        </p:blipFill>
        <p:spPr>
          <a:xfrm>
            <a:off x="1042920" y="2170080"/>
            <a:ext cx="7126200" cy="207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00015621\Local Settings\Temporary Internet Files\Content.IE5\4H9UELBM\MC900093373[1].wmf"/>
          <p:cNvPicPr/>
          <p:nvPr/>
        </p:nvPicPr>
        <p:blipFill>
          <a:blip r:embed="rId2"/>
          <a:stretch/>
        </p:blipFill>
        <p:spPr>
          <a:xfrm rot="3883200">
            <a:off x="5520240" y="2562840"/>
            <a:ext cx="2692440" cy="473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590040" y="819000"/>
            <a:ext cx="2097360" cy="327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7194200">
            <a:off x="1327320" y="2801880"/>
            <a:ext cx="2504880" cy="511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5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8459000">
            <a:off x="6443640" y="220320"/>
            <a:ext cx="22813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D05-F716-460E-8451-463C3154526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00015621</cp:lastModifiedBy>
  <dcterms:modified xsi:type="dcterms:W3CDTF">2011-02-15T03:28:09Z</dcterms:modified>
  <cp:revision>544</cp:revision>
  <dc:subject/>
  <dc:title>MARS Taskforce </dc:title>
</cp:coreProperties>
</file>