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A7E0183-AC07-466C-8E6B-C89D2698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07311D-AD8C-43C7-A89E-A93AF6C6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889702-B0C1-40D2-AA03-0F313308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45C37C-5D89-4323-8B51-172B606C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BD6665-5875-489B-8215-CA4C9E86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782-EE80-4B6F-A389-68ABF4F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B6-6AD3-40AF-8383-5ACA19BE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41E-4FD8-4840-9164-99478CA0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4D4-08C0-4EAF-B878-A267ABD2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286-9DBC-4DFA-AD8B-6AF26B04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E3D-032D-4090-A34A-AACE381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174-C824-458E-9CED-A4ED737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C8C-74E4-41A2-B6F3-16C63BE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1A0-3574-4362-B669-06A36A1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9E0-E8A8-4623-AB6A-70515FF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7DE-A140-4BB2-A30C-F9A9A93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5D1-F8BC-4220-A960-F7A0B585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0" t="0" r="38640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2D1-67B4-4CE1-9C8E-BD4F29CC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53D9-3839-4510-8DCA-EC3D7E084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 2,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326-B2B4-4672-956C-27BE4F92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Market Metr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MarkeTrak performan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Goals for 2011 and 2010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MS met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Farley presented for Tim Ebbers the monthly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good month, with no unplanned system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BD3-DAB9-49A0-8A15-F3574ACB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Market Metr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an Munson presented for Mike McCarty the Market Metrics numbers for the 4th quarter 20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good quarter presented with all numbers at 100% (rou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ERCOT MarkeTrak performan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Farley presented for Trey Felton information around MT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were presented and target Service Level Objectives wer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Goals for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belle Durham reviewed the 2010 accomplishments and the 2011 goals drafted in Jan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07B4-44B6-4F87-A606-70EB8E8C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AMS met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hy Scott requested that TDTWG review the Market Coordination Team requirements of the AMS meter status data and make a recommendation on format and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TWG will make recommendation in M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966-0CAA-4365-9C74-68F15B5E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C55-7D61-45B2-8D64-157D370A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farley</cp:lastModifiedBy>
  <cp:lastPrinted>2002-09-24T18:27:58Z</cp:lastPrinted>
  <dcterms:modified xsi:type="dcterms:W3CDTF">2011-02-07T14:29:39Z</dcterms:modified>
  <cp:revision>643</cp:revision>
  <dc:subject/>
  <dc:title>PowerPoint Presentation</dc:title>
</cp:coreProperties>
</file>