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562A-611E-42BA-9182-BF32B67FA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D2AD-7B33-4B9C-85F1-448FB861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5135-9342-43DA-9D05-0A877ADF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9C48-C178-45A5-AD39-EEE7B0E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3DF7-B55C-46CA-9DCF-72F03732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7E57-3A65-41CD-B818-7107D947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9776-A0BE-413C-BF7C-9A2AA72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9D6-A55A-493D-90D4-00BC7537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D78-4A6C-460C-90ED-31375DA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C481-ED98-4A69-9378-87524913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AF4-360A-4B35-B4C3-B81B837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9878-1F79-4D3C-B8F5-50BF4CB9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030D-DD0F-4B64-A6F6-48AA8F58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B46-D8A3-4456-91F8-F8AD6BB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196C-5971-48BF-9CCB-274B369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0C5C-7BAA-4A08-ACCD-DCBBF429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0C36-2A28-4CC4-9833-A4846D13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FBCF-3F6C-415D-B8BA-177B09F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2701-9EB7-496D-879B-D363952C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2E3-F4DC-4412-90DE-18BFF85B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CD4C-238C-4A4C-B246-5B9FA523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CB42-5B47-4DCA-9E0A-E8C1296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C531-A366-450F-94B4-E982E92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AF90-FB66-45D3-A775-909EDB5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84D2-A06C-42FE-A7E7-4261E97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4762-BE9B-4FA4-ACC8-1A0D87C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D949-3E3C-463B-81AF-2457995CA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0C3-BFAA-48E0-8CC8-C094BF6A9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bruary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S/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F85-19DA-4074-B710-A5545EEA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AEB-924F-4DFE-8C9F-E81FF6E88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 R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Service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Availability: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and Market Operations SLA targets were exceeded for all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Market Systems missed two SLA targets (MMS SCED and EMS LF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Management System Database failure (1/20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MS database server reboot caused a 10 minute outage with one SCED interval 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urrent Day Reports (CDR) application failed to post numerous reports due to  the failed databas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Information System (MIS) dashboard data and Ercot.com price display data were unavailable during the ou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enter mig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roject is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ment installation is in progress in the new data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anuary 2011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607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anuary 2011 Data Center Power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22560" y="1095480"/>
            <a:ext cx="519264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orfia, David</dc:creator>
  <dc:description/>
  <dc:language>en-US</dc:language>
  <cp:lastModifiedBy>Kelly P. Landry</cp:lastModifiedBy>
  <dcterms:modified xsi:type="dcterms:W3CDTF">2011-02-11T20:04:30Z</dcterms:modified>
  <cp:revision>694</cp:revision>
  <dc:subject/>
  <dc:title>Instructions</dc:title>
</cp:coreProperties>
</file>