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4E1B-8F25-4C72-80FA-633831E4E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7D35-2C85-4C48-AFF4-41147B0740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4914-1E60-4E6F-94D2-4AD7A1E8A3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1B9A-528B-4596-B106-A755FD22BB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9A3-656F-4E08-B4DF-A9BDF11AD2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B99F-EE38-4EFE-A7FB-13FD455D83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69A-B7DD-425B-91C1-15DEBFF689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8BD1-9040-4995-82AD-CCBC44496B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BA5-2D0A-41FC-B97A-D37E7DB147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391B-27AB-48A4-BB59-6AC9AEFFEC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B419-BD85-4FCA-A2C9-A34CCFA207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379A-6987-4B21-99E1-DCF72C0948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A4E8-7D72-4744-B968-4E452E3134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B9AB-7F52-4E93-A35A-BC10F28ACF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4E37-F752-4326-887E-454E8C4351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EAFE-92BC-4419-9CAE-CC6C65E890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F9C-B1FD-4FF5-ADDD-D055E214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510-5D3B-4E15-97E9-CC36EBBF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7FC-6188-4EA0-8924-795A070A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064-EE7B-4F90-B223-141FE69A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DBA0-DFE4-463E-9E91-2A9318FF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1B2B-EB2D-4630-8972-A28ADDE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195-8C4A-4E0C-8777-42EC86E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5445-B52D-4DC5-9222-57178791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F98A-D83F-4828-AFD8-21121193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CBE0-62DD-4310-B7F1-E6E05BC6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5471-D47F-4AA4-8352-7E3AD469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17B-B471-4568-815D-0B46325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4CDA-E6B2-43A8-8C1F-55F3C2D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20BF-D3A3-4DAC-8CFE-E629DDA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D2B0-347F-4EAE-99D3-053F9CE5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7049-B9D4-4800-9D80-FCA85774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9827-705D-462E-A6E2-D90BB532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D9E-F3CC-4455-A627-84EEE039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1C7-BB90-4EBD-B818-A94ACE31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44D-4382-4F85-B9E0-9A98B95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55F-7D31-42EE-8F3E-EF23077D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FFE-680E-43F3-ADF9-78E61EC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F9A-FFF3-48A2-BA25-F52AE827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301-F974-4B45-9090-0B47641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46F6-967F-46F2-A9C5-36403388E01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188B-B669-49CC-8195-B98E08EA84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FC26-A9C7-48CF-A92C-70944035DF67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125-1675-410F-82C7-7A769616449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February 8, 20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IT’s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w Working Group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ons and Maintenance Working Group (OM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OperationsandMaintenance.pd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and Strategy Working Group (PS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ProjectsandStrategy.pd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B0DF-F6F4-4C85-9671-A31F3EBD160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IT’s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w Working Group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, Administration and Access Working Group  (RAA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RegistrationAdminstrationandAccess.pd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urity Working Group (S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Security.pd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5BBB-8F83-44D0-BB18-5809B89E19D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FEBRUAR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8-9</a:t>
            </a:r>
            <a:r>
              <a:rPr b="1" lang="en-US" sz="2800" spc="-1" strike="noStrike" u="sng" baseline="30000">
                <a:solidFill>
                  <a:srgbClr val="ffff00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:   9:30 AM – 5:30 PM 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PUCT Commission Hearing Room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dress:   1701 N. Congress – Austin, T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Ex and Conference Bridge will be provided for those wanting to attend via teleconfer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847-F365-445E-ADF5-FE38CC34B7A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800" y="-2746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FEBRUAR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2nd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6092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MARCH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9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6092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8DE5-8C93-4AB8-9999-7BCD0FF9D78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APRIL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6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MA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4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151B-5336-41ED-A824-D37C99DD57B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UNE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8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UL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6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B9AD-33AC-4992-862D-5DE5182D008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AUGUST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3rd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SEPTEMBER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7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50B2-9158-42A3-8814-8C37CF5397F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3501-F3B6-4806-92A6-13390DA3454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4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iti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anuary 31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January 24,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,285,1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1.666%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1A05-E50D-4437-B7AD-471DB072291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Fin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anuary 31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December 6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,052,75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.0513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569E-0849-4699-9933-A95BF05FB23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True-Up 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anuary 31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 August 4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,240,0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0.1442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EFBB-27E7-48F3-BC3C-FC015E9551E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Oncor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1,513,575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s of 12.31.2010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2F63-1398-4812-9E5E-139DB081213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P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: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950,101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 of 12.31.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loyment Plan, includes projected growth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56,684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60,327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73,423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5880-535A-45B3-9800-C35C1A9766E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EP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187,65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of 01.11.20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ployment Plan sche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8,212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51,571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9,329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3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8,28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17C1-9448-488B-861D-9E3D3B16BC6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Market  AMS</a:t>
            </a:r>
            <a:br>
              <a:rPr sz="4400"/>
            </a:b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stalled Total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F5E5-7D07-447F-8CDF-A8712FD9542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Rectangle 11" descr=""/>
          <p:cNvPicPr/>
          <p:nvPr/>
        </p:nvPicPr>
        <p:blipFill>
          <a:blip r:embed="rId1"/>
          <a:stretch/>
        </p:blipFill>
        <p:spPr>
          <a:xfrm>
            <a:off x="1042920" y="2170080"/>
            <a:ext cx="7126200" cy="207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Documents and Settings\00015621\Local Settings\Temporary Internet Files\Content.IE5\4H9UELBM\MC900093373[1].wmf"/>
          <p:cNvPicPr/>
          <p:nvPr/>
        </p:nvPicPr>
        <p:blipFill>
          <a:blip r:embed="rId2"/>
          <a:stretch/>
        </p:blipFill>
        <p:spPr>
          <a:xfrm rot="3883200">
            <a:off x="5520240" y="2562840"/>
            <a:ext cx="2692440" cy="473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2458200">
            <a:off x="590040" y="819000"/>
            <a:ext cx="2097360" cy="327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7194200">
            <a:off x="1327320" y="2801880"/>
            <a:ext cx="2504880" cy="5114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5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18459000">
            <a:off x="6443640" y="220320"/>
            <a:ext cx="22813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AC5C-0BC5-47EE-845C-E8F39CBD7CA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00015621</cp:lastModifiedBy>
  <dcterms:modified xsi:type="dcterms:W3CDTF">2011-02-08T15:20:21Z</dcterms:modified>
  <cp:revision>534</cp:revision>
  <dc:subject/>
  <dc:title>MARS Taskforce </dc:title>
</cp:coreProperties>
</file>