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E02-B80A-49CC-BDC5-5706AAEC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A95-392E-4564-8D1F-FE191971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689-328E-4140-A97B-B12FC1BD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573-6B4E-4512-8CE9-504E5A2A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756-A417-4892-A859-4126B9CF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04A-1DC8-4A29-A6EB-FA1F1AA4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CD8-C685-4C64-A6FB-5018C574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E89-75BC-481F-93A8-E6B20808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0A0-627A-46D7-90C6-4288D53F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C04-803B-45DE-A8CE-5460322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FF2-2268-4E9B-B41B-C514DA5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F2D-B368-48C7-BA7C-5F7F2B35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5747-72ED-4B6C-87DC-3B070BB5B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Boar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Board elected Chair and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Approved NPRRs that were 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Approved OBDRR that was 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TAC Minutes were</a:t>
            </a:r>
            <a:r>
              <a:rPr b="1" lang="en-US" sz="20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olas"/>
              </a:rPr>
              <a:t>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Leadership for Subcommittees and Task Forces we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olas"/>
              </a:rPr>
              <a:t>APPRO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COPS: Debbie McKeever, Ken Rior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PRS: Sandy Morris, Alice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RMS: Kyle Patrick, Kathy Sc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ROS: Ken Donohoo, Blake Will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WMS: Eric Goff, Jennifer Bev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NATF: Don Black Burn, James Jack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320" y="76320"/>
            <a:ext cx="8915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Consolas"/>
              </a:rPr>
              <a:t>Technical Advisory Committee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2600" dir="5400000" blurRad="0" rotWithShape="0">
                  <a:srgbClr val="000000"/>
                </a:outerShdw>
              </a:effectLst>
              <a:latin typeface="Consolas"/>
              <a:ea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Nodal Protocol Revision Requests (NPRRs) (Vote):</a:t>
            </a:r>
            <a:r>
              <a:rPr b="1" lang="en-US" sz="2000" spc="-1" strike="noStrike">
                <a:solidFill>
                  <a:srgbClr val="ffffff"/>
                </a:solidFill>
                <a:latin typeface="Consola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NPRR283, Clarification of PCRR Allocation Eligibility</a:t>
            </a:r>
            <a:r>
              <a:rPr b="1" lang="en-US" sz="20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olas"/>
              </a:rPr>
              <a:t>(APPROVED-1 Abst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NPRR289, Clarify Use of Raise/Lower Block Status Telemetry</a:t>
            </a:r>
            <a:r>
              <a:rPr b="1" lang="en-US" sz="20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olas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NPRR296, Remove Posting Requirement for the Annual Planning Model for the CRR Auction</a:t>
            </a:r>
            <a:r>
              <a:rPr b="1" lang="en-US" sz="20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olas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NPRR297, Add Administrative NPRR Process to Nodal Protocols</a:t>
            </a:r>
            <a:r>
              <a:rPr b="1" lang="en-US" sz="20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olas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</a:rPr>
              <a:t>NPRR305, Timeline for Calculating the Value of X – Urgent</a:t>
            </a:r>
            <a:r>
              <a:rPr b="1" lang="en-US" sz="20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nsolas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320" y="76320"/>
            <a:ext cx="8915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Consolas"/>
              </a:rPr>
              <a:t>Technical Advisory Committee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2600" dir="5400000" blurRad="0" rotWithShape="0">
                  <a:srgbClr val="000000"/>
                </a:outerShdw>
              </a:effectLst>
              <a:latin typeface="Consolas"/>
              <a:ea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808080">
                  <a:alpha val="99215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9604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Assessment for Parking Deck Item: NPRR285,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(APPROV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SCR760, Recommended Changes Needed for Information Model Manager and Topology Processor for Planning Models - Urgent (V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TAC Requested that ERCOT complete the IMPACT ANALYS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TAC remanded Planning Go Live to ROS.  Instructing them for a solution to the SCR7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TAC Approved the recomme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ERCOT Operations, Planning, and IT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Both the CRR Auction and Day Ahead Market update were forwarded to WMS for discussion and recomme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Reliability and Operations Subcommittee Repor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NOGRR044,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Clarification of a PSS In-Service (Vote) Additional comments were added by STEC, Luminant, and APPROVED</a:t>
            </a: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NOGRR052, Conductor/Transformer Facility Rating (Vote)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APPROVED</a:t>
            </a: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NOGRR057, Daily Report Containing Loss of Generation Greater than 450 MW Urgent  (Vote)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Addition of language “By 9am or as soon as practicable” APPRO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320" y="76320"/>
            <a:ext cx="8915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Consolas"/>
              </a:rPr>
              <a:t>Technical Advisory Committee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2600" dir="5400000" blurRad="0" rotWithShape="0">
                  <a:srgbClr val="000000"/>
                </a:outerShdw>
              </a:effectLst>
              <a:latin typeface="Consolas"/>
              <a:ea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808080">
                  <a:alpha val="99215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9604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Planning Go-Live Recommendation (Possible Vote):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Remanded to 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Commercial Operations Subcommittee Repor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Request for Withdrawal: COPMGRR023, Creating Section 6, Commercial System Model and Subsection 8.3 Settlement Detail Urgent: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TAC APPROVED the motion to withdraw the COPMG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TAC Goals (Possible V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Goals will be discussed at the TAC retreat, this will be open to all TAC membership.  No date is se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</a:rPr>
              <a:t>Nodal Advisory Task Force: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Consolas"/>
              </a:rPr>
              <a:t>Discussion about retiring the TF.  TAC plans to place this on the agenda for possible vote next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be0e3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be0e3"/>
                </a:solidFill>
                <a:uFillTx/>
                <a:latin typeface="Consolas"/>
              </a:rPr>
              <a:t>Request to have a separate TAC discussion on the events of the 2011 Winter Storms.  No date was finalized, but it would most likely be after the Board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320" y="76320"/>
            <a:ext cx="8915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Consolas"/>
              </a:rPr>
              <a:t>Technical Advisory Committee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2600" dir="5400000" blurRad="0" rotWithShape="0">
                  <a:srgbClr val="000000"/>
                </a:outerShdw>
              </a:effectLst>
              <a:latin typeface="Consolas"/>
              <a:ea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1:45:19Z</dcterms:created>
  <dc:creator>kpatrick</dc:creator>
  <dc:description/>
  <dc:language>en-US</dc:language>
  <cp:lastModifiedBy>kpatrick</cp:lastModifiedBy>
  <dcterms:modified xsi:type="dcterms:W3CDTF">2011-02-03T20:23:27Z</dcterms:modified>
  <cp:revision>16</cp:revision>
  <dc:subject/>
  <dc:title>Slide 1</dc:title>
</cp:coreProperties>
</file>