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13D3-2242-422D-A3F5-7B361831B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D0DF-B11B-4D77-848E-0CF621EDD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FA89-9B1B-4AB1-AFB0-B971623FF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0A1-B630-4355-B095-D35BC814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654A-CD60-43EB-B6A7-1B71B2E3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5BF-6CE3-45B8-8BEA-BAEBF3597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4B68-A17D-4D7A-AF27-056F4B914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F738-8691-43B7-ACC7-F460E1BE5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15B9-1B39-4F62-8B60-8A7781E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A568-2DD4-49E8-923C-2C92EFC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99CA-8BD7-406D-9364-B299E8FA5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523-A650-4BAC-8F4F-076CC69C37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3AF-1CE7-46CC-9C4A-DECB68A94A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E78-3CB9-454C-8A97-8F7F45C298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85C-E1BE-4D35-A0B0-A26BF1A199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7D9-372C-4B74-8F8D-48A6AA7F2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ADC-A454-4DA2-BABD-2A9D0293F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4EA-5F24-4EFD-9FDA-984EF1B9C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4FDA-5ED1-4E0D-A482-60EA4E7E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ABE-AD8A-49FA-B3C2-4031A0D01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4D1-4671-4D6B-9614-5E885DD268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254-F4CF-4F41-ADE1-D403B3B7E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B9E-D97F-45CC-BB82-7239CB695D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3D4-BE94-4F98-A24E-4A46C5935B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B861-5736-47F3-B008-BE954B54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5958-431C-45A4-9BC0-F6A72E43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DB12-01CA-4C46-9B32-359E238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AFC2-0C0E-4FDC-8097-02A1306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21E7-4F89-4EE5-9A9A-ED0EA78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25EA-F193-4257-9435-55801D7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A363-BBD1-4361-8D2E-FC52299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C40-A342-46B4-BEE5-0A5C654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B19-D8CE-4FE6-8937-2C172A0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562A-0C7A-4D91-B541-DEFDD52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B337-0586-481C-857A-0873248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8141-5879-43B6-8CC6-BC92225F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1EBE-E9B8-48A8-AC7E-AFC3ADF9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7B738-8866-4B67-89B3-44AE49631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B5473-7F07-4472-8DB4-4F545EFA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0C29F-9174-4174-9B7D-DD0C8D0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90F3-CABC-4302-B689-52DA146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E1E07-EB25-4444-BDAF-C04D7D62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E90BB-96BA-4DA2-AE53-6C5F250B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95A76-8092-4E44-861A-72718657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BABEF-0E7B-42CB-A7E9-1E65C92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C2BAD-FF45-4BE4-94B3-D12BE087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C077C-472F-4B64-9510-AF628690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4C914-4A58-46C0-9A97-F1E4115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2FB7B-EA6F-46BF-AA83-5249621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2290B-21B0-4A68-BB34-AC5B2E43B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824A-5F5F-4DA7-A8C0-139A7AE6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626A-326A-46EC-9D3B-0D2D76B1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CF8A-4721-410E-9A2E-732F5A2D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C4CF-7C33-4CCC-96F3-ECB1C55E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E5EC-1D0B-41E7-B8C8-8A76F823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rcot Log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BD9-D9CA-40B5-89E8-29807BF9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494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49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204-213F-46D8-B5A8-DE222A90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7E1C-8F9E-4CFA-A5A2-E006E9E0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3E55-F74E-4AFC-A865-1CC6A8EEFF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25-049/042/inde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issues/lpgrr/025-049/044/inde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B9D-AC7E-4995-8595-258E9587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8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1727-DD7C-449C-BAAB-542870544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533520" y="4572000"/>
            <a:ext cx="8001000" cy="1448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WG meet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3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etings are planned as half day morning WebEx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WG is planning 2011 meetings on the fourth Wednesday through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63"/>
          <p:cNvGrpSpPr/>
          <p:nvPr/>
        </p:nvGrpSpPr>
        <p:grpSpPr>
          <a:xfrm>
            <a:off x="3581280" y="1600200"/>
            <a:ext cx="4800600" cy="2743200"/>
            <a:chOff x="3581280" y="1600200"/>
            <a:chExt cx="4800600" cy="2743200"/>
          </a:xfrm>
        </p:grpSpPr>
        <p:grpSp>
          <p:nvGrpSpPr>
            <p:cNvPr id="269" name="Group 3"/>
            <p:cNvGrpSpPr/>
            <p:nvPr/>
          </p:nvGrpSpPr>
          <p:grpSpPr>
            <a:xfrm>
              <a:off x="5058360" y="2221920"/>
              <a:ext cx="1844280" cy="1216080"/>
              <a:chOff x="5058360" y="2221920"/>
              <a:chExt cx="1844280" cy="1216080"/>
            </a:xfrm>
          </p:grpSpPr>
          <p:sp>
            <p:nvSpPr>
              <p:cNvPr id="270" name="Freeform 4"/>
              <p:cNvSpPr/>
              <p:nvPr/>
            </p:nvSpPr>
            <p:spPr>
              <a:xfrm>
                <a:off x="5088240" y="2382480"/>
                <a:ext cx="1783440" cy="69120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4" y="15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"/>
              <p:cNvSpPr/>
              <p:nvPr/>
            </p:nvSpPr>
            <p:spPr>
              <a:xfrm>
                <a:off x="5088240" y="2382480"/>
                <a:ext cx="1783440" cy="69120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"/>
              <p:cNvSpPr/>
              <p:nvPr/>
            </p:nvSpPr>
            <p:spPr>
              <a:xfrm>
                <a:off x="5931360" y="3375000"/>
                <a:ext cx="101160" cy="63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8"/>
              <p:cNvSpPr/>
              <p:nvPr/>
            </p:nvSpPr>
            <p:spPr>
              <a:xfrm>
                <a:off x="5931360" y="3375000"/>
                <a:ext cx="101160" cy="63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5948640" y="3385440"/>
                <a:ext cx="69480" cy="42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0"/>
              <p:cNvSpPr/>
              <p:nvPr/>
            </p:nvSpPr>
            <p:spPr>
              <a:xfrm>
                <a:off x="5948640" y="3385440"/>
                <a:ext cx="69480" cy="42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"/>
              <p:cNvSpPr/>
              <p:nvPr/>
            </p:nvSpPr>
            <p:spPr>
              <a:xfrm>
                <a:off x="5931360" y="3067920"/>
                <a:ext cx="101160" cy="362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0" y="82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2"/>
              <p:cNvSpPr/>
              <p:nvPr/>
            </p:nvSpPr>
            <p:spPr>
              <a:xfrm>
                <a:off x="5931360" y="3067920"/>
                <a:ext cx="101160" cy="362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"/>
              <p:cNvSpPr/>
              <p:nvPr/>
            </p:nvSpPr>
            <p:spPr>
              <a:xfrm>
                <a:off x="5949360" y="3385440"/>
                <a:ext cx="68400" cy="42840"/>
              </a:xfrm>
              <a:custGeom>
                <a:avLst/>
                <a:gdLst>
                  <a:gd name="textAreaLeft" fmla="*/ 0 w 68400"/>
                  <a:gd name="textAreaRight" fmla="*/ 68400 w 68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3" h="97">
                    <a:moveTo>
                      <a:pt x="34" y="72"/>
                    </a:moveTo>
                    <a:lnTo>
                      <a:pt x="40" y="67"/>
                    </a:lnTo>
                    <a:lnTo>
                      <a:pt x="46" y="61"/>
                    </a:lnTo>
                    <a:lnTo>
                      <a:pt x="51" y="54"/>
                    </a:lnTo>
                    <a:lnTo>
                      <a:pt x="56" y="45"/>
                    </a:lnTo>
                    <a:lnTo>
                      <a:pt x="61" y="38"/>
                    </a:lnTo>
                    <a:lnTo>
                      <a:pt x="65" y="31"/>
                    </a:lnTo>
                    <a:lnTo>
                      <a:pt x="67" y="24"/>
                    </a:lnTo>
                    <a:lnTo>
                      <a:pt x="70" y="18"/>
                    </a:lnTo>
                    <a:lnTo>
                      <a:pt x="71" y="11"/>
                    </a:lnTo>
                    <a:lnTo>
                      <a:pt x="73" y="7"/>
                    </a:lnTo>
                    <a:lnTo>
                      <a:pt x="71" y="4"/>
                    </a:lnTo>
                    <a:lnTo>
                      <a:pt x="70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6" y="6"/>
                    </a:lnTo>
                    <a:lnTo>
                      <a:pt x="51" y="9"/>
                    </a:lnTo>
                    <a:lnTo>
                      <a:pt x="46" y="13"/>
                    </a:lnTo>
                    <a:lnTo>
                      <a:pt x="41" y="18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3" y="38"/>
                    </a:lnTo>
                    <a:lnTo>
                      <a:pt x="18" y="45"/>
                    </a:lnTo>
                    <a:lnTo>
                      <a:pt x="14" y="52"/>
                    </a:lnTo>
                    <a:lnTo>
                      <a:pt x="10" y="59"/>
                    </a:lnTo>
                    <a:lnTo>
                      <a:pt x="7" y="67"/>
                    </a:lnTo>
                    <a:lnTo>
                      <a:pt x="4" y="74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4" y="97"/>
                    </a:lnTo>
                    <a:lnTo>
                      <a:pt x="7" y="97"/>
                    </a:lnTo>
                    <a:lnTo>
                      <a:pt x="10" y="95"/>
                    </a:lnTo>
                    <a:lnTo>
                      <a:pt x="14" y="92"/>
                    </a:lnTo>
                    <a:lnTo>
                      <a:pt x="19" y="88"/>
                    </a:lnTo>
                    <a:lnTo>
                      <a:pt x="23" y="84"/>
                    </a:lnTo>
                    <a:lnTo>
                      <a:pt x="29" y="79"/>
                    </a:lnTo>
                    <a:lnTo>
                      <a:pt x="34" y="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4"/>
              <p:cNvSpPr/>
              <p:nvPr/>
            </p:nvSpPr>
            <p:spPr>
              <a:xfrm>
                <a:off x="5058360" y="2221920"/>
                <a:ext cx="1844280" cy="25524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5"/>
              <p:cNvSpPr/>
              <p:nvPr/>
            </p:nvSpPr>
            <p:spPr>
              <a:xfrm>
                <a:off x="5060880" y="2222640"/>
                <a:ext cx="1837800" cy="25272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1955" h="579">
                    <a:moveTo>
                      <a:pt x="0" y="280"/>
                    </a:moveTo>
                    <a:lnTo>
                      <a:pt x="14" y="235"/>
                    </a:lnTo>
                    <a:lnTo>
                      <a:pt x="51" y="190"/>
                    </a:lnTo>
                    <a:lnTo>
                      <a:pt x="109" y="151"/>
                    </a:lnTo>
                    <a:lnTo>
                      <a:pt x="189" y="113"/>
                    </a:lnTo>
                    <a:lnTo>
                      <a:pt x="287" y="81"/>
                    </a:lnTo>
                    <a:lnTo>
                      <a:pt x="400" y="52"/>
                    </a:lnTo>
                    <a:lnTo>
                      <a:pt x="529" y="31"/>
                    </a:lnTo>
                    <a:lnTo>
                      <a:pt x="670" y="13"/>
                    </a:lnTo>
                    <a:lnTo>
                      <a:pt x="821" y="4"/>
                    </a:lnTo>
                    <a:lnTo>
                      <a:pt x="981" y="0"/>
                    </a:lnTo>
                    <a:lnTo>
                      <a:pt x="1141" y="4"/>
                    </a:lnTo>
                    <a:lnTo>
                      <a:pt x="1292" y="13"/>
                    </a:lnTo>
                    <a:lnTo>
                      <a:pt x="1431" y="31"/>
                    </a:lnTo>
                    <a:lnTo>
                      <a:pt x="1559" y="52"/>
                    </a:lnTo>
                    <a:lnTo>
                      <a:pt x="1672" y="81"/>
                    </a:lnTo>
                    <a:lnTo>
                      <a:pt x="1770" y="113"/>
                    </a:lnTo>
                    <a:lnTo>
                      <a:pt x="1849" y="151"/>
                    </a:lnTo>
                    <a:lnTo>
                      <a:pt x="1907" y="190"/>
                    </a:lnTo>
                    <a:lnTo>
                      <a:pt x="1942" y="235"/>
                    </a:lnTo>
                    <a:lnTo>
                      <a:pt x="1955" y="280"/>
                    </a:lnTo>
                    <a:lnTo>
                      <a:pt x="1942" y="335"/>
                    </a:lnTo>
                    <a:lnTo>
                      <a:pt x="1907" y="385"/>
                    </a:lnTo>
                    <a:lnTo>
                      <a:pt x="1849" y="430"/>
                    </a:lnTo>
                    <a:lnTo>
                      <a:pt x="1770" y="468"/>
                    </a:lnTo>
                    <a:lnTo>
                      <a:pt x="1672" y="502"/>
                    </a:lnTo>
                    <a:lnTo>
                      <a:pt x="1559" y="529"/>
                    </a:lnTo>
                    <a:lnTo>
                      <a:pt x="1431" y="550"/>
                    </a:lnTo>
                    <a:lnTo>
                      <a:pt x="1292" y="566"/>
                    </a:lnTo>
                    <a:lnTo>
                      <a:pt x="1141" y="575"/>
                    </a:lnTo>
                    <a:lnTo>
                      <a:pt x="981" y="579"/>
                    </a:lnTo>
                    <a:lnTo>
                      <a:pt x="821" y="575"/>
                    </a:lnTo>
                    <a:lnTo>
                      <a:pt x="670" y="566"/>
                    </a:lnTo>
                    <a:lnTo>
                      <a:pt x="529" y="550"/>
                    </a:lnTo>
                    <a:lnTo>
                      <a:pt x="400" y="529"/>
                    </a:lnTo>
                    <a:lnTo>
                      <a:pt x="287" y="502"/>
                    </a:lnTo>
                    <a:lnTo>
                      <a:pt x="189" y="468"/>
                    </a:lnTo>
                    <a:lnTo>
                      <a:pt x="109" y="430"/>
                    </a:lnTo>
                    <a:lnTo>
                      <a:pt x="51" y="385"/>
                    </a:lnTo>
                    <a:lnTo>
                      <a:pt x="14" y="335"/>
                    </a:lnTo>
                    <a:lnTo>
                      <a:pt x="1" y="280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6"/>
              <p:cNvSpPr/>
              <p:nvPr/>
            </p:nvSpPr>
            <p:spPr>
              <a:xfrm>
                <a:off x="5063040" y="2222640"/>
                <a:ext cx="1833840" cy="250920"/>
              </a:xfrm>
              <a:custGeom>
                <a:avLst/>
                <a:gdLst>
                  <a:gd name="textAreaLeft" fmla="*/ 0 w 1833840"/>
                  <a:gd name="textAreaRight" fmla="*/ 1834200 w 183384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1951" h="573">
                    <a:moveTo>
                      <a:pt x="0" y="280"/>
                    </a:moveTo>
                    <a:lnTo>
                      <a:pt x="13" y="233"/>
                    </a:lnTo>
                    <a:lnTo>
                      <a:pt x="50" y="190"/>
                    </a:lnTo>
                    <a:lnTo>
                      <a:pt x="110" y="151"/>
                    </a:lnTo>
                    <a:lnTo>
                      <a:pt x="188" y="113"/>
                    </a:lnTo>
                    <a:lnTo>
                      <a:pt x="286" y="81"/>
                    </a:lnTo>
                    <a:lnTo>
                      <a:pt x="399" y="54"/>
                    </a:lnTo>
                    <a:lnTo>
                      <a:pt x="527" y="33"/>
                    </a:lnTo>
                    <a:lnTo>
                      <a:pt x="668" y="15"/>
                    </a:lnTo>
                    <a:lnTo>
                      <a:pt x="819" y="4"/>
                    </a:lnTo>
                    <a:lnTo>
                      <a:pt x="979" y="0"/>
                    </a:lnTo>
                    <a:lnTo>
                      <a:pt x="1139" y="4"/>
                    </a:lnTo>
                    <a:lnTo>
                      <a:pt x="1288" y="15"/>
                    </a:lnTo>
                    <a:lnTo>
                      <a:pt x="1428" y="33"/>
                    </a:lnTo>
                    <a:lnTo>
                      <a:pt x="1556" y="54"/>
                    </a:lnTo>
                    <a:lnTo>
                      <a:pt x="1669" y="81"/>
                    </a:lnTo>
                    <a:lnTo>
                      <a:pt x="1765" y="113"/>
                    </a:lnTo>
                    <a:lnTo>
                      <a:pt x="1843" y="151"/>
                    </a:lnTo>
                    <a:lnTo>
                      <a:pt x="1901" y="190"/>
                    </a:lnTo>
                    <a:lnTo>
                      <a:pt x="1938" y="233"/>
                    </a:lnTo>
                    <a:lnTo>
                      <a:pt x="1951" y="280"/>
                    </a:lnTo>
                    <a:lnTo>
                      <a:pt x="1938" y="333"/>
                    </a:lnTo>
                    <a:lnTo>
                      <a:pt x="1901" y="384"/>
                    </a:lnTo>
                    <a:lnTo>
                      <a:pt x="1843" y="427"/>
                    </a:lnTo>
                    <a:lnTo>
                      <a:pt x="1765" y="466"/>
                    </a:lnTo>
                    <a:lnTo>
                      <a:pt x="1669" y="498"/>
                    </a:lnTo>
                    <a:lnTo>
                      <a:pt x="1556" y="525"/>
                    </a:lnTo>
                    <a:lnTo>
                      <a:pt x="1428" y="547"/>
                    </a:lnTo>
                    <a:lnTo>
                      <a:pt x="1288" y="561"/>
                    </a:lnTo>
                    <a:lnTo>
                      <a:pt x="1139" y="572"/>
                    </a:lnTo>
                    <a:lnTo>
                      <a:pt x="979" y="573"/>
                    </a:lnTo>
                    <a:lnTo>
                      <a:pt x="819" y="572"/>
                    </a:lnTo>
                    <a:lnTo>
                      <a:pt x="668" y="561"/>
                    </a:lnTo>
                    <a:lnTo>
                      <a:pt x="527" y="547"/>
                    </a:lnTo>
                    <a:lnTo>
                      <a:pt x="399" y="525"/>
                    </a:lnTo>
                    <a:lnTo>
                      <a:pt x="286" y="498"/>
                    </a:lnTo>
                    <a:lnTo>
                      <a:pt x="188" y="466"/>
                    </a:lnTo>
                    <a:lnTo>
                      <a:pt x="110" y="427"/>
                    </a:lnTo>
                    <a:lnTo>
                      <a:pt x="50" y="384"/>
                    </a:lnTo>
                    <a:lnTo>
                      <a:pt x="13" y="333"/>
                    </a:lnTo>
                    <a:lnTo>
                      <a:pt x="0" y="280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7"/>
              <p:cNvSpPr/>
              <p:nvPr/>
            </p:nvSpPr>
            <p:spPr>
              <a:xfrm>
                <a:off x="5065560" y="2223360"/>
                <a:ext cx="1827360" cy="2484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944" h="568">
                    <a:moveTo>
                      <a:pt x="0" y="276"/>
                    </a:moveTo>
                    <a:lnTo>
                      <a:pt x="13" y="231"/>
                    </a:lnTo>
                    <a:lnTo>
                      <a:pt x="50" y="188"/>
                    </a:lnTo>
                    <a:lnTo>
                      <a:pt x="108" y="149"/>
                    </a:lnTo>
                    <a:lnTo>
                      <a:pt x="188" y="113"/>
                    </a:lnTo>
                    <a:lnTo>
                      <a:pt x="284" y="81"/>
                    </a:lnTo>
                    <a:lnTo>
                      <a:pt x="397" y="54"/>
                    </a:lnTo>
                    <a:lnTo>
                      <a:pt x="525" y="31"/>
                    </a:lnTo>
                    <a:lnTo>
                      <a:pt x="666" y="14"/>
                    </a:lnTo>
                    <a:lnTo>
                      <a:pt x="816" y="4"/>
                    </a:lnTo>
                    <a:lnTo>
                      <a:pt x="976" y="0"/>
                    </a:lnTo>
                    <a:lnTo>
                      <a:pt x="1134" y="4"/>
                    </a:lnTo>
                    <a:lnTo>
                      <a:pt x="1285" y="14"/>
                    </a:lnTo>
                    <a:lnTo>
                      <a:pt x="1424" y="31"/>
                    </a:lnTo>
                    <a:lnTo>
                      <a:pt x="1550" y="54"/>
                    </a:lnTo>
                    <a:lnTo>
                      <a:pt x="1663" y="81"/>
                    </a:lnTo>
                    <a:lnTo>
                      <a:pt x="1760" y="113"/>
                    </a:lnTo>
                    <a:lnTo>
                      <a:pt x="1837" y="149"/>
                    </a:lnTo>
                    <a:lnTo>
                      <a:pt x="1896" y="188"/>
                    </a:lnTo>
                    <a:lnTo>
                      <a:pt x="1931" y="231"/>
                    </a:lnTo>
                    <a:lnTo>
                      <a:pt x="1944" y="278"/>
                    </a:lnTo>
                    <a:lnTo>
                      <a:pt x="1931" y="331"/>
                    </a:lnTo>
                    <a:lnTo>
                      <a:pt x="1896" y="380"/>
                    </a:lnTo>
                    <a:lnTo>
                      <a:pt x="1837" y="423"/>
                    </a:lnTo>
                    <a:lnTo>
                      <a:pt x="1760" y="460"/>
                    </a:lnTo>
                    <a:lnTo>
                      <a:pt x="1663" y="493"/>
                    </a:lnTo>
                    <a:lnTo>
                      <a:pt x="1550" y="520"/>
                    </a:lnTo>
                    <a:lnTo>
                      <a:pt x="1424" y="541"/>
                    </a:lnTo>
                    <a:lnTo>
                      <a:pt x="1285" y="555"/>
                    </a:lnTo>
                    <a:lnTo>
                      <a:pt x="1134" y="564"/>
                    </a:lnTo>
                    <a:lnTo>
                      <a:pt x="976" y="568"/>
                    </a:lnTo>
                    <a:lnTo>
                      <a:pt x="816" y="564"/>
                    </a:lnTo>
                    <a:lnTo>
                      <a:pt x="666" y="555"/>
                    </a:lnTo>
                    <a:lnTo>
                      <a:pt x="525" y="541"/>
                    </a:lnTo>
                    <a:lnTo>
                      <a:pt x="397" y="520"/>
                    </a:lnTo>
                    <a:lnTo>
                      <a:pt x="284" y="493"/>
                    </a:lnTo>
                    <a:lnTo>
                      <a:pt x="188" y="460"/>
                    </a:lnTo>
                    <a:lnTo>
                      <a:pt x="108" y="423"/>
                    </a:lnTo>
                    <a:lnTo>
                      <a:pt x="50" y="380"/>
                    </a:lnTo>
                    <a:lnTo>
                      <a:pt x="13" y="331"/>
                    </a:lnTo>
                    <a:lnTo>
                      <a:pt x="0" y="278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8"/>
              <p:cNvSpPr/>
              <p:nvPr/>
            </p:nvSpPr>
            <p:spPr>
              <a:xfrm>
                <a:off x="5068440" y="2224440"/>
                <a:ext cx="1820880" cy="244800"/>
              </a:xfrm>
              <a:custGeom>
                <a:avLst/>
                <a:gdLst>
                  <a:gd name="textAreaLeft" fmla="*/ 0 w 1820880"/>
                  <a:gd name="textAreaRight" fmla="*/ 1821240 w 18208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937" h="561">
                    <a:moveTo>
                      <a:pt x="0" y="274"/>
                    </a:moveTo>
                    <a:lnTo>
                      <a:pt x="12" y="229"/>
                    </a:lnTo>
                    <a:lnTo>
                      <a:pt x="49" y="186"/>
                    </a:lnTo>
                    <a:lnTo>
                      <a:pt x="107" y="147"/>
                    </a:lnTo>
                    <a:lnTo>
                      <a:pt x="186" y="111"/>
                    </a:lnTo>
                    <a:lnTo>
                      <a:pt x="283" y="81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4" y="3"/>
                    </a:lnTo>
                    <a:lnTo>
                      <a:pt x="973" y="0"/>
                    </a:lnTo>
                    <a:lnTo>
                      <a:pt x="1131" y="3"/>
                    </a:lnTo>
                    <a:lnTo>
                      <a:pt x="1281" y="14"/>
                    </a:lnTo>
                    <a:lnTo>
                      <a:pt x="1419" y="30"/>
                    </a:lnTo>
                    <a:lnTo>
                      <a:pt x="1546" y="52"/>
                    </a:lnTo>
                    <a:lnTo>
                      <a:pt x="1658" y="81"/>
                    </a:lnTo>
                    <a:lnTo>
                      <a:pt x="1754" y="111"/>
                    </a:lnTo>
                    <a:lnTo>
                      <a:pt x="1832" y="147"/>
                    </a:lnTo>
                    <a:lnTo>
                      <a:pt x="1889" y="186"/>
                    </a:lnTo>
                    <a:lnTo>
                      <a:pt x="1926" y="229"/>
                    </a:lnTo>
                    <a:lnTo>
                      <a:pt x="1937" y="274"/>
                    </a:lnTo>
                    <a:lnTo>
                      <a:pt x="1926" y="328"/>
                    </a:lnTo>
                    <a:lnTo>
                      <a:pt x="1889" y="376"/>
                    </a:lnTo>
                    <a:lnTo>
                      <a:pt x="1832" y="419"/>
                    </a:lnTo>
                    <a:lnTo>
                      <a:pt x="1754" y="455"/>
                    </a:lnTo>
                    <a:lnTo>
                      <a:pt x="1658" y="487"/>
                    </a:lnTo>
                    <a:lnTo>
                      <a:pt x="1546" y="514"/>
                    </a:lnTo>
                    <a:lnTo>
                      <a:pt x="1419" y="534"/>
                    </a:lnTo>
                    <a:lnTo>
                      <a:pt x="1281" y="550"/>
                    </a:lnTo>
                    <a:lnTo>
                      <a:pt x="1131" y="559"/>
                    </a:lnTo>
                    <a:lnTo>
                      <a:pt x="973" y="561"/>
                    </a:lnTo>
                    <a:lnTo>
                      <a:pt x="814" y="559"/>
                    </a:lnTo>
                    <a:lnTo>
                      <a:pt x="663" y="550"/>
                    </a:lnTo>
                    <a:lnTo>
                      <a:pt x="524" y="534"/>
                    </a:lnTo>
                    <a:lnTo>
                      <a:pt x="397" y="514"/>
                    </a:lnTo>
                    <a:lnTo>
                      <a:pt x="283" y="487"/>
                    </a:lnTo>
                    <a:lnTo>
                      <a:pt x="186" y="455"/>
                    </a:lnTo>
                    <a:lnTo>
                      <a:pt x="107" y="419"/>
                    </a:lnTo>
                    <a:lnTo>
                      <a:pt x="49" y="376"/>
                    </a:lnTo>
                    <a:lnTo>
                      <a:pt x="12" y="328"/>
                    </a:lnTo>
                    <a:lnTo>
                      <a:pt x="0" y="274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9"/>
              <p:cNvSpPr/>
              <p:nvPr/>
            </p:nvSpPr>
            <p:spPr>
              <a:xfrm>
                <a:off x="5069160" y="2225160"/>
                <a:ext cx="1817280" cy="241920"/>
              </a:xfrm>
              <a:custGeom>
                <a:avLst/>
                <a:gdLst>
                  <a:gd name="textAreaLeft" fmla="*/ 0 w 1817280"/>
                  <a:gd name="textAreaRight" fmla="*/ 1817640 w 18172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933" h="555">
                    <a:moveTo>
                      <a:pt x="0" y="270"/>
                    </a:moveTo>
                    <a:lnTo>
                      <a:pt x="14" y="227"/>
                    </a:lnTo>
                    <a:lnTo>
                      <a:pt x="49" y="184"/>
                    </a:lnTo>
                    <a:lnTo>
                      <a:pt x="108" y="147"/>
                    </a:lnTo>
                    <a:lnTo>
                      <a:pt x="186" y="111"/>
                    </a:lnTo>
                    <a:lnTo>
                      <a:pt x="284" y="79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3" y="3"/>
                    </a:lnTo>
                    <a:lnTo>
                      <a:pt x="972" y="0"/>
                    </a:lnTo>
                    <a:lnTo>
                      <a:pt x="1130" y="3"/>
                    </a:lnTo>
                    <a:lnTo>
                      <a:pt x="1279" y="14"/>
                    </a:lnTo>
                    <a:lnTo>
                      <a:pt x="1417" y="30"/>
                    </a:lnTo>
                    <a:lnTo>
                      <a:pt x="1544" y="52"/>
                    </a:lnTo>
                    <a:lnTo>
                      <a:pt x="1654" y="79"/>
                    </a:lnTo>
                    <a:lnTo>
                      <a:pt x="1751" y="111"/>
                    </a:lnTo>
                    <a:lnTo>
                      <a:pt x="1827" y="147"/>
                    </a:lnTo>
                    <a:lnTo>
                      <a:pt x="1885" y="184"/>
                    </a:lnTo>
                    <a:lnTo>
                      <a:pt x="1921" y="227"/>
                    </a:lnTo>
                    <a:lnTo>
                      <a:pt x="1933" y="272"/>
                    </a:lnTo>
                    <a:lnTo>
                      <a:pt x="1921" y="324"/>
                    </a:lnTo>
                    <a:lnTo>
                      <a:pt x="1885" y="372"/>
                    </a:lnTo>
                    <a:lnTo>
                      <a:pt x="1827" y="413"/>
                    </a:lnTo>
                    <a:lnTo>
                      <a:pt x="1751" y="451"/>
                    </a:lnTo>
                    <a:lnTo>
                      <a:pt x="1654" y="482"/>
                    </a:lnTo>
                    <a:lnTo>
                      <a:pt x="1544" y="508"/>
                    </a:lnTo>
                    <a:lnTo>
                      <a:pt x="1417" y="528"/>
                    </a:lnTo>
                    <a:lnTo>
                      <a:pt x="1279" y="542"/>
                    </a:lnTo>
                    <a:lnTo>
                      <a:pt x="1130" y="551"/>
                    </a:lnTo>
                    <a:lnTo>
                      <a:pt x="972" y="555"/>
                    </a:lnTo>
                    <a:lnTo>
                      <a:pt x="813" y="551"/>
                    </a:lnTo>
                    <a:lnTo>
                      <a:pt x="663" y="542"/>
                    </a:lnTo>
                    <a:lnTo>
                      <a:pt x="524" y="528"/>
                    </a:lnTo>
                    <a:lnTo>
                      <a:pt x="397" y="508"/>
                    </a:lnTo>
                    <a:lnTo>
                      <a:pt x="284" y="482"/>
                    </a:lnTo>
                    <a:lnTo>
                      <a:pt x="186" y="451"/>
                    </a:lnTo>
                    <a:lnTo>
                      <a:pt x="108" y="413"/>
                    </a:lnTo>
                    <a:lnTo>
                      <a:pt x="49" y="372"/>
                    </a:lnTo>
                    <a:lnTo>
                      <a:pt x="14" y="324"/>
                    </a:lnTo>
                    <a:lnTo>
                      <a:pt x="1" y="272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0"/>
              <p:cNvSpPr/>
              <p:nvPr/>
            </p:nvSpPr>
            <p:spPr>
              <a:xfrm>
                <a:off x="5071320" y="2226240"/>
                <a:ext cx="1812600" cy="23940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928" h="549">
                    <a:moveTo>
                      <a:pt x="0" y="269"/>
                    </a:moveTo>
                    <a:lnTo>
                      <a:pt x="13" y="226"/>
                    </a:lnTo>
                    <a:lnTo>
                      <a:pt x="50" y="183"/>
                    </a:lnTo>
                    <a:lnTo>
                      <a:pt x="108" y="146"/>
                    </a:lnTo>
                    <a:lnTo>
                      <a:pt x="187" y="110"/>
                    </a:lnTo>
                    <a:lnTo>
                      <a:pt x="283" y="79"/>
                    </a:lnTo>
                    <a:lnTo>
                      <a:pt x="396" y="52"/>
                    </a:lnTo>
                    <a:lnTo>
                      <a:pt x="523" y="31"/>
                    </a:lnTo>
                    <a:lnTo>
                      <a:pt x="661" y="15"/>
                    </a:lnTo>
                    <a:lnTo>
                      <a:pt x="811" y="4"/>
                    </a:lnTo>
                    <a:lnTo>
                      <a:pt x="970" y="0"/>
                    </a:lnTo>
                    <a:lnTo>
                      <a:pt x="1127" y="4"/>
                    </a:lnTo>
                    <a:lnTo>
                      <a:pt x="1277" y="15"/>
                    </a:lnTo>
                    <a:lnTo>
                      <a:pt x="1414" y="31"/>
                    </a:lnTo>
                    <a:lnTo>
                      <a:pt x="1539" y="52"/>
                    </a:lnTo>
                    <a:lnTo>
                      <a:pt x="1651" y="79"/>
                    </a:lnTo>
                    <a:lnTo>
                      <a:pt x="1746" y="110"/>
                    </a:lnTo>
                    <a:lnTo>
                      <a:pt x="1822" y="146"/>
                    </a:lnTo>
                    <a:lnTo>
                      <a:pt x="1879" y="183"/>
                    </a:lnTo>
                    <a:lnTo>
                      <a:pt x="1915" y="226"/>
                    </a:lnTo>
                    <a:lnTo>
                      <a:pt x="1928" y="269"/>
                    </a:lnTo>
                    <a:lnTo>
                      <a:pt x="1915" y="321"/>
                    </a:lnTo>
                    <a:lnTo>
                      <a:pt x="1879" y="368"/>
                    </a:lnTo>
                    <a:lnTo>
                      <a:pt x="1822" y="411"/>
                    </a:lnTo>
                    <a:lnTo>
                      <a:pt x="1746" y="446"/>
                    </a:lnTo>
                    <a:lnTo>
                      <a:pt x="1651" y="477"/>
                    </a:lnTo>
                    <a:lnTo>
                      <a:pt x="1539" y="504"/>
                    </a:lnTo>
                    <a:lnTo>
                      <a:pt x="1414" y="523"/>
                    </a:lnTo>
                    <a:lnTo>
                      <a:pt x="1277" y="538"/>
                    </a:lnTo>
                    <a:lnTo>
                      <a:pt x="1127" y="545"/>
                    </a:lnTo>
                    <a:lnTo>
                      <a:pt x="970" y="549"/>
                    </a:lnTo>
                    <a:lnTo>
                      <a:pt x="811" y="545"/>
                    </a:lnTo>
                    <a:lnTo>
                      <a:pt x="661" y="538"/>
                    </a:lnTo>
                    <a:lnTo>
                      <a:pt x="523" y="523"/>
                    </a:lnTo>
                    <a:lnTo>
                      <a:pt x="396" y="504"/>
                    </a:lnTo>
                    <a:lnTo>
                      <a:pt x="283" y="477"/>
                    </a:lnTo>
                    <a:lnTo>
                      <a:pt x="187" y="446"/>
                    </a:lnTo>
                    <a:lnTo>
                      <a:pt x="108" y="411"/>
                    </a:lnTo>
                    <a:lnTo>
                      <a:pt x="50" y="368"/>
                    </a:lnTo>
                    <a:lnTo>
                      <a:pt x="13" y="321"/>
                    </a:lnTo>
                    <a:lnTo>
                      <a:pt x="0" y="269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1"/>
              <p:cNvSpPr/>
              <p:nvPr/>
            </p:nvSpPr>
            <p:spPr>
              <a:xfrm>
                <a:off x="5073840" y="2226960"/>
                <a:ext cx="1806120" cy="23688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921" h="543">
                    <a:moveTo>
                      <a:pt x="0" y="265"/>
                    </a:moveTo>
                    <a:lnTo>
                      <a:pt x="13" y="222"/>
                    </a:lnTo>
                    <a:lnTo>
                      <a:pt x="49" y="181"/>
                    </a:lnTo>
                    <a:lnTo>
                      <a:pt x="108" y="144"/>
                    </a:lnTo>
                    <a:lnTo>
                      <a:pt x="185" y="110"/>
                    </a:lnTo>
                    <a:lnTo>
                      <a:pt x="282" y="77"/>
                    </a:lnTo>
                    <a:lnTo>
                      <a:pt x="395" y="50"/>
                    </a:lnTo>
                    <a:lnTo>
                      <a:pt x="520" y="29"/>
                    </a:lnTo>
                    <a:lnTo>
                      <a:pt x="660" y="15"/>
                    </a:lnTo>
                    <a:lnTo>
                      <a:pt x="809" y="4"/>
                    </a:lnTo>
                    <a:lnTo>
                      <a:pt x="967" y="0"/>
                    </a:lnTo>
                    <a:lnTo>
                      <a:pt x="1124" y="4"/>
                    </a:lnTo>
                    <a:lnTo>
                      <a:pt x="1273" y="15"/>
                    </a:lnTo>
                    <a:lnTo>
                      <a:pt x="1410" y="29"/>
                    </a:lnTo>
                    <a:lnTo>
                      <a:pt x="1535" y="50"/>
                    </a:lnTo>
                    <a:lnTo>
                      <a:pt x="1646" y="77"/>
                    </a:lnTo>
                    <a:lnTo>
                      <a:pt x="1739" y="110"/>
                    </a:lnTo>
                    <a:lnTo>
                      <a:pt x="1817" y="144"/>
                    </a:lnTo>
                    <a:lnTo>
                      <a:pt x="1874" y="181"/>
                    </a:lnTo>
                    <a:lnTo>
                      <a:pt x="1909" y="222"/>
                    </a:lnTo>
                    <a:lnTo>
                      <a:pt x="1921" y="267"/>
                    </a:lnTo>
                    <a:lnTo>
                      <a:pt x="1909" y="319"/>
                    </a:lnTo>
                    <a:lnTo>
                      <a:pt x="1874" y="364"/>
                    </a:lnTo>
                    <a:lnTo>
                      <a:pt x="1817" y="405"/>
                    </a:lnTo>
                    <a:lnTo>
                      <a:pt x="1739" y="441"/>
                    </a:lnTo>
                    <a:lnTo>
                      <a:pt x="1646" y="471"/>
                    </a:lnTo>
                    <a:lnTo>
                      <a:pt x="1535" y="496"/>
                    </a:lnTo>
                    <a:lnTo>
                      <a:pt x="1410" y="516"/>
                    </a:lnTo>
                    <a:lnTo>
                      <a:pt x="1273" y="530"/>
                    </a:lnTo>
                    <a:lnTo>
                      <a:pt x="1124" y="539"/>
                    </a:lnTo>
                    <a:lnTo>
                      <a:pt x="967" y="543"/>
                    </a:lnTo>
                    <a:lnTo>
                      <a:pt x="809" y="539"/>
                    </a:lnTo>
                    <a:lnTo>
                      <a:pt x="660" y="530"/>
                    </a:lnTo>
                    <a:lnTo>
                      <a:pt x="520" y="516"/>
                    </a:lnTo>
                    <a:lnTo>
                      <a:pt x="395" y="496"/>
                    </a:lnTo>
                    <a:lnTo>
                      <a:pt x="282" y="471"/>
                    </a:lnTo>
                    <a:lnTo>
                      <a:pt x="185" y="441"/>
                    </a:lnTo>
                    <a:lnTo>
                      <a:pt x="108" y="405"/>
                    </a:lnTo>
                    <a:lnTo>
                      <a:pt x="49" y="364"/>
                    </a:lnTo>
                    <a:lnTo>
                      <a:pt x="13" y="319"/>
                    </a:lnTo>
                    <a:lnTo>
                      <a:pt x="0" y="267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2"/>
              <p:cNvSpPr/>
              <p:nvPr/>
            </p:nvSpPr>
            <p:spPr>
              <a:xfrm>
                <a:off x="5076000" y="2228040"/>
                <a:ext cx="1801080" cy="233280"/>
              </a:xfrm>
              <a:custGeom>
                <a:avLst/>
                <a:gdLst>
                  <a:gd name="textAreaLeft" fmla="*/ 0 w 1801080"/>
                  <a:gd name="textAreaRight" fmla="*/ 1801440 w 180108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916" h="536">
                    <a:moveTo>
                      <a:pt x="0" y="263"/>
                    </a:moveTo>
                    <a:lnTo>
                      <a:pt x="13" y="220"/>
                    </a:lnTo>
                    <a:lnTo>
                      <a:pt x="49" y="179"/>
                    </a:lnTo>
                    <a:lnTo>
                      <a:pt x="107" y="142"/>
                    </a:lnTo>
                    <a:lnTo>
                      <a:pt x="186" y="108"/>
                    </a:lnTo>
                    <a:lnTo>
                      <a:pt x="281" y="77"/>
                    </a:lnTo>
                    <a:lnTo>
                      <a:pt x="394" y="50"/>
                    </a:lnTo>
                    <a:lnTo>
                      <a:pt x="519" y="29"/>
                    </a:lnTo>
                    <a:lnTo>
                      <a:pt x="658" y="13"/>
                    </a:lnTo>
                    <a:lnTo>
                      <a:pt x="807" y="4"/>
                    </a:lnTo>
                    <a:lnTo>
                      <a:pt x="965" y="0"/>
                    </a:lnTo>
                    <a:lnTo>
                      <a:pt x="1122" y="4"/>
                    </a:lnTo>
                    <a:lnTo>
                      <a:pt x="1269" y="13"/>
                    </a:lnTo>
                    <a:lnTo>
                      <a:pt x="1406" y="29"/>
                    </a:lnTo>
                    <a:lnTo>
                      <a:pt x="1531" y="50"/>
                    </a:lnTo>
                    <a:lnTo>
                      <a:pt x="1641" y="77"/>
                    </a:lnTo>
                    <a:lnTo>
                      <a:pt x="1735" y="108"/>
                    </a:lnTo>
                    <a:lnTo>
                      <a:pt x="1812" y="142"/>
                    </a:lnTo>
                    <a:lnTo>
                      <a:pt x="1868" y="179"/>
                    </a:lnTo>
                    <a:lnTo>
                      <a:pt x="1904" y="220"/>
                    </a:lnTo>
                    <a:lnTo>
                      <a:pt x="1916" y="263"/>
                    </a:lnTo>
                    <a:lnTo>
                      <a:pt x="1904" y="315"/>
                    </a:lnTo>
                    <a:lnTo>
                      <a:pt x="1868" y="360"/>
                    </a:lnTo>
                    <a:lnTo>
                      <a:pt x="1812" y="401"/>
                    </a:lnTo>
                    <a:lnTo>
                      <a:pt x="1735" y="437"/>
                    </a:lnTo>
                    <a:lnTo>
                      <a:pt x="1641" y="466"/>
                    </a:lnTo>
                    <a:lnTo>
                      <a:pt x="1531" y="491"/>
                    </a:lnTo>
                    <a:lnTo>
                      <a:pt x="1406" y="511"/>
                    </a:lnTo>
                    <a:lnTo>
                      <a:pt x="1269" y="525"/>
                    </a:lnTo>
                    <a:lnTo>
                      <a:pt x="1122" y="532"/>
                    </a:lnTo>
                    <a:lnTo>
                      <a:pt x="965" y="536"/>
                    </a:lnTo>
                    <a:lnTo>
                      <a:pt x="807" y="532"/>
                    </a:lnTo>
                    <a:lnTo>
                      <a:pt x="658" y="525"/>
                    </a:lnTo>
                    <a:lnTo>
                      <a:pt x="519" y="511"/>
                    </a:lnTo>
                    <a:lnTo>
                      <a:pt x="394" y="491"/>
                    </a:lnTo>
                    <a:lnTo>
                      <a:pt x="281" y="466"/>
                    </a:lnTo>
                    <a:lnTo>
                      <a:pt x="186" y="437"/>
                    </a:lnTo>
                    <a:lnTo>
                      <a:pt x="107" y="401"/>
                    </a:lnTo>
                    <a:lnTo>
                      <a:pt x="49" y="360"/>
                    </a:lnTo>
                    <a:lnTo>
                      <a:pt x="13" y="315"/>
                    </a:lnTo>
                    <a:lnTo>
                      <a:pt x="0" y="263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3"/>
              <p:cNvSpPr/>
              <p:nvPr/>
            </p:nvSpPr>
            <p:spPr>
              <a:xfrm>
                <a:off x="5077800" y="2228040"/>
                <a:ext cx="1796400" cy="231840"/>
              </a:xfrm>
              <a:custGeom>
                <a:avLst/>
                <a:gdLst>
                  <a:gd name="textAreaLeft" fmla="*/ 0 w 1796400"/>
                  <a:gd name="textAreaRight" fmla="*/ 1796760 w 17964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1911" h="528">
                    <a:moveTo>
                      <a:pt x="0" y="260"/>
                    </a:moveTo>
                    <a:lnTo>
                      <a:pt x="14" y="218"/>
                    </a:lnTo>
                    <a:lnTo>
                      <a:pt x="49" y="177"/>
                    </a:lnTo>
                    <a:lnTo>
                      <a:pt x="108" y="140"/>
                    </a:lnTo>
                    <a:lnTo>
                      <a:pt x="185" y="106"/>
                    </a:lnTo>
                    <a:lnTo>
                      <a:pt x="281" y="75"/>
                    </a:lnTo>
                    <a:lnTo>
                      <a:pt x="393" y="50"/>
                    </a:lnTo>
                    <a:lnTo>
                      <a:pt x="519" y="29"/>
                    </a:lnTo>
                    <a:lnTo>
                      <a:pt x="657" y="12"/>
                    </a:lnTo>
                    <a:lnTo>
                      <a:pt x="805" y="3"/>
                    </a:lnTo>
                    <a:lnTo>
                      <a:pt x="963" y="0"/>
                    </a:lnTo>
                    <a:lnTo>
                      <a:pt x="1119" y="3"/>
                    </a:lnTo>
                    <a:lnTo>
                      <a:pt x="1267" y="12"/>
                    </a:lnTo>
                    <a:lnTo>
                      <a:pt x="1403" y="29"/>
                    </a:lnTo>
                    <a:lnTo>
                      <a:pt x="1527" y="50"/>
                    </a:lnTo>
                    <a:lnTo>
                      <a:pt x="1638" y="75"/>
                    </a:lnTo>
                    <a:lnTo>
                      <a:pt x="1730" y="106"/>
                    </a:lnTo>
                    <a:lnTo>
                      <a:pt x="1806" y="140"/>
                    </a:lnTo>
                    <a:lnTo>
                      <a:pt x="1864" y="177"/>
                    </a:lnTo>
                    <a:lnTo>
                      <a:pt x="1898" y="218"/>
                    </a:lnTo>
                    <a:lnTo>
                      <a:pt x="1911" y="261"/>
                    </a:lnTo>
                    <a:lnTo>
                      <a:pt x="1898" y="312"/>
                    </a:lnTo>
                    <a:lnTo>
                      <a:pt x="1864" y="356"/>
                    </a:lnTo>
                    <a:lnTo>
                      <a:pt x="1806" y="397"/>
                    </a:lnTo>
                    <a:lnTo>
                      <a:pt x="1730" y="432"/>
                    </a:lnTo>
                    <a:lnTo>
                      <a:pt x="1638" y="462"/>
                    </a:lnTo>
                    <a:lnTo>
                      <a:pt x="1527" y="485"/>
                    </a:lnTo>
                    <a:lnTo>
                      <a:pt x="1403" y="505"/>
                    </a:lnTo>
                    <a:lnTo>
                      <a:pt x="1267" y="517"/>
                    </a:lnTo>
                    <a:lnTo>
                      <a:pt x="1119" y="526"/>
                    </a:lnTo>
                    <a:lnTo>
                      <a:pt x="963" y="528"/>
                    </a:lnTo>
                    <a:lnTo>
                      <a:pt x="805" y="526"/>
                    </a:lnTo>
                    <a:lnTo>
                      <a:pt x="657" y="517"/>
                    </a:lnTo>
                    <a:lnTo>
                      <a:pt x="519" y="505"/>
                    </a:lnTo>
                    <a:lnTo>
                      <a:pt x="393" y="485"/>
                    </a:lnTo>
                    <a:lnTo>
                      <a:pt x="281" y="462"/>
                    </a:lnTo>
                    <a:lnTo>
                      <a:pt x="185" y="432"/>
                    </a:lnTo>
                    <a:lnTo>
                      <a:pt x="108" y="397"/>
                    </a:lnTo>
                    <a:lnTo>
                      <a:pt x="49" y="356"/>
                    </a:lnTo>
                    <a:lnTo>
                      <a:pt x="14" y="312"/>
                    </a:lnTo>
                    <a:lnTo>
                      <a:pt x="1" y="261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4"/>
              <p:cNvSpPr/>
              <p:nvPr/>
            </p:nvSpPr>
            <p:spPr>
              <a:xfrm>
                <a:off x="5079600" y="2228760"/>
                <a:ext cx="1790640" cy="22932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905" h="523">
                    <a:moveTo>
                      <a:pt x="0" y="258"/>
                    </a:moveTo>
                    <a:lnTo>
                      <a:pt x="13" y="216"/>
                    </a:lnTo>
                    <a:lnTo>
                      <a:pt x="50" y="175"/>
                    </a:lnTo>
                    <a:lnTo>
                      <a:pt x="107" y="139"/>
                    </a:lnTo>
                    <a:lnTo>
                      <a:pt x="186" y="105"/>
                    </a:lnTo>
                    <a:lnTo>
                      <a:pt x="281" y="75"/>
                    </a:lnTo>
                    <a:lnTo>
                      <a:pt x="392" y="50"/>
                    </a:lnTo>
                    <a:lnTo>
                      <a:pt x="518" y="28"/>
                    </a:lnTo>
                    <a:lnTo>
                      <a:pt x="656" y="12"/>
                    </a:lnTo>
                    <a:lnTo>
                      <a:pt x="803" y="3"/>
                    </a:lnTo>
                    <a:lnTo>
                      <a:pt x="961" y="0"/>
                    </a:lnTo>
                    <a:lnTo>
                      <a:pt x="1117" y="3"/>
                    </a:lnTo>
                    <a:lnTo>
                      <a:pt x="1264" y="12"/>
                    </a:lnTo>
                    <a:lnTo>
                      <a:pt x="1400" y="28"/>
                    </a:lnTo>
                    <a:lnTo>
                      <a:pt x="1524" y="50"/>
                    </a:lnTo>
                    <a:lnTo>
                      <a:pt x="1633" y="75"/>
                    </a:lnTo>
                    <a:lnTo>
                      <a:pt x="1726" y="105"/>
                    </a:lnTo>
                    <a:lnTo>
                      <a:pt x="1802" y="139"/>
                    </a:lnTo>
                    <a:lnTo>
                      <a:pt x="1858" y="175"/>
                    </a:lnTo>
                    <a:lnTo>
                      <a:pt x="1893" y="216"/>
                    </a:lnTo>
                    <a:lnTo>
                      <a:pt x="1905" y="258"/>
                    </a:lnTo>
                    <a:lnTo>
                      <a:pt x="1893" y="308"/>
                    </a:lnTo>
                    <a:lnTo>
                      <a:pt x="1858" y="353"/>
                    </a:lnTo>
                    <a:lnTo>
                      <a:pt x="1802" y="392"/>
                    </a:lnTo>
                    <a:lnTo>
                      <a:pt x="1726" y="426"/>
                    </a:lnTo>
                    <a:lnTo>
                      <a:pt x="1633" y="456"/>
                    </a:lnTo>
                    <a:lnTo>
                      <a:pt x="1524" y="480"/>
                    </a:lnTo>
                    <a:lnTo>
                      <a:pt x="1400" y="498"/>
                    </a:lnTo>
                    <a:lnTo>
                      <a:pt x="1264" y="512"/>
                    </a:lnTo>
                    <a:lnTo>
                      <a:pt x="1117" y="519"/>
                    </a:lnTo>
                    <a:lnTo>
                      <a:pt x="961" y="523"/>
                    </a:lnTo>
                    <a:lnTo>
                      <a:pt x="803" y="519"/>
                    </a:lnTo>
                    <a:lnTo>
                      <a:pt x="656" y="512"/>
                    </a:lnTo>
                    <a:lnTo>
                      <a:pt x="518" y="498"/>
                    </a:lnTo>
                    <a:lnTo>
                      <a:pt x="392" y="480"/>
                    </a:lnTo>
                    <a:lnTo>
                      <a:pt x="281" y="456"/>
                    </a:lnTo>
                    <a:lnTo>
                      <a:pt x="186" y="426"/>
                    </a:lnTo>
                    <a:lnTo>
                      <a:pt x="107" y="392"/>
                    </a:lnTo>
                    <a:lnTo>
                      <a:pt x="50" y="353"/>
                    </a:lnTo>
                    <a:lnTo>
                      <a:pt x="13" y="308"/>
                    </a:lnTo>
                    <a:lnTo>
                      <a:pt x="2" y="258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5"/>
              <p:cNvSpPr/>
              <p:nvPr/>
            </p:nvSpPr>
            <p:spPr>
              <a:xfrm>
                <a:off x="5082480" y="2229840"/>
                <a:ext cx="1785240" cy="225360"/>
              </a:xfrm>
              <a:custGeom>
                <a:avLst/>
                <a:gdLst>
                  <a:gd name="textAreaLeft" fmla="*/ 0 w 1785240"/>
                  <a:gd name="textAreaRight" fmla="*/ 1785600 w 17852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899" h="516">
                    <a:moveTo>
                      <a:pt x="0" y="257"/>
                    </a:moveTo>
                    <a:lnTo>
                      <a:pt x="12" y="215"/>
                    </a:lnTo>
                    <a:lnTo>
                      <a:pt x="48" y="176"/>
                    </a:lnTo>
                    <a:lnTo>
                      <a:pt x="106" y="138"/>
                    </a:lnTo>
                    <a:lnTo>
                      <a:pt x="184" y="104"/>
                    </a:lnTo>
                    <a:lnTo>
                      <a:pt x="279" y="76"/>
                    </a:lnTo>
                    <a:lnTo>
                      <a:pt x="391" y="49"/>
                    </a:lnTo>
                    <a:lnTo>
                      <a:pt x="516" y="29"/>
                    </a:lnTo>
                    <a:lnTo>
                      <a:pt x="653" y="13"/>
                    </a:lnTo>
                    <a:lnTo>
                      <a:pt x="802" y="4"/>
                    </a:lnTo>
                    <a:lnTo>
                      <a:pt x="958" y="0"/>
                    </a:lnTo>
                    <a:lnTo>
                      <a:pt x="1114" y="4"/>
                    </a:lnTo>
                    <a:lnTo>
                      <a:pt x="1260" y="13"/>
                    </a:lnTo>
                    <a:lnTo>
                      <a:pt x="1395" y="29"/>
                    </a:lnTo>
                    <a:lnTo>
                      <a:pt x="1519" y="49"/>
                    </a:lnTo>
                    <a:lnTo>
                      <a:pt x="1628" y="76"/>
                    </a:lnTo>
                    <a:lnTo>
                      <a:pt x="1720" y="104"/>
                    </a:lnTo>
                    <a:lnTo>
                      <a:pt x="1796" y="138"/>
                    </a:lnTo>
                    <a:lnTo>
                      <a:pt x="1852" y="176"/>
                    </a:lnTo>
                    <a:lnTo>
                      <a:pt x="1886" y="215"/>
                    </a:lnTo>
                    <a:lnTo>
                      <a:pt x="1899" y="257"/>
                    </a:lnTo>
                    <a:lnTo>
                      <a:pt x="1886" y="305"/>
                    </a:lnTo>
                    <a:lnTo>
                      <a:pt x="1852" y="350"/>
                    </a:lnTo>
                    <a:lnTo>
                      <a:pt x="1796" y="389"/>
                    </a:lnTo>
                    <a:lnTo>
                      <a:pt x="1720" y="423"/>
                    </a:lnTo>
                    <a:lnTo>
                      <a:pt x="1628" y="452"/>
                    </a:lnTo>
                    <a:lnTo>
                      <a:pt x="1519" y="475"/>
                    </a:lnTo>
                    <a:lnTo>
                      <a:pt x="1395" y="493"/>
                    </a:lnTo>
                    <a:lnTo>
                      <a:pt x="1260" y="506"/>
                    </a:lnTo>
                    <a:lnTo>
                      <a:pt x="1114" y="514"/>
                    </a:lnTo>
                    <a:lnTo>
                      <a:pt x="958" y="516"/>
                    </a:lnTo>
                    <a:lnTo>
                      <a:pt x="802" y="514"/>
                    </a:lnTo>
                    <a:lnTo>
                      <a:pt x="653" y="506"/>
                    </a:lnTo>
                    <a:lnTo>
                      <a:pt x="516" y="493"/>
                    </a:lnTo>
                    <a:lnTo>
                      <a:pt x="391" y="475"/>
                    </a:lnTo>
                    <a:lnTo>
                      <a:pt x="279" y="452"/>
                    </a:lnTo>
                    <a:lnTo>
                      <a:pt x="184" y="423"/>
                    </a:lnTo>
                    <a:lnTo>
                      <a:pt x="106" y="389"/>
                    </a:lnTo>
                    <a:lnTo>
                      <a:pt x="48" y="350"/>
                    </a:lnTo>
                    <a:lnTo>
                      <a:pt x="12" y="305"/>
                    </a:lnTo>
                    <a:lnTo>
                      <a:pt x="0" y="257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6"/>
              <p:cNvSpPr/>
              <p:nvPr/>
            </p:nvSpPr>
            <p:spPr>
              <a:xfrm>
                <a:off x="5084280" y="2230560"/>
                <a:ext cx="1779480" cy="223200"/>
              </a:xfrm>
              <a:custGeom>
                <a:avLst/>
                <a:gdLst>
                  <a:gd name="textAreaLeft" fmla="*/ 0 w 1779480"/>
                  <a:gd name="textAreaRight" fmla="*/ 1779840 w 17794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893" h="511">
                    <a:moveTo>
                      <a:pt x="0" y="253"/>
                    </a:moveTo>
                    <a:lnTo>
                      <a:pt x="13" y="212"/>
                    </a:lnTo>
                    <a:lnTo>
                      <a:pt x="49" y="174"/>
                    </a:lnTo>
                    <a:lnTo>
                      <a:pt x="107" y="136"/>
                    </a:lnTo>
                    <a:lnTo>
                      <a:pt x="183" y="104"/>
                    </a:lnTo>
                    <a:lnTo>
                      <a:pt x="278" y="74"/>
                    </a:lnTo>
                    <a:lnTo>
                      <a:pt x="390" y="49"/>
                    </a:lnTo>
                    <a:lnTo>
                      <a:pt x="515" y="27"/>
                    </a:lnTo>
                    <a:lnTo>
                      <a:pt x="652" y="13"/>
                    </a:lnTo>
                    <a:lnTo>
                      <a:pt x="800" y="4"/>
                    </a:lnTo>
                    <a:lnTo>
                      <a:pt x="956" y="0"/>
                    </a:lnTo>
                    <a:lnTo>
                      <a:pt x="1111" y="4"/>
                    </a:lnTo>
                    <a:lnTo>
                      <a:pt x="1258" y="13"/>
                    </a:lnTo>
                    <a:lnTo>
                      <a:pt x="1392" y="27"/>
                    </a:lnTo>
                    <a:lnTo>
                      <a:pt x="1515" y="49"/>
                    </a:lnTo>
                    <a:lnTo>
                      <a:pt x="1623" y="74"/>
                    </a:lnTo>
                    <a:lnTo>
                      <a:pt x="1716" y="104"/>
                    </a:lnTo>
                    <a:lnTo>
                      <a:pt x="1791" y="136"/>
                    </a:lnTo>
                    <a:lnTo>
                      <a:pt x="1846" y="174"/>
                    </a:lnTo>
                    <a:lnTo>
                      <a:pt x="1882" y="212"/>
                    </a:lnTo>
                    <a:lnTo>
                      <a:pt x="1893" y="253"/>
                    </a:lnTo>
                    <a:lnTo>
                      <a:pt x="1882" y="303"/>
                    </a:lnTo>
                    <a:lnTo>
                      <a:pt x="1846" y="346"/>
                    </a:lnTo>
                    <a:lnTo>
                      <a:pt x="1791" y="384"/>
                    </a:lnTo>
                    <a:lnTo>
                      <a:pt x="1716" y="418"/>
                    </a:lnTo>
                    <a:lnTo>
                      <a:pt x="1623" y="446"/>
                    </a:lnTo>
                    <a:lnTo>
                      <a:pt x="1515" y="470"/>
                    </a:lnTo>
                    <a:lnTo>
                      <a:pt x="1392" y="487"/>
                    </a:lnTo>
                    <a:lnTo>
                      <a:pt x="1258" y="500"/>
                    </a:lnTo>
                    <a:lnTo>
                      <a:pt x="1111" y="507"/>
                    </a:lnTo>
                    <a:lnTo>
                      <a:pt x="956" y="511"/>
                    </a:lnTo>
                    <a:lnTo>
                      <a:pt x="800" y="507"/>
                    </a:lnTo>
                    <a:lnTo>
                      <a:pt x="652" y="500"/>
                    </a:lnTo>
                    <a:lnTo>
                      <a:pt x="515" y="487"/>
                    </a:lnTo>
                    <a:lnTo>
                      <a:pt x="390" y="470"/>
                    </a:lnTo>
                    <a:lnTo>
                      <a:pt x="278" y="446"/>
                    </a:lnTo>
                    <a:lnTo>
                      <a:pt x="183" y="418"/>
                    </a:lnTo>
                    <a:lnTo>
                      <a:pt x="107" y="384"/>
                    </a:lnTo>
                    <a:lnTo>
                      <a:pt x="49" y="346"/>
                    </a:lnTo>
                    <a:lnTo>
                      <a:pt x="13" y="303"/>
                    </a:lnTo>
                    <a:lnTo>
                      <a:pt x="0" y="253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7"/>
              <p:cNvSpPr/>
              <p:nvPr/>
            </p:nvSpPr>
            <p:spPr>
              <a:xfrm>
                <a:off x="5086440" y="2231640"/>
                <a:ext cx="1774800" cy="22032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888" h="503">
                    <a:moveTo>
                      <a:pt x="0" y="251"/>
                    </a:moveTo>
                    <a:lnTo>
                      <a:pt x="14" y="210"/>
                    </a:lnTo>
                    <a:lnTo>
                      <a:pt x="49" y="172"/>
                    </a:lnTo>
                    <a:lnTo>
                      <a:pt x="106" y="134"/>
                    </a:lnTo>
                    <a:lnTo>
                      <a:pt x="184" y="102"/>
                    </a:lnTo>
                    <a:lnTo>
                      <a:pt x="279" y="73"/>
                    </a:lnTo>
                    <a:lnTo>
                      <a:pt x="389" y="48"/>
                    </a:lnTo>
                    <a:lnTo>
                      <a:pt x="513" y="27"/>
                    </a:lnTo>
                    <a:lnTo>
                      <a:pt x="650" y="13"/>
                    </a:lnTo>
                    <a:lnTo>
                      <a:pt x="798" y="2"/>
                    </a:lnTo>
                    <a:lnTo>
                      <a:pt x="954" y="0"/>
                    </a:lnTo>
                    <a:lnTo>
                      <a:pt x="1109" y="2"/>
                    </a:lnTo>
                    <a:lnTo>
                      <a:pt x="1254" y="13"/>
                    </a:lnTo>
                    <a:lnTo>
                      <a:pt x="1389" y="27"/>
                    </a:lnTo>
                    <a:lnTo>
                      <a:pt x="1512" y="48"/>
                    </a:lnTo>
                    <a:lnTo>
                      <a:pt x="1620" y="73"/>
                    </a:lnTo>
                    <a:lnTo>
                      <a:pt x="1711" y="102"/>
                    </a:lnTo>
                    <a:lnTo>
                      <a:pt x="1786" y="134"/>
                    </a:lnTo>
                    <a:lnTo>
                      <a:pt x="1842" y="172"/>
                    </a:lnTo>
                    <a:lnTo>
                      <a:pt x="1876" y="210"/>
                    </a:lnTo>
                    <a:lnTo>
                      <a:pt x="1888" y="251"/>
                    </a:lnTo>
                    <a:lnTo>
                      <a:pt x="1876" y="299"/>
                    </a:lnTo>
                    <a:lnTo>
                      <a:pt x="1842" y="342"/>
                    </a:lnTo>
                    <a:lnTo>
                      <a:pt x="1786" y="380"/>
                    </a:lnTo>
                    <a:lnTo>
                      <a:pt x="1711" y="412"/>
                    </a:lnTo>
                    <a:lnTo>
                      <a:pt x="1620" y="441"/>
                    </a:lnTo>
                    <a:lnTo>
                      <a:pt x="1512" y="464"/>
                    </a:lnTo>
                    <a:lnTo>
                      <a:pt x="1389" y="480"/>
                    </a:lnTo>
                    <a:lnTo>
                      <a:pt x="1254" y="494"/>
                    </a:lnTo>
                    <a:lnTo>
                      <a:pt x="1109" y="502"/>
                    </a:lnTo>
                    <a:lnTo>
                      <a:pt x="954" y="503"/>
                    </a:lnTo>
                    <a:lnTo>
                      <a:pt x="798" y="502"/>
                    </a:lnTo>
                    <a:lnTo>
                      <a:pt x="650" y="494"/>
                    </a:lnTo>
                    <a:lnTo>
                      <a:pt x="513" y="480"/>
                    </a:lnTo>
                    <a:lnTo>
                      <a:pt x="389" y="464"/>
                    </a:lnTo>
                    <a:lnTo>
                      <a:pt x="279" y="441"/>
                    </a:lnTo>
                    <a:lnTo>
                      <a:pt x="184" y="412"/>
                    </a:lnTo>
                    <a:lnTo>
                      <a:pt x="106" y="380"/>
                    </a:lnTo>
                    <a:lnTo>
                      <a:pt x="49" y="342"/>
                    </a:lnTo>
                    <a:lnTo>
                      <a:pt x="14" y="299"/>
                    </a:lnTo>
                    <a:lnTo>
                      <a:pt x="1" y="251"/>
                    </a:lnTo>
                  </a:path>
                </a:pathLst>
              </a:custGeom>
              <a:noFill/>
              <a:ln w="2052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8"/>
              <p:cNvSpPr/>
              <p:nvPr/>
            </p:nvSpPr>
            <p:spPr>
              <a:xfrm>
                <a:off x="5088960" y="2232360"/>
                <a:ext cx="1770120" cy="218520"/>
              </a:xfrm>
              <a:custGeom>
                <a:avLst/>
                <a:gdLst>
                  <a:gd name="textAreaLeft" fmla="*/ 0 w 1770120"/>
                  <a:gd name="textAreaRight" fmla="*/ 1770480 w 17701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883" h="500">
                    <a:moveTo>
                      <a:pt x="0" y="249"/>
                    </a:moveTo>
                    <a:lnTo>
                      <a:pt x="13" y="209"/>
                    </a:lnTo>
                    <a:lnTo>
                      <a:pt x="49" y="170"/>
                    </a:lnTo>
                    <a:lnTo>
                      <a:pt x="106" y="134"/>
                    </a:lnTo>
                    <a:lnTo>
                      <a:pt x="183" y="102"/>
                    </a:lnTo>
                    <a:lnTo>
                      <a:pt x="277" y="73"/>
                    </a:lnTo>
                    <a:lnTo>
                      <a:pt x="387" y="48"/>
                    </a:lnTo>
                    <a:lnTo>
                      <a:pt x="512" y="28"/>
                    </a:lnTo>
                    <a:lnTo>
                      <a:pt x="649" y="12"/>
                    </a:lnTo>
                    <a:lnTo>
                      <a:pt x="796" y="3"/>
                    </a:lnTo>
                    <a:lnTo>
                      <a:pt x="951" y="0"/>
                    </a:lnTo>
                    <a:lnTo>
                      <a:pt x="1106" y="3"/>
                    </a:lnTo>
                    <a:lnTo>
                      <a:pt x="1250" y="12"/>
                    </a:lnTo>
                    <a:lnTo>
                      <a:pt x="1385" y="28"/>
                    </a:lnTo>
                    <a:lnTo>
                      <a:pt x="1508" y="48"/>
                    </a:lnTo>
                    <a:lnTo>
                      <a:pt x="1616" y="73"/>
                    </a:lnTo>
                    <a:lnTo>
                      <a:pt x="1707" y="102"/>
                    </a:lnTo>
                    <a:lnTo>
                      <a:pt x="1782" y="134"/>
                    </a:lnTo>
                    <a:lnTo>
                      <a:pt x="1836" y="170"/>
                    </a:lnTo>
                    <a:lnTo>
                      <a:pt x="1871" y="209"/>
                    </a:lnTo>
                    <a:lnTo>
                      <a:pt x="1883" y="249"/>
                    </a:lnTo>
                    <a:lnTo>
                      <a:pt x="1871" y="297"/>
                    </a:lnTo>
                    <a:lnTo>
                      <a:pt x="1836" y="338"/>
                    </a:lnTo>
                    <a:lnTo>
                      <a:pt x="1782" y="376"/>
                    </a:lnTo>
                    <a:lnTo>
                      <a:pt x="1707" y="408"/>
                    </a:lnTo>
                    <a:lnTo>
                      <a:pt x="1616" y="437"/>
                    </a:lnTo>
                    <a:lnTo>
                      <a:pt x="1508" y="458"/>
                    </a:lnTo>
                    <a:lnTo>
                      <a:pt x="1385" y="476"/>
                    </a:lnTo>
                    <a:lnTo>
                      <a:pt x="1250" y="489"/>
                    </a:lnTo>
                    <a:lnTo>
                      <a:pt x="1106" y="498"/>
                    </a:lnTo>
                    <a:lnTo>
                      <a:pt x="951" y="500"/>
                    </a:lnTo>
                    <a:lnTo>
                      <a:pt x="796" y="498"/>
                    </a:lnTo>
                    <a:lnTo>
                      <a:pt x="649" y="489"/>
                    </a:lnTo>
                    <a:lnTo>
                      <a:pt x="512" y="476"/>
                    </a:lnTo>
                    <a:lnTo>
                      <a:pt x="387" y="458"/>
                    </a:lnTo>
                    <a:lnTo>
                      <a:pt x="277" y="437"/>
                    </a:lnTo>
                    <a:lnTo>
                      <a:pt x="183" y="408"/>
                    </a:lnTo>
                    <a:lnTo>
                      <a:pt x="106" y="376"/>
                    </a:lnTo>
                    <a:lnTo>
                      <a:pt x="49" y="338"/>
                    </a:lnTo>
                    <a:lnTo>
                      <a:pt x="13" y="297"/>
                    </a:lnTo>
                    <a:lnTo>
                      <a:pt x="0" y="249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9"/>
              <p:cNvSpPr/>
              <p:nvPr/>
            </p:nvSpPr>
            <p:spPr>
              <a:xfrm>
                <a:off x="5092920" y="2234160"/>
                <a:ext cx="1764360" cy="216000"/>
              </a:xfrm>
              <a:custGeom>
                <a:avLst/>
                <a:gdLst>
                  <a:gd name="textAreaLeft" fmla="*/ 0 w 1764360"/>
                  <a:gd name="textAreaRight" fmla="*/ 1764720 w 1764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877" h="495">
                    <a:moveTo>
                      <a:pt x="0" y="248"/>
                    </a:moveTo>
                    <a:lnTo>
                      <a:pt x="13" y="208"/>
                    </a:lnTo>
                    <a:lnTo>
                      <a:pt x="48" y="169"/>
                    </a:lnTo>
                    <a:lnTo>
                      <a:pt x="106" y="133"/>
                    </a:lnTo>
                    <a:lnTo>
                      <a:pt x="182" y="101"/>
                    </a:lnTo>
                    <a:lnTo>
                      <a:pt x="276" y="72"/>
                    </a:lnTo>
                    <a:lnTo>
                      <a:pt x="386" y="47"/>
                    </a:lnTo>
                    <a:lnTo>
                      <a:pt x="510" y="27"/>
                    </a:lnTo>
                    <a:lnTo>
                      <a:pt x="646" y="13"/>
                    </a:lnTo>
                    <a:lnTo>
                      <a:pt x="792" y="2"/>
                    </a:lnTo>
                    <a:lnTo>
                      <a:pt x="947" y="0"/>
                    </a:lnTo>
                    <a:lnTo>
                      <a:pt x="1100" y="2"/>
                    </a:lnTo>
                    <a:lnTo>
                      <a:pt x="1246" y="13"/>
                    </a:lnTo>
                    <a:lnTo>
                      <a:pt x="1379" y="27"/>
                    </a:lnTo>
                    <a:lnTo>
                      <a:pt x="1501" y="47"/>
                    </a:lnTo>
                    <a:lnTo>
                      <a:pt x="1609" y="72"/>
                    </a:lnTo>
                    <a:lnTo>
                      <a:pt x="1702" y="101"/>
                    </a:lnTo>
                    <a:lnTo>
                      <a:pt x="1775" y="133"/>
                    </a:lnTo>
                    <a:lnTo>
                      <a:pt x="1831" y="169"/>
                    </a:lnTo>
                    <a:lnTo>
                      <a:pt x="1865" y="208"/>
                    </a:lnTo>
                    <a:lnTo>
                      <a:pt x="1877" y="248"/>
                    </a:lnTo>
                    <a:lnTo>
                      <a:pt x="1865" y="294"/>
                    </a:lnTo>
                    <a:lnTo>
                      <a:pt x="1831" y="335"/>
                    </a:lnTo>
                    <a:lnTo>
                      <a:pt x="1775" y="371"/>
                    </a:lnTo>
                    <a:lnTo>
                      <a:pt x="1702" y="403"/>
                    </a:lnTo>
                    <a:lnTo>
                      <a:pt x="1609" y="432"/>
                    </a:lnTo>
                    <a:lnTo>
                      <a:pt x="1501" y="454"/>
                    </a:lnTo>
                    <a:lnTo>
                      <a:pt x="1379" y="471"/>
                    </a:lnTo>
                    <a:lnTo>
                      <a:pt x="1246" y="484"/>
                    </a:lnTo>
                    <a:lnTo>
                      <a:pt x="1100" y="491"/>
                    </a:lnTo>
                    <a:lnTo>
                      <a:pt x="947" y="495"/>
                    </a:lnTo>
                    <a:lnTo>
                      <a:pt x="792" y="491"/>
                    </a:lnTo>
                    <a:lnTo>
                      <a:pt x="646" y="484"/>
                    </a:lnTo>
                    <a:lnTo>
                      <a:pt x="510" y="471"/>
                    </a:lnTo>
                    <a:lnTo>
                      <a:pt x="386" y="454"/>
                    </a:lnTo>
                    <a:lnTo>
                      <a:pt x="276" y="432"/>
                    </a:lnTo>
                    <a:lnTo>
                      <a:pt x="182" y="403"/>
                    </a:lnTo>
                    <a:lnTo>
                      <a:pt x="106" y="371"/>
                    </a:lnTo>
                    <a:lnTo>
                      <a:pt x="48" y="335"/>
                    </a:lnTo>
                    <a:lnTo>
                      <a:pt x="13" y="294"/>
                    </a:lnTo>
                    <a:lnTo>
                      <a:pt x="0" y="248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0"/>
              <p:cNvSpPr/>
              <p:nvPr/>
            </p:nvSpPr>
            <p:spPr>
              <a:xfrm>
                <a:off x="5095800" y="2234880"/>
                <a:ext cx="1759680" cy="2142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872" h="491">
                    <a:moveTo>
                      <a:pt x="0" y="246"/>
                    </a:moveTo>
                    <a:lnTo>
                      <a:pt x="12" y="206"/>
                    </a:lnTo>
                    <a:lnTo>
                      <a:pt x="48" y="169"/>
                    </a:lnTo>
                    <a:lnTo>
                      <a:pt x="105" y="133"/>
                    </a:lnTo>
                    <a:lnTo>
                      <a:pt x="181" y="100"/>
                    </a:lnTo>
                    <a:lnTo>
                      <a:pt x="275" y="72"/>
                    </a:lnTo>
                    <a:lnTo>
                      <a:pt x="384" y="49"/>
                    </a:lnTo>
                    <a:lnTo>
                      <a:pt x="509" y="29"/>
                    </a:lnTo>
                    <a:lnTo>
                      <a:pt x="644" y="13"/>
                    </a:lnTo>
                    <a:lnTo>
                      <a:pt x="789" y="4"/>
                    </a:lnTo>
                    <a:lnTo>
                      <a:pt x="944" y="0"/>
                    </a:lnTo>
                    <a:lnTo>
                      <a:pt x="1097" y="4"/>
                    </a:lnTo>
                    <a:lnTo>
                      <a:pt x="1242" y="13"/>
                    </a:lnTo>
                    <a:lnTo>
                      <a:pt x="1376" y="29"/>
                    </a:lnTo>
                    <a:lnTo>
                      <a:pt x="1497" y="49"/>
                    </a:lnTo>
                    <a:lnTo>
                      <a:pt x="1605" y="72"/>
                    </a:lnTo>
                    <a:lnTo>
                      <a:pt x="1696" y="100"/>
                    </a:lnTo>
                    <a:lnTo>
                      <a:pt x="1771" y="133"/>
                    </a:lnTo>
                    <a:lnTo>
                      <a:pt x="1826" y="169"/>
                    </a:lnTo>
                    <a:lnTo>
                      <a:pt x="1861" y="206"/>
                    </a:lnTo>
                    <a:lnTo>
                      <a:pt x="1872" y="246"/>
                    </a:lnTo>
                    <a:lnTo>
                      <a:pt x="1861" y="292"/>
                    </a:lnTo>
                    <a:lnTo>
                      <a:pt x="1826" y="332"/>
                    </a:lnTo>
                    <a:lnTo>
                      <a:pt x="1771" y="369"/>
                    </a:lnTo>
                    <a:lnTo>
                      <a:pt x="1696" y="400"/>
                    </a:lnTo>
                    <a:lnTo>
                      <a:pt x="1605" y="428"/>
                    </a:lnTo>
                    <a:lnTo>
                      <a:pt x="1497" y="450"/>
                    </a:lnTo>
                    <a:lnTo>
                      <a:pt x="1376" y="468"/>
                    </a:lnTo>
                    <a:lnTo>
                      <a:pt x="1242" y="480"/>
                    </a:lnTo>
                    <a:lnTo>
                      <a:pt x="1097" y="487"/>
                    </a:lnTo>
                    <a:lnTo>
                      <a:pt x="944" y="491"/>
                    </a:lnTo>
                    <a:lnTo>
                      <a:pt x="789" y="487"/>
                    </a:lnTo>
                    <a:lnTo>
                      <a:pt x="644" y="480"/>
                    </a:lnTo>
                    <a:lnTo>
                      <a:pt x="509" y="468"/>
                    </a:lnTo>
                    <a:lnTo>
                      <a:pt x="384" y="450"/>
                    </a:lnTo>
                    <a:lnTo>
                      <a:pt x="275" y="428"/>
                    </a:lnTo>
                    <a:lnTo>
                      <a:pt x="181" y="400"/>
                    </a:lnTo>
                    <a:lnTo>
                      <a:pt x="105" y="369"/>
                    </a:lnTo>
                    <a:lnTo>
                      <a:pt x="48" y="332"/>
                    </a:lnTo>
                    <a:lnTo>
                      <a:pt x="12" y="292"/>
                    </a:lnTo>
                    <a:lnTo>
                      <a:pt x="1" y="246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1"/>
              <p:cNvSpPr/>
              <p:nvPr/>
            </p:nvSpPr>
            <p:spPr>
              <a:xfrm>
                <a:off x="5099400" y="2235960"/>
                <a:ext cx="1753920" cy="211680"/>
              </a:xfrm>
              <a:custGeom>
                <a:avLst/>
                <a:gdLst>
                  <a:gd name="textAreaLeft" fmla="*/ 0 w 1753920"/>
                  <a:gd name="textAreaRight" fmla="*/ 1754280 w 17539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866" h="483">
                    <a:moveTo>
                      <a:pt x="0" y="242"/>
                    </a:moveTo>
                    <a:lnTo>
                      <a:pt x="12" y="204"/>
                    </a:lnTo>
                    <a:lnTo>
                      <a:pt x="48" y="166"/>
                    </a:lnTo>
                    <a:lnTo>
                      <a:pt x="104" y="131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3" y="46"/>
                    </a:lnTo>
                    <a:lnTo>
                      <a:pt x="506" y="27"/>
                    </a:lnTo>
                    <a:lnTo>
                      <a:pt x="640" y="12"/>
                    </a:lnTo>
                    <a:lnTo>
                      <a:pt x="786" y="2"/>
                    </a:lnTo>
                    <a:lnTo>
                      <a:pt x="940" y="0"/>
                    </a:lnTo>
                    <a:lnTo>
                      <a:pt x="1093" y="2"/>
                    </a:lnTo>
                    <a:lnTo>
                      <a:pt x="1237" y="12"/>
                    </a:lnTo>
                    <a:lnTo>
                      <a:pt x="1371" y="27"/>
                    </a:lnTo>
                    <a:lnTo>
                      <a:pt x="1492" y="46"/>
                    </a:lnTo>
                    <a:lnTo>
                      <a:pt x="1600" y="71"/>
                    </a:lnTo>
                    <a:lnTo>
                      <a:pt x="1691" y="100"/>
                    </a:lnTo>
                    <a:lnTo>
                      <a:pt x="1766" y="131"/>
                    </a:lnTo>
                    <a:lnTo>
                      <a:pt x="1820" y="166"/>
                    </a:lnTo>
                    <a:lnTo>
                      <a:pt x="1855" y="204"/>
                    </a:lnTo>
                    <a:lnTo>
                      <a:pt x="1866" y="243"/>
                    </a:lnTo>
                    <a:lnTo>
                      <a:pt x="1855" y="288"/>
                    </a:lnTo>
                    <a:lnTo>
                      <a:pt x="1820" y="328"/>
                    </a:lnTo>
                    <a:lnTo>
                      <a:pt x="1766" y="363"/>
                    </a:lnTo>
                    <a:lnTo>
                      <a:pt x="1691" y="394"/>
                    </a:lnTo>
                    <a:lnTo>
                      <a:pt x="1600" y="421"/>
                    </a:lnTo>
                    <a:lnTo>
                      <a:pt x="1492" y="444"/>
                    </a:lnTo>
                    <a:lnTo>
                      <a:pt x="1371" y="462"/>
                    </a:lnTo>
                    <a:lnTo>
                      <a:pt x="1237" y="474"/>
                    </a:lnTo>
                    <a:lnTo>
                      <a:pt x="1093" y="482"/>
                    </a:lnTo>
                    <a:lnTo>
                      <a:pt x="940" y="483"/>
                    </a:lnTo>
                    <a:lnTo>
                      <a:pt x="786" y="482"/>
                    </a:lnTo>
                    <a:lnTo>
                      <a:pt x="640" y="474"/>
                    </a:lnTo>
                    <a:lnTo>
                      <a:pt x="506" y="462"/>
                    </a:lnTo>
                    <a:lnTo>
                      <a:pt x="383" y="444"/>
                    </a:lnTo>
                    <a:lnTo>
                      <a:pt x="274" y="421"/>
                    </a:lnTo>
                    <a:lnTo>
                      <a:pt x="180" y="394"/>
                    </a:lnTo>
                    <a:lnTo>
                      <a:pt x="104" y="363"/>
                    </a:lnTo>
                    <a:lnTo>
                      <a:pt x="48" y="328"/>
                    </a:lnTo>
                    <a:lnTo>
                      <a:pt x="12" y="288"/>
                    </a:lnTo>
                    <a:lnTo>
                      <a:pt x="0" y="243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2"/>
              <p:cNvSpPr/>
              <p:nvPr/>
            </p:nvSpPr>
            <p:spPr>
              <a:xfrm>
                <a:off x="5101200" y="2236680"/>
                <a:ext cx="1751400" cy="209880"/>
              </a:xfrm>
              <a:custGeom>
                <a:avLst/>
                <a:gdLst>
                  <a:gd name="textAreaLeft" fmla="*/ 0 w 1751400"/>
                  <a:gd name="textAreaRight" fmla="*/ 1751760 w 17514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863" h="480">
                    <a:moveTo>
                      <a:pt x="0" y="241"/>
                    </a:moveTo>
                    <a:lnTo>
                      <a:pt x="13" y="204"/>
                    </a:lnTo>
                    <a:lnTo>
                      <a:pt x="48" y="166"/>
                    </a:lnTo>
                    <a:lnTo>
                      <a:pt x="104" y="130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2" y="46"/>
                    </a:lnTo>
                    <a:lnTo>
                      <a:pt x="505" y="26"/>
                    </a:lnTo>
                    <a:lnTo>
                      <a:pt x="640" y="12"/>
                    </a:lnTo>
                    <a:lnTo>
                      <a:pt x="784" y="3"/>
                    </a:lnTo>
                    <a:lnTo>
                      <a:pt x="938" y="0"/>
                    </a:lnTo>
                    <a:lnTo>
                      <a:pt x="1090" y="3"/>
                    </a:lnTo>
                    <a:lnTo>
                      <a:pt x="1235" y="12"/>
                    </a:lnTo>
                    <a:lnTo>
                      <a:pt x="1368" y="26"/>
                    </a:lnTo>
                    <a:lnTo>
                      <a:pt x="1488" y="46"/>
                    </a:lnTo>
                    <a:lnTo>
                      <a:pt x="1596" y="71"/>
                    </a:lnTo>
                    <a:lnTo>
                      <a:pt x="1688" y="100"/>
                    </a:lnTo>
                    <a:lnTo>
                      <a:pt x="1761" y="130"/>
                    </a:lnTo>
                    <a:lnTo>
                      <a:pt x="1817" y="166"/>
                    </a:lnTo>
                    <a:lnTo>
                      <a:pt x="1851" y="204"/>
                    </a:lnTo>
                    <a:lnTo>
                      <a:pt x="1863" y="241"/>
                    </a:lnTo>
                    <a:lnTo>
                      <a:pt x="1851" y="284"/>
                    </a:lnTo>
                    <a:lnTo>
                      <a:pt x="1817" y="324"/>
                    </a:lnTo>
                    <a:lnTo>
                      <a:pt x="1761" y="360"/>
                    </a:lnTo>
                    <a:lnTo>
                      <a:pt x="1688" y="390"/>
                    </a:lnTo>
                    <a:lnTo>
                      <a:pt x="1596" y="417"/>
                    </a:lnTo>
                    <a:lnTo>
                      <a:pt x="1488" y="440"/>
                    </a:lnTo>
                    <a:lnTo>
                      <a:pt x="1368" y="456"/>
                    </a:lnTo>
                    <a:lnTo>
                      <a:pt x="1235" y="469"/>
                    </a:lnTo>
                    <a:lnTo>
                      <a:pt x="1090" y="478"/>
                    </a:lnTo>
                    <a:lnTo>
                      <a:pt x="938" y="480"/>
                    </a:lnTo>
                    <a:lnTo>
                      <a:pt x="784" y="478"/>
                    </a:lnTo>
                    <a:lnTo>
                      <a:pt x="640" y="469"/>
                    </a:lnTo>
                    <a:lnTo>
                      <a:pt x="505" y="456"/>
                    </a:lnTo>
                    <a:lnTo>
                      <a:pt x="382" y="440"/>
                    </a:lnTo>
                    <a:lnTo>
                      <a:pt x="274" y="417"/>
                    </a:lnTo>
                    <a:lnTo>
                      <a:pt x="180" y="390"/>
                    </a:lnTo>
                    <a:lnTo>
                      <a:pt x="104" y="360"/>
                    </a:lnTo>
                    <a:lnTo>
                      <a:pt x="48" y="324"/>
                    </a:lnTo>
                    <a:lnTo>
                      <a:pt x="13" y="284"/>
                    </a:lnTo>
                    <a:lnTo>
                      <a:pt x="1" y="241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3"/>
              <p:cNvSpPr/>
              <p:nvPr/>
            </p:nvSpPr>
            <p:spPr>
              <a:xfrm>
                <a:off x="5105160" y="2238480"/>
                <a:ext cx="1744560" cy="2070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856" h="475">
                    <a:moveTo>
                      <a:pt x="0" y="238"/>
                    </a:moveTo>
                    <a:lnTo>
                      <a:pt x="13" y="201"/>
                    </a:lnTo>
                    <a:lnTo>
                      <a:pt x="47" y="165"/>
                    </a:lnTo>
                    <a:lnTo>
                      <a:pt x="104" y="129"/>
                    </a:lnTo>
                    <a:lnTo>
                      <a:pt x="179" y="99"/>
                    </a:lnTo>
                    <a:lnTo>
                      <a:pt x="271" y="70"/>
                    </a:lnTo>
                    <a:lnTo>
                      <a:pt x="381" y="47"/>
                    </a:lnTo>
                    <a:lnTo>
                      <a:pt x="502" y="27"/>
                    </a:lnTo>
                    <a:lnTo>
                      <a:pt x="637" y="13"/>
                    </a:lnTo>
                    <a:lnTo>
                      <a:pt x="781" y="2"/>
                    </a:lnTo>
                    <a:lnTo>
                      <a:pt x="934" y="0"/>
                    </a:lnTo>
                    <a:lnTo>
                      <a:pt x="1086" y="2"/>
                    </a:lnTo>
                    <a:lnTo>
                      <a:pt x="1229" y="13"/>
                    </a:lnTo>
                    <a:lnTo>
                      <a:pt x="1363" y="27"/>
                    </a:lnTo>
                    <a:lnTo>
                      <a:pt x="1483" y="47"/>
                    </a:lnTo>
                    <a:lnTo>
                      <a:pt x="1590" y="70"/>
                    </a:lnTo>
                    <a:lnTo>
                      <a:pt x="1681" y="99"/>
                    </a:lnTo>
                    <a:lnTo>
                      <a:pt x="1756" y="129"/>
                    </a:lnTo>
                    <a:lnTo>
                      <a:pt x="1810" y="165"/>
                    </a:lnTo>
                    <a:lnTo>
                      <a:pt x="1845" y="201"/>
                    </a:lnTo>
                    <a:lnTo>
                      <a:pt x="1856" y="240"/>
                    </a:lnTo>
                    <a:lnTo>
                      <a:pt x="1845" y="281"/>
                    </a:lnTo>
                    <a:lnTo>
                      <a:pt x="1810" y="321"/>
                    </a:lnTo>
                    <a:lnTo>
                      <a:pt x="1756" y="355"/>
                    </a:lnTo>
                    <a:lnTo>
                      <a:pt x="1681" y="385"/>
                    </a:lnTo>
                    <a:lnTo>
                      <a:pt x="1590" y="412"/>
                    </a:lnTo>
                    <a:lnTo>
                      <a:pt x="1483" y="434"/>
                    </a:lnTo>
                    <a:lnTo>
                      <a:pt x="1363" y="452"/>
                    </a:lnTo>
                    <a:lnTo>
                      <a:pt x="1229" y="464"/>
                    </a:lnTo>
                    <a:lnTo>
                      <a:pt x="1086" y="473"/>
                    </a:lnTo>
                    <a:lnTo>
                      <a:pt x="934" y="475"/>
                    </a:lnTo>
                    <a:lnTo>
                      <a:pt x="781" y="473"/>
                    </a:lnTo>
                    <a:lnTo>
                      <a:pt x="637" y="464"/>
                    </a:lnTo>
                    <a:lnTo>
                      <a:pt x="502" y="452"/>
                    </a:lnTo>
                    <a:lnTo>
                      <a:pt x="381" y="434"/>
                    </a:lnTo>
                    <a:lnTo>
                      <a:pt x="271" y="412"/>
                    </a:lnTo>
                    <a:lnTo>
                      <a:pt x="179" y="385"/>
                    </a:lnTo>
                    <a:lnTo>
                      <a:pt x="104" y="355"/>
                    </a:lnTo>
                    <a:lnTo>
                      <a:pt x="47" y="321"/>
                    </a:lnTo>
                    <a:lnTo>
                      <a:pt x="13" y="281"/>
                    </a:lnTo>
                    <a:lnTo>
                      <a:pt x="0" y="240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4"/>
              <p:cNvSpPr/>
              <p:nvPr/>
            </p:nvSpPr>
            <p:spPr>
              <a:xfrm>
                <a:off x="5108760" y="2239200"/>
                <a:ext cx="1739880" cy="205560"/>
              </a:xfrm>
              <a:custGeom>
                <a:avLst/>
                <a:gdLst>
                  <a:gd name="textAreaLeft" fmla="*/ 0 w 1739880"/>
                  <a:gd name="textAreaRight" fmla="*/ 1740240 w 173988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1851" h="471">
                    <a:moveTo>
                      <a:pt x="0" y="238"/>
                    </a:moveTo>
                    <a:lnTo>
                      <a:pt x="11" y="201"/>
                    </a:lnTo>
                    <a:lnTo>
                      <a:pt x="47" y="165"/>
                    </a:lnTo>
                    <a:lnTo>
                      <a:pt x="102" y="129"/>
                    </a:lnTo>
                    <a:lnTo>
                      <a:pt x="177" y="98"/>
                    </a:lnTo>
                    <a:lnTo>
                      <a:pt x="270" y="70"/>
                    </a:lnTo>
                    <a:lnTo>
                      <a:pt x="378" y="47"/>
                    </a:lnTo>
                    <a:lnTo>
                      <a:pt x="500" y="27"/>
                    </a:lnTo>
                    <a:lnTo>
                      <a:pt x="634" y="12"/>
                    </a:lnTo>
                    <a:lnTo>
                      <a:pt x="777" y="4"/>
                    </a:lnTo>
                    <a:lnTo>
                      <a:pt x="930" y="0"/>
                    </a:lnTo>
                    <a:lnTo>
                      <a:pt x="1082" y="4"/>
                    </a:lnTo>
                    <a:lnTo>
                      <a:pt x="1224" y="12"/>
                    </a:lnTo>
                    <a:lnTo>
                      <a:pt x="1357" y="27"/>
                    </a:lnTo>
                    <a:lnTo>
                      <a:pt x="1478" y="47"/>
                    </a:lnTo>
                    <a:lnTo>
                      <a:pt x="1584" y="70"/>
                    </a:lnTo>
                    <a:lnTo>
                      <a:pt x="1676" y="98"/>
                    </a:lnTo>
                    <a:lnTo>
                      <a:pt x="1749" y="129"/>
                    </a:lnTo>
                    <a:lnTo>
                      <a:pt x="1805" y="165"/>
                    </a:lnTo>
                    <a:lnTo>
                      <a:pt x="1839" y="201"/>
                    </a:lnTo>
                    <a:lnTo>
                      <a:pt x="1851" y="238"/>
                    </a:lnTo>
                    <a:lnTo>
                      <a:pt x="1839" y="279"/>
                    </a:lnTo>
                    <a:lnTo>
                      <a:pt x="1805" y="317"/>
                    </a:lnTo>
                    <a:lnTo>
                      <a:pt x="1749" y="353"/>
                    </a:lnTo>
                    <a:lnTo>
                      <a:pt x="1676" y="381"/>
                    </a:lnTo>
                    <a:lnTo>
                      <a:pt x="1584" y="408"/>
                    </a:lnTo>
                    <a:lnTo>
                      <a:pt x="1478" y="430"/>
                    </a:lnTo>
                    <a:lnTo>
                      <a:pt x="1357" y="448"/>
                    </a:lnTo>
                    <a:lnTo>
                      <a:pt x="1224" y="460"/>
                    </a:lnTo>
                    <a:lnTo>
                      <a:pt x="1082" y="467"/>
                    </a:lnTo>
                    <a:lnTo>
                      <a:pt x="930" y="471"/>
                    </a:lnTo>
                    <a:lnTo>
                      <a:pt x="777" y="467"/>
                    </a:lnTo>
                    <a:lnTo>
                      <a:pt x="634" y="460"/>
                    </a:lnTo>
                    <a:lnTo>
                      <a:pt x="500" y="448"/>
                    </a:lnTo>
                    <a:lnTo>
                      <a:pt x="378" y="430"/>
                    </a:lnTo>
                    <a:lnTo>
                      <a:pt x="270" y="408"/>
                    </a:lnTo>
                    <a:lnTo>
                      <a:pt x="177" y="381"/>
                    </a:lnTo>
                    <a:lnTo>
                      <a:pt x="102" y="353"/>
                    </a:lnTo>
                    <a:lnTo>
                      <a:pt x="47" y="317"/>
                    </a:lnTo>
                    <a:lnTo>
                      <a:pt x="11" y="279"/>
                    </a:lnTo>
                    <a:lnTo>
                      <a:pt x="0" y="238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5"/>
              <p:cNvSpPr/>
              <p:nvPr/>
            </p:nvSpPr>
            <p:spPr>
              <a:xfrm>
                <a:off x="5110560" y="2241000"/>
                <a:ext cx="1737360" cy="203760"/>
              </a:xfrm>
              <a:custGeom>
                <a:avLst/>
                <a:gdLst>
                  <a:gd name="textAreaLeft" fmla="*/ 0 w 1737360"/>
                  <a:gd name="textAreaRight" fmla="*/ 1737720 w 17373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848" h="465">
                    <a:moveTo>
                      <a:pt x="0" y="234"/>
                    </a:moveTo>
                    <a:lnTo>
                      <a:pt x="13" y="198"/>
                    </a:lnTo>
                    <a:lnTo>
                      <a:pt x="47" y="161"/>
                    </a:lnTo>
                    <a:lnTo>
                      <a:pt x="103" y="127"/>
                    </a:lnTo>
                    <a:lnTo>
                      <a:pt x="178" y="96"/>
                    </a:lnTo>
                    <a:lnTo>
                      <a:pt x="270" y="69"/>
                    </a:lnTo>
                    <a:lnTo>
                      <a:pt x="378" y="44"/>
                    </a:lnTo>
                    <a:lnTo>
                      <a:pt x="499" y="26"/>
                    </a:lnTo>
                    <a:lnTo>
                      <a:pt x="632" y="12"/>
                    </a:lnTo>
                    <a:lnTo>
                      <a:pt x="775" y="1"/>
                    </a:lnTo>
                    <a:lnTo>
                      <a:pt x="928" y="0"/>
                    </a:lnTo>
                    <a:lnTo>
                      <a:pt x="1079" y="1"/>
                    </a:lnTo>
                    <a:lnTo>
                      <a:pt x="1222" y="12"/>
                    </a:lnTo>
                    <a:lnTo>
                      <a:pt x="1354" y="26"/>
                    </a:lnTo>
                    <a:lnTo>
                      <a:pt x="1475" y="44"/>
                    </a:lnTo>
                    <a:lnTo>
                      <a:pt x="1581" y="69"/>
                    </a:lnTo>
                    <a:lnTo>
                      <a:pt x="1673" y="96"/>
                    </a:lnTo>
                    <a:lnTo>
                      <a:pt x="1746" y="127"/>
                    </a:lnTo>
                    <a:lnTo>
                      <a:pt x="1801" y="161"/>
                    </a:lnTo>
                    <a:lnTo>
                      <a:pt x="1835" y="198"/>
                    </a:lnTo>
                    <a:lnTo>
                      <a:pt x="1848" y="236"/>
                    </a:lnTo>
                    <a:lnTo>
                      <a:pt x="1835" y="275"/>
                    </a:lnTo>
                    <a:lnTo>
                      <a:pt x="1801" y="313"/>
                    </a:lnTo>
                    <a:lnTo>
                      <a:pt x="1746" y="347"/>
                    </a:lnTo>
                    <a:lnTo>
                      <a:pt x="1673" y="376"/>
                    </a:lnTo>
                    <a:lnTo>
                      <a:pt x="1581" y="403"/>
                    </a:lnTo>
                    <a:lnTo>
                      <a:pt x="1475" y="424"/>
                    </a:lnTo>
                    <a:lnTo>
                      <a:pt x="1354" y="442"/>
                    </a:lnTo>
                    <a:lnTo>
                      <a:pt x="1222" y="454"/>
                    </a:lnTo>
                    <a:lnTo>
                      <a:pt x="1079" y="462"/>
                    </a:lnTo>
                    <a:lnTo>
                      <a:pt x="928" y="465"/>
                    </a:lnTo>
                    <a:lnTo>
                      <a:pt x="775" y="462"/>
                    </a:lnTo>
                    <a:lnTo>
                      <a:pt x="632" y="454"/>
                    </a:lnTo>
                    <a:lnTo>
                      <a:pt x="499" y="442"/>
                    </a:lnTo>
                    <a:lnTo>
                      <a:pt x="378" y="424"/>
                    </a:lnTo>
                    <a:lnTo>
                      <a:pt x="270" y="403"/>
                    </a:lnTo>
                    <a:lnTo>
                      <a:pt x="178" y="376"/>
                    </a:lnTo>
                    <a:lnTo>
                      <a:pt x="103" y="347"/>
                    </a:lnTo>
                    <a:lnTo>
                      <a:pt x="47" y="313"/>
                    </a:lnTo>
                    <a:lnTo>
                      <a:pt x="13" y="275"/>
                    </a:lnTo>
                    <a:lnTo>
                      <a:pt x="2" y="236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6"/>
              <p:cNvSpPr/>
              <p:nvPr/>
            </p:nvSpPr>
            <p:spPr>
              <a:xfrm>
                <a:off x="5114520" y="2241720"/>
                <a:ext cx="1730520" cy="201960"/>
              </a:xfrm>
              <a:custGeom>
                <a:avLst/>
                <a:gdLst>
                  <a:gd name="textAreaLeft" fmla="*/ 0 w 1730520"/>
                  <a:gd name="textAreaRight" fmla="*/ 1730880 w 17305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841" h="462">
                    <a:moveTo>
                      <a:pt x="0" y="235"/>
                    </a:moveTo>
                    <a:lnTo>
                      <a:pt x="13" y="197"/>
                    </a:lnTo>
                    <a:lnTo>
                      <a:pt x="47" y="162"/>
                    </a:lnTo>
                    <a:lnTo>
                      <a:pt x="103" y="127"/>
                    </a:lnTo>
                    <a:lnTo>
                      <a:pt x="176" y="97"/>
                    </a:lnTo>
                    <a:lnTo>
                      <a:pt x="269" y="70"/>
                    </a:lnTo>
                    <a:lnTo>
                      <a:pt x="376" y="47"/>
                    </a:lnTo>
                    <a:lnTo>
                      <a:pt x="497" y="27"/>
                    </a:lnTo>
                    <a:lnTo>
                      <a:pt x="629" y="13"/>
                    </a:lnTo>
                    <a:lnTo>
                      <a:pt x="773" y="4"/>
                    </a:lnTo>
                    <a:lnTo>
                      <a:pt x="924" y="0"/>
                    </a:lnTo>
                    <a:lnTo>
                      <a:pt x="1075" y="4"/>
                    </a:lnTo>
                    <a:lnTo>
                      <a:pt x="1217" y="13"/>
                    </a:lnTo>
                    <a:lnTo>
                      <a:pt x="1349" y="27"/>
                    </a:lnTo>
                    <a:lnTo>
                      <a:pt x="1469" y="47"/>
                    </a:lnTo>
                    <a:lnTo>
                      <a:pt x="1576" y="70"/>
                    </a:lnTo>
                    <a:lnTo>
                      <a:pt x="1667" y="97"/>
                    </a:lnTo>
                    <a:lnTo>
                      <a:pt x="1741" y="127"/>
                    </a:lnTo>
                    <a:lnTo>
                      <a:pt x="1795" y="162"/>
                    </a:lnTo>
                    <a:lnTo>
                      <a:pt x="1830" y="197"/>
                    </a:lnTo>
                    <a:lnTo>
                      <a:pt x="1841" y="235"/>
                    </a:lnTo>
                    <a:lnTo>
                      <a:pt x="1830" y="274"/>
                    </a:lnTo>
                    <a:lnTo>
                      <a:pt x="1795" y="310"/>
                    </a:lnTo>
                    <a:lnTo>
                      <a:pt x="1741" y="344"/>
                    </a:lnTo>
                    <a:lnTo>
                      <a:pt x="1667" y="373"/>
                    </a:lnTo>
                    <a:lnTo>
                      <a:pt x="1576" y="400"/>
                    </a:lnTo>
                    <a:lnTo>
                      <a:pt x="1469" y="421"/>
                    </a:lnTo>
                    <a:lnTo>
                      <a:pt x="1349" y="439"/>
                    </a:lnTo>
                    <a:lnTo>
                      <a:pt x="1217" y="452"/>
                    </a:lnTo>
                    <a:lnTo>
                      <a:pt x="1075" y="459"/>
                    </a:lnTo>
                    <a:lnTo>
                      <a:pt x="924" y="462"/>
                    </a:lnTo>
                    <a:lnTo>
                      <a:pt x="773" y="459"/>
                    </a:lnTo>
                    <a:lnTo>
                      <a:pt x="629" y="452"/>
                    </a:lnTo>
                    <a:lnTo>
                      <a:pt x="497" y="439"/>
                    </a:lnTo>
                    <a:lnTo>
                      <a:pt x="376" y="421"/>
                    </a:lnTo>
                    <a:lnTo>
                      <a:pt x="269" y="400"/>
                    </a:lnTo>
                    <a:lnTo>
                      <a:pt x="176" y="373"/>
                    </a:lnTo>
                    <a:lnTo>
                      <a:pt x="103" y="344"/>
                    </a:lnTo>
                    <a:lnTo>
                      <a:pt x="47" y="310"/>
                    </a:lnTo>
                    <a:lnTo>
                      <a:pt x="13" y="274"/>
                    </a:lnTo>
                    <a:lnTo>
                      <a:pt x="0" y="235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7"/>
              <p:cNvSpPr/>
              <p:nvPr/>
            </p:nvSpPr>
            <p:spPr>
              <a:xfrm>
                <a:off x="5117400" y="2242800"/>
                <a:ext cx="1726920" cy="19908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837" h="455">
                    <a:moveTo>
                      <a:pt x="0" y="231"/>
                    </a:moveTo>
                    <a:lnTo>
                      <a:pt x="12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6" y="95"/>
                    </a:lnTo>
                    <a:lnTo>
                      <a:pt x="267" y="68"/>
                    </a:lnTo>
                    <a:lnTo>
                      <a:pt x="375" y="45"/>
                    </a:lnTo>
                    <a:lnTo>
                      <a:pt x="496" y="25"/>
                    </a:lnTo>
                    <a:lnTo>
                      <a:pt x="628" y="11"/>
                    </a:lnTo>
                    <a:lnTo>
                      <a:pt x="770" y="2"/>
                    </a:lnTo>
                    <a:lnTo>
                      <a:pt x="921" y="0"/>
                    </a:lnTo>
                    <a:lnTo>
                      <a:pt x="1070" y="2"/>
                    </a:lnTo>
                    <a:lnTo>
                      <a:pt x="1213" y="11"/>
                    </a:lnTo>
                    <a:lnTo>
                      <a:pt x="1345" y="25"/>
                    </a:lnTo>
                    <a:lnTo>
                      <a:pt x="1465" y="45"/>
                    </a:lnTo>
                    <a:lnTo>
                      <a:pt x="1572" y="68"/>
                    </a:lnTo>
                    <a:lnTo>
                      <a:pt x="1662" y="95"/>
                    </a:lnTo>
                    <a:lnTo>
                      <a:pt x="1735" y="127"/>
                    </a:lnTo>
                    <a:lnTo>
                      <a:pt x="1790" y="159"/>
                    </a:lnTo>
                    <a:lnTo>
                      <a:pt x="1824" y="195"/>
                    </a:lnTo>
                    <a:lnTo>
                      <a:pt x="1837" y="233"/>
                    </a:lnTo>
                    <a:lnTo>
                      <a:pt x="1824" y="270"/>
                    </a:lnTo>
                    <a:lnTo>
                      <a:pt x="1790" y="306"/>
                    </a:lnTo>
                    <a:lnTo>
                      <a:pt x="1735" y="338"/>
                    </a:lnTo>
                    <a:lnTo>
                      <a:pt x="1662" y="367"/>
                    </a:lnTo>
                    <a:lnTo>
                      <a:pt x="1572" y="394"/>
                    </a:lnTo>
                    <a:lnTo>
                      <a:pt x="1465" y="415"/>
                    </a:lnTo>
                    <a:lnTo>
                      <a:pt x="1345" y="432"/>
                    </a:lnTo>
                    <a:lnTo>
                      <a:pt x="1213" y="444"/>
                    </a:lnTo>
                    <a:lnTo>
                      <a:pt x="1070" y="453"/>
                    </a:lnTo>
                    <a:lnTo>
                      <a:pt x="921" y="455"/>
                    </a:lnTo>
                    <a:lnTo>
                      <a:pt x="770" y="453"/>
                    </a:lnTo>
                    <a:lnTo>
                      <a:pt x="628" y="444"/>
                    </a:lnTo>
                    <a:lnTo>
                      <a:pt x="496" y="432"/>
                    </a:lnTo>
                    <a:lnTo>
                      <a:pt x="375" y="415"/>
                    </a:lnTo>
                    <a:lnTo>
                      <a:pt x="267" y="394"/>
                    </a:lnTo>
                    <a:lnTo>
                      <a:pt x="176" y="367"/>
                    </a:lnTo>
                    <a:lnTo>
                      <a:pt x="102" y="338"/>
                    </a:lnTo>
                    <a:lnTo>
                      <a:pt x="47" y="306"/>
                    </a:lnTo>
                    <a:lnTo>
                      <a:pt x="12" y="270"/>
                    </a:lnTo>
                    <a:lnTo>
                      <a:pt x="1" y="233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8"/>
              <p:cNvSpPr/>
              <p:nvPr/>
            </p:nvSpPr>
            <p:spPr>
              <a:xfrm>
                <a:off x="5120280" y="2243520"/>
                <a:ext cx="1721160" cy="197640"/>
              </a:xfrm>
              <a:custGeom>
                <a:avLst/>
                <a:gdLst>
                  <a:gd name="textAreaLeft" fmla="*/ 0 w 1721160"/>
                  <a:gd name="textAreaRight" fmla="*/ 1721520 w 172116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1831" h="451">
                    <a:moveTo>
                      <a:pt x="0" y="231"/>
                    </a:moveTo>
                    <a:lnTo>
                      <a:pt x="13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5" y="96"/>
                    </a:lnTo>
                    <a:lnTo>
                      <a:pt x="267" y="70"/>
                    </a:lnTo>
                    <a:lnTo>
                      <a:pt x="373" y="46"/>
                    </a:lnTo>
                    <a:lnTo>
                      <a:pt x="494" y="27"/>
                    </a:lnTo>
                    <a:lnTo>
                      <a:pt x="626" y="12"/>
                    </a:lnTo>
                    <a:lnTo>
                      <a:pt x="768" y="3"/>
                    </a:lnTo>
                    <a:lnTo>
                      <a:pt x="918" y="0"/>
                    </a:lnTo>
                    <a:lnTo>
                      <a:pt x="1067" y="3"/>
                    </a:lnTo>
                    <a:lnTo>
                      <a:pt x="1210" y="12"/>
                    </a:lnTo>
                    <a:lnTo>
                      <a:pt x="1340" y="27"/>
                    </a:lnTo>
                    <a:lnTo>
                      <a:pt x="1461" y="46"/>
                    </a:lnTo>
                    <a:lnTo>
                      <a:pt x="1566" y="70"/>
                    </a:lnTo>
                    <a:lnTo>
                      <a:pt x="1657" y="96"/>
                    </a:lnTo>
                    <a:lnTo>
                      <a:pt x="1731" y="127"/>
                    </a:lnTo>
                    <a:lnTo>
                      <a:pt x="1786" y="159"/>
                    </a:lnTo>
                    <a:lnTo>
                      <a:pt x="1820" y="195"/>
                    </a:lnTo>
                    <a:lnTo>
                      <a:pt x="1831" y="231"/>
                    </a:lnTo>
                    <a:lnTo>
                      <a:pt x="1820" y="268"/>
                    </a:lnTo>
                    <a:lnTo>
                      <a:pt x="1786" y="302"/>
                    </a:lnTo>
                    <a:lnTo>
                      <a:pt x="1731" y="335"/>
                    </a:lnTo>
                    <a:lnTo>
                      <a:pt x="1657" y="363"/>
                    </a:lnTo>
                    <a:lnTo>
                      <a:pt x="1566" y="390"/>
                    </a:lnTo>
                    <a:lnTo>
                      <a:pt x="1461" y="412"/>
                    </a:lnTo>
                    <a:lnTo>
                      <a:pt x="1340" y="428"/>
                    </a:lnTo>
                    <a:lnTo>
                      <a:pt x="1210" y="440"/>
                    </a:lnTo>
                    <a:lnTo>
                      <a:pt x="1067" y="449"/>
                    </a:lnTo>
                    <a:lnTo>
                      <a:pt x="918" y="451"/>
                    </a:lnTo>
                    <a:lnTo>
                      <a:pt x="768" y="449"/>
                    </a:lnTo>
                    <a:lnTo>
                      <a:pt x="626" y="440"/>
                    </a:lnTo>
                    <a:lnTo>
                      <a:pt x="494" y="428"/>
                    </a:lnTo>
                    <a:lnTo>
                      <a:pt x="373" y="412"/>
                    </a:lnTo>
                    <a:lnTo>
                      <a:pt x="267" y="390"/>
                    </a:lnTo>
                    <a:lnTo>
                      <a:pt x="175" y="363"/>
                    </a:lnTo>
                    <a:lnTo>
                      <a:pt x="102" y="335"/>
                    </a:lnTo>
                    <a:lnTo>
                      <a:pt x="47" y="302"/>
                    </a:lnTo>
                    <a:lnTo>
                      <a:pt x="13" y="268"/>
                    </a:lnTo>
                    <a:lnTo>
                      <a:pt x="0" y="231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9"/>
              <p:cNvSpPr/>
              <p:nvPr/>
            </p:nvSpPr>
            <p:spPr>
              <a:xfrm>
                <a:off x="5123160" y="2245320"/>
                <a:ext cx="1717560" cy="19476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827" h="446">
                    <a:moveTo>
                      <a:pt x="0" y="228"/>
                    </a:moveTo>
                    <a:lnTo>
                      <a:pt x="13" y="192"/>
                    </a:lnTo>
                    <a:lnTo>
                      <a:pt x="47" y="158"/>
                    </a:lnTo>
                    <a:lnTo>
                      <a:pt x="101" y="126"/>
                    </a:lnTo>
                    <a:lnTo>
                      <a:pt x="175" y="95"/>
                    </a:lnTo>
                    <a:lnTo>
                      <a:pt x="266" y="68"/>
                    </a:lnTo>
                    <a:lnTo>
                      <a:pt x="373" y="45"/>
                    </a:lnTo>
                    <a:lnTo>
                      <a:pt x="492" y="25"/>
                    </a:lnTo>
                    <a:lnTo>
                      <a:pt x="623" y="11"/>
                    </a:lnTo>
                    <a:lnTo>
                      <a:pt x="765" y="2"/>
                    </a:lnTo>
                    <a:lnTo>
                      <a:pt x="915" y="0"/>
                    </a:lnTo>
                    <a:lnTo>
                      <a:pt x="1064" y="2"/>
                    </a:lnTo>
                    <a:lnTo>
                      <a:pt x="1205" y="11"/>
                    </a:lnTo>
                    <a:lnTo>
                      <a:pt x="1337" y="25"/>
                    </a:lnTo>
                    <a:lnTo>
                      <a:pt x="1457" y="45"/>
                    </a:lnTo>
                    <a:lnTo>
                      <a:pt x="1562" y="68"/>
                    </a:lnTo>
                    <a:lnTo>
                      <a:pt x="1653" y="95"/>
                    </a:lnTo>
                    <a:lnTo>
                      <a:pt x="1727" y="126"/>
                    </a:lnTo>
                    <a:lnTo>
                      <a:pt x="1781" y="158"/>
                    </a:lnTo>
                    <a:lnTo>
                      <a:pt x="1814" y="192"/>
                    </a:lnTo>
                    <a:lnTo>
                      <a:pt x="1827" y="228"/>
                    </a:lnTo>
                    <a:lnTo>
                      <a:pt x="1814" y="265"/>
                    </a:lnTo>
                    <a:lnTo>
                      <a:pt x="1781" y="299"/>
                    </a:lnTo>
                    <a:lnTo>
                      <a:pt x="1727" y="332"/>
                    </a:lnTo>
                    <a:lnTo>
                      <a:pt x="1653" y="360"/>
                    </a:lnTo>
                    <a:lnTo>
                      <a:pt x="1562" y="384"/>
                    </a:lnTo>
                    <a:lnTo>
                      <a:pt x="1457" y="405"/>
                    </a:lnTo>
                    <a:lnTo>
                      <a:pt x="1337" y="423"/>
                    </a:lnTo>
                    <a:lnTo>
                      <a:pt x="1205" y="436"/>
                    </a:lnTo>
                    <a:lnTo>
                      <a:pt x="1064" y="443"/>
                    </a:lnTo>
                    <a:lnTo>
                      <a:pt x="915" y="446"/>
                    </a:lnTo>
                    <a:lnTo>
                      <a:pt x="765" y="443"/>
                    </a:lnTo>
                    <a:lnTo>
                      <a:pt x="623" y="436"/>
                    </a:lnTo>
                    <a:lnTo>
                      <a:pt x="492" y="423"/>
                    </a:lnTo>
                    <a:lnTo>
                      <a:pt x="373" y="405"/>
                    </a:lnTo>
                    <a:lnTo>
                      <a:pt x="266" y="384"/>
                    </a:lnTo>
                    <a:lnTo>
                      <a:pt x="175" y="360"/>
                    </a:lnTo>
                    <a:lnTo>
                      <a:pt x="101" y="332"/>
                    </a:lnTo>
                    <a:lnTo>
                      <a:pt x="47" y="299"/>
                    </a:lnTo>
                    <a:lnTo>
                      <a:pt x="13" y="265"/>
                    </a:lnTo>
                    <a:lnTo>
                      <a:pt x="1" y="228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0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1"/>
              <p:cNvSpPr/>
              <p:nvPr/>
            </p:nvSpPr>
            <p:spPr>
              <a:xfrm>
                <a:off x="5058360" y="2221920"/>
                <a:ext cx="1844280" cy="25524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2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3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44"/>
              <p:cNvSpPr/>
              <p:nvPr/>
            </p:nvSpPr>
            <p:spPr>
              <a:xfrm>
                <a:off x="5126760" y="2346120"/>
                <a:ext cx="1711080" cy="9360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0" h="214">
                    <a:moveTo>
                      <a:pt x="0" y="0"/>
                    </a:moveTo>
                    <a:lnTo>
                      <a:pt x="12" y="35"/>
                    </a:lnTo>
                    <a:lnTo>
                      <a:pt x="47" y="69"/>
                    </a:lnTo>
                    <a:lnTo>
                      <a:pt x="101" y="100"/>
                    </a:lnTo>
                    <a:lnTo>
                      <a:pt x="174" y="128"/>
                    </a:lnTo>
                    <a:lnTo>
                      <a:pt x="265" y="152"/>
                    </a:lnTo>
                    <a:lnTo>
                      <a:pt x="370" y="173"/>
                    </a:lnTo>
                    <a:lnTo>
                      <a:pt x="489" y="191"/>
                    </a:lnTo>
                    <a:lnTo>
                      <a:pt x="620" y="204"/>
                    </a:lnTo>
                    <a:lnTo>
                      <a:pt x="761" y="211"/>
                    </a:lnTo>
                    <a:lnTo>
                      <a:pt x="911" y="214"/>
                    </a:lnTo>
                    <a:lnTo>
                      <a:pt x="1059" y="211"/>
                    </a:lnTo>
                    <a:lnTo>
                      <a:pt x="1201" y="204"/>
                    </a:lnTo>
                    <a:lnTo>
                      <a:pt x="1332" y="191"/>
                    </a:lnTo>
                    <a:lnTo>
                      <a:pt x="1451" y="173"/>
                    </a:lnTo>
                    <a:lnTo>
                      <a:pt x="1557" y="152"/>
                    </a:lnTo>
                    <a:lnTo>
                      <a:pt x="1647" y="128"/>
                    </a:lnTo>
                    <a:lnTo>
                      <a:pt x="1720" y="100"/>
                    </a:lnTo>
                    <a:lnTo>
                      <a:pt x="1775" y="69"/>
                    </a:lnTo>
                    <a:lnTo>
                      <a:pt x="1809" y="35"/>
                    </a:lnTo>
                    <a:lnTo>
                      <a:pt x="182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AutoShape 46"/>
            <p:cNvSpPr/>
            <p:nvPr/>
          </p:nvSpPr>
          <p:spPr>
            <a:xfrm flipH="1" rot="16200000">
              <a:off x="6341040" y="853200"/>
              <a:ext cx="473400" cy="2679840"/>
            </a:xfrm>
            <a:custGeom>
              <a:avLst/>
              <a:gdLst>
                <a:gd name="textAreaLeft" fmla="*/ 272160 w 473400"/>
                <a:gd name="textAreaRight" fmla="*/ 432000 w 473400"/>
                <a:gd name="textAreaTop" fmla="*/ 525240 h 2679840"/>
                <a:gd name="textAreaBottom" fmla="*/ 98316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9"/>
            <p:cNvSpPr/>
            <p:nvPr/>
          </p:nvSpPr>
          <p:spPr>
            <a:xfrm rot="5400000">
              <a:off x="5136480" y="848520"/>
              <a:ext cx="473040" cy="2688840"/>
            </a:xfrm>
            <a:custGeom>
              <a:avLst/>
              <a:gdLst>
                <a:gd name="textAreaLeft" fmla="*/ 272160 w 473040"/>
                <a:gd name="textAreaRight" fmla="*/ 432360 w 473040"/>
                <a:gd name="textAreaTop" fmla="*/ 527400 h 2688840"/>
                <a:gd name="textAreaBottom" fmla="*/ 985680 h 26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52"/>
            <p:cNvGrpSpPr/>
            <p:nvPr/>
          </p:nvGrpSpPr>
          <p:grpSpPr>
            <a:xfrm>
              <a:off x="4633920" y="3396960"/>
              <a:ext cx="2726640" cy="946440"/>
              <a:chOff x="4633920" y="3396960"/>
              <a:chExt cx="2726640" cy="946440"/>
            </a:xfrm>
          </p:grpSpPr>
          <p:sp>
            <p:nvSpPr>
              <p:cNvPr id="314" name="Freeform 53"/>
              <p:cNvSpPr/>
              <p:nvPr/>
            </p:nvSpPr>
            <p:spPr>
              <a:xfrm>
                <a:off x="4633920" y="3396960"/>
                <a:ext cx="2726640" cy="946440"/>
              </a:xfrm>
              <a:custGeom>
                <a:avLst/>
                <a:gdLst>
                  <a:gd name="textAreaLeft" fmla="*/ 0 w 2726640"/>
                  <a:gd name="textAreaRight" fmla="*/ 2727000 w 2726640"/>
                  <a:gd name="textAreaTop" fmla="*/ 0 h 946440"/>
                  <a:gd name="textAreaBottom" fmla="*/ 946800 h 946440"/>
                </a:gdLst>
                <a:ahLst/>
                <a:rect l="textAreaLeft" t="textAreaTop" r="textAreaRight" b="textAreaBottom"/>
                <a:pathLst>
                  <a:path w="1152" h="1150">
                    <a:moveTo>
                      <a:pt x="577" y="0"/>
                    </a:moveTo>
                    <a:lnTo>
                      <a:pt x="592" y="38"/>
                    </a:lnTo>
                    <a:lnTo>
                      <a:pt x="607" y="76"/>
                    </a:lnTo>
                    <a:lnTo>
                      <a:pt x="622" y="111"/>
                    </a:lnTo>
                    <a:lnTo>
                      <a:pt x="637" y="143"/>
                    </a:lnTo>
                    <a:lnTo>
                      <a:pt x="652" y="174"/>
                    </a:lnTo>
                    <a:lnTo>
                      <a:pt x="670" y="202"/>
                    </a:lnTo>
                    <a:lnTo>
                      <a:pt x="685" y="229"/>
                    </a:lnTo>
                    <a:lnTo>
                      <a:pt x="702" y="254"/>
                    </a:lnTo>
                    <a:lnTo>
                      <a:pt x="722" y="277"/>
                    </a:lnTo>
                    <a:lnTo>
                      <a:pt x="742" y="302"/>
                    </a:lnTo>
                    <a:lnTo>
                      <a:pt x="767" y="327"/>
                    </a:lnTo>
                    <a:lnTo>
                      <a:pt x="792" y="352"/>
                    </a:lnTo>
                    <a:lnTo>
                      <a:pt x="820" y="378"/>
                    </a:lnTo>
                    <a:lnTo>
                      <a:pt x="852" y="405"/>
                    </a:lnTo>
                    <a:lnTo>
                      <a:pt x="885" y="431"/>
                    </a:lnTo>
                    <a:lnTo>
                      <a:pt x="920" y="458"/>
                    </a:lnTo>
                    <a:lnTo>
                      <a:pt x="962" y="488"/>
                    </a:lnTo>
                    <a:lnTo>
                      <a:pt x="1007" y="523"/>
                    </a:lnTo>
                    <a:lnTo>
                      <a:pt x="1045" y="559"/>
                    </a:lnTo>
                    <a:lnTo>
                      <a:pt x="1077" y="594"/>
                    </a:lnTo>
                    <a:lnTo>
                      <a:pt x="1105" y="629"/>
                    </a:lnTo>
                    <a:lnTo>
                      <a:pt x="1125" y="665"/>
                    </a:lnTo>
                    <a:lnTo>
                      <a:pt x="1140" y="700"/>
                    </a:lnTo>
                    <a:lnTo>
                      <a:pt x="1150" y="735"/>
                    </a:lnTo>
                    <a:lnTo>
                      <a:pt x="1152" y="770"/>
                    </a:lnTo>
                    <a:lnTo>
                      <a:pt x="1150" y="808"/>
                    </a:lnTo>
                    <a:lnTo>
                      <a:pt x="1142" y="846"/>
                    </a:lnTo>
                    <a:lnTo>
                      <a:pt x="1127" y="881"/>
                    </a:lnTo>
                    <a:lnTo>
                      <a:pt x="1110" y="916"/>
                    </a:lnTo>
                    <a:lnTo>
                      <a:pt x="1085" y="949"/>
                    </a:lnTo>
                    <a:lnTo>
                      <a:pt x="1057" y="981"/>
                    </a:lnTo>
                    <a:lnTo>
                      <a:pt x="1022" y="1011"/>
                    </a:lnTo>
                    <a:lnTo>
                      <a:pt x="982" y="1039"/>
                    </a:lnTo>
                    <a:lnTo>
                      <a:pt x="960" y="1052"/>
                    </a:lnTo>
                    <a:lnTo>
                      <a:pt x="937" y="1065"/>
                    </a:lnTo>
                    <a:lnTo>
                      <a:pt x="915" y="1077"/>
                    </a:lnTo>
                    <a:lnTo>
                      <a:pt x="892" y="1087"/>
                    </a:lnTo>
                    <a:lnTo>
                      <a:pt x="870" y="1097"/>
                    </a:lnTo>
                    <a:lnTo>
                      <a:pt x="845" y="1107"/>
                    </a:lnTo>
                    <a:lnTo>
                      <a:pt x="820" y="1115"/>
                    </a:lnTo>
                    <a:lnTo>
                      <a:pt x="795" y="1122"/>
                    </a:lnTo>
                    <a:lnTo>
                      <a:pt x="770" y="1128"/>
                    </a:lnTo>
                    <a:lnTo>
                      <a:pt x="742" y="1135"/>
                    </a:lnTo>
                    <a:lnTo>
                      <a:pt x="717" y="1140"/>
                    </a:lnTo>
                    <a:lnTo>
                      <a:pt x="690" y="1143"/>
                    </a:lnTo>
                    <a:lnTo>
                      <a:pt x="662" y="1147"/>
                    </a:lnTo>
                    <a:lnTo>
                      <a:pt x="635" y="1148"/>
                    </a:lnTo>
                    <a:lnTo>
                      <a:pt x="607" y="1150"/>
                    </a:lnTo>
                    <a:lnTo>
                      <a:pt x="577" y="1150"/>
                    </a:lnTo>
                    <a:lnTo>
                      <a:pt x="547" y="1150"/>
                    </a:lnTo>
                    <a:lnTo>
                      <a:pt x="517" y="1148"/>
                    </a:lnTo>
                    <a:lnTo>
                      <a:pt x="490" y="1147"/>
                    </a:lnTo>
                    <a:lnTo>
                      <a:pt x="462" y="1143"/>
                    </a:lnTo>
                    <a:lnTo>
                      <a:pt x="435" y="1140"/>
                    </a:lnTo>
                    <a:lnTo>
                      <a:pt x="407" y="1135"/>
                    </a:lnTo>
                    <a:lnTo>
                      <a:pt x="382" y="1128"/>
                    </a:lnTo>
                    <a:lnTo>
                      <a:pt x="355" y="1122"/>
                    </a:lnTo>
                    <a:lnTo>
                      <a:pt x="330" y="1115"/>
                    </a:lnTo>
                    <a:lnTo>
                      <a:pt x="305" y="1107"/>
                    </a:lnTo>
                    <a:lnTo>
                      <a:pt x="282" y="1097"/>
                    </a:lnTo>
                    <a:lnTo>
                      <a:pt x="257" y="1087"/>
                    </a:lnTo>
                    <a:lnTo>
                      <a:pt x="235" y="1077"/>
                    </a:lnTo>
                    <a:lnTo>
                      <a:pt x="212" y="1065"/>
                    </a:lnTo>
                    <a:lnTo>
                      <a:pt x="192" y="1052"/>
                    </a:lnTo>
                    <a:lnTo>
                      <a:pt x="170" y="1039"/>
                    </a:lnTo>
                    <a:lnTo>
                      <a:pt x="130" y="1011"/>
                    </a:lnTo>
                    <a:lnTo>
                      <a:pt x="95" y="981"/>
                    </a:lnTo>
                    <a:lnTo>
                      <a:pt x="65" y="949"/>
                    </a:lnTo>
                    <a:lnTo>
                      <a:pt x="42" y="916"/>
                    </a:lnTo>
                    <a:lnTo>
                      <a:pt x="22" y="881"/>
                    </a:lnTo>
                    <a:lnTo>
                      <a:pt x="10" y="846"/>
                    </a:lnTo>
                    <a:lnTo>
                      <a:pt x="2" y="808"/>
                    </a:lnTo>
                    <a:lnTo>
                      <a:pt x="0" y="770"/>
                    </a:lnTo>
                    <a:lnTo>
                      <a:pt x="2" y="735"/>
                    </a:lnTo>
                    <a:lnTo>
                      <a:pt x="12" y="700"/>
                    </a:lnTo>
                    <a:lnTo>
                      <a:pt x="27" y="665"/>
                    </a:lnTo>
                    <a:lnTo>
                      <a:pt x="47" y="629"/>
                    </a:lnTo>
                    <a:lnTo>
                      <a:pt x="75" y="594"/>
                    </a:lnTo>
                    <a:lnTo>
                      <a:pt x="107" y="559"/>
                    </a:lnTo>
                    <a:lnTo>
                      <a:pt x="145" y="523"/>
                    </a:lnTo>
                    <a:lnTo>
                      <a:pt x="190" y="488"/>
                    </a:lnTo>
                    <a:lnTo>
                      <a:pt x="232" y="458"/>
                    </a:lnTo>
                    <a:lnTo>
                      <a:pt x="267" y="431"/>
                    </a:lnTo>
                    <a:lnTo>
                      <a:pt x="300" y="405"/>
                    </a:lnTo>
                    <a:lnTo>
                      <a:pt x="332" y="378"/>
                    </a:lnTo>
                    <a:lnTo>
                      <a:pt x="360" y="352"/>
                    </a:lnTo>
                    <a:lnTo>
                      <a:pt x="385" y="327"/>
                    </a:lnTo>
                    <a:lnTo>
                      <a:pt x="410" y="302"/>
                    </a:lnTo>
                    <a:lnTo>
                      <a:pt x="430" y="277"/>
                    </a:lnTo>
                    <a:lnTo>
                      <a:pt x="450" y="254"/>
                    </a:lnTo>
                    <a:lnTo>
                      <a:pt x="467" y="229"/>
                    </a:lnTo>
                    <a:lnTo>
                      <a:pt x="485" y="202"/>
                    </a:lnTo>
                    <a:lnTo>
                      <a:pt x="502" y="174"/>
                    </a:lnTo>
                    <a:lnTo>
                      <a:pt x="517" y="143"/>
                    </a:lnTo>
                    <a:lnTo>
                      <a:pt x="532" y="111"/>
                    </a:lnTo>
                    <a:lnTo>
                      <a:pt x="547" y="76"/>
                    </a:lnTo>
                    <a:lnTo>
                      <a:pt x="562" y="38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4"/>
              <p:cNvSpPr/>
              <p:nvPr/>
            </p:nvSpPr>
            <p:spPr>
              <a:xfrm>
                <a:off x="4932000" y="3671640"/>
                <a:ext cx="226044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48 Load Pro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57"/>
            <p:cNvGrpSpPr/>
            <p:nvPr/>
          </p:nvGrpSpPr>
          <p:grpSpPr>
            <a:xfrm>
              <a:off x="6957720" y="1600200"/>
              <a:ext cx="1424160" cy="767880"/>
              <a:chOff x="6957720" y="1600200"/>
              <a:chExt cx="1424160" cy="767880"/>
            </a:xfrm>
          </p:grpSpPr>
          <p:sp>
            <p:nvSpPr>
              <p:cNvPr id="317" name="Oval 58"/>
              <p:cNvSpPr/>
              <p:nvPr/>
            </p:nvSpPr>
            <p:spPr>
              <a:xfrm>
                <a:off x="6957720" y="1600200"/>
                <a:ext cx="1424160" cy="767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16"/>
              <p:cNvSpPr/>
              <p:nvPr/>
            </p:nvSpPr>
            <p:spPr>
              <a:xfrm>
                <a:off x="7056360" y="170964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 Weather Z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60"/>
            <p:cNvGrpSpPr/>
            <p:nvPr/>
          </p:nvGrpSpPr>
          <p:grpSpPr>
            <a:xfrm>
              <a:off x="3581280" y="1600200"/>
              <a:ext cx="1424160" cy="767880"/>
              <a:chOff x="3581280" y="1600200"/>
              <a:chExt cx="1424160" cy="767880"/>
            </a:xfrm>
          </p:grpSpPr>
          <p:sp>
            <p:nvSpPr>
              <p:cNvPr id="320" name="Oval 61"/>
              <p:cNvSpPr/>
              <p:nvPr/>
            </p:nvSpPr>
            <p:spPr>
              <a:xfrm>
                <a:off x="3581280" y="1600200"/>
                <a:ext cx="1424160" cy="767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14"/>
              <p:cNvSpPr/>
              <p:nvPr/>
            </p:nvSpPr>
            <p:spPr>
              <a:xfrm>
                <a:off x="3679560" y="170964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 Profile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C977-5643-4984-BD6C-FDA7AE70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2120" y="1447920"/>
            <a:ext cx="72388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1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 as C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irec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Echols as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24D-74A8-4810-BC62-6443A7BA2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914400" y="1447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11 Goal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228600" y="2214720"/>
            <a:ext cx="86583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FCBE-9732-4A3C-AF16-1EC346AB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G 2010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08 Registration and Settlement of Distributed Generation (DG) Less Than One M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6 Delete Document Control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7 Replace Wording Truncated from LPGRR0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8 Revisions for Texas Nodal Market Implementation and Synchronization with PRR821, Update of Section 21, Process for Protocol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9 Revisions for Texas Nodal Market Implementation Part Tw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40 Administrative Changes for October 1, 2010 Load Profiling Gu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41 Distributed Generation (DG)  to Sync with NPRR208 Language Effective on Nodal Go-L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Validation of Profile ID Assignments fo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UFE Analysis fo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STD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positive sinc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2 Load Research Sample Collections and Evaluation resulting in no Load Profile refresh due to AMS implementation and Nodal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FE Allocation Evaluation resulting in no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013-E643-4087-99B5-DF8D6FF03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NPRR / PR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80880" y="129528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2 Updating of Weather Sensitivity Assignment, Suspension of Annual Validation for Advanced Meters, Addition of Load Research Sampling Documents, and Removal of Unused TOUS Codes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the COPS agenda in February for normal v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3 - Synchronization with NPRR291, Reduce the Comment Period for NPRRs and SCRs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ll be reviewed at the PWG February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4 - Addition of Distributed Generation (DG) Load Profiles;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led on Monday January 31, 2011 as Urgent and on the COPS agenda in Febru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2FA6-B645-48A3-9B0F-F81C8C9B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ing of Weather Sensitivity Assignment, Suspension of Annual Validation for Advanced Meters, Addition of Load Research Sampling Documents, and Removal of Unused TOU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he version of the Profile Decision Tree immediately prior to this one had 2678 valid Profile IDs.  This version includes 210 new Profile IDs removes 1344 Profile IDs for a net decrease of 1134 Profile IDs.  The result is a total of 1544 valid Profile 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PS recommend to the TAC approval with Norm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mktrules/issues/lpgrr/025-049/042/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4224-9CCA-43F0-BA8D-EE8FA8B0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 of Distributed Generation (DG) Load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1"/>
          <a:stretch/>
        </p:blipFill>
        <p:spPr>
          <a:xfrm>
            <a:off x="152280" y="2268360"/>
            <a:ext cx="4205520" cy="245592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63"/>
          <p:cNvGrpSpPr/>
          <p:nvPr/>
        </p:nvGrpSpPr>
        <p:grpSpPr>
          <a:xfrm>
            <a:off x="4114800" y="3352680"/>
            <a:ext cx="4800600" cy="2743200"/>
            <a:chOff x="4114800" y="3352680"/>
            <a:chExt cx="4800600" cy="2743200"/>
          </a:xfrm>
        </p:grpSpPr>
        <p:grpSp>
          <p:nvGrpSpPr>
            <p:cNvPr id="203" name="Group 3"/>
            <p:cNvGrpSpPr/>
            <p:nvPr/>
          </p:nvGrpSpPr>
          <p:grpSpPr>
            <a:xfrm>
              <a:off x="5591880" y="3974400"/>
              <a:ext cx="1844280" cy="1216080"/>
              <a:chOff x="5591880" y="3974400"/>
              <a:chExt cx="1844280" cy="1216080"/>
            </a:xfrm>
          </p:grpSpPr>
          <p:sp>
            <p:nvSpPr>
              <p:cNvPr id="204" name="Freeform 4"/>
              <p:cNvSpPr/>
              <p:nvPr/>
            </p:nvSpPr>
            <p:spPr>
              <a:xfrm>
                <a:off x="5621760" y="4134960"/>
                <a:ext cx="1783440" cy="69120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4" y="15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"/>
              <p:cNvSpPr/>
              <p:nvPr/>
            </p:nvSpPr>
            <p:spPr>
              <a:xfrm>
                <a:off x="5621760" y="4134960"/>
                <a:ext cx="1783440" cy="69120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"/>
              <p:cNvSpPr/>
              <p:nvPr/>
            </p:nvSpPr>
            <p:spPr>
              <a:xfrm>
                <a:off x="5660280" y="399888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7"/>
              <p:cNvSpPr/>
              <p:nvPr/>
            </p:nvSpPr>
            <p:spPr>
              <a:xfrm>
                <a:off x="6464880" y="5127480"/>
                <a:ext cx="101160" cy="63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8"/>
              <p:cNvSpPr/>
              <p:nvPr/>
            </p:nvSpPr>
            <p:spPr>
              <a:xfrm>
                <a:off x="6464880" y="5127480"/>
                <a:ext cx="101160" cy="63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9"/>
              <p:cNvSpPr/>
              <p:nvPr/>
            </p:nvSpPr>
            <p:spPr>
              <a:xfrm>
                <a:off x="6482160" y="5137920"/>
                <a:ext cx="69480" cy="42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0"/>
              <p:cNvSpPr/>
              <p:nvPr/>
            </p:nvSpPr>
            <p:spPr>
              <a:xfrm>
                <a:off x="6482160" y="5137920"/>
                <a:ext cx="69480" cy="42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1"/>
              <p:cNvSpPr/>
              <p:nvPr/>
            </p:nvSpPr>
            <p:spPr>
              <a:xfrm>
                <a:off x="6464880" y="4820400"/>
                <a:ext cx="101160" cy="362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0" y="82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2"/>
              <p:cNvSpPr/>
              <p:nvPr/>
            </p:nvSpPr>
            <p:spPr>
              <a:xfrm>
                <a:off x="6464880" y="4820400"/>
                <a:ext cx="101160" cy="362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"/>
              <p:cNvSpPr/>
              <p:nvPr/>
            </p:nvSpPr>
            <p:spPr>
              <a:xfrm>
                <a:off x="6482880" y="5137920"/>
                <a:ext cx="68400" cy="42840"/>
              </a:xfrm>
              <a:custGeom>
                <a:avLst/>
                <a:gdLst>
                  <a:gd name="textAreaLeft" fmla="*/ 0 w 68400"/>
                  <a:gd name="textAreaRight" fmla="*/ 68400 w 68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3" h="97">
                    <a:moveTo>
                      <a:pt x="34" y="72"/>
                    </a:moveTo>
                    <a:lnTo>
                      <a:pt x="40" y="67"/>
                    </a:lnTo>
                    <a:lnTo>
                      <a:pt x="46" y="61"/>
                    </a:lnTo>
                    <a:lnTo>
                      <a:pt x="51" y="54"/>
                    </a:lnTo>
                    <a:lnTo>
                      <a:pt x="56" y="45"/>
                    </a:lnTo>
                    <a:lnTo>
                      <a:pt x="61" y="38"/>
                    </a:lnTo>
                    <a:lnTo>
                      <a:pt x="65" y="31"/>
                    </a:lnTo>
                    <a:lnTo>
                      <a:pt x="67" y="24"/>
                    </a:lnTo>
                    <a:lnTo>
                      <a:pt x="70" y="18"/>
                    </a:lnTo>
                    <a:lnTo>
                      <a:pt x="71" y="11"/>
                    </a:lnTo>
                    <a:lnTo>
                      <a:pt x="73" y="7"/>
                    </a:lnTo>
                    <a:lnTo>
                      <a:pt x="71" y="4"/>
                    </a:lnTo>
                    <a:lnTo>
                      <a:pt x="70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6" y="6"/>
                    </a:lnTo>
                    <a:lnTo>
                      <a:pt x="51" y="9"/>
                    </a:lnTo>
                    <a:lnTo>
                      <a:pt x="46" y="13"/>
                    </a:lnTo>
                    <a:lnTo>
                      <a:pt x="41" y="18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3" y="38"/>
                    </a:lnTo>
                    <a:lnTo>
                      <a:pt x="18" y="45"/>
                    </a:lnTo>
                    <a:lnTo>
                      <a:pt x="14" y="52"/>
                    </a:lnTo>
                    <a:lnTo>
                      <a:pt x="10" y="59"/>
                    </a:lnTo>
                    <a:lnTo>
                      <a:pt x="7" y="67"/>
                    </a:lnTo>
                    <a:lnTo>
                      <a:pt x="4" y="74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4" y="97"/>
                    </a:lnTo>
                    <a:lnTo>
                      <a:pt x="7" y="97"/>
                    </a:lnTo>
                    <a:lnTo>
                      <a:pt x="10" y="95"/>
                    </a:lnTo>
                    <a:lnTo>
                      <a:pt x="14" y="92"/>
                    </a:lnTo>
                    <a:lnTo>
                      <a:pt x="19" y="88"/>
                    </a:lnTo>
                    <a:lnTo>
                      <a:pt x="23" y="84"/>
                    </a:lnTo>
                    <a:lnTo>
                      <a:pt x="29" y="79"/>
                    </a:lnTo>
                    <a:lnTo>
                      <a:pt x="34" y="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>
                <a:off x="5591880" y="3974400"/>
                <a:ext cx="1844280" cy="25524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>
                <a:off x="5594400" y="3975120"/>
                <a:ext cx="1837800" cy="25272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1955" h="579">
                    <a:moveTo>
                      <a:pt x="0" y="280"/>
                    </a:moveTo>
                    <a:lnTo>
                      <a:pt x="14" y="235"/>
                    </a:lnTo>
                    <a:lnTo>
                      <a:pt x="51" y="190"/>
                    </a:lnTo>
                    <a:lnTo>
                      <a:pt x="109" y="151"/>
                    </a:lnTo>
                    <a:lnTo>
                      <a:pt x="189" y="113"/>
                    </a:lnTo>
                    <a:lnTo>
                      <a:pt x="287" y="81"/>
                    </a:lnTo>
                    <a:lnTo>
                      <a:pt x="400" y="52"/>
                    </a:lnTo>
                    <a:lnTo>
                      <a:pt x="529" y="31"/>
                    </a:lnTo>
                    <a:lnTo>
                      <a:pt x="670" y="13"/>
                    </a:lnTo>
                    <a:lnTo>
                      <a:pt x="821" y="4"/>
                    </a:lnTo>
                    <a:lnTo>
                      <a:pt x="981" y="0"/>
                    </a:lnTo>
                    <a:lnTo>
                      <a:pt x="1141" y="4"/>
                    </a:lnTo>
                    <a:lnTo>
                      <a:pt x="1292" y="13"/>
                    </a:lnTo>
                    <a:lnTo>
                      <a:pt x="1431" y="31"/>
                    </a:lnTo>
                    <a:lnTo>
                      <a:pt x="1559" y="52"/>
                    </a:lnTo>
                    <a:lnTo>
                      <a:pt x="1672" y="81"/>
                    </a:lnTo>
                    <a:lnTo>
                      <a:pt x="1770" y="113"/>
                    </a:lnTo>
                    <a:lnTo>
                      <a:pt x="1849" y="151"/>
                    </a:lnTo>
                    <a:lnTo>
                      <a:pt x="1907" y="190"/>
                    </a:lnTo>
                    <a:lnTo>
                      <a:pt x="1942" y="235"/>
                    </a:lnTo>
                    <a:lnTo>
                      <a:pt x="1955" y="280"/>
                    </a:lnTo>
                    <a:lnTo>
                      <a:pt x="1942" y="335"/>
                    </a:lnTo>
                    <a:lnTo>
                      <a:pt x="1907" y="385"/>
                    </a:lnTo>
                    <a:lnTo>
                      <a:pt x="1849" y="430"/>
                    </a:lnTo>
                    <a:lnTo>
                      <a:pt x="1770" y="468"/>
                    </a:lnTo>
                    <a:lnTo>
                      <a:pt x="1672" y="502"/>
                    </a:lnTo>
                    <a:lnTo>
                      <a:pt x="1559" y="529"/>
                    </a:lnTo>
                    <a:lnTo>
                      <a:pt x="1431" y="550"/>
                    </a:lnTo>
                    <a:lnTo>
                      <a:pt x="1292" y="566"/>
                    </a:lnTo>
                    <a:lnTo>
                      <a:pt x="1141" y="575"/>
                    </a:lnTo>
                    <a:lnTo>
                      <a:pt x="981" y="579"/>
                    </a:lnTo>
                    <a:lnTo>
                      <a:pt x="821" y="575"/>
                    </a:lnTo>
                    <a:lnTo>
                      <a:pt x="670" y="566"/>
                    </a:lnTo>
                    <a:lnTo>
                      <a:pt x="529" y="550"/>
                    </a:lnTo>
                    <a:lnTo>
                      <a:pt x="400" y="529"/>
                    </a:lnTo>
                    <a:lnTo>
                      <a:pt x="287" y="502"/>
                    </a:lnTo>
                    <a:lnTo>
                      <a:pt x="189" y="468"/>
                    </a:lnTo>
                    <a:lnTo>
                      <a:pt x="109" y="430"/>
                    </a:lnTo>
                    <a:lnTo>
                      <a:pt x="51" y="385"/>
                    </a:lnTo>
                    <a:lnTo>
                      <a:pt x="14" y="335"/>
                    </a:lnTo>
                    <a:lnTo>
                      <a:pt x="1" y="280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6"/>
              <p:cNvSpPr/>
              <p:nvPr/>
            </p:nvSpPr>
            <p:spPr>
              <a:xfrm>
                <a:off x="5596560" y="3975120"/>
                <a:ext cx="1833840" cy="250920"/>
              </a:xfrm>
              <a:custGeom>
                <a:avLst/>
                <a:gdLst>
                  <a:gd name="textAreaLeft" fmla="*/ 0 w 1833840"/>
                  <a:gd name="textAreaRight" fmla="*/ 1834200 w 183384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1951" h="573">
                    <a:moveTo>
                      <a:pt x="0" y="280"/>
                    </a:moveTo>
                    <a:lnTo>
                      <a:pt x="13" y="233"/>
                    </a:lnTo>
                    <a:lnTo>
                      <a:pt x="50" y="190"/>
                    </a:lnTo>
                    <a:lnTo>
                      <a:pt x="110" y="151"/>
                    </a:lnTo>
                    <a:lnTo>
                      <a:pt x="188" y="113"/>
                    </a:lnTo>
                    <a:lnTo>
                      <a:pt x="286" y="81"/>
                    </a:lnTo>
                    <a:lnTo>
                      <a:pt x="399" y="54"/>
                    </a:lnTo>
                    <a:lnTo>
                      <a:pt x="527" y="33"/>
                    </a:lnTo>
                    <a:lnTo>
                      <a:pt x="668" y="15"/>
                    </a:lnTo>
                    <a:lnTo>
                      <a:pt x="819" y="4"/>
                    </a:lnTo>
                    <a:lnTo>
                      <a:pt x="979" y="0"/>
                    </a:lnTo>
                    <a:lnTo>
                      <a:pt x="1139" y="4"/>
                    </a:lnTo>
                    <a:lnTo>
                      <a:pt x="1288" y="15"/>
                    </a:lnTo>
                    <a:lnTo>
                      <a:pt x="1428" y="33"/>
                    </a:lnTo>
                    <a:lnTo>
                      <a:pt x="1556" y="54"/>
                    </a:lnTo>
                    <a:lnTo>
                      <a:pt x="1669" y="81"/>
                    </a:lnTo>
                    <a:lnTo>
                      <a:pt x="1765" y="113"/>
                    </a:lnTo>
                    <a:lnTo>
                      <a:pt x="1843" y="151"/>
                    </a:lnTo>
                    <a:lnTo>
                      <a:pt x="1901" y="190"/>
                    </a:lnTo>
                    <a:lnTo>
                      <a:pt x="1938" y="233"/>
                    </a:lnTo>
                    <a:lnTo>
                      <a:pt x="1951" y="280"/>
                    </a:lnTo>
                    <a:lnTo>
                      <a:pt x="1938" y="333"/>
                    </a:lnTo>
                    <a:lnTo>
                      <a:pt x="1901" y="384"/>
                    </a:lnTo>
                    <a:lnTo>
                      <a:pt x="1843" y="427"/>
                    </a:lnTo>
                    <a:lnTo>
                      <a:pt x="1765" y="466"/>
                    </a:lnTo>
                    <a:lnTo>
                      <a:pt x="1669" y="498"/>
                    </a:lnTo>
                    <a:lnTo>
                      <a:pt x="1556" y="525"/>
                    </a:lnTo>
                    <a:lnTo>
                      <a:pt x="1428" y="547"/>
                    </a:lnTo>
                    <a:lnTo>
                      <a:pt x="1288" y="561"/>
                    </a:lnTo>
                    <a:lnTo>
                      <a:pt x="1139" y="572"/>
                    </a:lnTo>
                    <a:lnTo>
                      <a:pt x="979" y="573"/>
                    </a:lnTo>
                    <a:lnTo>
                      <a:pt x="819" y="572"/>
                    </a:lnTo>
                    <a:lnTo>
                      <a:pt x="668" y="561"/>
                    </a:lnTo>
                    <a:lnTo>
                      <a:pt x="527" y="547"/>
                    </a:lnTo>
                    <a:lnTo>
                      <a:pt x="399" y="525"/>
                    </a:lnTo>
                    <a:lnTo>
                      <a:pt x="286" y="498"/>
                    </a:lnTo>
                    <a:lnTo>
                      <a:pt x="188" y="466"/>
                    </a:lnTo>
                    <a:lnTo>
                      <a:pt x="110" y="427"/>
                    </a:lnTo>
                    <a:lnTo>
                      <a:pt x="50" y="384"/>
                    </a:lnTo>
                    <a:lnTo>
                      <a:pt x="13" y="333"/>
                    </a:lnTo>
                    <a:lnTo>
                      <a:pt x="0" y="280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5599080" y="3975840"/>
                <a:ext cx="1827360" cy="2484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944" h="568">
                    <a:moveTo>
                      <a:pt x="0" y="276"/>
                    </a:moveTo>
                    <a:lnTo>
                      <a:pt x="13" y="231"/>
                    </a:lnTo>
                    <a:lnTo>
                      <a:pt x="50" y="188"/>
                    </a:lnTo>
                    <a:lnTo>
                      <a:pt x="108" y="149"/>
                    </a:lnTo>
                    <a:lnTo>
                      <a:pt x="188" y="113"/>
                    </a:lnTo>
                    <a:lnTo>
                      <a:pt x="284" y="81"/>
                    </a:lnTo>
                    <a:lnTo>
                      <a:pt x="397" y="54"/>
                    </a:lnTo>
                    <a:lnTo>
                      <a:pt x="525" y="31"/>
                    </a:lnTo>
                    <a:lnTo>
                      <a:pt x="666" y="14"/>
                    </a:lnTo>
                    <a:lnTo>
                      <a:pt x="816" y="4"/>
                    </a:lnTo>
                    <a:lnTo>
                      <a:pt x="976" y="0"/>
                    </a:lnTo>
                    <a:lnTo>
                      <a:pt x="1134" y="4"/>
                    </a:lnTo>
                    <a:lnTo>
                      <a:pt x="1285" y="14"/>
                    </a:lnTo>
                    <a:lnTo>
                      <a:pt x="1424" y="31"/>
                    </a:lnTo>
                    <a:lnTo>
                      <a:pt x="1550" y="54"/>
                    </a:lnTo>
                    <a:lnTo>
                      <a:pt x="1663" y="81"/>
                    </a:lnTo>
                    <a:lnTo>
                      <a:pt x="1760" y="113"/>
                    </a:lnTo>
                    <a:lnTo>
                      <a:pt x="1837" y="149"/>
                    </a:lnTo>
                    <a:lnTo>
                      <a:pt x="1896" y="188"/>
                    </a:lnTo>
                    <a:lnTo>
                      <a:pt x="1931" y="231"/>
                    </a:lnTo>
                    <a:lnTo>
                      <a:pt x="1944" y="278"/>
                    </a:lnTo>
                    <a:lnTo>
                      <a:pt x="1931" y="331"/>
                    </a:lnTo>
                    <a:lnTo>
                      <a:pt x="1896" y="380"/>
                    </a:lnTo>
                    <a:lnTo>
                      <a:pt x="1837" y="423"/>
                    </a:lnTo>
                    <a:lnTo>
                      <a:pt x="1760" y="460"/>
                    </a:lnTo>
                    <a:lnTo>
                      <a:pt x="1663" y="493"/>
                    </a:lnTo>
                    <a:lnTo>
                      <a:pt x="1550" y="520"/>
                    </a:lnTo>
                    <a:lnTo>
                      <a:pt x="1424" y="541"/>
                    </a:lnTo>
                    <a:lnTo>
                      <a:pt x="1285" y="555"/>
                    </a:lnTo>
                    <a:lnTo>
                      <a:pt x="1134" y="564"/>
                    </a:lnTo>
                    <a:lnTo>
                      <a:pt x="976" y="568"/>
                    </a:lnTo>
                    <a:lnTo>
                      <a:pt x="816" y="564"/>
                    </a:lnTo>
                    <a:lnTo>
                      <a:pt x="666" y="555"/>
                    </a:lnTo>
                    <a:lnTo>
                      <a:pt x="525" y="541"/>
                    </a:lnTo>
                    <a:lnTo>
                      <a:pt x="397" y="520"/>
                    </a:lnTo>
                    <a:lnTo>
                      <a:pt x="284" y="493"/>
                    </a:lnTo>
                    <a:lnTo>
                      <a:pt x="188" y="460"/>
                    </a:lnTo>
                    <a:lnTo>
                      <a:pt x="108" y="423"/>
                    </a:lnTo>
                    <a:lnTo>
                      <a:pt x="50" y="380"/>
                    </a:lnTo>
                    <a:lnTo>
                      <a:pt x="13" y="331"/>
                    </a:lnTo>
                    <a:lnTo>
                      <a:pt x="0" y="278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"/>
              <p:cNvSpPr/>
              <p:nvPr/>
            </p:nvSpPr>
            <p:spPr>
              <a:xfrm>
                <a:off x="5601960" y="3976920"/>
                <a:ext cx="1820880" cy="244800"/>
              </a:xfrm>
              <a:custGeom>
                <a:avLst/>
                <a:gdLst>
                  <a:gd name="textAreaLeft" fmla="*/ 0 w 1820880"/>
                  <a:gd name="textAreaRight" fmla="*/ 1821240 w 18208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937" h="561">
                    <a:moveTo>
                      <a:pt x="0" y="274"/>
                    </a:moveTo>
                    <a:lnTo>
                      <a:pt x="12" y="229"/>
                    </a:lnTo>
                    <a:lnTo>
                      <a:pt x="49" y="186"/>
                    </a:lnTo>
                    <a:lnTo>
                      <a:pt x="107" y="147"/>
                    </a:lnTo>
                    <a:lnTo>
                      <a:pt x="186" y="111"/>
                    </a:lnTo>
                    <a:lnTo>
                      <a:pt x="283" y="81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4" y="3"/>
                    </a:lnTo>
                    <a:lnTo>
                      <a:pt x="973" y="0"/>
                    </a:lnTo>
                    <a:lnTo>
                      <a:pt x="1131" y="3"/>
                    </a:lnTo>
                    <a:lnTo>
                      <a:pt x="1281" y="14"/>
                    </a:lnTo>
                    <a:lnTo>
                      <a:pt x="1419" y="30"/>
                    </a:lnTo>
                    <a:lnTo>
                      <a:pt x="1546" y="52"/>
                    </a:lnTo>
                    <a:lnTo>
                      <a:pt x="1658" y="81"/>
                    </a:lnTo>
                    <a:lnTo>
                      <a:pt x="1754" y="111"/>
                    </a:lnTo>
                    <a:lnTo>
                      <a:pt x="1832" y="147"/>
                    </a:lnTo>
                    <a:lnTo>
                      <a:pt x="1889" y="186"/>
                    </a:lnTo>
                    <a:lnTo>
                      <a:pt x="1926" y="229"/>
                    </a:lnTo>
                    <a:lnTo>
                      <a:pt x="1937" y="274"/>
                    </a:lnTo>
                    <a:lnTo>
                      <a:pt x="1926" y="328"/>
                    </a:lnTo>
                    <a:lnTo>
                      <a:pt x="1889" y="376"/>
                    </a:lnTo>
                    <a:lnTo>
                      <a:pt x="1832" y="419"/>
                    </a:lnTo>
                    <a:lnTo>
                      <a:pt x="1754" y="455"/>
                    </a:lnTo>
                    <a:lnTo>
                      <a:pt x="1658" y="487"/>
                    </a:lnTo>
                    <a:lnTo>
                      <a:pt x="1546" y="514"/>
                    </a:lnTo>
                    <a:lnTo>
                      <a:pt x="1419" y="534"/>
                    </a:lnTo>
                    <a:lnTo>
                      <a:pt x="1281" y="550"/>
                    </a:lnTo>
                    <a:lnTo>
                      <a:pt x="1131" y="559"/>
                    </a:lnTo>
                    <a:lnTo>
                      <a:pt x="973" y="561"/>
                    </a:lnTo>
                    <a:lnTo>
                      <a:pt x="814" y="559"/>
                    </a:lnTo>
                    <a:lnTo>
                      <a:pt x="663" y="550"/>
                    </a:lnTo>
                    <a:lnTo>
                      <a:pt x="524" y="534"/>
                    </a:lnTo>
                    <a:lnTo>
                      <a:pt x="397" y="514"/>
                    </a:lnTo>
                    <a:lnTo>
                      <a:pt x="283" y="487"/>
                    </a:lnTo>
                    <a:lnTo>
                      <a:pt x="186" y="455"/>
                    </a:lnTo>
                    <a:lnTo>
                      <a:pt x="107" y="419"/>
                    </a:lnTo>
                    <a:lnTo>
                      <a:pt x="49" y="376"/>
                    </a:lnTo>
                    <a:lnTo>
                      <a:pt x="12" y="328"/>
                    </a:lnTo>
                    <a:lnTo>
                      <a:pt x="0" y="274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9"/>
              <p:cNvSpPr/>
              <p:nvPr/>
            </p:nvSpPr>
            <p:spPr>
              <a:xfrm>
                <a:off x="5602680" y="3977640"/>
                <a:ext cx="1817280" cy="241920"/>
              </a:xfrm>
              <a:custGeom>
                <a:avLst/>
                <a:gdLst>
                  <a:gd name="textAreaLeft" fmla="*/ 0 w 1817280"/>
                  <a:gd name="textAreaRight" fmla="*/ 1817640 w 18172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933" h="555">
                    <a:moveTo>
                      <a:pt x="0" y="270"/>
                    </a:moveTo>
                    <a:lnTo>
                      <a:pt x="14" y="227"/>
                    </a:lnTo>
                    <a:lnTo>
                      <a:pt x="49" y="184"/>
                    </a:lnTo>
                    <a:lnTo>
                      <a:pt x="108" y="147"/>
                    </a:lnTo>
                    <a:lnTo>
                      <a:pt x="186" y="111"/>
                    </a:lnTo>
                    <a:lnTo>
                      <a:pt x="284" y="79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3" y="3"/>
                    </a:lnTo>
                    <a:lnTo>
                      <a:pt x="972" y="0"/>
                    </a:lnTo>
                    <a:lnTo>
                      <a:pt x="1130" y="3"/>
                    </a:lnTo>
                    <a:lnTo>
                      <a:pt x="1279" y="14"/>
                    </a:lnTo>
                    <a:lnTo>
                      <a:pt x="1417" y="30"/>
                    </a:lnTo>
                    <a:lnTo>
                      <a:pt x="1544" y="52"/>
                    </a:lnTo>
                    <a:lnTo>
                      <a:pt x="1654" y="79"/>
                    </a:lnTo>
                    <a:lnTo>
                      <a:pt x="1751" y="111"/>
                    </a:lnTo>
                    <a:lnTo>
                      <a:pt x="1827" y="147"/>
                    </a:lnTo>
                    <a:lnTo>
                      <a:pt x="1885" y="184"/>
                    </a:lnTo>
                    <a:lnTo>
                      <a:pt x="1921" y="227"/>
                    </a:lnTo>
                    <a:lnTo>
                      <a:pt x="1933" y="272"/>
                    </a:lnTo>
                    <a:lnTo>
                      <a:pt x="1921" y="324"/>
                    </a:lnTo>
                    <a:lnTo>
                      <a:pt x="1885" y="372"/>
                    </a:lnTo>
                    <a:lnTo>
                      <a:pt x="1827" y="413"/>
                    </a:lnTo>
                    <a:lnTo>
                      <a:pt x="1751" y="451"/>
                    </a:lnTo>
                    <a:lnTo>
                      <a:pt x="1654" y="482"/>
                    </a:lnTo>
                    <a:lnTo>
                      <a:pt x="1544" y="508"/>
                    </a:lnTo>
                    <a:lnTo>
                      <a:pt x="1417" y="528"/>
                    </a:lnTo>
                    <a:lnTo>
                      <a:pt x="1279" y="542"/>
                    </a:lnTo>
                    <a:lnTo>
                      <a:pt x="1130" y="551"/>
                    </a:lnTo>
                    <a:lnTo>
                      <a:pt x="972" y="555"/>
                    </a:lnTo>
                    <a:lnTo>
                      <a:pt x="813" y="551"/>
                    </a:lnTo>
                    <a:lnTo>
                      <a:pt x="663" y="542"/>
                    </a:lnTo>
                    <a:lnTo>
                      <a:pt x="524" y="528"/>
                    </a:lnTo>
                    <a:lnTo>
                      <a:pt x="397" y="508"/>
                    </a:lnTo>
                    <a:lnTo>
                      <a:pt x="284" y="482"/>
                    </a:lnTo>
                    <a:lnTo>
                      <a:pt x="186" y="451"/>
                    </a:lnTo>
                    <a:lnTo>
                      <a:pt x="108" y="413"/>
                    </a:lnTo>
                    <a:lnTo>
                      <a:pt x="49" y="372"/>
                    </a:lnTo>
                    <a:lnTo>
                      <a:pt x="14" y="324"/>
                    </a:lnTo>
                    <a:lnTo>
                      <a:pt x="1" y="272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0"/>
              <p:cNvSpPr/>
              <p:nvPr/>
            </p:nvSpPr>
            <p:spPr>
              <a:xfrm>
                <a:off x="5604840" y="3978720"/>
                <a:ext cx="1812600" cy="23940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928" h="549">
                    <a:moveTo>
                      <a:pt x="0" y="269"/>
                    </a:moveTo>
                    <a:lnTo>
                      <a:pt x="13" y="226"/>
                    </a:lnTo>
                    <a:lnTo>
                      <a:pt x="50" y="183"/>
                    </a:lnTo>
                    <a:lnTo>
                      <a:pt x="108" y="146"/>
                    </a:lnTo>
                    <a:lnTo>
                      <a:pt x="187" y="110"/>
                    </a:lnTo>
                    <a:lnTo>
                      <a:pt x="283" y="79"/>
                    </a:lnTo>
                    <a:lnTo>
                      <a:pt x="396" y="52"/>
                    </a:lnTo>
                    <a:lnTo>
                      <a:pt x="523" y="31"/>
                    </a:lnTo>
                    <a:lnTo>
                      <a:pt x="661" y="15"/>
                    </a:lnTo>
                    <a:lnTo>
                      <a:pt x="811" y="4"/>
                    </a:lnTo>
                    <a:lnTo>
                      <a:pt x="970" y="0"/>
                    </a:lnTo>
                    <a:lnTo>
                      <a:pt x="1127" y="4"/>
                    </a:lnTo>
                    <a:lnTo>
                      <a:pt x="1277" y="15"/>
                    </a:lnTo>
                    <a:lnTo>
                      <a:pt x="1414" y="31"/>
                    </a:lnTo>
                    <a:lnTo>
                      <a:pt x="1539" y="52"/>
                    </a:lnTo>
                    <a:lnTo>
                      <a:pt x="1651" y="79"/>
                    </a:lnTo>
                    <a:lnTo>
                      <a:pt x="1746" y="110"/>
                    </a:lnTo>
                    <a:lnTo>
                      <a:pt x="1822" y="146"/>
                    </a:lnTo>
                    <a:lnTo>
                      <a:pt x="1879" y="183"/>
                    </a:lnTo>
                    <a:lnTo>
                      <a:pt x="1915" y="226"/>
                    </a:lnTo>
                    <a:lnTo>
                      <a:pt x="1928" y="269"/>
                    </a:lnTo>
                    <a:lnTo>
                      <a:pt x="1915" y="321"/>
                    </a:lnTo>
                    <a:lnTo>
                      <a:pt x="1879" y="368"/>
                    </a:lnTo>
                    <a:lnTo>
                      <a:pt x="1822" y="411"/>
                    </a:lnTo>
                    <a:lnTo>
                      <a:pt x="1746" y="446"/>
                    </a:lnTo>
                    <a:lnTo>
                      <a:pt x="1651" y="477"/>
                    </a:lnTo>
                    <a:lnTo>
                      <a:pt x="1539" y="504"/>
                    </a:lnTo>
                    <a:lnTo>
                      <a:pt x="1414" y="523"/>
                    </a:lnTo>
                    <a:lnTo>
                      <a:pt x="1277" y="538"/>
                    </a:lnTo>
                    <a:lnTo>
                      <a:pt x="1127" y="545"/>
                    </a:lnTo>
                    <a:lnTo>
                      <a:pt x="970" y="549"/>
                    </a:lnTo>
                    <a:lnTo>
                      <a:pt x="811" y="545"/>
                    </a:lnTo>
                    <a:lnTo>
                      <a:pt x="661" y="538"/>
                    </a:lnTo>
                    <a:lnTo>
                      <a:pt x="523" y="523"/>
                    </a:lnTo>
                    <a:lnTo>
                      <a:pt x="396" y="504"/>
                    </a:lnTo>
                    <a:lnTo>
                      <a:pt x="283" y="477"/>
                    </a:lnTo>
                    <a:lnTo>
                      <a:pt x="187" y="446"/>
                    </a:lnTo>
                    <a:lnTo>
                      <a:pt x="108" y="411"/>
                    </a:lnTo>
                    <a:lnTo>
                      <a:pt x="50" y="368"/>
                    </a:lnTo>
                    <a:lnTo>
                      <a:pt x="13" y="321"/>
                    </a:lnTo>
                    <a:lnTo>
                      <a:pt x="0" y="269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1"/>
              <p:cNvSpPr/>
              <p:nvPr/>
            </p:nvSpPr>
            <p:spPr>
              <a:xfrm>
                <a:off x="5607360" y="3979440"/>
                <a:ext cx="1806120" cy="23688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921" h="543">
                    <a:moveTo>
                      <a:pt x="0" y="265"/>
                    </a:moveTo>
                    <a:lnTo>
                      <a:pt x="13" y="222"/>
                    </a:lnTo>
                    <a:lnTo>
                      <a:pt x="49" y="181"/>
                    </a:lnTo>
                    <a:lnTo>
                      <a:pt x="108" y="144"/>
                    </a:lnTo>
                    <a:lnTo>
                      <a:pt x="185" y="110"/>
                    </a:lnTo>
                    <a:lnTo>
                      <a:pt x="282" y="77"/>
                    </a:lnTo>
                    <a:lnTo>
                      <a:pt x="395" y="50"/>
                    </a:lnTo>
                    <a:lnTo>
                      <a:pt x="520" y="29"/>
                    </a:lnTo>
                    <a:lnTo>
                      <a:pt x="660" y="15"/>
                    </a:lnTo>
                    <a:lnTo>
                      <a:pt x="809" y="4"/>
                    </a:lnTo>
                    <a:lnTo>
                      <a:pt x="967" y="0"/>
                    </a:lnTo>
                    <a:lnTo>
                      <a:pt x="1124" y="4"/>
                    </a:lnTo>
                    <a:lnTo>
                      <a:pt x="1273" y="15"/>
                    </a:lnTo>
                    <a:lnTo>
                      <a:pt x="1410" y="29"/>
                    </a:lnTo>
                    <a:lnTo>
                      <a:pt x="1535" y="50"/>
                    </a:lnTo>
                    <a:lnTo>
                      <a:pt x="1646" y="77"/>
                    </a:lnTo>
                    <a:lnTo>
                      <a:pt x="1739" y="110"/>
                    </a:lnTo>
                    <a:lnTo>
                      <a:pt x="1817" y="144"/>
                    </a:lnTo>
                    <a:lnTo>
                      <a:pt x="1874" y="181"/>
                    </a:lnTo>
                    <a:lnTo>
                      <a:pt x="1909" y="222"/>
                    </a:lnTo>
                    <a:lnTo>
                      <a:pt x="1921" y="267"/>
                    </a:lnTo>
                    <a:lnTo>
                      <a:pt x="1909" y="319"/>
                    </a:lnTo>
                    <a:lnTo>
                      <a:pt x="1874" y="364"/>
                    </a:lnTo>
                    <a:lnTo>
                      <a:pt x="1817" y="405"/>
                    </a:lnTo>
                    <a:lnTo>
                      <a:pt x="1739" y="441"/>
                    </a:lnTo>
                    <a:lnTo>
                      <a:pt x="1646" y="471"/>
                    </a:lnTo>
                    <a:lnTo>
                      <a:pt x="1535" y="496"/>
                    </a:lnTo>
                    <a:lnTo>
                      <a:pt x="1410" y="516"/>
                    </a:lnTo>
                    <a:lnTo>
                      <a:pt x="1273" y="530"/>
                    </a:lnTo>
                    <a:lnTo>
                      <a:pt x="1124" y="539"/>
                    </a:lnTo>
                    <a:lnTo>
                      <a:pt x="967" y="543"/>
                    </a:lnTo>
                    <a:lnTo>
                      <a:pt x="809" y="539"/>
                    </a:lnTo>
                    <a:lnTo>
                      <a:pt x="660" y="530"/>
                    </a:lnTo>
                    <a:lnTo>
                      <a:pt x="520" y="516"/>
                    </a:lnTo>
                    <a:lnTo>
                      <a:pt x="395" y="496"/>
                    </a:lnTo>
                    <a:lnTo>
                      <a:pt x="282" y="471"/>
                    </a:lnTo>
                    <a:lnTo>
                      <a:pt x="185" y="441"/>
                    </a:lnTo>
                    <a:lnTo>
                      <a:pt x="108" y="405"/>
                    </a:lnTo>
                    <a:lnTo>
                      <a:pt x="49" y="364"/>
                    </a:lnTo>
                    <a:lnTo>
                      <a:pt x="13" y="319"/>
                    </a:lnTo>
                    <a:lnTo>
                      <a:pt x="0" y="267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2"/>
              <p:cNvSpPr/>
              <p:nvPr/>
            </p:nvSpPr>
            <p:spPr>
              <a:xfrm>
                <a:off x="5609520" y="3980520"/>
                <a:ext cx="1801080" cy="233280"/>
              </a:xfrm>
              <a:custGeom>
                <a:avLst/>
                <a:gdLst>
                  <a:gd name="textAreaLeft" fmla="*/ 0 w 1801080"/>
                  <a:gd name="textAreaRight" fmla="*/ 1801440 w 180108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916" h="536">
                    <a:moveTo>
                      <a:pt x="0" y="263"/>
                    </a:moveTo>
                    <a:lnTo>
                      <a:pt x="13" y="220"/>
                    </a:lnTo>
                    <a:lnTo>
                      <a:pt x="49" y="179"/>
                    </a:lnTo>
                    <a:lnTo>
                      <a:pt x="107" y="142"/>
                    </a:lnTo>
                    <a:lnTo>
                      <a:pt x="186" y="108"/>
                    </a:lnTo>
                    <a:lnTo>
                      <a:pt x="281" y="77"/>
                    </a:lnTo>
                    <a:lnTo>
                      <a:pt x="394" y="50"/>
                    </a:lnTo>
                    <a:lnTo>
                      <a:pt x="519" y="29"/>
                    </a:lnTo>
                    <a:lnTo>
                      <a:pt x="658" y="13"/>
                    </a:lnTo>
                    <a:lnTo>
                      <a:pt x="807" y="4"/>
                    </a:lnTo>
                    <a:lnTo>
                      <a:pt x="965" y="0"/>
                    </a:lnTo>
                    <a:lnTo>
                      <a:pt x="1122" y="4"/>
                    </a:lnTo>
                    <a:lnTo>
                      <a:pt x="1269" y="13"/>
                    </a:lnTo>
                    <a:lnTo>
                      <a:pt x="1406" y="29"/>
                    </a:lnTo>
                    <a:lnTo>
                      <a:pt x="1531" y="50"/>
                    </a:lnTo>
                    <a:lnTo>
                      <a:pt x="1641" y="77"/>
                    </a:lnTo>
                    <a:lnTo>
                      <a:pt x="1735" y="108"/>
                    </a:lnTo>
                    <a:lnTo>
                      <a:pt x="1812" y="142"/>
                    </a:lnTo>
                    <a:lnTo>
                      <a:pt x="1868" y="179"/>
                    </a:lnTo>
                    <a:lnTo>
                      <a:pt x="1904" y="220"/>
                    </a:lnTo>
                    <a:lnTo>
                      <a:pt x="1916" y="263"/>
                    </a:lnTo>
                    <a:lnTo>
                      <a:pt x="1904" y="315"/>
                    </a:lnTo>
                    <a:lnTo>
                      <a:pt x="1868" y="360"/>
                    </a:lnTo>
                    <a:lnTo>
                      <a:pt x="1812" y="401"/>
                    </a:lnTo>
                    <a:lnTo>
                      <a:pt x="1735" y="437"/>
                    </a:lnTo>
                    <a:lnTo>
                      <a:pt x="1641" y="466"/>
                    </a:lnTo>
                    <a:lnTo>
                      <a:pt x="1531" y="491"/>
                    </a:lnTo>
                    <a:lnTo>
                      <a:pt x="1406" y="511"/>
                    </a:lnTo>
                    <a:lnTo>
                      <a:pt x="1269" y="525"/>
                    </a:lnTo>
                    <a:lnTo>
                      <a:pt x="1122" y="532"/>
                    </a:lnTo>
                    <a:lnTo>
                      <a:pt x="965" y="536"/>
                    </a:lnTo>
                    <a:lnTo>
                      <a:pt x="807" y="532"/>
                    </a:lnTo>
                    <a:lnTo>
                      <a:pt x="658" y="525"/>
                    </a:lnTo>
                    <a:lnTo>
                      <a:pt x="519" y="511"/>
                    </a:lnTo>
                    <a:lnTo>
                      <a:pt x="394" y="491"/>
                    </a:lnTo>
                    <a:lnTo>
                      <a:pt x="281" y="466"/>
                    </a:lnTo>
                    <a:lnTo>
                      <a:pt x="186" y="437"/>
                    </a:lnTo>
                    <a:lnTo>
                      <a:pt x="107" y="401"/>
                    </a:lnTo>
                    <a:lnTo>
                      <a:pt x="49" y="360"/>
                    </a:lnTo>
                    <a:lnTo>
                      <a:pt x="13" y="315"/>
                    </a:lnTo>
                    <a:lnTo>
                      <a:pt x="0" y="263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3"/>
              <p:cNvSpPr/>
              <p:nvPr/>
            </p:nvSpPr>
            <p:spPr>
              <a:xfrm>
                <a:off x="5611320" y="3980520"/>
                <a:ext cx="1796400" cy="231840"/>
              </a:xfrm>
              <a:custGeom>
                <a:avLst/>
                <a:gdLst>
                  <a:gd name="textAreaLeft" fmla="*/ 0 w 1796400"/>
                  <a:gd name="textAreaRight" fmla="*/ 1796760 w 17964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1911" h="528">
                    <a:moveTo>
                      <a:pt x="0" y="260"/>
                    </a:moveTo>
                    <a:lnTo>
                      <a:pt x="14" y="218"/>
                    </a:lnTo>
                    <a:lnTo>
                      <a:pt x="49" y="177"/>
                    </a:lnTo>
                    <a:lnTo>
                      <a:pt x="108" y="140"/>
                    </a:lnTo>
                    <a:lnTo>
                      <a:pt x="185" y="106"/>
                    </a:lnTo>
                    <a:lnTo>
                      <a:pt x="281" y="75"/>
                    </a:lnTo>
                    <a:lnTo>
                      <a:pt x="393" y="50"/>
                    </a:lnTo>
                    <a:lnTo>
                      <a:pt x="519" y="29"/>
                    </a:lnTo>
                    <a:lnTo>
                      <a:pt x="657" y="12"/>
                    </a:lnTo>
                    <a:lnTo>
                      <a:pt x="805" y="3"/>
                    </a:lnTo>
                    <a:lnTo>
                      <a:pt x="963" y="0"/>
                    </a:lnTo>
                    <a:lnTo>
                      <a:pt x="1119" y="3"/>
                    </a:lnTo>
                    <a:lnTo>
                      <a:pt x="1267" y="12"/>
                    </a:lnTo>
                    <a:lnTo>
                      <a:pt x="1403" y="29"/>
                    </a:lnTo>
                    <a:lnTo>
                      <a:pt x="1527" y="50"/>
                    </a:lnTo>
                    <a:lnTo>
                      <a:pt x="1638" y="75"/>
                    </a:lnTo>
                    <a:lnTo>
                      <a:pt x="1730" y="106"/>
                    </a:lnTo>
                    <a:lnTo>
                      <a:pt x="1806" y="140"/>
                    </a:lnTo>
                    <a:lnTo>
                      <a:pt x="1864" y="177"/>
                    </a:lnTo>
                    <a:lnTo>
                      <a:pt x="1898" y="218"/>
                    </a:lnTo>
                    <a:lnTo>
                      <a:pt x="1911" y="261"/>
                    </a:lnTo>
                    <a:lnTo>
                      <a:pt x="1898" y="312"/>
                    </a:lnTo>
                    <a:lnTo>
                      <a:pt x="1864" y="356"/>
                    </a:lnTo>
                    <a:lnTo>
                      <a:pt x="1806" y="397"/>
                    </a:lnTo>
                    <a:lnTo>
                      <a:pt x="1730" y="432"/>
                    </a:lnTo>
                    <a:lnTo>
                      <a:pt x="1638" y="462"/>
                    </a:lnTo>
                    <a:lnTo>
                      <a:pt x="1527" y="485"/>
                    </a:lnTo>
                    <a:lnTo>
                      <a:pt x="1403" y="505"/>
                    </a:lnTo>
                    <a:lnTo>
                      <a:pt x="1267" y="517"/>
                    </a:lnTo>
                    <a:lnTo>
                      <a:pt x="1119" y="526"/>
                    </a:lnTo>
                    <a:lnTo>
                      <a:pt x="963" y="528"/>
                    </a:lnTo>
                    <a:lnTo>
                      <a:pt x="805" y="526"/>
                    </a:lnTo>
                    <a:lnTo>
                      <a:pt x="657" y="517"/>
                    </a:lnTo>
                    <a:lnTo>
                      <a:pt x="519" y="505"/>
                    </a:lnTo>
                    <a:lnTo>
                      <a:pt x="393" y="485"/>
                    </a:lnTo>
                    <a:lnTo>
                      <a:pt x="281" y="462"/>
                    </a:lnTo>
                    <a:lnTo>
                      <a:pt x="185" y="432"/>
                    </a:lnTo>
                    <a:lnTo>
                      <a:pt x="108" y="397"/>
                    </a:lnTo>
                    <a:lnTo>
                      <a:pt x="49" y="356"/>
                    </a:lnTo>
                    <a:lnTo>
                      <a:pt x="14" y="312"/>
                    </a:lnTo>
                    <a:lnTo>
                      <a:pt x="1" y="261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>
                <a:off x="5613120" y="3981240"/>
                <a:ext cx="1790640" cy="22932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905" h="523">
                    <a:moveTo>
                      <a:pt x="0" y="258"/>
                    </a:moveTo>
                    <a:lnTo>
                      <a:pt x="13" y="216"/>
                    </a:lnTo>
                    <a:lnTo>
                      <a:pt x="50" y="175"/>
                    </a:lnTo>
                    <a:lnTo>
                      <a:pt x="107" y="139"/>
                    </a:lnTo>
                    <a:lnTo>
                      <a:pt x="186" y="105"/>
                    </a:lnTo>
                    <a:lnTo>
                      <a:pt x="281" y="75"/>
                    </a:lnTo>
                    <a:lnTo>
                      <a:pt x="392" y="50"/>
                    </a:lnTo>
                    <a:lnTo>
                      <a:pt x="518" y="28"/>
                    </a:lnTo>
                    <a:lnTo>
                      <a:pt x="656" y="12"/>
                    </a:lnTo>
                    <a:lnTo>
                      <a:pt x="803" y="3"/>
                    </a:lnTo>
                    <a:lnTo>
                      <a:pt x="961" y="0"/>
                    </a:lnTo>
                    <a:lnTo>
                      <a:pt x="1117" y="3"/>
                    </a:lnTo>
                    <a:lnTo>
                      <a:pt x="1264" y="12"/>
                    </a:lnTo>
                    <a:lnTo>
                      <a:pt x="1400" y="28"/>
                    </a:lnTo>
                    <a:lnTo>
                      <a:pt x="1524" y="50"/>
                    </a:lnTo>
                    <a:lnTo>
                      <a:pt x="1633" y="75"/>
                    </a:lnTo>
                    <a:lnTo>
                      <a:pt x="1726" y="105"/>
                    </a:lnTo>
                    <a:lnTo>
                      <a:pt x="1802" y="139"/>
                    </a:lnTo>
                    <a:lnTo>
                      <a:pt x="1858" y="175"/>
                    </a:lnTo>
                    <a:lnTo>
                      <a:pt x="1893" y="216"/>
                    </a:lnTo>
                    <a:lnTo>
                      <a:pt x="1905" y="258"/>
                    </a:lnTo>
                    <a:lnTo>
                      <a:pt x="1893" y="308"/>
                    </a:lnTo>
                    <a:lnTo>
                      <a:pt x="1858" y="353"/>
                    </a:lnTo>
                    <a:lnTo>
                      <a:pt x="1802" y="392"/>
                    </a:lnTo>
                    <a:lnTo>
                      <a:pt x="1726" y="426"/>
                    </a:lnTo>
                    <a:lnTo>
                      <a:pt x="1633" y="456"/>
                    </a:lnTo>
                    <a:lnTo>
                      <a:pt x="1524" y="480"/>
                    </a:lnTo>
                    <a:lnTo>
                      <a:pt x="1400" y="498"/>
                    </a:lnTo>
                    <a:lnTo>
                      <a:pt x="1264" y="512"/>
                    </a:lnTo>
                    <a:lnTo>
                      <a:pt x="1117" y="519"/>
                    </a:lnTo>
                    <a:lnTo>
                      <a:pt x="961" y="523"/>
                    </a:lnTo>
                    <a:lnTo>
                      <a:pt x="803" y="519"/>
                    </a:lnTo>
                    <a:lnTo>
                      <a:pt x="656" y="512"/>
                    </a:lnTo>
                    <a:lnTo>
                      <a:pt x="518" y="498"/>
                    </a:lnTo>
                    <a:lnTo>
                      <a:pt x="392" y="480"/>
                    </a:lnTo>
                    <a:lnTo>
                      <a:pt x="281" y="456"/>
                    </a:lnTo>
                    <a:lnTo>
                      <a:pt x="186" y="426"/>
                    </a:lnTo>
                    <a:lnTo>
                      <a:pt x="107" y="392"/>
                    </a:lnTo>
                    <a:lnTo>
                      <a:pt x="50" y="353"/>
                    </a:lnTo>
                    <a:lnTo>
                      <a:pt x="13" y="308"/>
                    </a:lnTo>
                    <a:lnTo>
                      <a:pt x="2" y="258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>
                <a:off x="5616000" y="3982320"/>
                <a:ext cx="1785240" cy="225360"/>
              </a:xfrm>
              <a:custGeom>
                <a:avLst/>
                <a:gdLst>
                  <a:gd name="textAreaLeft" fmla="*/ 0 w 1785240"/>
                  <a:gd name="textAreaRight" fmla="*/ 1785600 w 17852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899" h="516">
                    <a:moveTo>
                      <a:pt x="0" y="257"/>
                    </a:moveTo>
                    <a:lnTo>
                      <a:pt x="12" y="215"/>
                    </a:lnTo>
                    <a:lnTo>
                      <a:pt x="48" y="176"/>
                    </a:lnTo>
                    <a:lnTo>
                      <a:pt x="106" y="138"/>
                    </a:lnTo>
                    <a:lnTo>
                      <a:pt x="184" y="104"/>
                    </a:lnTo>
                    <a:lnTo>
                      <a:pt x="279" y="76"/>
                    </a:lnTo>
                    <a:lnTo>
                      <a:pt x="391" y="49"/>
                    </a:lnTo>
                    <a:lnTo>
                      <a:pt x="516" y="29"/>
                    </a:lnTo>
                    <a:lnTo>
                      <a:pt x="653" y="13"/>
                    </a:lnTo>
                    <a:lnTo>
                      <a:pt x="802" y="4"/>
                    </a:lnTo>
                    <a:lnTo>
                      <a:pt x="958" y="0"/>
                    </a:lnTo>
                    <a:lnTo>
                      <a:pt x="1114" y="4"/>
                    </a:lnTo>
                    <a:lnTo>
                      <a:pt x="1260" y="13"/>
                    </a:lnTo>
                    <a:lnTo>
                      <a:pt x="1395" y="29"/>
                    </a:lnTo>
                    <a:lnTo>
                      <a:pt x="1519" y="49"/>
                    </a:lnTo>
                    <a:lnTo>
                      <a:pt x="1628" y="76"/>
                    </a:lnTo>
                    <a:lnTo>
                      <a:pt x="1720" y="104"/>
                    </a:lnTo>
                    <a:lnTo>
                      <a:pt x="1796" y="138"/>
                    </a:lnTo>
                    <a:lnTo>
                      <a:pt x="1852" y="176"/>
                    </a:lnTo>
                    <a:lnTo>
                      <a:pt x="1886" y="215"/>
                    </a:lnTo>
                    <a:lnTo>
                      <a:pt x="1899" y="257"/>
                    </a:lnTo>
                    <a:lnTo>
                      <a:pt x="1886" y="305"/>
                    </a:lnTo>
                    <a:lnTo>
                      <a:pt x="1852" y="350"/>
                    </a:lnTo>
                    <a:lnTo>
                      <a:pt x="1796" y="389"/>
                    </a:lnTo>
                    <a:lnTo>
                      <a:pt x="1720" y="423"/>
                    </a:lnTo>
                    <a:lnTo>
                      <a:pt x="1628" y="452"/>
                    </a:lnTo>
                    <a:lnTo>
                      <a:pt x="1519" y="475"/>
                    </a:lnTo>
                    <a:lnTo>
                      <a:pt x="1395" y="493"/>
                    </a:lnTo>
                    <a:lnTo>
                      <a:pt x="1260" y="506"/>
                    </a:lnTo>
                    <a:lnTo>
                      <a:pt x="1114" y="514"/>
                    </a:lnTo>
                    <a:lnTo>
                      <a:pt x="958" y="516"/>
                    </a:lnTo>
                    <a:lnTo>
                      <a:pt x="802" y="514"/>
                    </a:lnTo>
                    <a:lnTo>
                      <a:pt x="653" y="506"/>
                    </a:lnTo>
                    <a:lnTo>
                      <a:pt x="516" y="493"/>
                    </a:lnTo>
                    <a:lnTo>
                      <a:pt x="391" y="475"/>
                    </a:lnTo>
                    <a:lnTo>
                      <a:pt x="279" y="452"/>
                    </a:lnTo>
                    <a:lnTo>
                      <a:pt x="184" y="423"/>
                    </a:lnTo>
                    <a:lnTo>
                      <a:pt x="106" y="389"/>
                    </a:lnTo>
                    <a:lnTo>
                      <a:pt x="48" y="350"/>
                    </a:lnTo>
                    <a:lnTo>
                      <a:pt x="12" y="305"/>
                    </a:lnTo>
                    <a:lnTo>
                      <a:pt x="0" y="257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6"/>
              <p:cNvSpPr/>
              <p:nvPr/>
            </p:nvSpPr>
            <p:spPr>
              <a:xfrm>
                <a:off x="5617800" y="3983040"/>
                <a:ext cx="1779480" cy="223200"/>
              </a:xfrm>
              <a:custGeom>
                <a:avLst/>
                <a:gdLst>
                  <a:gd name="textAreaLeft" fmla="*/ 0 w 1779480"/>
                  <a:gd name="textAreaRight" fmla="*/ 1779840 w 17794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893" h="511">
                    <a:moveTo>
                      <a:pt x="0" y="253"/>
                    </a:moveTo>
                    <a:lnTo>
                      <a:pt x="13" y="212"/>
                    </a:lnTo>
                    <a:lnTo>
                      <a:pt x="49" y="174"/>
                    </a:lnTo>
                    <a:lnTo>
                      <a:pt x="107" y="136"/>
                    </a:lnTo>
                    <a:lnTo>
                      <a:pt x="183" y="104"/>
                    </a:lnTo>
                    <a:lnTo>
                      <a:pt x="278" y="74"/>
                    </a:lnTo>
                    <a:lnTo>
                      <a:pt x="390" y="49"/>
                    </a:lnTo>
                    <a:lnTo>
                      <a:pt x="515" y="27"/>
                    </a:lnTo>
                    <a:lnTo>
                      <a:pt x="652" y="13"/>
                    </a:lnTo>
                    <a:lnTo>
                      <a:pt x="800" y="4"/>
                    </a:lnTo>
                    <a:lnTo>
                      <a:pt x="956" y="0"/>
                    </a:lnTo>
                    <a:lnTo>
                      <a:pt x="1111" y="4"/>
                    </a:lnTo>
                    <a:lnTo>
                      <a:pt x="1258" y="13"/>
                    </a:lnTo>
                    <a:lnTo>
                      <a:pt x="1392" y="27"/>
                    </a:lnTo>
                    <a:lnTo>
                      <a:pt x="1515" y="49"/>
                    </a:lnTo>
                    <a:lnTo>
                      <a:pt x="1623" y="74"/>
                    </a:lnTo>
                    <a:lnTo>
                      <a:pt x="1716" y="104"/>
                    </a:lnTo>
                    <a:lnTo>
                      <a:pt x="1791" y="136"/>
                    </a:lnTo>
                    <a:lnTo>
                      <a:pt x="1846" y="174"/>
                    </a:lnTo>
                    <a:lnTo>
                      <a:pt x="1882" y="212"/>
                    </a:lnTo>
                    <a:lnTo>
                      <a:pt x="1893" y="253"/>
                    </a:lnTo>
                    <a:lnTo>
                      <a:pt x="1882" y="303"/>
                    </a:lnTo>
                    <a:lnTo>
                      <a:pt x="1846" y="346"/>
                    </a:lnTo>
                    <a:lnTo>
                      <a:pt x="1791" y="384"/>
                    </a:lnTo>
                    <a:lnTo>
                      <a:pt x="1716" y="418"/>
                    </a:lnTo>
                    <a:lnTo>
                      <a:pt x="1623" y="446"/>
                    </a:lnTo>
                    <a:lnTo>
                      <a:pt x="1515" y="470"/>
                    </a:lnTo>
                    <a:lnTo>
                      <a:pt x="1392" y="487"/>
                    </a:lnTo>
                    <a:lnTo>
                      <a:pt x="1258" y="500"/>
                    </a:lnTo>
                    <a:lnTo>
                      <a:pt x="1111" y="507"/>
                    </a:lnTo>
                    <a:lnTo>
                      <a:pt x="956" y="511"/>
                    </a:lnTo>
                    <a:lnTo>
                      <a:pt x="800" y="507"/>
                    </a:lnTo>
                    <a:lnTo>
                      <a:pt x="652" y="500"/>
                    </a:lnTo>
                    <a:lnTo>
                      <a:pt x="515" y="487"/>
                    </a:lnTo>
                    <a:lnTo>
                      <a:pt x="390" y="470"/>
                    </a:lnTo>
                    <a:lnTo>
                      <a:pt x="278" y="446"/>
                    </a:lnTo>
                    <a:lnTo>
                      <a:pt x="183" y="418"/>
                    </a:lnTo>
                    <a:lnTo>
                      <a:pt x="107" y="384"/>
                    </a:lnTo>
                    <a:lnTo>
                      <a:pt x="49" y="346"/>
                    </a:lnTo>
                    <a:lnTo>
                      <a:pt x="13" y="303"/>
                    </a:lnTo>
                    <a:lnTo>
                      <a:pt x="0" y="253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7"/>
              <p:cNvSpPr/>
              <p:nvPr/>
            </p:nvSpPr>
            <p:spPr>
              <a:xfrm>
                <a:off x="5619960" y="3984120"/>
                <a:ext cx="1774800" cy="22032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888" h="503">
                    <a:moveTo>
                      <a:pt x="0" y="251"/>
                    </a:moveTo>
                    <a:lnTo>
                      <a:pt x="14" y="210"/>
                    </a:lnTo>
                    <a:lnTo>
                      <a:pt x="49" y="172"/>
                    </a:lnTo>
                    <a:lnTo>
                      <a:pt x="106" y="134"/>
                    </a:lnTo>
                    <a:lnTo>
                      <a:pt x="184" y="102"/>
                    </a:lnTo>
                    <a:lnTo>
                      <a:pt x="279" y="73"/>
                    </a:lnTo>
                    <a:lnTo>
                      <a:pt x="389" y="48"/>
                    </a:lnTo>
                    <a:lnTo>
                      <a:pt x="513" y="27"/>
                    </a:lnTo>
                    <a:lnTo>
                      <a:pt x="650" y="13"/>
                    </a:lnTo>
                    <a:lnTo>
                      <a:pt x="798" y="2"/>
                    </a:lnTo>
                    <a:lnTo>
                      <a:pt x="954" y="0"/>
                    </a:lnTo>
                    <a:lnTo>
                      <a:pt x="1109" y="2"/>
                    </a:lnTo>
                    <a:lnTo>
                      <a:pt x="1254" y="13"/>
                    </a:lnTo>
                    <a:lnTo>
                      <a:pt x="1389" y="27"/>
                    </a:lnTo>
                    <a:lnTo>
                      <a:pt x="1512" y="48"/>
                    </a:lnTo>
                    <a:lnTo>
                      <a:pt x="1620" y="73"/>
                    </a:lnTo>
                    <a:lnTo>
                      <a:pt x="1711" y="102"/>
                    </a:lnTo>
                    <a:lnTo>
                      <a:pt x="1786" y="134"/>
                    </a:lnTo>
                    <a:lnTo>
                      <a:pt x="1842" y="172"/>
                    </a:lnTo>
                    <a:lnTo>
                      <a:pt x="1876" y="210"/>
                    </a:lnTo>
                    <a:lnTo>
                      <a:pt x="1888" y="251"/>
                    </a:lnTo>
                    <a:lnTo>
                      <a:pt x="1876" y="299"/>
                    </a:lnTo>
                    <a:lnTo>
                      <a:pt x="1842" y="342"/>
                    </a:lnTo>
                    <a:lnTo>
                      <a:pt x="1786" y="380"/>
                    </a:lnTo>
                    <a:lnTo>
                      <a:pt x="1711" y="412"/>
                    </a:lnTo>
                    <a:lnTo>
                      <a:pt x="1620" y="441"/>
                    </a:lnTo>
                    <a:lnTo>
                      <a:pt x="1512" y="464"/>
                    </a:lnTo>
                    <a:lnTo>
                      <a:pt x="1389" y="480"/>
                    </a:lnTo>
                    <a:lnTo>
                      <a:pt x="1254" y="494"/>
                    </a:lnTo>
                    <a:lnTo>
                      <a:pt x="1109" y="502"/>
                    </a:lnTo>
                    <a:lnTo>
                      <a:pt x="954" y="503"/>
                    </a:lnTo>
                    <a:lnTo>
                      <a:pt x="798" y="502"/>
                    </a:lnTo>
                    <a:lnTo>
                      <a:pt x="650" y="494"/>
                    </a:lnTo>
                    <a:lnTo>
                      <a:pt x="513" y="480"/>
                    </a:lnTo>
                    <a:lnTo>
                      <a:pt x="389" y="464"/>
                    </a:lnTo>
                    <a:lnTo>
                      <a:pt x="279" y="441"/>
                    </a:lnTo>
                    <a:lnTo>
                      <a:pt x="184" y="412"/>
                    </a:lnTo>
                    <a:lnTo>
                      <a:pt x="106" y="380"/>
                    </a:lnTo>
                    <a:lnTo>
                      <a:pt x="49" y="342"/>
                    </a:lnTo>
                    <a:lnTo>
                      <a:pt x="14" y="299"/>
                    </a:lnTo>
                    <a:lnTo>
                      <a:pt x="1" y="251"/>
                    </a:lnTo>
                  </a:path>
                </a:pathLst>
              </a:custGeom>
              <a:noFill/>
              <a:ln w="2052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8"/>
              <p:cNvSpPr/>
              <p:nvPr/>
            </p:nvSpPr>
            <p:spPr>
              <a:xfrm>
                <a:off x="5622480" y="3984840"/>
                <a:ext cx="1770120" cy="218520"/>
              </a:xfrm>
              <a:custGeom>
                <a:avLst/>
                <a:gdLst>
                  <a:gd name="textAreaLeft" fmla="*/ 0 w 1770120"/>
                  <a:gd name="textAreaRight" fmla="*/ 1770480 w 17701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883" h="500">
                    <a:moveTo>
                      <a:pt x="0" y="249"/>
                    </a:moveTo>
                    <a:lnTo>
                      <a:pt x="13" y="209"/>
                    </a:lnTo>
                    <a:lnTo>
                      <a:pt x="49" y="170"/>
                    </a:lnTo>
                    <a:lnTo>
                      <a:pt x="106" y="134"/>
                    </a:lnTo>
                    <a:lnTo>
                      <a:pt x="183" y="102"/>
                    </a:lnTo>
                    <a:lnTo>
                      <a:pt x="277" y="73"/>
                    </a:lnTo>
                    <a:lnTo>
                      <a:pt x="387" y="48"/>
                    </a:lnTo>
                    <a:lnTo>
                      <a:pt x="512" y="28"/>
                    </a:lnTo>
                    <a:lnTo>
                      <a:pt x="649" y="12"/>
                    </a:lnTo>
                    <a:lnTo>
                      <a:pt x="796" y="3"/>
                    </a:lnTo>
                    <a:lnTo>
                      <a:pt x="951" y="0"/>
                    </a:lnTo>
                    <a:lnTo>
                      <a:pt x="1106" y="3"/>
                    </a:lnTo>
                    <a:lnTo>
                      <a:pt x="1250" y="12"/>
                    </a:lnTo>
                    <a:lnTo>
                      <a:pt x="1385" y="28"/>
                    </a:lnTo>
                    <a:lnTo>
                      <a:pt x="1508" y="48"/>
                    </a:lnTo>
                    <a:lnTo>
                      <a:pt x="1616" y="73"/>
                    </a:lnTo>
                    <a:lnTo>
                      <a:pt x="1707" y="102"/>
                    </a:lnTo>
                    <a:lnTo>
                      <a:pt x="1782" y="134"/>
                    </a:lnTo>
                    <a:lnTo>
                      <a:pt x="1836" y="170"/>
                    </a:lnTo>
                    <a:lnTo>
                      <a:pt x="1871" y="209"/>
                    </a:lnTo>
                    <a:lnTo>
                      <a:pt x="1883" y="249"/>
                    </a:lnTo>
                    <a:lnTo>
                      <a:pt x="1871" y="297"/>
                    </a:lnTo>
                    <a:lnTo>
                      <a:pt x="1836" y="338"/>
                    </a:lnTo>
                    <a:lnTo>
                      <a:pt x="1782" y="376"/>
                    </a:lnTo>
                    <a:lnTo>
                      <a:pt x="1707" y="408"/>
                    </a:lnTo>
                    <a:lnTo>
                      <a:pt x="1616" y="437"/>
                    </a:lnTo>
                    <a:lnTo>
                      <a:pt x="1508" y="458"/>
                    </a:lnTo>
                    <a:lnTo>
                      <a:pt x="1385" y="476"/>
                    </a:lnTo>
                    <a:lnTo>
                      <a:pt x="1250" y="489"/>
                    </a:lnTo>
                    <a:lnTo>
                      <a:pt x="1106" y="498"/>
                    </a:lnTo>
                    <a:lnTo>
                      <a:pt x="951" y="500"/>
                    </a:lnTo>
                    <a:lnTo>
                      <a:pt x="796" y="498"/>
                    </a:lnTo>
                    <a:lnTo>
                      <a:pt x="649" y="489"/>
                    </a:lnTo>
                    <a:lnTo>
                      <a:pt x="512" y="476"/>
                    </a:lnTo>
                    <a:lnTo>
                      <a:pt x="387" y="458"/>
                    </a:lnTo>
                    <a:lnTo>
                      <a:pt x="277" y="437"/>
                    </a:lnTo>
                    <a:lnTo>
                      <a:pt x="183" y="408"/>
                    </a:lnTo>
                    <a:lnTo>
                      <a:pt x="106" y="376"/>
                    </a:lnTo>
                    <a:lnTo>
                      <a:pt x="49" y="338"/>
                    </a:lnTo>
                    <a:lnTo>
                      <a:pt x="13" y="297"/>
                    </a:lnTo>
                    <a:lnTo>
                      <a:pt x="0" y="249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9"/>
              <p:cNvSpPr/>
              <p:nvPr/>
            </p:nvSpPr>
            <p:spPr>
              <a:xfrm>
                <a:off x="5626440" y="3986640"/>
                <a:ext cx="1764360" cy="216000"/>
              </a:xfrm>
              <a:custGeom>
                <a:avLst/>
                <a:gdLst>
                  <a:gd name="textAreaLeft" fmla="*/ 0 w 1764360"/>
                  <a:gd name="textAreaRight" fmla="*/ 1764720 w 1764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877" h="495">
                    <a:moveTo>
                      <a:pt x="0" y="248"/>
                    </a:moveTo>
                    <a:lnTo>
                      <a:pt x="13" y="208"/>
                    </a:lnTo>
                    <a:lnTo>
                      <a:pt x="48" y="169"/>
                    </a:lnTo>
                    <a:lnTo>
                      <a:pt x="106" y="133"/>
                    </a:lnTo>
                    <a:lnTo>
                      <a:pt x="182" y="101"/>
                    </a:lnTo>
                    <a:lnTo>
                      <a:pt x="276" y="72"/>
                    </a:lnTo>
                    <a:lnTo>
                      <a:pt x="386" y="47"/>
                    </a:lnTo>
                    <a:lnTo>
                      <a:pt x="510" y="27"/>
                    </a:lnTo>
                    <a:lnTo>
                      <a:pt x="646" y="13"/>
                    </a:lnTo>
                    <a:lnTo>
                      <a:pt x="792" y="2"/>
                    </a:lnTo>
                    <a:lnTo>
                      <a:pt x="947" y="0"/>
                    </a:lnTo>
                    <a:lnTo>
                      <a:pt x="1100" y="2"/>
                    </a:lnTo>
                    <a:lnTo>
                      <a:pt x="1246" y="13"/>
                    </a:lnTo>
                    <a:lnTo>
                      <a:pt x="1379" y="27"/>
                    </a:lnTo>
                    <a:lnTo>
                      <a:pt x="1501" y="47"/>
                    </a:lnTo>
                    <a:lnTo>
                      <a:pt x="1609" y="72"/>
                    </a:lnTo>
                    <a:lnTo>
                      <a:pt x="1702" y="101"/>
                    </a:lnTo>
                    <a:lnTo>
                      <a:pt x="1775" y="133"/>
                    </a:lnTo>
                    <a:lnTo>
                      <a:pt x="1831" y="169"/>
                    </a:lnTo>
                    <a:lnTo>
                      <a:pt x="1865" y="208"/>
                    </a:lnTo>
                    <a:lnTo>
                      <a:pt x="1877" y="248"/>
                    </a:lnTo>
                    <a:lnTo>
                      <a:pt x="1865" y="294"/>
                    </a:lnTo>
                    <a:lnTo>
                      <a:pt x="1831" y="335"/>
                    </a:lnTo>
                    <a:lnTo>
                      <a:pt x="1775" y="371"/>
                    </a:lnTo>
                    <a:lnTo>
                      <a:pt x="1702" y="403"/>
                    </a:lnTo>
                    <a:lnTo>
                      <a:pt x="1609" y="432"/>
                    </a:lnTo>
                    <a:lnTo>
                      <a:pt x="1501" y="454"/>
                    </a:lnTo>
                    <a:lnTo>
                      <a:pt x="1379" y="471"/>
                    </a:lnTo>
                    <a:lnTo>
                      <a:pt x="1246" y="484"/>
                    </a:lnTo>
                    <a:lnTo>
                      <a:pt x="1100" y="491"/>
                    </a:lnTo>
                    <a:lnTo>
                      <a:pt x="947" y="495"/>
                    </a:lnTo>
                    <a:lnTo>
                      <a:pt x="792" y="491"/>
                    </a:lnTo>
                    <a:lnTo>
                      <a:pt x="646" y="484"/>
                    </a:lnTo>
                    <a:lnTo>
                      <a:pt x="510" y="471"/>
                    </a:lnTo>
                    <a:lnTo>
                      <a:pt x="386" y="454"/>
                    </a:lnTo>
                    <a:lnTo>
                      <a:pt x="276" y="432"/>
                    </a:lnTo>
                    <a:lnTo>
                      <a:pt x="182" y="403"/>
                    </a:lnTo>
                    <a:lnTo>
                      <a:pt x="106" y="371"/>
                    </a:lnTo>
                    <a:lnTo>
                      <a:pt x="48" y="335"/>
                    </a:lnTo>
                    <a:lnTo>
                      <a:pt x="13" y="294"/>
                    </a:lnTo>
                    <a:lnTo>
                      <a:pt x="0" y="248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0"/>
              <p:cNvSpPr/>
              <p:nvPr/>
            </p:nvSpPr>
            <p:spPr>
              <a:xfrm>
                <a:off x="5629320" y="3987360"/>
                <a:ext cx="1759680" cy="2142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872" h="491">
                    <a:moveTo>
                      <a:pt x="0" y="246"/>
                    </a:moveTo>
                    <a:lnTo>
                      <a:pt x="12" y="206"/>
                    </a:lnTo>
                    <a:lnTo>
                      <a:pt x="48" y="169"/>
                    </a:lnTo>
                    <a:lnTo>
                      <a:pt x="105" y="133"/>
                    </a:lnTo>
                    <a:lnTo>
                      <a:pt x="181" y="100"/>
                    </a:lnTo>
                    <a:lnTo>
                      <a:pt x="275" y="72"/>
                    </a:lnTo>
                    <a:lnTo>
                      <a:pt x="384" y="49"/>
                    </a:lnTo>
                    <a:lnTo>
                      <a:pt x="509" y="29"/>
                    </a:lnTo>
                    <a:lnTo>
                      <a:pt x="644" y="13"/>
                    </a:lnTo>
                    <a:lnTo>
                      <a:pt x="789" y="4"/>
                    </a:lnTo>
                    <a:lnTo>
                      <a:pt x="944" y="0"/>
                    </a:lnTo>
                    <a:lnTo>
                      <a:pt x="1097" y="4"/>
                    </a:lnTo>
                    <a:lnTo>
                      <a:pt x="1242" y="13"/>
                    </a:lnTo>
                    <a:lnTo>
                      <a:pt x="1376" y="29"/>
                    </a:lnTo>
                    <a:lnTo>
                      <a:pt x="1497" y="49"/>
                    </a:lnTo>
                    <a:lnTo>
                      <a:pt x="1605" y="72"/>
                    </a:lnTo>
                    <a:lnTo>
                      <a:pt x="1696" y="100"/>
                    </a:lnTo>
                    <a:lnTo>
                      <a:pt x="1771" y="133"/>
                    </a:lnTo>
                    <a:lnTo>
                      <a:pt x="1826" y="169"/>
                    </a:lnTo>
                    <a:lnTo>
                      <a:pt x="1861" y="206"/>
                    </a:lnTo>
                    <a:lnTo>
                      <a:pt x="1872" y="246"/>
                    </a:lnTo>
                    <a:lnTo>
                      <a:pt x="1861" y="292"/>
                    </a:lnTo>
                    <a:lnTo>
                      <a:pt x="1826" y="332"/>
                    </a:lnTo>
                    <a:lnTo>
                      <a:pt x="1771" y="369"/>
                    </a:lnTo>
                    <a:lnTo>
                      <a:pt x="1696" y="400"/>
                    </a:lnTo>
                    <a:lnTo>
                      <a:pt x="1605" y="428"/>
                    </a:lnTo>
                    <a:lnTo>
                      <a:pt x="1497" y="450"/>
                    </a:lnTo>
                    <a:lnTo>
                      <a:pt x="1376" y="468"/>
                    </a:lnTo>
                    <a:lnTo>
                      <a:pt x="1242" y="480"/>
                    </a:lnTo>
                    <a:lnTo>
                      <a:pt x="1097" y="487"/>
                    </a:lnTo>
                    <a:lnTo>
                      <a:pt x="944" y="491"/>
                    </a:lnTo>
                    <a:lnTo>
                      <a:pt x="789" y="487"/>
                    </a:lnTo>
                    <a:lnTo>
                      <a:pt x="644" y="480"/>
                    </a:lnTo>
                    <a:lnTo>
                      <a:pt x="509" y="468"/>
                    </a:lnTo>
                    <a:lnTo>
                      <a:pt x="384" y="450"/>
                    </a:lnTo>
                    <a:lnTo>
                      <a:pt x="275" y="428"/>
                    </a:lnTo>
                    <a:lnTo>
                      <a:pt x="181" y="400"/>
                    </a:lnTo>
                    <a:lnTo>
                      <a:pt x="105" y="369"/>
                    </a:lnTo>
                    <a:lnTo>
                      <a:pt x="48" y="332"/>
                    </a:lnTo>
                    <a:lnTo>
                      <a:pt x="12" y="292"/>
                    </a:lnTo>
                    <a:lnTo>
                      <a:pt x="1" y="246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1"/>
              <p:cNvSpPr/>
              <p:nvPr/>
            </p:nvSpPr>
            <p:spPr>
              <a:xfrm>
                <a:off x="5632920" y="3988440"/>
                <a:ext cx="1753920" cy="211680"/>
              </a:xfrm>
              <a:custGeom>
                <a:avLst/>
                <a:gdLst>
                  <a:gd name="textAreaLeft" fmla="*/ 0 w 1753920"/>
                  <a:gd name="textAreaRight" fmla="*/ 1754280 w 17539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866" h="483">
                    <a:moveTo>
                      <a:pt x="0" y="242"/>
                    </a:moveTo>
                    <a:lnTo>
                      <a:pt x="12" y="204"/>
                    </a:lnTo>
                    <a:lnTo>
                      <a:pt x="48" y="166"/>
                    </a:lnTo>
                    <a:lnTo>
                      <a:pt x="104" y="131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3" y="46"/>
                    </a:lnTo>
                    <a:lnTo>
                      <a:pt x="506" y="27"/>
                    </a:lnTo>
                    <a:lnTo>
                      <a:pt x="640" y="12"/>
                    </a:lnTo>
                    <a:lnTo>
                      <a:pt x="786" y="2"/>
                    </a:lnTo>
                    <a:lnTo>
                      <a:pt x="940" y="0"/>
                    </a:lnTo>
                    <a:lnTo>
                      <a:pt x="1093" y="2"/>
                    </a:lnTo>
                    <a:lnTo>
                      <a:pt x="1237" y="12"/>
                    </a:lnTo>
                    <a:lnTo>
                      <a:pt x="1371" y="27"/>
                    </a:lnTo>
                    <a:lnTo>
                      <a:pt x="1492" y="46"/>
                    </a:lnTo>
                    <a:lnTo>
                      <a:pt x="1600" y="71"/>
                    </a:lnTo>
                    <a:lnTo>
                      <a:pt x="1691" y="100"/>
                    </a:lnTo>
                    <a:lnTo>
                      <a:pt x="1766" y="131"/>
                    </a:lnTo>
                    <a:lnTo>
                      <a:pt x="1820" y="166"/>
                    </a:lnTo>
                    <a:lnTo>
                      <a:pt x="1855" y="204"/>
                    </a:lnTo>
                    <a:lnTo>
                      <a:pt x="1866" y="243"/>
                    </a:lnTo>
                    <a:lnTo>
                      <a:pt x="1855" y="288"/>
                    </a:lnTo>
                    <a:lnTo>
                      <a:pt x="1820" y="328"/>
                    </a:lnTo>
                    <a:lnTo>
                      <a:pt x="1766" y="363"/>
                    </a:lnTo>
                    <a:lnTo>
                      <a:pt x="1691" y="394"/>
                    </a:lnTo>
                    <a:lnTo>
                      <a:pt x="1600" y="421"/>
                    </a:lnTo>
                    <a:lnTo>
                      <a:pt x="1492" y="444"/>
                    </a:lnTo>
                    <a:lnTo>
                      <a:pt x="1371" y="462"/>
                    </a:lnTo>
                    <a:lnTo>
                      <a:pt x="1237" y="474"/>
                    </a:lnTo>
                    <a:lnTo>
                      <a:pt x="1093" y="482"/>
                    </a:lnTo>
                    <a:lnTo>
                      <a:pt x="940" y="483"/>
                    </a:lnTo>
                    <a:lnTo>
                      <a:pt x="786" y="482"/>
                    </a:lnTo>
                    <a:lnTo>
                      <a:pt x="640" y="474"/>
                    </a:lnTo>
                    <a:lnTo>
                      <a:pt x="506" y="462"/>
                    </a:lnTo>
                    <a:lnTo>
                      <a:pt x="383" y="444"/>
                    </a:lnTo>
                    <a:lnTo>
                      <a:pt x="274" y="421"/>
                    </a:lnTo>
                    <a:lnTo>
                      <a:pt x="180" y="394"/>
                    </a:lnTo>
                    <a:lnTo>
                      <a:pt x="104" y="363"/>
                    </a:lnTo>
                    <a:lnTo>
                      <a:pt x="48" y="328"/>
                    </a:lnTo>
                    <a:lnTo>
                      <a:pt x="12" y="288"/>
                    </a:lnTo>
                    <a:lnTo>
                      <a:pt x="0" y="243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2"/>
              <p:cNvSpPr/>
              <p:nvPr/>
            </p:nvSpPr>
            <p:spPr>
              <a:xfrm>
                <a:off x="5634720" y="3989160"/>
                <a:ext cx="1751400" cy="209880"/>
              </a:xfrm>
              <a:custGeom>
                <a:avLst/>
                <a:gdLst>
                  <a:gd name="textAreaLeft" fmla="*/ 0 w 1751400"/>
                  <a:gd name="textAreaRight" fmla="*/ 1751760 w 17514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863" h="480">
                    <a:moveTo>
                      <a:pt x="0" y="241"/>
                    </a:moveTo>
                    <a:lnTo>
                      <a:pt x="13" y="204"/>
                    </a:lnTo>
                    <a:lnTo>
                      <a:pt x="48" y="166"/>
                    </a:lnTo>
                    <a:lnTo>
                      <a:pt x="104" y="130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2" y="46"/>
                    </a:lnTo>
                    <a:lnTo>
                      <a:pt x="505" y="26"/>
                    </a:lnTo>
                    <a:lnTo>
                      <a:pt x="640" y="12"/>
                    </a:lnTo>
                    <a:lnTo>
                      <a:pt x="784" y="3"/>
                    </a:lnTo>
                    <a:lnTo>
                      <a:pt x="938" y="0"/>
                    </a:lnTo>
                    <a:lnTo>
                      <a:pt x="1090" y="3"/>
                    </a:lnTo>
                    <a:lnTo>
                      <a:pt x="1235" y="12"/>
                    </a:lnTo>
                    <a:lnTo>
                      <a:pt x="1368" y="26"/>
                    </a:lnTo>
                    <a:lnTo>
                      <a:pt x="1488" y="46"/>
                    </a:lnTo>
                    <a:lnTo>
                      <a:pt x="1596" y="71"/>
                    </a:lnTo>
                    <a:lnTo>
                      <a:pt x="1688" y="100"/>
                    </a:lnTo>
                    <a:lnTo>
                      <a:pt x="1761" y="130"/>
                    </a:lnTo>
                    <a:lnTo>
                      <a:pt x="1817" y="166"/>
                    </a:lnTo>
                    <a:lnTo>
                      <a:pt x="1851" y="204"/>
                    </a:lnTo>
                    <a:lnTo>
                      <a:pt x="1863" y="241"/>
                    </a:lnTo>
                    <a:lnTo>
                      <a:pt x="1851" y="284"/>
                    </a:lnTo>
                    <a:lnTo>
                      <a:pt x="1817" y="324"/>
                    </a:lnTo>
                    <a:lnTo>
                      <a:pt x="1761" y="360"/>
                    </a:lnTo>
                    <a:lnTo>
                      <a:pt x="1688" y="390"/>
                    </a:lnTo>
                    <a:lnTo>
                      <a:pt x="1596" y="417"/>
                    </a:lnTo>
                    <a:lnTo>
                      <a:pt x="1488" y="440"/>
                    </a:lnTo>
                    <a:lnTo>
                      <a:pt x="1368" y="456"/>
                    </a:lnTo>
                    <a:lnTo>
                      <a:pt x="1235" y="469"/>
                    </a:lnTo>
                    <a:lnTo>
                      <a:pt x="1090" y="478"/>
                    </a:lnTo>
                    <a:lnTo>
                      <a:pt x="938" y="480"/>
                    </a:lnTo>
                    <a:lnTo>
                      <a:pt x="784" y="478"/>
                    </a:lnTo>
                    <a:lnTo>
                      <a:pt x="640" y="469"/>
                    </a:lnTo>
                    <a:lnTo>
                      <a:pt x="505" y="456"/>
                    </a:lnTo>
                    <a:lnTo>
                      <a:pt x="382" y="440"/>
                    </a:lnTo>
                    <a:lnTo>
                      <a:pt x="274" y="417"/>
                    </a:lnTo>
                    <a:lnTo>
                      <a:pt x="180" y="390"/>
                    </a:lnTo>
                    <a:lnTo>
                      <a:pt x="104" y="360"/>
                    </a:lnTo>
                    <a:lnTo>
                      <a:pt x="48" y="324"/>
                    </a:lnTo>
                    <a:lnTo>
                      <a:pt x="13" y="284"/>
                    </a:lnTo>
                    <a:lnTo>
                      <a:pt x="1" y="241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3"/>
              <p:cNvSpPr/>
              <p:nvPr/>
            </p:nvSpPr>
            <p:spPr>
              <a:xfrm>
                <a:off x="5638680" y="3990960"/>
                <a:ext cx="1744560" cy="2070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856" h="475">
                    <a:moveTo>
                      <a:pt x="0" y="238"/>
                    </a:moveTo>
                    <a:lnTo>
                      <a:pt x="13" y="201"/>
                    </a:lnTo>
                    <a:lnTo>
                      <a:pt x="47" y="165"/>
                    </a:lnTo>
                    <a:lnTo>
                      <a:pt x="104" y="129"/>
                    </a:lnTo>
                    <a:lnTo>
                      <a:pt x="179" y="99"/>
                    </a:lnTo>
                    <a:lnTo>
                      <a:pt x="271" y="70"/>
                    </a:lnTo>
                    <a:lnTo>
                      <a:pt x="381" y="47"/>
                    </a:lnTo>
                    <a:lnTo>
                      <a:pt x="502" y="27"/>
                    </a:lnTo>
                    <a:lnTo>
                      <a:pt x="637" y="13"/>
                    </a:lnTo>
                    <a:lnTo>
                      <a:pt x="781" y="2"/>
                    </a:lnTo>
                    <a:lnTo>
                      <a:pt x="934" y="0"/>
                    </a:lnTo>
                    <a:lnTo>
                      <a:pt x="1086" y="2"/>
                    </a:lnTo>
                    <a:lnTo>
                      <a:pt x="1229" y="13"/>
                    </a:lnTo>
                    <a:lnTo>
                      <a:pt x="1363" y="27"/>
                    </a:lnTo>
                    <a:lnTo>
                      <a:pt x="1483" y="47"/>
                    </a:lnTo>
                    <a:lnTo>
                      <a:pt x="1590" y="70"/>
                    </a:lnTo>
                    <a:lnTo>
                      <a:pt x="1681" y="99"/>
                    </a:lnTo>
                    <a:lnTo>
                      <a:pt x="1756" y="129"/>
                    </a:lnTo>
                    <a:lnTo>
                      <a:pt x="1810" y="165"/>
                    </a:lnTo>
                    <a:lnTo>
                      <a:pt x="1845" y="201"/>
                    </a:lnTo>
                    <a:lnTo>
                      <a:pt x="1856" y="240"/>
                    </a:lnTo>
                    <a:lnTo>
                      <a:pt x="1845" y="281"/>
                    </a:lnTo>
                    <a:lnTo>
                      <a:pt x="1810" y="321"/>
                    </a:lnTo>
                    <a:lnTo>
                      <a:pt x="1756" y="355"/>
                    </a:lnTo>
                    <a:lnTo>
                      <a:pt x="1681" y="385"/>
                    </a:lnTo>
                    <a:lnTo>
                      <a:pt x="1590" y="412"/>
                    </a:lnTo>
                    <a:lnTo>
                      <a:pt x="1483" y="434"/>
                    </a:lnTo>
                    <a:lnTo>
                      <a:pt x="1363" y="452"/>
                    </a:lnTo>
                    <a:lnTo>
                      <a:pt x="1229" y="464"/>
                    </a:lnTo>
                    <a:lnTo>
                      <a:pt x="1086" y="473"/>
                    </a:lnTo>
                    <a:lnTo>
                      <a:pt x="934" y="475"/>
                    </a:lnTo>
                    <a:lnTo>
                      <a:pt x="781" y="473"/>
                    </a:lnTo>
                    <a:lnTo>
                      <a:pt x="637" y="464"/>
                    </a:lnTo>
                    <a:lnTo>
                      <a:pt x="502" y="452"/>
                    </a:lnTo>
                    <a:lnTo>
                      <a:pt x="381" y="434"/>
                    </a:lnTo>
                    <a:lnTo>
                      <a:pt x="271" y="412"/>
                    </a:lnTo>
                    <a:lnTo>
                      <a:pt x="179" y="385"/>
                    </a:lnTo>
                    <a:lnTo>
                      <a:pt x="104" y="355"/>
                    </a:lnTo>
                    <a:lnTo>
                      <a:pt x="47" y="321"/>
                    </a:lnTo>
                    <a:lnTo>
                      <a:pt x="13" y="281"/>
                    </a:lnTo>
                    <a:lnTo>
                      <a:pt x="0" y="240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4"/>
              <p:cNvSpPr/>
              <p:nvPr/>
            </p:nvSpPr>
            <p:spPr>
              <a:xfrm>
                <a:off x="5642280" y="3991680"/>
                <a:ext cx="1739880" cy="205560"/>
              </a:xfrm>
              <a:custGeom>
                <a:avLst/>
                <a:gdLst>
                  <a:gd name="textAreaLeft" fmla="*/ 0 w 1739880"/>
                  <a:gd name="textAreaRight" fmla="*/ 1740240 w 173988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1851" h="471">
                    <a:moveTo>
                      <a:pt x="0" y="238"/>
                    </a:moveTo>
                    <a:lnTo>
                      <a:pt x="11" y="201"/>
                    </a:lnTo>
                    <a:lnTo>
                      <a:pt x="47" y="165"/>
                    </a:lnTo>
                    <a:lnTo>
                      <a:pt x="102" y="129"/>
                    </a:lnTo>
                    <a:lnTo>
                      <a:pt x="177" y="98"/>
                    </a:lnTo>
                    <a:lnTo>
                      <a:pt x="270" y="70"/>
                    </a:lnTo>
                    <a:lnTo>
                      <a:pt x="378" y="47"/>
                    </a:lnTo>
                    <a:lnTo>
                      <a:pt x="500" y="27"/>
                    </a:lnTo>
                    <a:lnTo>
                      <a:pt x="634" y="12"/>
                    </a:lnTo>
                    <a:lnTo>
                      <a:pt x="777" y="4"/>
                    </a:lnTo>
                    <a:lnTo>
                      <a:pt x="930" y="0"/>
                    </a:lnTo>
                    <a:lnTo>
                      <a:pt x="1082" y="4"/>
                    </a:lnTo>
                    <a:lnTo>
                      <a:pt x="1224" y="12"/>
                    </a:lnTo>
                    <a:lnTo>
                      <a:pt x="1357" y="27"/>
                    </a:lnTo>
                    <a:lnTo>
                      <a:pt x="1478" y="47"/>
                    </a:lnTo>
                    <a:lnTo>
                      <a:pt x="1584" y="70"/>
                    </a:lnTo>
                    <a:lnTo>
                      <a:pt x="1676" y="98"/>
                    </a:lnTo>
                    <a:lnTo>
                      <a:pt x="1749" y="129"/>
                    </a:lnTo>
                    <a:lnTo>
                      <a:pt x="1805" y="165"/>
                    </a:lnTo>
                    <a:lnTo>
                      <a:pt x="1839" y="201"/>
                    </a:lnTo>
                    <a:lnTo>
                      <a:pt x="1851" y="238"/>
                    </a:lnTo>
                    <a:lnTo>
                      <a:pt x="1839" y="279"/>
                    </a:lnTo>
                    <a:lnTo>
                      <a:pt x="1805" y="317"/>
                    </a:lnTo>
                    <a:lnTo>
                      <a:pt x="1749" y="353"/>
                    </a:lnTo>
                    <a:lnTo>
                      <a:pt x="1676" y="381"/>
                    </a:lnTo>
                    <a:lnTo>
                      <a:pt x="1584" y="408"/>
                    </a:lnTo>
                    <a:lnTo>
                      <a:pt x="1478" y="430"/>
                    </a:lnTo>
                    <a:lnTo>
                      <a:pt x="1357" y="448"/>
                    </a:lnTo>
                    <a:lnTo>
                      <a:pt x="1224" y="460"/>
                    </a:lnTo>
                    <a:lnTo>
                      <a:pt x="1082" y="467"/>
                    </a:lnTo>
                    <a:lnTo>
                      <a:pt x="930" y="471"/>
                    </a:lnTo>
                    <a:lnTo>
                      <a:pt x="777" y="467"/>
                    </a:lnTo>
                    <a:lnTo>
                      <a:pt x="634" y="460"/>
                    </a:lnTo>
                    <a:lnTo>
                      <a:pt x="500" y="448"/>
                    </a:lnTo>
                    <a:lnTo>
                      <a:pt x="378" y="430"/>
                    </a:lnTo>
                    <a:lnTo>
                      <a:pt x="270" y="408"/>
                    </a:lnTo>
                    <a:lnTo>
                      <a:pt x="177" y="381"/>
                    </a:lnTo>
                    <a:lnTo>
                      <a:pt x="102" y="353"/>
                    </a:lnTo>
                    <a:lnTo>
                      <a:pt x="47" y="317"/>
                    </a:lnTo>
                    <a:lnTo>
                      <a:pt x="11" y="279"/>
                    </a:lnTo>
                    <a:lnTo>
                      <a:pt x="0" y="238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5"/>
              <p:cNvSpPr/>
              <p:nvPr/>
            </p:nvSpPr>
            <p:spPr>
              <a:xfrm>
                <a:off x="5644080" y="3993480"/>
                <a:ext cx="1737360" cy="203760"/>
              </a:xfrm>
              <a:custGeom>
                <a:avLst/>
                <a:gdLst>
                  <a:gd name="textAreaLeft" fmla="*/ 0 w 1737360"/>
                  <a:gd name="textAreaRight" fmla="*/ 1737720 w 17373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848" h="465">
                    <a:moveTo>
                      <a:pt x="0" y="234"/>
                    </a:moveTo>
                    <a:lnTo>
                      <a:pt x="13" y="198"/>
                    </a:lnTo>
                    <a:lnTo>
                      <a:pt x="47" y="161"/>
                    </a:lnTo>
                    <a:lnTo>
                      <a:pt x="103" y="127"/>
                    </a:lnTo>
                    <a:lnTo>
                      <a:pt x="178" y="96"/>
                    </a:lnTo>
                    <a:lnTo>
                      <a:pt x="270" y="69"/>
                    </a:lnTo>
                    <a:lnTo>
                      <a:pt x="378" y="44"/>
                    </a:lnTo>
                    <a:lnTo>
                      <a:pt x="499" y="26"/>
                    </a:lnTo>
                    <a:lnTo>
                      <a:pt x="632" y="12"/>
                    </a:lnTo>
                    <a:lnTo>
                      <a:pt x="775" y="1"/>
                    </a:lnTo>
                    <a:lnTo>
                      <a:pt x="928" y="0"/>
                    </a:lnTo>
                    <a:lnTo>
                      <a:pt x="1079" y="1"/>
                    </a:lnTo>
                    <a:lnTo>
                      <a:pt x="1222" y="12"/>
                    </a:lnTo>
                    <a:lnTo>
                      <a:pt x="1354" y="26"/>
                    </a:lnTo>
                    <a:lnTo>
                      <a:pt x="1475" y="44"/>
                    </a:lnTo>
                    <a:lnTo>
                      <a:pt x="1581" y="69"/>
                    </a:lnTo>
                    <a:lnTo>
                      <a:pt x="1673" y="96"/>
                    </a:lnTo>
                    <a:lnTo>
                      <a:pt x="1746" y="127"/>
                    </a:lnTo>
                    <a:lnTo>
                      <a:pt x="1801" y="161"/>
                    </a:lnTo>
                    <a:lnTo>
                      <a:pt x="1835" y="198"/>
                    </a:lnTo>
                    <a:lnTo>
                      <a:pt x="1848" y="236"/>
                    </a:lnTo>
                    <a:lnTo>
                      <a:pt x="1835" y="275"/>
                    </a:lnTo>
                    <a:lnTo>
                      <a:pt x="1801" y="313"/>
                    </a:lnTo>
                    <a:lnTo>
                      <a:pt x="1746" y="347"/>
                    </a:lnTo>
                    <a:lnTo>
                      <a:pt x="1673" y="376"/>
                    </a:lnTo>
                    <a:lnTo>
                      <a:pt x="1581" y="403"/>
                    </a:lnTo>
                    <a:lnTo>
                      <a:pt x="1475" y="424"/>
                    </a:lnTo>
                    <a:lnTo>
                      <a:pt x="1354" y="442"/>
                    </a:lnTo>
                    <a:lnTo>
                      <a:pt x="1222" y="454"/>
                    </a:lnTo>
                    <a:lnTo>
                      <a:pt x="1079" y="462"/>
                    </a:lnTo>
                    <a:lnTo>
                      <a:pt x="928" y="465"/>
                    </a:lnTo>
                    <a:lnTo>
                      <a:pt x="775" y="462"/>
                    </a:lnTo>
                    <a:lnTo>
                      <a:pt x="632" y="454"/>
                    </a:lnTo>
                    <a:lnTo>
                      <a:pt x="499" y="442"/>
                    </a:lnTo>
                    <a:lnTo>
                      <a:pt x="378" y="424"/>
                    </a:lnTo>
                    <a:lnTo>
                      <a:pt x="270" y="403"/>
                    </a:lnTo>
                    <a:lnTo>
                      <a:pt x="178" y="376"/>
                    </a:lnTo>
                    <a:lnTo>
                      <a:pt x="103" y="347"/>
                    </a:lnTo>
                    <a:lnTo>
                      <a:pt x="47" y="313"/>
                    </a:lnTo>
                    <a:lnTo>
                      <a:pt x="13" y="275"/>
                    </a:lnTo>
                    <a:lnTo>
                      <a:pt x="2" y="236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6"/>
              <p:cNvSpPr/>
              <p:nvPr/>
            </p:nvSpPr>
            <p:spPr>
              <a:xfrm>
                <a:off x="5648040" y="3994200"/>
                <a:ext cx="1730520" cy="201960"/>
              </a:xfrm>
              <a:custGeom>
                <a:avLst/>
                <a:gdLst>
                  <a:gd name="textAreaLeft" fmla="*/ 0 w 1730520"/>
                  <a:gd name="textAreaRight" fmla="*/ 1730880 w 17305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841" h="462">
                    <a:moveTo>
                      <a:pt x="0" y="235"/>
                    </a:moveTo>
                    <a:lnTo>
                      <a:pt x="13" y="197"/>
                    </a:lnTo>
                    <a:lnTo>
                      <a:pt x="47" y="162"/>
                    </a:lnTo>
                    <a:lnTo>
                      <a:pt x="103" y="127"/>
                    </a:lnTo>
                    <a:lnTo>
                      <a:pt x="176" y="97"/>
                    </a:lnTo>
                    <a:lnTo>
                      <a:pt x="269" y="70"/>
                    </a:lnTo>
                    <a:lnTo>
                      <a:pt x="376" y="47"/>
                    </a:lnTo>
                    <a:lnTo>
                      <a:pt x="497" y="27"/>
                    </a:lnTo>
                    <a:lnTo>
                      <a:pt x="629" y="13"/>
                    </a:lnTo>
                    <a:lnTo>
                      <a:pt x="773" y="4"/>
                    </a:lnTo>
                    <a:lnTo>
                      <a:pt x="924" y="0"/>
                    </a:lnTo>
                    <a:lnTo>
                      <a:pt x="1075" y="4"/>
                    </a:lnTo>
                    <a:lnTo>
                      <a:pt x="1217" y="13"/>
                    </a:lnTo>
                    <a:lnTo>
                      <a:pt x="1349" y="27"/>
                    </a:lnTo>
                    <a:lnTo>
                      <a:pt x="1469" y="47"/>
                    </a:lnTo>
                    <a:lnTo>
                      <a:pt x="1576" y="70"/>
                    </a:lnTo>
                    <a:lnTo>
                      <a:pt x="1667" y="97"/>
                    </a:lnTo>
                    <a:lnTo>
                      <a:pt x="1741" y="127"/>
                    </a:lnTo>
                    <a:lnTo>
                      <a:pt x="1795" y="162"/>
                    </a:lnTo>
                    <a:lnTo>
                      <a:pt x="1830" y="197"/>
                    </a:lnTo>
                    <a:lnTo>
                      <a:pt x="1841" y="235"/>
                    </a:lnTo>
                    <a:lnTo>
                      <a:pt x="1830" y="274"/>
                    </a:lnTo>
                    <a:lnTo>
                      <a:pt x="1795" y="310"/>
                    </a:lnTo>
                    <a:lnTo>
                      <a:pt x="1741" y="344"/>
                    </a:lnTo>
                    <a:lnTo>
                      <a:pt x="1667" y="373"/>
                    </a:lnTo>
                    <a:lnTo>
                      <a:pt x="1576" y="400"/>
                    </a:lnTo>
                    <a:lnTo>
                      <a:pt x="1469" y="421"/>
                    </a:lnTo>
                    <a:lnTo>
                      <a:pt x="1349" y="439"/>
                    </a:lnTo>
                    <a:lnTo>
                      <a:pt x="1217" y="452"/>
                    </a:lnTo>
                    <a:lnTo>
                      <a:pt x="1075" y="459"/>
                    </a:lnTo>
                    <a:lnTo>
                      <a:pt x="924" y="462"/>
                    </a:lnTo>
                    <a:lnTo>
                      <a:pt x="773" y="459"/>
                    </a:lnTo>
                    <a:lnTo>
                      <a:pt x="629" y="452"/>
                    </a:lnTo>
                    <a:lnTo>
                      <a:pt x="497" y="439"/>
                    </a:lnTo>
                    <a:lnTo>
                      <a:pt x="376" y="421"/>
                    </a:lnTo>
                    <a:lnTo>
                      <a:pt x="269" y="400"/>
                    </a:lnTo>
                    <a:lnTo>
                      <a:pt x="176" y="373"/>
                    </a:lnTo>
                    <a:lnTo>
                      <a:pt x="103" y="344"/>
                    </a:lnTo>
                    <a:lnTo>
                      <a:pt x="47" y="310"/>
                    </a:lnTo>
                    <a:lnTo>
                      <a:pt x="13" y="274"/>
                    </a:lnTo>
                    <a:lnTo>
                      <a:pt x="0" y="235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7"/>
              <p:cNvSpPr/>
              <p:nvPr/>
            </p:nvSpPr>
            <p:spPr>
              <a:xfrm>
                <a:off x="5650920" y="3995280"/>
                <a:ext cx="1726920" cy="19908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837" h="455">
                    <a:moveTo>
                      <a:pt x="0" y="231"/>
                    </a:moveTo>
                    <a:lnTo>
                      <a:pt x="12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6" y="95"/>
                    </a:lnTo>
                    <a:lnTo>
                      <a:pt x="267" y="68"/>
                    </a:lnTo>
                    <a:lnTo>
                      <a:pt x="375" y="45"/>
                    </a:lnTo>
                    <a:lnTo>
                      <a:pt x="496" y="25"/>
                    </a:lnTo>
                    <a:lnTo>
                      <a:pt x="628" y="11"/>
                    </a:lnTo>
                    <a:lnTo>
                      <a:pt x="770" y="2"/>
                    </a:lnTo>
                    <a:lnTo>
                      <a:pt x="921" y="0"/>
                    </a:lnTo>
                    <a:lnTo>
                      <a:pt x="1070" y="2"/>
                    </a:lnTo>
                    <a:lnTo>
                      <a:pt x="1213" y="11"/>
                    </a:lnTo>
                    <a:lnTo>
                      <a:pt x="1345" y="25"/>
                    </a:lnTo>
                    <a:lnTo>
                      <a:pt x="1465" y="45"/>
                    </a:lnTo>
                    <a:lnTo>
                      <a:pt x="1572" y="68"/>
                    </a:lnTo>
                    <a:lnTo>
                      <a:pt x="1662" y="95"/>
                    </a:lnTo>
                    <a:lnTo>
                      <a:pt x="1735" y="127"/>
                    </a:lnTo>
                    <a:lnTo>
                      <a:pt x="1790" y="159"/>
                    </a:lnTo>
                    <a:lnTo>
                      <a:pt x="1824" y="195"/>
                    </a:lnTo>
                    <a:lnTo>
                      <a:pt x="1837" y="233"/>
                    </a:lnTo>
                    <a:lnTo>
                      <a:pt x="1824" y="270"/>
                    </a:lnTo>
                    <a:lnTo>
                      <a:pt x="1790" y="306"/>
                    </a:lnTo>
                    <a:lnTo>
                      <a:pt x="1735" y="338"/>
                    </a:lnTo>
                    <a:lnTo>
                      <a:pt x="1662" y="367"/>
                    </a:lnTo>
                    <a:lnTo>
                      <a:pt x="1572" y="394"/>
                    </a:lnTo>
                    <a:lnTo>
                      <a:pt x="1465" y="415"/>
                    </a:lnTo>
                    <a:lnTo>
                      <a:pt x="1345" y="432"/>
                    </a:lnTo>
                    <a:lnTo>
                      <a:pt x="1213" y="444"/>
                    </a:lnTo>
                    <a:lnTo>
                      <a:pt x="1070" y="453"/>
                    </a:lnTo>
                    <a:lnTo>
                      <a:pt x="921" y="455"/>
                    </a:lnTo>
                    <a:lnTo>
                      <a:pt x="770" y="453"/>
                    </a:lnTo>
                    <a:lnTo>
                      <a:pt x="628" y="444"/>
                    </a:lnTo>
                    <a:lnTo>
                      <a:pt x="496" y="432"/>
                    </a:lnTo>
                    <a:lnTo>
                      <a:pt x="375" y="415"/>
                    </a:lnTo>
                    <a:lnTo>
                      <a:pt x="267" y="394"/>
                    </a:lnTo>
                    <a:lnTo>
                      <a:pt x="176" y="367"/>
                    </a:lnTo>
                    <a:lnTo>
                      <a:pt x="102" y="338"/>
                    </a:lnTo>
                    <a:lnTo>
                      <a:pt x="47" y="306"/>
                    </a:lnTo>
                    <a:lnTo>
                      <a:pt x="12" y="270"/>
                    </a:lnTo>
                    <a:lnTo>
                      <a:pt x="1" y="233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8"/>
              <p:cNvSpPr/>
              <p:nvPr/>
            </p:nvSpPr>
            <p:spPr>
              <a:xfrm>
                <a:off x="5653800" y="3996000"/>
                <a:ext cx="1721160" cy="197640"/>
              </a:xfrm>
              <a:custGeom>
                <a:avLst/>
                <a:gdLst>
                  <a:gd name="textAreaLeft" fmla="*/ 0 w 1721160"/>
                  <a:gd name="textAreaRight" fmla="*/ 1721520 w 172116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1831" h="451">
                    <a:moveTo>
                      <a:pt x="0" y="231"/>
                    </a:moveTo>
                    <a:lnTo>
                      <a:pt x="13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5" y="96"/>
                    </a:lnTo>
                    <a:lnTo>
                      <a:pt x="267" y="70"/>
                    </a:lnTo>
                    <a:lnTo>
                      <a:pt x="373" y="46"/>
                    </a:lnTo>
                    <a:lnTo>
                      <a:pt x="494" y="27"/>
                    </a:lnTo>
                    <a:lnTo>
                      <a:pt x="626" y="12"/>
                    </a:lnTo>
                    <a:lnTo>
                      <a:pt x="768" y="3"/>
                    </a:lnTo>
                    <a:lnTo>
                      <a:pt x="918" y="0"/>
                    </a:lnTo>
                    <a:lnTo>
                      <a:pt x="1067" y="3"/>
                    </a:lnTo>
                    <a:lnTo>
                      <a:pt x="1210" y="12"/>
                    </a:lnTo>
                    <a:lnTo>
                      <a:pt x="1340" y="27"/>
                    </a:lnTo>
                    <a:lnTo>
                      <a:pt x="1461" y="46"/>
                    </a:lnTo>
                    <a:lnTo>
                      <a:pt x="1566" y="70"/>
                    </a:lnTo>
                    <a:lnTo>
                      <a:pt x="1657" y="96"/>
                    </a:lnTo>
                    <a:lnTo>
                      <a:pt x="1731" y="127"/>
                    </a:lnTo>
                    <a:lnTo>
                      <a:pt x="1786" y="159"/>
                    </a:lnTo>
                    <a:lnTo>
                      <a:pt x="1820" y="195"/>
                    </a:lnTo>
                    <a:lnTo>
                      <a:pt x="1831" y="231"/>
                    </a:lnTo>
                    <a:lnTo>
                      <a:pt x="1820" y="268"/>
                    </a:lnTo>
                    <a:lnTo>
                      <a:pt x="1786" y="302"/>
                    </a:lnTo>
                    <a:lnTo>
                      <a:pt x="1731" y="335"/>
                    </a:lnTo>
                    <a:lnTo>
                      <a:pt x="1657" y="363"/>
                    </a:lnTo>
                    <a:lnTo>
                      <a:pt x="1566" y="390"/>
                    </a:lnTo>
                    <a:lnTo>
                      <a:pt x="1461" y="412"/>
                    </a:lnTo>
                    <a:lnTo>
                      <a:pt x="1340" y="428"/>
                    </a:lnTo>
                    <a:lnTo>
                      <a:pt x="1210" y="440"/>
                    </a:lnTo>
                    <a:lnTo>
                      <a:pt x="1067" y="449"/>
                    </a:lnTo>
                    <a:lnTo>
                      <a:pt x="918" y="451"/>
                    </a:lnTo>
                    <a:lnTo>
                      <a:pt x="768" y="449"/>
                    </a:lnTo>
                    <a:lnTo>
                      <a:pt x="626" y="440"/>
                    </a:lnTo>
                    <a:lnTo>
                      <a:pt x="494" y="428"/>
                    </a:lnTo>
                    <a:lnTo>
                      <a:pt x="373" y="412"/>
                    </a:lnTo>
                    <a:lnTo>
                      <a:pt x="267" y="390"/>
                    </a:lnTo>
                    <a:lnTo>
                      <a:pt x="175" y="363"/>
                    </a:lnTo>
                    <a:lnTo>
                      <a:pt x="102" y="335"/>
                    </a:lnTo>
                    <a:lnTo>
                      <a:pt x="47" y="302"/>
                    </a:lnTo>
                    <a:lnTo>
                      <a:pt x="13" y="268"/>
                    </a:lnTo>
                    <a:lnTo>
                      <a:pt x="0" y="231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9"/>
              <p:cNvSpPr/>
              <p:nvPr/>
            </p:nvSpPr>
            <p:spPr>
              <a:xfrm>
                <a:off x="5656680" y="3997800"/>
                <a:ext cx="1717560" cy="19476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827" h="446">
                    <a:moveTo>
                      <a:pt x="0" y="228"/>
                    </a:moveTo>
                    <a:lnTo>
                      <a:pt x="13" y="192"/>
                    </a:lnTo>
                    <a:lnTo>
                      <a:pt x="47" y="158"/>
                    </a:lnTo>
                    <a:lnTo>
                      <a:pt x="101" y="126"/>
                    </a:lnTo>
                    <a:lnTo>
                      <a:pt x="175" y="95"/>
                    </a:lnTo>
                    <a:lnTo>
                      <a:pt x="266" y="68"/>
                    </a:lnTo>
                    <a:lnTo>
                      <a:pt x="373" y="45"/>
                    </a:lnTo>
                    <a:lnTo>
                      <a:pt x="492" y="25"/>
                    </a:lnTo>
                    <a:lnTo>
                      <a:pt x="623" y="11"/>
                    </a:lnTo>
                    <a:lnTo>
                      <a:pt x="765" y="2"/>
                    </a:lnTo>
                    <a:lnTo>
                      <a:pt x="915" y="0"/>
                    </a:lnTo>
                    <a:lnTo>
                      <a:pt x="1064" y="2"/>
                    </a:lnTo>
                    <a:lnTo>
                      <a:pt x="1205" y="11"/>
                    </a:lnTo>
                    <a:lnTo>
                      <a:pt x="1337" y="25"/>
                    </a:lnTo>
                    <a:lnTo>
                      <a:pt x="1457" y="45"/>
                    </a:lnTo>
                    <a:lnTo>
                      <a:pt x="1562" y="68"/>
                    </a:lnTo>
                    <a:lnTo>
                      <a:pt x="1653" y="95"/>
                    </a:lnTo>
                    <a:lnTo>
                      <a:pt x="1727" y="126"/>
                    </a:lnTo>
                    <a:lnTo>
                      <a:pt x="1781" y="158"/>
                    </a:lnTo>
                    <a:lnTo>
                      <a:pt x="1814" y="192"/>
                    </a:lnTo>
                    <a:lnTo>
                      <a:pt x="1827" y="228"/>
                    </a:lnTo>
                    <a:lnTo>
                      <a:pt x="1814" y="265"/>
                    </a:lnTo>
                    <a:lnTo>
                      <a:pt x="1781" y="299"/>
                    </a:lnTo>
                    <a:lnTo>
                      <a:pt x="1727" y="332"/>
                    </a:lnTo>
                    <a:lnTo>
                      <a:pt x="1653" y="360"/>
                    </a:lnTo>
                    <a:lnTo>
                      <a:pt x="1562" y="384"/>
                    </a:lnTo>
                    <a:lnTo>
                      <a:pt x="1457" y="405"/>
                    </a:lnTo>
                    <a:lnTo>
                      <a:pt x="1337" y="423"/>
                    </a:lnTo>
                    <a:lnTo>
                      <a:pt x="1205" y="436"/>
                    </a:lnTo>
                    <a:lnTo>
                      <a:pt x="1064" y="443"/>
                    </a:lnTo>
                    <a:lnTo>
                      <a:pt x="915" y="446"/>
                    </a:lnTo>
                    <a:lnTo>
                      <a:pt x="765" y="443"/>
                    </a:lnTo>
                    <a:lnTo>
                      <a:pt x="623" y="436"/>
                    </a:lnTo>
                    <a:lnTo>
                      <a:pt x="492" y="423"/>
                    </a:lnTo>
                    <a:lnTo>
                      <a:pt x="373" y="405"/>
                    </a:lnTo>
                    <a:lnTo>
                      <a:pt x="266" y="384"/>
                    </a:lnTo>
                    <a:lnTo>
                      <a:pt x="175" y="360"/>
                    </a:lnTo>
                    <a:lnTo>
                      <a:pt x="101" y="332"/>
                    </a:lnTo>
                    <a:lnTo>
                      <a:pt x="47" y="299"/>
                    </a:lnTo>
                    <a:lnTo>
                      <a:pt x="13" y="265"/>
                    </a:lnTo>
                    <a:lnTo>
                      <a:pt x="1" y="228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0"/>
              <p:cNvSpPr/>
              <p:nvPr/>
            </p:nvSpPr>
            <p:spPr>
              <a:xfrm>
                <a:off x="5660280" y="399888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>
                <a:off x="5591880" y="3974400"/>
                <a:ext cx="1844280" cy="25524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2"/>
              <p:cNvSpPr/>
              <p:nvPr/>
            </p:nvSpPr>
            <p:spPr>
              <a:xfrm>
                <a:off x="5660280" y="399888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3"/>
              <p:cNvSpPr/>
              <p:nvPr/>
            </p:nvSpPr>
            <p:spPr>
              <a:xfrm>
                <a:off x="5660280" y="399888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4"/>
              <p:cNvSpPr/>
              <p:nvPr/>
            </p:nvSpPr>
            <p:spPr>
              <a:xfrm>
                <a:off x="5660280" y="4098600"/>
                <a:ext cx="1711080" cy="9360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0" h="214">
                    <a:moveTo>
                      <a:pt x="0" y="0"/>
                    </a:moveTo>
                    <a:lnTo>
                      <a:pt x="12" y="35"/>
                    </a:lnTo>
                    <a:lnTo>
                      <a:pt x="47" y="69"/>
                    </a:lnTo>
                    <a:lnTo>
                      <a:pt x="101" y="100"/>
                    </a:lnTo>
                    <a:lnTo>
                      <a:pt x="174" y="128"/>
                    </a:lnTo>
                    <a:lnTo>
                      <a:pt x="265" y="152"/>
                    </a:lnTo>
                    <a:lnTo>
                      <a:pt x="370" y="173"/>
                    </a:lnTo>
                    <a:lnTo>
                      <a:pt x="489" y="191"/>
                    </a:lnTo>
                    <a:lnTo>
                      <a:pt x="620" y="204"/>
                    </a:lnTo>
                    <a:lnTo>
                      <a:pt x="761" y="211"/>
                    </a:lnTo>
                    <a:lnTo>
                      <a:pt x="911" y="214"/>
                    </a:lnTo>
                    <a:lnTo>
                      <a:pt x="1059" y="211"/>
                    </a:lnTo>
                    <a:lnTo>
                      <a:pt x="1201" y="204"/>
                    </a:lnTo>
                    <a:lnTo>
                      <a:pt x="1332" y="191"/>
                    </a:lnTo>
                    <a:lnTo>
                      <a:pt x="1451" y="173"/>
                    </a:lnTo>
                    <a:lnTo>
                      <a:pt x="1557" y="152"/>
                    </a:lnTo>
                    <a:lnTo>
                      <a:pt x="1647" y="128"/>
                    </a:lnTo>
                    <a:lnTo>
                      <a:pt x="1720" y="100"/>
                    </a:lnTo>
                    <a:lnTo>
                      <a:pt x="1775" y="69"/>
                    </a:lnTo>
                    <a:lnTo>
                      <a:pt x="1809" y="35"/>
                    </a:lnTo>
                    <a:lnTo>
                      <a:pt x="182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AutoShape 46"/>
            <p:cNvSpPr/>
            <p:nvPr/>
          </p:nvSpPr>
          <p:spPr>
            <a:xfrm flipH="1" rot="16200000">
              <a:off x="6874560" y="2605680"/>
              <a:ext cx="473400" cy="2679840"/>
            </a:xfrm>
            <a:custGeom>
              <a:avLst/>
              <a:gdLst>
                <a:gd name="textAreaLeft" fmla="*/ 272160 w 473400"/>
                <a:gd name="textAreaRight" fmla="*/ 432000 w 473400"/>
                <a:gd name="textAreaTop" fmla="*/ 525240 h 2679840"/>
                <a:gd name="textAreaBottom" fmla="*/ 98316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49"/>
            <p:cNvSpPr/>
            <p:nvPr/>
          </p:nvSpPr>
          <p:spPr>
            <a:xfrm rot="5400000">
              <a:off x="5670000" y="2601000"/>
              <a:ext cx="473040" cy="2688840"/>
            </a:xfrm>
            <a:custGeom>
              <a:avLst/>
              <a:gdLst>
                <a:gd name="textAreaLeft" fmla="*/ 272160 w 473040"/>
                <a:gd name="textAreaRight" fmla="*/ 432360 w 473040"/>
                <a:gd name="textAreaTop" fmla="*/ 527400 h 2688840"/>
                <a:gd name="textAreaBottom" fmla="*/ 985680 h 26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52"/>
            <p:cNvGrpSpPr/>
            <p:nvPr/>
          </p:nvGrpSpPr>
          <p:grpSpPr>
            <a:xfrm>
              <a:off x="5167440" y="5149440"/>
              <a:ext cx="2726640" cy="946440"/>
              <a:chOff x="5167440" y="5149440"/>
              <a:chExt cx="2726640" cy="946440"/>
            </a:xfrm>
          </p:grpSpPr>
          <p:sp>
            <p:nvSpPr>
              <p:cNvPr id="248" name="Freeform 53"/>
              <p:cNvSpPr/>
              <p:nvPr/>
            </p:nvSpPr>
            <p:spPr>
              <a:xfrm>
                <a:off x="5167440" y="5149440"/>
                <a:ext cx="2726640" cy="946440"/>
              </a:xfrm>
              <a:custGeom>
                <a:avLst/>
                <a:gdLst>
                  <a:gd name="textAreaLeft" fmla="*/ 0 w 2726640"/>
                  <a:gd name="textAreaRight" fmla="*/ 2727000 w 2726640"/>
                  <a:gd name="textAreaTop" fmla="*/ 0 h 946440"/>
                  <a:gd name="textAreaBottom" fmla="*/ 946800 h 946440"/>
                </a:gdLst>
                <a:ahLst/>
                <a:rect l="textAreaLeft" t="textAreaTop" r="textAreaRight" b="textAreaBottom"/>
                <a:pathLst>
                  <a:path w="1152" h="1150">
                    <a:moveTo>
                      <a:pt x="577" y="0"/>
                    </a:moveTo>
                    <a:lnTo>
                      <a:pt x="592" y="38"/>
                    </a:lnTo>
                    <a:lnTo>
                      <a:pt x="607" y="76"/>
                    </a:lnTo>
                    <a:lnTo>
                      <a:pt x="622" y="111"/>
                    </a:lnTo>
                    <a:lnTo>
                      <a:pt x="637" y="143"/>
                    </a:lnTo>
                    <a:lnTo>
                      <a:pt x="652" y="174"/>
                    </a:lnTo>
                    <a:lnTo>
                      <a:pt x="670" y="202"/>
                    </a:lnTo>
                    <a:lnTo>
                      <a:pt x="685" y="229"/>
                    </a:lnTo>
                    <a:lnTo>
                      <a:pt x="702" y="254"/>
                    </a:lnTo>
                    <a:lnTo>
                      <a:pt x="722" y="277"/>
                    </a:lnTo>
                    <a:lnTo>
                      <a:pt x="742" y="302"/>
                    </a:lnTo>
                    <a:lnTo>
                      <a:pt x="767" y="327"/>
                    </a:lnTo>
                    <a:lnTo>
                      <a:pt x="792" y="352"/>
                    </a:lnTo>
                    <a:lnTo>
                      <a:pt x="820" y="378"/>
                    </a:lnTo>
                    <a:lnTo>
                      <a:pt x="852" y="405"/>
                    </a:lnTo>
                    <a:lnTo>
                      <a:pt x="885" y="431"/>
                    </a:lnTo>
                    <a:lnTo>
                      <a:pt x="920" y="458"/>
                    </a:lnTo>
                    <a:lnTo>
                      <a:pt x="962" y="488"/>
                    </a:lnTo>
                    <a:lnTo>
                      <a:pt x="1007" y="523"/>
                    </a:lnTo>
                    <a:lnTo>
                      <a:pt x="1045" y="559"/>
                    </a:lnTo>
                    <a:lnTo>
                      <a:pt x="1077" y="594"/>
                    </a:lnTo>
                    <a:lnTo>
                      <a:pt x="1105" y="629"/>
                    </a:lnTo>
                    <a:lnTo>
                      <a:pt x="1125" y="665"/>
                    </a:lnTo>
                    <a:lnTo>
                      <a:pt x="1140" y="700"/>
                    </a:lnTo>
                    <a:lnTo>
                      <a:pt x="1150" y="735"/>
                    </a:lnTo>
                    <a:lnTo>
                      <a:pt x="1152" y="770"/>
                    </a:lnTo>
                    <a:lnTo>
                      <a:pt x="1150" y="808"/>
                    </a:lnTo>
                    <a:lnTo>
                      <a:pt x="1142" y="846"/>
                    </a:lnTo>
                    <a:lnTo>
                      <a:pt x="1127" y="881"/>
                    </a:lnTo>
                    <a:lnTo>
                      <a:pt x="1110" y="916"/>
                    </a:lnTo>
                    <a:lnTo>
                      <a:pt x="1085" y="949"/>
                    </a:lnTo>
                    <a:lnTo>
                      <a:pt x="1057" y="981"/>
                    </a:lnTo>
                    <a:lnTo>
                      <a:pt x="1022" y="1011"/>
                    </a:lnTo>
                    <a:lnTo>
                      <a:pt x="982" y="1039"/>
                    </a:lnTo>
                    <a:lnTo>
                      <a:pt x="960" y="1052"/>
                    </a:lnTo>
                    <a:lnTo>
                      <a:pt x="937" y="1065"/>
                    </a:lnTo>
                    <a:lnTo>
                      <a:pt x="915" y="1077"/>
                    </a:lnTo>
                    <a:lnTo>
                      <a:pt x="892" y="1087"/>
                    </a:lnTo>
                    <a:lnTo>
                      <a:pt x="870" y="1097"/>
                    </a:lnTo>
                    <a:lnTo>
                      <a:pt x="845" y="1107"/>
                    </a:lnTo>
                    <a:lnTo>
                      <a:pt x="820" y="1115"/>
                    </a:lnTo>
                    <a:lnTo>
                      <a:pt x="795" y="1122"/>
                    </a:lnTo>
                    <a:lnTo>
                      <a:pt x="770" y="1128"/>
                    </a:lnTo>
                    <a:lnTo>
                      <a:pt x="742" y="1135"/>
                    </a:lnTo>
                    <a:lnTo>
                      <a:pt x="717" y="1140"/>
                    </a:lnTo>
                    <a:lnTo>
                      <a:pt x="690" y="1143"/>
                    </a:lnTo>
                    <a:lnTo>
                      <a:pt x="662" y="1147"/>
                    </a:lnTo>
                    <a:lnTo>
                      <a:pt x="635" y="1148"/>
                    </a:lnTo>
                    <a:lnTo>
                      <a:pt x="607" y="1150"/>
                    </a:lnTo>
                    <a:lnTo>
                      <a:pt x="577" y="1150"/>
                    </a:lnTo>
                    <a:lnTo>
                      <a:pt x="547" y="1150"/>
                    </a:lnTo>
                    <a:lnTo>
                      <a:pt x="517" y="1148"/>
                    </a:lnTo>
                    <a:lnTo>
                      <a:pt x="490" y="1147"/>
                    </a:lnTo>
                    <a:lnTo>
                      <a:pt x="462" y="1143"/>
                    </a:lnTo>
                    <a:lnTo>
                      <a:pt x="435" y="1140"/>
                    </a:lnTo>
                    <a:lnTo>
                      <a:pt x="407" y="1135"/>
                    </a:lnTo>
                    <a:lnTo>
                      <a:pt x="382" y="1128"/>
                    </a:lnTo>
                    <a:lnTo>
                      <a:pt x="355" y="1122"/>
                    </a:lnTo>
                    <a:lnTo>
                      <a:pt x="330" y="1115"/>
                    </a:lnTo>
                    <a:lnTo>
                      <a:pt x="305" y="1107"/>
                    </a:lnTo>
                    <a:lnTo>
                      <a:pt x="282" y="1097"/>
                    </a:lnTo>
                    <a:lnTo>
                      <a:pt x="257" y="1087"/>
                    </a:lnTo>
                    <a:lnTo>
                      <a:pt x="235" y="1077"/>
                    </a:lnTo>
                    <a:lnTo>
                      <a:pt x="212" y="1065"/>
                    </a:lnTo>
                    <a:lnTo>
                      <a:pt x="192" y="1052"/>
                    </a:lnTo>
                    <a:lnTo>
                      <a:pt x="170" y="1039"/>
                    </a:lnTo>
                    <a:lnTo>
                      <a:pt x="130" y="1011"/>
                    </a:lnTo>
                    <a:lnTo>
                      <a:pt x="95" y="981"/>
                    </a:lnTo>
                    <a:lnTo>
                      <a:pt x="65" y="949"/>
                    </a:lnTo>
                    <a:lnTo>
                      <a:pt x="42" y="916"/>
                    </a:lnTo>
                    <a:lnTo>
                      <a:pt x="22" y="881"/>
                    </a:lnTo>
                    <a:lnTo>
                      <a:pt x="10" y="846"/>
                    </a:lnTo>
                    <a:lnTo>
                      <a:pt x="2" y="808"/>
                    </a:lnTo>
                    <a:lnTo>
                      <a:pt x="0" y="770"/>
                    </a:lnTo>
                    <a:lnTo>
                      <a:pt x="2" y="735"/>
                    </a:lnTo>
                    <a:lnTo>
                      <a:pt x="12" y="700"/>
                    </a:lnTo>
                    <a:lnTo>
                      <a:pt x="27" y="665"/>
                    </a:lnTo>
                    <a:lnTo>
                      <a:pt x="47" y="629"/>
                    </a:lnTo>
                    <a:lnTo>
                      <a:pt x="75" y="594"/>
                    </a:lnTo>
                    <a:lnTo>
                      <a:pt x="107" y="559"/>
                    </a:lnTo>
                    <a:lnTo>
                      <a:pt x="145" y="523"/>
                    </a:lnTo>
                    <a:lnTo>
                      <a:pt x="190" y="488"/>
                    </a:lnTo>
                    <a:lnTo>
                      <a:pt x="232" y="458"/>
                    </a:lnTo>
                    <a:lnTo>
                      <a:pt x="267" y="431"/>
                    </a:lnTo>
                    <a:lnTo>
                      <a:pt x="300" y="405"/>
                    </a:lnTo>
                    <a:lnTo>
                      <a:pt x="332" y="378"/>
                    </a:lnTo>
                    <a:lnTo>
                      <a:pt x="360" y="352"/>
                    </a:lnTo>
                    <a:lnTo>
                      <a:pt x="385" y="327"/>
                    </a:lnTo>
                    <a:lnTo>
                      <a:pt x="410" y="302"/>
                    </a:lnTo>
                    <a:lnTo>
                      <a:pt x="430" y="277"/>
                    </a:lnTo>
                    <a:lnTo>
                      <a:pt x="450" y="254"/>
                    </a:lnTo>
                    <a:lnTo>
                      <a:pt x="467" y="229"/>
                    </a:lnTo>
                    <a:lnTo>
                      <a:pt x="485" y="202"/>
                    </a:lnTo>
                    <a:lnTo>
                      <a:pt x="502" y="174"/>
                    </a:lnTo>
                    <a:lnTo>
                      <a:pt x="517" y="143"/>
                    </a:lnTo>
                    <a:lnTo>
                      <a:pt x="532" y="111"/>
                    </a:lnTo>
                    <a:lnTo>
                      <a:pt x="547" y="76"/>
                    </a:lnTo>
                    <a:lnTo>
                      <a:pt x="562" y="38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54"/>
              <p:cNvSpPr/>
              <p:nvPr/>
            </p:nvSpPr>
            <p:spPr>
              <a:xfrm>
                <a:off x="5465520" y="5424120"/>
                <a:ext cx="226044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48 Load Pro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57"/>
            <p:cNvGrpSpPr/>
            <p:nvPr/>
          </p:nvGrpSpPr>
          <p:grpSpPr>
            <a:xfrm>
              <a:off x="7491240" y="3352680"/>
              <a:ext cx="1424160" cy="767880"/>
              <a:chOff x="7491240" y="3352680"/>
              <a:chExt cx="1424160" cy="767880"/>
            </a:xfrm>
          </p:grpSpPr>
          <p:sp>
            <p:nvSpPr>
              <p:cNvPr id="251" name="Oval 58"/>
              <p:cNvSpPr/>
              <p:nvPr/>
            </p:nvSpPr>
            <p:spPr>
              <a:xfrm>
                <a:off x="7491240" y="3352680"/>
                <a:ext cx="1424160" cy="767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16"/>
              <p:cNvSpPr/>
              <p:nvPr/>
            </p:nvSpPr>
            <p:spPr>
              <a:xfrm>
                <a:off x="7589880" y="346212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 Weather Z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60"/>
            <p:cNvGrpSpPr/>
            <p:nvPr/>
          </p:nvGrpSpPr>
          <p:grpSpPr>
            <a:xfrm>
              <a:off x="4114800" y="3352680"/>
              <a:ext cx="1424160" cy="767880"/>
              <a:chOff x="4114800" y="3352680"/>
              <a:chExt cx="1424160" cy="767880"/>
            </a:xfrm>
          </p:grpSpPr>
          <p:sp>
            <p:nvSpPr>
              <p:cNvPr id="254" name="Oval 61"/>
              <p:cNvSpPr/>
              <p:nvPr/>
            </p:nvSpPr>
            <p:spPr>
              <a:xfrm>
                <a:off x="4114800" y="3352680"/>
                <a:ext cx="1424160" cy="767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Box 14"/>
              <p:cNvSpPr/>
              <p:nvPr/>
            </p:nvSpPr>
            <p:spPr>
              <a:xfrm>
                <a:off x="4213080" y="346212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 Profile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42D-76A7-4614-9261-9E12EA8EE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 of Distributed Generation (DG) Load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he version of the Profile Decision Tree immediately prior to this one had 1544 valid Profile IDs assuming LPGRR042 approval.  This version includes 112 new Profile IDs (shown below), for a total of 1656 valid Profile I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PS recommend to the TAC approval with Urg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mktrules/issues/lpgrr/025-049/044/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lementation Plan in separate key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CAB-1EF6-45CB-A249-9093AA08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4572000"/>
            <a:ext cx="8001000" cy="1448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WG meet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3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etings are planned as half day morning WebEx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WG is planning 2011 meetings on the fourth Wednesday through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48080" cy="30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1-02-01T19:45:02Z</dcterms:modified>
  <cp:revision>585</cp:revision>
  <dc:subject/>
  <dc:title>PowerPoint Presentation</dc:title>
</cp:coreProperties>
</file>