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5F6E-C7A0-4903-99B1-3EF742FF9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8E78-DA0F-4987-9921-3DF729F47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F818-95D0-475B-BF1C-10FEE5B3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C963-19D6-4713-A79F-A2B28948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1F71-2707-4820-AC67-309485C7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8784-9B27-4E05-AD3B-B6515683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E95D-66A0-42C4-80F5-73A50FEF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EC8C-F964-4EB2-B0F9-2469AC0C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5CFD-461E-4A76-9505-54D29F09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FD3A-5922-433F-A171-D4152B48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E260-D27B-474C-9DE8-49261ED5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8D23-1629-4269-B514-DA8435FB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4604-17DD-45A7-B4FF-F172E685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570F-43D5-43E5-B892-E647A8AD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5E06-ACF8-4763-8CE7-EDDF9EC9A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29B0-7A8C-485F-84FC-967EC7C69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/3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yle Patr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S Chair/Vice Chair El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yle Patrick: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thy Scott: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0 Market Coordination Tea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SET (4.0): Implementation scheduled for Ma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S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associated with Deferred Payment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associated with Critical Care &amp; Chronic C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Meter Tamp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ESI ID transition between CRs due to Acqui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ling Blackouts drive high call volume to retail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CT AMIT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T has consolidated its projects into one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uraging engagement from 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pting action items from A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6CF3-47CA-443F-829A-7C1D79020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S Accomplishments for 2010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ewed PUCT projects and rules for Retail impa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roved Retail Market Guide Revision Reques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orsed Protocol Revision Requests and Nodal Protocol Revision Reques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tenance of Working Groups and Task Fo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d to evaluate Working Groups and Taskforces work levels to gain efficiencies where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roved three test flights that allowed for multiple entrants to the market and new business relationships to be tes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ed ERCOT’s Service Level Agre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ucted processes for market notifications for all Market Particip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roved TX SET 3.0A Change Controls that were implemented in November 20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roved new TX SET Change Controls scheduled for implementation with TX SET 4.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roved MarkeTrak System Change Requ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roved Other Binding Documents Revision Request for TEXAS SET Implementation Gu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tled over 2 million AMS meters in the Texas retail mar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patrick</cp:lastModifiedBy>
  <dcterms:modified xsi:type="dcterms:W3CDTF">2011-02-02T16:00:29Z</dcterms:modified>
  <cp:revision>101</cp:revision>
  <dc:subject/>
  <dc:title>Instructions</dc:title>
</cp:coreProperties>
</file>