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4634-55E9-486E-BC01-3E6CF046E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E0C3-F02F-4057-9E72-22F3F5BA1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B185-01B2-4AC9-A7E5-4E9C4C9D3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128-2185-46B5-9804-AAC8AD84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0618-992A-4099-B491-9CE9B257A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9DE9-91C1-46DE-B31A-7FF05C80D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00B0-D3BD-4183-B438-D7D792955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A32-6E1C-4E65-A323-6D520C56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E35-FB1D-4989-95E9-1C3DA780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887-2F93-4173-AA9A-5F4E2ED3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AB6-1DA7-494F-A41F-2782FA2F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5D2-2DAC-4425-9B56-3CCE0348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3BF-4624-4886-B417-44DFAAE4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A61-AA8D-431C-8F4D-80CEEE9F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736-90A2-402A-BD0E-A25E5A02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C8B-AF77-43C0-8C4B-2EE52903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194-0D09-48F0-9D02-5B3BE09B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889-AB37-4384-87B2-D028C8A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CA5-11C4-406D-B907-A2A3E1E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4B4A-A6A8-44C9-B2D1-83F181ADA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5960" y="2354040"/>
            <a:ext cx="7758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044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Generation (DG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file Segment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6" descr="ClipArt"/>
          <p:cNvPicPr/>
          <p:nvPr/>
        </p:nvPicPr>
        <p:blipFill>
          <a:blip r:embed="rId1"/>
          <a:stretch/>
        </p:blipFill>
        <p:spPr>
          <a:xfrm>
            <a:off x="6070680" y="4119480"/>
            <a:ext cx="17668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78BA-6203-46EE-AE76-54D6B7AF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160" y="14400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G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5920" y="1123920"/>
            <a:ext cx="83721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 3693 requires that ERCOT implement the settlement of distributed renewable generation as of 1/1/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request of DGTF, PWG provided NIDR DRG profiles by 1/2009 for premises of with DRG of 50 kW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208 changes registration requirements for non-renewable distributed generation less than or equal the DG registration 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208 gray-box section modifies the method for allocating energy exported to the grid by wind D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hanges are required to implement NPRR208 gray-box languag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has developed DG Load Profile Segment assignments and Profile Models (same as respective ‘standard’ models) to be applied to ESI IDs with non-PV and non-wind distributed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2 new Load Profile IDs require a market noti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days prior to their implementa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1544 valid Profile IDs based on LPRRR042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E87-66E3-4C58-A571-5688A213C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cipated DG Profile Segmen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1181160"/>
            <a:ext cx="83185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hanges (from NPRR208) necessary to implement this LPGRR are expected to be completed in September 2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ticipated implementation date for this LPG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rgency is granted:  September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rgency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nted:  October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date for the DG profile segments will be depen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ompletion of system changes described in the gray-box language and the notice of 150 days (or mor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forecasted profiles 3 days before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backcasted profiles 1 day after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20FA-D3C2-4E59-9A43-5BFE18CC5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143000"/>
            <a:ext cx="822024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hanges for this effort will be prioritized by the market as part of the post go-live prioritization process.  Once the schedule is known, the 150-day notice will be given to try to coincide with the project completion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the 150-day market notice is published, TDSPs may begin sending documentation to ERCOT initiating a DG Profile Segment assignment requ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accumulate and validate DG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five business days after the implementation date, ERCOT shall send files of validated change requests to TDSPs for dis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TDSPs receive validated change requests from ERCOT, they may submit 814_20 transactions changing to DG Profile Segments with an effective date of a meter reading on or after the implementation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84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G Profile Segment Assignment Trans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F052-1C53-4E09-A47C-7C40FBF05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96880" y="1047600"/>
            <a:ext cx="831852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ed Schedule Based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r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ows for September 2011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review – January 26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 filed January 31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cy request to COPS standing members on January 31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Review – February 8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Review – March 3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-Day (minimum) Market Notice for DG Profile Segments: March 4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date for the DG profile segments will be depen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ompletion of system changes (expected Sep. 2011) described in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-box language and the 150 day no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forecasted profiles 3 days before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backcasted profiles 1 day after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2E10-EB1B-448F-9637-6D5FCDED5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68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96880" y="1041480"/>
            <a:ext cx="8318520" cy="51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ed Schedule Based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ows for October 2011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review – January 26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 filed January 31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day comment period ends February 21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Language Consideration – February 23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IA Review – March 23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Review – April 12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Review – May 5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-Day (minimum) Market Notice for DG Profile Segments:  May 6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date for the DG profile segments will be depen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ompletion of system (expected Sep. 2011) changes described in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-box language and the 150 day no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forecasted profiles 3 days before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to begin posting backcasted profiles 1 day after implement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Luminant</cp:lastModifiedBy>
  <cp:lastPrinted>2002-05-17T20:57:43Z</cp:lastPrinted>
  <dcterms:modified xsi:type="dcterms:W3CDTF">2011-02-01T21:55:26Z</dcterms:modified>
  <cp:revision>382</cp:revision>
  <dc:subject/>
  <dc:title>Retail Transactions Report</dc:title>
</cp:coreProperties>
</file>