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65C8-D48E-482D-8607-A7C290CA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7AC6-D187-4479-B2B7-E5109153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6405-11D6-46A5-AE37-91524121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C836-87C7-4AAE-9AA2-B7BC692C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36EC-5DDA-40E4-AB4B-75D5F116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FB80-8E12-4C1A-A5C3-EA5203C9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3990-6331-4D96-BD86-D7013B03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0DF1-6FAD-425D-8A3C-E5BFF48D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F7CB-3A2C-4487-98A8-D04CA742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D50E-757C-40F6-B4C6-0055560B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1B6EF-DB3F-4045-B6D1-3C497D6C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CEF7-16F8-42F6-866C-716F8E7D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324E-C3C2-42A0-8890-C4A69FE87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48640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IE DRG Settlements TF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08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70E5-213B-4227-BE1A-7278C61FA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bruary 08,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IE DRG Settlements TF update to C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08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E DRG Settlements TF update to 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PS NOIE DRG Task Force  2010 Accomplishmen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on Tucker on behalf of the NOIE DRG Settlements Task Fo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2"/>
          <p:cNvSpPr/>
          <p:nvPr/>
        </p:nvSpPr>
        <p:spPr>
          <a:xfrm>
            <a:off x="548640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E DRG Settlements TF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08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5486400" y="645804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PS NOIE DRG Task Force - 2010 Accomplish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market clarity on registration requirements for Distributed Generation for the Nodal market with NPRR2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ed a DG registration threshold (currently at 1M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d Resource registration requirement for DG below the DG registration 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ed all DG below the DG registration threshold to be settled as negativ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ed reporting requirements for unregistered D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ed threshold trigger to limit installed capacity of unregistered D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Load Zone hits 10 MW threshold triggers Market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G registration threshold is lowered below 1 M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 DG registration threshold is based on reducing the aggregate generation to no more than 7 MW in any Load Z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dtucker</cp:lastModifiedBy>
  <dcterms:modified xsi:type="dcterms:W3CDTF">2011-01-26T16:21:33Z</dcterms:modified>
  <cp:revision>96</cp:revision>
  <dc:subject/>
  <dc:title>Instructions</dc:title>
</cp:coreProperties>
</file>