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725A-6202-43BC-81F7-738F85D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6BCA-10C4-4D0B-A924-F59B90E6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076E-346F-4F83-887F-EBCFF310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15B2-BDCD-408C-B317-DFE3D83F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9E16-8664-4BD9-B335-F33B1F8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2EDB-9FBD-4F4F-8D41-2AAF96DA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7175-0605-453B-A885-424B684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56C1-692F-4BEB-A5D6-2C52F3FA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BCCC-66AE-40AD-8861-6C246344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871A-16CB-47A3-83E7-B8325FF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EB27-48A0-4050-81CE-DE8B94E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1BED-4AD0-4F0F-B016-F05FABD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821-E812-4DCE-A6DD-A5E7D430B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E301-5FE6-4C1C-A726-44641F40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08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IE DRG Settlements TF update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0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RR 208 Formula Discu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rotocols 11.4.4.2 Gray Box Languag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on T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 Settlement Met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.4.4.2 (2) AML for ESI IDs with wind generation shall be adjusted as follow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SI IDs with non-IDRs installed, AML shall be reduced for excess generation from ESI IDs with wind generation equal to or lower than the DG registration threshold behind the meter where there is a meter that measures excess energy flow into the ERCOT System in a separate register.  Only ESI IDs that have been assigned a wind profile segment as specified in the Load Profiling Guide Appendix D, Profile Decision Tree, shall be eligible for this redu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s beginning 0800 and ending 2000 CPT (spanning (48) 15-minute intervals) shall be reduced by the following amou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_adjust = kWh_gen * .65 / (read_days * 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.4.4.2 (2) AML for ESI IDs with wind generation shall be adjusted as follow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intervals in the day (the remaining 48 intervals) shall be reduced by the following amou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_adjust = kWh_gen * .35 /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_days * 48)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+ DST adj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 days affected by day-light savings time adjustments, 48 in the above equation should be reduced to 44 or increased to 52, as appropriate.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(delete thi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_adju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he Reduction for wind excess generation for interval i in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Wh_gen = Actual (measured) kWh flowing into the Distribution System (out-flow from the Premise) in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_days = Number of days in meter read period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ST adjust = Daylight Savings Time Adjustment: Spring DST = -4; Fall DST =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E DRG Settlements TF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0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located Energy Based on Formula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1066680" y="914400"/>
          <a:ext cx="683892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8389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tucker</cp:lastModifiedBy>
  <dcterms:modified xsi:type="dcterms:W3CDTF">2011-02-01T21:32:32Z</dcterms:modified>
  <cp:revision>106</cp:revision>
  <dc:subject/>
  <dc:title>Instructions</dc:title>
</cp:coreProperties>
</file>