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DCC53-D570-45E8-8BC6-681A135A4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0AD7B-F90E-4815-8026-FFE77E1AA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F6B70-0A77-466D-9D73-B53A3CE1C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54122-A52D-43C7-B416-9253E4E7E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74036-4BE2-4DC9-86FD-22EB3B15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28372-8C1C-47D8-A760-8E81AC2F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3AA1-36A3-4F8D-8AD4-EE4B1F5BB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D5E2B-2F94-4E19-A55B-DDB908926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6488C-7876-40CD-AA56-2DC3764FC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FA74A-C1EC-48A0-B184-2B38613A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7B12E-F543-48DD-B43C-468D4B55F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669A-7909-4F4F-B5C2-75AE007E0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3DE31-87F7-40B9-B78B-8BE197BCD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mber 9, 2010</a:t>
            </a:r>
            <a:endParaRPr b="0" lang="en-US" sz="32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ney Nieme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3760" y="152280"/>
            <a:ext cx="9191520" cy="655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33200" y="297000"/>
            <a:ext cx="8877600" cy="62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28800" y="649116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600 MW unit MW movement due to frequency each year.</a:t>
            </a:r>
            <a:endParaRPr b="0" lang="en-US" sz="1800" spc="-1" strike="noStrike">
              <a:solidFill>
                <a:srgbClr val="000000"/>
              </a:solidFill>
              <a:latin typeface="Arial"/>
            </a:endParaRPr>
          </a:p>
        </p:txBody>
      </p:sp>
      <p:pic>
        <p:nvPicPr>
          <p:cNvPr id="59" name="" descr=""/>
          <p:cNvPicPr/>
          <p:nvPr/>
        </p:nvPicPr>
        <p:blipFill>
          <a:blip r:embed="rId1"/>
          <a:stretch/>
        </p:blipFill>
        <p:spPr>
          <a:xfrm>
            <a:off x="399960" y="282600"/>
            <a:ext cx="8344080" cy="62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Total Load and Wind Gener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ource not EPS qu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 data is good with some telemetry errors scrubb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three slides for reference on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7520" y="311040"/>
            <a:ext cx="9048960" cy="623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2840" y="306360"/>
            <a:ext cx="9058320" cy="624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8160" y="301680"/>
            <a:ext cx="9067680" cy="62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Meeting Dec 8, 2010</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Event review</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7, 2010 01:57 Resource trip 523 MW</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llent Interconnection frequency response.</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frequency rate of change was -0.066 Hz/seco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GR energy was 15.93% of total energy.</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8, 2010 13:58 Resource trip 709 MW</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esponse at B+30 was below 420 MW/0.1 Hz minimum at 398 MW/0.1 Hz.</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um frequency rate of change was -0.074 Hz/seco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GR energy was 8.87% of total energy.</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some frequency response that was not sustained by the Resources and some spinning reserve that was not frequency responsive.</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ember 25, 2010 04:30 High frequenc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3 MW of WGR increase in 23 minutes and 16 seconds.</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ember 3, 2010 00:04 Low frequency</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ximately 1900 MW of Generation shutdown.</a:t>
            </a:r>
            <a:endParaRPr b="0" lang="en-US" sz="12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CWG Scope revision will be requested at the January ROS meeting.</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ce Resource Entities are now evaluated individually by GREDP and Base Point Deviation, the PDCWG believes they should be allowed to be members of the PDCWG.  This is the only change to the scope so far.</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CWG meeting dates for 2011 have been set and are at least 8 days before the expected ROS meetin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3760" y="0"/>
            <a:ext cx="9191520" cy="6858000"/>
          </a:xfrm>
          <a:prstGeom prst="rect">
            <a:avLst/>
          </a:prstGeom>
          <a:ln w="0">
            <a:noFill/>
          </a:ln>
        </p:spPr>
      </p:pic>
      <p:sp>
        <p:nvSpPr>
          <p:cNvPr id="44" name=""/>
          <p:cNvSpPr/>
          <p:nvPr/>
        </p:nvSpPr>
        <p:spPr>
          <a:xfrm>
            <a:off x="6629400" y="9144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 147.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7240" y="458640"/>
            <a:ext cx="902952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2560" y="453960"/>
            <a:ext cx="9038880" cy="595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8440" y="220680"/>
            <a:ext cx="9200880" cy="641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160" y="353880"/>
            <a:ext cx="9220320" cy="615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2840" y="349200"/>
            <a:ext cx="9229680" cy="616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3124080" y="3808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PS1 Score</a:t>
            </a:r>
            <a:endParaRPr b="0" lang="en-US" sz="2400" spc="-1" strike="noStrike">
              <a:solidFill>
                <a:srgbClr val="000000"/>
              </a:solidFill>
              <a:latin typeface="Arial"/>
            </a:endParaRPr>
          </a:p>
        </p:txBody>
      </p:sp>
      <p:sp>
        <p:nvSpPr>
          <p:cNvPr id="52" name=""/>
          <p:cNvSpPr/>
          <p:nvPr/>
        </p:nvSpPr>
        <p:spPr>
          <a:xfrm>
            <a:off x="5181480" y="106668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12 Month Rolling Average = 151.3</a:t>
            </a:r>
            <a:endParaRPr b="0" lang="en-US" sz="1800" spc="-1" strike="noStrike">
              <a:solidFill>
                <a:srgbClr val="000000"/>
              </a:solidFill>
              <a:latin typeface="Arial"/>
            </a:endParaRPr>
          </a:p>
        </p:txBody>
      </p:sp>
      <p:sp>
        <p:nvSpPr>
          <p:cNvPr id="53" name=""/>
          <p:cNvSpPr/>
          <p:nvPr/>
        </p:nvSpPr>
        <p:spPr>
          <a:xfrm>
            <a:off x="7467480" y="1523880"/>
            <a:ext cx="10670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147600"/>
            <a:ext cx="9144000" cy="6245280"/>
          </a:xfrm>
          <a:prstGeom prst="rect">
            <a:avLst/>
          </a:prstGeom>
          <a:ln w="0">
            <a:noFill/>
          </a:ln>
        </p:spPr>
      </p:pic>
      <p:pic>
        <p:nvPicPr>
          <p:cNvPr id="55" name="" descr=""/>
          <p:cNvPicPr/>
          <p:nvPr/>
        </p:nvPicPr>
        <p:blipFill>
          <a:blip r:embed="rId2"/>
          <a:stretch/>
        </p:blipFill>
        <p:spPr>
          <a:xfrm>
            <a:off x="6934320" y="380880"/>
            <a:ext cx="1304640" cy="77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13:32Z</dcterms:created>
  <dc:creator>Sydney L. Niemeyer</dc:creator>
  <dc:description/>
  <dc:language>en-US</dc:language>
  <cp:lastModifiedBy>sniemeyer</cp:lastModifiedBy>
  <dcterms:modified xsi:type="dcterms:W3CDTF">2010-12-09T21:58:53Z</dcterms:modified>
  <cp:revision>90</cp:revision>
  <dc:subject/>
  <dc:title>Slide 1</dc:title>
</cp:coreProperties>
</file>