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5A1C-0C17-411E-AE92-92219B96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FC4C-B2AB-4655-BAD4-91BC9FE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64288-737D-4ADD-BDB6-650934FB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D27A6-0867-47EE-9233-BDF5D697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05429-818F-4A6E-9A8D-68C32754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3D29C-BF71-48BE-92C7-BDD9E660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45564-8FAA-4198-A70A-92650412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00645-5757-4CA9-B52E-B4754F8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1053F-7C86-40A0-9078-4DAFB3B9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248BB-D591-4ACC-A489-C45E417B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F7AAD-7D5E-4606-89D0-8087F161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8A687-A70E-4F63-9347-3D9B1BB5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FC7E6-DD4A-451A-9841-AD97D212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39DC8-8539-447A-BED5-E2248ED9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858DF-055B-47EF-B659-B39EA6E3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1B3B4-D30B-47F5-9B0D-EB6D4259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15128-40EE-49C6-AB4B-302BF10F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D6277-CCD5-4D51-BBD8-B11F46B4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FBE4B-1787-4574-A68E-E1D9A194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02358-F682-4536-AA95-558C68AF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219CC-9927-4DF6-B590-7C6A88BD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94DD3-96F9-4485-A1AE-48D0E1FC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A7A5A-9AC2-43F8-A251-B5F4BA6B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041B-1674-4C1D-BABC-4D3228D3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204DB-6D93-477C-807F-1F1CE3C2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FCDC0-0184-4829-ACBA-C3F054E3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47D73-876C-419D-9A04-C9959D9F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488E0-6E33-4888-A7A5-30B745CA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07E59-C0F3-4A5A-86BC-0988C9CC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8BD16-7759-4DAB-BEA6-837DA77F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D78A2-C188-48CE-A01E-0FBFA8A0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0358D-AF48-492B-924B-4A48E6FE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ACA34-4BEA-4C0F-984F-81D7991C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017B5-5F9A-4730-9E89-B80C344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D9DD3-EEA0-433D-9DE8-B8DD15BA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C9937-C3F8-4526-9705-A5C6467E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BE561-05EB-4B0B-ACE8-01158F0B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EFD6C-EFE5-4001-944D-722811FC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C6106-4868-4905-9A2A-4F351B04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2107C-0A1A-4530-8B3A-EDC0EF7A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66725-9394-4257-A3A2-8744DCDD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F5823-7CC6-4896-A518-B51B04D8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0DD66-690E-402D-90C1-FCEFD171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0C97A-FA9E-42DB-BB79-14A555DA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AE7D6-0A67-4AD1-8999-05249D65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C2DDD-8D31-4475-BC74-667EA309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11A51-E62F-49A9-A204-829BC3D5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36635-0520-4416-A5E3-EE2BDCF4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6A74E-7439-43CC-B304-264C6EB5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10B4-723E-49B1-BEAB-515E5459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CE39-10BE-4780-8B51-2B531D2C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ABFF-523C-4C5B-BEBE-A7B97209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6AAD-EE84-4D44-8E6C-F40D4223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3DA0-8F89-4DF8-8692-453C7452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88DD-06CA-4D7C-A357-90557688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2D64-EAE5-4B6B-91FC-68BFF445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7A06-0053-445D-9DDE-563C2FF2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BD32-9B6A-49F2-8D0A-9561B395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908E-2A1D-49CF-A68B-0AB328FC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BB31-2FB5-4232-9D6D-D490ED1B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4B8E-8584-4CA8-9F30-717D8504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508A-0D11-4FB3-88AF-93B6E47A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24EB-7526-4296-A509-86DA2A0A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71686-0AD6-41DD-AB21-95C07E3E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155E-BF34-4163-A2F5-19B36571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F0D7-9943-4AF5-A183-BDBC70F4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CE30-2011-4A93-A2FD-9EB5C449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9AD3-3205-42BC-897D-D1ECC103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E7CA5-E5B3-4F5A-B0EA-B85B9667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2356-84E0-4B64-99DB-90A7C03F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81386-64DF-4F15-8B0A-1B100A3A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4C580-273A-4BEC-80F2-8BFAD04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43A3D-69FA-4502-868A-AB074C35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6163B-FC28-4A8C-BC9B-C8E0D91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0EED7-E32A-43AE-AED4-604FE86E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389C1-2683-4927-BC4A-D7DF489B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6822-3AF1-47EC-BDFC-7BB405F2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3117-02E8-451E-AB0A-C9273FAE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30F59-80DF-4782-A640-B0EB94F2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4BACA-56E9-4C3E-ADC0-CEB60380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485CB-45DC-4192-A59B-C447087F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C067A-270E-4267-A1B1-3A4A2ED9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03A3C-FE0E-42E8-949C-BFDA46C0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4D1D9-8276-4386-AB4B-BFAD71CC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AA04E-F28B-47AF-89B8-2149F21D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3190-05BE-495A-A535-7B5F0F20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DD94C-070E-4BAA-8591-6DB96D3E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E4E86-143F-4E74-A593-5B804220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BF74-9520-49E8-B7EE-4C9E125E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C8DE8-E5EA-4BB7-B897-F29320C0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8B959-6B7A-4AE1-882E-05675D34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4F0A9-924E-46A6-A258-6F93EE05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F804A-77D0-4445-8D95-E18B0C30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4479D-7193-4860-81B5-EF81CB5B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6FB03-6795-4288-9B2D-A1F06486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2762B-0319-4C63-B6EB-8A3369C9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18BA-9851-476A-991B-EBD5800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CE2D-6562-4C73-BB88-F1DE99A6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6DE10-D0C2-47B2-A114-04C94C31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E91D-A4F8-4BA1-99E4-76E2B525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BAB3B-0EB3-49D3-9018-C0C81D93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6FB7A-567E-49AB-A494-0BBDF0FA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309AD-FF35-4117-8D73-62426B24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1735B-A181-4987-A419-3DD2CC65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3D40E-EA3C-484E-9FBD-694BDED7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005B9-C9B2-4D6F-B8DE-405D4A00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FF040-2F86-4532-BC5D-4C726364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FBC9E-D5AC-49C6-B37C-A484B47E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7D0A9-7A2A-4AFE-BAB3-82F5CC96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898F-5169-4157-B450-3822D8B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26354-5623-4B92-AC5C-8349F44D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24FAC-0D67-41B0-8430-1891F36E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BA899-0890-400B-A839-4DECE336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54F79-024C-45C6-A5DB-6C58D323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7A8BF-58E8-480D-8B49-FD7EA815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F80BD-8545-4261-AC9B-DC1AFF2A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2D425-D0D5-4298-9A02-372E0DE5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D6BC9-5CA3-4D8E-9BB0-D45FC285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DC61E-9569-44B8-9881-72498066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3AAFC-7A89-4E9F-A6F2-D4B332F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8E2E8-2344-4E1D-B4B4-2E70A400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9466-281A-40D1-967F-75D52092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06881-3B80-49B2-B416-796C3175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3E0DA-C2E1-4BD9-A531-7D1C5BBA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38E9-49D8-414E-8D52-10523C2D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BEB33-1298-417E-AB79-EF80813E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B7FD7-3ADD-4552-A4F7-0F69631F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E7661-499D-4E95-A53E-D5E1A914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D4AD7-E603-4854-9B85-5EF07FBC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4D200-9DC2-477E-9F7E-E76E59D8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57331-A46D-4E54-92BB-7AC44FC3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88A3B-7682-47BF-AA3B-4EC82743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FD87-0C26-45CE-9EA3-145C910BF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1818-FC46-42EE-8612-A80B3C424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366F-5B50-43EE-B8E2-D06F69500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0F71-0B09-4FCF-85CB-2EDADA85C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8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dt" idx="29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6048-05F8-4A08-8D15-7C459C3C3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C4E5-0817-4D11-B265-D3EB9BB25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1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dt" idx="32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E52C-F893-4925-8ADD-17C7F7311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E951-C616-47AC-9563-D8709BDEE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dt" idx="35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nuary 13,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3559-8B25-4FB4-B7EE-D38B5C77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5A5D-DE36-4E96-9089-CCC9E31CB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0B4A-21F4-48B4-A92B-E8C524B11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5546-A3A3-4503-8385-95A652061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dt" idx="11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F70E-41F0-4C0D-8AEF-B6C06A556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FF68-CC0B-4780-8345-AF6FBF09F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dt" idx="1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BA97-2CB9-4FEB-BFAC-7904F54FB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3C87-1F1C-4291-A4B8-0B73839CF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6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dt" idx="17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8126-612B-4616-B3FC-59F68588C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1ACC-87A6-4CCB-A616-1909488DD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9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dt" idx="20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4A8E-94EF-459A-8F1D-9D8E3FDA5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399-5BDC-4718-8938-979D52624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dt" idx="2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910C-72B0-4952-B2D7-CE4E80687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893F-8CF2-4675-AA71-1D22952D3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5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6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nuary 13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Planning Go-Live Update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y Teixeira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nager, Model Administ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"/>
          <p:cNvSpPr/>
          <p:nvPr/>
        </p:nvSpPr>
        <p:spPr>
          <a:xfrm>
            <a:off x="2324160" y="224784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ooter Placeholder 6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Footer Placeholder 1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380880" y="0"/>
            <a:ext cx="847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D PMCR to Case Total 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"/>
          <p:cNvPicPr/>
          <p:nvPr/>
        </p:nvPicPr>
        <p:blipFill>
          <a:blip r:embed="rId1"/>
          <a:stretch/>
        </p:blipFill>
        <p:spPr>
          <a:xfrm>
            <a:off x="1311120" y="717480"/>
            <a:ext cx="66834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 1 - NMMS Model on Demand Integrated Syst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lowchart: Multidocument 6"/>
          <p:cNvSpPr/>
          <p:nvPr/>
        </p:nvSpPr>
        <p:spPr>
          <a:xfrm>
            <a:off x="228600" y="2895480"/>
            <a:ext cx="1295280" cy="1140120"/>
          </a:xfrm>
          <a:prstGeom prst="flowChartMultidocumen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2" name="Straight Arrow Connector 11"/>
          <p:cNvCxnSpPr/>
          <p:nvPr/>
        </p:nvCxnSpPr>
        <p:spPr>
          <a:xfrm>
            <a:off x="1447560" y="3733920"/>
            <a:ext cx="144828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3" name="Straight Arrow Connector 14"/>
          <p:cNvCxnSpPr/>
          <p:nvPr/>
        </p:nvCxnSpPr>
        <p:spPr>
          <a:xfrm flipV="1">
            <a:off x="1143000" y="5637960"/>
            <a:ext cx="17532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4" name="Straight Arrow Connector 17"/>
          <p:cNvCxnSpPr>
            <a:endCxn id="575" idx="1"/>
          </p:cNvCxnSpPr>
          <p:nvPr/>
        </p:nvCxnSpPr>
        <p:spPr>
          <a:xfrm>
            <a:off x="1447560" y="4762080"/>
            <a:ext cx="1448280" cy="64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6" name="Straight Arrow Connector 20"/>
          <p:cNvCxnSpPr>
            <a:endCxn id="577" idx="1"/>
          </p:cNvCxnSpPr>
          <p:nvPr/>
        </p:nvCxnSpPr>
        <p:spPr>
          <a:xfrm>
            <a:off x="4495320" y="5564160"/>
            <a:ext cx="686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8" name="Flowchart: Document 30"/>
          <p:cNvSpPr/>
          <p:nvPr/>
        </p:nvSpPr>
        <p:spPr>
          <a:xfrm>
            <a:off x="2971800" y="3733920"/>
            <a:ext cx="1523880" cy="612720"/>
          </a:xfrm>
          <a:prstGeom prst="flowChartDocumen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Top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lowchart: Process 31"/>
          <p:cNvSpPr/>
          <p:nvPr/>
        </p:nvSpPr>
        <p:spPr>
          <a:xfrm>
            <a:off x="7391520" y="5105520"/>
            <a:ext cx="1066680" cy="8380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0" name="Straight Arrow Connector 32"/>
          <p:cNvCxnSpPr>
            <a:endCxn id="578" idx="0"/>
          </p:cNvCxnSpPr>
          <p:nvPr/>
        </p:nvCxnSpPr>
        <p:spPr>
          <a:xfrm flipH="1">
            <a:off x="3731400" y="3430080"/>
            <a:ext cx="396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1" name="Straight Arrow Connector 35"/>
          <p:cNvCxnSpPr>
            <a:stCxn id="582" idx="1"/>
          </p:cNvCxnSpPr>
          <p:nvPr/>
        </p:nvCxnSpPr>
        <p:spPr>
          <a:xfrm flipH="1" flipV="1">
            <a:off x="6324120" y="3885840"/>
            <a:ext cx="534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2" name="Flowchart: Decision 38"/>
          <p:cNvSpPr/>
          <p:nvPr/>
        </p:nvSpPr>
        <p:spPr>
          <a:xfrm>
            <a:off x="6858000" y="3200400"/>
            <a:ext cx="2133720" cy="1371600"/>
          </a:xfrm>
          <a:prstGeom prst="flowChartDecisi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 compl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lowchart: Terminator 39"/>
          <p:cNvSpPr/>
          <p:nvPr/>
        </p:nvSpPr>
        <p:spPr>
          <a:xfrm>
            <a:off x="7010280" y="1143000"/>
            <a:ext cx="1828800" cy="609480"/>
          </a:xfrm>
          <a:prstGeom prst="flowChartTermina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Straight Arrow Connector 40"/>
          <p:cNvCxnSpPr>
            <a:stCxn id="578" idx="2"/>
          </p:cNvCxnSpPr>
          <p:nvPr/>
        </p:nvCxnSpPr>
        <p:spPr>
          <a:xfrm flipH="1">
            <a:off x="3733560" y="4306680"/>
            <a:ext cx="2160" cy="494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5" name="Straight Arrow Connector 51"/>
          <p:cNvCxnSpPr>
            <a:stCxn id="582" idx="0"/>
            <a:endCxn id="583" idx="2"/>
          </p:cNvCxnSpPr>
          <p:nvPr/>
        </p:nvCxnSpPr>
        <p:spPr>
          <a:xfrm flipV="1">
            <a:off x="7922160" y="1753560"/>
            <a:ext cx="3960" cy="144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6" name="TextBox 55"/>
          <p:cNvSpPr/>
          <p:nvPr/>
        </p:nvSpPr>
        <p:spPr>
          <a:xfrm>
            <a:off x="7994520" y="2743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56"/>
          <p:cNvSpPr/>
          <p:nvPr/>
        </p:nvSpPr>
        <p:spPr>
          <a:xfrm>
            <a:off x="6404400" y="3352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lowchart: Process 57"/>
          <p:cNvSpPr/>
          <p:nvPr/>
        </p:nvSpPr>
        <p:spPr>
          <a:xfrm>
            <a:off x="5029200" y="3505320"/>
            <a:ext cx="1295280" cy="1143000"/>
          </a:xfrm>
          <a:prstGeom prst="flowChartProcess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s 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via 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9" name="Straight Arrow Connector 60"/>
          <p:cNvCxnSpPr>
            <a:stCxn id="579" idx="0"/>
            <a:endCxn id="582" idx="2"/>
          </p:cNvCxnSpPr>
          <p:nvPr/>
        </p:nvCxnSpPr>
        <p:spPr>
          <a:xfrm flipV="1">
            <a:off x="7922160" y="4573080"/>
            <a:ext cx="39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0" name="Straight Arrow Connector 33"/>
          <p:cNvCxnSpPr/>
          <p:nvPr/>
        </p:nvCxnSpPr>
        <p:spPr>
          <a:xfrm>
            <a:off x="2514240" y="1445760"/>
            <a:ext cx="6865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1" name="Straight Arrow Connector 34"/>
          <p:cNvCxnSpPr/>
          <p:nvPr/>
        </p:nvCxnSpPr>
        <p:spPr>
          <a:xfrm>
            <a:off x="4552920" y="2819520"/>
            <a:ext cx="4960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2" name="Flowchart: Magnetic Disk 36"/>
          <p:cNvSpPr/>
          <p:nvPr/>
        </p:nvSpPr>
        <p:spPr>
          <a:xfrm>
            <a:off x="3200400" y="914400"/>
            <a:ext cx="1295280" cy="1066680"/>
          </a:xfrm>
          <a:prstGeom prst="flowChartMagneticDisk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MMS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lowchart: Process 58"/>
          <p:cNvSpPr/>
          <p:nvPr/>
        </p:nvSpPr>
        <p:spPr>
          <a:xfrm>
            <a:off x="2971800" y="2286000"/>
            <a:ext cx="1600200" cy="114300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Topology Processor for O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lowchart: Process 69"/>
          <p:cNvSpPr/>
          <p:nvPr/>
        </p:nvSpPr>
        <p:spPr>
          <a:xfrm>
            <a:off x="152280" y="914400"/>
            <a:ext cx="2362320" cy="137160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/TSP Network Model update via NO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lowchart: Document 73"/>
          <p:cNvSpPr/>
          <p:nvPr/>
        </p:nvSpPr>
        <p:spPr>
          <a:xfrm>
            <a:off x="5029200" y="2514600"/>
            <a:ext cx="1676520" cy="612720"/>
          </a:xfrm>
          <a:prstGeom prst="flowChart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R Top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lowchart: Document 131"/>
          <p:cNvSpPr/>
          <p:nvPr/>
        </p:nvSpPr>
        <p:spPr>
          <a:xfrm>
            <a:off x="5181480" y="5257800"/>
            <a:ext cx="1524240" cy="612720"/>
          </a:xfrm>
          <a:prstGeom prst="flowChart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 Cas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Straight Arrow Connector 158"/>
          <p:cNvCxnSpPr/>
          <p:nvPr/>
        </p:nvCxnSpPr>
        <p:spPr>
          <a:xfrm>
            <a:off x="6705360" y="5565240"/>
            <a:ext cx="6865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7" name="Straight Arrow Connector 180"/>
          <p:cNvCxnSpPr/>
          <p:nvPr/>
        </p:nvCxnSpPr>
        <p:spPr>
          <a:xfrm flipH="1">
            <a:off x="4495320" y="4570920"/>
            <a:ext cx="53424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8" name="Straight Arrow Connector 189"/>
          <p:cNvCxnSpPr/>
          <p:nvPr/>
        </p:nvCxnSpPr>
        <p:spPr>
          <a:xfrm flipH="1">
            <a:off x="3809160" y="1980720"/>
            <a:ext cx="252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5" name="Flowchart: Alternate Process 37"/>
          <p:cNvSpPr/>
          <p:nvPr/>
        </p:nvSpPr>
        <p:spPr>
          <a:xfrm>
            <a:off x="2895480" y="4800600"/>
            <a:ext cx="1600200" cy="1219320"/>
          </a:xfrm>
          <a:prstGeom prst="flowChartAlternateProcess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lowchart: Multidocument 53"/>
          <p:cNvSpPr/>
          <p:nvPr/>
        </p:nvSpPr>
        <p:spPr>
          <a:xfrm>
            <a:off x="228600" y="4114800"/>
            <a:ext cx="1298520" cy="1143000"/>
          </a:xfrm>
          <a:prstGeom prst="flowChartMultidocumen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 P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lowchart: Multidocument 54"/>
          <p:cNvSpPr/>
          <p:nvPr/>
        </p:nvSpPr>
        <p:spPr>
          <a:xfrm>
            <a:off x="228600" y="5257800"/>
            <a:ext cx="1295280" cy="1143000"/>
          </a:xfrm>
          <a:prstGeom prst="flowChartMultidocumen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 Future P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lowchart: Process 64"/>
          <p:cNvSpPr/>
          <p:nvPr/>
        </p:nvSpPr>
        <p:spPr>
          <a:xfrm>
            <a:off x="1600200" y="2600280"/>
            <a:ext cx="1295280" cy="121932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Straight Arrow Connector 66"/>
          <p:cNvCxnSpPr>
            <a:stCxn id="601" idx="2"/>
          </p:cNvCxnSpPr>
          <p:nvPr/>
        </p:nvCxnSpPr>
        <p:spPr>
          <a:xfrm>
            <a:off x="2246760" y="3819240"/>
            <a:ext cx="801000" cy="105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 1 - Considera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333360" y="961920"/>
            <a:ext cx="83152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Ps trying to do too much with Standard PM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 if for comparison purposes or intended to be perma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set of consistency rules to define limits of changes that can be made or cases will end up as inconsistent as present planning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concentrate on modifying NMMS to reduce number and type of Standard PMCRs to only those necessary for other planning data besides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Option 1 allows SCR items to be acted on immediately after BOD endor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 2 – SSWG Model on Demand Separated Syst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lowchart: Multidocument 6"/>
          <p:cNvSpPr/>
          <p:nvPr/>
        </p:nvSpPr>
        <p:spPr>
          <a:xfrm>
            <a:off x="228600" y="2895480"/>
            <a:ext cx="1295280" cy="1140120"/>
          </a:xfrm>
          <a:prstGeom prst="flowChartMultidocumen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Straight Arrow Connector 11"/>
          <p:cNvCxnSpPr/>
          <p:nvPr/>
        </p:nvCxnSpPr>
        <p:spPr>
          <a:xfrm>
            <a:off x="1447560" y="3733920"/>
            <a:ext cx="1448280" cy="1296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2" name="Straight Arrow Connector 14"/>
          <p:cNvCxnSpPr/>
          <p:nvPr/>
        </p:nvCxnSpPr>
        <p:spPr>
          <a:xfrm flipV="1">
            <a:off x="1143000" y="5637960"/>
            <a:ext cx="17532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3" name="Straight Arrow Connector 20"/>
          <p:cNvCxnSpPr>
            <a:endCxn id="614" idx="1"/>
          </p:cNvCxnSpPr>
          <p:nvPr/>
        </p:nvCxnSpPr>
        <p:spPr>
          <a:xfrm>
            <a:off x="4495320" y="5564160"/>
            <a:ext cx="686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5" name="Flowchart: Document 30"/>
          <p:cNvSpPr/>
          <p:nvPr/>
        </p:nvSpPr>
        <p:spPr>
          <a:xfrm>
            <a:off x="142920" y="4238640"/>
            <a:ext cx="1523880" cy="952560"/>
          </a:xfrm>
          <a:prstGeom prst="flowChartDocumen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pology from Existing Planning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Flowchart: Process 31"/>
          <p:cNvSpPr/>
          <p:nvPr/>
        </p:nvSpPr>
        <p:spPr>
          <a:xfrm>
            <a:off x="7391520" y="5105520"/>
            <a:ext cx="1066680" cy="83808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7" name="Straight Arrow Connector 35"/>
          <p:cNvCxnSpPr>
            <a:stCxn id="618" idx="1"/>
          </p:cNvCxnSpPr>
          <p:nvPr/>
        </p:nvCxnSpPr>
        <p:spPr>
          <a:xfrm flipH="1" flipV="1">
            <a:off x="6324120" y="3885840"/>
            <a:ext cx="534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8" name="Flowchart: Decision 38"/>
          <p:cNvSpPr/>
          <p:nvPr/>
        </p:nvSpPr>
        <p:spPr>
          <a:xfrm>
            <a:off x="6858000" y="3200400"/>
            <a:ext cx="2133720" cy="1371600"/>
          </a:xfrm>
          <a:prstGeom prst="flowChartDecisi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 compl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lowchart: Terminator 39"/>
          <p:cNvSpPr/>
          <p:nvPr/>
        </p:nvSpPr>
        <p:spPr>
          <a:xfrm>
            <a:off x="7010280" y="1143000"/>
            <a:ext cx="1828800" cy="609480"/>
          </a:xfrm>
          <a:prstGeom prst="flowChartTerminator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0" name="Straight Arrow Connector 40"/>
          <p:cNvCxnSpPr>
            <a:endCxn id="621" idx="1"/>
          </p:cNvCxnSpPr>
          <p:nvPr/>
        </p:nvCxnSpPr>
        <p:spPr>
          <a:xfrm>
            <a:off x="1695240" y="4743360"/>
            <a:ext cx="1200600" cy="667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2" name="Straight Arrow Connector 51"/>
          <p:cNvCxnSpPr>
            <a:endCxn id="619" idx="2"/>
          </p:cNvCxnSpPr>
          <p:nvPr/>
        </p:nvCxnSpPr>
        <p:spPr>
          <a:xfrm flipH="1" flipV="1">
            <a:off x="7923960" y="1752120"/>
            <a:ext cx="10440" cy="324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Box 55"/>
          <p:cNvSpPr/>
          <p:nvPr/>
        </p:nvSpPr>
        <p:spPr>
          <a:xfrm>
            <a:off x="8204040" y="3038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56"/>
          <p:cNvSpPr/>
          <p:nvPr/>
        </p:nvSpPr>
        <p:spPr>
          <a:xfrm>
            <a:off x="6404400" y="3352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lowchart: Process 57"/>
          <p:cNvSpPr/>
          <p:nvPr/>
        </p:nvSpPr>
        <p:spPr>
          <a:xfrm>
            <a:off x="5029200" y="3505320"/>
            <a:ext cx="1295280" cy="1143000"/>
          </a:xfrm>
          <a:prstGeom prst="flowChartProcess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s 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 via M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Straight Arrow Connector 60"/>
          <p:cNvCxnSpPr>
            <a:stCxn id="616" idx="0"/>
            <a:endCxn id="618" idx="2"/>
          </p:cNvCxnSpPr>
          <p:nvPr/>
        </p:nvCxnSpPr>
        <p:spPr>
          <a:xfrm flipV="1">
            <a:off x="7922160" y="4573080"/>
            <a:ext cx="39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7" name="Straight Arrow Connector 33"/>
          <p:cNvCxnSpPr/>
          <p:nvPr/>
        </p:nvCxnSpPr>
        <p:spPr>
          <a:xfrm>
            <a:off x="2514240" y="1445760"/>
            <a:ext cx="6865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8" name="Straight Arrow Connector 34"/>
          <p:cNvCxnSpPr/>
          <p:nvPr/>
        </p:nvCxnSpPr>
        <p:spPr>
          <a:xfrm>
            <a:off x="4552920" y="2819520"/>
            <a:ext cx="49608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9" name="Flowchart: Magnetic Disk 36"/>
          <p:cNvSpPr/>
          <p:nvPr/>
        </p:nvSpPr>
        <p:spPr>
          <a:xfrm>
            <a:off x="3200400" y="914400"/>
            <a:ext cx="1295280" cy="1066680"/>
          </a:xfrm>
          <a:prstGeom prst="flowChartMagneticDisk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MMS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lowchart: Process 58"/>
          <p:cNvSpPr/>
          <p:nvPr/>
        </p:nvSpPr>
        <p:spPr>
          <a:xfrm>
            <a:off x="2971800" y="2286000"/>
            <a:ext cx="1600200" cy="114300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Topology Processor for O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lowchart: Process 69"/>
          <p:cNvSpPr/>
          <p:nvPr/>
        </p:nvSpPr>
        <p:spPr>
          <a:xfrm>
            <a:off x="152280" y="914400"/>
            <a:ext cx="2362320" cy="137160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/TSP Network Model update via NO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lowchart: Document 73"/>
          <p:cNvSpPr/>
          <p:nvPr/>
        </p:nvSpPr>
        <p:spPr>
          <a:xfrm>
            <a:off x="5029200" y="2514600"/>
            <a:ext cx="1676520" cy="612720"/>
          </a:xfrm>
          <a:prstGeom prst="flowChart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R Top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lowchart: Document 131"/>
          <p:cNvSpPr/>
          <p:nvPr/>
        </p:nvSpPr>
        <p:spPr>
          <a:xfrm>
            <a:off x="5181480" y="5257800"/>
            <a:ext cx="1524240" cy="612720"/>
          </a:xfrm>
          <a:prstGeom prst="flowChart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 Cas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Straight Arrow Connector 158"/>
          <p:cNvCxnSpPr/>
          <p:nvPr/>
        </p:nvCxnSpPr>
        <p:spPr>
          <a:xfrm>
            <a:off x="6705360" y="5565240"/>
            <a:ext cx="6865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4" name="Straight Arrow Connector 180"/>
          <p:cNvCxnSpPr/>
          <p:nvPr/>
        </p:nvCxnSpPr>
        <p:spPr>
          <a:xfrm flipH="1">
            <a:off x="4495320" y="4570920"/>
            <a:ext cx="53424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5" name="Straight Arrow Connector 189"/>
          <p:cNvCxnSpPr/>
          <p:nvPr/>
        </p:nvCxnSpPr>
        <p:spPr>
          <a:xfrm flipH="1">
            <a:off x="3809160" y="1980720"/>
            <a:ext cx="252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1" name="Flowchart: Alternate Process 37"/>
          <p:cNvSpPr/>
          <p:nvPr/>
        </p:nvSpPr>
        <p:spPr>
          <a:xfrm>
            <a:off x="2895480" y="4800600"/>
            <a:ext cx="1600200" cy="1219320"/>
          </a:xfrm>
          <a:prstGeom prst="flowChartAlternateProcess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lowchart: Multidocument 54"/>
          <p:cNvSpPr/>
          <p:nvPr/>
        </p:nvSpPr>
        <p:spPr>
          <a:xfrm>
            <a:off x="228600" y="5257800"/>
            <a:ext cx="1295280" cy="1143000"/>
          </a:xfrm>
          <a:prstGeom prst="flowChartMultidocumen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 Future P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lowchart: Process 64"/>
          <p:cNvSpPr/>
          <p:nvPr/>
        </p:nvSpPr>
        <p:spPr>
          <a:xfrm>
            <a:off x="1600200" y="2610000"/>
            <a:ext cx="1295280" cy="121572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Straight Arrow Connector 66"/>
          <p:cNvCxnSpPr>
            <a:stCxn id="637" idx="2"/>
          </p:cNvCxnSpPr>
          <p:nvPr/>
        </p:nvCxnSpPr>
        <p:spPr>
          <a:xfrm>
            <a:off x="2246760" y="3825360"/>
            <a:ext cx="801000" cy="95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9" name="Flowchart: Document 41"/>
          <p:cNvSpPr/>
          <p:nvPr/>
        </p:nvSpPr>
        <p:spPr>
          <a:xfrm>
            <a:off x="6934320" y="2104920"/>
            <a:ext cx="1885680" cy="1038240"/>
          </a:xfrm>
          <a:prstGeom prst="flowChartDocument">
            <a:avLst/>
          </a:prstGeom>
          <a:solidFill>
            <a:srgbClr val="ff99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to 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lve/Expl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Straight Arrow Connector 44"/>
          <p:cNvCxnSpPr/>
          <p:nvPr/>
        </p:nvCxnSpPr>
        <p:spPr>
          <a:xfrm flipH="1" flipV="1">
            <a:off x="7923960" y="3009240"/>
            <a:ext cx="104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 2 - Problem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4000" y="743040"/>
            <a:ext cx="831528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Go-Live is being re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ust 1, 2011 date for redefined Go-Live is misl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building cases that are still 78%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n ongoing commitment to reconcile dif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tion defined, is it going to make cases more consistent or is it just a list of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it is intended to make cases more consistent, cases will be complete before comparison made with no feedback in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ed to wait until July 1 for possible new SCRs to be submitted delays work on SCR760 and SCR75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 2 – Changes Needed to make it Better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333360" y="961920"/>
            <a:ext cx="83152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commitment to resolve and update cases by a specific date before Go-Live comparability can be clai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some definition of consistency in order to identify updates that must b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commitment by TSPs to Go-Live without having to repeat experience of last three mon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tion 3 – Maintain Current Separated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Footer Placeholder 2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Date Placeholder 3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lowchart: Summing Junction 8"/>
          <p:cNvSpPr/>
          <p:nvPr/>
        </p:nvSpPr>
        <p:spPr>
          <a:xfrm>
            <a:off x="2971800" y="4800600"/>
            <a:ext cx="1523880" cy="1527120"/>
          </a:xfrm>
          <a:prstGeom prst="flowChartSummingJunction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Straight Arrow Connector 14"/>
          <p:cNvCxnSpPr>
            <a:stCxn id="654" idx="3"/>
            <a:endCxn id="652" idx="2"/>
          </p:cNvCxnSpPr>
          <p:nvPr/>
        </p:nvCxnSpPr>
        <p:spPr>
          <a:xfrm>
            <a:off x="1752120" y="4533840"/>
            <a:ext cx="1220040" cy="1031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5" name="Straight Arrow Connector 20"/>
          <p:cNvCxnSpPr/>
          <p:nvPr/>
        </p:nvCxnSpPr>
        <p:spPr>
          <a:xfrm flipV="1">
            <a:off x="4495320" y="5562360"/>
            <a:ext cx="686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6" name="Flowchart: Process 31"/>
          <p:cNvSpPr/>
          <p:nvPr/>
        </p:nvSpPr>
        <p:spPr>
          <a:xfrm>
            <a:off x="7391520" y="5105520"/>
            <a:ext cx="1066680" cy="838080"/>
          </a:xfrm>
          <a:prstGeom prst="flowChartProcess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7" name="Straight Arrow Connector 35"/>
          <p:cNvCxnSpPr/>
          <p:nvPr/>
        </p:nvCxnSpPr>
        <p:spPr>
          <a:xfrm flipH="1" flipV="1">
            <a:off x="6324120" y="3885840"/>
            <a:ext cx="534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8" name="Flowchart: Decision 38"/>
          <p:cNvSpPr/>
          <p:nvPr/>
        </p:nvSpPr>
        <p:spPr>
          <a:xfrm>
            <a:off x="6858000" y="3200400"/>
            <a:ext cx="2133720" cy="1371600"/>
          </a:xfrm>
          <a:prstGeom prst="flowChartDecision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 compl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lowchart: Terminator 39"/>
          <p:cNvSpPr/>
          <p:nvPr/>
        </p:nvSpPr>
        <p:spPr>
          <a:xfrm>
            <a:off x="7010280" y="1143000"/>
            <a:ext cx="1828800" cy="609480"/>
          </a:xfrm>
          <a:prstGeom prst="flowChartTerminator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e Po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0" name="Straight Arrow Connector 51"/>
          <p:cNvCxnSpPr>
            <a:stCxn id="658" idx="0"/>
            <a:endCxn id="659" idx="2"/>
          </p:cNvCxnSpPr>
          <p:nvPr/>
        </p:nvCxnSpPr>
        <p:spPr>
          <a:xfrm flipV="1">
            <a:off x="7922160" y="1753560"/>
            <a:ext cx="3960" cy="1448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1" name="TextBox 55"/>
          <p:cNvSpPr/>
          <p:nvPr/>
        </p:nvSpPr>
        <p:spPr>
          <a:xfrm>
            <a:off x="7994520" y="2743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56"/>
          <p:cNvSpPr/>
          <p:nvPr/>
        </p:nvSpPr>
        <p:spPr>
          <a:xfrm>
            <a:off x="6404400" y="3352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lowchart: Process 57"/>
          <p:cNvSpPr/>
          <p:nvPr/>
        </p:nvSpPr>
        <p:spPr>
          <a:xfrm>
            <a:off x="4724280" y="3505320"/>
            <a:ext cx="1600200" cy="838080"/>
          </a:xfrm>
          <a:prstGeom prst="flowChartProcess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s 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via IDEV,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4" name="Straight Arrow Connector 60"/>
          <p:cNvCxnSpPr>
            <a:stCxn id="656" idx="0"/>
            <a:endCxn id="658" idx="2"/>
          </p:cNvCxnSpPr>
          <p:nvPr/>
        </p:nvCxnSpPr>
        <p:spPr>
          <a:xfrm flipV="1">
            <a:off x="7922160" y="4573080"/>
            <a:ext cx="39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5" name="Straight Arrow Connector 33"/>
          <p:cNvCxnSpPr>
            <a:endCxn id="666" idx="2"/>
          </p:cNvCxnSpPr>
          <p:nvPr/>
        </p:nvCxnSpPr>
        <p:spPr>
          <a:xfrm>
            <a:off x="2514240" y="1447920"/>
            <a:ext cx="686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7" name="Straight Arrow Connector 34"/>
          <p:cNvCxnSpPr>
            <a:endCxn id="668" idx="1"/>
          </p:cNvCxnSpPr>
          <p:nvPr/>
        </p:nvCxnSpPr>
        <p:spPr>
          <a:xfrm>
            <a:off x="4648320" y="2819520"/>
            <a:ext cx="381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6" name="Flowchart: Magnetic Disk 36"/>
          <p:cNvSpPr/>
          <p:nvPr/>
        </p:nvSpPr>
        <p:spPr>
          <a:xfrm>
            <a:off x="3200400" y="914400"/>
            <a:ext cx="1295280" cy="1066680"/>
          </a:xfrm>
          <a:prstGeom prst="flowChartMagneticDisk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MMS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lowchart: Process 58"/>
          <p:cNvSpPr/>
          <p:nvPr/>
        </p:nvSpPr>
        <p:spPr>
          <a:xfrm>
            <a:off x="3048120" y="2286000"/>
            <a:ext cx="1600200" cy="114300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Topology Processor for OD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lowchart: Process 69"/>
          <p:cNvSpPr/>
          <p:nvPr/>
        </p:nvSpPr>
        <p:spPr>
          <a:xfrm>
            <a:off x="152280" y="914400"/>
            <a:ext cx="2362320" cy="1371600"/>
          </a:xfrm>
          <a:prstGeom prst="flowChart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/TSP Network Model update via NO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lowchart: Document 73"/>
          <p:cNvSpPr/>
          <p:nvPr/>
        </p:nvSpPr>
        <p:spPr>
          <a:xfrm>
            <a:off x="5029200" y="2514600"/>
            <a:ext cx="1676520" cy="612720"/>
          </a:xfrm>
          <a:prstGeom prst="flowChart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R Top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lowchart: Document 131"/>
          <p:cNvSpPr/>
          <p:nvPr/>
        </p:nvSpPr>
        <p:spPr>
          <a:xfrm>
            <a:off x="5181480" y="5029200"/>
            <a:ext cx="1524240" cy="990720"/>
          </a:xfrm>
          <a:prstGeom prst="flowChartDocument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ning  Case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2" name="Straight Arrow Connector 158"/>
          <p:cNvCxnSpPr>
            <a:stCxn id="671" idx="3"/>
            <a:endCxn id="656" idx="1"/>
          </p:cNvCxnSpPr>
          <p:nvPr/>
        </p:nvCxnSpPr>
        <p:spPr>
          <a:xfrm>
            <a:off x="6705360" y="5524560"/>
            <a:ext cx="686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180"/>
          <p:cNvCxnSpPr>
            <a:endCxn id="652" idx="7"/>
          </p:cNvCxnSpPr>
          <p:nvPr/>
        </p:nvCxnSpPr>
        <p:spPr>
          <a:xfrm flipH="1">
            <a:off x="4271760" y="4343400"/>
            <a:ext cx="452880" cy="681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4" name="Straight Arrow Connector 189"/>
          <p:cNvCxnSpPr/>
          <p:nvPr/>
        </p:nvCxnSpPr>
        <p:spPr>
          <a:xfrm flipH="1">
            <a:off x="3809160" y="1980720"/>
            <a:ext cx="252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5" name="Flowchart: Process 195"/>
          <p:cNvSpPr/>
          <p:nvPr/>
        </p:nvSpPr>
        <p:spPr>
          <a:xfrm>
            <a:off x="2133720" y="3581280"/>
            <a:ext cx="1371600" cy="841320"/>
          </a:xfrm>
          <a:prstGeom prst="flowChartProcess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COT Dis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6" name="Straight Arrow Connector 196"/>
          <p:cNvCxnSpPr>
            <a:stCxn id="675" idx="2"/>
          </p:cNvCxnSpPr>
          <p:nvPr/>
        </p:nvCxnSpPr>
        <p:spPr>
          <a:xfrm>
            <a:off x="2819520" y="4422240"/>
            <a:ext cx="457920" cy="531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4" name="Flowchart: Process 199"/>
          <p:cNvSpPr/>
          <p:nvPr/>
        </p:nvSpPr>
        <p:spPr>
          <a:xfrm>
            <a:off x="152280" y="3124080"/>
            <a:ext cx="1600200" cy="2819520"/>
          </a:xfrm>
          <a:prstGeom prst="flowChartProcess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SPs submit RAWD files for their area cont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pology, Load, Volta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1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Date Placeholder 2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3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"/>
          <p:cNvSpPr/>
          <p:nvPr/>
        </p:nvSpPr>
        <p:spPr>
          <a:xfrm>
            <a:off x="380880" y="0"/>
            <a:ext cx="649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sistency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6"/>
          <p:cNvSpPr/>
          <p:nvPr/>
        </p:nvSpPr>
        <p:spPr>
          <a:xfrm flipV="1">
            <a:off x="1066680" y="3886200"/>
            <a:ext cx="7048800" cy="9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11"/>
          <p:cNvSpPr/>
          <p:nvPr/>
        </p:nvSpPr>
        <p:spPr>
          <a:xfrm flipH="1">
            <a:off x="1047240" y="3400560"/>
            <a:ext cx="9720" cy="1000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4"/>
          <p:cNvSpPr/>
          <p:nvPr/>
        </p:nvSpPr>
        <p:spPr>
          <a:xfrm flipH="1">
            <a:off x="8133840" y="3400560"/>
            <a:ext cx="9720" cy="1000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5"/>
          <p:cNvSpPr/>
          <p:nvPr/>
        </p:nvSpPr>
        <p:spPr>
          <a:xfrm flipH="1">
            <a:off x="1980720" y="3409920"/>
            <a:ext cx="9720" cy="1000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Callout 2 16"/>
          <p:cNvSpPr/>
          <p:nvPr/>
        </p:nvSpPr>
        <p:spPr>
          <a:xfrm>
            <a:off x="1438200" y="828720"/>
            <a:ext cx="3840120" cy="612720"/>
          </a:xfrm>
          <a:prstGeom prst="borderCallout2">
            <a:avLst>
              <a:gd name="adj1" fmla="val 18750"/>
              <a:gd name="adj2" fmla="val -8333"/>
              <a:gd name="adj3" fmla="val 46736"/>
              <a:gd name="adj4" fmla="val -4027"/>
              <a:gd name="adj5" fmla="val 407898"/>
              <a:gd name="adj6" fmla="val -10231"/>
            </a:avLst>
          </a:prstGeom>
          <a:solidFill>
            <a:srgbClr val="ffc000"/>
          </a:solidFill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 Topology Processor Output used for CR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Callout 2 18"/>
          <p:cNvSpPr/>
          <p:nvPr/>
        </p:nvSpPr>
        <p:spPr>
          <a:xfrm>
            <a:off x="2266920" y="1562040"/>
            <a:ext cx="3840120" cy="612720"/>
          </a:xfrm>
          <a:prstGeom prst="borderCallout2">
            <a:avLst>
              <a:gd name="adj1" fmla="val 18750"/>
              <a:gd name="adj2" fmla="val -8333"/>
              <a:gd name="adj3" fmla="val 46736"/>
              <a:gd name="adj4" fmla="val -4027"/>
              <a:gd name="adj5" fmla="val 288185"/>
              <a:gd name="adj6" fmla="val -7254"/>
            </a:avLst>
          </a:prstGeom>
          <a:solidFill>
            <a:srgbClr val="ffc000"/>
          </a:solidFill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 Output + Standard PMC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Callout 2 19"/>
          <p:cNvSpPr/>
          <p:nvPr/>
        </p:nvSpPr>
        <p:spPr>
          <a:xfrm>
            <a:off x="3753000" y="2314440"/>
            <a:ext cx="3840120" cy="613080"/>
          </a:xfrm>
          <a:prstGeom prst="borderCallout2">
            <a:avLst>
              <a:gd name="adj1" fmla="val 18750"/>
              <a:gd name="adj2" fmla="val -8333"/>
              <a:gd name="adj3" fmla="val 49847"/>
              <a:gd name="adj4" fmla="val 107578"/>
              <a:gd name="adj5" fmla="val 163805"/>
              <a:gd name="adj6" fmla="val 1135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WG 2012 Case compared to TP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20"/>
          <p:cNvSpPr/>
          <p:nvPr/>
        </p:nvSpPr>
        <p:spPr>
          <a:xfrm>
            <a:off x="624960" y="4648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21"/>
          <p:cNvSpPr/>
          <p:nvPr/>
        </p:nvSpPr>
        <p:spPr>
          <a:xfrm>
            <a:off x="1690560" y="46450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22"/>
          <p:cNvSpPr/>
          <p:nvPr/>
        </p:nvSpPr>
        <p:spPr>
          <a:xfrm>
            <a:off x="7796160" y="46450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ight Arrow 17"/>
          <p:cNvSpPr/>
          <p:nvPr/>
        </p:nvSpPr>
        <p:spPr>
          <a:xfrm>
            <a:off x="1076400" y="3638520"/>
            <a:ext cx="895320" cy="4842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c00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eft Arrow 20"/>
          <p:cNvSpPr/>
          <p:nvPr/>
        </p:nvSpPr>
        <p:spPr>
          <a:xfrm>
            <a:off x="4505400" y="3629160"/>
            <a:ext cx="3606840" cy="4842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Callout 2 22"/>
          <p:cNvSpPr/>
          <p:nvPr/>
        </p:nvSpPr>
        <p:spPr>
          <a:xfrm>
            <a:off x="1666800" y="5419800"/>
            <a:ext cx="2571840" cy="438120"/>
          </a:xfrm>
          <a:prstGeom prst="borderCallout2">
            <a:avLst>
              <a:gd name="adj1" fmla="val 18750"/>
              <a:gd name="adj2" fmla="val -8333"/>
              <a:gd name="adj3" fmla="val 52638"/>
              <a:gd name="adj4" fmla="val -9652"/>
              <a:gd name="adj5" fmla="val -272356"/>
              <a:gd name="adj6" fmla="val -10138"/>
            </a:avLst>
          </a:prstGeom>
          <a:solidFill>
            <a:srgbClr val="ffc000"/>
          </a:solidFill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00 Standard PMC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Callout 2 23"/>
          <p:cNvSpPr/>
          <p:nvPr/>
        </p:nvSpPr>
        <p:spPr>
          <a:xfrm>
            <a:off x="4952880" y="4896000"/>
            <a:ext cx="2571840" cy="952200"/>
          </a:xfrm>
          <a:prstGeom prst="borderCallout2">
            <a:avLst>
              <a:gd name="adj1" fmla="val 18750"/>
              <a:gd name="adj2" fmla="val -8333"/>
              <a:gd name="adj3" fmla="val -49060"/>
              <a:gd name="adj4" fmla="val 49976"/>
              <a:gd name="adj5" fmla="val -89097"/>
              <a:gd name="adj6" fmla="val 494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arge number of something very similar to PMC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eft Arrow 21"/>
          <p:cNvSpPr/>
          <p:nvPr/>
        </p:nvSpPr>
        <p:spPr>
          <a:xfrm>
            <a:off x="7686720" y="4971960"/>
            <a:ext cx="901800" cy="48420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jteixeira</dc:creator>
  <dc:description/>
  <dc:language>en-US</dc:language>
  <cp:lastModifiedBy>Teixeira</cp:lastModifiedBy>
  <dcterms:modified xsi:type="dcterms:W3CDTF">2011-01-11T20:56:48Z</dcterms:modified>
  <cp:revision>96</cp:revision>
  <dc:subject/>
  <dc:title>Instructions</dc:title>
</cp:coreProperties>
</file>