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5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7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F599C55-89A6-49D9-B671-B34781B68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1832AEC-C94D-46FF-A869-4759FD216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2949CD5-EE11-4D9C-9242-11702C281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135B4-3E7A-48C8-8C24-3899966E39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8CB65-0DB4-4724-AB18-C77209BE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072F2-8154-4CF3-9D0F-17E9A6C9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71C27-D41C-43B6-AEDD-0570A6CBF1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1B07E-DC13-4093-A8ED-5F3B1D75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3543A-7188-4322-A3E8-9964FE0F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B7BA0-4591-41DE-ABA7-61790208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D76C4-9A30-4863-916B-F5C9B3702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E41AD-712E-4C07-8430-F50BD918D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0CA02-171E-4D43-BE8B-0C441125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0E137-79E2-4C47-873E-4B9BFAB8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37257-FEEC-4046-9927-8DD159F3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E546-65CF-438C-B02F-FA8EE8FF3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8229600" y="62485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CA0D-F324-49C2-9F9A-6C23EE25E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4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eting Title (opt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"/>
          <p:cNvSpPr/>
          <p:nvPr/>
        </p:nvSpPr>
        <p:spPr>
          <a:xfrm>
            <a:off x="8229600" y="624852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DC26-8989-49D8-8F8B-2D4F0396B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1371600" y="1905120"/>
            <a:ext cx="617220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2011 Prioritization Update to Market Subcommitte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1371600" y="3581280"/>
            <a:ext cx="57913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oy Ander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prise Project Portfolio Manag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ember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lanning Model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560" y="7621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 Annual Planning Models from the NMMS Database also used to build Network Operations Model and models for the Mark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iv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ain much higher level of consistency between Operations and Planning models than experienced in the pa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the Topology Processor and Model On Demand applications to retrieve data from NMMS Database to finished Planning model.  Go-Live date set for April 1, 20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-month period, running 12/01/2010 – 4/01/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sks / Issu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P concerns about the amount of data that they need to add to Topology Processor output in Model On Demand to create satisfactory Planning mod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2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December 20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ferred Defects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56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e and remediate the priority 3 defects that were deferred from the Nodal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iv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e to improve the operational efficiency of the Nodal Applications and reduce the impact of workarounds for both ERCOT and Market Particip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ect release bundles and estimates have been defined for delivery in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lease mainly isolated to the individual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-month period, running 12/1/2010 – 9/30/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sks / Issu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urce availability and delivery timelines may be impacted by Stabilization eff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ooter Placeholder 2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December 20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1 Project Prioritization – Prioritization of 2011 Nodal Work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oritization of 2011 Nodal work has beg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merged list from various sources has been draf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 and Board were briefed on the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recommendations were received and are being ado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“Submission Date”, “Major System Impacted”, “Estimated Cos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subcommittees will be visited in December and January to discuss and review pri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subcommittee approval has been moved to February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 and Board consideration in March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ization criteria is being updated for use in this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us to better account for strategic alignment, resource availability, cost/benefit, and other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additions will be added as they arise in the stakeholder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6"/>
          <p:cNvSpPr/>
          <p:nvPr/>
        </p:nvSpPr>
        <p:spPr>
          <a:xfrm>
            <a:off x="380880" y="4691160"/>
            <a:ext cx="8382240" cy="261720"/>
          </a:xfrm>
          <a:prstGeom prst="rect">
            <a:avLst/>
          </a:prstGeom>
          <a:solidFill>
            <a:srgbClr val="ff99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dal Stabilizatio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560" y="8380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December 20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gin review of prioritized list with stakeholder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ebruary 20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k approval from market subcommitt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Black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arch 20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k TAC and Board approval of initial prioritized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This is an aggressive timeline.  If stabilization resource constraints arise that limit ERCOT’s ability to get an initial prioritization complete in December/January there will be a one month delay in the approval dat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ioritization Timeli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380880" y="4191120"/>
            <a:ext cx="1676520" cy="1752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 20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057400" y="4191120"/>
            <a:ext cx="1676520" cy="1752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n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733920" y="4191120"/>
            <a:ext cx="1676160" cy="1752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b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5410080" y="4191120"/>
            <a:ext cx="1676520" cy="1752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7"/>
          <p:cNvSpPr/>
          <p:nvPr/>
        </p:nvSpPr>
        <p:spPr>
          <a:xfrm>
            <a:off x="380880" y="5021280"/>
            <a:ext cx="5943600" cy="236520"/>
          </a:xfrm>
          <a:prstGeom prst="rect">
            <a:avLst/>
          </a:prstGeom>
          <a:solidFill>
            <a:srgbClr val="99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l Prioritization Pro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2"/>
          <p:cNvSpPr/>
          <p:nvPr/>
        </p:nvSpPr>
        <p:spPr>
          <a:xfrm>
            <a:off x="5105520" y="5943600"/>
            <a:ext cx="914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AC Consideratio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3"/>
          <p:cNvSpPr/>
          <p:nvPr/>
        </p:nvSpPr>
        <p:spPr>
          <a:xfrm>
            <a:off x="5867280" y="5943600"/>
            <a:ext cx="914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oard Consideration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2"/>
          <p:cNvSpPr/>
          <p:nvPr/>
        </p:nvSpPr>
        <p:spPr>
          <a:xfrm>
            <a:off x="7086600" y="4191120"/>
            <a:ext cx="1676520" cy="1752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r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Straight Arrow Connector 13"/>
          <p:cNvCxnSpPr/>
          <p:nvPr/>
        </p:nvCxnSpPr>
        <p:spPr>
          <a:xfrm>
            <a:off x="8612280" y="4818240"/>
            <a:ext cx="30384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6" name="Rectangle 28"/>
          <p:cNvSpPr/>
          <p:nvPr/>
        </p:nvSpPr>
        <p:spPr>
          <a:xfrm>
            <a:off x="6324480" y="5021280"/>
            <a:ext cx="2438640" cy="236520"/>
          </a:xfrm>
          <a:prstGeom prst="rect">
            <a:avLst/>
          </a:prstGeom>
          <a:solidFill>
            <a:srgbClr val="99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going Prioritization Proces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Straight Arrow Connector 29"/>
          <p:cNvCxnSpPr/>
          <p:nvPr/>
        </p:nvCxnSpPr>
        <p:spPr>
          <a:xfrm>
            <a:off x="8610120" y="5137200"/>
            <a:ext cx="30420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8" name="Rectangle 18"/>
          <p:cNvSpPr/>
          <p:nvPr/>
        </p:nvSpPr>
        <p:spPr>
          <a:xfrm>
            <a:off x="3995640" y="5359320"/>
            <a:ext cx="4767480" cy="228600"/>
          </a:xfrm>
          <a:prstGeom prst="rect">
            <a:avLst/>
          </a:prstGeom>
          <a:solidFill>
            <a:srgbClr val="00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act Assessment of Parking Deck Ite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5-Point Star 30"/>
          <p:cNvSpPr/>
          <p:nvPr/>
        </p:nvSpPr>
        <p:spPr>
          <a:xfrm>
            <a:off x="5486400" y="5707080"/>
            <a:ext cx="152280" cy="152280"/>
          </a:xfrm>
          <a:custGeom>
            <a:avLst/>
            <a:gdLst>
              <a:gd name="textAreaLeft" fmla="*/ 47160 w 152280"/>
              <a:gd name="textAreaRight" fmla="*/ 105120 w 15228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152400" h="152400">
                <a:moveTo>
                  <a:pt x="0" y="58211"/>
                </a:moveTo>
                <a:lnTo>
                  <a:pt x="58212" y="58212"/>
                </a:lnTo>
                <a:lnTo>
                  <a:pt x="76200" y="0"/>
                </a:lnTo>
                <a:lnTo>
                  <a:pt x="94188" y="58212"/>
                </a:lnTo>
                <a:lnTo>
                  <a:pt x="152400" y="58211"/>
                </a:lnTo>
                <a:lnTo>
                  <a:pt x="105305" y="94188"/>
                </a:lnTo>
                <a:lnTo>
                  <a:pt x="123294" y="152399"/>
                </a:lnTo>
                <a:lnTo>
                  <a:pt x="76200" y="116422"/>
                </a:lnTo>
                <a:lnTo>
                  <a:pt x="29106" y="152399"/>
                </a:lnTo>
                <a:lnTo>
                  <a:pt x="47095" y="9418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5-Point Star 31"/>
          <p:cNvSpPr/>
          <p:nvPr/>
        </p:nvSpPr>
        <p:spPr>
          <a:xfrm>
            <a:off x="6248520" y="5707080"/>
            <a:ext cx="152280" cy="152280"/>
          </a:xfrm>
          <a:custGeom>
            <a:avLst/>
            <a:gdLst>
              <a:gd name="textAreaLeft" fmla="*/ 47160 w 152280"/>
              <a:gd name="textAreaRight" fmla="*/ 105120 w 152280"/>
              <a:gd name="textAreaTop" fmla="*/ 57960 h 152280"/>
              <a:gd name="textAreaBottom" fmla="*/ 116280 h 152280"/>
            </a:gdLst>
            <a:ahLst/>
            <a:rect l="textAreaLeft" t="textAreaTop" r="textAreaRight" b="textAreaBottom"/>
            <a:pathLst>
              <a:path w="152400" h="152400">
                <a:moveTo>
                  <a:pt x="0" y="58211"/>
                </a:moveTo>
                <a:lnTo>
                  <a:pt x="58212" y="58212"/>
                </a:lnTo>
                <a:lnTo>
                  <a:pt x="76200" y="0"/>
                </a:lnTo>
                <a:lnTo>
                  <a:pt x="94188" y="58212"/>
                </a:lnTo>
                <a:lnTo>
                  <a:pt x="152400" y="58211"/>
                </a:lnTo>
                <a:lnTo>
                  <a:pt x="105305" y="94188"/>
                </a:lnTo>
                <a:lnTo>
                  <a:pt x="123294" y="152399"/>
                </a:lnTo>
                <a:lnTo>
                  <a:pt x="76200" y="116422"/>
                </a:lnTo>
                <a:lnTo>
                  <a:pt x="29106" y="152399"/>
                </a:lnTo>
                <a:lnTo>
                  <a:pt x="47095" y="9418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1"/>
          <p:cNvGrpSpPr/>
          <p:nvPr/>
        </p:nvGrpSpPr>
        <p:grpSpPr>
          <a:xfrm>
            <a:off x="228600" y="4495680"/>
            <a:ext cx="8457840" cy="1478160"/>
            <a:chOff x="228600" y="4495680"/>
            <a:chExt cx="8457840" cy="1478160"/>
          </a:xfrm>
        </p:grpSpPr>
        <p:sp>
          <p:nvSpPr>
            <p:cNvPr id="163" name="AutoShape 24"/>
            <p:cNvSpPr/>
            <p:nvPr/>
          </p:nvSpPr>
          <p:spPr>
            <a:xfrm>
              <a:off x="228600" y="4495680"/>
              <a:ext cx="838224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23"/>
            <p:cNvSpPr/>
            <p:nvPr/>
          </p:nvSpPr>
          <p:spPr>
            <a:xfrm>
              <a:off x="1450080" y="4844520"/>
              <a:ext cx="1046880" cy="690120"/>
            </a:xfrm>
            <a:prstGeom prst="flowChartDecision">
              <a:avLst/>
            </a:prstGeom>
            <a:gradFill rotWithShape="0">
              <a:gsLst>
                <a:gs pos="0">
                  <a:srgbClr val="92cddc"/>
                </a:gs>
                <a:gs pos="50000">
                  <a:srgbClr val="daeef3"/>
                </a:gs>
                <a:gs pos="100000">
                  <a:srgbClr val="92cddc"/>
                </a:gs>
              </a:gsLst>
              <a:lin ang="189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22"/>
            <p:cNvSpPr/>
            <p:nvPr/>
          </p:nvSpPr>
          <p:spPr>
            <a:xfrm>
              <a:off x="1544040" y="4930920"/>
              <a:ext cx="8942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RCOT Assessment &amp; Prioritization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1"/>
            <p:cNvSpPr/>
            <p:nvPr/>
          </p:nvSpPr>
          <p:spPr>
            <a:xfrm>
              <a:off x="1594800" y="5623560"/>
              <a:ext cx="733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0 day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20"/>
            <p:cNvSpPr/>
            <p:nvPr/>
          </p:nvSpPr>
          <p:spPr>
            <a:xfrm>
              <a:off x="2887200" y="4503600"/>
              <a:ext cx="942120" cy="1470240"/>
            </a:xfrm>
            <a:prstGeom prst="flowChartProcess">
              <a:avLst/>
            </a:prstGeom>
            <a:gradFill rotWithShape="0">
              <a:gsLst>
                <a:gs pos="0">
                  <a:srgbClr val="95b3d7"/>
                </a:gs>
                <a:gs pos="50000">
                  <a:srgbClr val="dbe5f1"/>
                </a:gs>
                <a:gs pos="100000">
                  <a:srgbClr val="95b3d7"/>
                </a:gs>
              </a:gsLst>
              <a:lin ang="189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9"/>
            <p:cNvSpPr/>
            <p:nvPr/>
          </p:nvSpPr>
          <p:spPr>
            <a:xfrm>
              <a:off x="2887200" y="5017320"/>
              <a:ext cx="9583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ubcommittee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view &amp; Approval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18"/>
            <p:cNvSpPr/>
            <p:nvPr/>
          </p:nvSpPr>
          <p:spPr>
            <a:xfrm>
              <a:off x="4603680" y="4499640"/>
              <a:ext cx="849600" cy="1470240"/>
            </a:xfrm>
            <a:prstGeom prst="flowChartProcess">
              <a:avLst/>
            </a:prstGeom>
            <a:gradFill rotWithShape="0">
              <a:gsLst>
                <a:gs pos="0">
                  <a:srgbClr val="95b3d7"/>
                </a:gs>
                <a:gs pos="50000">
                  <a:srgbClr val="dbe5f1"/>
                </a:gs>
                <a:gs pos="100000">
                  <a:srgbClr val="95b3d7"/>
                </a:gs>
              </a:gsLst>
              <a:lin ang="189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7"/>
            <p:cNvSpPr/>
            <p:nvPr/>
          </p:nvSpPr>
          <p:spPr>
            <a:xfrm>
              <a:off x="4603680" y="5101560"/>
              <a:ext cx="849600" cy="38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14"/>
            <p:cNvGrpSpPr/>
            <p:nvPr/>
          </p:nvGrpSpPr>
          <p:grpSpPr>
            <a:xfrm>
              <a:off x="6182640" y="4503600"/>
              <a:ext cx="942480" cy="1470240"/>
              <a:chOff x="6182640" y="4503600"/>
              <a:chExt cx="942480" cy="1470240"/>
            </a:xfrm>
          </p:grpSpPr>
          <p:sp>
            <p:nvSpPr>
              <p:cNvPr id="172" name="AutoShape 16"/>
              <p:cNvSpPr/>
              <p:nvPr/>
            </p:nvSpPr>
            <p:spPr>
              <a:xfrm>
                <a:off x="6182640" y="4503600"/>
                <a:ext cx="942480" cy="1470240"/>
              </a:xfrm>
              <a:prstGeom prst="flowChartProcess">
                <a:avLst/>
              </a:prstGeom>
              <a:gradFill rotWithShape="0">
                <a:gsLst>
                  <a:gs pos="0">
                    <a:srgbClr val="b2a1c7"/>
                  </a:gs>
                  <a:gs pos="50000">
                    <a:srgbClr val="e5dfec"/>
                  </a:gs>
                  <a:gs pos="100000">
                    <a:srgbClr val="b2a1c7"/>
                  </a:gs>
                </a:gsLst>
                <a:lin ang="18900000"/>
              </a:gradFill>
              <a:ln w="12600">
                <a:solidFill>
                  <a:srgbClr val="b2a1c7"/>
                </a:solidFill>
                <a:miter/>
              </a:ln>
              <a:effectLst>
                <a:outerShdw dist="17819" dir="2700000" blurRad="0" rotWithShape="0">
                  <a:srgbClr val="3f315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Text Box 15"/>
              <p:cNvSpPr/>
              <p:nvPr/>
            </p:nvSpPr>
            <p:spPr>
              <a:xfrm>
                <a:off x="6286680" y="5107680"/>
                <a:ext cx="733320" cy="25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480" rIns="69480" tIns="34920" bIns="349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C 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Group 11"/>
            <p:cNvGrpSpPr/>
            <p:nvPr/>
          </p:nvGrpSpPr>
          <p:grpSpPr>
            <a:xfrm>
              <a:off x="7744320" y="4499640"/>
              <a:ext cx="942120" cy="1470240"/>
              <a:chOff x="7744320" y="4499640"/>
              <a:chExt cx="942120" cy="1470240"/>
            </a:xfrm>
          </p:grpSpPr>
          <p:sp>
            <p:nvSpPr>
              <p:cNvPr id="175" name="AutoShape 13"/>
              <p:cNvSpPr/>
              <p:nvPr/>
            </p:nvSpPr>
            <p:spPr>
              <a:xfrm>
                <a:off x="7744320" y="4499640"/>
                <a:ext cx="942120" cy="1470240"/>
              </a:xfrm>
              <a:prstGeom prst="flowChartProcess">
                <a:avLst/>
              </a:prstGeom>
              <a:gradFill rotWithShape="0">
                <a:gsLst>
                  <a:gs pos="0">
                    <a:srgbClr val="c2d69b"/>
                  </a:gs>
                  <a:gs pos="50000">
                    <a:srgbClr val="eaf1dd"/>
                  </a:gs>
                  <a:gs pos="100000">
                    <a:srgbClr val="c2d69b"/>
                  </a:gs>
                </a:gsLst>
                <a:lin ang="18900000"/>
              </a:gradFill>
              <a:ln w="12600">
                <a:solidFill>
                  <a:srgbClr val="c2d69b"/>
                </a:solidFill>
                <a:miter/>
              </a:ln>
              <a:effectLst>
                <a:outerShdw dist="17819" dir="2700000" blurRad="0" rotWithShape="0">
                  <a:srgbClr val="4e612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12"/>
              <p:cNvSpPr/>
              <p:nvPr/>
            </p:nvSpPr>
            <p:spPr>
              <a:xfrm>
                <a:off x="7768080" y="5017320"/>
                <a:ext cx="732600" cy="34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480" rIns="69480" tIns="34920" bIns="349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Board of Directors 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10"/>
            <p:cNvSpPr/>
            <p:nvPr/>
          </p:nvSpPr>
          <p:spPr>
            <a:xfrm>
              <a:off x="1523880" y="5639040"/>
              <a:ext cx="990720" cy="0"/>
            </a:xfrm>
            <a:prstGeom prst="line">
              <a:avLst/>
            </a:prstGeom>
            <a:ln w="3240">
              <a:solidFill>
                <a:srgbClr val="808080"/>
              </a:solidFill>
              <a:prstDash val="sysDot"/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9"/>
            <p:cNvSpPr/>
            <p:nvPr/>
          </p:nvSpPr>
          <p:spPr>
            <a:xfrm>
              <a:off x="228600" y="4499640"/>
              <a:ext cx="946440" cy="1467360"/>
            </a:xfrm>
            <a:prstGeom prst="flowChartAlternateProcess">
              <a:avLst/>
            </a:prstGeom>
            <a:gradFill rotWithShape="0">
              <a:gsLst>
                <a:gs pos="0">
                  <a:srgbClr val="fabf8f"/>
                </a:gs>
                <a:gs pos="50000">
                  <a:srgbClr val="fde9d9"/>
                </a:gs>
                <a:gs pos="100000">
                  <a:srgbClr val="fabf8f"/>
                </a:gs>
              </a:gsLst>
              <a:lin ang="18900000"/>
            </a:gradFill>
            <a:ln w="12600">
              <a:solidFill>
                <a:srgbClr val="fabf8f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8"/>
            <p:cNvSpPr/>
            <p:nvPr/>
          </p:nvSpPr>
          <p:spPr>
            <a:xfrm>
              <a:off x="1170720" y="5190120"/>
              <a:ext cx="279360" cy="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7"/>
            <p:cNvSpPr/>
            <p:nvPr/>
          </p:nvSpPr>
          <p:spPr>
            <a:xfrm flipV="1">
              <a:off x="7162920" y="5181120"/>
              <a:ext cx="571320" cy="9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6"/>
            <p:cNvSpPr/>
            <p:nvPr/>
          </p:nvSpPr>
          <p:spPr>
            <a:xfrm flipV="1">
              <a:off x="2497320" y="5181480"/>
              <a:ext cx="398160" cy="16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5"/>
            <p:cNvSpPr/>
            <p:nvPr/>
          </p:nvSpPr>
          <p:spPr>
            <a:xfrm flipV="1">
              <a:off x="5453280" y="5189760"/>
              <a:ext cx="729000" cy="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4"/>
            <p:cNvSpPr/>
            <p:nvPr/>
          </p:nvSpPr>
          <p:spPr>
            <a:xfrm>
              <a:off x="333360" y="4647960"/>
              <a:ext cx="7326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rking Deck 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3"/>
            <p:cNvSpPr/>
            <p:nvPr/>
          </p:nvSpPr>
          <p:spPr>
            <a:xfrm>
              <a:off x="4201920" y="4499640"/>
              <a:ext cx="73260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"/>
            <p:cNvSpPr/>
            <p:nvPr/>
          </p:nvSpPr>
          <p:spPr>
            <a:xfrm flipV="1">
              <a:off x="3809880" y="5237280"/>
              <a:ext cx="793440" cy="19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Rectangle 15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22"/>
          <p:cNvGrpSpPr/>
          <p:nvPr/>
        </p:nvGrpSpPr>
        <p:grpSpPr>
          <a:xfrm>
            <a:off x="228600" y="2743200"/>
            <a:ext cx="8458200" cy="1541520"/>
            <a:chOff x="228600" y="2743200"/>
            <a:chExt cx="8458200" cy="1541520"/>
          </a:xfrm>
        </p:grpSpPr>
        <p:sp>
          <p:nvSpPr>
            <p:cNvPr id="188" name="AutoShape 153"/>
            <p:cNvSpPr/>
            <p:nvPr/>
          </p:nvSpPr>
          <p:spPr>
            <a:xfrm>
              <a:off x="228600" y="2806560"/>
              <a:ext cx="845820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152"/>
            <p:cNvSpPr/>
            <p:nvPr/>
          </p:nvSpPr>
          <p:spPr>
            <a:xfrm>
              <a:off x="1344600" y="3155400"/>
              <a:ext cx="1056600" cy="690120"/>
            </a:xfrm>
            <a:prstGeom prst="flowChartDecision">
              <a:avLst/>
            </a:prstGeom>
            <a:gradFill rotWithShape="0">
              <a:gsLst>
                <a:gs pos="0">
                  <a:srgbClr val="92cddc"/>
                </a:gs>
                <a:gs pos="50000">
                  <a:srgbClr val="daeef3"/>
                </a:gs>
                <a:gs pos="100000">
                  <a:srgbClr val="92cddc"/>
                </a:gs>
              </a:gsLst>
              <a:lin ang="189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51"/>
            <p:cNvSpPr/>
            <p:nvPr/>
          </p:nvSpPr>
          <p:spPr>
            <a:xfrm>
              <a:off x="1461240" y="3376800"/>
              <a:ext cx="84492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rket Rules Processing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50"/>
            <p:cNvSpPr/>
            <p:nvPr/>
          </p:nvSpPr>
          <p:spPr>
            <a:xfrm>
              <a:off x="1492200" y="3932280"/>
              <a:ext cx="739800" cy="2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 Business Day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149"/>
            <p:cNvSpPr/>
            <p:nvPr/>
          </p:nvSpPr>
          <p:spPr>
            <a:xfrm>
              <a:off x="2875320" y="2810520"/>
              <a:ext cx="950760" cy="1469880"/>
            </a:xfrm>
            <a:prstGeom prst="flowChartProcess">
              <a:avLst/>
            </a:prstGeom>
            <a:gradFill rotWithShape="0">
              <a:gsLst>
                <a:gs pos="0">
                  <a:srgbClr val="95b3d7"/>
                </a:gs>
                <a:gs pos="50000">
                  <a:srgbClr val="dbe5f1"/>
                </a:gs>
                <a:gs pos="100000">
                  <a:srgbClr val="95b3d7"/>
                </a:gs>
              </a:gsLst>
              <a:lin ang="189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48"/>
            <p:cNvSpPr/>
            <p:nvPr/>
          </p:nvSpPr>
          <p:spPr>
            <a:xfrm>
              <a:off x="2875320" y="3241800"/>
              <a:ext cx="95076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ubcommittee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anguage Consideration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147"/>
            <p:cNvSpPr/>
            <p:nvPr/>
          </p:nvSpPr>
          <p:spPr>
            <a:xfrm>
              <a:off x="5273640" y="2810520"/>
              <a:ext cx="857520" cy="1469880"/>
            </a:xfrm>
            <a:prstGeom prst="flowChartProcess">
              <a:avLst/>
            </a:prstGeom>
            <a:gradFill rotWithShape="0">
              <a:gsLst>
                <a:gs pos="0">
                  <a:srgbClr val="95b3d7"/>
                </a:gs>
                <a:gs pos="50000">
                  <a:srgbClr val="dbe5f1"/>
                </a:gs>
                <a:gs pos="100000">
                  <a:srgbClr val="95b3d7"/>
                </a:gs>
              </a:gsLst>
              <a:lin ang="189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46"/>
            <p:cNvSpPr/>
            <p:nvPr/>
          </p:nvSpPr>
          <p:spPr>
            <a:xfrm>
              <a:off x="5273640" y="3241800"/>
              <a:ext cx="85752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pact Analysis Review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143"/>
            <p:cNvGrpSpPr/>
            <p:nvPr/>
          </p:nvGrpSpPr>
          <p:grpSpPr>
            <a:xfrm>
              <a:off x="6418800" y="2810520"/>
              <a:ext cx="950760" cy="1469880"/>
              <a:chOff x="6418800" y="2810520"/>
              <a:chExt cx="950760" cy="1469880"/>
            </a:xfrm>
          </p:grpSpPr>
          <p:sp>
            <p:nvSpPr>
              <p:cNvPr id="197" name="AutoShape 145"/>
              <p:cNvSpPr/>
              <p:nvPr/>
            </p:nvSpPr>
            <p:spPr>
              <a:xfrm>
                <a:off x="6418800" y="2810520"/>
                <a:ext cx="950760" cy="1469880"/>
              </a:xfrm>
              <a:prstGeom prst="flowChartProcess">
                <a:avLst/>
              </a:prstGeom>
              <a:gradFill rotWithShape="0">
                <a:gsLst>
                  <a:gs pos="0">
                    <a:srgbClr val="b2a1c7"/>
                  </a:gs>
                  <a:gs pos="50000">
                    <a:srgbClr val="e5dfec"/>
                  </a:gs>
                  <a:gs pos="100000">
                    <a:srgbClr val="b2a1c7"/>
                  </a:gs>
                </a:gsLst>
                <a:lin ang="18900000"/>
              </a:gradFill>
              <a:ln w="12600">
                <a:solidFill>
                  <a:srgbClr val="b2a1c7"/>
                </a:solidFill>
                <a:miter/>
              </a:ln>
              <a:effectLst>
                <a:outerShdw dist="17819" dir="2700000" blurRad="0" rotWithShape="0">
                  <a:srgbClr val="3f315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144"/>
              <p:cNvSpPr/>
              <p:nvPr/>
            </p:nvSpPr>
            <p:spPr>
              <a:xfrm>
                <a:off x="6523920" y="3414240"/>
                <a:ext cx="739800" cy="2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480" rIns="69480" tIns="34920" bIns="349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C 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140"/>
            <p:cNvGrpSpPr/>
            <p:nvPr/>
          </p:nvGrpSpPr>
          <p:grpSpPr>
            <a:xfrm>
              <a:off x="7731000" y="2810520"/>
              <a:ext cx="950760" cy="1469880"/>
              <a:chOff x="7731000" y="2810520"/>
              <a:chExt cx="950760" cy="1469880"/>
            </a:xfrm>
          </p:grpSpPr>
          <p:sp>
            <p:nvSpPr>
              <p:cNvPr id="200" name="AutoShape 142"/>
              <p:cNvSpPr/>
              <p:nvPr/>
            </p:nvSpPr>
            <p:spPr>
              <a:xfrm>
                <a:off x="7731000" y="2810520"/>
                <a:ext cx="950760" cy="1469880"/>
              </a:xfrm>
              <a:prstGeom prst="flowChartProcess">
                <a:avLst/>
              </a:prstGeom>
              <a:gradFill rotWithShape="0">
                <a:gsLst>
                  <a:gs pos="0">
                    <a:srgbClr val="c2d69b"/>
                  </a:gs>
                  <a:gs pos="50000">
                    <a:srgbClr val="eaf1dd"/>
                  </a:gs>
                  <a:gs pos="100000">
                    <a:srgbClr val="c2d69b"/>
                  </a:gs>
                </a:gsLst>
                <a:lin ang="18900000"/>
              </a:gradFill>
              <a:ln w="12600">
                <a:solidFill>
                  <a:srgbClr val="c2d69b"/>
                </a:solidFill>
                <a:miter/>
              </a:ln>
              <a:effectLst>
                <a:outerShdw dist="17819" dir="2700000" blurRad="0" rotWithShape="0">
                  <a:srgbClr val="4e612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141"/>
              <p:cNvSpPr/>
              <p:nvPr/>
            </p:nvSpPr>
            <p:spPr>
              <a:xfrm>
                <a:off x="7836480" y="3327840"/>
                <a:ext cx="739440" cy="34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480" rIns="69480" tIns="34920" bIns="349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Board of Directors 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Line 139"/>
            <p:cNvSpPr/>
            <p:nvPr/>
          </p:nvSpPr>
          <p:spPr>
            <a:xfrm>
              <a:off x="2249640" y="3194640"/>
              <a:ext cx="632880" cy="360"/>
            </a:xfrm>
            <a:prstGeom prst="line">
              <a:avLst/>
            </a:prstGeom>
            <a:ln w="3240">
              <a:solidFill>
                <a:srgbClr val="808080"/>
              </a:solidFill>
              <a:prstDash val="sysDot"/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38"/>
            <p:cNvSpPr/>
            <p:nvPr/>
          </p:nvSpPr>
          <p:spPr>
            <a:xfrm>
              <a:off x="1607400" y="3932280"/>
              <a:ext cx="528480" cy="360"/>
            </a:xfrm>
            <a:prstGeom prst="line">
              <a:avLst/>
            </a:prstGeom>
            <a:ln w="3240">
              <a:solidFill>
                <a:srgbClr val="808080"/>
              </a:solidFill>
              <a:prstDash val="sysDot"/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37"/>
            <p:cNvSpPr/>
            <p:nvPr/>
          </p:nvSpPr>
          <p:spPr>
            <a:xfrm>
              <a:off x="228600" y="2810520"/>
              <a:ext cx="955080" cy="1467000"/>
            </a:xfrm>
            <a:prstGeom prst="flowChartAlternateProcess">
              <a:avLst/>
            </a:prstGeom>
            <a:gradFill rotWithShape="0">
              <a:gsLst>
                <a:gs pos="0">
                  <a:srgbClr val="fabf8f"/>
                </a:gs>
                <a:gs pos="50000">
                  <a:srgbClr val="fde9d9"/>
                </a:gs>
                <a:gs pos="100000">
                  <a:srgbClr val="fabf8f"/>
                </a:gs>
              </a:gsLst>
              <a:lin ang="18900000"/>
            </a:gradFill>
            <a:ln w="12600">
              <a:solidFill>
                <a:srgbClr val="fabf8f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36"/>
            <p:cNvSpPr/>
            <p:nvPr/>
          </p:nvSpPr>
          <p:spPr>
            <a:xfrm>
              <a:off x="1179360" y="3501000"/>
              <a:ext cx="164880" cy="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35"/>
            <p:cNvSpPr/>
            <p:nvPr/>
          </p:nvSpPr>
          <p:spPr>
            <a:xfrm>
              <a:off x="7369920" y="3501000"/>
              <a:ext cx="361080" cy="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34"/>
            <p:cNvSpPr/>
            <p:nvPr/>
          </p:nvSpPr>
          <p:spPr>
            <a:xfrm>
              <a:off x="2393640" y="3508560"/>
              <a:ext cx="481320" cy="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33"/>
            <p:cNvSpPr/>
            <p:nvPr/>
          </p:nvSpPr>
          <p:spPr>
            <a:xfrm>
              <a:off x="4243680" y="3501000"/>
              <a:ext cx="528480" cy="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32"/>
            <p:cNvSpPr/>
            <p:nvPr/>
          </p:nvSpPr>
          <p:spPr>
            <a:xfrm>
              <a:off x="6145560" y="3501000"/>
              <a:ext cx="273240" cy="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31"/>
            <p:cNvSpPr/>
            <p:nvPr/>
          </p:nvSpPr>
          <p:spPr>
            <a:xfrm>
              <a:off x="334080" y="2913120"/>
              <a:ext cx="739440" cy="12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ystem Change Request 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SCR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130"/>
            <p:cNvSpPr/>
            <p:nvPr/>
          </p:nvSpPr>
          <p:spPr>
            <a:xfrm>
              <a:off x="4026600" y="3241800"/>
              <a:ext cx="1056600" cy="690120"/>
            </a:xfrm>
            <a:prstGeom prst="flowChartDecision">
              <a:avLst/>
            </a:prstGeom>
            <a:gradFill rotWithShape="0">
              <a:gsLst>
                <a:gs pos="0">
                  <a:srgbClr val="92cddc"/>
                </a:gs>
                <a:gs pos="50000">
                  <a:srgbClr val="daeef3"/>
                </a:gs>
                <a:gs pos="100000">
                  <a:srgbClr val="92cddc"/>
                </a:gs>
              </a:gsLst>
              <a:lin ang="189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29"/>
            <p:cNvSpPr/>
            <p:nvPr/>
          </p:nvSpPr>
          <p:spPr>
            <a:xfrm>
              <a:off x="4114440" y="3294000"/>
              <a:ext cx="844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RCOT Business Integration Processing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28"/>
            <p:cNvSpPr/>
            <p:nvPr/>
          </p:nvSpPr>
          <p:spPr>
            <a:xfrm>
              <a:off x="5083200" y="3586320"/>
              <a:ext cx="189720" cy="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27"/>
            <p:cNvSpPr/>
            <p:nvPr/>
          </p:nvSpPr>
          <p:spPr>
            <a:xfrm flipV="1">
              <a:off x="3826440" y="3584880"/>
              <a:ext cx="2001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26"/>
            <p:cNvSpPr/>
            <p:nvPr/>
          </p:nvSpPr>
          <p:spPr>
            <a:xfrm>
              <a:off x="2133360" y="2743200"/>
              <a:ext cx="7394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1 Day Comment Period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25"/>
            <p:cNvSpPr/>
            <p:nvPr/>
          </p:nvSpPr>
          <p:spPr>
            <a:xfrm>
              <a:off x="4026600" y="3933000"/>
              <a:ext cx="14169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pact Analysi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24"/>
            <p:cNvSpPr/>
            <p:nvPr/>
          </p:nvSpPr>
          <p:spPr>
            <a:xfrm>
              <a:off x="3996000" y="2760480"/>
              <a:ext cx="110952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alysis Period Varies Depending on subcommittee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23"/>
            <p:cNvSpPr/>
            <p:nvPr/>
          </p:nvSpPr>
          <p:spPr>
            <a:xfrm>
              <a:off x="3826440" y="3241440"/>
              <a:ext cx="1446840" cy="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166"/>
          <p:cNvGrpSpPr/>
          <p:nvPr/>
        </p:nvGrpSpPr>
        <p:grpSpPr>
          <a:xfrm>
            <a:off x="228600" y="838080"/>
            <a:ext cx="8458200" cy="1706760"/>
            <a:chOff x="228600" y="838080"/>
            <a:chExt cx="8458200" cy="1706760"/>
          </a:xfrm>
        </p:grpSpPr>
        <p:sp>
          <p:nvSpPr>
            <p:cNvPr id="220" name="AutoShape 197"/>
            <p:cNvSpPr/>
            <p:nvPr/>
          </p:nvSpPr>
          <p:spPr>
            <a:xfrm>
              <a:off x="228600" y="838080"/>
              <a:ext cx="8458200" cy="17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196"/>
            <p:cNvSpPr/>
            <p:nvPr/>
          </p:nvSpPr>
          <p:spPr>
            <a:xfrm>
              <a:off x="1344600" y="1240920"/>
              <a:ext cx="1056600" cy="797040"/>
            </a:xfrm>
            <a:prstGeom prst="flowChartDecision">
              <a:avLst/>
            </a:prstGeom>
            <a:gradFill rotWithShape="0">
              <a:gsLst>
                <a:gs pos="0">
                  <a:srgbClr val="92cddc"/>
                </a:gs>
                <a:gs pos="50000">
                  <a:srgbClr val="daeef3"/>
                </a:gs>
                <a:gs pos="100000">
                  <a:srgbClr val="92cddc"/>
                </a:gs>
              </a:gsLst>
              <a:lin ang="189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95"/>
            <p:cNvSpPr/>
            <p:nvPr/>
          </p:nvSpPr>
          <p:spPr>
            <a:xfrm>
              <a:off x="1461240" y="1496520"/>
              <a:ext cx="844920" cy="2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rket Rules Processing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94"/>
            <p:cNvSpPr/>
            <p:nvPr/>
          </p:nvSpPr>
          <p:spPr>
            <a:xfrm>
              <a:off x="1492200" y="2137680"/>
              <a:ext cx="73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 Business Day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193"/>
            <p:cNvSpPr/>
            <p:nvPr/>
          </p:nvSpPr>
          <p:spPr>
            <a:xfrm>
              <a:off x="2875320" y="842400"/>
              <a:ext cx="950760" cy="1697400"/>
            </a:xfrm>
            <a:prstGeom prst="flowChartProcess">
              <a:avLst/>
            </a:prstGeom>
            <a:gradFill rotWithShape="0">
              <a:gsLst>
                <a:gs pos="0">
                  <a:srgbClr val="95b3d7"/>
                </a:gs>
                <a:gs pos="50000">
                  <a:srgbClr val="dbe5f1"/>
                </a:gs>
                <a:gs pos="100000">
                  <a:srgbClr val="95b3d7"/>
                </a:gs>
              </a:gsLst>
              <a:lin ang="189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92"/>
            <p:cNvSpPr/>
            <p:nvPr/>
          </p:nvSpPr>
          <p:spPr>
            <a:xfrm>
              <a:off x="2875320" y="1340640"/>
              <a:ext cx="95076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anguage Consideration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191"/>
            <p:cNvSpPr/>
            <p:nvPr/>
          </p:nvSpPr>
          <p:spPr>
            <a:xfrm>
              <a:off x="5273640" y="842400"/>
              <a:ext cx="857520" cy="1697400"/>
            </a:xfrm>
            <a:prstGeom prst="flowChartProcess">
              <a:avLst/>
            </a:prstGeom>
            <a:gradFill rotWithShape="0">
              <a:gsLst>
                <a:gs pos="0">
                  <a:srgbClr val="95b3d7"/>
                </a:gs>
                <a:gs pos="50000">
                  <a:srgbClr val="dbe5f1"/>
                </a:gs>
                <a:gs pos="100000">
                  <a:srgbClr val="95b3d7"/>
                </a:gs>
              </a:gsLst>
              <a:lin ang="189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190"/>
            <p:cNvSpPr/>
            <p:nvPr/>
          </p:nvSpPr>
          <p:spPr>
            <a:xfrm>
              <a:off x="5273640" y="1340640"/>
              <a:ext cx="85752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pact Analysis Review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Group 187"/>
            <p:cNvGrpSpPr/>
            <p:nvPr/>
          </p:nvGrpSpPr>
          <p:grpSpPr>
            <a:xfrm>
              <a:off x="6418800" y="842400"/>
              <a:ext cx="950760" cy="1697400"/>
              <a:chOff x="6418800" y="842400"/>
              <a:chExt cx="950760" cy="1697400"/>
            </a:xfrm>
          </p:grpSpPr>
          <p:sp>
            <p:nvSpPr>
              <p:cNvPr id="229" name="AutoShape 189"/>
              <p:cNvSpPr/>
              <p:nvPr/>
            </p:nvSpPr>
            <p:spPr>
              <a:xfrm>
                <a:off x="6418800" y="842400"/>
                <a:ext cx="950760" cy="1697400"/>
              </a:xfrm>
              <a:prstGeom prst="flowChartProcess">
                <a:avLst/>
              </a:prstGeom>
              <a:gradFill rotWithShape="0">
                <a:gsLst>
                  <a:gs pos="0">
                    <a:srgbClr val="b2a1c7"/>
                  </a:gs>
                  <a:gs pos="50000">
                    <a:srgbClr val="e5dfec"/>
                  </a:gs>
                  <a:gs pos="100000">
                    <a:srgbClr val="b2a1c7"/>
                  </a:gs>
                </a:gsLst>
                <a:lin ang="18900000"/>
              </a:gradFill>
              <a:ln w="12600">
                <a:solidFill>
                  <a:srgbClr val="b2a1c7"/>
                </a:solidFill>
                <a:miter/>
              </a:ln>
              <a:effectLst>
                <a:outerShdw dist="17819" dir="2700000" blurRad="0" rotWithShape="0">
                  <a:srgbClr val="3f3151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188"/>
              <p:cNvSpPr/>
              <p:nvPr/>
            </p:nvSpPr>
            <p:spPr>
              <a:xfrm>
                <a:off x="6523920" y="1539720"/>
                <a:ext cx="739800" cy="2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480" rIns="69480" tIns="34920" bIns="349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C 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184"/>
            <p:cNvGrpSpPr/>
            <p:nvPr/>
          </p:nvGrpSpPr>
          <p:grpSpPr>
            <a:xfrm>
              <a:off x="7731000" y="842400"/>
              <a:ext cx="950760" cy="1697400"/>
              <a:chOff x="7731000" y="842400"/>
              <a:chExt cx="950760" cy="1697400"/>
            </a:xfrm>
          </p:grpSpPr>
          <p:sp>
            <p:nvSpPr>
              <p:cNvPr id="232" name="AutoShape 186"/>
              <p:cNvSpPr/>
              <p:nvPr/>
            </p:nvSpPr>
            <p:spPr>
              <a:xfrm>
                <a:off x="7731000" y="842400"/>
                <a:ext cx="950760" cy="1697400"/>
              </a:xfrm>
              <a:prstGeom prst="flowChartProcess">
                <a:avLst/>
              </a:prstGeom>
              <a:gradFill rotWithShape="0">
                <a:gsLst>
                  <a:gs pos="0">
                    <a:srgbClr val="c2d69b"/>
                  </a:gs>
                  <a:gs pos="50000">
                    <a:srgbClr val="eaf1dd"/>
                  </a:gs>
                  <a:gs pos="100000">
                    <a:srgbClr val="c2d69b"/>
                  </a:gs>
                </a:gsLst>
                <a:lin ang="18900000"/>
              </a:gradFill>
              <a:ln w="12600">
                <a:solidFill>
                  <a:srgbClr val="c2d69b"/>
                </a:solidFill>
                <a:miter/>
              </a:ln>
              <a:effectLst>
                <a:outerShdw dist="17819" dir="2700000" blurRad="0" rotWithShape="0">
                  <a:srgbClr val="4e612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 Box 185"/>
              <p:cNvSpPr/>
              <p:nvPr/>
            </p:nvSpPr>
            <p:spPr>
              <a:xfrm>
                <a:off x="7836480" y="1440000"/>
                <a:ext cx="739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480" rIns="69480" tIns="34920" bIns="349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Board of Directors </a:t>
                </a:r>
                <a:endParaRPr b="1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Line 183"/>
            <p:cNvSpPr/>
            <p:nvPr/>
          </p:nvSpPr>
          <p:spPr>
            <a:xfrm>
              <a:off x="2306520" y="1305720"/>
              <a:ext cx="576000" cy="360"/>
            </a:xfrm>
            <a:prstGeom prst="line">
              <a:avLst/>
            </a:prstGeom>
            <a:ln w="3240">
              <a:solidFill>
                <a:srgbClr val="808080"/>
              </a:solidFill>
              <a:prstDash val="sysDot"/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82"/>
            <p:cNvSpPr/>
            <p:nvPr/>
          </p:nvSpPr>
          <p:spPr>
            <a:xfrm>
              <a:off x="1607400" y="2137680"/>
              <a:ext cx="528480" cy="360"/>
            </a:xfrm>
            <a:prstGeom prst="line">
              <a:avLst/>
            </a:prstGeom>
            <a:ln w="3240">
              <a:solidFill>
                <a:srgbClr val="808080"/>
              </a:solidFill>
              <a:prstDash val="sysDot"/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181"/>
            <p:cNvSpPr/>
            <p:nvPr/>
          </p:nvSpPr>
          <p:spPr>
            <a:xfrm>
              <a:off x="228600" y="842400"/>
              <a:ext cx="955080" cy="1694160"/>
            </a:xfrm>
            <a:prstGeom prst="flowChartAlternateProcess">
              <a:avLst/>
            </a:prstGeom>
            <a:gradFill rotWithShape="0">
              <a:gsLst>
                <a:gs pos="0">
                  <a:srgbClr val="fabf8f"/>
                </a:gs>
                <a:gs pos="50000">
                  <a:srgbClr val="fde9d9"/>
                </a:gs>
                <a:gs pos="100000">
                  <a:srgbClr val="fabf8f"/>
                </a:gs>
              </a:gsLst>
              <a:lin ang="18900000"/>
            </a:gradFill>
            <a:ln w="12600">
              <a:solidFill>
                <a:srgbClr val="fabf8f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80"/>
            <p:cNvSpPr/>
            <p:nvPr/>
          </p:nvSpPr>
          <p:spPr>
            <a:xfrm>
              <a:off x="1179360" y="1639800"/>
              <a:ext cx="164880" cy="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79"/>
            <p:cNvSpPr/>
            <p:nvPr/>
          </p:nvSpPr>
          <p:spPr>
            <a:xfrm>
              <a:off x="7369920" y="1639800"/>
              <a:ext cx="361080" cy="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78"/>
            <p:cNvSpPr/>
            <p:nvPr/>
          </p:nvSpPr>
          <p:spPr>
            <a:xfrm>
              <a:off x="2393640" y="1648440"/>
              <a:ext cx="481320" cy="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77"/>
            <p:cNvSpPr/>
            <p:nvPr/>
          </p:nvSpPr>
          <p:spPr>
            <a:xfrm>
              <a:off x="4243680" y="1639800"/>
              <a:ext cx="528480" cy="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76"/>
            <p:cNvSpPr/>
            <p:nvPr/>
          </p:nvSpPr>
          <p:spPr>
            <a:xfrm>
              <a:off x="6145560" y="1639800"/>
              <a:ext cx="273240" cy="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75"/>
            <p:cNvSpPr/>
            <p:nvPr/>
          </p:nvSpPr>
          <p:spPr>
            <a:xfrm>
              <a:off x="334080" y="943920"/>
              <a:ext cx="739440" cy="147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9480" rIns="6948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odal Protocol Revision Request 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NPRR)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174"/>
            <p:cNvSpPr/>
            <p:nvPr/>
          </p:nvSpPr>
          <p:spPr>
            <a:xfrm>
              <a:off x="4026600" y="1240920"/>
              <a:ext cx="1056600" cy="797040"/>
            </a:xfrm>
            <a:prstGeom prst="flowChartDecision">
              <a:avLst/>
            </a:prstGeom>
            <a:gradFill rotWithShape="0">
              <a:gsLst>
                <a:gs pos="0">
                  <a:srgbClr val="92cddc"/>
                </a:gs>
                <a:gs pos="50000">
                  <a:srgbClr val="daeef3"/>
                </a:gs>
                <a:gs pos="100000">
                  <a:srgbClr val="92cddc"/>
                </a:gs>
              </a:gsLst>
              <a:lin ang="18900000"/>
            </a:gradFill>
            <a:ln w="12600">
              <a:solidFill>
                <a:srgbClr val="92cddc"/>
              </a:solidFill>
              <a:miter/>
            </a:ln>
            <a:effectLst>
              <a:outerShdw dist="17819" dir="2700000" blurRad="0" rotWithShape="0">
                <a:srgbClr val="2058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73"/>
            <p:cNvSpPr/>
            <p:nvPr/>
          </p:nvSpPr>
          <p:spPr>
            <a:xfrm>
              <a:off x="4132440" y="1325520"/>
              <a:ext cx="84492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RCOT Business Integration Processing</a:t>
              </a: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72"/>
            <p:cNvSpPr/>
            <p:nvPr/>
          </p:nvSpPr>
          <p:spPr>
            <a:xfrm>
              <a:off x="5083200" y="1648440"/>
              <a:ext cx="189720" cy="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71"/>
            <p:cNvSpPr/>
            <p:nvPr/>
          </p:nvSpPr>
          <p:spPr>
            <a:xfrm flipV="1">
              <a:off x="3826440" y="1639800"/>
              <a:ext cx="20016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70"/>
            <p:cNvSpPr/>
            <p:nvPr/>
          </p:nvSpPr>
          <p:spPr>
            <a:xfrm>
              <a:off x="2176560" y="838080"/>
              <a:ext cx="7394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1 Day Comment Period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69"/>
            <p:cNvSpPr/>
            <p:nvPr/>
          </p:nvSpPr>
          <p:spPr>
            <a:xfrm>
              <a:off x="3996000" y="2061000"/>
              <a:ext cx="1416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pact Analysi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68"/>
            <p:cNvSpPr/>
            <p:nvPr/>
          </p:nvSpPr>
          <p:spPr>
            <a:xfrm>
              <a:off x="4026600" y="842400"/>
              <a:ext cx="1004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0 Day Analysis Period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67"/>
            <p:cNvSpPr/>
            <p:nvPr/>
          </p:nvSpPr>
          <p:spPr>
            <a:xfrm>
              <a:off x="3827160" y="1177560"/>
              <a:ext cx="1446480" cy="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Rectangle 19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11"/>
          <p:cNvSpPr/>
          <p:nvPr/>
        </p:nvSpPr>
        <p:spPr>
          <a:xfrm>
            <a:off x="0" y="2316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ject Approval &amp; Prioritization Process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Project Portfolio Delivery Timeli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55" name="Picture 5" descr="DataCenter-Rev6.jpg"/>
          <p:cNvPicPr/>
          <p:nvPr/>
        </p:nvPicPr>
        <p:blipFill>
          <a:blip r:embed="rId1"/>
          <a:srcRect l="834" t="4925" r="834" b="1059"/>
          <a:stretch/>
        </p:blipFill>
        <p:spPr>
          <a:xfrm>
            <a:off x="0" y="685800"/>
            <a:ext cx="914400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11 Project Prioritization – Prioritization of 2011 Nodal Work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spreadsheet for draft prioritization 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no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n initial draft to show format and set the stage for upcoming prioritization discu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anks and Target Releases have not been reviewed by ERCO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1_Merged_Nodal_Prioritization_v7.xlsx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2895480" y="2285640"/>
            <a:ext cx="51818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799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dal Stabilization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56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luate and remediate ERCOT Nodal Operational Issues including higher than normal: production outages, issue analysis, software defect remediation, stakeholder support, and request for information volum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ctive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tain Nodal Operational Stability during the first months of System 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-month period, running 12/1/2010 – 6/30/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t patches continue to be migrated to production as issues are identified that cannot wait to be migrated in a scheduled rel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sue triage process transitioning to Operation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sks / Issu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sue volumes are higher than exp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xity of issues is greater than exp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 design changes are implemented before systems are fully stab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oter Placeholder 2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December 20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ata Center Migration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56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lace data center hardware that is approaching end of life and migrate hardware to new Taylor and Bastrop data cen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iv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level of risk of hardware failure and resulting impact on critical business func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urement of hardware to begin December 6 for late 2010/early 2011 delive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gration schedule 90% complete for Q1 and Q2 20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urce plans 90% complete for Q1 and Q2 20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7-month period, running October 2009 through December 20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sks / Issu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urce availability and delivery timelines may be impacted by Stabilization eff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ooter Placeholder 2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December 20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balbracht</cp:lastModifiedBy>
  <dcterms:modified xsi:type="dcterms:W3CDTF">2010-12-09T20:11:08Z</dcterms:modified>
  <cp:revision>841</cp:revision>
  <dc:subject/>
  <dc:title>Instructions</dc:title>
</cp:coreProperties>
</file>