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3229F-2358-4081-AD50-FD2F4EE46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E81DE-2834-49C6-94EF-A6383854C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C3C75-62E4-417A-A610-6671EDD0D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2F901-552F-4E8B-84F4-CE8BC4DA4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69BE4-2E01-40DB-B74D-C9391C578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3BE50-72D3-4407-9AB6-B6A947415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0C2C-531C-4E5B-BEA0-21900D474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C7312-1627-4E59-9504-D8BC5A344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01D96-8512-46E8-9BB6-A4B0568A6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EDF8F-F8C2-4467-A3A5-BF3C16DE6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475C1-B71F-4D4E-A5AC-83CBF6803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BB0D9-4228-48D8-A353-48471938E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00EB-0BE8-4DEB-837E-5F1E3A7308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 2 Summar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5105520"/>
            <a:ext cx="6400800" cy="1752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s Woitt</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erPoint Energy</a:t>
            </a: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10 SSWG Cha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ches in SSWG case not matching the TP case due to BC/BO branches. (467 branches)</a:t>
            </a:r>
            <a:endParaRPr b="0" lang="en-US" sz="2800" spc="-1" strike="noStrike">
              <a:solidFill>
                <a:srgbClr val="000000"/>
              </a:solidFill>
              <a:latin typeface="Calibri"/>
            </a:endParaRPr>
          </a:p>
        </p:txBody>
      </p:sp>
      <p:pic>
        <p:nvPicPr>
          <p:cNvPr id="103" name="Picture 2" descr=""/>
          <p:cNvPicPr/>
          <p:nvPr/>
        </p:nvPicPr>
        <p:blipFill>
          <a:blip r:embed="rId1"/>
          <a:stretch/>
        </p:blipFill>
        <p:spPr>
          <a:xfrm>
            <a:off x="3657600" y="1523880"/>
            <a:ext cx="5486400" cy="2289240"/>
          </a:xfrm>
          <a:prstGeom prst="rect">
            <a:avLst/>
          </a:prstGeom>
          <a:ln w="0">
            <a:noFill/>
          </a:ln>
        </p:spPr>
      </p:pic>
      <p:pic>
        <p:nvPicPr>
          <p:cNvPr id="104" name="Picture 4" descr=""/>
          <p:cNvPicPr/>
          <p:nvPr/>
        </p:nvPicPr>
        <p:blipFill>
          <a:blip r:embed="rId2"/>
          <a:stretch/>
        </p:blipFill>
        <p:spPr>
          <a:xfrm>
            <a:off x="3794040" y="4267080"/>
            <a:ext cx="5349960" cy="2286000"/>
          </a:xfrm>
          <a:prstGeom prst="rect">
            <a:avLst/>
          </a:prstGeom>
          <a:ln w="0">
            <a:noFill/>
          </a:ln>
        </p:spPr>
      </p:pic>
      <p:sp>
        <p:nvSpPr>
          <p:cNvPr id="105" name="Straight Connector 7"/>
          <p:cNvSpPr/>
          <p:nvPr/>
        </p:nvSpPr>
        <p:spPr>
          <a:xfrm>
            <a:off x="0" y="4038480"/>
            <a:ext cx="9144000" cy="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8"/>
          <p:cNvSpPr/>
          <p:nvPr/>
        </p:nvSpPr>
        <p:spPr>
          <a:xfrm>
            <a:off x="6781680" y="2286000"/>
            <a:ext cx="91440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9"/>
          <p:cNvSpPr/>
          <p:nvPr/>
        </p:nvSpPr>
        <p:spPr>
          <a:xfrm>
            <a:off x="6781680" y="4876920"/>
            <a:ext cx="91440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10"/>
          <p:cNvSpPr/>
          <p:nvPr/>
        </p:nvSpPr>
        <p:spPr>
          <a:xfrm>
            <a:off x="457200" y="1523880"/>
            <a:ext cx="1600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WG Case:</a:t>
            </a:r>
            <a:endParaRPr b="0" lang="en-US" sz="2000" spc="-1" strike="noStrike">
              <a:solidFill>
                <a:srgbClr val="000000"/>
              </a:solidFill>
              <a:latin typeface="Arial"/>
            </a:endParaRPr>
          </a:p>
        </p:txBody>
      </p:sp>
      <p:sp>
        <p:nvSpPr>
          <p:cNvPr id="109" name="TextBox 11"/>
          <p:cNvSpPr/>
          <p:nvPr/>
        </p:nvSpPr>
        <p:spPr>
          <a:xfrm>
            <a:off x="457200" y="4495680"/>
            <a:ext cx="1828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ology Processor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
          <p:cNvPicPr/>
          <p:nvPr/>
        </p:nvPicPr>
        <p:blipFill>
          <a:blip r:embed="rId1"/>
          <a:stretch/>
        </p:blipFill>
        <p:spPr>
          <a:xfrm>
            <a:off x="2914560" y="4037040"/>
            <a:ext cx="5848560" cy="2820960"/>
          </a:xfrm>
          <a:prstGeom prst="rect">
            <a:avLst/>
          </a:prstGeom>
          <a:ln w="0">
            <a:noFill/>
          </a:ln>
        </p:spPr>
      </p:pic>
      <p:sp>
        <p:nvSpPr>
          <p:cNvPr id="111" name="Title 1"/>
          <p:cNvSpPr/>
          <p:nvPr/>
        </p:nvSpPr>
        <p:spPr>
          <a:xfrm>
            <a:off x="152280" y="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ches in SSWG case not matching the TP case due to BC/BO branches. (467 branches)</a:t>
            </a:r>
            <a:endParaRPr b="0" lang="en-US" sz="2800" spc="-1" strike="noStrike">
              <a:solidFill>
                <a:srgbClr val="000000"/>
              </a:solidFill>
              <a:latin typeface="Arial"/>
            </a:endParaRPr>
          </a:p>
        </p:txBody>
      </p:sp>
      <p:sp>
        <p:nvSpPr>
          <p:cNvPr id="112" name="Straight Connector 6"/>
          <p:cNvSpPr/>
          <p:nvPr/>
        </p:nvSpPr>
        <p:spPr>
          <a:xfrm>
            <a:off x="0" y="4038480"/>
            <a:ext cx="9144000" cy="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Box 9"/>
          <p:cNvSpPr/>
          <p:nvPr/>
        </p:nvSpPr>
        <p:spPr>
          <a:xfrm>
            <a:off x="457200" y="1523880"/>
            <a:ext cx="1600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WG Case:</a:t>
            </a:r>
            <a:endParaRPr b="0" lang="en-US" sz="2000" spc="-1" strike="noStrike">
              <a:solidFill>
                <a:srgbClr val="000000"/>
              </a:solidFill>
              <a:latin typeface="Arial"/>
            </a:endParaRPr>
          </a:p>
        </p:txBody>
      </p:sp>
      <p:sp>
        <p:nvSpPr>
          <p:cNvPr id="114" name="TextBox 10"/>
          <p:cNvSpPr/>
          <p:nvPr/>
        </p:nvSpPr>
        <p:spPr>
          <a:xfrm>
            <a:off x="457200" y="4495680"/>
            <a:ext cx="1828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ology Processor Case:</a:t>
            </a:r>
            <a:endParaRPr b="0" lang="en-US" sz="2000" spc="-1" strike="noStrike">
              <a:solidFill>
                <a:srgbClr val="000000"/>
              </a:solidFill>
              <a:latin typeface="Arial"/>
            </a:endParaRPr>
          </a:p>
        </p:txBody>
      </p:sp>
      <p:pic>
        <p:nvPicPr>
          <p:cNvPr id="115" name="Picture 2" descr=""/>
          <p:cNvPicPr/>
          <p:nvPr/>
        </p:nvPicPr>
        <p:blipFill>
          <a:blip r:embed="rId2"/>
          <a:stretch/>
        </p:blipFill>
        <p:spPr>
          <a:xfrm>
            <a:off x="2438280" y="1066680"/>
            <a:ext cx="6705720" cy="2840040"/>
          </a:xfrm>
          <a:prstGeom prst="rect">
            <a:avLst/>
          </a:prstGeom>
          <a:ln w="0">
            <a:noFill/>
          </a:ln>
        </p:spPr>
      </p:pic>
      <p:sp>
        <p:nvSpPr>
          <p:cNvPr id="116" name="Oval 7"/>
          <p:cNvSpPr/>
          <p:nvPr/>
        </p:nvSpPr>
        <p:spPr>
          <a:xfrm>
            <a:off x="4572000" y="2743200"/>
            <a:ext cx="91440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3"/>
          <p:cNvSpPr/>
          <p:nvPr/>
        </p:nvSpPr>
        <p:spPr>
          <a:xfrm>
            <a:off x="4800600" y="5638680"/>
            <a:ext cx="9144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277 branches in the SSWG case that did not match the TP case due to an ID difference. </a:t>
            </a:r>
            <a:r>
              <a:rPr b="0" lang="en-US" sz="2000" spc="-1" strike="noStrike">
                <a:solidFill>
                  <a:srgbClr val="000000"/>
                </a:solidFill>
                <a:latin typeface="Calibri"/>
              </a:rPr>
              <a:t>(Does not include BC/BO branches)</a:t>
            </a:r>
            <a:endParaRPr b="0" lang="en-US" sz="2000" spc="-1" strike="noStrike">
              <a:solidFill>
                <a:srgbClr val="000000"/>
              </a:solidFill>
              <a:latin typeface="Calibri"/>
            </a:endParaRPr>
          </a:p>
        </p:txBody>
      </p:sp>
      <p:pic>
        <p:nvPicPr>
          <p:cNvPr id="119" name="Picture 2" descr=""/>
          <p:cNvPicPr/>
          <p:nvPr/>
        </p:nvPicPr>
        <p:blipFill>
          <a:blip r:embed="rId1"/>
          <a:srcRect l="0" t="0" r="0" b="3531"/>
          <a:stretch/>
        </p:blipFill>
        <p:spPr>
          <a:xfrm>
            <a:off x="4262400" y="1600200"/>
            <a:ext cx="4881600" cy="2362320"/>
          </a:xfrm>
          <a:prstGeom prst="rect">
            <a:avLst/>
          </a:prstGeom>
          <a:ln w="0">
            <a:noFill/>
          </a:ln>
        </p:spPr>
      </p:pic>
      <p:pic>
        <p:nvPicPr>
          <p:cNvPr id="120" name="Picture 3" descr=""/>
          <p:cNvPicPr/>
          <p:nvPr/>
        </p:nvPicPr>
        <p:blipFill>
          <a:blip r:embed="rId2"/>
          <a:stretch/>
        </p:blipFill>
        <p:spPr>
          <a:xfrm>
            <a:off x="3962520" y="4267080"/>
            <a:ext cx="5181480" cy="2308320"/>
          </a:xfrm>
          <a:prstGeom prst="rect">
            <a:avLst/>
          </a:prstGeom>
          <a:ln w="0">
            <a:noFill/>
          </a:ln>
        </p:spPr>
      </p:pic>
      <p:sp>
        <p:nvSpPr>
          <p:cNvPr id="121" name="Straight Connector 5"/>
          <p:cNvSpPr/>
          <p:nvPr/>
        </p:nvSpPr>
        <p:spPr>
          <a:xfrm>
            <a:off x="0" y="4114800"/>
            <a:ext cx="9144000" cy="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Oval 6"/>
          <p:cNvSpPr/>
          <p:nvPr/>
        </p:nvSpPr>
        <p:spPr>
          <a:xfrm>
            <a:off x="6629400" y="2438280"/>
            <a:ext cx="9144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
          <p:cNvSpPr/>
          <p:nvPr/>
        </p:nvSpPr>
        <p:spPr>
          <a:xfrm>
            <a:off x="6553080" y="4952880"/>
            <a:ext cx="91440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8"/>
          <p:cNvSpPr/>
          <p:nvPr/>
        </p:nvSpPr>
        <p:spPr>
          <a:xfrm>
            <a:off x="457200" y="1523880"/>
            <a:ext cx="1600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WG Case:</a:t>
            </a:r>
            <a:endParaRPr b="0" lang="en-US" sz="2000" spc="-1" strike="noStrike">
              <a:solidFill>
                <a:srgbClr val="000000"/>
              </a:solidFill>
              <a:latin typeface="Arial"/>
            </a:endParaRPr>
          </a:p>
        </p:txBody>
      </p:sp>
      <p:sp>
        <p:nvSpPr>
          <p:cNvPr id="125" name="TextBox 9"/>
          <p:cNvSpPr/>
          <p:nvPr/>
        </p:nvSpPr>
        <p:spPr>
          <a:xfrm>
            <a:off x="457200" y="4495680"/>
            <a:ext cx="1828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ology Processor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2286000" y="914400"/>
            <a:ext cx="5715000" cy="2857680"/>
          </a:xfrm>
          <a:prstGeom prst="rect">
            <a:avLst/>
          </a:prstGeom>
          <a:ln w="0">
            <a:noFill/>
          </a:ln>
        </p:spPr>
      </p:pic>
      <p:pic>
        <p:nvPicPr>
          <p:cNvPr id="127" name="Picture 3" descr=""/>
          <p:cNvPicPr/>
          <p:nvPr/>
        </p:nvPicPr>
        <p:blipFill>
          <a:blip r:embed="rId2"/>
          <a:stretch/>
        </p:blipFill>
        <p:spPr>
          <a:xfrm>
            <a:off x="1905120" y="3886200"/>
            <a:ext cx="5257800" cy="2819520"/>
          </a:xfrm>
          <a:prstGeom prst="rect">
            <a:avLst/>
          </a:prstGeom>
          <a:ln w="0">
            <a:noFill/>
          </a:ln>
        </p:spPr>
      </p:pic>
      <p:sp>
        <p:nvSpPr>
          <p:cNvPr id="128" name="TextBox 5"/>
          <p:cNvSpPr/>
          <p:nvPr/>
        </p:nvSpPr>
        <p:spPr>
          <a:xfrm>
            <a:off x="152280" y="152280"/>
            <a:ext cx="8534520" cy="19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ranches in SSWG case but not in TP case due to additional TP busses. Topology is virtually identical.</a:t>
            </a: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 branches not matc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p:txBody>
      </p:sp>
      <p:sp>
        <p:nvSpPr>
          <p:cNvPr id="129" name="TextBox 6"/>
          <p:cNvSpPr/>
          <p:nvPr/>
        </p:nvSpPr>
        <p:spPr>
          <a:xfrm>
            <a:off x="380880" y="1828800"/>
            <a:ext cx="152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WG Case:</a:t>
            </a:r>
            <a:endParaRPr b="0" lang="en-US" sz="1800" spc="-1" strike="noStrike">
              <a:solidFill>
                <a:srgbClr val="000000"/>
              </a:solidFill>
              <a:latin typeface="Arial"/>
            </a:endParaRPr>
          </a:p>
        </p:txBody>
      </p:sp>
      <p:sp>
        <p:nvSpPr>
          <p:cNvPr id="130" name="TextBox 7"/>
          <p:cNvSpPr/>
          <p:nvPr/>
        </p:nvSpPr>
        <p:spPr>
          <a:xfrm>
            <a:off x="457200" y="457200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Process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a:t>
            </a:r>
            <a:endParaRPr b="0" lang="en-US" sz="1800" spc="-1" strike="noStrike">
              <a:solidFill>
                <a:srgbClr val="000000"/>
              </a:solidFill>
              <a:latin typeface="Arial"/>
            </a:endParaRPr>
          </a:p>
        </p:txBody>
      </p:sp>
      <p:sp>
        <p:nvSpPr>
          <p:cNvPr id="131" name="Straight Connector 9"/>
          <p:cNvSpPr/>
          <p:nvPr/>
        </p:nvSpPr>
        <p:spPr>
          <a:xfrm>
            <a:off x="0" y="3962520"/>
            <a:ext cx="9144000" cy="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Oval 10"/>
          <p:cNvSpPr/>
          <p:nvPr/>
        </p:nvSpPr>
        <p:spPr>
          <a:xfrm>
            <a:off x="3657600" y="4648320"/>
            <a:ext cx="685800" cy="1523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traight Connector 8"/>
          <p:cNvSpPr/>
          <p:nvPr/>
        </p:nvSpPr>
        <p:spPr>
          <a:xfrm>
            <a:off x="0" y="4038480"/>
            <a:ext cx="9144000" cy="0"/>
          </a:xfrm>
          <a:prstGeom prst="line">
            <a:avLst/>
          </a:prstGeom>
          <a:ln w="223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152280" y="76320"/>
            <a:ext cx="8839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ransformer branches in SSWG Case, “missing” in TP Case. (251 Branches)</a:t>
            </a:r>
            <a:endParaRPr b="0" lang="en-US" sz="2900" spc="-1" strike="noStrike">
              <a:solidFill>
                <a:srgbClr val="000000"/>
              </a:solidFill>
              <a:latin typeface="Calibri"/>
            </a:endParaRPr>
          </a:p>
        </p:txBody>
      </p:sp>
      <p:sp>
        <p:nvSpPr>
          <p:cNvPr id="135" name="TextBox 12"/>
          <p:cNvSpPr/>
          <p:nvPr/>
        </p:nvSpPr>
        <p:spPr>
          <a:xfrm>
            <a:off x="152280" y="1676520"/>
            <a:ext cx="1600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SWG Case:</a:t>
            </a:r>
            <a:endParaRPr b="0" lang="en-US" sz="2000" spc="-1" strike="noStrike">
              <a:solidFill>
                <a:srgbClr val="000000"/>
              </a:solidFill>
              <a:latin typeface="Arial"/>
            </a:endParaRPr>
          </a:p>
        </p:txBody>
      </p:sp>
      <p:sp>
        <p:nvSpPr>
          <p:cNvPr id="136" name="TextBox 13"/>
          <p:cNvSpPr/>
          <p:nvPr/>
        </p:nvSpPr>
        <p:spPr>
          <a:xfrm>
            <a:off x="152280" y="4495680"/>
            <a:ext cx="1828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ology Processor Case:</a:t>
            </a:r>
            <a:endParaRPr b="0" lang="en-US" sz="2000" spc="-1" strike="noStrike">
              <a:solidFill>
                <a:srgbClr val="000000"/>
              </a:solidFill>
              <a:latin typeface="Arial"/>
            </a:endParaRPr>
          </a:p>
        </p:txBody>
      </p:sp>
      <p:sp>
        <p:nvSpPr>
          <p:cNvPr id="137" name="TextBox 17"/>
          <p:cNvSpPr/>
          <p:nvPr/>
        </p:nvSpPr>
        <p:spPr>
          <a:xfrm>
            <a:off x="-110520" y="914400"/>
            <a:ext cx="648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ample of 2-winding transformer modeled as a 3-winding in TP  case</a:t>
            </a:r>
            <a:endParaRPr b="0" lang="en-US" sz="1600" spc="-1" strike="noStrike">
              <a:solidFill>
                <a:srgbClr val="000000"/>
              </a:solidFill>
              <a:latin typeface="Arial"/>
            </a:endParaRPr>
          </a:p>
        </p:txBody>
      </p:sp>
      <p:pic>
        <p:nvPicPr>
          <p:cNvPr id="138" name="Picture 2" descr=""/>
          <p:cNvPicPr/>
          <p:nvPr/>
        </p:nvPicPr>
        <p:blipFill>
          <a:blip r:embed="rId1"/>
          <a:stretch/>
        </p:blipFill>
        <p:spPr>
          <a:xfrm>
            <a:off x="3048120" y="4114800"/>
            <a:ext cx="5400720" cy="2629080"/>
          </a:xfrm>
          <a:prstGeom prst="rect">
            <a:avLst/>
          </a:prstGeom>
          <a:ln w="0">
            <a:noFill/>
          </a:ln>
        </p:spPr>
      </p:pic>
      <p:pic>
        <p:nvPicPr>
          <p:cNvPr id="139" name="Picture 3" descr=""/>
          <p:cNvPicPr/>
          <p:nvPr/>
        </p:nvPicPr>
        <p:blipFill>
          <a:blip r:embed="rId2"/>
          <a:stretch/>
        </p:blipFill>
        <p:spPr>
          <a:xfrm>
            <a:off x="3352680" y="1371600"/>
            <a:ext cx="5315040" cy="22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readsheet Comparison – Oct 2010 Ratings Differences</a:t>
            </a:r>
            <a:endParaRPr b="0" lang="en-US" sz="4000" spc="-1" strike="noStrike">
              <a:solidFill>
                <a:srgbClr val="000000"/>
              </a:solidFill>
              <a:latin typeface="Calibri"/>
            </a:endParaRPr>
          </a:p>
        </p:txBody>
      </p:sp>
      <p:sp>
        <p:nvSpPr>
          <p:cNvPr id="141" name=""/>
          <p:cNvSpPr txBox="1"/>
          <p:nvPr/>
        </p:nvSpPr>
        <p:spPr>
          <a:xfrm>
            <a:off x="457200" y="1600200"/>
            <a:ext cx="822960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ERCOT Nov ROS presentation</a:t>
            </a:r>
            <a:endParaRPr b="0" lang="en-US" sz="2800" spc="-1" strike="noStrike">
              <a:solidFill>
                <a:srgbClr val="000000"/>
              </a:solidFill>
              <a:latin typeface="Calibri"/>
            </a:endParaRPr>
          </a:p>
        </p:txBody>
      </p:sp>
      <p:pic>
        <p:nvPicPr>
          <p:cNvPr id="142" name="Picture 5" descr=""/>
          <p:cNvPicPr/>
          <p:nvPr/>
        </p:nvPicPr>
        <p:blipFill>
          <a:blip r:embed="rId1"/>
          <a:stretch/>
        </p:blipFill>
        <p:spPr>
          <a:xfrm>
            <a:off x="380880" y="2209680"/>
            <a:ext cx="8156520" cy="2543400"/>
          </a:xfrm>
          <a:prstGeom prst="rect">
            <a:avLst/>
          </a:prstGeom>
          <a:ln w="0">
            <a:noFill/>
          </a:ln>
        </p:spPr>
      </p:pic>
      <p:sp>
        <p:nvSpPr>
          <p:cNvPr id="143" name="Content Placeholder 2"/>
          <p:cNvSpPr/>
          <p:nvPr/>
        </p:nvSpPr>
        <p:spPr>
          <a:xfrm>
            <a:off x="380880" y="487692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64 ratings differences</a:t>
            </a:r>
            <a:endParaRPr b="0" lang="en-US" sz="2200" spc="-1" strike="noStrike">
              <a:solidFill>
                <a:srgbClr val="000000"/>
              </a:solidFill>
              <a:latin typeface="Arial"/>
            </a:endParaRPr>
          </a:p>
          <a:p>
            <a:pPr lvl="1" marL="8002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72 GSUs (Data from RARFs, TSP can change SSWG case)</a:t>
            </a:r>
            <a:endParaRPr b="0" lang="en-US" sz="2200" spc="-1" strike="noStrike">
              <a:solidFill>
                <a:srgbClr val="000000"/>
              </a:solidFill>
              <a:latin typeface="Arial"/>
            </a:endParaRPr>
          </a:p>
          <a:p>
            <a:pPr lvl="1" marL="8002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91 Autos</a:t>
            </a:r>
            <a:endParaRPr b="0" lang="en-US" sz="2200" spc="-1" strike="noStrike">
              <a:solidFill>
                <a:srgbClr val="000000"/>
              </a:solidFill>
              <a:latin typeface="Arial"/>
            </a:endParaRPr>
          </a:p>
          <a:p>
            <a:pPr lvl="1" marL="8002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Transmission line</a:t>
            </a:r>
            <a:endParaRPr b="0" lang="en-US" sz="2200" spc="-1" strike="noStrike">
              <a:solidFill>
                <a:srgbClr val="000000"/>
              </a:solidFill>
              <a:latin typeface="Arial"/>
            </a:endParaRPr>
          </a:p>
        </p:txBody>
      </p:sp>
      <p:sp>
        <p:nvSpPr>
          <p:cNvPr id="144" name="Oval 5"/>
          <p:cNvSpPr/>
          <p:nvPr/>
        </p:nvSpPr>
        <p:spPr>
          <a:xfrm>
            <a:off x="6172200" y="4419720"/>
            <a:ext cx="45720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readsheet Comparison – Oct 2010 Impedance Differences</a:t>
            </a:r>
            <a:endParaRPr b="0" lang="en-US" sz="4000" spc="-1" strike="noStrike">
              <a:solidFill>
                <a:srgbClr val="000000"/>
              </a:solidFill>
              <a:latin typeface="Calibri"/>
            </a:endParaRPr>
          </a:p>
        </p:txBody>
      </p:sp>
      <p:sp>
        <p:nvSpPr>
          <p:cNvPr id="146" name=""/>
          <p:cNvSpPr txBox="1"/>
          <p:nvPr/>
        </p:nvSpPr>
        <p:spPr>
          <a:xfrm>
            <a:off x="457200" y="1600200"/>
            <a:ext cx="822960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m ERCOT Nov ROS presentation</a:t>
            </a:r>
            <a:endParaRPr b="0" lang="en-US" sz="2800" spc="-1" strike="noStrike">
              <a:solidFill>
                <a:srgbClr val="000000"/>
              </a:solidFill>
              <a:latin typeface="Calibri"/>
            </a:endParaRPr>
          </a:p>
        </p:txBody>
      </p:sp>
      <p:pic>
        <p:nvPicPr>
          <p:cNvPr id="147" name="Picture 5" descr=""/>
          <p:cNvPicPr/>
          <p:nvPr/>
        </p:nvPicPr>
        <p:blipFill>
          <a:blip r:embed="rId1"/>
          <a:stretch/>
        </p:blipFill>
        <p:spPr>
          <a:xfrm>
            <a:off x="380880" y="2209680"/>
            <a:ext cx="8156520" cy="2543400"/>
          </a:xfrm>
          <a:prstGeom prst="rect">
            <a:avLst/>
          </a:prstGeom>
          <a:ln w="0">
            <a:noFill/>
          </a:ln>
        </p:spPr>
      </p:pic>
      <p:sp>
        <p:nvSpPr>
          <p:cNvPr id="148" name="Content Placeholder 2"/>
          <p:cNvSpPr/>
          <p:nvPr/>
        </p:nvSpPr>
        <p:spPr>
          <a:xfrm>
            <a:off x="380880" y="487692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56 impedance differences</a:t>
            </a:r>
            <a:endParaRPr b="0" lang="en-US" sz="2200" spc="-1" strike="noStrike">
              <a:solidFill>
                <a:srgbClr val="000000"/>
              </a:solidFill>
              <a:latin typeface="Arial"/>
            </a:endParaRPr>
          </a:p>
          <a:p>
            <a:pPr lvl="1" marL="8002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03 GSUs (Data from RARFs, TSP can change SSWG case)</a:t>
            </a:r>
            <a:endParaRPr b="0" lang="en-US" sz="2200" spc="-1" strike="noStrike">
              <a:solidFill>
                <a:srgbClr val="000000"/>
              </a:solidFill>
              <a:latin typeface="Arial"/>
            </a:endParaRPr>
          </a:p>
          <a:p>
            <a:pPr lvl="1" marL="8002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01 Autos (Possible TP calculation – may have been rectified since)</a:t>
            </a:r>
            <a:endParaRPr b="0" lang="en-US" sz="2200" spc="-1" strike="noStrike">
              <a:solidFill>
                <a:srgbClr val="000000"/>
              </a:solidFill>
              <a:latin typeface="Arial"/>
            </a:endParaRPr>
          </a:p>
          <a:p>
            <a:pPr lvl="1" marL="8002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Oval 5"/>
          <p:cNvSpPr/>
          <p:nvPr/>
        </p:nvSpPr>
        <p:spPr>
          <a:xfrm>
            <a:off x="6165720" y="3294000"/>
            <a:ext cx="4572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 2 is the bridge to get to Option 1 (with the items in SCR760 fully implement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 2 uses new Model On Demand too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 2 uses Topology Processor, just in a different way than ERCOT envisio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 2 meets Protocol requir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SPs were </a:t>
            </a:r>
            <a:r>
              <a:rPr b="0" lang="en-US" sz="2800" spc="-1" strike="noStrike" u="sng">
                <a:solidFill>
                  <a:srgbClr val="000000"/>
                </a:solidFill>
                <a:uFillTx/>
                <a:latin typeface="Calibri"/>
              </a:rPr>
              <a:t>unanimous</a:t>
            </a:r>
            <a:r>
              <a:rPr b="0" lang="en-US" sz="2800" spc="-1" strike="noStrike">
                <a:solidFill>
                  <a:srgbClr val="000000"/>
                </a:solidFill>
                <a:latin typeface="Calibri"/>
              </a:rPr>
              <a:t> in their support for Option 2 at Dec 15 mee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Freeform 22"/>
          <p:cNvSpPr/>
          <p:nvPr/>
        </p:nvSpPr>
        <p:spPr>
          <a:xfrm>
            <a:off x="4648320" y="1020600"/>
            <a:ext cx="1693800" cy="812880"/>
          </a:xfrm>
          <a:custGeom>
            <a:avLst/>
            <a:gdLst/>
            <a:ahLst/>
            <a:rect l="l" t="t" r="r" b="b"/>
            <a:pathLst>
              <a:path w="1955800" h="813329">
                <a:moveTo>
                  <a:pt x="68792" y="14287"/>
                </a:moveTo>
                <a:cubicBezTo>
                  <a:pt x="47096" y="28575"/>
                  <a:pt x="32280" y="87312"/>
                  <a:pt x="37042" y="109537"/>
                </a:cubicBezTo>
                <a:cubicBezTo>
                  <a:pt x="41805" y="131762"/>
                  <a:pt x="92075" y="135995"/>
                  <a:pt x="97367" y="147637"/>
                </a:cubicBezTo>
                <a:cubicBezTo>
                  <a:pt x="102659" y="159279"/>
                  <a:pt x="80963" y="169862"/>
                  <a:pt x="68792" y="179387"/>
                </a:cubicBezTo>
                <a:cubicBezTo>
                  <a:pt x="56621" y="188912"/>
                  <a:pt x="28046" y="193675"/>
                  <a:pt x="24342" y="204787"/>
                </a:cubicBezTo>
                <a:cubicBezTo>
                  <a:pt x="20638" y="215899"/>
                  <a:pt x="40746" y="237066"/>
                  <a:pt x="46567" y="246062"/>
                </a:cubicBezTo>
                <a:cubicBezTo>
                  <a:pt x="52388" y="255058"/>
                  <a:pt x="52388" y="252941"/>
                  <a:pt x="59267" y="258762"/>
                </a:cubicBezTo>
                <a:cubicBezTo>
                  <a:pt x="66146" y="264583"/>
                  <a:pt x="83080" y="268816"/>
                  <a:pt x="87842" y="280987"/>
                </a:cubicBezTo>
                <a:cubicBezTo>
                  <a:pt x="92604" y="293158"/>
                  <a:pt x="94192" y="314325"/>
                  <a:pt x="87842" y="331787"/>
                </a:cubicBezTo>
                <a:cubicBezTo>
                  <a:pt x="81492" y="349249"/>
                  <a:pt x="58209" y="368829"/>
                  <a:pt x="49742" y="385762"/>
                </a:cubicBezTo>
                <a:cubicBezTo>
                  <a:pt x="41275" y="402695"/>
                  <a:pt x="31750" y="425979"/>
                  <a:pt x="37042" y="433387"/>
                </a:cubicBezTo>
                <a:cubicBezTo>
                  <a:pt x="42334" y="440795"/>
                  <a:pt x="64559" y="430741"/>
                  <a:pt x="81492" y="430212"/>
                </a:cubicBezTo>
                <a:cubicBezTo>
                  <a:pt x="98425" y="429683"/>
                  <a:pt x="125413" y="423862"/>
                  <a:pt x="138642" y="430212"/>
                </a:cubicBezTo>
                <a:cubicBezTo>
                  <a:pt x="151871" y="436562"/>
                  <a:pt x="157163" y="451908"/>
                  <a:pt x="160867" y="468312"/>
                </a:cubicBezTo>
                <a:cubicBezTo>
                  <a:pt x="164571" y="484716"/>
                  <a:pt x="162984" y="514350"/>
                  <a:pt x="160867" y="528637"/>
                </a:cubicBezTo>
                <a:cubicBezTo>
                  <a:pt x="158750" y="542925"/>
                  <a:pt x="158221" y="551920"/>
                  <a:pt x="148167" y="554037"/>
                </a:cubicBezTo>
                <a:cubicBezTo>
                  <a:pt x="138113" y="556154"/>
                  <a:pt x="116417" y="546629"/>
                  <a:pt x="100542" y="541337"/>
                </a:cubicBezTo>
                <a:cubicBezTo>
                  <a:pt x="84667" y="536045"/>
                  <a:pt x="67734" y="527579"/>
                  <a:pt x="52917" y="522287"/>
                </a:cubicBezTo>
                <a:cubicBezTo>
                  <a:pt x="38100" y="516995"/>
                  <a:pt x="20109" y="504824"/>
                  <a:pt x="11642" y="509587"/>
                </a:cubicBezTo>
                <a:cubicBezTo>
                  <a:pt x="3175" y="514350"/>
                  <a:pt x="0" y="534458"/>
                  <a:pt x="2117" y="550862"/>
                </a:cubicBezTo>
                <a:cubicBezTo>
                  <a:pt x="4234" y="567266"/>
                  <a:pt x="13230" y="595312"/>
                  <a:pt x="24342" y="608012"/>
                </a:cubicBezTo>
                <a:cubicBezTo>
                  <a:pt x="35454" y="620712"/>
                  <a:pt x="52388" y="622299"/>
                  <a:pt x="68792" y="627062"/>
                </a:cubicBezTo>
                <a:cubicBezTo>
                  <a:pt x="85196" y="631825"/>
                  <a:pt x="109538" y="633941"/>
                  <a:pt x="122767" y="636587"/>
                </a:cubicBezTo>
                <a:cubicBezTo>
                  <a:pt x="135996" y="639233"/>
                  <a:pt x="149225" y="638175"/>
                  <a:pt x="148167" y="642937"/>
                </a:cubicBezTo>
                <a:cubicBezTo>
                  <a:pt x="147109" y="647699"/>
                  <a:pt x="130705" y="658812"/>
                  <a:pt x="116417" y="665162"/>
                </a:cubicBezTo>
                <a:cubicBezTo>
                  <a:pt x="102129" y="671512"/>
                  <a:pt x="77788" y="673629"/>
                  <a:pt x="62442" y="681037"/>
                </a:cubicBezTo>
                <a:cubicBezTo>
                  <a:pt x="47096" y="688445"/>
                  <a:pt x="20638" y="694266"/>
                  <a:pt x="24342" y="709612"/>
                </a:cubicBezTo>
                <a:cubicBezTo>
                  <a:pt x="28046" y="724958"/>
                  <a:pt x="71438" y="756708"/>
                  <a:pt x="84667" y="773112"/>
                </a:cubicBezTo>
                <a:cubicBezTo>
                  <a:pt x="97896" y="789516"/>
                  <a:pt x="97367" y="802745"/>
                  <a:pt x="103717" y="808037"/>
                </a:cubicBezTo>
                <a:cubicBezTo>
                  <a:pt x="110067" y="813329"/>
                  <a:pt x="105834" y="804862"/>
                  <a:pt x="122767" y="804862"/>
                </a:cubicBezTo>
                <a:cubicBezTo>
                  <a:pt x="139700" y="804862"/>
                  <a:pt x="176742" y="807508"/>
                  <a:pt x="205317" y="808037"/>
                </a:cubicBezTo>
                <a:cubicBezTo>
                  <a:pt x="233892" y="808566"/>
                  <a:pt x="294217" y="808037"/>
                  <a:pt x="294217" y="808037"/>
                </a:cubicBezTo>
                <a:lnTo>
                  <a:pt x="376767" y="808037"/>
                </a:lnTo>
                <a:lnTo>
                  <a:pt x="538692" y="808037"/>
                </a:lnTo>
                <a:lnTo>
                  <a:pt x="675217" y="808037"/>
                </a:lnTo>
                <a:lnTo>
                  <a:pt x="875242" y="808037"/>
                </a:lnTo>
                <a:lnTo>
                  <a:pt x="1030817" y="808037"/>
                </a:lnTo>
                <a:lnTo>
                  <a:pt x="1265767" y="804862"/>
                </a:lnTo>
                <a:lnTo>
                  <a:pt x="1440392" y="804862"/>
                </a:lnTo>
                <a:lnTo>
                  <a:pt x="1624542" y="804862"/>
                </a:lnTo>
                <a:lnTo>
                  <a:pt x="1748367" y="804862"/>
                </a:lnTo>
                <a:lnTo>
                  <a:pt x="1840442" y="804862"/>
                </a:lnTo>
                <a:lnTo>
                  <a:pt x="1910292" y="804862"/>
                </a:lnTo>
                <a:cubicBezTo>
                  <a:pt x="1929342" y="804862"/>
                  <a:pt x="1953684" y="811741"/>
                  <a:pt x="1954742" y="804862"/>
                </a:cubicBezTo>
                <a:cubicBezTo>
                  <a:pt x="1955800" y="797983"/>
                  <a:pt x="1951038" y="795337"/>
                  <a:pt x="1916642" y="763587"/>
                </a:cubicBezTo>
                <a:cubicBezTo>
                  <a:pt x="1882246" y="731837"/>
                  <a:pt x="1812925" y="666749"/>
                  <a:pt x="1748367" y="614362"/>
                </a:cubicBezTo>
                <a:cubicBezTo>
                  <a:pt x="1683809" y="561975"/>
                  <a:pt x="1606021" y="500062"/>
                  <a:pt x="1529292" y="449262"/>
                </a:cubicBezTo>
                <a:cubicBezTo>
                  <a:pt x="1452563" y="398462"/>
                  <a:pt x="1373188" y="354012"/>
                  <a:pt x="1287992" y="309562"/>
                </a:cubicBezTo>
                <a:cubicBezTo>
                  <a:pt x="1202796" y="265112"/>
                  <a:pt x="1099080" y="214841"/>
                  <a:pt x="1018117" y="182562"/>
                </a:cubicBezTo>
                <a:cubicBezTo>
                  <a:pt x="937154" y="150283"/>
                  <a:pt x="874713" y="135466"/>
                  <a:pt x="802217" y="115887"/>
                </a:cubicBezTo>
                <a:cubicBezTo>
                  <a:pt x="729721" y="96308"/>
                  <a:pt x="661988" y="79904"/>
                  <a:pt x="583142" y="65087"/>
                </a:cubicBezTo>
                <a:cubicBezTo>
                  <a:pt x="504296" y="50270"/>
                  <a:pt x="398463" y="33866"/>
                  <a:pt x="329142" y="26987"/>
                </a:cubicBezTo>
                <a:cubicBezTo>
                  <a:pt x="259821" y="20108"/>
                  <a:pt x="206904" y="25399"/>
                  <a:pt x="167217" y="23812"/>
                </a:cubicBezTo>
                <a:cubicBezTo>
                  <a:pt x="127530" y="22225"/>
                  <a:pt x="90488" y="0"/>
                  <a:pt x="68792" y="14287"/>
                </a:cubicBezTo>
                <a:close/>
              </a:path>
            </a:pathLst>
          </a:custGeom>
          <a:solidFill>
            <a:srgbClr val="984807"/>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Freeform 21"/>
          <p:cNvSpPr/>
          <p:nvPr/>
        </p:nvSpPr>
        <p:spPr>
          <a:xfrm>
            <a:off x="2438280" y="1020600"/>
            <a:ext cx="1648080" cy="814680"/>
          </a:xfrm>
          <a:custGeom>
            <a:avLst/>
            <a:gdLst/>
            <a:ahLst/>
            <a:rect l="l" t="t" r="r" b="b"/>
            <a:pathLst>
              <a:path w="1923257" h="814387">
                <a:moveTo>
                  <a:pt x="38894" y="795337"/>
                </a:moveTo>
                <a:cubicBezTo>
                  <a:pt x="77788" y="814387"/>
                  <a:pt x="242095" y="799306"/>
                  <a:pt x="319882" y="800100"/>
                </a:cubicBezTo>
                <a:cubicBezTo>
                  <a:pt x="397669" y="800894"/>
                  <a:pt x="505619" y="800100"/>
                  <a:pt x="505619" y="800100"/>
                </a:cubicBezTo>
                <a:lnTo>
                  <a:pt x="819944" y="795337"/>
                </a:lnTo>
                <a:lnTo>
                  <a:pt x="1343819" y="800100"/>
                </a:lnTo>
                <a:cubicBezTo>
                  <a:pt x="1500981" y="800100"/>
                  <a:pt x="1762919" y="795337"/>
                  <a:pt x="1762919" y="795337"/>
                </a:cubicBezTo>
                <a:cubicBezTo>
                  <a:pt x="1848644" y="794543"/>
                  <a:pt x="1855788" y="812006"/>
                  <a:pt x="1858169" y="795337"/>
                </a:cubicBezTo>
                <a:cubicBezTo>
                  <a:pt x="1860550" y="778668"/>
                  <a:pt x="1768476" y="721519"/>
                  <a:pt x="1777207" y="695325"/>
                </a:cubicBezTo>
                <a:cubicBezTo>
                  <a:pt x="1785938" y="669131"/>
                  <a:pt x="1909763" y="653256"/>
                  <a:pt x="1910557" y="638175"/>
                </a:cubicBezTo>
                <a:cubicBezTo>
                  <a:pt x="1911351" y="623094"/>
                  <a:pt x="1806575" y="627062"/>
                  <a:pt x="1781969" y="604837"/>
                </a:cubicBezTo>
                <a:cubicBezTo>
                  <a:pt x="1757363" y="582612"/>
                  <a:pt x="1743075" y="515937"/>
                  <a:pt x="1762919" y="504825"/>
                </a:cubicBezTo>
                <a:cubicBezTo>
                  <a:pt x="1782763" y="493713"/>
                  <a:pt x="1878807" y="551656"/>
                  <a:pt x="1901032" y="538162"/>
                </a:cubicBezTo>
                <a:cubicBezTo>
                  <a:pt x="1923257" y="524668"/>
                  <a:pt x="1915319" y="443706"/>
                  <a:pt x="1896269" y="423862"/>
                </a:cubicBezTo>
                <a:cubicBezTo>
                  <a:pt x="1877219" y="404018"/>
                  <a:pt x="1795463" y="441325"/>
                  <a:pt x="1786732" y="419100"/>
                </a:cubicBezTo>
                <a:cubicBezTo>
                  <a:pt x="1778001" y="396875"/>
                  <a:pt x="1846263" y="325437"/>
                  <a:pt x="1843882" y="290512"/>
                </a:cubicBezTo>
                <a:cubicBezTo>
                  <a:pt x="1841501" y="255587"/>
                  <a:pt x="1771650" y="233362"/>
                  <a:pt x="1772444" y="209550"/>
                </a:cubicBezTo>
                <a:cubicBezTo>
                  <a:pt x="1773238" y="185738"/>
                  <a:pt x="1846263" y="165893"/>
                  <a:pt x="1848644" y="147637"/>
                </a:cubicBezTo>
                <a:cubicBezTo>
                  <a:pt x="1851025" y="129381"/>
                  <a:pt x="1792288" y="122237"/>
                  <a:pt x="1786732" y="100012"/>
                </a:cubicBezTo>
                <a:cubicBezTo>
                  <a:pt x="1781176" y="77787"/>
                  <a:pt x="1828801" y="28574"/>
                  <a:pt x="1815307" y="14287"/>
                </a:cubicBezTo>
                <a:cubicBezTo>
                  <a:pt x="1801813" y="0"/>
                  <a:pt x="1753394" y="12700"/>
                  <a:pt x="1705769" y="14287"/>
                </a:cubicBezTo>
                <a:cubicBezTo>
                  <a:pt x="1658144" y="15874"/>
                  <a:pt x="1593851" y="16668"/>
                  <a:pt x="1529557" y="23812"/>
                </a:cubicBezTo>
                <a:cubicBezTo>
                  <a:pt x="1465263" y="30956"/>
                  <a:pt x="1397001" y="40481"/>
                  <a:pt x="1320007" y="57150"/>
                </a:cubicBezTo>
                <a:cubicBezTo>
                  <a:pt x="1243013" y="73819"/>
                  <a:pt x="1156494" y="95250"/>
                  <a:pt x="1067594" y="123825"/>
                </a:cubicBezTo>
                <a:cubicBezTo>
                  <a:pt x="978694" y="152400"/>
                  <a:pt x="881063" y="185737"/>
                  <a:pt x="786607" y="228600"/>
                </a:cubicBezTo>
                <a:cubicBezTo>
                  <a:pt x="692151" y="271463"/>
                  <a:pt x="586582" y="330200"/>
                  <a:pt x="500857" y="381000"/>
                </a:cubicBezTo>
                <a:cubicBezTo>
                  <a:pt x="415132" y="431800"/>
                  <a:pt x="341313" y="482600"/>
                  <a:pt x="272257" y="533400"/>
                </a:cubicBezTo>
                <a:cubicBezTo>
                  <a:pt x="203201" y="584200"/>
                  <a:pt x="127000" y="649288"/>
                  <a:pt x="86519" y="685800"/>
                </a:cubicBezTo>
                <a:cubicBezTo>
                  <a:pt x="46038" y="722312"/>
                  <a:pt x="0" y="776287"/>
                  <a:pt x="38894" y="795337"/>
                </a:cubicBezTo>
                <a:close/>
              </a:path>
            </a:pathLst>
          </a:custGeom>
          <a:solidFill>
            <a:srgbClr val="984807"/>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Freeform 17"/>
          <p:cNvSpPr/>
          <p:nvPr/>
        </p:nvSpPr>
        <p:spPr>
          <a:xfrm>
            <a:off x="1676520" y="1935000"/>
            <a:ext cx="718920" cy="1676520"/>
          </a:xfrm>
          <a:custGeom>
            <a:avLst/>
            <a:gdLst/>
            <a:ahLst/>
            <a:rect l="l" t="t" r="r" b="b"/>
            <a:pathLst>
              <a:path w="815645" h="1912925">
                <a:moveTo>
                  <a:pt x="13411" y="1762963"/>
                </a:moveTo>
                <a:cubicBezTo>
                  <a:pt x="26822" y="1786128"/>
                  <a:pt x="80467" y="1687373"/>
                  <a:pt x="108509" y="1689811"/>
                </a:cubicBezTo>
                <a:cubicBezTo>
                  <a:pt x="136551" y="1692249"/>
                  <a:pt x="163373" y="1777593"/>
                  <a:pt x="181661" y="1777593"/>
                </a:cubicBezTo>
                <a:cubicBezTo>
                  <a:pt x="199949" y="1777593"/>
                  <a:pt x="198730" y="1680057"/>
                  <a:pt x="218237" y="1689811"/>
                </a:cubicBezTo>
                <a:cubicBezTo>
                  <a:pt x="237744" y="1699565"/>
                  <a:pt x="279197" y="1842211"/>
                  <a:pt x="298704" y="1836115"/>
                </a:cubicBezTo>
                <a:cubicBezTo>
                  <a:pt x="318211" y="1830019"/>
                  <a:pt x="315773" y="1678838"/>
                  <a:pt x="335280" y="1653235"/>
                </a:cubicBezTo>
                <a:cubicBezTo>
                  <a:pt x="354787" y="1627632"/>
                  <a:pt x="395021" y="1666646"/>
                  <a:pt x="415747" y="1682496"/>
                </a:cubicBezTo>
                <a:cubicBezTo>
                  <a:pt x="436473" y="1698346"/>
                  <a:pt x="440132" y="1753210"/>
                  <a:pt x="459639" y="1748333"/>
                </a:cubicBezTo>
                <a:cubicBezTo>
                  <a:pt x="479146" y="1743456"/>
                  <a:pt x="516942" y="1628851"/>
                  <a:pt x="532791" y="1653235"/>
                </a:cubicBezTo>
                <a:cubicBezTo>
                  <a:pt x="548641" y="1677619"/>
                  <a:pt x="535229" y="1876349"/>
                  <a:pt x="554736" y="1894637"/>
                </a:cubicBezTo>
                <a:cubicBezTo>
                  <a:pt x="574243" y="1912925"/>
                  <a:pt x="629108" y="1776374"/>
                  <a:pt x="649834" y="1762963"/>
                </a:cubicBezTo>
                <a:cubicBezTo>
                  <a:pt x="670561" y="1749552"/>
                  <a:pt x="654711" y="1826361"/>
                  <a:pt x="679095" y="1814169"/>
                </a:cubicBezTo>
                <a:cubicBezTo>
                  <a:pt x="703479" y="1801977"/>
                  <a:pt x="776631" y="1803196"/>
                  <a:pt x="796138" y="1689811"/>
                </a:cubicBezTo>
                <a:cubicBezTo>
                  <a:pt x="815645" y="1576426"/>
                  <a:pt x="796138" y="1133856"/>
                  <a:pt x="796138" y="1133856"/>
                </a:cubicBezTo>
                <a:lnTo>
                  <a:pt x="796138" y="709574"/>
                </a:lnTo>
                <a:lnTo>
                  <a:pt x="796138" y="395021"/>
                </a:lnTo>
                <a:cubicBezTo>
                  <a:pt x="796138" y="285293"/>
                  <a:pt x="807111" y="102412"/>
                  <a:pt x="796138" y="51206"/>
                </a:cubicBezTo>
                <a:cubicBezTo>
                  <a:pt x="785165" y="0"/>
                  <a:pt x="774192" y="42672"/>
                  <a:pt x="730301" y="87782"/>
                </a:cubicBezTo>
                <a:cubicBezTo>
                  <a:pt x="686410" y="132893"/>
                  <a:pt x="602285" y="227991"/>
                  <a:pt x="532791" y="321869"/>
                </a:cubicBezTo>
                <a:cubicBezTo>
                  <a:pt x="463297" y="415747"/>
                  <a:pt x="381610" y="514503"/>
                  <a:pt x="313335" y="651053"/>
                </a:cubicBezTo>
                <a:cubicBezTo>
                  <a:pt x="245060" y="787603"/>
                  <a:pt x="170688" y="991210"/>
                  <a:pt x="123139" y="1141171"/>
                </a:cubicBezTo>
                <a:cubicBezTo>
                  <a:pt x="75590" y="1291132"/>
                  <a:pt x="46330" y="1449628"/>
                  <a:pt x="28042" y="1550822"/>
                </a:cubicBezTo>
                <a:cubicBezTo>
                  <a:pt x="9754" y="1652016"/>
                  <a:pt x="0" y="1739798"/>
                  <a:pt x="13411" y="1762963"/>
                </a:cubicBezTo>
                <a:close/>
              </a:path>
            </a:pathLst>
          </a:custGeom>
          <a:solidFill>
            <a:srgbClr val="984807"/>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Freeform 18"/>
          <p:cNvSpPr/>
          <p:nvPr/>
        </p:nvSpPr>
        <p:spPr>
          <a:xfrm>
            <a:off x="1752480" y="3916440"/>
            <a:ext cx="709560" cy="1990800"/>
          </a:xfrm>
          <a:custGeom>
            <a:avLst/>
            <a:gdLst/>
            <a:ahLst/>
            <a:rect l="l" t="t" r="r" b="b"/>
            <a:pathLst>
              <a:path w="804334" h="2246841">
                <a:moveTo>
                  <a:pt x="782638" y="229658"/>
                </a:moveTo>
                <a:cubicBezTo>
                  <a:pt x="777346" y="0"/>
                  <a:pt x="776817" y="269875"/>
                  <a:pt x="757238" y="286808"/>
                </a:cubicBezTo>
                <a:cubicBezTo>
                  <a:pt x="737659" y="303741"/>
                  <a:pt x="682625" y="333375"/>
                  <a:pt x="665163" y="331258"/>
                </a:cubicBezTo>
                <a:cubicBezTo>
                  <a:pt x="647701" y="329141"/>
                  <a:pt x="660400" y="278341"/>
                  <a:pt x="652463" y="274108"/>
                </a:cubicBezTo>
                <a:cubicBezTo>
                  <a:pt x="644526" y="269875"/>
                  <a:pt x="628650" y="288925"/>
                  <a:pt x="617538" y="305858"/>
                </a:cubicBezTo>
                <a:cubicBezTo>
                  <a:pt x="606426" y="322791"/>
                  <a:pt x="596900" y="358775"/>
                  <a:pt x="585788" y="375708"/>
                </a:cubicBezTo>
                <a:cubicBezTo>
                  <a:pt x="574676" y="392641"/>
                  <a:pt x="558271" y="409575"/>
                  <a:pt x="550863" y="407458"/>
                </a:cubicBezTo>
                <a:cubicBezTo>
                  <a:pt x="543455" y="405341"/>
                  <a:pt x="543984" y="384704"/>
                  <a:pt x="541338" y="363008"/>
                </a:cubicBezTo>
                <a:cubicBezTo>
                  <a:pt x="538692" y="341312"/>
                  <a:pt x="536576" y="303212"/>
                  <a:pt x="534988" y="277283"/>
                </a:cubicBezTo>
                <a:cubicBezTo>
                  <a:pt x="533401" y="251354"/>
                  <a:pt x="533400" y="225954"/>
                  <a:pt x="531813" y="207433"/>
                </a:cubicBezTo>
                <a:cubicBezTo>
                  <a:pt x="530226" y="188912"/>
                  <a:pt x="530755" y="170391"/>
                  <a:pt x="525463" y="166158"/>
                </a:cubicBezTo>
                <a:cubicBezTo>
                  <a:pt x="520171" y="161925"/>
                  <a:pt x="508530" y="170921"/>
                  <a:pt x="500063" y="182033"/>
                </a:cubicBezTo>
                <a:cubicBezTo>
                  <a:pt x="491596" y="193145"/>
                  <a:pt x="481542" y="220133"/>
                  <a:pt x="474663" y="232833"/>
                </a:cubicBezTo>
                <a:cubicBezTo>
                  <a:pt x="467784" y="245533"/>
                  <a:pt x="465138" y="254529"/>
                  <a:pt x="458788" y="258233"/>
                </a:cubicBezTo>
                <a:cubicBezTo>
                  <a:pt x="452438" y="261937"/>
                  <a:pt x="443442" y="264583"/>
                  <a:pt x="436563" y="255058"/>
                </a:cubicBezTo>
                <a:cubicBezTo>
                  <a:pt x="429684" y="245533"/>
                  <a:pt x="429155" y="215899"/>
                  <a:pt x="417513" y="201083"/>
                </a:cubicBezTo>
                <a:cubicBezTo>
                  <a:pt x="405871" y="186267"/>
                  <a:pt x="378355" y="173566"/>
                  <a:pt x="366713" y="166158"/>
                </a:cubicBezTo>
                <a:cubicBezTo>
                  <a:pt x="355071" y="158750"/>
                  <a:pt x="354013" y="156633"/>
                  <a:pt x="347663" y="156633"/>
                </a:cubicBezTo>
                <a:cubicBezTo>
                  <a:pt x="341313" y="156633"/>
                  <a:pt x="333375" y="159279"/>
                  <a:pt x="328613" y="166158"/>
                </a:cubicBezTo>
                <a:cubicBezTo>
                  <a:pt x="323851" y="173037"/>
                  <a:pt x="322792" y="178329"/>
                  <a:pt x="319088" y="197908"/>
                </a:cubicBezTo>
                <a:cubicBezTo>
                  <a:pt x="315384" y="217487"/>
                  <a:pt x="310092" y="259291"/>
                  <a:pt x="306388" y="283633"/>
                </a:cubicBezTo>
                <a:cubicBezTo>
                  <a:pt x="302684" y="307975"/>
                  <a:pt x="303742" y="336550"/>
                  <a:pt x="296863" y="343958"/>
                </a:cubicBezTo>
                <a:cubicBezTo>
                  <a:pt x="289984" y="351366"/>
                  <a:pt x="274109" y="341841"/>
                  <a:pt x="265113" y="328083"/>
                </a:cubicBezTo>
                <a:cubicBezTo>
                  <a:pt x="256117" y="314325"/>
                  <a:pt x="251355" y="282046"/>
                  <a:pt x="242888" y="261408"/>
                </a:cubicBezTo>
                <a:cubicBezTo>
                  <a:pt x="234421" y="240770"/>
                  <a:pt x="222251" y="211137"/>
                  <a:pt x="214313" y="204258"/>
                </a:cubicBezTo>
                <a:cubicBezTo>
                  <a:pt x="206375" y="197379"/>
                  <a:pt x="199496" y="209021"/>
                  <a:pt x="195263" y="220133"/>
                </a:cubicBezTo>
                <a:cubicBezTo>
                  <a:pt x="191030" y="231246"/>
                  <a:pt x="192617" y="259821"/>
                  <a:pt x="188913" y="270933"/>
                </a:cubicBezTo>
                <a:cubicBezTo>
                  <a:pt x="185209" y="282045"/>
                  <a:pt x="179917" y="288395"/>
                  <a:pt x="173038" y="286808"/>
                </a:cubicBezTo>
                <a:cubicBezTo>
                  <a:pt x="166159" y="285221"/>
                  <a:pt x="155046" y="271991"/>
                  <a:pt x="147638" y="261408"/>
                </a:cubicBezTo>
                <a:cubicBezTo>
                  <a:pt x="140230" y="250825"/>
                  <a:pt x="136526" y="232304"/>
                  <a:pt x="128588" y="223308"/>
                </a:cubicBezTo>
                <a:cubicBezTo>
                  <a:pt x="120651" y="214312"/>
                  <a:pt x="110067" y="207962"/>
                  <a:pt x="100013" y="207433"/>
                </a:cubicBezTo>
                <a:cubicBezTo>
                  <a:pt x="89959" y="206904"/>
                  <a:pt x="78846" y="211137"/>
                  <a:pt x="68263" y="220133"/>
                </a:cubicBezTo>
                <a:cubicBezTo>
                  <a:pt x="57680" y="229129"/>
                  <a:pt x="47096" y="251883"/>
                  <a:pt x="36513" y="261408"/>
                </a:cubicBezTo>
                <a:cubicBezTo>
                  <a:pt x="25930" y="270933"/>
                  <a:pt x="9526" y="268816"/>
                  <a:pt x="4763" y="277283"/>
                </a:cubicBezTo>
                <a:cubicBezTo>
                  <a:pt x="0" y="285750"/>
                  <a:pt x="7938" y="286279"/>
                  <a:pt x="7938" y="312208"/>
                </a:cubicBezTo>
                <a:cubicBezTo>
                  <a:pt x="7938" y="338137"/>
                  <a:pt x="2117" y="368829"/>
                  <a:pt x="4763" y="432858"/>
                </a:cubicBezTo>
                <a:cubicBezTo>
                  <a:pt x="7409" y="496887"/>
                  <a:pt x="12171" y="596900"/>
                  <a:pt x="23813" y="696383"/>
                </a:cubicBezTo>
                <a:cubicBezTo>
                  <a:pt x="35455" y="795866"/>
                  <a:pt x="48684" y="923396"/>
                  <a:pt x="74613" y="1029758"/>
                </a:cubicBezTo>
                <a:cubicBezTo>
                  <a:pt x="100542" y="1136120"/>
                  <a:pt x="140759" y="1234017"/>
                  <a:pt x="179388" y="1334558"/>
                </a:cubicBezTo>
                <a:cubicBezTo>
                  <a:pt x="218017" y="1435099"/>
                  <a:pt x="256117" y="1539875"/>
                  <a:pt x="306388" y="1633008"/>
                </a:cubicBezTo>
                <a:cubicBezTo>
                  <a:pt x="356659" y="1726141"/>
                  <a:pt x="431801" y="1822979"/>
                  <a:pt x="481013" y="1893358"/>
                </a:cubicBezTo>
                <a:cubicBezTo>
                  <a:pt x="530225" y="1963737"/>
                  <a:pt x="552980" y="1997075"/>
                  <a:pt x="601663" y="2055283"/>
                </a:cubicBezTo>
                <a:cubicBezTo>
                  <a:pt x="650346" y="2113491"/>
                  <a:pt x="741892" y="2238375"/>
                  <a:pt x="773113" y="2242608"/>
                </a:cubicBezTo>
                <a:cubicBezTo>
                  <a:pt x="804334" y="2246841"/>
                  <a:pt x="786342" y="2176991"/>
                  <a:pt x="788988" y="2080683"/>
                </a:cubicBezTo>
                <a:cubicBezTo>
                  <a:pt x="791634" y="1984375"/>
                  <a:pt x="789517" y="1972733"/>
                  <a:pt x="788988" y="1664758"/>
                </a:cubicBezTo>
                <a:cubicBezTo>
                  <a:pt x="788459" y="1356783"/>
                  <a:pt x="787930" y="459316"/>
                  <a:pt x="782638" y="229658"/>
                </a:cubicBezTo>
                <a:close/>
              </a:path>
            </a:pathLst>
          </a:custGeom>
          <a:solidFill>
            <a:srgbClr val="984807"/>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 name="Freeform 24" descr=""/>
          <p:cNvPicPr/>
          <p:nvPr/>
        </p:nvPicPr>
        <p:blipFill>
          <a:blip r:embed="rId1"/>
          <a:stretch/>
        </p:blipFill>
        <p:spPr>
          <a:xfrm>
            <a:off x="2712960" y="6022800"/>
            <a:ext cx="1766880" cy="731880"/>
          </a:xfrm>
          <a:prstGeom prst="rect">
            <a:avLst/>
          </a:prstGeom>
          <a:ln w="0">
            <a:noFill/>
          </a:ln>
        </p:spPr>
      </p:pic>
      <p:pic>
        <p:nvPicPr>
          <p:cNvPr id="48" name="Freeform 23" descr=""/>
          <p:cNvPicPr/>
          <p:nvPr/>
        </p:nvPicPr>
        <p:blipFill>
          <a:blip r:embed="rId2"/>
          <a:stretch/>
        </p:blipFill>
        <p:spPr>
          <a:xfrm>
            <a:off x="4853160" y="6029280"/>
            <a:ext cx="1676160" cy="725400"/>
          </a:xfrm>
          <a:prstGeom prst="rect">
            <a:avLst/>
          </a:prstGeom>
          <a:ln w="0">
            <a:noFill/>
          </a:ln>
        </p:spPr>
      </p:pic>
      <p:sp>
        <p:nvSpPr>
          <p:cNvPr id="49" name="Freeform 19"/>
          <p:cNvSpPr/>
          <p:nvPr/>
        </p:nvSpPr>
        <p:spPr>
          <a:xfrm rot="10800000">
            <a:off x="6552720" y="4068360"/>
            <a:ext cx="685800" cy="1692360"/>
          </a:xfrm>
          <a:custGeom>
            <a:avLst/>
            <a:gdLst/>
            <a:ahLst/>
            <a:rect l="l" t="t" r="r" b="b"/>
            <a:pathLst>
              <a:path w="815645" h="1912925">
                <a:moveTo>
                  <a:pt x="13411" y="1762963"/>
                </a:moveTo>
                <a:cubicBezTo>
                  <a:pt x="26822" y="1786128"/>
                  <a:pt x="80467" y="1687373"/>
                  <a:pt x="108509" y="1689811"/>
                </a:cubicBezTo>
                <a:cubicBezTo>
                  <a:pt x="136551" y="1692249"/>
                  <a:pt x="163373" y="1777593"/>
                  <a:pt x="181661" y="1777593"/>
                </a:cubicBezTo>
                <a:cubicBezTo>
                  <a:pt x="199949" y="1777593"/>
                  <a:pt x="198730" y="1680057"/>
                  <a:pt x="218237" y="1689811"/>
                </a:cubicBezTo>
                <a:cubicBezTo>
                  <a:pt x="237744" y="1699565"/>
                  <a:pt x="279197" y="1842211"/>
                  <a:pt x="298704" y="1836115"/>
                </a:cubicBezTo>
                <a:cubicBezTo>
                  <a:pt x="318211" y="1830019"/>
                  <a:pt x="315773" y="1678838"/>
                  <a:pt x="335280" y="1653235"/>
                </a:cubicBezTo>
                <a:cubicBezTo>
                  <a:pt x="354787" y="1627632"/>
                  <a:pt x="395021" y="1666646"/>
                  <a:pt x="415747" y="1682496"/>
                </a:cubicBezTo>
                <a:cubicBezTo>
                  <a:pt x="436473" y="1698346"/>
                  <a:pt x="440132" y="1753210"/>
                  <a:pt x="459639" y="1748333"/>
                </a:cubicBezTo>
                <a:cubicBezTo>
                  <a:pt x="479146" y="1743456"/>
                  <a:pt x="516942" y="1628851"/>
                  <a:pt x="532791" y="1653235"/>
                </a:cubicBezTo>
                <a:cubicBezTo>
                  <a:pt x="548641" y="1677619"/>
                  <a:pt x="535229" y="1876349"/>
                  <a:pt x="554736" y="1894637"/>
                </a:cubicBezTo>
                <a:cubicBezTo>
                  <a:pt x="574243" y="1912925"/>
                  <a:pt x="629108" y="1776374"/>
                  <a:pt x="649834" y="1762963"/>
                </a:cubicBezTo>
                <a:cubicBezTo>
                  <a:pt x="670561" y="1749552"/>
                  <a:pt x="654711" y="1826361"/>
                  <a:pt x="679095" y="1814169"/>
                </a:cubicBezTo>
                <a:cubicBezTo>
                  <a:pt x="703479" y="1801977"/>
                  <a:pt x="776631" y="1803196"/>
                  <a:pt x="796138" y="1689811"/>
                </a:cubicBezTo>
                <a:cubicBezTo>
                  <a:pt x="815645" y="1576426"/>
                  <a:pt x="796138" y="1133856"/>
                  <a:pt x="796138" y="1133856"/>
                </a:cubicBezTo>
                <a:lnTo>
                  <a:pt x="796138" y="709574"/>
                </a:lnTo>
                <a:lnTo>
                  <a:pt x="796138" y="395021"/>
                </a:lnTo>
                <a:cubicBezTo>
                  <a:pt x="796138" y="285293"/>
                  <a:pt x="807111" y="102412"/>
                  <a:pt x="796138" y="51206"/>
                </a:cubicBezTo>
                <a:cubicBezTo>
                  <a:pt x="785165" y="0"/>
                  <a:pt x="774192" y="42672"/>
                  <a:pt x="730301" y="87782"/>
                </a:cubicBezTo>
                <a:cubicBezTo>
                  <a:pt x="686410" y="132893"/>
                  <a:pt x="602285" y="227991"/>
                  <a:pt x="532791" y="321869"/>
                </a:cubicBezTo>
                <a:cubicBezTo>
                  <a:pt x="463297" y="415747"/>
                  <a:pt x="381610" y="514503"/>
                  <a:pt x="313335" y="651053"/>
                </a:cubicBezTo>
                <a:cubicBezTo>
                  <a:pt x="245060" y="787603"/>
                  <a:pt x="170688" y="991210"/>
                  <a:pt x="123139" y="1141171"/>
                </a:cubicBezTo>
                <a:cubicBezTo>
                  <a:pt x="75590" y="1291132"/>
                  <a:pt x="46330" y="1449628"/>
                  <a:pt x="28042" y="1550822"/>
                </a:cubicBezTo>
                <a:cubicBezTo>
                  <a:pt x="9754" y="1652016"/>
                  <a:pt x="0" y="1739798"/>
                  <a:pt x="13411" y="1762963"/>
                </a:cubicBezTo>
                <a:close/>
              </a:path>
            </a:pathLst>
          </a:custGeom>
          <a:solidFill>
            <a:srgbClr val="984807"/>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Freeform 20"/>
          <p:cNvSpPr/>
          <p:nvPr/>
        </p:nvSpPr>
        <p:spPr>
          <a:xfrm rot="10800000">
            <a:off x="6552720" y="1935000"/>
            <a:ext cx="685800" cy="1865520"/>
          </a:xfrm>
          <a:custGeom>
            <a:avLst/>
            <a:gdLst/>
            <a:ahLst/>
            <a:rect l="l" t="t" r="r" b="b"/>
            <a:pathLst>
              <a:path w="804334" h="2246841">
                <a:moveTo>
                  <a:pt x="782638" y="229658"/>
                </a:moveTo>
                <a:cubicBezTo>
                  <a:pt x="777346" y="0"/>
                  <a:pt x="776817" y="269875"/>
                  <a:pt x="757238" y="286808"/>
                </a:cubicBezTo>
                <a:cubicBezTo>
                  <a:pt x="737659" y="303741"/>
                  <a:pt x="682625" y="333375"/>
                  <a:pt x="665163" y="331258"/>
                </a:cubicBezTo>
                <a:cubicBezTo>
                  <a:pt x="647701" y="329141"/>
                  <a:pt x="660400" y="278341"/>
                  <a:pt x="652463" y="274108"/>
                </a:cubicBezTo>
                <a:cubicBezTo>
                  <a:pt x="644526" y="269875"/>
                  <a:pt x="628650" y="288925"/>
                  <a:pt x="617538" y="305858"/>
                </a:cubicBezTo>
                <a:cubicBezTo>
                  <a:pt x="606426" y="322791"/>
                  <a:pt x="596900" y="358775"/>
                  <a:pt x="585788" y="375708"/>
                </a:cubicBezTo>
                <a:cubicBezTo>
                  <a:pt x="574676" y="392641"/>
                  <a:pt x="558271" y="409575"/>
                  <a:pt x="550863" y="407458"/>
                </a:cubicBezTo>
                <a:cubicBezTo>
                  <a:pt x="543455" y="405341"/>
                  <a:pt x="543984" y="384704"/>
                  <a:pt x="541338" y="363008"/>
                </a:cubicBezTo>
                <a:cubicBezTo>
                  <a:pt x="538692" y="341312"/>
                  <a:pt x="536576" y="303212"/>
                  <a:pt x="534988" y="277283"/>
                </a:cubicBezTo>
                <a:cubicBezTo>
                  <a:pt x="533401" y="251354"/>
                  <a:pt x="533400" y="225954"/>
                  <a:pt x="531813" y="207433"/>
                </a:cubicBezTo>
                <a:cubicBezTo>
                  <a:pt x="530226" y="188912"/>
                  <a:pt x="530755" y="170391"/>
                  <a:pt x="525463" y="166158"/>
                </a:cubicBezTo>
                <a:cubicBezTo>
                  <a:pt x="520171" y="161925"/>
                  <a:pt x="508530" y="170921"/>
                  <a:pt x="500063" y="182033"/>
                </a:cubicBezTo>
                <a:cubicBezTo>
                  <a:pt x="491596" y="193145"/>
                  <a:pt x="481542" y="220133"/>
                  <a:pt x="474663" y="232833"/>
                </a:cubicBezTo>
                <a:cubicBezTo>
                  <a:pt x="467784" y="245533"/>
                  <a:pt x="465138" y="254529"/>
                  <a:pt x="458788" y="258233"/>
                </a:cubicBezTo>
                <a:cubicBezTo>
                  <a:pt x="452438" y="261937"/>
                  <a:pt x="443442" y="264583"/>
                  <a:pt x="436563" y="255058"/>
                </a:cubicBezTo>
                <a:cubicBezTo>
                  <a:pt x="429684" y="245533"/>
                  <a:pt x="429155" y="215899"/>
                  <a:pt x="417513" y="201083"/>
                </a:cubicBezTo>
                <a:cubicBezTo>
                  <a:pt x="405871" y="186267"/>
                  <a:pt x="378355" y="173566"/>
                  <a:pt x="366713" y="166158"/>
                </a:cubicBezTo>
                <a:cubicBezTo>
                  <a:pt x="355071" y="158750"/>
                  <a:pt x="354013" y="156633"/>
                  <a:pt x="347663" y="156633"/>
                </a:cubicBezTo>
                <a:cubicBezTo>
                  <a:pt x="341313" y="156633"/>
                  <a:pt x="333375" y="159279"/>
                  <a:pt x="328613" y="166158"/>
                </a:cubicBezTo>
                <a:cubicBezTo>
                  <a:pt x="323851" y="173037"/>
                  <a:pt x="322792" y="178329"/>
                  <a:pt x="319088" y="197908"/>
                </a:cubicBezTo>
                <a:cubicBezTo>
                  <a:pt x="315384" y="217487"/>
                  <a:pt x="310092" y="259291"/>
                  <a:pt x="306388" y="283633"/>
                </a:cubicBezTo>
                <a:cubicBezTo>
                  <a:pt x="302684" y="307975"/>
                  <a:pt x="303742" y="336550"/>
                  <a:pt x="296863" y="343958"/>
                </a:cubicBezTo>
                <a:cubicBezTo>
                  <a:pt x="289984" y="351366"/>
                  <a:pt x="274109" y="341841"/>
                  <a:pt x="265113" y="328083"/>
                </a:cubicBezTo>
                <a:cubicBezTo>
                  <a:pt x="256117" y="314325"/>
                  <a:pt x="251355" y="282046"/>
                  <a:pt x="242888" y="261408"/>
                </a:cubicBezTo>
                <a:cubicBezTo>
                  <a:pt x="234421" y="240770"/>
                  <a:pt x="222251" y="211137"/>
                  <a:pt x="214313" y="204258"/>
                </a:cubicBezTo>
                <a:cubicBezTo>
                  <a:pt x="206375" y="197379"/>
                  <a:pt x="199496" y="209021"/>
                  <a:pt x="195263" y="220133"/>
                </a:cubicBezTo>
                <a:cubicBezTo>
                  <a:pt x="191030" y="231246"/>
                  <a:pt x="192617" y="259821"/>
                  <a:pt x="188913" y="270933"/>
                </a:cubicBezTo>
                <a:cubicBezTo>
                  <a:pt x="185209" y="282045"/>
                  <a:pt x="179917" y="288395"/>
                  <a:pt x="173038" y="286808"/>
                </a:cubicBezTo>
                <a:cubicBezTo>
                  <a:pt x="166159" y="285221"/>
                  <a:pt x="155046" y="271991"/>
                  <a:pt x="147638" y="261408"/>
                </a:cubicBezTo>
                <a:cubicBezTo>
                  <a:pt x="140230" y="250825"/>
                  <a:pt x="136526" y="232304"/>
                  <a:pt x="128588" y="223308"/>
                </a:cubicBezTo>
                <a:cubicBezTo>
                  <a:pt x="120651" y="214312"/>
                  <a:pt x="110067" y="207962"/>
                  <a:pt x="100013" y="207433"/>
                </a:cubicBezTo>
                <a:cubicBezTo>
                  <a:pt x="89959" y="206904"/>
                  <a:pt x="78846" y="211137"/>
                  <a:pt x="68263" y="220133"/>
                </a:cubicBezTo>
                <a:cubicBezTo>
                  <a:pt x="57680" y="229129"/>
                  <a:pt x="47096" y="251883"/>
                  <a:pt x="36513" y="261408"/>
                </a:cubicBezTo>
                <a:cubicBezTo>
                  <a:pt x="25930" y="270933"/>
                  <a:pt x="9526" y="268816"/>
                  <a:pt x="4763" y="277283"/>
                </a:cubicBezTo>
                <a:cubicBezTo>
                  <a:pt x="0" y="285750"/>
                  <a:pt x="7938" y="286279"/>
                  <a:pt x="7938" y="312208"/>
                </a:cubicBezTo>
                <a:cubicBezTo>
                  <a:pt x="7938" y="338137"/>
                  <a:pt x="2117" y="368829"/>
                  <a:pt x="4763" y="432858"/>
                </a:cubicBezTo>
                <a:cubicBezTo>
                  <a:pt x="7409" y="496887"/>
                  <a:pt x="12171" y="596900"/>
                  <a:pt x="23813" y="696383"/>
                </a:cubicBezTo>
                <a:cubicBezTo>
                  <a:pt x="35455" y="795866"/>
                  <a:pt x="48684" y="923396"/>
                  <a:pt x="74613" y="1029758"/>
                </a:cubicBezTo>
                <a:cubicBezTo>
                  <a:pt x="100542" y="1136120"/>
                  <a:pt x="140759" y="1234017"/>
                  <a:pt x="179388" y="1334558"/>
                </a:cubicBezTo>
                <a:cubicBezTo>
                  <a:pt x="218017" y="1435099"/>
                  <a:pt x="256117" y="1539875"/>
                  <a:pt x="306388" y="1633008"/>
                </a:cubicBezTo>
                <a:cubicBezTo>
                  <a:pt x="356659" y="1726141"/>
                  <a:pt x="431801" y="1822979"/>
                  <a:pt x="481013" y="1893358"/>
                </a:cubicBezTo>
                <a:cubicBezTo>
                  <a:pt x="530225" y="1963737"/>
                  <a:pt x="552980" y="1997075"/>
                  <a:pt x="601663" y="2055283"/>
                </a:cubicBezTo>
                <a:cubicBezTo>
                  <a:pt x="650346" y="2113491"/>
                  <a:pt x="741892" y="2238375"/>
                  <a:pt x="773113" y="2242608"/>
                </a:cubicBezTo>
                <a:cubicBezTo>
                  <a:pt x="804334" y="2246841"/>
                  <a:pt x="786342" y="2176991"/>
                  <a:pt x="788988" y="2080683"/>
                </a:cubicBezTo>
                <a:cubicBezTo>
                  <a:pt x="791634" y="1984375"/>
                  <a:pt x="789517" y="1972733"/>
                  <a:pt x="788988" y="1664758"/>
                </a:cubicBezTo>
                <a:cubicBezTo>
                  <a:pt x="788459" y="1356783"/>
                  <a:pt x="787930" y="459316"/>
                  <a:pt x="782638" y="229658"/>
                </a:cubicBezTo>
                <a:close/>
              </a:path>
            </a:pathLst>
          </a:custGeom>
          <a:solidFill>
            <a:srgbClr val="984807"/>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Freeform 13"/>
          <p:cNvSpPr/>
          <p:nvPr/>
        </p:nvSpPr>
        <p:spPr>
          <a:xfrm>
            <a:off x="2209680" y="1554120"/>
            <a:ext cx="4584960" cy="4711680"/>
          </a:xfrm>
          <a:prstGeom prst="pie">
            <a:avLst/>
          </a:pr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anning Ready Case</a:t>
            </a:r>
            <a:endParaRPr b="0" lang="en-US" sz="1800" spc="-1" strike="noStrike">
              <a:solidFill>
                <a:srgbClr val="000000"/>
              </a:solidFill>
              <a:latin typeface="Arial"/>
            </a:endParaRPr>
          </a:p>
        </p:txBody>
      </p:sp>
      <p:sp>
        <p:nvSpPr>
          <p:cNvPr id="52" name="Rectangle 15"/>
          <p:cNvSpPr/>
          <p:nvPr/>
        </p:nvSpPr>
        <p:spPr>
          <a:xfrm>
            <a:off x="2895480" y="2362320"/>
            <a:ext cx="3200400" cy="3195360"/>
          </a:xfrm>
          <a:prstGeom prst="rect">
            <a:avLst/>
          </a:prstGeom>
          <a:solidFill>
            <a:srgbClr val="98480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opology Processor C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atings / Impedance Same</a:t>
            </a:r>
            <a:endParaRPr b="0" lang="en-US" sz="1800" spc="-1" strike="noStrike">
              <a:solidFill>
                <a:srgbClr val="000000"/>
              </a:solidFill>
              <a:latin typeface="Arial"/>
            </a:endParaRPr>
          </a:p>
        </p:txBody>
      </p:sp>
      <p:sp>
        <p:nvSpPr>
          <p:cNvPr id="53" name="Freeform 11"/>
          <p:cNvSpPr/>
          <p:nvPr/>
        </p:nvSpPr>
        <p:spPr>
          <a:xfrm>
            <a:off x="5715000" y="1554120"/>
            <a:ext cx="1571760" cy="1400040"/>
          </a:xfrm>
          <a:custGeom>
            <a:avLst/>
            <a:gdLst/>
            <a:ahLst/>
            <a:rect l="l" t="t" r="r" b="b"/>
            <a:pathLst>
              <a:path w="1571096" h="1400704">
                <a:moveTo>
                  <a:pt x="0" y="15346"/>
                </a:moveTo>
                <a:cubicBezTo>
                  <a:pt x="7937" y="54769"/>
                  <a:pt x="15875" y="94192"/>
                  <a:pt x="31750" y="113771"/>
                </a:cubicBezTo>
                <a:cubicBezTo>
                  <a:pt x="47625" y="133350"/>
                  <a:pt x="84138" y="114300"/>
                  <a:pt x="95250" y="132821"/>
                </a:cubicBezTo>
                <a:cubicBezTo>
                  <a:pt x="106363" y="151342"/>
                  <a:pt x="99483" y="201084"/>
                  <a:pt x="98425" y="224896"/>
                </a:cubicBezTo>
                <a:cubicBezTo>
                  <a:pt x="97367" y="248708"/>
                  <a:pt x="71438" y="271992"/>
                  <a:pt x="88900" y="275696"/>
                </a:cubicBezTo>
                <a:cubicBezTo>
                  <a:pt x="106362" y="279400"/>
                  <a:pt x="180446" y="245004"/>
                  <a:pt x="203200" y="247121"/>
                </a:cubicBezTo>
                <a:cubicBezTo>
                  <a:pt x="225954" y="249238"/>
                  <a:pt x="226483" y="266171"/>
                  <a:pt x="225425" y="288396"/>
                </a:cubicBezTo>
                <a:cubicBezTo>
                  <a:pt x="224367" y="310621"/>
                  <a:pt x="195262" y="356658"/>
                  <a:pt x="196850" y="380471"/>
                </a:cubicBezTo>
                <a:cubicBezTo>
                  <a:pt x="198438" y="404284"/>
                  <a:pt x="222779" y="434446"/>
                  <a:pt x="234950" y="431271"/>
                </a:cubicBezTo>
                <a:cubicBezTo>
                  <a:pt x="247121" y="428096"/>
                  <a:pt x="260879" y="363538"/>
                  <a:pt x="269875" y="361421"/>
                </a:cubicBezTo>
                <a:cubicBezTo>
                  <a:pt x="278871" y="359304"/>
                  <a:pt x="276225" y="401109"/>
                  <a:pt x="288925" y="418571"/>
                </a:cubicBezTo>
                <a:cubicBezTo>
                  <a:pt x="301625" y="436034"/>
                  <a:pt x="340254" y="452438"/>
                  <a:pt x="346075" y="466196"/>
                </a:cubicBezTo>
                <a:cubicBezTo>
                  <a:pt x="351896" y="479954"/>
                  <a:pt x="312738" y="484717"/>
                  <a:pt x="323850" y="501121"/>
                </a:cubicBezTo>
                <a:cubicBezTo>
                  <a:pt x="334962" y="517525"/>
                  <a:pt x="383117" y="557742"/>
                  <a:pt x="412750" y="564621"/>
                </a:cubicBezTo>
                <a:cubicBezTo>
                  <a:pt x="442383" y="571500"/>
                  <a:pt x="488421" y="532871"/>
                  <a:pt x="501650" y="542396"/>
                </a:cubicBezTo>
                <a:cubicBezTo>
                  <a:pt x="514879" y="551921"/>
                  <a:pt x="487363" y="596371"/>
                  <a:pt x="492125" y="621771"/>
                </a:cubicBezTo>
                <a:cubicBezTo>
                  <a:pt x="496887" y="647171"/>
                  <a:pt x="534458" y="683154"/>
                  <a:pt x="530225" y="694796"/>
                </a:cubicBezTo>
                <a:cubicBezTo>
                  <a:pt x="525992" y="706438"/>
                  <a:pt x="468842" y="682096"/>
                  <a:pt x="466725" y="691621"/>
                </a:cubicBezTo>
                <a:cubicBezTo>
                  <a:pt x="464608" y="701146"/>
                  <a:pt x="490008" y="737659"/>
                  <a:pt x="517525" y="751946"/>
                </a:cubicBezTo>
                <a:cubicBezTo>
                  <a:pt x="545042" y="766234"/>
                  <a:pt x="606425" y="766234"/>
                  <a:pt x="631825" y="777346"/>
                </a:cubicBezTo>
                <a:cubicBezTo>
                  <a:pt x="657225" y="788458"/>
                  <a:pt x="668338" y="805392"/>
                  <a:pt x="669925" y="818621"/>
                </a:cubicBezTo>
                <a:cubicBezTo>
                  <a:pt x="671512" y="831850"/>
                  <a:pt x="628121" y="841904"/>
                  <a:pt x="641350" y="856721"/>
                </a:cubicBezTo>
                <a:cubicBezTo>
                  <a:pt x="654579" y="871538"/>
                  <a:pt x="728663" y="915459"/>
                  <a:pt x="749300" y="907521"/>
                </a:cubicBezTo>
                <a:cubicBezTo>
                  <a:pt x="769938" y="899584"/>
                  <a:pt x="746125" y="803275"/>
                  <a:pt x="765175" y="809096"/>
                </a:cubicBezTo>
                <a:cubicBezTo>
                  <a:pt x="784225" y="814917"/>
                  <a:pt x="837142" y="923396"/>
                  <a:pt x="863600" y="942446"/>
                </a:cubicBezTo>
                <a:cubicBezTo>
                  <a:pt x="890058" y="961496"/>
                  <a:pt x="912283" y="902229"/>
                  <a:pt x="923925" y="923396"/>
                </a:cubicBezTo>
                <a:cubicBezTo>
                  <a:pt x="935567" y="944563"/>
                  <a:pt x="914929" y="1041400"/>
                  <a:pt x="933450" y="1069446"/>
                </a:cubicBezTo>
                <a:cubicBezTo>
                  <a:pt x="951971" y="1097492"/>
                  <a:pt x="1019704" y="1077384"/>
                  <a:pt x="1035050" y="1091671"/>
                </a:cubicBezTo>
                <a:cubicBezTo>
                  <a:pt x="1050396" y="1105959"/>
                  <a:pt x="1011767" y="1135063"/>
                  <a:pt x="1025525" y="1155171"/>
                </a:cubicBezTo>
                <a:cubicBezTo>
                  <a:pt x="1039283" y="1175279"/>
                  <a:pt x="1092729" y="1210734"/>
                  <a:pt x="1117600" y="1212321"/>
                </a:cubicBezTo>
                <a:cubicBezTo>
                  <a:pt x="1142471" y="1213909"/>
                  <a:pt x="1155171" y="1159404"/>
                  <a:pt x="1174750" y="1164696"/>
                </a:cubicBezTo>
                <a:cubicBezTo>
                  <a:pt x="1194329" y="1169988"/>
                  <a:pt x="1216025" y="1229784"/>
                  <a:pt x="1235075" y="1244071"/>
                </a:cubicBezTo>
                <a:cubicBezTo>
                  <a:pt x="1254125" y="1258359"/>
                  <a:pt x="1277938" y="1240367"/>
                  <a:pt x="1289050" y="1250421"/>
                </a:cubicBezTo>
                <a:cubicBezTo>
                  <a:pt x="1300162" y="1260475"/>
                  <a:pt x="1278996" y="1290638"/>
                  <a:pt x="1301750" y="1304396"/>
                </a:cubicBezTo>
                <a:cubicBezTo>
                  <a:pt x="1324504" y="1318154"/>
                  <a:pt x="1399117" y="1323446"/>
                  <a:pt x="1425575" y="1332971"/>
                </a:cubicBezTo>
                <a:cubicBezTo>
                  <a:pt x="1452033" y="1342496"/>
                  <a:pt x="1450446" y="1351492"/>
                  <a:pt x="1460500" y="1361546"/>
                </a:cubicBezTo>
                <a:cubicBezTo>
                  <a:pt x="1470554" y="1371600"/>
                  <a:pt x="1471613" y="1388004"/>
                  <a:pt x="1485900" y="1393296"/>
                </a:cubicBezTo>
                <a:cubicBezTo>
                  <a:pt x="1500187" y="1398588"/>
                  <a:pt x="1532996" y="1393825"/>
                  <a:pt x="1546225" y="1393296"/>
                </a:cubicBezTo>
                <a:cubicBezTo>
                  <a:pt x="1559454" y="1392767"/>
                  <a:pt x="1561571" y="1400704"/>
                  <a:pt x="1565275" y="1390121"/>
                </a:cubicBezTo>
                <a:cubicBezTo>
                  <a:pt x="1568979" y="1379538"/>
                  <a:pt x="1568450" y="1362604"/>
                  <a:pt x="1568450" y="1329796"/>
                </a:cubicBezTo>
                <a:cubicBezTo>
                  <a:pt x="1568450" y="1296988"/>
                  <a:pt x="1565275" y="1259417"/>
                  <a:pt x="1565275" y="1193271"/>
                </a:cubicBezTo>
                <a:cubicBezTo>
                  <a:pt x="1565275" y="1127125"/>
                  <a:pt x="1567921" y="1023938"/>
                  <a:pt x="1568450" y="932921"/>
                </a:cubicBezTo>
                <a:cubicBezTo>
                  <a:pt x="1568979" y="841904"/>
                  <a:pt x="1568450" y="647171"/>
                  <a:pt x="1568450" y="647171"/>
                </a:cubicBezTo>
                <a:lnTo>
                  <a:pt x="1568450" y="135996"/>
                </a:lnTo>
                <a:lnTo>
                  <a:pt x="1568450" y="21696"/>
                </a:lnTo>
                <a:cubicBezTo>
                  <a:pt x="1568450" y="0"/>
                  <a:pt x="1571096" y="8467"/>
                  <a:pt x="1568450" y="5821"/>
                </a:cubicBezTo>
                <a:cubicBezTo>
                  <a:pt x="1565804" y="3175"/>
                  <a:pt x="1552575" y="5821"/>
                  <a:pt x="1552575" y="5821"/>
                </a:cubicBezTo>
                <a:lnTo>
                  <a:pt x="1511300" y="5821"/>
                </a:lnTo>
                <a:lnTo>
                  <a:pt x="1219200" y="5821"/>
                </a:lnTo>
                <a:lnTo>
                  <a:pt x="1206500" y="5821"/>
                </a:lnTo>
                <a:lnTo>
                  <a:pt x="809625" y="5821"/>
                </a:lnTo>
                <a:lnTo>
                  <a:pt x="654050" y="5821"/>
                </a:lnTo>
                <a:lnTo>
                  <a:pt x="527050" y="5821"/>
                </a:lnTo>
                <a:lnTo>
                  <a:pt x="314325" y="5821"/>
                </a:lnTo>
                <a:lnTo>
                  <a:pt x="158750" y="5821"/>
                </a:lnTo>
                <a:lnTo>
                  <a:pt x="0" y="15346"/>
                </a:lnTo>
                <a:close/>
              </a:path>
            </a:pathLst>
          </a:custGeom>
          <a:solidFill>
            <a:srgbClr val="fac09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tion 1 from Transmission Planner Point of 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par>
                                <p:cTn id="7" nodeType="withEffect" fill="hold" presetClass="path" presetID="0">
                                  <p:stCondLst>
                                    <p:cond delay="0"/>
                                  </p:stCondLst>
                                  <p:childTnLst>
                                    <p:animMotion origin="layout" path="M -4.72222E-006 1.46195E-006 L -0.02621 0.07633 E">
                                      <p:cBhvr>
                                        <p:cTn id="8" dur="500" fill="hold"/>
                                        <p:tgtEl>
                                          <p:spTgt spid="43"/>
                                        </p:tgtEl>
                                      </p:cBhvr>
                                    </p:animMotion>
                                  </p:childTnLst>
                                </p:cTn>
                              </p:par>
                              <p:par>
                                <p:cTn id="9" nodeType="withEffect" fill="hold" presetClass="entr" presetID="1">
                                  <p:stCondLst>
                                    <p:cond delay="2000"/>
                                  </p:stCondLst>
                                  <p:childTnLst>
                                    <p:set>
                                      <p:cBhvr>
                                        <p:cTn id="10" dur="1" fill="hold">
                                          <p:stCondLst>
                                            <p:cond delay="0"/>
                                          </p:stCondLst>
                                        </p:cTn>
                                        <p:tgtEl>
                                          <p:spTgt spid="44"/>
                                        </p:tgtEl>
                                        <p:attrNameLst>
                                          <p:attrName>style.visibility</p:attrName>
                                        </p:attrNameLst>
                                      </p:cBhvr>
                                      <p:to>
                                        <p:strVal val="visible"/>
                                      </p:to>
                                    </p:set>
                                  </p:childTnLst>
                                </p:cTn>
                              </p:par>
                              <p:par>
                                <p:cTn id="11" nodeType="withEffect" fill="hold" presetClass="path" presetID="0">
                                  <p:stCondLst>
                                    <p:cond delay="2000"/>
                                  </p:stCondLst>
                                  <p:childTnLst>
                                    <p:animMotion origin="layout" path="M 2.5E-006 1.46195E-006 L 0.05052 0.07703 E">
                                      <p:cBhvr>
                                        <p:cTn id="12" dur="500" fill="hold"/>
                                        <p:tgtEl>
                                          <p:spTgt spid="44"/>
                                        </p:tgtEl>
                                      </p:cBhvr>
                                    </p:animMotion>
                                  </p:childTnLst>
                                </p:cTn>
                              </p:par>
                              <p:par>
                                <p:cTn id="13" nodeType="withEffect" fill="hold" presetClass="entr" presetID="1">
                                  <p:stCondLst>
                                    <p:cond delay="4000"/>
                                  </p:stCondLst>
                                  <p:childTnLst>
                                    <p:set>
                                      <p:cBhvr>
                                        <p:cTn id="14" dur="1" fill="hold">
                                          <p:stCondLst>
                                            <p:cond delay="0"/>
                                          </p:stCondLst>
                                        </p:cTn>
                                        <p:tgtEl>
                                          <p:spTgt spid="45"/>
                                        </p:tgtEl>
                                        <p:attrNameLst>
                                          <p:attrName>style.visibility</p:attrName>
                                        </p:attrNameLst>
                                      </p:cBhvr>
                                      <p:to>
                                        <p:strVal val="visible"/>
                                      </p:to>
                                    </p:set>
                                  </p:childTnLst>
                                </p:cTn>
                              </p:par>
                              <p:par>
                                <p:cTn id="15" nodeType="withEffect" fill="hold" presetClass="path" presetID="0">
                                  <p:stCondLst>
                                    <p:cond delay="4000"/>
                                  </p:stCondLst>
                                  <p:childTnLst>
                                    <p:animMotion origin="layout" path="M 3.88889E-006 1.38793E-006 L 0.05642 0.05505 E">
                                      <p:cBhvr>
                                        <p:cTn id="16" dur="500" fill="hold"/>
                                        <p:tgtEl>
                                          <p:spTgt spid="45"/>
                                        </p:tgtEl>
                                      </p:cBhvr>
                                    </p:animMotion>
                                  </p:childTnLst>
                                </p:cTn>
                              </p:par>
                              <p:par>
                                <p:cTn id="17" nodeType="withEffect" fill="hold" presetClass="entr" presetID="1">
                                  <p:stCondLst>
                                    <p:cond delay="6000"/>
                                  </p:stCondLst>
                                  <p:childTnLst>
                                    <p:set>
                                      <p:cBhvr>
                                        <p:cTn id="18" dur="1" fill="hold">
                                          <p:stCondLst>
                                            <p:cond delay="0"/>
                                          </p:stCondLst>
                                        </p:cTn>
                                        <p:tgtEl>
                                          <p:spTgt spid="46"/>
                                        </p:tgtEl>
                                        <p:attrNameLst>
                                          <p:attrName>style.visibility</p:attrName>
                                        </p:attrNameLst>
                                      </p:cBhvr>
                                      <p:to>
                                        <p:strVal val="visible"/>
                                      </p:to>
                                    </p:set>
                                  </p:childTnLst>
                                </p:cTn>
                              </p:par>
                              <p:par>
                                <p:cTn id="19" nodeType="withEffect" fill="hold" presetClass="path" presetID="0">
                                  <p:stCondLst>
                                    <p:cond delay="6000"/>
                                  </p:stCondLst>
                                  <p:childTnLst>
                                    <p:animMotion origin="layout" path="M 1.38889E-006 2.21374E-006 L 0.04896 -0.05112 E">
                                      <p:cBhvr>
                                        <p:cTn id="20" dur="500" fill="hold"/>
                                        <p:tgtEl>
                                          <p:spTgt spid="46"/>
                                        </p:tgtEl>
                                      </p:cBhvr>
                                    </p:animMotion>
                                  </p:childTnLst>
                                </p:cTn>
                              </p:par>
                              <p:par>
                                <p:cTn id="21" nodeType="withEffect" fill="hold" presetClass="entr" presetID="1">
                                  <p:stCondLst>
                                    <p:cond delay="8000"/>
                                  </p:stCondLst>
                                  <p:childTnLst>
                                    <p:set>
                                      <p:cBhvr>
                                        <p:cTn id="22" dur="1" fill="hold">
                                          <p:stCondLst>
                                            <p:cond delay="0"/>
                                          </p:stCondLst>
                                        </p:cTn>
                                        <p:tgtEl>
                                          <p:spTgt spid="47"/>
                                        </p:tgtEl>
                                        <p:attrNameLst>
                                          <p:attrName>style.visibility</p:attrName>
                                        </p:attrNameLst>
                                      </p:cBhvr>
                                      <p:to>
                                        <p:strVal val="visible"/>
                                      </p:to>
                                    </p:set>
                                  </p:childTnLst>
                                </p:cTn>
                              </p:par>
                              <p:par>
                                <p:cTn id="23" nodeType="withEffect" fill="hold" presetClass="path" presetID="0">
                                  <p:stCondLst>
                                    <p:cond delay="8000"/>
                                  </p:stCondLst>
                                  <p:childTnLst>
                                    <p:animMotion origin="layout" path="M 3.33333E-006 1.18899E-006 L 0.01823 -0.07032 E">
                                      <p:cBhvr>
                                        <p:cTn id="24" dur="500" fill="hold"/>
                                        <p:tgtEl>
                                          <p:spTgt spid="47"/>
                                        </p:tgtEl>
                                      </p:cBhvr>
                                    </p:animMotion>
                                  </p:childTnLst>
                                </p:cTn>
                              </p:par>
                              <p:par>
                                <p:cTn id="25" nodeType="withEffect" fill="hold" presetClass="entr" presetID="1">
                                  <p:stCondLst>
                                    <p:cond delay="10000"/>
                                  </p:stCondLst>
                                  <p:childTnLst>
                                    <p:set>
                                      <p:cBhvr>
                                        <p:cTn id="26" dur="1" fill="hold">
                                          <p:stCondLst>
                                            <p:cond delay="0"/>
                                          </p:stCondLst>
                                        </p:cTn>
                                        <p:tgtEl>
                                          <p:spTgt spid="48"/>
                                        </p:tgtEl>
                                        <p:attrNameLst>
                                          <p:attrName>style.visibility</p:attrName>
                                        </p:attrNameLst>
                                      </p:cBhvr>
                                      <p:to>
                                        <p:strVal val="visible"/>
                                      </p:to>
                                    </p:set>
                                  </p:childTnLst>
                                </p:cTn>
                              </p:par>
                              <p:par>
                                <p:cTn id="27" nodeType="withEffect" fill="hold" presetClass="path" presetID="0">
                                  <p:stCondLst>
                                    <p:cond delay="10000"/>
                                  </p:stCondLst>
                                  <p:childTnLst>
                                    <p:animMotion origin="layout" path="M -5.55556E-007 -1.31853E-007 L -0.04288 -0.07078 E">
                                      <p:cBhvr>
                                        <p:cTn id="28" dur="500" fill="hold"/>
                                        <p:tgtEl>
                                          <p:spTgt spid="48"/>
                                        </p:tgtEl>
                                      </p:cBhvr>
                                    </p:animMotion>
                                  </p:childTnLst>
                                </p:cTn>
                              </p:par>
                              <p:par>
                                <p:cTn id="29" nodeType="withEffect" fill="hold" presetClass="entr" presetID="1">
                                  <p:stCondLst>
                                    <p:cond delay="12000"/>
                                  </p:stCondLst>
                                  <p:childTnLst>
                                    <p:set>
                                      <p:cBhvr>
                                        <p:cTn id="30" dur="1" fill="hold">
                                          <p:stCondLst>
                                            <p:cond delay="0"/>
                                          </p:stCondLst>
                                        </p:cTn>
                                        <p:tgtEl>
                                          <p:spTgt spid="49"/>
                                        </p:tgtEl>
                                        <p:attrNameLst>
                                          <p:attrName>style.visibility</p:attrName>
                                        </p:attrNameLst>
                                      </p:cBhvr>
                                      <p:to>
                                        <p:strVal val="visible"/>
                                      </p:to>
                                    </p:set>
                                  </p:childTnLst>
                                </p:cTn>
                              </p:par>
                              <p:par>
                                <p:cTn id="31" nodeType="withEffect" fill="hold" presetClass="path" presetID="0">
                                  <p:stCondLst>
                                    <p:cond delay="12000"/>
                                  </p:stCondLst>
                                  <p:childTnLst>
                                    <p:animMotion origin="layout" path="M 0 -4.27944E-007 L -0.05122 -0.02591 E">
                                      <p:cBhvr>
                                        <p:cTn id="32" dur="500" fill="hold"/>
                                        <p:tgtEl>
                                          <p:spTgt spid="49"/>
                                        </p:tgtEl>
                                      </p:cBhvr>
                                    </p:animMotion>
                                  </p:childTnLst>
                                </p:cTn>
                              </p:par>
                              <p:par>
                                <p:cTn id="33" nodeType="withEffect" fill="hold" presetClass="entr" presetID="1">
                                  <p:stCondLst>
                                    <p:cond delay="14000"/>
                                  </p:stCondLst>
                                  <p:childTnLst>
                                    <p:set>
                                      <p:cBhvr>
                                        <p:cTn id="34" dur="1" fill="hold">
                                          <p:stCondLst>
                                            <p:cond delay="0"/>
                                          </p:stCondLst>
                                        </p:cTn>
                                        <p:tgtEl>
                                          <p:spTgt spid="50"/>
                                        </p:tgtEl>
                                        <p:attrNameLst>
                                          <p:attrName>style.visibility</p:attrName>
                                        </p:attrNameLst>
                                      </p:cBhvr>
                                      <p:to>
                                        <p:strVal val="visible"/>
                                      </p:to>
                                    </p:set>
                                  </p:childTnLst>
                                </p:cTn>
                              </p:par>
                              <p:par>
                                <p:cTn id="35" nodeType="withEffect" fill="hold" presetClass="path" presetID="0">
                                  <p:stCondLst>
                                    <p:cond delay="14000"/>
                                  </p:stCondLst>
                                  <p:childTnLst>
                                    <p:animMotion origin="layout" path="M 0 3.45825E-006 L -0.05017 0.06384 E">
                                      <p:cBhvr>
                                        <p:cTn id="36" dur="500" fill="hold"/>
                                        <p:tgtEl>
                                          <p:spTgt spid="50"/>
                                        </p:tgtEl>
                                      </p:cBhvr>
                                    </p:animMotion>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53"/>
                                        </p:tgtEl>
                                        <p:attrNameLst>
                                          <p:attrName>style.visibility</p:attrName>
                                        </p:attrNameLst>
                                      </p:cBhvr>
                                      <p:to>
                                        <p:strVal val="visible"/>
                                      </p:to>
                                    </p:set>
                                    <p:animEffect filter="strips(downLeft)" transition="in">
                                      <p:cBhvr additive="repl">
                                        <p:cTn id="41" dur="500"/>
                                        <p:tgtEl>
                                          <p:spTgt spid="53"/>
                                        </p:tgtEl>
                                      </p:cBhvr>
                                    </p:animEffect>
                                  </p:childTnLst>
                                </p:cTn>
                              </p:par>
                              <p:par>
                                <p:cTn id="42" nodeType="withEffect" fill="hold" presetClass="path" presetID="0">
                                  <p:stCondLst>
                                    <p:cond delay="0"/>
                                  </p:stCondLst>
                                  <p:childTnLst>
                                    <p:animMotion origin="layout" path="M 0.05573 -0.06875 L -0.13177 0.1169 E">
                                      <p:cBhvr>
                                        <p:cTn id="43" dur="2000" fill="hold"/>
                                        <p:tgtEl>
                                          <p:spTgt spid="53"/>
                                        </p:tgtEl>
                                      </p:cBhvr>
                                    </p:animMotion>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10">
                                  <p:stCondLst>
                                    <p:cond delay="0"/>
                                  </p:stCondLst>
                                  <p:childTnLst>
                                    <p:animEffect filter="fade" transition="out">
                                      <p:cBhvr additive="repl">
                                        <p:cTn id="47" dur="2000"/>
                                        <p:tgtEl>
                                          <p:spTgt spid="53"/>
                                        </p:tgtEl>
                                      </p:cBhvr>
                                    </p:animEffect>
                                    <p:set>
                                      <p:cBhvr>
                                        <p:cTn id="48" dur="1" fill="hold">
                                          <p:stCondLst>
                                            <p:cond delay="1999"/>
                                          </p:stCondLst>
                                        </p:cTn>
                                        <p:tgtEl>
                                          <p:spTgt spid="53"/>
                                        </p:tgtEl>
                                        <p:attrNameLst>
                                          <p:attrName>style.visibility</p:attrName>
                                        </p:attrNameLst>
                                      </p:cBhvr>
                                      <p:to>
                                        <p:strVal val="hidden"/>
                                      </p:to>
                                    </p:set>
                                  </p:childTnLst>
                                </p:cTn>
                              </p:par>
                              <p:par>
                                <p:cTn id="49" nodeType="withEffect" fill="hold" presetClass="entr" presetID="10">
                                  <p:stCondLst>
                                    <p:cond delay="0"/>
                                  </p:stCondLst>
                                  <p:childTnLst>
                                    <p:set>
                                      <p:cBhvr>
                                        <p:cTn id="50" dur="1" fill="hold">
                                          <p:stCondLst>
                                            <p:cond delay="0"/>
                                          </p:stCondLst>
                                        </p:cTn>
                                        <p:tgtEl>
                                          <p:spTgt spid="51"/>
                                        </p:tgtEl>
                                        <p:attrNameLst>
                                          <p:attrName>style.visibility</p:attrName>
                                        </p:attrNameLst>
                                      </p:cBhvr>
                                      <p:to>
                                        <p:strVal val="visible"/>
                                      </p:to>
                                    </p:set>
                                    <p:animEffect filter="fade" transition="in">
                                      <p:cBhvr additive="repl">
                                        <p:cTn id="51" dur="500"/>
                                        <p:tgtEl>
                                          <p:spTgt spid="51"/>
                                        </p:tgtEl>
                                      </p:cBhvr>
                                    </p:animEffect>
                                  </p:childTnLst>
                                </p:cTn>
                              </p:par>
                              <p:par>
                                <p:cTn id="52" nodeType="withEffect" fill="hold" presetClass="exit" presetID="10">
                                  <p:stCondLst>
                                    <p:cond delay="0"/>
                                  </p:stCondLst>
                                  <p:childTnLst>
                                    <p:animEffect filter="fade" transition="out">
                                      <p:cBhvr additive="repl">
                                        <p:cTn id="53" dur="2000"/>
                                        <p:tgtEl>
                                          <p:spTgt spid="52"/>
                                        </p:tgtEl>
                                      </p:cBhvr>
                                    </p:animEffect>
                                    <p:set>
                                      <p:cBhvr>
                                        <p:cTn id="54" dur="1" fill="hold">
                                          <p:stCondLst>
                                            <p:cond delay="1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 2</a:t>
            </a:r>
            <a:endParaRPr b="0" lang="en-US" sz="4400" spc="-1" strike="noStrike">
              <a:solidFill>
                <a:srgbClr val="000000"/>
              </a:solidFill>
              <a:latin typeface="Calibri"/>
            </a:endParaRPr>
          </a:p>
        </p:txBody>
      </p:sp>
      <p:sp>
        <p:nvSpPr>
          <p:cNvPr id="56" name=""/>
          <p:cNvSpPr txBox="1"/>
          <p:nvPr/>
        </p:nvSpPr>
        <p:spPr>
          <a:xfrm>
            <a:off x="457200" y="1294920"/>
            <a:ext cx="8229600" cy="54104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Using an already created SSWG case as the seed case for MOD to create 2012 Data Set 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cludes an ongoing commitment by TSPs and ERCOT to compare the Topology Processor (TP) case with an SSWG case and resolve or document differences in order to achieve consistency between planning and operations cases.  The process of documenting the differences will be developed by the Planning Working Group.  The PLWG will develop and document the tolerances for the differenc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Option 2 to continue until SCR759 and SCR760 are fully vetted and implemented as required.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Option 2 to continue until any additional changes to the IMM or TP are fully vetted and implemented as required.  Additional changes must be submitted as SCRs by July 1, 2011.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Option 2 to continue until SSWG reviews a TP case and endorses the TP-seed process for producing Planning Cases.  This endorsement will move the process to Option 1.</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Under this option Planning Go-live is expected to be implemented by August 1, 2011 with the posting of the 12 DSA ca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 2</a:t>
            </a:r>
            <a:endParaRPr b="0" lang="en-US" sz="4400" spc="-1" strike="noStrike">
              <a:solidFill>
                <a:srgbClr val="000000"/>
              </a:solidFill>
              <a:latin typeface="Calibri"/>
            </a:endParaRPr>
          </a:p>
        </p:txBody>
      </p:sp>
      <p:sp>
        <p:nvSpPr>
          <p:cNvPr id="58" name="Flowchart: Multidocument 5"/>
          <p:cNvSpPr/>
          <p:nvPr/>
        </p:nvSpPr>
        <p:spPr>
          <a:xfrm>
            <a:off x="380880" y="3200400"/>
            <a:ext cx="1295640" cy="1139760"/>
          </a:xfrm>
          <a:prstGeom prst="flowChartMultidocumen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files</a:t>
            </a:r>
            <a:endParaRPr b="0" lang="en-US" sz="1800" spc="-1" strike="noStrike">
              <a:solidFill>
                <a:srgbClr val="000000"/>
              </a:solidFill>
              <a:latin typeface="Arial"/>
            </a:endParaRPr>
          </a:p>
        </p:txBody>
      </p:sp>
      <p:cxnSp>
        <p:nvCxnSpPr>
          <p:cNvPr id="59" name="Straight Arrow Connector 6"/>
          <p:cNvCxnSpPr/>
          <p:nvPr/>
        </p:nvCxnSpPr>
        <p:spPr>
          <a:xfrm>
            <a:off x="1600200" y="4038120"/>
            <a:ext cx="1448640" cy="1296360"/>
          </a:xfrm>
          <a:prstGeom prst="straightConnector1">
            <a:avLst/>
          </a:prstGeom>
          <a:ln w="25560">
            <a:solidFill>
              <a:srgbClr val="000000"/>
            </a:solidFill>
            <a:miter/>
            <a:tailEnd len="med" type="arrow" w="med"/>
          </a:ln>
        </p:spPr>
      </p:cxnSp>
      <p:cxnSp>
        <p:nvCxnSpPr>
          <p:cNvPr id="60" name="Straight Arrow Connector 7"/>
          <p:cNvCxnSpPr/>
          <p:nvPr/>
        </p:nvCxnSpPr>
        <p:spPr>
          <a:xfrm flipV="1">
            <a:off x="1294920" y="5943240"/>
            <a:ext cx="1753560" cy="2160"/>
          </a:xfrm>
          <a:prstGeom prst="straightConnector1">
            <a:avLst/>
          </a:prstGeom>
          <a:ln w="25560">
            <a:solidFill>
              <a:srgbClr val="000000"/>
            </a:solidFill>
            <a:miter/>
            <a:tailEnd len="med" type="arrow" w="med"/>
          </a:ln>
        </p:spPr>
      </p:cxnSp>
      <p:cxnSp>
        <p:nvCxnSpPr>
          <p:cNvPr id="61" name="Straight Arrow Connector 8"/>
          <p:cNvCxnSpPr>
            <a:endCxn id="62" idx="1"/>
          </p:cNvCxnSpPr>
          <p:nvPr/>
        </p:nvCxnSpPr>
        <p:spPr>
          <a:xfrm>
            <a:off x="4647960" y="5869080"/>
            <a:ext cx="686520" cy="2160"/>
          </a:xfrm>
          <a:prstGeom prst="straightConnector1">
            <a:avLst/>
          </a:prstGeom>
          <a:ln w="25560">
            <a:solidFill>
              <a:srgbClr val="000000"/>
            </a:solidFill>
            <a:miter/>
            <a:tailEnd len="med" type="arrow" w="med"/>
          </a:ln>
        </p:spPr>
      </p:cxnSp>
      <p:sp>
        <p:nvSpPr>
          <p:cNvPr id="63" name="Flowchart: Document 9"/>
          <p:cNvSpPr/>
          <p:nvPr/>
        </p:nvSpPr>
        <p:spPr>
          <a:xfrm>
            <a:off x="295200" y="4543560"/>
            <a:ext cx="1524240" cy="952200"/>
          </a:xfrm>
          <a:prstGeom prst="flowChartDocumen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opology from Existing Planning Case</a:t>
            </a:r>
            <a:endParaRPr b="0" lang="en-US" sz="1600" spc="-1" strike="noStrike">
              <a:solidFill>
                <a:srgbClr val="000000"/>
              </a:solidFill>
              <a:latin typeface="Arial"/>
            </a:endParaRPr>
          </a:p>
        </p:txBody>
      </p:sp>
      <p:sp>
        <p:nvSpPr>
          <p:cNvPr id="64" name="Flowchart: Process 10"/>
          <p:cNvSpPr/>
          <p:nvPr/>
        </p:nvSpPr>
        <p:spPr>
          <a:xfrm>
            <a:off x="7543800" y="5410080"/>
            <a:ext cx="1066680" cy="83844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 Review</a:t>
            </a:r>
            <a:endParaRPr b="0" lang="en-US" sz="1800" spc="-1" strike="noStrike">
              <a:solidFill>
                <a:srgbClr val="000000"/>
              </a:solidFill>
              <a:latin typeface="Arial"/>
            </a:endParaRPr>
          </a:p>
        </p:txBody>
      </p:sp>
      <p:cxnSp>
        <p:nvCxnSpPr>
          <p:cNvPr id="65" name="Straight Arrow Connector 11"/>
          <p:cNvCxnSpPr>
            <a:stCxn id="66" idx="1"/>
          </p:cNvCxnSpPr>
          <p:nvPr/>
        </p:nvCxnSpPr>
        <p:spPr>
          <a:xfrm flipH="1" flipV="1">
            <a:off x="6476400" y="4190760"/>
            <a:ext cx="533880" cy="2160"/>
          </a:xfrm>
          <a:prstGeom prst="straightConnector1">
            <a:avLst/>
          </a:prstGeom>
          <a:ln w="25560">
            <a:solidFill>
              <a:srgbClr val="000000"/>
            </a:solidFill>
            <a:miter/>
            <a:tailEnd len="med" type="arrow" w="med"/>
          </a:ln>
        </p:spPr>
      </p:cxnSp>
      <p:sp>
        <p:nvSpPr>
          <p:cNvPr id="66" name="Flowchart: Decision 12"/>
          <p:cNvSpPr/>
          <p:nvPr/>
        </p:nvSpPr>
        <p:spPr>
          <a:xfrm>
            <a:off x="7010280" y="3505320"/>
            <a:ext cx="2133720" cy="1371600"/>
          </a:xfrm>
          <a:prstGeom prst="flowChartDecision">
            <a:avLst/>
          </a:prstGeom>
          <a:solidFill>
            <a:srgbClr val="4f81bd"/>
          </a:solidFill>
          <a:ln w="25560">
            <a:solidFill>
              <a:srgbClr val="385d8a"/>
            </a:solidFill>
            <a:miter/>
          </a:ln>
        </p:spPr>
        <p:style>
          <a:lnRef idx="0"/>
          <a:fillRef idx="0"/>
          <a:effectRef idx="0"/>
          <a:fontRef idx="minor"/>
        </p:style>
        <p:txBody>
          <a:bodyPr lIns="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se complete?</a:t>
            </a:r>
            <a:endParaRPr b="0" lang="en-US" sz="1800" spc="-1" strike="noStrike">
              <a:solidFill>
                <a:srgbClr val="000000"/>
              </a:solidFill>
              <a:latin typeface="Arial"/>
            </a:endParaRPr>
          </a:p>
        </p:txBody>
      </p:sp>
      <p:sp>
        <p:nvSpPr>
          <p:cNvPr id="67" name="Flowchart: Terminator 13"/>
          <p:cNvSpPr/>
          <p:nvPr/>
        </p:nvSpPr>
        <p:spPr>
          <a:xfrm>
            <a:off x="7162920" y="1447920"/>
            <a:ext cx="1828800" cy="609480"/>
          </a:xfrm>
          <a:prstGeom prst="flowChartTerminator">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se Posted</a:t>
            </a:r>
            <a:endParaRPr b="0" lang="en-US" sz="1800" spc="-1" strike="noStrike">
              <a:solidFill>
                <a:srgbClr val="000000"/>
              </a:solidFill>
              <a:latin typeface="Arial"/>
            </a:endParaRPr>
          </a:p>
        </p:txBody>
      </p:sp>
      <p:cxnSp>
        <p:nvCxnSpPr>
          <p:cNvPr id="68" name="Straight Arrow Connector 14"/>
          <p:cNvCxnSpPr>
            <a:endCxn id="69" idx="1"/>
          </p:cNvCxnSpPr>
          <p:nvPr/>
        </p:nvCxnSpPr>
        <p:spPr>
          <a:xfrm>
            <a:off x="1847880" y="5048280"/>
            <a:ext cx="1200960" cy="667440"/>
          </a:xfrm>
          <a:prstGeom prst="straightConnector1">
            <a:avLst/>
          </a:prstGeom>
          <a:ln w="25560">
            <a:solidFill>
              <a:srgbClr val="000000"/>
            </a:solidFill>
            <a:miter/>
            <a:tailEnd len="med" type="arrow" w="med"/>
          </a:ln>
        </p:spPr>
      </p:cxnSp>
      <p:cxnSp>
        <p:nvCxnSpPr>
          <p:cNvPr id="70" name="Straight Arrow Connector 15"/>
          <p:cNvCxnSpPr>
            <a:stCxn id="66" idx="0"/>
            <a:endCxn id="67" idx="2"/>
          </p:cNvCxnSpPr>
          <p:nvPr/>
        </p:nvCxnSpPr>
        <p:spPr>
          <a:xfrm flipV="1">
            <a:off x="8074440" y="2058480"/>
            <a:ext cx="3960" cy="1448640"/>
          </a:xfrm>
          <a:prstGeom prst="straightConnector1">
            <a:avLst/>
          </a:prstGeom>
          <a:ln w="25560">
            <a:solidFill>
              <a:srgbClr val="000000"/>
            </a:solidFill>
            <a:miter/>
            <a:tailEnd len="med" type="arrow" w="med"/>
          </a:ln>
        </p:spPr>
      </p:cxnSp>
      <p:sp>
        <p:nvSpPr>
          <p:cNvPr id="71" name="TextBox 55"/>
          <p:cNvSpPr/>
          <p:nvPr/>
        </p:nvSpPr>
        <p:spPr>
          <a:xfrm>
            <a:off x="8185320" y="3048120"/>
            <a:ext cx="49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a:t>
            </a:r>
            <a:endParaRPr b="0" lang="en-US" sz="1800" spc="-1" strike="noStrike">
              <a:solidFill>
                <a:srgbClr val="000000"/>
              </a:solidFill>
              <a:latin typeface="Arial"/>
            </a:endParaRPr>
          </a:p>
        </p:txBody>
      </p:sp>
      <p:sp>
        <p:nvSpPr>
          <p:cNvPr id="72" name="TextBox 56"/>
          <p:cNvSpPr/>
          <p:nvPr/>
        </p:nvSpPr>
        <p:spPr>
          <a:xfrm>
            <a:off x="6568200" y="3657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a:t>
            </a:r>
            <a:endParaRPr b="0" lang="en-US" sz="1800" spc="-1" strike="noStrike">
              <a:solidFill>
                <a:srgbClr val="000000"/>
              </a:solidFill>
              <a:latin typeface="Arial"/>
            </a:endParaRPr>
          </a:p>
        </p:txBody>
      </p:sp>
      <p:sp>
        <p:nvSpPr>
          <p:cNvPr id="73" name="Flowchart: Process 18"/>
          <p:cNvSpPr/>
          <p:nvPr/>
        </p:nvSpPr>
        <p:spPr>
          <a:xfrm>
            <a:off x="5181480" y="3809880"/>
            <a:ext cx="1295640" cy="1143000"/>
          </a:xfrm>
          <a:prstGeom prst="flowChartProcess">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s submi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hange via MOD</a:t>
            </a:r>
            <a:endParaRPr b="0" lang="en-US" sz="1800" spc="-1" strike="noStrike">
              <a:solidFill>
                <a:srgbClr val="000000"/>
              </a:solidFill>
              <a:latin typeface="Arial"/>
            </a:endParaRPr>
          </a:p>
        </p:txBody>
      </p:sp>
      <p:cxnSp>
        <p:nvCxnSpPr>
          <p:cNvPr id="74" name="Straight Arrow Connector 19"/>
          <p:cNvCxnSpPr>
            <a:stCxn id="64" idx="0"/>
            <a:endCxn id="66" idx="2"/>
          </p:cNvCxnSpPr>
          <p:nvPr/>
        </p:nvCxnSpPr>
        <p:spPr>
          <a:xfrm flipV="1">
            <a:off x="8074440" y="4878000"/>
            <a:ext cx="3960" cy="534240"/>
          </a:xfrm>
          <a:prstGeom prst="straightConnector1">
            <a:avLst/>
          </a:prstGeom>
          <a:ln w="25560">
            <a:solidFill>
              <a:srgbClr val="000000"/>
            </a:solidFill>
            <a:miter/>
            <a:tailEnd len="med" type="arrow" w="med"/>
          </a:ln>
        </p:spPr>
      </p:cxnSp>
      <p:cxnSp>
        <p:nvCxnSpPr>
          <p:cNvPr id="75" name="Straight Arrow Connector 20"/>
          <p:cNvCxnSpPr/>
          <p:nvPr/>
        </p:nvCxnSpPr>
        <p:spPr>
          <a:xfrm>
            <a:off x="2666520" y="1751040"/>
            <a:ext cx="686520" cy="2160"/>
          </a:xfrm>
          <a:prstGeom prst="straightConnector1">
            <a:avLst/>
          </a:prstGeom>
          <a:ln w="25560">
            <a:solidFill>
              <a:srgbClr val="000000"/>
            </a:solidFill>
            <a:miter/>
            <a:tailEnd len="med" type="arrow" w="med"/>
          </a:ln>
        </p:spPr>
      </p:cxnSp>
      <p:cxnSp>
        <p:nvCxnSpPr>
          <p:cNvPr id="76" name="Straight Arrow Connector 21"/>
          <p:cNvCxnSpPr/>
          <p:nvPr/>
        </p:nvCxnSpPr>
        <p:spPr>
          <a:xfrm>
            <a:off x="4705200" y="3123720"/>
            <a:ext cx="496080" cy="2520"/>
          </a:xfrm>
          <a:prstGeom prst="straightConnector1">
            <a:avLst/>
          </a:prstGeom>
          <a:ln w="25560">
            <a:solidFill>
              <a:srgbClr val="000000"/>
            </a:solidFill>
            <a:miter/>
            <a:tailEnd len="med" type="arrow" w="med"/>
          </a:ln>
        </p:spPr>
      </p:cxnSp>
      <p:sp>
        <p:nvSpPr>
          <p:cNvPr id="77" name="Flowchart: Magnetic Disk 22"/>
          <p:cNvSpPr/>
          <p:nvPr/>
        </p:nvSpPr>
        <p:spPr>
          <a:xfrm>
            <a:off x="3352680" y="1219320"/>
            <a:ext cx="1295640" cy="1066680"/>
          </a:xfrm>
          <a:prstGeom prst="flowChartMagneticDisk">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NMMS db</a:t>
            </a:r>
            <a:endParaRPr b="0" lang="en-US" sz="1800" spc="-1" strike="noStrike">
              <a:solidFill>
                <a:srgbClr val="000000"/>
              </a:solidFill>
              <a:latin typeface="Arial"/>
            </a:endParaRPr>
          </a:p>
        </p:txBody>
      </p:sp>
      <p:sp>
        <p:nvSpPr>
          <p:cNvPr id="78" name="Flowchart: Process 23"/>
          <p:cNvSpPr/>
          <p:nvPr/>
        </p:nvSpPr>
        <p:spPr>
          <a:xfrm>
            <a:off x="3124080" y="2590920"/>
            <a:ext cx="1600200" cy="114300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 Topology Process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P)</a:t>
            </a:r>
            <a:endParaRPr b="0" lang="en-US" sz="1800" spc="-1" strike="noStrike">
              <a:solidFill>
                <a:srgbClr val="000000"/>
              </a:solidFill>
              <a:latin typeface="Arial"/>
            </a:endParaRPr>
          </a:p>
        </p:txBody>
      </p:sp>
      <p:sp>
        <p:nvSpPr>
          <p:cNvPr id="79" name="Flowchart: Process 24"/>
          <p:cNvSpPr/>
          <p:nvPr/>
        </p:nvSpPr>
        <p:spPr>
          <a:xfrm>
            <a:off x="304920" y="1219320"/>
            <a:ext cx="2361960" cy="137160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TSP Network Model update via NOMCR</a:t>
            </a:r>
            <a:endParaRPr b="0" lang="en-US" sz="1800" spc="-1" strike="noStrike">
              <a:solidFill>
                <a:srgbClr val="000000"/>
              </a:solidFill>
              <a:latin typeface="Arial"/>
            </a:endParaRPr>
          </a:p>
        </p:txBody>
      </p:sp>
      <p:sp>
        <p:nvSpPr>
          <p:cNvPr id="80" name="Flowchart: Document 25"/>
          <p:cNvSpPr/>
          <p:nvPr/>
        </p:nvSpPr>
        <p:spPr>
          <a:xfrm>
            <a:off x="5181480" y="2819520"/>
            <a:ext cx="1676520" cy="612720"/>
          </a:xfrm>
          <a:prstGeom prst="flowChart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RR Top Output</a:t>
            </a:r>
            <a:endParaRPr b="0" lang="en-US" sz="1800" spc="-1" strike="noStrike">
              <a:solidFill>
                <a:srgbClr val="000000"/>
              </a:solidFill>
              <a:latin typeface="Arial"/>
            </a:endParaRPr>
          </a:p>
        </p:txBody>
      </p:sp>
      <p:sp>
        <p:nvSpPr>
          <p:cNvPr id="62" name="Flowchart: Document 26"/>
          <p:cNvSpPr/>
          <p:nvPr/>
        </p:nvSpPr>
        <p:spPr>
          <a:xfrm>
            <a:off x="5334120" y="5562720"/>
            <a:ext cx="1523880" cy="612720"/>
          </a:xfrm>
          <a:prstGeom prst="flowChartDocumen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lanning  Case Output</a:t>
            </a:r>
            <a:endParaRPr b="0" lang="en-US" sz="1800" spc="-1" strike="noStrike">
              <a:solidFill>
                <a:srgbClr val="000000"/>
              </a:solidFill>
              <a:latin typeface="Arial"/>
            </a:endParaRPr>
          </a:p>
        </p:txBody>
      </p:sp>
      <p:cxnSp>
        <p:nvCxnSpPr>
          <p:cNvPr id="81" name="Straight Arrow Connector 27"/>
          <p:cNvCxnSpPr/>
          <p:nvPr/>
        </p:nvCxnSpPr>
        <p:spPr>
          <a:xfrm>
            <a:off x="6857640" y="5870160"/>
            <a:ext cx="686520" cy="2520"/>
          </a:xfrm>
          <a:prstGeom prst="straightConnector1">
            <a:avLst/>
          </a:prstGeom>
          <a:ln w="25560">
            <a:solidFill>
              <a:srgbClr val="000000"/>
            </a:solidFill>
            <a:miter/>
            <a:tailEnd len="med" type="arrow" w="med"/>
          </a:ln>
        </p:spPr>
      </p:cxnSp>
      <p:cxnSp>
        <p:nvCxnSpPr>
          <p:cNvPr id="82" name="Straight Arrow Connector 28"/>
          <p:cNvCxnSpPr/>
          <p:nvPr/>
        </p:nvCxnSpPr>
        <p:spPr>
          <a:xfrm flipH="1">
            <a:off x="4647600" y="4876920"/>
            <a:ext cx="533880" cy="305280"/>
          </a:xfrm>
          <a:prstGeom prst="straightConnector1">
            <a:avLst/>
          </a:prstGeom>
          <a:ln w="25560">
            <a:solidFill>
              <a:srgbClr val="000000"/>
            </a:solidFill>
            <a:miter/>
            <a:tailEnd len="med" type="arrow" w="med"/>
          </a:ln>
        </p:spPr>
      </p:cxnSp>
      <p:cxnSp>
        <p:nvCxnSpPr>
          <p:cNvPr id="83" name="Straight Arrow Connector 29"/>
          <p:cNvCxnSpPr/>
          <p:nvPr/>
        </p:nvCxnSpPr>
        <p:spPr>
          <a:xfrm flipH="1">
            <a:off x="3962160" y="2285640"/>
            <a:ext cx="2160" cy="305640"/>
          </a:xfrm>
          <a:prstGeom prst="straightConnector1">
            <a:avLst/>
          </a:prstGeom>
          <a:ln w="25560">
            <a:solidFill>
              <a:srgbClr val="000000"/>
            </a:solidFill>
            <a:miter/>
            <a:tailEnd len="med" type="arrow" w="med"/>
          </a:ln>
        </p:spPr>
      </p:cxnSp>
      <p:sp>
        <p:nvSpPr>
          <p:cNvPr id="69" name="Flowchart: Alternate Process 30"/>
          <p:cNvSpPr/>
          <p:nvPr/>
        </p:nvSpPr>
        <p:spPr>
          <a:xfrm>
            <a:off x="3048120" y="5105520"/>
            <a:ext cx="1600200" cy="1218960"/>
          </a:xfrm>
          <a:prstGeom prst="flowChartAlternateProcess">
            <a:avLst/>
          </a:prstGeom>
          <a:solidFill>
            <a:srgbClr val="ff9900"/>
          </a:solidFill>
          <a:ln w="25560">
            <a:solidFill>
              <a:srgbClr val="385d8a"/>
            </a:solidFill>
            <a:miter/>
          </a:ln>
        </p:spPr>
        <p:style>
          <a:lnRef idx="0"/>
          <a:fillRef idx="0"/>
          <a:effectRef idx="0"/>
          <a:fontRef idx="minor"/>
        </p:style>
        <p:txBody>
          <a:bodyPr lIns="90000" rIns="90000" tIns="9144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del on Deman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MOD)</a:t>
            </a:r>
            <a:endParaRPr b="0" lang="en-US" sz="1800" spc="-1" strike="noStrike">
              <a:solidFill>
                <a:srgbClr val="000000"/>
              </a:solidFill>
              <a:latin typeface="Arial"/>
            </a:endParaRPr>
          </a:p>
        </p:txBody>
      </p:sp>
      <p:sp>
        <p:nvSpPr>
          <p:cNvPr id="84" name="Flowchart: Multidocument 31"/>
          <p:cNvSpPr/>
          <p:nvPr/>
        </p:nvSpPr>
        <p:spPr>
          <a:xfrm>
            <a:off x="380880" y="5562720"/>
            <a:ext cx="1295640" cy="1143000"/>
          </a:xfrm>
          <a:prstGeom prst="flowChartMultidocument">
            <a:avLst/>
          </a:prstGeom>
          <a:solidFill>
            <a:srgbClr val="ff99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SP Future PMCR</a:t>
            </a:r>
            <a:endParaRPr b="0" lang="en-US" sz="1800" spc="-1" strike="noStrike">
              <a:solidFill>
                <a:srgbClr val="000000"/>
              </a:solidFill>
              <a:latin typeface="Arial"/>
            </a:endParaRPr>
          </a:p>
        </p:txBody>
      </p:sp>
      <p:sp>
        <p:nvSpPr>
          <p:cNvPr id="85" name="Flowchart: Process 32"/>
          <p:cNvSpPr/>
          <p:nvPr/>
        </p:nvSpPr>
        <p:spPr>
          <a:xfrm>
            <a:off x="1752480" y="2914560"/>
            <a:ext cx="1295640" cy="12160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RCOT Dispatch</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file</a:t>
            </a:r>
            <a:endParaRPr b="0" lang="en-US" sz="1800" spc="-1" strike="noStrike">
              <a:solidFill>
                <a:srgbClr val="000000"/>
              </a:solidFill>
              <a:latin typeface="Arial"/>
            </a:endParaRPr>
          </a:p>
        </p:txBody>
      </p:sp>
      <p:cxnSp>
        <p:nvCxnSpPr>
          <p:cNvPr id="86" name="Straight Arrow Connector 33"/>
          <p:cNvCxnSpPr>
            <a:stCxn id="85" idx="2"/>
          </p:cNvCxnSpPr>
          <p:nvPr/>
        </p:nvCxnSpPr>
        <p:spPr>
          <a:xfrm>
            <a:off x="2400480" y="4130280"/>
            <a:ext cx="800640" cy="956520"/>
          </a:xfrm>
          <a:prstGeom prst="straightConnector1">
            <a:avLst/>
          </a:prstGeom>
          <a:ln w="25560">
            <a:solidFill>
              <a:srgbClr val="000000"/>
            </a:solidFill>
            <a:miter/>
            <a:tailEnd len="med" type="arrow" w="med"/>
          </a:ln>
        </p:spPr>
      </p:cxnSp>
      <p:sp>
        <p:nvSpPr>
          <p:cNvPr id="87" name="Flowchart: Process 34"/>
          <p:cNvSpPr/>
          <p:nvPr/>
        </p:nvSpPr>
        <p:spPr>
          <a:xfrm>
            <a:off x="5334120" y="1143000"/>
            <a:ext cx="1371600" cy="990720"/>
          </a:xfrm>
          <a:prstGeom prst="flowChartProcess">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preadsheet Comparison</a:t>
            </a:r>
            <a:endParaRPr b="0" lang="en-US" sz="1800" spc="-1" strike="noStrike">
              <a:solidFill>
                <a:srgbClr val="000000"/>
              </a:solidFill>
              <a:latin typeface="Arial"/>
            </a:endParaRPr>
          </a:p>
        </p:txBody>
      </p:sp>
      <p:cxnSp>
        <p:nvCxnSpPr>
          <p:cNvPr id="88" name="Straight Arrow Connector 35"/>
          <p:cNvCxnSpPr>
            <a:endCxn id="87" idx="2"/>
          </p:cNvCxnSpPr>
          <p:nvPr/>
        </p:nvCxnSpPr>
        <p:spPr>
          <a:xfrm flipV="1">
            <a:off x="6017040" y="2134440"/>
            <a:ext cx="3960" cy="686520"/>
          </a:xfrm>
          <a:prstGeom prst="straightConnector1">
            <a:avLst/>
          </a:prstGeom>
          <a:ln w="25560">
            <a:solidFill>
              <a:srgbClr val="000000"/>
            </a:solidFill>
            <a:miter/>
            <a:tailEnd len="med" type="arrow" w="med"/>
          </a:ln>
        </p:spPr>
      </p:cxnSp>
      <p:cxnSp>
        <p:nvCxnSpPr>
          <p:cNvPr id="89" name="Straight Arrow Connector 37"/>
          <p:cNvCxnSpPr/>
          <p:nvPr/>
        </p:nvCxnSpPr>
        <p:spPr>
          <a:xfrm flipH="1" flipV="1">
            <a:off x="6705360" y="1751760"/>
            <a:ext cx="457920" cy="252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ief Review of ‘Standard’ PMCR</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ing Model Change Request: Method to input changes to the model in the Model On Demand (MOD) softwa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tandard’ PMCR – reading in data which does not exist in the Topology Processor (TP) output or makes modifications to data in the TP outpu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tandard’ PMCRs are not related to any future projec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tandard’ PMCRs are really ‘TP Deficiency’ PMC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on 2</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SCR760 is approved, ERCOT estimates completion of most items in 20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tion 2 bridges the gap between now and 2012 (or whenever SCR760 items are fully implemen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accurate than Option 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gnificantly less burdensome on TSPs than using Option 1 in 2011 (No Standard PMC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ning Go-live</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et A and Data Set B cases </a:t>
            </a:r>
            <a:r>
              <a:rPr b="0" lang="en-US" sz="2800" spc="-1" strike="noStrike" u="sng">
                <a:solidFill>
                  <a:srgbClr val="000000"/>
                </a:solidFill>
                <a:uFillTx/>
                <a:latin typeface="Calibri"/>
              </a:rPr>
              <a:t>will</a:t>
            </a:r>
            <a:r>
              <a:rPr b="0" lang="en-US" sz="2800" spc="-1" strike="noStrike">
                <a:solidFill>
                  <a:srgbClr val="000000"/>
                </a:solidFill>
                <a:latin typeface="Calibri"/>
              </a:rPr>
              <a:t> be created by SSWG in 2011.  The question is what method will be used.</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ril 1, 2011 Go-live date</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hing truly happens on April 1, as opposed to Dec 1 Nodal Go-live</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cally corresponds to beginning work on Data Set A case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Option 2, ‘Planning Go-Live’ occurs by August 1, 2011 with the posting of the Data Set A cases</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istency</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 Nodal Protocols 3.10.2, “ERCOT shall develop models for annual planning purposes that contain, as much as practicable, information consistent with the Network Operations Mode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 Option 2, the plan to ensure consistency includ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readsheet check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ting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mpedanc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pology</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lve differences with NOMCRs or PMC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 remaining differences for marke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readsheet Comparison – Oct 2010</a:t>
            </a:r>
            <a:br>
              <a:rPr sz="4000"/>
            </a:br>
            <a:r>
              <a:rPr b="0" lang="en-US" sz="4000" spc="-1" strike="noStrike">
                <a:solidFill>
                  <a:srgbClr val="000000"/>
                </a:solidFill>
                <a:latin typeface="Calibri"/>
              </a:rPr>
              <a:t>Branch Comparison</a:t>
            </a:r>
            <a:endParaRPr b="0" lang="en-US" sz="4000" spc="-1" strike="noStrike">
              <a:solidFill>
                <a:srgbClr val="000000"/>
              </a:solidFill>
              <a:latin typeface="Calibri"/>
            </a:endParaRPr>
          </a:p>
        </p:txBody>
      </p:sp>
      <p:graphicFrame>
        <p:nvGraphicFramePr>
          <p:cNvPr id="99" name=""/>
          <p:cNvGraphicFramePr/>
          <p:nvPr/>
        </p:nvGraphicFramePr>
        <p:xfrm>
          <a:off x="1066680" y="2819520"/>
          <a:ext cx="6858000" cy="2971800"/>
        </p:xfrm>
        <a:graphic>
          <a:graphicData uri="http://schemas.openxmlformats.org/drawingml/2006/table">
            <a:tbl>
              <a:tblPr/>
              <a:tblGrid>
                <a:gridCol w="6019920"/>
                <a:gridCol w="838080"/>
              </a:tblGrid>
              <a:tr h="45720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Total Number of branches in SSWG base case but not in TP case</a:t>
                      </a:r>
                      <a:endParaRPr b="0" lang="en-US" sz="1600" spc="-1" strike="noStrike">
                        <a:solidFill>
                          <a:srgbClr val="000000"/>
                        </a:solidFill>
                        <a:latin typeface="Arial"/>
                      </a:endParaRPr>
                    </a:p>
                  </a:txBody>
                  <a:tcPr anchor="b" marL="3240" marR="3240">
                    <a:lnL w="5760">
                      <a:solidFill>
                        <a:srgbClr val="000000"/>
                      </a:solidFill>
                    </a:lnL>
                    <a:lnR w="5760">
                      <a:solidFill>
                        <a:srgbClr val="000000"/>
                      </a:solidFill>
                    </a:lnR>
                    <a:lnT w="576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1454</a:t>
                      </a:r>
                      <a:endParaRPr b="0" lang="en-US" sz="1600" spc="-1" strike="noStrike">
                        <a:solidFill>
                          <a:srgbClr val="000000"/>
                        </a:solidFill>
                        <a:latin typeface="Arial"/>
                      </a:endParaRPr>
                    </a:p>
                  </a:txBody>
                  <a:tcPr anchor="b" marL="3240" marR="3240">
                    <a:lnL w="5760">
                      <a:solidFill>
                        <a:srgbClr val="000000"/>
                      </a:solidFill>
                    </a:lnL>
                    <a:lnR w="5760">
                      <a:solidFill>
                        <a:srgbClr val="000000"/>
                      </a:solidFill>
                    </a:lnR>
                    <a:lnT w="5760">
                      <a:solidFill>
                        <a:srgbClr val="000000"/>
                      </a:solidFill>
                    </a:lnT>
                    <a:lnB w="2880">
                      <a:solidFill>
                        <a:srgbClr val="000000"/>
                      </a:solidFill>
                    </a:lnB>
                    <a:solidFill>
                      <a:srgbClr val="b6dde8"/>
                    </a:solidFill>
                  </a:tcPr>
                </a:tc>
              </a:tr>
              <a:tr h="30456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nches in SSWG case &amp; not in TP case due to TP BC/BO branches</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467</a:t>
                      </a:r>
                      <a:endParaRPr b="0" lang="en-US" sz="1600" spc="-1" strike="noStrike">
                        <a:solidFill>
                          <a:srgbClr val="000000"/>
                        </a:solidFill>
                        <a:latin typeface="Arial"/>
                      </a:endParaRPr>
                    </a:p>
                  </a:txBody>
                  <a:tcPr anchor="b" marL="3240" marR="3240">
                    <a:lnL w="2880">
                      <a:solidFill>
                        <a:srgbClr val="000000"/>
                      </a:solidFill>
                    </a:lnL>
                    <a:lnR w="5760">
                      <a:solidFill>
                        <a:srgbClr val="000000"/>
                      </a:solidFill>
                    </a:lnR>
                    <a:lnT w="2880">
                      <a:solidFill>
                        <a:srgbClr val="000000"/>
                      </a:solidFill>
                    </a:lnT>
                    <a:lnB w="2880">
                      <a:solidFill>
                        <a:srgbClr val="000000"/>
                      </a:solidFill>
                    </a:lnB>
                    <a:noFill/>
                  </a:tcPr>
                </a:tc>
              </a:tr>
              <a:tr h="5335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nches in SSWG case with different IDs that can be matched by IMM ID changes or SSWG ID changes</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277</a:t>
                      </a:r>
                      <a:endParaRPr b="0" lang="en-US" sz="1600" spc="-1" strike="noStrike">
                        <a:solidFill>
                          <a:srgbClr val="000000"/>
                        </a:solidFill>
                        <a:latin typeface="Arial"/>
                      </a:endParaRPr>
                    </a:p>
                  </a:txBody>
                  <a:tcPr anchor="b" marL="3240" marR="3240">
                    <a:lnL w="2880">
                      <a:solidFill>
                        <a:srgbClr val="000000"/>
                      </a:solidFill>
                    </a:lnL>
                    <a:lnR w="5760">
                      <a:solidFill>
                        <a:srgbClr val="000000"/>
                      </a:solidFill>
                    </a:lnR>
                    <a:lnT w="2880">
                      <a:solidFill>
                        <a:srgbClr val="000000"/>
                      </a:solidFill>
                    </a:lnT>
                    <a:lnB w="2880">
                      <a:solidFill>
                        <a:srgbClr val="000000"/>
                      </a:solidFill>
                    </a:lnB>
                    <a:noFill/>
                  </a:tcPr>
                </a:tc>
              </a:tr>
              <a:tr h="38088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 winding transformers with different IDs/ tertiary busses</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288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251</a:t>
                      </a:r>
                      <a:endParaRPr b="0" lang="en-US" sz="1600" spc="-1" strike="noStrike">
                        <a:solidFill>
                          <a:srgbClr val="000000"/>
                        </a:solidFill>
                        <a:latin typeface="Arial"/>
                      </a:endParaRPr>
                    </a:p>
                  </a:txBody>
                  <a:tcPr anchor="b" marL="3240" marR="3240">
                    <a:lnL w="2880">
                      <a:solidFill>
                        <a:srgbClr val="000000"/>
                      </a:solidFill>
                    </a:lnL>
                    <a:lnR w="5760">
                      <a:solidFill>
                        <a:srgbClr val="000000"/>
                      </a:solidFill>
                    </a:lnR>
                    <a:lnT w="2880">
                      <a:solidFill>
                        <a:srgbClr val="000000"/>
                      </a:solidFill>
                    </a:lnT>
                    <a:lnB w="2880">
                      <a:solidFill>
                        <a:srgbClr val="000000"/>
                      </a:solidFill>
                    </a:lnB>
                    <a:noFill/>
                  </a:tcPr>
                </a:tc>
              </a:tr>
              <a:tr h="53352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nches in SSWG but not in TP due to additional busses in TP case. (Topology is  virtually identical)</a:t>
                      </a:r>
                      <a:endParaRPr b="0" lang="en-US" sz="1600" spc="-1" strike="noStrike">
                        <a:solidFill>
                          <a:srgbClr val="000000"/>
                        </a:solidFill>
                        <a:latin typeface="Arial"/>
                      </a:endParaRPr>
                    </a:p>
                  </a:txBody>
                  <a:tcPr anchor="b" marL="3240" marR="3240">
                    <a:lnL w="5760">
                      <a:solidFill>
                        <a:srgbClr val="000000"/>
                      </a:solidFill>
                    </a:lnL>
                    <a:lnR w="2880">
                      <a:solidFill>
                        <a:srgbClr val="000000"/>
                      </a:solidFill>
                    </a:lnR>
                    <a:lnT w="2880">
                      <a:solidFill>
                        <a:srgbClr val="000000"/>
                      </a:solidFill>
                    </a:lnT>
                    <a:lnB w="576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240</a:t>
                      </a:r>
                      <a:endParaRPr b="0" lang="en-US" sz="1600" spc="-1" strike="noStrike">
                        <a:solidFill>
                          <a:srgbClr val="000000"/>
                        </a:solidFill>
                        <a:latin typeface="Arial"/>
                      </a:endParaRPr>
                    </a:p>
                  </a:txBody>
                  <a:tcPr anchor="b" marL="3240" marR="3240">
                    <a:lnL w="2880">
                      <a:solidFill>
                        <a:srgbClr val="000000"/>
                      </a:solidFill>
                    </a:lnL>
                    <a:lnR w="5760">
                      <a:solidFill>
                        <a:srgbClr val="000000"/>
                      </a:solidFill>
                    </a:lnR>
                    <a:lnT w="2880">
                      <a:solidFill>
                        <a:srgbClr val="000000"/>
                      </a:solidFill>
                    </a:lnT>
                    <a:lnB w="5760">
                      <a:solidFill>
                        <a:srgbClr val="000000"/>
                      </a:solidFill>
                    </a:lnB>
                    <a:noFill/>
                  </a:tcPr>
                </a:tc>
              </a:tr>
              <a:tr h="380880">
                <a:tc>
                  <a:txBody>
                    <a:bodyPr lIns="3240" rIns="3240" tIns="32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anches in SSWG case that can change to match TP (RARF differences)</a:t>
                      </a:r>
                      <a:endParaRPr b="0" lang="en-US" sz="1600" spc="-1" strike="noStrike">
                        <a:solidFill>
                          <a:srgbClr val="000000"/>
                        </a:solidFill>
                        <a:latin typeface="Arial"/>
                      </a:endParaRPr>
                    </a:p>
                  </a:txBody>
                  <a:tcPr anchor="b" marL="3240" marR="3240">
                    <a:lnL w="5760">
                      <a:solidFill>
                        <a:srgbClr val="000000"/>
                      </a:solidFill>
                    </a:lnL>
                    <a:lnR w="5760">
                      <a:solidFill>
                        <a:srgbClr val="000000"/>
                      </a:solidFill>
                    </a:lnR>
                    <a:lnT w="5760">
                      <a:solidFill>
                        <a:srgbClr val="000000"/>
                      </a:solidFill>
                    </a:lnT>
                    <a:lnB w="5760">
                      <a:solidFill>
                        <a:srgbClr val="000000"/>
                      </a:solidFill>
                    </a:lnB>
                    <a:no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160</a:t>
                      </a:r>
                      <a:endParaRPr b="0" lang="en-US" sz="1600" spc="-1" strike="noStrike">
                        <a:solidFill>
                          <a:srgbClr val="000000"/>
                        </a:solidFill>
                        <a:latin typeface="Arial"/>
                      </a:endParaRPr>
                    </a:p>
                  </a:txBody>
                  <a:tcPr anchor="b" marL="3240" marR="324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3240" rIns="3240" tIns="324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pology Differences  </a:t>
                      </a:r>
                      <a:endParaRPr b="0" lang="en-US" sz="1600" spc="-1" strike="noStrike">
                        <a:solidFill>
                          <a:srgbClr val="000000"/>
                        </a:solidFill>
                        <a:latin typeface="Arial"/>
                      </a:endParaRPr>
                    </a:p>
                  </a:txBody>
                  <a:tcPr anchor="b" marL="3240" marR="32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240" rIns="3240" tIns="32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9</a:t>
                      </a:r>
                      <a:endParaRPr b="0" lang="en-US" sz="1600" spc="-1" strike="noStrike">
                        <a:solidFill>
                          <a:srgbClr val="000000"/>
                        </a:solidFill>
                        <a:latin typeface="Arial"/>
                      </a:endParaRPr>
                    </a:p>
                  </a:txBody>
                  <a:tcPr anchor="b" marL="3240" marR="32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00" name="Content Placeholder 2"/>
          <p:cNvSpPr/>
          <p:nvPr/>
        </p:nvSpPr>
        <p:spPr>
          <a:xfrm>
            <a:off x="304920" y="1600200"/>
            <a:ext cx="853416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se Comparison between Topology Processor (TP) and 10FAL1 cas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ranches in 10FAL1 case without a match in TP cas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served explanation for the majority of these mismatches</a:t>
            </a:r>
            <a:endParaRPr b="0" lang="en-US" sz="2200" spc="-1" strike="noStrike">
              <a:solidFill>
                <a:srgbClr val="000000"/>
              </a:solidFill>
              <a:latin typeface="Arial"/>
            </a:endParaRPr>
          </a:p>
        </p:txBody>
      </p:sp>
      <p:sp>
        <p:nvSpPr>
          <p:cNvPr id="101" name="Content Placeholder 2"/>
          <p:cNvSpPr/>
          <p:nvPr/>
        </p:nvSpPr>
        <p:spPr>
          <a:xfrm>
            <a:off x="304920" y="6019920"/>
            <a:ext cx="853416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tual topology differences are 59 (&lt;1% of all branches in ERCO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6:26:34Z</dcterms:created>
  <dc:creator>Wesley Woitt</dc:creator>
  <dc:description/>
  <dc:language>en-US</dc:language>
  <cp:lastModifiedBy>Wesley Woitt</cp:lastModifiedBy>
  <dcterms:modified xsi:type="dcterms:W3CDTF">2011-01-12T14:26:57Z</dcterms:modified>
  <cp:revision>88</cp:revision>
  <dc:subject/>
  <dc:title>Option 1: </dc:title>
</cp:coreProperties>
</file>