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0F2-5180-4A62-8635-3FD934CE9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8483-B9D3-4F16-82FB-FBBDD85CD4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34C0-6246-413D-8FE4-7AEFDD80EA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3940-E356-4D70-BDAC-7D6B226D18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89B0-26C8-4500-8EA2-B28A96BF4F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5449-2DE8-44ED-A1E6-FABBADB5E0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898-A1D8-426E-A759-7415AB856E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BB4A-F53F-4C69-9B90-D2FD76E26E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BDD0-8C4B-4354-84F4-9CA9CCD305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10BC-3486-4D62-8F6B-ED429EE57B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9D1C-0F50-4E0C-B60C-BB79C2B20F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BD18-9FC8-42ED-B0B1-FA8C9BC677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EBFF-AF90-42F2-9A62-9E2E18AF2B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9264-17F9-4920-B50A-346C6BAE39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3D49-6752-46D2-9971-C0548424AC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6936-703A-4FEA-A4B8-0DABA9D229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0BB8-C07E-495C-97F7-D6AFB543B8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2668-9118-40EC-8B97-570AF476C6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992-C73B-4B55-8027-ACACA5C5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26D-1E2C-4655-87CD-5223FD25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04D-FA78-4567-A995-299575D7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AD8-9809-4639-B0A8-01A162B1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7412-2514-4225-A746-00DFDC60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9E44-5836-4C95-A1EF-FD71247F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B11B-9C51-4B12-9D15-F53818B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79EC-4C84-4EBF-97DA-D4F27E6C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94A0-77D2-4E73-9816-ACDD1AF8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0400-AE28-4345-93C4-E5F6B467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24C7-626E-468E-8EA1-E8C7E73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808-A7C4-4B43-BA77-A429AAF3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A9F1-2D1C-45A1-B62D-426FB3A9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2C68-364B-4472-8B6C-259A7484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962C-DE8B-4356-A418-CAF38394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588E-75CF-4CDC-A49F-4C2B7AC5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CCCB-514E-4B30-B22C-FEDC4145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A88-7C90-4822-9AD2-08AB56A5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523-8AB1-4084-AA93-59CB795C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F77-3442-4FA8-90B0-0866B455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5B5-61F7-4D66-84CC-7182300B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C3C-0715-48E9-AA37-0B745DF8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018-6D59-4059-9584-DAF1E1B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9A6-1FDC-4F3B-9C5A-322C185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9A2F-2B73-4B4B-907F-92FF9C3C19A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917A-3EDD-476D-A159-E564CA220E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2FCF-72DF-419C-B736-47C2F35C12F1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1503-6FF5-46CD-B40F-1C7E6AA8CCE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January 11, 20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IT’s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w Working Group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ons and Maintenance Working Group (OM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OperationsandMaintenance.pd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and Strategy Working Group (PS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ProjectsandStrategy.pd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798F-6E30-4924-819A-B72FDA37E56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IT’s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w Working Group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, Administration and Access Working Group  (RAA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RegistrationAdminstrationandAccess.pd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urity Working Group (S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Security.pd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3C8-5AEF-40B5-BD69-47941D09CE6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ANUAR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Wednesday 26</a:t>
            </a:r>
            <a:r>
              <a:rPr b="1" lang="en-US" sz="2800" spc="-1" strike="noStrike" u="sng" baseline="30000">
                <a:solidFill>
                  <a:srgbClr val="ffff00"/>
                </a:solidFill>
                <a:uFillTx/>
                <a:latin typeface="Tahoma"/>
              </a:rPr>
              <a:t>th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:00 AM -12:00 P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Operations and Maintenance Working Group  (OMWG)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:00 PM -5:00 P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Project and Strategies Working Group  (PSWG)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 ERCOT MET Center Austin Conf. Room 206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Ex and Conference Bridge information posted on ERCOT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F7BB-A64D-4A0C-BD13-58B98AEC844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ANUAR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Thursday 27</a:t>
            </a:r>
            <a:r>
              <a:rPr b="1" lang="en-US" sz="2800" spc="-1" strike="noStrike" u="sng" baseline="30000">
                <a:solidFill>
                  <a:srgbClr val="ffff00"/>
                </a:solidFill>
                <a:uFillTx/>
                <a:latin typeface="Tahoma"/>
              </a:rPr>
              <a:t>th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:00 AM -12:00 P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Registration, Administration and Access Working Group  (OWG)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 ERCOT MET Center Austin Conf. Room 2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Ex and Conference Bridge information posted on ERCOT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F22D-DF0E-4FD2-8175-92FC00776DB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FEBRUAR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8-9</a:t>
            </a:r>
            <a:r>
              <a:rPr b="1" lang="en-US" sz="2800" spc="-1" strike="noStrike" u="sng" baseline="30000">
                <a:solidFill>
                  <a:srgbClr val="ffff00"/>
                </a:solidFill>
                <a:uFillTx/>
                <a:latin typeface="Tahoma"/>
              </a:rPr>
              <a:t>th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d:   9:30 AM – 5:30 PM 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PUCT Commission Hearing Room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ress:   1701 N. Congress – Austin, T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Ex and Conference Bridge will be provided for those wanting to attend via teleconfer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5295-7B9B-4DE0-96E8-800E6414BBC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00" y="-27468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FEBRUAR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2nd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6092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MARCH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9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6092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E08C-D0B1-4F0B-B143-0F8D463245C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APRIL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6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MA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4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633B-DC64-4576-A43D-2D98E323B49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UNE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8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UL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6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D1DA-0C71-4877-96E9-A04CE0E956E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AUGUST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3rd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SEPTEMBER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7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4917-123A-438B-82F7-A171B11399E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B606-27E7-4B4A-B5E6-D7FC194E9C6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0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iti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January 4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December 28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,167,7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0.2955%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8A2B-0E14-4E08-94AD-51FC24A3328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Fin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January 4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November 8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,904,44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7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0.181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E8E0-D797-4F54-9E73-ED048AB4807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True-Up 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January 4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 July 8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,077,6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0.1529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BDF-1663-4E79-8ADC-FF4DD9E3FED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Oncor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1,513,575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as of 12.31.2010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29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FD6-C559-4B7B-9A87-EE1DD28972D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P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: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869,765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s of 11.30.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loyment Plan, includes projected growth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56,684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60,327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73,423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41F0-210E-45D5-B36E-C114687192B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EP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182,17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s of 01.03.20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ployment Plan sched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8,212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51,571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9,329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3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8,28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503C-F0FE-4584-8670-5566BA1FB82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Market  AMS</a:t>
            </a:r>
            <a:br>
              <a:rPr sz="4400"/>
            </a:b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stalled Total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1468-D19B-4D84-B316-EAC294EBB1C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Rectangle 11" descr=""/>
          <p:cNvPicPr/>
          <p:nvPr/>
        </p:nvPicPr>
        <p:blipFill>
          <a:blip r:embed="rId1"/>
          <a:stretch/>
        </p:blipFill>
        <p:spPr>
          <a:xfrm>
            <a:off x="1243080" y="2170080"/>
            <a:ext cx="7119720" cy="207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:\Documents and Settings\00015621\Local Settings\Temporary Internet Files\Content.IE5\4H9UELBM\MC900093373[1].wmf"/>
          <p:cNvPicPr/>
          <p:nvPr/>
        </p:nvPicPr>
        <p:blipFill>
          <a:blip r:embed="rId2"/>
          <a:stretch/>
        </p:blipFill>
        <p:spPr>
          <a:xfrm rot="3883200">
            <a:off x="5520240" y="2562840"/>
            <a:ext cx="2692440" cy="473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2458200">
            <a:off x="590040" y="819000"/>
            <a:ext cx="2097360" cy="327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7194200">
            <a:off x="1327320" y="2801880"/>
            <a:ext cx="2504880" cy="5114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5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18459000">
            <a:off x="6443640" y="220320"/>
            <a:ext cx="228132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http://www.puc.state.tx.us/electric/projects/34610/34610.cf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18C-1D67-4853-9B26-A05C2628E48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00015621</cp:lastModifiedBy>
  <dcterms:modified xsi:type="dcterms:W3CDTF">2011-01-10T21:28:51Z</dcterms:modified>
  <cp:revision>523</cp:revision>
  <dc:subject/>
  <dc:title>MARS Taskforce </dc:title>
</cp:coreProperties>
</file>