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0E7C-5EE6-4ED6-93BD-E3D69FBC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DAD7-AF51-4EAC-8361-F6DD695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7E9E-4E35-4D21-AF9D-A9335F99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F40F-7F47-4AB9-9F51-62DE9A2B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527F-850C-4A44-8579-4668AA1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7B29-3FA6-4DAD-B526-D437057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8603-2205-4F60-A313-CABB26E5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4EC1-EF96-469F-B5A7-1B31559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E71B-3214-4975-9E8C-B1063700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CE40-26DB-40B4-A438-D530568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6E6C-3D50-4650-AF7A-EEB74CE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539A-A3B5-4190-801E-4C1DEDF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526-22B5-4D67-88DC-78B48EB2B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1812-2FE2-448B-832B-60976051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ommunications Working Group (CCWG)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met December 16,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draft list of 2011 Goals and 2010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Operations Hand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proposes moving forward with the creation of the Commercial Operations Handbook (COPS V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SEWG to incorporate Nodal Settlements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draw of COPMGRR023, Creating Section 6, Commercial System Model, and Subsection 8.3, Settlement Detail (COPS V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will be included in the Commercial Operations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BCD2-F068-4341-8295-DB59C1CFF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ommunications Working Group (CCWG)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 Operations Market Guide (COPM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ubsection 5.3, ERCOT Market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rinciples for different types of ERCOT documents, Protocols, Guides, Handbooks, White Pap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PMG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and Nodalize Section 8.1, Invoi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ection 7, Input to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ection 13, Congestion Revenu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E94C-62C9-45B2-A474-C4230BCA7F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ommunications Working Group (CCWG)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691A-717A-4C4A-A3B6-74785FC96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295280"/>
          <a:ext cx="8153280" cy="5029200"/>
        </p:xfrm>
        <a:graphic>
          <a:graphicData uri="http://schemas.openxmlformats.org/drawingml/2006/table">
            <a:tbl>
              <a:tblPr/>
              <a:tblGrid>
                <a:gridCol w="744480"/>
                <a:gridCol w="3238560"/>
                <a:gridCol w="187200"/>
                <a:gridCol w="743040"/>
                <a:gridCol w="3240000"/>
              </a:tblGrid>
              <a:tr h="193680"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S Market Gu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Operations Hand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Notice Communic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Notice Communication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Process and Data Aggregat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Process and Data Aggre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CRRs)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CR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ommunications Working Group (CCWG)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CCWG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7, 2011 - ERCOT MET CENTER and Web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2011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2011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2010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Operations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M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ERCOT Market Document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44E7-7A11-461A-90C0-A3E34977F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1-01-04T21:13:21Z</dcterms:modified>
  <cp:revision>142</cp:revision>
  <dc:subject/>
  <dc:title>Instructions</dc:title>
</cp:coreProperties>
</file>