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04ED-D3F4-4E0A-B6AC-757B86D3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24CC-365F-4786-A79B-6C100AAD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4799-2286-45B9-972D-04E0DA1A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6C58-87C3-4685-829A-3AC74E36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A561-E46D-4045-9C7C-6C17FEC6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7B87-D844-4091-82D7-84E821F0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A9B9-52C7-4D8D-AC65-F28B00ED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1794-14A9-4586-8F60-887546F4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0F11-2ECE-4128-85F3-54233A45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287C-400F-43B5-B1E8-02CEE7E2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F2FF-4F69-4FCF-9AE2-C9C13CE5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0E36-BE9A-4075-8DBA-77AF82C8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CA1D-7B96-4E33-B050-B8DAF8AE5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1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9788-AFFD-4FB4-B9B7-8A6E2C524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ch 10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uary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904760"/>
            <a:ext cx="682956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dal Invoic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ndy Bau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Invoicing – Shortened Settlement Timelin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going market discussions regarding a shortened settlement time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ly from OD to RTM payout to market is ~ 28 d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 settlement timeline for posting statements and invoices is already very comp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M settlement timeline for posting initial statement and subsequent invoice has more room for adjust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 lot more considerations regarding changing the RTM Statement timing - if feasible, it would have to be a significant change to guarantee earlier p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TM Invoice cycle has room for compression and compressing this cycle could have the most impact on condensing the “OD to RTM  Payout”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eneral Propos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ke a step in the direction of a shortened timeline, while market vets a potentially more comprehensive approa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to a single daily settlement invoice that captures both RTM and DAM settlement 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to reduce the “OD to RTM Payout” timeline by ~ 1 wee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onsidera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et of approved statements are put on the invoice (yesterday’s? today’s? vary by DAM &amp; RTM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flow from DAM to RTM (holiday and late pay scenar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invoice due dates – use the DAM timing or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SE/CRRAH concern about paying for RTM fas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bility to run a RTM Resettlement to correct an issue and get it on the same invoice as the problematic sett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ds well to the new Default Uplift Invoi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drafting NPRR (Cheryl &amp; Mand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to go through appropriate internal approval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SEs/CRRAHs consider this approach and provide feedback for consideration by ERC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bauld</cp:lastModifiedBy>
  <dcterms:modified xsi:type="dcterms:W3CDTF">2011-01-11T16:22:00Z</dcterms:modified>
  <cp:revision>260</cp:revision>
  <dc:subject/>
  <dc:title>Instructions</dc:title>
</cp:coreProperties>
</file>