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431C8-25E0-4142-9878-F14FF2790C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448B2-4D81-4FC0-8C86-E6F796EA5D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810A1-748C-42AF-BED2-5F185F801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2AC4C-45C8-4701-8F0C-FA27985FE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61E19-09CD-4EC5-AF46-B50FEF23F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56FD5-C9B3-4BD2-88E6-4E408F5EB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C3D45-E5E4-415F-81A0-2B0E19EBC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4097C-DCDF-4377-8611-1DA2F899D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15135-DF28-4F37-92DC-C8D2D4472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49D0C-9B19-4338-BE73-8B29C287B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8AC76-2984-4AB6-8C8F-79800ABCB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0C3F6-11D0-44EC-BE8A-C431ED13C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A0AD7-8AFF-404C-AB88-D4C32DF9F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049E1-07DF-45EE-8B28-A93622AF7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99180-04D0-44BB-BF01-167A92D8E4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E6A6C-D4C4-4556-9CC1-52E3C973CB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0"/>
          <p:cNvSpPr/>
          <p:nvPr/>
        </p:nvSpPr>
        <p:spPr>
          <a:xfrm>
            <a:off x="2333520" y="5467320"/>
            <a:ext cx="6276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/6/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5"/>
          <p:cNvSpPr/>
          <p:nvPr/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nical Advisory Committ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MS Upd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342880" y="358092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Kyle Patri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MS Updat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0 Market Coordination Team Established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AS SET (4.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MS Function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entif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CT Function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es associated with Deferred Payment Pl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es associated with Critical Care &amp; Chronic Ca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es for Meter Tampe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es for ESI ID transition between CRs due to Acquis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Other Binding Document Revision Reque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DRR incorporates the revision process into the Texas Standard Electronic Transaction Implementation Guid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CT AMIT Projec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IT has consolidated its projects into one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MS R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couraging engagement from M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pting action items from AM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D1214-CC2C-4BCA-A8DF-C1C94978E8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kpatrick</cp:lastModifiedBy>
  <dcterms:modified xsi:type="dcterms:W3CDTF">2011-01-05T20:34:35Z</dcterms:modified>
  <cp:revision>95</cp:revision>
  <dc:subject/>
  <dc:title>Instructions</dc:title>
</cp:coreProperties>
</file>