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1DB0-3C25-4339-A1AE-586054801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0BFC-E2EB-4C59-B59E-4BDC4B148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CDB6-6C3E-4CCA-81C3-2677B5AD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A9EF-F8DC-47A1-A16D-05B8593B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C9DF-5F38-49C9-84FB-C0F15948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F794-C6D5-4F62-ACAF-3D1970F5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9881-1A7E-43F7-96B9-D0AD2968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DA67-E234-4770-82B3-9315A7F1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0DD4-F669-49D7-8A70-443E4609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0D7F-EFA5-459F-B404-B8E47912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0958-89B5-4994-B1A1-90F1E6D9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4AEB-2BE3-4E9E-BDCC-C2083702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5C6CB-F0FD-45C9-B7AB-6E36E0F6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4B62-9E69-4620-86C5-5CF23207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1D4C-C79C-4489-B25B-84F85F432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863F-05B4-4A47-9724-781567888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6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yle Patr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0 Market Coordination Team Establish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SET (4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S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CT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associated with Deferred Payment 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associated with Critical Care &amp; Chronic C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for Meter Tamp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for ESI ID transition between CRs due to Acqui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Other Binding Document Revision Requ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DRR incorporates the revision process into the Texas Standard Electronic Transaction Implementation Gu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CT AMIT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T has consolidated its projects into one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uraging engagement from 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pting action items from A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8E3B-8867-4E7C-9DED-A928ADCE7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kpatrick</cp:lastModifiedBy>
  <dcterms:modified xsi:type="dcterms:W3CDTF">2011-01-05T20:34:35Z</dcterms:modified>
  <cp:revision>95</cp:revision>
  <dc:subject/>
  <dc:title>Instructions</dc:title>
</cp:coreProperties>
</file>