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8"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1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1"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2"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579C-96D7-4F2D-B3A4-D1922803C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3572-BD5A-4F2C-A51C-D2989BBB3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6680-35CD-462A-A011-248ADF7B0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0CCE-F9ED-401E-A4E2-B2AA0C2D6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D40D-520E-4667-8DD1-EC04AFD3D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644C-9B59-4431-9A9D-0F10CECFD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60C15-4B2F-4D02-B223-69968532D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45A6-C464-4138-BE92-BE5CD465C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13C45-BE36-4B01-ACC9-906C2A4F7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D48C986-B83D-4748-AE0E-BF04923E29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493765F-55DC-4A2E-BC99-46FB6C6058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33DF98F-10C9-43B7-9029-237E7A5213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57199FC-62A5-4B61-8D7B-8A3622CCF6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AAFCAC8-12A7-43FF-8082-DF4AB9C66F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A25D41E3-618F-4132-88EB-7FA84BFCD68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65DF1C45-4B4B-4234-BB12-091035EA9D7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E7AFB875-6DA2-4B4D-9604-FF7947BF6A0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4D4B4E5B-0558-4133-B91A-FE480B45017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B1E89BB0-067C-4454-9B2E-C276D078872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CC88076-A227-4B46-A938-B95CCE83BA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2381B2A2-7F5C-46BF-B246-A328F687B90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D819F1EC-ED6E-484C-9C46-BAD6063242D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EC47D734-E135-4272-AFCB-3E11494CBBD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EF53A192-7DCC-48AB-BFCD-E40308EE0BE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DA7749B3-C98D-4B6D-BB53-F5DE3B9A0B0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E0F198E0-C9C0-4A9E-B28C-6A3C663905AA}"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5E5EF484-C415-4AA0-882B-D67B612636A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40800BA8-21D3-4F7B-A777-45A2DE7AEA8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A77DEE30-A4A8-4323-A3A3-079751AFF64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3B24C120-8908-4FB0-8968-6D74F3C1F43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FD196D6-AFAF-4E39-8ACC-AEDBBC7E8E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20D94FFA-4A44-4A97-91B5-DEFCF0CEDC9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E82A452C-19D8-4DD9-876C-9E7CDD0438C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C9F339A1-5414-4E72-87E2-3A199161FD1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DD034802-6223-4C16-8587-1E3FF19FBCD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80AE50A7-5650-45F1-A31A-2A9D5C30E09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DB9E734F-C558-48FC-AAD3-10EF90803D9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D5CFBB87-8403-4604-B60C-8EB0107611E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DCB76457-0248-427A-AFEB-2CAAD4E3051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8CB81E64-F645-48CA-AB13-2A543AC0A58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A901365-1B15-4525-9F1E-85C2AC8466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30C0143-6059-4EE1-95A4-DC28042BEC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72A56AC-DB72-4537-8C9A-0BF6BE8887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9CFC185-8487-4037-AAB4-BF2BF7D82F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59BE4FC-1AC4-4BC6-BE67-AF63C254555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81A5-137B-42DA-87E8-AA39E085D7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5, 2010</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804A-B3B8-4170-8EDF-26ACD9468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5, 2010</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AD5D-DF70-4C03-B26A-BE4CCF0CB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2"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83E5-4190-432B-9889-664B75AF8A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94" name="PlaceHolder 5"/>
          <p:cNvSpPr>
            <a:spLocks noGrp="1"/>
          </p:cNvSpPr>
          <p:nvPr>
            <p:ph type="dt" idx="8"/>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5A1F-695E-471F-AAF7-B7FC677AD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36"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37"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3720D-DB47-41DD-8931-5DEBF54C5B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4"/>
          <p:cNvSpPr>
            <a:spLocks noGrp="1"/>
          </p:cNvSpPr>
          <p:nvPr>
            <p:ph type="ftr" idx="10"/>
          </p:nvPr>
        </p:nvSpPr>
        <p:spPr>
          <a:xfrm>
            <a:off x="3124080" y="6248160"/>
            <a:ext cx="28958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139" name="PlaceHolder 5"/>
          <p:cNvSpPr>
            <a:spLocks noGrp="1"/>
          </p:cNvSpPr>
          <p:nvPr>
            <p:ph type="dt" idx="11"/>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tocol Revision Subcommittee</a:t>
            </a:r>
            <a:endParaRPr b="0" lang="en-US" sz="2800" spc="-1" strike="noStrike">
              <a:solidFill>
                <a:srgbClr val="000000"/>
              </a:solidFill>
              <a:latin typeface="Arial Black"/>
            </a:endParaRPr>
          </a:p>
        </p:txBody>
      </p:sp>
      <p:sp>
        <p:nvSpPr>
          <p:cNvPr id="184"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andy Morris</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cember 6, 2010</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NPRRs Withdrawn or Rejected</a:t>
            </a:r>
            <a:endParaRPr b="0" lang="en-US" sz="1800" spc="-1" strike="noStrike">
              <a:solidFill>
                <a:srgbClr val="000000"/>
              </a:solidFill>
              <a:latin typeface="Arial Black"/>
            </a:endParaRPr>
          </a:p>
        </p:txBody>
      </p:sp>
      <p:sp>
        <p:nvSpPr>
          <p:cNvPr id="234"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ithdrawn PRR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jected NPRR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rPr>
              <a:t>Nodal Parking Deck – Prioritization Guidelines</a:t>
            </a:r>
            <a:endParaRPr b="0" lang="en-US" sz="1800" spc="-1" strike="noStrike">
              <a:solidFill>
                <a:srgbClr val="000000"/>
              </a:solidFill>
              <a:latin typeface="Arial Black"/>
            </a:endParaRPr>
          </a:p>
        </p:txBody>
      </p:sp>
      <p:sp>
        <p:nvSpPr>
          <p:cNvPr id="236" name=""/>
          <p:cNvSpPr txBox="1"/>
          <p:nvPr/>
        </p:nvSpPr>
        <p:spPr>
          <a:xfrm>
            <a:off x="457200" y="1218960"/>
            <a:ext cx="822960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237" name=""/>
          <p:cNvGraphicFramePr/>
          <p:nvPr/>
        </p:nvGraphicFramePr>
        <p:xfrm>
          <a:off x="304920" y="914400"/>
          <a:ext cx="8534160" cy="4475160"/>
        </p:xfrm>
        <a:graphic>
          <a:graphicData uri="http://schemas.openxmlformats.org/drawingml/2006/table">
            <a:tbl>
              <a:tblPr/>
              <a:tblGrid>
                <a:gridCol w="1904760"/>
                <a:gridCol w="6629400"/>
              </a:tblGrid>
              <a:tr h="422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finition</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1177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ical</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quired by Statute, PUCT Order, NERC compliance or </a:t>
                      </a:r>
                      <a:r>
                        <a:rPr b="0" lang="en-US" sz="1500" spc="-1" strike="noStrike" u="sng">
                          <a:solidFill>
                            <a:srgbClr val="000000"/>
                          </a:solidFill>
                          <a:uFillTx/>
                          <a:latin typeface="Arial"/>
                        </a:rPr>
                        <a:t>critical</a:t>
                      </a:r>
                      <a:r>
                        <a:rPr b="0" lang="en-US" sz="1500" spc="-1" strike="noStrike">
                          <a:solidFill>
                            <a:srgbClr val="000000"/>
                          </a:solidFill>
                          <a:latin typeface="Arial"/>
                        </a:rPr>
                        <a:t> reliability of:</a:t>
                      </a: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Grid Operations</a:t>
                      </a: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T Infrastructure</a:t>
                      </a:r>
                      <a:endParaRPr b="0" lang="en-US" sz="1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mercial Settlement</a:t>
                      </a:r>
                      <a:endParaRPr b="0" lang="en-US" sz="15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782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igh</a:t>
                      </a:r>
                      <a:r>
                        <a:rPr b="0" lang="en-US" sz="1400" spc="-1" strike="noStrike">
                          <a:solidFill>
                            <a:srgbClr val="000000"/>
                          </a:solidFill>
                          <a:latin typeface="Arial"/>
                        </a:rPr>
                        <a:t> value for a majority of market segments or ERCOT</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1093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 Medium</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igh</a:t>
                      </a:r>
                      <a:r>
                        <a:rPr b="0" lang="en-US" sz="1400" spc="-1" strike="noStrike">
                          <a:solidFill>
                            <a:srgbClr val="000000"/>
                          </a:solidFill>
                          <a:latin typeface="Arial"/>
                        </a:rPr>
                        <a:t> value to one or two segments, 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Medium</a:t>
                      </a:r>
                      <a:r>
                        <a:rPr b="0" lang="en-US" sz="1400" spc="-1" strike="noStrike">
                          <a:solidFill>
                            <a:srgbClr val="000000"/>
                          </a:solidFill>
                          <a:latin typeface="Arial"/>
                        </a:rPr>
                        <a:t> value for a majority of market segments or ERCOT</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998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Medium</a:t>
                      </a:r>
                      <a:r>
                        <a:rPr b="0" lang="en-US" sz="1400" spc="-1" strike="noStrike">
                          <a:solidFill>
                            <a:srgbClr val="000000"/>
                          </a:solidFill>
                          <a:latin typeface="Arial"/>
                        </a:rPr>
                        <a:t> value for only one segment</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75960"/>
            <a:ext cx="792468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dal Parking Deck – Approved by ERCOT Board</a:t>
            </a:r>
            <a:r>
              <a:rPr b="0" lang="en-US" sz="1400" spc="-1" strike="noStrike">
                <a:solidFill>
                  <a:srgbClr val="000000"/>
                </a:solidFill>
                <a:latin typeface="Arial Black"/>
              </a:rPr>
              <a:t> </a:t>
            </a:r>
            <a:endParaRPr b="0" lang="en-US" sz="1400" spc="-1" strike="noStrike">
              <a:solidFill>
                <a:srgbClr val="000000"/>
              </a:solidFill>
              <a:latin typeface="Arial Black"/>
            </a:endParaRPr>
          </a:p>
        </p:txBody>
      </p:sp>
      <p:graphicFrame>
        <p:nvGraphicFramePr>
          <p:cNvPr id="239" name=""/>
          <p:cNvGraphicFramePr/>
          <p:nvPr/>
        </p:nvGraphicFramePr>
        <p:xfrm>
          <a:off x="228600" y="760320"/>
          <a:ext cx="8686800" cy="5335560"/>
        </p:xfrm>
        <a:graphic>
          <a:graphicData uri="http://schemas.openxmlformats.org/drawingml/2006/table">
            <a:tbl>
              <a:tblPr/>
              <a:tblGrid>
                <a:gridCol w="1219320"/>
                <a:gridCol w="4190760"/>
                <a:gridCol w="1143000"/>
                <a:gridCol w="2133720"/>
              </a:tblGrid>
              <a:tr h="393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val Date</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08</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ation and Settlement of Distributed Generation (DG) Less Than One MW</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596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19</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olution of Alignment Items A33,A92,A106,A150 - TSPs Must Submit Outages for Resource Owned Equipment &amp; Clarification of Changes in Status of Transmission Element Postings</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0/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85</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eneration Resource Base Point Deviation Charge Correction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16/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05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GRR05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ution of Reporting Issues Related to NPRR219</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0/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366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56</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ments to the MarkeTrak Application</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25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31</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illary Service Trades with ERCOT</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23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46</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CP Telemetry Information Submittal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6/15/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23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81</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P Definition Revision</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23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07</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Deselection</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8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1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 Forecasting Change to P50, Synch PRR841</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6/15/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73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22</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lf-Hour Start Unit RUC Clawback</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7/20/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240" name="Rectangle 8"/>
          <p:cNvSpPr/>
          <p:nvPr/>
        </p:nvSpPr>
        <p:spPr>
          <a:xfrm>
            <a:off x="177480" y="306396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241" name="Rectangle 9"/>
          <p:cNvSpPr/>
          <p:nvPr/>
        </p:nvSpPr>
        <p:spPr>
          <a:xfrm>
            <a:off x="3048120" y="6188040"/>
            <a:ext cx="36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242" name="TextBox 10"/>
          <p:cNvSpPr/>
          <p:nvPr/>
        </p:nvSpPr>
        <p:spPr>
          <a:xfrm>
            <a:off x="3352680" y="6172200"/>
            <a:ext cx="3124440" cy="42876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 Parking Deck due to resource impact only.  Separately funded on 2011 PPL.</a:t>
            </a:r>
            <a:endParaRPr b="0" lang="en-US" sz="1100" spc="-1" strike="noStrike">
              <a:solidFill>
                <a:srgbClr val="000000"/>
              </a:solidFill>
              <a:latin typeface="Arial"/>
            </a:endParaRPr>
          </a:p>
        </p:txBody>
      </p:sp>
      <p:sp>
        <p:nvSpPr>
          <p:cNvPr id="243" name="Rectangle 11"/>
          <p:cNvSpPr/>
          <p:nvPr/>
        </p:nvSpPr>
        <p:spPr>
          <a:xfrm>
            <a:off x="3048120" y="6095880"/>
            <a:ext cx="3352680" cy="4572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marL="228600" indent="-228600">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itle 1"/>
          <p:cNvSpPr/>
          <p:nvPr/>
        </p:nvSpPr>
        <p:spPr>
          <a:xfrm>
            <a:off x="4952880" y="228600"/>
            <a:ext cx="13716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age 1 of 3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240" y="75960"/>
            <a:ext cx="76201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dal Parking Deck – Approved by ERCOT Board</a:t>
            </a:r>
            <a:endParaRPr b="0" lang="en-US" sz="2000" spc="-1" strike="noStrike">
              <a:solidFill>
                <a:srgbClr val="000000"/>
              </a:solidFill>
              <a:latin typeface="Arial Black"/>
            </a:endParaRPr>
          </a:p>
        </p:txBody>
      </p:sp>
      <p:graphicFrame>
        <p:nvGraphicFramePr>
          <p:cNvPr id="246" name=""/>
          <p:cNvGraphicFramePr/>
          <p:nvPr/>
        </p:nvGraphicFramePr>
        <p:xfrm>
          <a:off x="228600" y="909720"/>
          <a:ext cx="8686800" cy="5057640"/>
        </p:xfrm>
        <a:graphic>
          <a:graphicData uri="http://schemas.openxmlformats.org/drawingml/2006/table">
            <a:tbl>
              <a:tblPr/>
              <a:tblGrid>
                <a:gridCol w="1219320"/>
                <a:gridCol w="4190760"/>
                <a:gridCol w="1143000"/>
                <a:gridCol w="2133720"/>
              </a:tblGrid>
              <a:tr h="40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val Date</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1</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 of PRR845, Definition for IDR Meters and Optional Removal of IDR Meters at a Premise Where an Advanced Meter Can be Provisioned</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89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72</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nd Participation of Quick Start Generation Resource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16/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59</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LineSegment Name Length Increase in Information Model Manager</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89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4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xy Energy Offer Curve</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 Medium</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91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44</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ication of Other Binding Document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 Medium</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0/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7</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ation with Nodal Operating Guide Section 9, Monitoring Program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 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16/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8</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 with PRR824 and PRR833 and Additional Clarification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 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16/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89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53</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Resource Fixed Quantity Block Offer</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8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64</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bmitting Ancillary Service offers in SAS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9/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247" name="Title 1"/>
          <p:cNvSpPr/>
          <p:nvPr/>
        </p:nvSpPr>
        <p:spPr>
          <a:xfrm>
            <a:off x="4952880" y="228600"/>
            <a:ext cx="13716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age 2 of 3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240" y="759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dal Parking Deck – Approved by ERCOT Board</a:t>
            </a:r>
            <a:endParaRPr b="0" lang="en-US" sz="2000" spc="-1" strike="noStrike">
              <a:solidFill>
                <a:srgbClr val="000000"/>
              </a:solidFill>
              <a:latin typeface="Arial Black"/>
            </a:endParaRPr>
          </a:p>
        </p:txBody>
      </p:sp>
      <p:graphicFrame>
        <p:nvGraphicFramePr>
          <p:cNvPr id="249" name=""/>
          <p:cNvGraphicFramePr/>
          <p:nvPr/>
        </p:nvGraphicFramePr>
        <p:xfrm>
          <a:off x="228600" y="909720"/>
          <a:ext cx="8686800" cy="2341440"/>
        </p:xfrm>
        <a:graphic>
          <a:graphicData uri="http://schemas.openxmlformats.org/drawingml/2006/table">
            <a:tbl>
              <a:tblPr/>
              <a:tblGrid>
                <a:gridCol w="1219320"/>
                <a:gridCol w="4190760"/>
                <a:gridCol w="1143000"/>
                <a:gridCol w="2133720"/>
              </a:tblGrid>
              <a:tr h="405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a:t>
                      </a:r>
                      <a:endParaRPr b="0"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val Date</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41</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gregate Incremental Liability (AIL) Calculation and Credit Reports Publish Correction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6</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 Nodal Protocols with PRR787, Add Non-Compliance Language to QSE Performance Standard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11/16/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GRR034</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cind Telemetry Performance Calculation Exclusion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9/21/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36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55</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com Website Enhancements</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Approved 2/16/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50" name="Title 1"/>
          <p:cNvSpPr/>
          <p:nvPr/>
        </p:nvSpPr>
        <p:spPr>
          <a:xfrm>
            <a:off x="4952880" y="228600"/>
            <a:ext cx="13716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age 3 of 3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60"/>
            <a:ext cx="4572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dal Parking Deck – Pending</a:t>
            </a:r>
            <a:endParaRPr b="0" lang="en-US" sz="2000" spc="-1" strike="noStrike">
              <a:solidFill>
                <a:srgbClr val="000000"/>
              </a:solidFill>
              <a:latin typeface="Arial Black"/>
            </a:endParaRPr>
          </a:p>
        </p:txBody>
      </p:sp>
      <p:graphicFrame>
        <p:nvGraphicFramePr>
          <p:cNvPr id="252" name=""/>
          <p:cNvGraphicFramePr/>
          <p:nvPr/>
        </p:nvGraphicFramePr>
        <p:xfrm>
          <a:off x="152280" y="853920"/>
          <a:ext cx="8839440" cy="2794320"/>
        </p:xfrm>
        <a:graphic>
          <a:graphicData uri="http://schemas.openxmlformats.org/drawingml/2006/table">
            <a:tbl>
              <a:tblPr/>
              <a:tblGrid>
                <a:gridCol w="1306800"/>
                <a:gridCol w="4027320"/>
                <a:gridCol w="1198440"/>
                <a:gridCol w="2306880"/>
              </a:tblGrid>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rce</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tle</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ggested Priority</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40949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rrent Status</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40949a"/>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6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ing Access to MIS Secure Area to MIS Registered User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TA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S Approved 11/18/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82</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Ramp Rates Use in SCED</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TA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S Approved 11/18/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438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9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ion of DAM PSS/E File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PRS</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93</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 to Post CRR Option and Obligation Quantities Cleared in DAM or Taken to Real Time</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TA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S Approved 11/18/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60</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ed Changes Needed for Information Model Manager and Topology Processor for Planning Models</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TA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S Approved 11/18/2010</a:t>
                      </a:r>
                      <a:endParaRPr b="0" lang="en-US" sz="1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253" name="Title 1"/>
          <p:cNvSpPr/>
          <p:nvPr/>
        </p:nvSpPr>
        <p:spPr>
          <a:xfrm>
            <a:off x="5943600" y="76320"/>
            <a:ext cx="2971800" cy="533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otal Pending = 5</a:t>
            </a:r>
            <a:endParaRPr b="0" lang="en-US" sz="1800" spc="-1" strike="noStrike">
              <a:solidFill>
                <a:srgbClr val="000000"/>
              </a:solidFill>
              <a:latin typeface="Arial"/>
            </a:endParaRPr>
          </a:p>
        </p:txBody>
      </p:sp>
      <p:sp>
        <p:nvSpPr>
          <p:cNvPr id="254" name="Rectangle 2"/>
          <p:cNvSpPr/>
          <p:nvPr/>
        </p:nvSpPr>
        <p:spPr>
          <a:xfrm>
            <a:off x="2057400" y="5715000"/>
            <a:ext cx="52578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28600" indent="-228600">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item was removed from the Parking Deck in the past month:</a:t>
            </a:r>
            <a:endParaRPr b="0" lang="en-US" sz="1000" spc="-1" strike="noStrike">
              <a:solidFill>
                <a:srgbClr val="000000"/>
              </a:solidFill>
              <a:latin typeface="Arial"/>
            </a:endParaRPr>
          </a:p>
          <a:p>
            <a:pPr marL="228600" indent="-228600">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PRR281 – Replace 7-Day Forecast Requirement for QSEs Representing WGR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304920" y="0"/>
            <a:ext cx="82296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mmary of PRRs and NPRRs</a:t>
            </a:r>
            <a:endParaRPr b="0" lang="en-US" sz="2000" spc="-1" strike="noStrike">
              <a:solidFill>
                <a:srgbClr val="000000"/>
              </a:solidFill>
              <a:latin typeface="Arial"/>
            </a:endParaRPr>
          </a:p>
        </p:txBody>
      </p:sp>
      <p:sp>
        <p:nvSpPr>
          <p:cNvPr id="186" name="Rectangle 3"/>
          <p:cNvSpPr/>
          <p:nvPr/>
        </p:nvSpPr>
        <p:spPr>
          <a:xfrm>
            <a:off x="304920" y="990720"/>
            <a:ext cx="8153280" cy="56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NPRRs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NPRRs for Parking Deck Consider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SCR for Approval (See ROS agenda i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Rejec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Withdrawals (PR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188" name="PlaceHolder 2"/>
          <p:cNvSpPr>
            <a:spLocks noGrp="1"/>
          </p:cNvSpPr>
          <p:nvPr>
            <p:ph/>
          </p:nvPr>
        </p:nvSpPr>
        <p:spPr>
          <a:xfrm>
            <a:off x="228600" y="838080"/>
            <a:ext cx="8153280" cy="56390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Unanimous Recommendations</a:t>
            </a:r>
            <a:endParaRPr b="1"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NPRR295, Synchronization of Protocol for Generation Resource Designation as Mothballed or Decommissioned </a:t>
            </a:r>
            <a:r>
              <a:rPr b="0" i="1" lang="en-US" sz="1600" spc="-1" strike="noStrike">
                <a:solidFill>
                  <a:srgbClr val="000000"/>
                </a:solidFill>
                <a:latin typeface="Arial"/>
              </a:rPr>
              <a:t>	</a:t>
            </a:r>
            <a:endParaRPr b="1" lang="en-US" sz="1600" spc="-1" strike="noStrike">
              <a:solidFill>
                <a:srgbClr val="000000"/>
              </a:solidFill>
              <a:latin typeface="Arial"/>
            </a:endParaRPr>
          </a:p>
          <a:p>
            <a:pPr lvl="1"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70c0"/>
                </a:solidFill>
                <a:latin typeface="Arial"/>
              </a:rPr>
              <a:t>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949a"/>
                </a:solidFill>
                <a:latin typeface="Arial"/>
              </a:rPr>
              <a:t>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191" name="PlaceHolder 2"/>
          <p:cNvSpPr>
            <a:spLocks noGrp="1"/>
          </p:cNvSpPr>
          <p:nvPr>
            <p:ph/>
          </p:nvPr>
        </p:nvSpPr>
        <p:spPr>
          <a:xfrm>
            <a:off x="304920" y="914040"/>
            <a:ext cx="8153280" cy="563868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b050"/>
                </a:solidFill>
                <a:latin typeface="Arial"/>
              </a:rPr>
              <a:t>	</a:t>
            </a:r>
            <a:endParaRPr b="1"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on-unanimous Recommendations</a:t>
            </a:r>
            <a:endParaRPr b="1"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NPRR260, Providing Access to MIS Secure Area to MIS Registered Users</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NPRR282, Dynamic Ramp Rates Use in SCED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NPRR293, Requirement to Post PTP Obligation Quantities Awarded in DAM (formerly “Requirement to Post CRR Option and Obligation Quantities Cleared in DAM or Taken to Real Time”)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22824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8c93"/>
                </a:solidFill>
                <a:latin typeface="Arial Black"/>
              </a:rPr>
              <a:t>NPRR295, Synchronization of Protocol for Generation Resource Designation as Mothballed or Decommissioned </a:t>
            </a:r>
            <a:endParaRPr b="0" lang="en-US" sz="2000" spc="-1" strike="noStrike">
              <a:solidFill>
                <a:srgbClr val="000000"/>
              </a:solidFill>
              <a:latin typeface="Arial Black"/>
            </a:endParaRPr>
          </a:p>
        </p:txBody>
      </p:sp>
      <p:graphicFrame>
        <p:nvGraphicFramePr>
          <p:cNvPr id="194" name=""/>
          <p:cNvGraphicFramePr/>
          <p:nvPr/>
        </p:nvGraphicFramePr>
        <p:xfrm>
          <a:off x="380880" y="1371600"/>
          <a:ext cx="8153640" cy="4359240"/>
        </p:xfrm>
        <a:graphic>
          <a:graphicData uri="http://schemas.openxmlformats.org/drawingml/2006/table">
            <a:tbl>
              <a:tblPr/>
              <a:tblGrid>
                <a:gridCol w="2230560"/>
                <a:gridCol w="1492200"/>
                <a:gridCol w="4430880"/>
              </a:tblGrid>
              <a:tr h="1554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synchronizes the Nodal Protocols with zonal Protocol Section 6.5.9.3, Generation Resource Return to Service Updates, regarding return-to-service of Mothballed or Decommissioned Generation Resources.  In addition, a clarification was made for removal of Decommissioned Generation Resources from ERCOT registration syste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7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1/18/10, PRS unanimously voted to recommend approval of NPRR295 as submitted and to forward NPRR295 and the Impact Analysis to TAC.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 1, 20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206"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207"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208"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209"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210"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211"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212"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213"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214"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215"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24"/>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AutoShape 24"/>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2"/>
          <p:cNvSpPr/>
          <p:nvPr/>
        </p:nvSpPr>
        <p:spPr>
          <a:xfrm>
            <a:off x="304920" y="152280"/>
            <a:ext cx="8839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2"/>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ctr">
            <a:no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c8c93"/>
                </a:solidFill>
                <a:latin typeface="Arial Black"/>
              </a:rPr>
              <a:t>NPRR295, Synchronization of Protocol for Generation Resource Designation as Mothballed or Decommissioned </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500" fill="hold"/>
                                        <p:tgtEl>
                                          <p:spTgt spid="215"/>
                                        </p:tgtEl>
                                        <p:attrNameLst>
                                          <p:attrName>r</p:attrName>
                                        </p:attrNameLst>
                                      </p:cBhvr>
                                    </p:animRot>
                                  </p:childTnLst>
                                </p:cTn>
                              </p:par>
                              <p:par>
                                <p:cTn id="7" nodeType="withEffect" fill="hold" presetClass="emph" presetID="8">
                                  <p:stCondLst>
                                    <p:cond delay="0"/>
                                  </p:stCondLst>
                                  <p:childTnLst>
                                    <p:animRot by="21600000">
                                      <p:cBhvr>
                                        <p:cTn id="8" dur="500" fill="hold"/>
                                        <p:tgtEl>
                                          <p:spTgt spid="216"/>
                                        </p:tgtEl>
                                        <p:attrNameLst>
                                          <p:attrName>r</p:attrName>
                                        </p:attrNameLst>
                                      </p:cBhvr>
                                    </p:animRot>
                                  </p:childTnLst>
                                </p:cTn>
                              </p:par>
                              <p:par>
                                <p:cTn id="9" nodeType="withEffect" fill="hold" presetClass="emph" presetID="8">
                                  <p:stCondLst>
                                    <p:cond delay="0"/>
                                  </p:stCondLst>
                                  <p:childTnLst>
                                    <p:animRot by="-21600000">
                                      <p:cBhvr>
                                        <p:cTn id="10" dur="500" fill="hold"/>
                                        <p:tgtEl>
                                          <p:spTgt spid="217"/>
                                        </p:tgtEl>
                                        <p:attrNameLst>
                                          <p:attrName>r</p:attrName>
                                        </p:attrNameLst>
                                      </p:cBhvr>
                                    </p:animRot>
                                  </p:childTnLst>
                                </p:cTn>
                              </p:par>
                              <p:par>
                                <p:cTn id="11" nodeType="withEffect" fill="hold" presetClass="emph" presetID="8">
                                  <p:stCondLst>
                                    <p:cond delay="0"/>
                                  </p:stCondLst>
                                  <p:childTnLst>
                                    <p:animRot by="21600000">
                                      <p:cBhvr>
                                        <p:cTn id="12" dur="500" fill="hold"/>
                                        <p:tgtEl>
                                          <p:spTgt spid="218"/>
                                        </p:tgtEl>
                                        <p:attrNameLst>
                                          <p:attrName>r</p:attrName>
                                        </p:attrNameLst>
                                      </p:cBhvr>
                                    </p:animRot>
                                  </p:childTnLst>
                                </p:cTn>
                              </p:par>
                              <p:par>
                                <p:cTn id="13" nodeType="withEffect" fill="hold" presetClass="emph" presetID="8">
                                  <p:stCondLst>
                                    <p:cond delay="0"/>
                                  </p:stCondLst>
                                  <p:childTnLst>
                                    <p:animRot by="21600000">
                                      <p:cBhvr>
                                        <p:cTn id="14" dur="500" fill="hold"/>
                                        <p:tgtEl>
                                          <p:spTgt spid="221"/>
                                        </p:tgtEl>
                                        <p:attrNameLst>
                                          <p:attrName>r</p:attrName>
                                        </p:attrNameLst>
                                      </p:cBhvr>
                                    </p:animRot>
                                  </p:childTnLst>
                                </p:cTn>
                              </p:par>
                              <p:par>
                                <p:cTn id="15" nodeType="withEffect" fill="hold" presetClass="emph" presetID="8">
                                  <p:stCondLst>
                                    <p:cond delay="0"/>
                                  </p:stCondLst>
                                  <p:childTnLst>
                                    <p:animRot by="21600000">
                                      <p:cBhvr>
                                        <p:cTn id="16" dur="500" fill="hold"/>
                                        <p:tgtEl>
                                          <p:spTgt spid="2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60, Providing Access to MIS Secure Area to MIS Registered Users </a:t>
            </a:r>
            <a:endParaRPr b="0" lang="en-US" sz="2000" spc="-1" strike="noStrike">
              <a:solidFill>
                <a:srgbClr val="000000"/>
              </a:solidFill>
              <a:latin typeface="Arial Black"/>
            </a:endParaRPr>
          </a:p>
        </p:txBody>
      </p:sp>
      <p:graphicFrame>
        <p:nvGraphicFramePr>
          <p:cNvPr id="228" name=""/>
          <p:cNvGraphicFramePr/>
          <p:nvPr/>
        </p:nvGraphicFramePr>
        <p:xfrm>
          <a:off x="380880" y="1371600"/>
          <a:ext cx="8153640" cy="5227560"/>
        </p:xfrm>
        <a:graphic>
          <a:graphicData uri="http://schemas.openxmlformats.org/drawingml/2006/table">
            <a:tbl>
              <a:tblPr/>
              <a:tblGrid>
                <a:gridCol w="2230560"/>
                <a:gridCol w="1492200"/>
                <a:gridCol w="4430880"/>
              </a:tblGrid>
              <a:tr h="1554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scent Pow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adds "Independent Market Information System Registered Entity (IMRE)" to Section 2.1 and Section 22, Attachment A.  By doing so, the Standard Form Market Participant Agreement would bind IMREs to the Nodal Protocols and, in particular, provisions in Section 16.12, Use Security Administrator and Digital Certificat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 Analysis will be conducted at a future dat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5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0/21/10, PRS voted to recommend approval of NPRR260 as amended by the 9/17/10 ERCOT comments and as revised by PRS.  There were three abstentions from the Consumer, IPM, and Independent Generator Market Segments.  On 11/18/10, PRS voted to endorse and forward the 10/21/10 PRS Report as revised by PRS and Impact Analysis for NPRR260 to TAC and to assign NPRR260 a priority of Medium.  There was one abstention from the Independent Generator Market Segm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 Priority Mediu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282, Dynamic Ramp Rates Use in SCED </a:t>
            </a:r>
            <a:endParaRPr b="0" lang="en-US" sz="2000" spc="-1" strike="noStrike">
              <a:solidFill>
                <a:srgbClr val="000000"/>
              </a:solidFill>
              <a:latin typeface="Arial Black"/>
            </a:endParaRPr>
          </a:p>
        </p:txBody>
      </p:sp>
      <p:graphicFrame>
        <p:nvGraphicFramePr>
          <p:cNvPr id="230" name=""/>
          <p:cNvGraphicFramePr/>
          <p:nvPr/>
        </p:nvGraphicFramePr>
        <p:xfrm>
          <a:off x="380880" y="1371600"/>
          <a:ext cx="8153640" cy="4363920"/>
        </p:xfrm>
        <a:graphic>
          <a:graphicData uri="http://schemas.openxmlformats.org/drawingml/2006/table">
            <a:tbl>
              <a:tblPr/>
              <a:tblGrid>
                <a:gridCol w="2230560"/>
                <a:gridCol w="1492200"/>
                <a:gridCol w="4430880"/>
              </a:tblGrid>
              <a:tr h="114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pin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proposes revisions that are intended to result in more reasonable Dispatch of Generation Resources when a telemetered Base Point requires the Resource to employ technologies that in turn change the Resource’s ramp rat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 Analysis will be conducted at a future date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0/21/10, PRS voted to recommend approval of NPRR282 as amended by the 10/18/10 Luminant comments.  There was one abstention from the Municipal Market Segment.  On 11/18/10, PRS unanimously voted to endorse and forward the 10/21/10 PRS Report and Impact Analysis for NPRR282 to TAC and to assign NPRR282 a priority of Critical.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 Priority Critic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228240"/>
            <a:ext cx="876312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Black"/>
              </a:rPr>
              <a:t>NPRR293, Requirement to Post PTP Obligation Quantities Awarded in DAM (formerly “Requirement to Post CRR Option and Obligation Quantities Cleared in DAM or Taken to Real Time”) </a:t>
            </a:r>
            <a:endParaRPr b="0" lang="en-US" sz="1600" spc="-1" strike="noStrike">
              <a:solidFill>
                <a:srgbClr val="000000"/>
              </a:solidFill>
              <a:latin typeface="Arial Black"/>
            </a:endParaRPr>
          </a:p>
        </p:txBody>
      </p:sp>
      <p:graphicFrame>
        <p:nvGraphicFramePr>
          <p:cNvPr id="232" name=""/>
          <p:cNvGraphicFramePr/>
          <p:nvPr/>
        </p:nvGraphicFramePr>
        <p:xfrm>
          <a:off x="380880" y="1371600"/>
          <a:ext cx="8153640" cy="4206960"/>
        </p:xfrm>
        <a:graphic>
          <a:graphicData uri="http://schemas.openxmlformats.org/drawingml/2006/table">
            <a:tbl>
              <a:tblPr/>
              <a:tblGrid>
                <a:gridCol w="2230560"/>
                <a:gridCol w="1492200"/>
                <a:gridCol w="4430880"/>
              </a:tblGrid>
              <a:tr h="1138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mina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adds language to specify the need for ERCOT to post quantities of Point to Point (PTP) Obligations that were awarded in the Day-Ahead Market (DA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3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 Analysis will be conducted at a future date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h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br>
                        <a:rPr sz="1600"/>
                      </a:b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1/18/10, PRS voted to recommend approval of NPRR293 as amended by the 11/17/10 Luminant Energy comments and as revised by PRS; to assign NPRR293 a priority of High; and to forward NPRR293 to TAC.  There was one abstention from the Independent Generator Market Segmen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System Implementation – Priority Hig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tanderson</cp:lastModifiedBy>
  <dcterms:modified xsi:type="dcterms:W3CDTF">2010-12-03T20:55:49Z</dcterms:modified>
  <cp:revision>275</cp:revision>
  <dc:subject/>
  <dc:title>Instructions</dc:title>
</cp:coreProperties>
</file>