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D660-F896-473D-AEDB-E041585BC1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B08E-0580-4CD7-9E11-6EAFFB4AF8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C112-DAAA-470E-AA47-661635B25F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03D9-029E-4A1D-98E8-8F7D7610DC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014D-B7EE-4068-9870-01216106F6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09F03F-3757-4894-9343-BB37F0C4228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97D2F2-ADC0-46AD-9F8C-E0B0D551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ED3393F-1243-4F87-AA89-DF079AF1A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5381716-F0FD-41AA-8F1E-D273536DE59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665352A-6A5C-41C1-BFDC-80DCEFBF2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037CF2-967C-4D07-91E0-84C3CF88F3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C67AFA-5DDE-4505-944A-2416462743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91F6B8E-16A8-4F83-8ED0-1B6B38C8F1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703198D-DFB1-4FEB-9F1B-4B1639514C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2EC41F0-9AF0-44F2-8851-69988698AC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F9A282-A6A0-4753-93A8-C13E5A0372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6A928-C0BF-4DE4-873E-45455A968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2383E8B-9A1C-403D-B5C3-17D8B1C279D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D43D051-9D49-4EA4-A378-A557C46E4F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99E515B-3562-4D33-A3BB-A8E56C0926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BDABF64-FFCA-4093-95B9-5E75071089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68A2B15-1DEB-4E29-9B20-AEF0EB29FC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B0CB1-BCCA-4EE4-B297-C13F7D83D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4D0CB-28C7-4CF8-90A7-2822E5F51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CA6A0-6550-40AD-BA10-63D5E9E7E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29648-DCEF-47C9-A814-FCFB24AB1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C39D0-76B0-4956-8CDE-7F7487792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279B9-1FB6-46A5-BE2B-E6151CFD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441F6-F3E2-48C3-8344-807F3403C0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60FDC-0F45-48D0-8867-4725F7F7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5FB2C-CF48-44EE-8661-2FD69D1F3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76CB5-A68A-4D15-81A9-2B19C4A71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55B41-42B2-4500-866B-9241B3F9E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6388C7-9CCE-46BE-AF38-0B98CFEDC9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6BA43-F6D9-4AFF-A2EA-44EA9E179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E572895-2558-439A-BE09-3C6EF0F3E4A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104B5E0-E600-467F-A35F-24A0B9F8E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DFB43BF-5EE3-44A0-BFC6-01F590C9E2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62B99E3-09D8-4F6E-973B-7707CE265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1AB31D6-E95F-48FC-A6E1-BEC79CD4E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18274E4-BBB0-438B-8D2D-DA394F7D8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04BE86EC-BA06-4866-BAC7-5F67DB46FA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828D4FE-D094-40BE-BBA3-00455FABE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A85DF4D-1275-4319-A964-82A6A24750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1F9C8D3-6962-416F-97D6-AF790A86BF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D0FD8B0-812F-41CA-96F7-CBC8D46C5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7C0AF35A-CDAB-470D-B8BD-AC4178376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460194D-4170-425F-ABF1-D10253CFB4C1}"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595CF88-AE58-4644-9C85-91D33D106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547907F-4705-403E-91C9-8F9FA9351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B49F24-28E0-4040-B48E-383C95AD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03B4BE-C09F-4128-9ACD-0A1E80A0E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7D4FAB-ABD3-45C1-B6A5-A9268459596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A9A7-8E8D-4C79-A404-1F50932531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CD2C-690A-4E7F-BB39-F8E404735CD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4837-2476-41EC-A7B3-2D5D7A49A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FDD7-F530-41FE-AEB9-F3C24EEB665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221F-E7DA-441A-8AA4-8ACEB8D5B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vember 09,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05A9-0CD5-4198-AA2A-5B8FCE9DF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4" descr=""/>
          <p:cNvPicPr/>
          <p:nvPr/>
        </p:nvPicPr>
        <p:blipFill>
          <a:blip r:embed="rId1"/>
          <a:stretch/>
        </p:blipFill>
        <p:spPr>
          <a:xfrm>
            <a:off x="380880" y="2181240"/>
            <a:ext cx="8401320" cy="33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08C65-F09D-41BA-A0E1-62307E8F5C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3" descr="image002"/>
          <p:cNvPicPr/>
          <p:nvPr/>
        </p:nvPicPr>
        <p:blipFill>
          <a:blip r:embed="rId1"/>
          <a:stretch/>
        </p:blipFill>
        <p:spPr>
          <a:xfrm>
            <a:off x="309600" y="2352600"/>
            <a:ext cx="8529480" cy="2676600"/>
          </a:xfrm>
          <a:prstGeom prst="rect">
            <a:avLst/>
          </a:prstGeom>
          <a:ln w="0">
            <a:noFill/>
          </a:ln>
        </p:spPr>
      </p:pic>
      <p:sp>
        <p:nvSpPr>
          <p:cNvPr id="188" name="TextBox 4"/>
          <p:cNvSpPr/>
          <p:nvPr/>
        </p:nvSpPr>
        <p:spPr>
          <a:xfrm>
            <a:off x="914400" y="1447920"/>
            <a:ext cx="7238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PWG 2010 Goals – Feedback Welco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E35D-6C46-481F-99A3-F61F675D83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p:nvPr>
        </p:nvSpPr>
        <p:spPr>
          <a:xfrm>
            <a:off x="456840" y="1066680"/>
            <a:ext cx="7986600" cy="5105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C Project No. 36150 (Issues Relating to the Disaster Resulting from Hurricane Ike) empowered ERCOT to reduce the load profile shapes to compensate in settlement for Ike meter outag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item from COPS, September 14, 2010; Add something in the Load Profiling Guide for future possibility of chang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Profiling Guide Section 7.3</a:t>
            </a:r>
            <a:r>
              <a:rPr b="0" lang="en-US" sz="1800" spc="-1" strike="noStrike">
                <a:solidFill>
                  <a:srgbClr val="000000"/>
                </a:solidFill>
                <a:latin typeface="Arial"/>
              </a:rPr>
              <a:t>	</a:t>
            </a:r>
            <a:r>
              <a:rPr b="0" lang="en-US" sz="1800" spc="-1" strike="noStrike">
                <a:solidFill>
                  <a:srgbClr val="000000"/>
                </a:solidFill>
                <a:latin typeface="Arial"/>
              </a:rPr>
              <a:t>Timeline for Processing a Load Profiling Methodology Change Reques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4) Due to the significance of a change to Load Profiling Methodologies, according to Protocol Section 18.2.9, Adjustments and Changes to Load Profile Development, a change shall only be implemented after the TAC approval and with at least 150 days notice to all MPs.  </a:t>
            </a:r>
            <a:r>
              <a:rPr b="0" lang="en-US" sz="1800" spc="-1" strike="noStrike">
                <a:solidFill>
                  <a:srgbClr val="339966"/>
                </a:solidFill>
                <a:latin typeface="Arial"/>
              </a:rPr>
              <a:t>An exception may be made to the criteria defined in this section, if special circumstances indicate a need to implement a change more immediately to address critical market issues.</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WG discussed on Oct. 27, 2010; asked TDSPs to review how AMS meters shall be estimated during a major outage; and shall investigate how Nodal metering might assist in localizing UFE in zonal settlement.</a:t>
            </a:r>
            <a:endParaRPr b="0" lang="en-US" sz="1800" spc="-1" strike="noStrike">
              <a:solidFill>
                <a:srgbClr val="000000"/>
              </a:solidFill>
              <a:latin typeface="Arial"/>
            </a:endParaRPr>
          </a:p>
        </p:txBody>
      </p:sp>
      <p:sp>
        <p:nvSpPr>
          <p:cNvPr id="191"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Outage Profile Cha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5F3D-DB79-4D78-945E-B45D845CA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nnual Validation 2010</a:t>
            </a:r>
            <a:endParaRPr b="0" lang="en-US" sz="2400" spc="-1" strike="noStrike">
              <a:solidFill>
                <a:srgbClr val="000000"/>
              </a:solidFill>
              <a:latin typeface="Arial"/>
            </a:endParaRPr>
          </a:p>
        </p:txBody>
      </p:sp>
      <p:sp>
        <p:nvSpPr>
          <p:cNvPr id="194" name="TextBox 5"/>
          <p:cNvSpPr/>
          <p:nvPr/>
        </p:nvSpPr>
        <p:spPr>
          <a:xfrm>
            <a:off x="457200" y="5943600"/>
            <a:ext cx="800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6800 Business are currently indicated to have a provisioned Advanced Meter.</a:t>
            </a:r>
            <a:endParaRPr b="0" lang="en-US" sz="1600" spc="-1" strike="noStrike">
              <a:solidFill>
                <a:srgbClr val="000000"/>
              </a:solidFill>
              <a:latin typeface="Arial"/>
            </a:endParaRPr>
          </a:p>
          <a:p>
            <a:pPr>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5" name="Picture 6" descr=""/>
          <p:cNvPicPr/>
          <p:nvPr/>
        </p:nvPicPr>
        <p:blipFill>
          <a:blip r:embed="rId1"/>
          <a:stretch/>
        </p:blipFill>
        <p:spPr>
          <a:xfrm>
            <a:off x="704880" y="1081080"/>
            <a:ext cx="7732800" cy="46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26FB-7A0C-4B2A-B2FF-09D95CD7D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NPRR / PRR Status</a:t>
            </a:r>
            <a:endParaRPr b="0" lang="en-US" sz="3200" spc="-1" strike="noStrike">
              <a:solidFill>
                <a:srgbClr val="000000"/>
              </a:solidFill>
              <a:latin typeface="Arial"/>
            </a:endParaRPr>
          </a:p>
        </p:txBody>
      </p:sp>
      <p:sp>
        <p:nvSpPr>
          <p:cNvPr id="198" name="Rectangle 3"/>
          <p:cNvSpPr/>
          <p:nvPr/>
        </p:nvSpPr>
        <p:spPr>
          <a:xfrm>
            <a:off x="380880" y="1295280"/>
            <a:ext cx="8382240" cy="48006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PGRR041 - Distributed Generation (DG)  to Sync with NPRR208 Language Effective on Nodal Go-Live with </a:t>
            </a:r>
            <a:r>
              <a:rPr b="0" lang="en-US" sz="1800" spc="-1" strike="noStrike">
                <a:solidFill>
                  <a:srgbClr val="ff0000"/>
                </a:solidFill>
                <a:latin typeface="Arial"/>
              </a:rPr>
              <a:t>URGENT </a:t>
            </a:r>
            <a:r>
              <a:rPr b="0" lang="en-US" sz="1800" spc="-1" strike="noStrike">
                <a:solidFill>
                  <a:srgbClr val="000000"/>
                </a:solidFill>
                <a:latin typeface="Arial"/>
              </a:rPr>
              <a:t>Resolution recommended by COPS for approval by TAC on 11/4/2010 .</a:t>
            </a: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 draft shall have final review by PWG on December 9, 2010 to place the LRS TDSP CSV Operations Guide in Appendix A of the Load Profiling Guide (LPG), to clarify IDR and AMS weather sensitive type code assignment in the Decision Tree, to comply with NPRR250 Suspension of Annual Profile Id validation with Advance Meter Deployment, and to remove unused TOU codes to improve settlement system processing time (shall be LPGRR042). </a:t>
            </a: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 shall have final review by PWG on December 9, 2010 to build Appendix D language for Distributive Generation (DG) Load Profile Models per NPRR208, Registration and Settlement of Distributed Generation (DG) Less Than One MW (PWG Goal 6 shall be LPGRR043).</a:t>
            </a:r>
            <a:endParaRPr b="0" lang="en-US" sz="18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C984-9F3B-4559-80E1-165D9A7F3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 Box 6"/>
          <p:cNvSpPr/>
          <p:nvPr/>
        </p:nvSpPr>
        <p:spPr>
          <a:xfrm>
            <a:off x="533520" y="4572000"/>
            <a:ext cx="8001000" cy="194256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Remaining 2010 meeting dat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 11 and Dec. 9, 20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last two are half day WebEx calls</a:t>
            </a:r>
            <a:endParaRPr b="0" lang="en-US" sz="24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 PWG is planning 2011 meetings on the fourth Wednesday</a:t>
            </a:r>
            <a:endParaRPr b="0" lang="en-US" sz="1600" spc="-1" strike="noStrike">
              <a:solidFill>
                <a:srgbClr val="000000"/>
              </a:solidFill>
              <a:latin typeface="Arial"/>
            </a:endParaRPr>
          </a:p>
        </p:txBody>
      </p:sp>
      <p:pic>
        <p:nvPicPr>
          <p:cNvPr id="202"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03" name="Picture 11" descr=""/>
          <p:cNvPicPr/>
          <p:nvPr/>
        </p:nvPicPr>
        <p:blipFill>
          <a:blip r:embed="rId2"/>
          <a:stretch/>
        </p:blipFill>
        <p:spPr>
          <a:xfrm>
            <a:off x="533520" y="1295280"/>
            <a:ext cx="24192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11-01T12:44:49Z</dcterms:modified>
  <cp:revision>544</cp:revision>
  <dc:subject/>
  <dc:title>PowerPoint Presentation</dc:title>
</cp:coreProperties>
</file>