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DA6C-DD11-4548-B75C-C0E0860083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7263-E91C-4AC1-B291-1CAB5722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5AE-8D2B-4E40-9E52-87F39A28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F6EA-AE2C-405A-9B49-20E9CA585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1416-DD8B-47AD-9D7D-0528596F8CC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4F5B-D790-47C8-931E-B39CB5D42D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0DDE-01D5-4ED6-BB02-B0A0DE5E03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E0E5-7341-4CC5-ADE1-C9DBADAE65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A409-326D-4D9D-AE4E-45AB590C7358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E606-FA45-42F7-A006-A41D4CC8061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2B24-BD97-4AD4-BD3E-9A0DF82BF058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DEBF-1B10-44E6-89A3-49D51510C8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2B27-2DE6-44F4-8FA3-AB014A4734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7CE7-4EAA-43F4-9584-18A16B055A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1A44-7DF0-45D5-9024-9A342EAEA0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DEBA-71DF-418A-8487-7F4B350F08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3C70E-81A6-4541-A634-6764C3C5D9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58882-B4D1-4C8D-8FB1-6502BB6D65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6A95-EAE0-4C52-A05A-989A37F99C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D7F6-868C-483F-9BAA-828826033E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A8E7-5D97-402C-B4B3-E57C8F5E2F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847D-B619-4F8D-A19C-9B589731FC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0817-1A1A-4837-85D1-768606E8579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2F81-05D4-49D4-B114-FCE79D22E4C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6CF6-F6E7-4C1A-BE99-4C57742FC18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17DF-E93C-4E00-9128-49F0ACBFBA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8133-8005-4AE4-BB29-D6A309BD66F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9B2D-82AC-4071-A4C7-C47815AF5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64541E-074D-4749-97F6-5BF264CFC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94A5C9-6A6F-44C0-9846-171C1ACA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5EB812-320A-45E4-94FE-FAC0A05D6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0808DAD-D114-49D5-BA05-D8FC6004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E66672-565D-4693-9824-B8E4B426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E6A273-5C7D-4032-B878-5CB3F7699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BA7C55-39A4-4526-BBF8-BA131E09B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67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B9EB11-9E15-45D3-A1D4-2CEF0275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9F7EDE-C7E3-4F96-B4AB-291FA10A4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76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94A1ED-14A9-4446-AE65-DD19D4D75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0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595749-DB64-4576-9768-112A60892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5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C507EF-D9C0-426A-AF49-B78083B57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C90858-CB26-4E4A-AFAE-97AEABB1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0980EA-81CE-4AC8-A830-54A0A6AF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8F3E2C-ECE2-4F2B-82B5-324DEE2F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71AF-C6FF-4821-B3CB-AC15700DF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0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8AADB7-FC68-42D4-8043-82876A248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95EB2C-A760-46BC-A14C-9BFB6968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3AD245-55AE-49F9-9948-BD28F26F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19E66A-25E6-49EE-8D25-D7E33B37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B33B02-DA00-4F94-B2D9-5ADC4BE8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vember 09,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E3454B-D616-4C20-9904-D7A9778B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November 09, 2010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Line 3"/>
          <p:cNvSpPr/>
          <p:nvPr/>
        </p:nvSpPr>
        <p:spPr>
          <a:xfrm>
            <a:off x="990720" y="31240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39" name="Picture 5" descr=""/>
          <p:cNvPicPr/>
          <p:nvPr/>
        </p:nvPicPr>
        <p:blipFill>
          <a:blip r:embed="rId1"/>
          <a:stretch/>
        </p:blipFill>
        <p:spPr>
          <a:xfrm>
            <a:off x="138240" y="838080"/>
            <a:ext cx="8866080" cy="4686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Execu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TextBox 4"/>
          <p:cNvSpPr/>
          <p:nvPr/>
        </p:nvSpPr>
        <p:spPr>
          <a:xfrm>
            <a:off x="457200" y="11430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Execution Ph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Plan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Text Box 4"/>
          <p:cNvSpPr/>
          <p:nvPr/>
        </p:nvSpPr>
        <p:spPr>
          <a:xfrm>
            <a:off x="228600" y="4191120"/>
            <a:ext cx="868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5" descr=""/>
          <p:cNvPicPr/>
          <p:nvPr/>
        </p:nvPicPr>
        <p:blipFill>
          <a:blip r:embed="rId1"/>
          <a:stretch/>
        </p:blipFill>
        <p:spPr>
          <a:xfrm>
            <a:off x="519120" y="990720"/>
            <a:ext cx="8104320" cy="1714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6" name="TextBox 4"/>
          <p:cNvSpPr/>
          <p:nvPr/>
        </p:nvSpPr>
        <p:spPr>
          <a:xfrm>
            <a:off x="457200" y="1143000"/>
            <a:ext cx="81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projects in Initiation Ph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On Hold, Deferred or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48" name="Picture 6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039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ing,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50" name="Picture 4" descr=""/>
          <p:cNvPicPr/>
          <p:nvPr/>
        </p:nvPicPr>
        <p:blipFill>
          <a:blip r:embed="rId1"/>
          <a:stretch/>
        </p:blipFill>
        <p:spPr>
          <a:xfrm>
            <a:off x="519120" y="1066680"/>
            <a:ext cx="8104320" cy="1009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1/05/2010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2" name=""/>
          <p:cNvGraphicFramePr/>
          <p:nvPr/>
        </p:nvGraphicFramePr>
        <p:xfrm>
          <a:off x="152280" y="762120"/>
          <a:ext cx="8763120" cy="449100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5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1.2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eather Day</cp:lastModifiedBy>
  <dcterms:modified xsi:type="dcterms:W3CDTF">2010-11-08T16:21:08Z</dcterms:modified>
  <cp:revision>698</cp:revision>
  <dc:subject/>
  <dc:title>Role of Account Management at ERCOT</dc:title>
</cp:coreProperties>
</file>