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036-0E01-41CC-85E4-F8EC9B8A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B8D3-1C70-428B-A076-A53AC6CD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1C85-0E6A-4683-AE7A-8A895261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7223-B6D7-429C-BEE8-5F449702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FE82-5A19-4832-B964-C8C23371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D8CB-8909-4B6F-AABC-147C5EC8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CA0E-DD93-4959-B104-C2E6131C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DA76-AAF9-4FF2-85DC-201EC8A4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F916-B319-457C-8C21-492159D0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1A02-9BB5-47D9-ACDA-C5516075A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E6F0-575D-4C2E-B49A-468E9B76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B2DD-C916-45EA-8A63-D2B3C89E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F82-DEE1-416F-B08C-D557D357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975A-9023-4696-B486-B886DEB3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B9A7-A2C7-4E39-A63E-BB7206D0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0B9F-1BA1-4AFA-9957-179EC50A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D41E-F55C-4C14-9BE4-7900E0D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C13C-6512-46F8-A5B7-F5651A4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ECB7-7AD6-4E2F-BEF0-CEE12E5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2EB6-E512-406B-8594-5458DB8F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40AE-0B3E-4E79-A346-05DD9C4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822-0ECF-42E4-BED3-E51AC3FEE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D2E9-A0A6-4D96-B8E0-A4DBD858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7547-4100-4365-BC57-BA18EB7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75E4-94D4-464B-A587-5B5496C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0C38-3E06-447E-BD44-FCAB8B8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E9AE-E4B0-414E-BDD8-CF07A25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13FC-E521-4089-8EF3-634DBC37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0E37-0D73-448F-BCC6-F0B9DAAF2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ctober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A27F-280B-45A2-8E20-206B2832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November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FAFF-30B9-4191-A8A5-0B9D3065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7F13-17B7-4383-8026-78F07D1CB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odal.ercot.com/training/courses/index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8320"/>
            <a:ext cx="81532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dal Program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560" y="38858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echnical Advisory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4 November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ounded Rectangle 20"/>
          <p:cNvSpPr/>
          <p:nvPr/>
        </p:nvSpPr>
        <p:spPr>
          <a:xfrm>
            <a:off x="228600" y="2895480"/>
            <a:ext cx="3276720" cy="3276720"/>
          </a:xfrm>
          <a:prstGeom prst="roundRect">
            <a:avLst>
              <a:gd name="adj" fmla="val 349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 Activities /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Market Calls continue for issue facil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Calendar Extracts (See Emil for full list of posting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receiv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dal Invoice for DAM and RTM via 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can submit Disputes via MIS or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31"/>
          <p:cNvSpPr/>
          <p:nvPr/>
        </p:nvSpPr>
        <p:spPr>
          <a:xfrm>
            <a:off x="254160" y="1447920"/>
            <a:ext cx="3251160" cy="1447560"/>
          </a:xfrm>
          <a:prstGeom prst="roundRect">
            <a:avLst>
              <a:gd name="adj" fmla="val 3495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264960" y="1414440"/>
            <a:ext cx="36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gestion Revenue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et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264960" y="685800"/>
            <a:ext cx="8650080" cy="685800"/>
            <a:chOff x="264960" y="685800"/>
            <a:chExt cx="8650080" cy="685800"/>
          </a:xfrm>
        </p:grpSpPr>
        <p:sp>
          <p:nvSpPr>
            <p:cNvPr id="216" name="AutoShape 5"/>
            <p:cNvSpPr/>
            <p:nvPr/>
          </p:nvSpPr>
          <p:spPr>
            <a:xfrm>
              <a:off x="26496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6"/>
            <p:cNvSpPr/>
            <p:nvPr/>
          </p:nvSpPr>
          <p:spPr>
            <a:xfrm>
              <a:off x="131004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7"/>
            <p:cNvSpPr/>
            <p:nvPr/>
          </p:nvSpPr>
          <p:spPr>
            <a:xfrm>
              <a:off x="23551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8"/>
            <p:cNvSpPr/>
            <p:nvPr/>
          </p:nvSpPr>
          <p:spPr>
            <a:xfrm>
              <a:off x="340020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>
              <a:off x="44456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0"/>
            <p:cNvSpPr/>
            <p:nvPr/>
          </p:nvSpPr>
          <p:spPr>
            <a:xfrm>
              <a:off x="54907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653580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2"/>
            <p:cNvSpPr/>
            <p:nvPr/>
          </p:nvSpPr>
          <p:spPr>
            <a:xfrm>
              <a:off x="75812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22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Decem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581280" y="1400040"/>
            <a:ext cx="5410440" cy="484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Cut-Over Activities for Decem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01/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Program: Nodal Go-Live (Operating Day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3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: Nodal Day Ahead Market Statement &amp; Invoic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8/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redit:  Nodal Payment Due for OD12/0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9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:  Nodal Payout for OD12/0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15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:  Network Mode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13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:  Nodal Real-Time Statemen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16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:  Nodal Real-Time Invoic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27/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redit:  Nodal Payment Due for Real-Time Invoice 12/16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28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:  Nodal Payout for Real-Time Invoice 12/16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Right Arrow 23"/>
          <p:cNvGrpSpPr/>
          <p:nvPr/>
        </p:nvGrpSpPr>
        <p:grpSpPr>
          <a:xfrm>
            <a:off x="2914560" y="1792440"/>
            <a:ext cx="876240" cy="493560"/>
            <a:chOff x="2914560" y="1792440"/>
            <a:chExt cx="876240" cy="493560"/>
          </a:xfrm>
        </p:grpSpPr>
        <p:pic>
          <p:nvPicPr>
            <p:cNvPr id="227" name="Right Arrow 23" descr=""/>
            <p:cNvPicPr/>
            <p:nvPr/>
          </p:nvPicPr>
          <p:blipFill>
            <a:blip r:embed="rId1"/>
            <a:stretch/>
          </p:blipFill>
          <p:spPr>
            <a:xfrm>
              <a:off x="2914560" y="1792440"/>
              <a:ext cx="8762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971800" y="192420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Right Arrow 24"/>
          <p:cNvGrpSpPr/>
          <p:nvPr/>
        </p:nvGrpSpPr>
        <p:grpSpPr>
          <a:xfrm>
            <a:off x="2835360" y="5376960"/>
            <a:ext cx="877680" cy="487440"/>
            <a:chOff x="2835360" y="5376960"/>
            <a:chExt cx="877680" cy="487440"/>
          </a:xfrm>
        </p:grpSpPr>
        <p:pic>
          <p:nvPicPr>
            <p:cNvPr id="230" name="Right Arrow 24" descr=""/>
            <p:cNvPicPr/>
            <p:nvPr/>
          </p:nvPicPr>
          <p:blipFill>
            <a:blip r:embed="rId2"/>
            <a:stretch/>
          </p:blipFill>
          <p:spPr>
            <a:xfrm>
              <a:off x="2835360" y="5376960"/>
              <a:ext cx="8776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10800000">
              <a:off x="2990880" y="550512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nneth Ragsd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incipal Market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42976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4 Hour LFC Test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4 Hour LFC Test (Highlights) – Completion Criteri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547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itial assessment of Completion Criteri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ling CPS1 one minute average score must equal or exceed 100% during the tes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CPS1 average will not take into account the periods where ERCOT is transitioning to Nodal and then back to Z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CPS1 average will not take into account the periods where ERCOT is performing system t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rly CPS1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66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ax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i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verag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Commercially Significant Constraints (CSCs) and Closely Related Elements (CREs) managed below thermal limits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Congestion managed below thermal limits 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limits managed below transfer limits 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RC Disturbance Control Standard (DCS) failure if applicable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FC-SCED system issues that result in termination of the test 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4 Hour LFC Test (Highlights) – Observ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80880" y="1066680"/>
          <a:ext cx="8382240" cy="41976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/ 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D Stopp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12:05, 12:10, 15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occurs when DSR telemetered Output Schedule = 0 MW and RST = OND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fix targeted for 11/5/2010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Desired Base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BPs were observed to cease updating for 5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related to SCED stopp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fix targeted for 11/5/2010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Alert Issu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volume of EMS alerts seen by MPs, including stale alerts and duplic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Cause under invest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ed parameter updates and purged database at approximately 11:30 AM on 10/27 to clear stale alerts and eliminate duplic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rect Base Points, LMPs, HUB Prices, Load Zone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impacted 13:15, 18:05, 18: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actor transfer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fix targeted for 11/5/2010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4 Hour LFC Test (Highlights) – Observations (continued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1066680"/>
          <a:ext cx="8382240" cy="2584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/ 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/ Low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out peak period of the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outages (common this time of y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limit constraints (AS, ONTE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prices are not incentiv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tive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 softwar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rect Real-Time Metered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te: this did not impact Base Points or other pri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 EPS data between 12:00 and 13:30 on 10/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invest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monitoring of data transfer proc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nneth Ragsd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incipal Market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42976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dal Issues &amp; Defect Delivery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fect Summary (slide 1 of 3)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as of 10-29-10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6360" y="746280"/>
          <a:ext cx="9107640" cy="5502240"/>
        </p:xfrm>
        <a:graphic>
          <a:graphicData uri="http://schemas.openxmlformats.org/drawingml/2006/table">
            <a:tbl>
              <a:tblPr/>
              <a:tblGrid>
                <a:gridCol w="1868760"/>
                <a:gridCol w="1981080"/>
                <a:gridCol w="1905120"/>
                <a:gridCol w="3352680"/>
              </a:tblGrid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cts to be resolved by Quarter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:  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Defects to be resolved by 11/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Defects to be resolved b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Deferred defects require a workaround, all 51 workarounds in place and exerc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 Deferred defects require a workaround, all 129 workarounds in place and exerci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Deferred defects require a workaround, all 36 workarounds in place and exerci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7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Deferred defects require a workaround, all 12 workarounds in place and exerc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53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fect Summary (slide 2 of 3)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as of 10-29-10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6360" y="746280"/>
          <a:ext cx="9107640" cy="5389560"/>
        </p:xfrm>
        <a:graphic>
          <a:graphicData uri="http://schemas.openxmlformats.org/drawingml/2006/table">
            <a:tbl>
              <a:tblPr/>
              <a:tblGrid>
                <a:gridCol w="1868760"/>
                <a:gridCol w="1981080"/>
                <a:gridCol w="1905120"/>
                <a:gridCol w="3352680"/>
              </a:tblGrid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cts to be resolved by Quarter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Defects to be resolved by 10/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Defects to be resolved b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Defects to be resolved b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efects to be resolved b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eferred defects require a workaround, all 3 workarounds in place and exercised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: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Deferred defects require a workaround, all 9 workarounds in place and exerc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Deferred defects require a workaround, all 40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Deferred defects require a workaround, all 4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57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fect Summary (slide 3 of 3)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as of 10-29-10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000" y="746280"/>
          <a:ext cx="9107640" cy="5425920"/>
        </p:xfrm>
        <a:graphic>
          <a:graphicData uri="http://schemas.openxmlformats.org/drawingml/2006/table">
            <a:tbl>
              <a:tblPr/>
              <a:tblGrid>
                <a:gridCol w="1868400"/>
                <a:gridCol w="1990800"/>
                <a:gridCol w="1895400"/>
                <a:gridCol w="3353040"/>
              </a:tblGrid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cts to be resolved by Quarter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8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Deferred defects require a workaround, all 10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8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Deferred defects require a workaround, all  3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8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S (ED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ne Requir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itical Defects to be resolved by Go-Live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12/1/10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219240" y="1152360"/>
            <a:ext cx="8705520" cy="28101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day’s Agend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over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Hour LFC Test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Issue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ct Delivery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ization Process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dal Defects Target Completion dates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as of 10/29/10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174680" y="1143000"/>
            <a:ext cx="6654960" cy="48006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xt 60-days of Nodal Classes/Worksho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380880" y="57150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ment at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training/courses/index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838080"/>
          <a:ext cx="8631000" cy="1683000"/>
        </p:xfrm>
        <a:graphic>
          <a:graphicData uri="http://schemas.openxmlformats.org/drawingml/2006/table">
            <a:tbl>
              <a:tblPr/>
              <a:tblGrid>
                <a:gridCol w="3200400"/>
                <a:gridCol w="1523880"/>
                <a:gridCol w="3906720"/>
              </a:tblGrid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ty Power (Flori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Market Workshop for Retail Electric Provi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ni Austin Hotel at Southpa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73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560" y="160020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ioritization Process Overview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304920" y="297180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nager, Enterprise Project Portfoli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920" y="9903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dal Stabilization will be the primary focus after Go-L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coordinated effort is needed to prioritize and implement future changes to the Nodal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Defects will be worked as time allows during Stab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ing Deck items need an impact assessment before final prioritization can be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lists of proposed changes have been 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/ TSP / DAM Issues 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omac Economics Market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quests will come through exist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s, SCRs, Revision Guide chang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t’s Time to Look Forward to 2011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dal Stabilization Time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 Prioritizatio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ous issues lists will be centralized and managed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propose an initial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coordinate stakeholder review of the prioritiz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, COPS, PRS, T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and the Board will be asked to endorse the initial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s or SCRs will need to be submitted for market requests to ensure stakeholder suppo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SE / TSP / DAM issue lis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going Prioritizatio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quests are considered through the usu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Request 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ubcommittee 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 and Board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04560" y="990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v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 approval of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itial prioritization recomme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c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review of prioritized list with stakeholde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 TAC/Board approval of initial prioritiz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ioritization Time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088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05740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733920" y="3691080"/>
            <a:ext cx="167616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541008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708660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57400" y="4191120"/>
            <a:ext cx="6705720" cy="228600"/>
          </a:xfrm>
          <a:prstGeom prst="rect">
            <a:avLst/>
          </a:prstGeom>
          <a:solidFill>
            <a:srgbClr val="ff99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Stabiliz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533520" y="4521240"/>
            <a:ext cx="335268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Prioritiz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2286000" y="4859280"/>
            <a:ext cx="3124080" cy="228600"/>
          </a:xfrm>
          <a:prstGeom prst="rect">
            <a:avLst/>
          </a:prstGeom>
          <a:solidFill>
            <a:srgbClr val="00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Assessment of Parking Deck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13"/>
          <p:cNvCxnSpPr/>
          <p:nvPr/>
        </p:nvCxnSpPr>
        <p:spPr>
          <a:xfrm>
            <a:off x="8628120" y="4317480"/>
            <a:ext cx="303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0" name="Rectangle 20"/>
          <p:cNvSpPr/>
          <p:nvPr/>
        </p:nvSpPr>
        <p:spPr>
          <a:xfrm>
            <a:off x="380880" y="4191120"/>
            <a:ext cx="16765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6400800" y="4521240"/>
            <a:ext cx="236232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going Prioritiz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29"/>
          <p:cNvCxnSpPr/>
          <p:nvPr/>
        </p:nvCxnSpPr>
        <p:spPr>
          <a:xfrm>
            <a:off x="8636040" y="4638240"/>
            <a:ext cx="303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5-Point Star 30"/>
          <p:cNvSpPr/>
          <p:nvPr/>
        </p:nvSpPr>
        <p:spPr>
          <a:xfrm>
            <a:off x="5486400" y="520704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5-Point Star 31"/>
          <p:cNvSpPr/>
          <p:nvPr/>
        </p:nvSpPr>
        <p:spPr>
          <a:xfrm>
            <a:off x="6248520" y="520704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2"/>
          <p:cNvSpPr/>
          <p:nvPr/>
        </p:nvSpPr>
        <p:spPr>
          <a:xfrm>
            <a:off x="5148360" y="54309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C Consid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3"/>
          <p:cNvSpPr/>
          <p:nvPr/>
        </p:nvSpPr>
        <p:spPr>
          <a:xfrm>
            <a:off x="5910120" y="543564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 Consid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grated Nodal Timeline – Go-Live December 1, 201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utOver-byApp_10-28.jpg"/>
          <p:cNvPicPr/>
          <p:nvPr/>
        </p:nvPicPr>
        <p:blipFill>
          <a:blip r:embed="rId1"/>
          <a:stretch/>
        </p:blipFill>
        <p:spPr>
          <a:xfrm>
            <a:off x="0" y="54612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26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Days to Go-L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Trials has Co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t">
            <a:noAutofit/>
          </a:bodyPr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Upcoming Milestones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equency Control(LFC)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FC test is scheduled for the week of November 8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upport of the Soft Launch, the next LFC test will occur on 11/28/2010 and become binding with Go-L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 30, 2010:  ERCOT concluded the October testing wind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18 – 10/30 Day Ahead Market, DRUC and HRUC tested 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18 – 10/30 SCED published LMPs and bas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25 – 10/29 Focused input from the Market (e.g. realistic COPs, telemetry, offers and b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27 – 10/28 24-Hour LFC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mber 15, 2010 - November 29, 2010 Go-Live Soft Laun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ERCOT has updated the start of the Soft Launch to 11/15 (previously 11/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aunch will include a ramp into Go-Live bringing systems online, but non-binding over the stated 2-week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Go-Live Sequence of Ev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762120"/>
          <a:ext cx="8610480" cy="54100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45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5/2010 – 11/29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nitiates “Soft Launch” to Nodal Market 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will run non-binding DAM, RUC daily per Nodal protocol timelines.  RTM will remain Open Loop, but continue to publish base points and LMPs.  Note that credit will be set high on 1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5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 posts ACLs and TPEs for non-binding DA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Operating Day 11/15 credit will be manually set to high lim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6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redit Operating Day 11/16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 reflects actual lim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1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7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now able to submit transactions for first Nodal Operating Day (T-14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1/2010 Operating now available for Market sub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3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s with Resources required to submit 7 days of rolling C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1/2010 required on 11/23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1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8/2010 2:00 PM – 11/28/2010 3:00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nd Frequency Control switched to Nodal systems for final LFC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s will begin following Nodal base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s will continue to be Z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8/2010 2:00 PM – 11/30/2010  11:59: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s remain on Nodal Control while settling Zonally during the LFC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9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on- Binding DAM for operating day 11/30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57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Go-Live Sequence of Ev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19320"/>
          <a:ext cx="7925040" cy="407988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s and Offer sub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 submit bids and off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Dam Clear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 DAM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Ahead results posted to 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-14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Post DAM COP 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for R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 Execution of DR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 DRUC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DRUC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C Begins Hourly Ru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1/30/2010 Go-Live Seque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Go-Live Sequence of Ev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Key Zonal Notes for 11/30/2010 and 12/01/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QSEs will maint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ing Energy Offers through Operating Day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ted on 11/30 for OD 12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Plans through Operating Day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continuously through 12/01 to reflect actual Resourc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Outages effective on Operating Day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Actual Start / End, Forced Outag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n 11/30/2010 ERCOT will ru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Ancillary Servic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awards will be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R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as a study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commitments will not be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Zonal prices will not be generated for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 Zonal Submissions or Markets for Operating Day 12/02/2010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te that all Zonal systems (ERCOT and MP) must remain in place until 1/1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ounded Rectangle 20"/>
          <p:cNvSpPr/>
          <p:nvPr/>
        </p:nvSpPr>
        <p:spPr>
          <a:xfrm>
            <a:off x="281160" y="2971800"/>
            <a:ext cx="3276360" cy="3352680"/>
          </a:xfrm>
          <a:custGeom>
            <a:avLst/>
            <a:gdLst>
              <a:gd name="textAreaLeft" fmla="*/ 33480 w 3276360"/>
              <a:gd name="textAreaRight" fmla="*/ 3242880 w 3276360"/>
              <a:gd name="textAreaTop" fmla="*/ 33480 h 3352680"/>
              <a:gd name="textAreaBottom" fmla="*/ 3319200 h 3352680"/>
            </a:gdLst>
            <a:ahLst/>
            <a:rect l="textAreaLeft" t="textAreaTop" r="textAreaRight" b="textAreaBottom"/>
            <a:pathLst>
              <a:path w="21600" h="22103">
                <a:moveTo>
                  <a:pt x="755" y="0"/>
                </a:moveTo>
                <a:arcTo wR="755" hR="755" stAng="16200000" swAng="-5400000"/>
                <a:lnTo>
                  <a:pt x="0" y="21348"/>
                </a:lnTo>
                <a:arcTo wR="755" hR="755" stAng="10800000" swAng="-5400000"/>
                <a:lnTo>
                  <a:pt x="20845" y="22103"/>
                </a:lnTo>
                <a:arcTo wR="755" hR="755" stAng="5400000" swAng="-5400000"/>
                <a:lnTo>
                  <a:pt x="21600" y="755"/>
                </a:lnTo>
                <a:arcTo wR="755" hR="755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 Activities /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RAH able to retrieve ACLs from CRR                    system each business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s can post additional collateral until 11/08/2010 for Dec 2010 CRR A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 2010 CRR Model available on 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 2010 Monthly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ction Notice available on MI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31"/>
          <p:cNvSpPr/>
          <p:nvPr/>
        </p:nvSpPr>
        <p:spPr>
          <a:xfrm>
            <a:off x="281160" y="1371600"/>
            <a:ext cx="3251160" cy="1600200"/>
          </a:xfrm>
          <a:prstGeom prst="roundRect">
            <a:avLst>
              <a:gd name="adj" fmla="val 3495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200160" y="1371600"/>
            <a:ext cx="3381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age Schedu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gestion Revenue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264960" y="685800"/>
            <a:ext cx="8650080" cy="685800"/>
            <a:chOff x="264960" y="685800"/>
            <a:chExt cx="8650080" cy="685800"/>
          </a:xfrm>
        </p:grpSpPr>
        <p:sp>
          <p:nvSpPr>
            <p:cNvPr id="172" name="AutoShape 5"/>
            <p:cNvSpPr/>
            <p:nvPr/>
          </p:nvSpPr>
          <p:spPr>
            <a:xfrm>
              <a:off x="26496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131004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23551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>
              <a:off x="340020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44456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54907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1"/>
            <p:cNvSpPr/>
            <p:nvPr/>
          </p:nvSpPr>
          <p:spPr>
            <a:xfrm>
              <a:off x="653580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75812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Update - Octo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581280" y="1400040"/>
            <a:ext cx="5410440" cy="492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Cut-Over Activities for Octo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 </a:t>
            </a:r>
            <a:r>
              <a:rPr b="1" lang="en-US" sz="1300" spc="-1" strike="noStrike">
                <a:solidFill>
                  <a:srgbClr val="40949a"/>
                </a:solidFill>
                <a:latin typeface="Arial"/>
              </a:rPr>
              <a:t>(10/14-10/19) </a:t>
            </a:r>
            <a:r>
              <a:rPr b="0" lang="en-US" sz="1300" spc="-1" strike="noStrike">
                <a:solidFill>
                  <a:srgbClr val="40949a"/>
                </a:solidFill>
                <a:latin typeface="Arial"/>
              </a:rPr>
              <a:t>CRR:  ERCOT begins accepting  PCRR Nominations for December Monthly Auction  (updat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0/15-11/15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:  Network Operations Model  posted to TSP Citrix location and TSPs begin validation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</a:t>
            </a:r>
            <a:r>
              <a:rPr b="1" lang="en-US" sz="1300" spc="-1" strike="noStrike">
                <a:solidFill>
                  <a:srgbClr val="40949a"/>
                </a:solidFill>
                <a:latin typeface="Arial"/>
              </a:rPr>
              <a:t> (10/26) </a:t>
            </a:r>
            <a:r>
              <a:rPr b="0" lang="en-US" sz="1300" spc="-1" strike="noStrike">
                <a:solidFill>
                  <a:srgbClr val="40949a"/>
                </a:solidFill>
                <a:latin typeface="Arial"/>
              </a:rPr>
              <a:t>CRR: ERCOT shall allocate PCRRs to NOIEs for the 2010 December Monthly Auction and publish to M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 (10/26) </a:t>
            </a:r>
            <a:r>
              <a:rPr b="0" i="1" lang="en-US" sz="1300" spc="-1" strike="noStrike">
                <a:solidFill>
                  <a:srgbClr val="40949a"/>
                </a:solidFill>
                <a:latin typeface="Arial"/>
              </a:rPr>
              <a:t>CRR: ERCOT shall post CRR Network Model for the 2010 December Monthly Auction to M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0/28-11/08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 ERCOT posts ACLs daily for CRR December monthly auction to CR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</a:t>
            </a:r>
            <a:r>
              <a:rPr b="1" lang="en-US" sz="1300" spc="-1" strike="noStrike">
                <a:solidFill>
                  <a:srgbClr val="40949a"/>
                </a:solidFill>
                <a:latin typeface="Arial"/>
              </a:rPr>
              <a:t> (10/29) </a:t>
            </a:r>
            <a:r>
              <a:rPr b="0" lang="en-US" sz="1300" spc="-1" strike="noStrike">
                <a:solidFill>
                  <a:srgbClr val="40949a"/>
                </a:solidFill>
                <a:latin typeface="Arial"/>
              </a:rPr>
              <a:t>CRR:  ERCOT to post December 2010 Monthly Auction Notice to M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Right Arrow 23"/>
          <p:cNvGrpSpPr/>
          <p:nvPr/>
        </p:nvGrpSpPr>
        <p:grpSpPr>
          <a:xfrm>
            <a:off x="3067200" y="1871640"/>
            <a:ext cx="876240" cy="487440"/>
            <a:chOff x="3067200" y="1871640"/>
            <a:chExt cx="876240" cy="487440"/>
          </a:xfrm>
        </p:grpSpPr>
        <p:pic>
          <p:nvPicPr>
            <p:cNvPr id="183" name="Right Arrow 23" descr=""/>
            <p:cNvPicPr/>
            <p:nvPr/>
          </p:nvPicPr>
          <p:blipFill>
            <a:blip r:embed="rId1"/>
            <a:stretch/>
          </p:blipFill>
          <p:spPr>
            <a:xfrm>
              <a:off x="3067200" y="1871640"/>
              <a:ext cx="8762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24080" y="200016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ight Arrow 24"/>
          <p:cNvGrpSpPr/>
          <p:nvPr/>
        </p:nvGrpSpPr>
        <p:grpSpPr>
          <a:xfrm>
            <a:off x="2987640" y="3243240"/>
            <a:ext cx="878040" cy="487440"/>
            <a:chOff x="2987640" y="3243240"/>
            <a:chExt cx="878040" cy="487440"/>
          </a:xfrm>
        </p:grpSpPr>
        <p:pic>
          <p:nvPicPr>
            <p:cNvPr id="186" name="Right Arrow 24" descr=""/>
            <p:cNvPicPr/>
            <p:nvPr/>
          </p:nvPicPr>
          <p:blipFill>
            <a:blip r:embed="rId2"/>
            <a:stretch/>
          </p:blipFill>
          <p:spPr>
            <a:xfrm>
              <a:off x="2987640" y="3243240"/>
              <a:ext cx="8780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rot="10800000">
              <a:off x="3143160" y="337140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ounded Rectangle 20"/>
          <p:cNvSpPr/>
          <p:nvPr/>
        </p:nvSpPr>
        <p:spPr>
          <a:xfrm>
            <a:off x="228600" y="2819520"/>
            <a:ext cx="3276720" cy="3352680"/>
          </a:xfrm>
          <a:custGeom>
            <a:avLst/>
            <a:gdLst>
              <a:gd name="textAreaLeft" fmla="*/ 33480 w 3276720"/>
              <a:gd name="textAreaRight" fmla="*/ 3243240 w 3276720"/>
              <a:gd name="textAreaTop" fmla="*/ 33480 h 3352680"/>
              <a:gd name="textAreaBottom" fmla="*/ 3319200 h 3352680"/>
            </a:gdLst>
            <a:ahLst/>
            <a:rect l="textAreaLeft" t="textAreaTop" r="textAreaRight" b="textAreaBottom"/>
            <a:pathLst>
              <a:path w="21600" h="22101">
                <a:moveTo>
                  <a:pt x="755" y="0"/>
                </a:moveTo>
                <a:arcTo wR="755" hR="755" stAng="16200000" swAng="-5400000"/>
                <a:lnTo>
                  <a:pt x="0" y="21346"/>
                </a:lnTo>
                <a:arcTo wR="755" hR="755" stAng="10800000" swAng="-5400000"/>
                <a:lnTo>
                  <a:pt x="20845" y="22101"/>
                </a:lnTo>
                <a:arcTo wR="755" hR="755" stAng="5400000" swAng="-5400000"/>
                <a:lnTo>
                  <a:pt x="21600" y="755"/>
                </a:lnTo>
                <a:arcTo wR="755" hR="755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 Activities /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Credit Limit is locked for CRRA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 Auction Invoice via the API or 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AHs can receive postings on 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s can begin DAM Bid submission (15 submission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checkpoint calls begin to facilitate issues and 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Market Conference Bridge starts 11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31"/>
          <p:cNvSpPr/>
          <p:nvPr/>
        </p:nvSpPr>
        <p:spPr>
          <a:xfrm>
            <a:off x="254160" y="1371600"/>
            <a:ext cx="3251160" cy="1447920"/>
          </a:xfrm>
          <a:prstGeom prst="roundRect">
            <a:avLst>
              <a:gd name="adj" fmla="val 3495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264960" y="1414440"/>
            <a:ext cx="36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gestion Revenue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e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264960" y="685800"/>
            <a:ext cx="8650080" cy="685800"/>
            <a:chOff x="264960" y="685800"/>
            <a:chExt cx="8650080" cy="685800"/>
          </a:xfrm>
        </p:grpSpPr>
        <p:sp>
          <p:nvSpPr>
            <p:cNvPr id="194" name="AutoShape 5"/>
            <p:cNvSpPr/>
            <p:nvPr/>
          </p:nvSpPr>
          <p:spPr>
            <a:xfrm>
              <a:off x="26496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131004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23551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8"/>
            <p:cNvSpPr/>
            <p:nvPr/>
          </p:nvSpPr>
          <p:spPr>
            <a:xfrm>
              <a:off x="340020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9"/>
            <p:cNvSpPr/>
            <p:nvPr/>
          </p:nvSpPr>
          <p:spPr>
            <a:xfrm>
              <a:off x="44456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"/>
            <p:cNvSpPr/>
            <p:nvPr/>
          </p:nvSpPr>
          <p:spPr>
            <a:xfrm>
              <a:off x="54907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"/>
            <p:cNvSpPr/>
            <p:nvPr/>
          </p:nvSpPr>
          <p:spPr>
            <a:xfrm>
              <a:off x="653580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222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>
              <a:off x="75812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Update - Novem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581280" y="1400040"/>
            <a:ext cx="5410440" cy="484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Cut-Over Activities for Novem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1/8/2010 12:00pm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Collateral Posting Deadline (Dec Auc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8/2010 5:00pm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R:  Credit Lock for Dec CRR A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9/2010 – 11/11/201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 CRR: December CRR Auction Bid Open/Clo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2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R: December CRR Auction Exec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5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R: December CRR Auction Results publish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6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ttlements: December CRR Auction Invoice publish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9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 Payment Due for December CRR Auction Invo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2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ttlements:  Payments to CRRAH (Dec Auc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3/2010)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 Submission Opens (Remaining Protocol Go-Liv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4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:  Network Model Loa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9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 ERCOT to Publish ACL for the initial Day-Ahead Market execution by ERCO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Arrow 23"/>
          <p:cNvGrpSpPr/>
          <p:nvPr/>
        </p:nvGrpSpPr>
        <p:grpSpPr>
          <a:xfrm>
            <a:off x="2835360" y="1792440"/>
            <a:ext cx="877680" cy="493560"/>
            <a:chOff x="2835360" y="1792440"/>
            <a:chExt cx="877680" cy="493560"/>
          </a:xfrm>
        </p:grpSpPr>
        <p:pic>
          <p:nvPicPr>
            <p:cNvPr id="205" name="Right Arrow 23" descr=""/>
            <p:cNvPicPr/>
            <p:nvPr/>
          </p:nvPicPr>
          <p:blipFill>
            <a:blip r:embed="rId1"/>
            <a:stretch/>
          </p:blipFill>
          <p:spPr>
            <a:xfrm>
              <a:off x="2835360" y="1792440"/>
              <a:ext cx="877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895480" y="192420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ight Arrow 24"/>
          <p:cNvGrpSpPr/>
          <p:nvPr/>
        </p:nvGrpSpPr>
        <p:grpSpPr>
          <a:xfrm>
            <a:off x="2835360" y="3164040"/>
            <a:ext cx="877680" cy="493560"/>
            <a:chOff x="2835360" y="3164040"/>
            <a:chExt cx="877680" cy="493560"/>
          </a:xfrm>
        </p:grpSpPr>
        <p:pic>
          <p:nvPicPr>
            <p:cNvPr id="208" name="Right Arrow 24" descr=""/>
            <p:cNvPicPr/>
            <p:nvPr/>
          </p:nvPicPr>
          <p:blipFill>
            <a:blip r:embed="rId2"/>
            <a:stretch/>
          </p:blipFill>
          <p:spPr>
            <a:xfrm>
              <a:off x="2835360" y="3164040"/>
              <a:ext cx="877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10800000">
              <a:off x="2990880" y="329544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0-11-01T21:26:20Z</dcterms:modified>
  <cp:revision>907</cp:revision>
  <dc:subject/>
  <dc:title>Instructions</dc:title>
</cp:coreProperties>
</file>