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5C2B-E8D8-4D2E-8957-75198F0A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7E61-C7A2-4CCC-965C-C5D69FEC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1DE3-919B-4757-A64F-2ED933B7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DBE7-2265-4F3C-B6DB-84C7F7C1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5C86-FA2B-4B19-B1F5-7A08FA52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1B2A-AA2C-4BB7-96D0-ABC3B9EF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0200-055F-4B02-9DA5-EBB078F5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25A8-21BE-496B-A410-A710D8C3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059B-0DB4-4516-8E54-4D0DB125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D6EA-8C74-44D5-A1B9-0BA25E48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94A5-C807-4F99-B7F5-F6E6B3A2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ADCD-E988-4F9B-9667-8910A9D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395E-327D-44A5-9100-872FF345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962D-1075-4D0A-BD90-DADD87D1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A7B-87F3-4A3B-A984-5C43A09B8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0590-41CF-4239-B59A-4A8CAEAB3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S Vote “Motion to recommend the adoption of a participatory voting structure at RMS similar to the structure practiced at PRS/COPS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otion failed 72.2% against, 27.8% in fav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0 Market Coordination Team Establish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SET (4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associated with Deferred Pay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associated with Critical Care &amp; Chronic 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up of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CT AMIT Pro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T has consolidated its projects into on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S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ing engagement from 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ction items from A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dvanced Reads &amp; Settlements 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Deployment figures as of 9/30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o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343,4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P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1,2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P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,0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Total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119,7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49E3-6F6E-4C94-BD8F-0912044C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0-11-03T18:05:07Z</dcterms:modified>
  <cp:revision>89</cp:revision>
  <dc:subject/>
  <dc:title>Instructions</dc:title>
</cp:coreProperties>
</file>