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ED17-576A-4604-96F0-EBB6FD9F8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121B-3F9A-4CA5-A1B4-3DCBDFA5B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86DA-4D1C-427A-B3BD-8A377A19F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66CD-74D7-4920-ACF0-B97DD2145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C076-B252-418E-A618-BEEEB1E7F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F4570-538B-4A64-834B-2737F85B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4DA9-69FD-4154-9AF0-71386CC3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EEC1-3832-411A-9422-44539F0F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50F3-3FB0-4F0C-852C-5F3DBC48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90C8-37FE-443E-BD77-27FF1158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C18F-1F99-4C5C-9718-6DE7A8A2B3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DE23-DD8B-4F7F-AF11-4672D1FE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8F42-CBCB-45A9-A78A-29D7061D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CA8D-1BEF-4E24-9386-975525E9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5E09-8FF4-4184-B78A-5112C7A2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0324-BD11-4AF1-8B0A-1E020D0B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56D9-60D3-42AA-A4E0-F987D32A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C963-741C-4F6C-ADD4-E4FEBC84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6D80-4FAC-45C4-9EBC-6337B4BB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50BE-DD41-452B-8834-AD48B6BA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F98D-E7D9-43E3-8468-0EF758C1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A6EC-64F2-4423-BF41-9857F724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1B4B-2BB7-430D-AD83-49CD9B9252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45A5-15C4-4D92-BE6C-6AC18D47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4E26-EDB2-4B22-B66B-129EA11B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386E-9B19-4B44-806A-19CC304B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58AD-D0D7-4040-9B5F-F6FDB0E6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E91E2-015C-455C-B29A-ADE3B0CC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1F75-644C-46A8-91D9-31769759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20D0-5F68-4FBE-836E-C9C7145CA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October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805E-D845-4CBC-9D95-88A33892B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November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cal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0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AADD-9586-43F3-A943-C7854581C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7A44-543B-4B90-A5E7-264DADEAC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dt" idx="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nodal.ercot.com/training/courses/index.html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10/11/20101110-M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38320"/>
            <a:ext cx="815328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dal Program Upd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4560" y="38858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echnical Advisory Committ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4 November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ounded Rectangle 20"/>
          <p:cNvSpPr/>
          <p:nvPr/>
        </p:nvSpPr>
        <p:spPr>
          <a:xfrm>
            <a:off x="281160" y="2971800"/>
            <a:ext cx="3276360" cy="3352680"/>
          </a:xfrm>
          <a:custGeom>
            <a:avLst/>
            <a:gdLst>
              <a:gd name="textAreaLeft" fmla="*/ 33480 w 3276360"/>
              <a:gd name="textAreaRight" fmla="*/ 3242880 w 3276360"/>
              <a:gd name="textAreaTop" fmla="*/ 33480 h 3352680"/>
              <a:gd name="textAreaBottom" fmla="*/ 3319200 h 3352680"/>
            </a:gdLst>
            <a:ahLst/>
            <a:rect l="textAreaLeft" t="textAreaTop" r="textAreaRight" b="textAreaBottom"/>
            <a:pathLst>
              <a:path w="21600" h="22103">
                <a:moveTo>
                  <a:pt x="755" y="0"/>
                </a:moveTo>
                <a:arcTo wR="755" hR="755" stAng="16200000" swAng="-5400000"/>
                <a:lnTo>
                  <a:pt x="0" y="21348"/>
                </a:lnTo>
                <a:arcTo wR="755" hR="755" stAng="10800000" swAng="-5400000"/>
                <a:lnTo>
                  <a:pt x="20845" y="22103"/>
                </a:lnTo>
                <a:arcTo wR="755" hR="755" stAng="5400000" swAng="-5400000"/>
                <a:lnTo>
                  <a:pt x="21600" y="755"/>
                </a:lnTo>
                <a:arcTo wR="755" hR="755" stAng="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 Activities /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RAH able to retrieve ACLs from CRR                    system each business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s can post additional collateral until 11/08/2010 for Dec 2010 CRR A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 2010 CRR Model available on 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 2010 Monthly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ction Notice available on MI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ounded Rectangle 31"/>
          <p:cNvSpPr/>
          <p:nvPr/>
        </p:nvSpPr>
        <p:spPr>
          <a:xfrm>
            <a:off x="281160" y="1371600"/>
            <a:ext cx="3251160" cy="1600200"/>
          </a:xfrm>
          <a:prstGeom prst="roundRect">
            <a:avLst>
              <a:gd name="adj" fmla="val 3495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200160" y="1371600"/>
            <a:ext cx="3381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unction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twork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age Schedu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gestion Revenue R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4"/>
          <p:cNvGrpSpPr/>
          <p:nvPr/>
        </p:nvGrpSpPr>
        <p:grpSpPr>
          <a:xfrm>
            <a:off x="264960" y="685800"/>
            <a:ext cx="8650080" cy="685800"/>
            <a:chOff x="264960" y="685800"/>
            <a:chExt cx="8650080" cy="685800"/>
          </a:xfrm>
        </p:grpSpPr>
        <p:sp>
          <p:nvSpPr>
            <p:cNvPr id="180" name="AutoShape 5"/>
            <p:cNvSpPr/>
            <p:nvPr/>
          </p:nvSpPr>
          <p:spPr>
            <a:xfrm>
              <a:off x="26496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6"/>
            <p:cNvSpPr/>
            <p:nvPr/>
          </p:nvSpPr>
          <p:spPr>
            <a:xfrm>
              <a:off x="1310040" y="685800"/>
              <a:ext cx="1337040" cy="685800"/>
            </a:xfrm>
            <a:custGeom>
              <a:avLst/>
              <a:gdLst>
                <a:gd name="textAreaLeft" fmla="*/ 0 w 1337040"/>
                <a:gd name="textAreaRight" fmla="*/ 1337400 w 13370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15" y="0"/>
                  </a:lnTo>
                  <a:lnTo>
                    <a:pt x="21600" y="10800"/>
                  </a:lnTo>
                  <a:lnTo>
                    <a:pt x="16215" y="21600"/>
                  </a:lnTo>
                  <a:lnTo>
                    <a:pt x="0" y="21600"/>
                  </a:lnTo>
                  <a:lnTo>
                    <a:pt x="5385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Ju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7"/>
            <p:cNvSpPr/>
            <p:nvPr/>
          </p:nvSpPr>
          <p:spPr>
            <a:xfrm>
              <a:off x="235512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Ju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340020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444564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549072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2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6535800" y="685800"/>
              <a:ext cx="1337040" cy="685800"/>
            </a:xfrm>
            <a:custGeom>
              <a:avLst/>
              <a:gdLst>
                <a:gd name="textAreaLeft" fmla="*/ 0 w 1337040"/>
                <a:gd name="textAreaRight" fmla="*/ 1337400 w 13370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15" y="0"/>
                  </a:lnTo>
                  <a:lnTo>
                    <a:pt x="21600" y="10800"/>
                  </a:lnTo>
                  <a:lnTo>
                    <a:pt x="16215" y="21600"/>
                  </a:lnTo>
                  <a:lnTo>
                    <a:pt x="0" y="21600"/>
                  </a:lnTo>
                  <a:lnTo>
                    <a:pt x="5385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o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758124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ut-Over Update - Octob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3581280" y="1400040"/>
            <a:ext cx="5410440" cy="492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ey Cut-Over Activities for October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26"/>
              </a:spcBef>
              <a:buClr>
                <a:srgbClr val="4094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40949a"/>
                </a:solidFill>
                <a:latin typeface="Arial"/>
              </a:rPr>
              <a:t>Complete </a:t>
            </a:r>
            <a:r>
              <a:rPr b="1" lang="en-US" sz="1300" spc="-1" strike="noStrike">
                <a:solidFill>
                  <a:srgbClr val="40949a"/>
                </a:solidFill>
                <a:latin typeface="Arial"/>
              </a:rPr>
              <a:t>(10/14-10/19) </a:t>
            </a:r>
            <a:r>
              <a:rPr b="0" lang="en-US" sz="1300" spc="-1" strike="noStrike">
                <a:solidFill>
                  <a:srgbClr val="40949a"/>
                </a:solidFill>
                <a:latin typeface="Arial"/>
              </a:rPr>
              <a:t>CRR:  ERCOT begins accepting  PCRR Nominations for December Monthly Auction  (updat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0/15-11/15)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el:  Network Operations Model  posted to TSP Citrix location and TSPs begin validation 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26"/>
              </a:spcBef>
              <a:buClr>
                <a:srgbClr val="4094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40949a"/>
                </a:solidFill>
                <a:latin typeface="Arial"/>
              </a:rPr>
              <a:t>Complete</a:t>
            </a:r>
            <a:r>
              <a:rPr b="1" lang="en-US" sz="1300" spc="-1" strike="noStrike">
                <a:solidFill>
                  <a:srgbClr val="40949a"/>
                </a:solidFill>
                <a:latin typeface="Arial"/>
              </a:rPr>
              <a:t> (10/26) </a:t>
            </a:r>
            <a:r>
              <a:rPr b="0" lang="en-US" sz="1300" spc="-1" strike="noStrike">
                <a:solidFill>
                  <a:srgbClr val="40949a"/>
                </a:solidFill>
                <a:latin typeface="Arial"/>
              </a:rPr>
              <a:t>CRR: ERCOT shall allocate PCRRs to NOIEs for the 2010 December Monthly Auction and publish to M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26"/>
              </a:spcBef>
              <a:buClr>
                <a:srgbClr val="4094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40949a"/>
                </a:solidFill>
                <a:latin typeface="Arial"/>
              </a:rPr>
              <a:t>Complete (10/26) </a:t>
            </a:r>
            <a:r>
              <a:rPr b="0" i="1" lang="en-US" sz="1300" spc="-1" strike="noStrike">
                <a:solidFill>
                  <a:srgbClr val="40949a"/>
                </a:solidFill>
                <a:latin typeface="Arial"/>
              </a:rPr>
              <a:t>CRR: ERCOT shall post CRR Network Model for the 2010 December Monthly Auction to M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0/28-11/08)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dit:  ERCOT posts ACLs daily for CRR December monthly auction to CR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26"/>
              </a:spcBef>
              <a:buClr>
                <a:srgbClr val="4094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40949a"/>
                </a:solidFill>
                <a:latin typeface="Arial"/>
              </a:rPr>
              <a:t>Complete</a:t>
            </a:r>
            <a:r>
              <a:rPr b="1" lang="en-US" sz="1300" spc="-1" strike="noStrike">
                <a:solidFill>
                  <a:srgbClr val="40949a"/>
                </a:solidFill>
                <a:latin typeface="Arial"/>
              </a:rPr>
              <a:t> (10/29) </a:t>
            </a:r>
            <a:r>
              <a:rPr b="0" lang="en-US" sz="1300" spc="-1" strike="noStrike">
                <a:solidFill>
                  <a:srgbClr val="40949a"/>
                </a:solidFill>
                <a:latin typeface="Arial"/>
              </a:rPr>
              <a:t>CRR:  ERCOT to post December 2010 Monthly Auction Notice to M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ight Arrow 23"/>
          <p:cNvGrpSpPr/>
          <p:nvPr/>
        </p:nvGrpSpPr>
        <p:grpSpPr>
          <a:xfrm>
            <a:off x="3067200" y="1871640"/>
            <a:ext cx="876240" cy="487440"/>
            <a:chOff x="3067200" y="1871640"/>
            <a:chExt cx="876240" cy="487440"/>
          </a:xfrm>
        </p:grpSpPr>
        <p:pic>
          <p:nvPicPr>
            <p:cNvPr id="191" name="Right Arrow 23" descr=""/>
            <p:cNvPicPr/>
            <p:nvPr/>
          </p:nvPicPr>
          <p:blipFill>
            <a:blip r:embed="rId1"/>
            <a:stretch/>
          </p:blipFill>
          <p:spPr>
            <a:xfrm>
              <a:off x="3067200" y="1871640"/>
              <a:ext cx="8762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124080" y="2000160"/>
              <a:ext cx="666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3280" indent="-2332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Right Arrow 24"/>
          <p:cNvGrpSpPr/>
          <p:nvPr/>
        </p:nvGrpSpPr>
        <p:grpSpPr>
          <a:xfrm>
            <a:off x="2987640" y="3243240"/>
            <a:ext cx="878040" cy="487440"/>
            <a:chOff x="2987640" y="3243240"/>
            <a:chExt cx="878040" cy="487440"/>
          </a:xfrm>
        </p:grpSpPr>
        <p:pic>
          <p:nvPicPr>
            <p:cNvPr id="194" name="Right Arrow 24" descr=""/>
            <p:cNvPicPr/>
            <p:nvPr/>
          </p:nvPicPr>
          <p:blipFill>
            <a:blip r:embed="rId2"/>
            <a:stretch/>
          </p:blipFill>
          <p:spPr>
            <a:xfrm>
              <a:off x="2987640" y="3243240"/>
              <a:ext cx="8780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0800000">
              <a:off x="3143160" y="3371400"/>
              <a:ext cx="666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3280" indent="-2332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2"/>
          <p:cNvSpPr/>
          <p:nvPr/>
        </p:nvSpPr>
        <p:spPr>
          <a:xfrm>
            <a:off x="6172200" y="645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ounded Rectangle 20"/>
          <p:cNvSpPr/>
          <p:nvPr/>
        </p:nvSpPr>
        <p:spPr>
          <a:xfrm>
            <a:off x="228600" y="2819520"/>
            <a:ext cx="3276720" cy="3352680"/>
          </a:xfrm>
          <a:custGeom>
            <a:avLst/>
            <a:gdLst>
              <a:gd name="textAreaLeft" fmla="*/ 33480 w 3276720"/>
              <a:gd name="textAreaRight" fmla="*/ 3243240 w 3276720"/>
              <a:gd name="textAreaTop" fmla="*/ 33480 h 3352680"/>
              <a:gd name="textAreaBottom" fmla="*/ 3319200 h 3352680"/>
            </a:gdLst>
            <a:ahLst/>
            <a:rect l="textAreaLeft" t="textAreaTop" r="textAreaRight" b="textAreaBottom"/>
            <a:pathLst>
              <a:path w="21600" h="22101">
                <a:moveTo>
                  <a:pt x="755" y="0"/>
                </a:moveTo>
                <a:arcTo wR="755" hR="755" stAng="16200000" swAng="-5400000"/>
                <a:lnTo>
                  <a:pt x="0" y="21346"/>
                </a:lnTo>
                <a:arcTo wR="755" hR="755" stAng="10800000" swAng="-5400000"/>
                <a:lnTo>
                  <a:pt x="20845" y="22101"/>
                </a:lnTo>
                <a:arcTo wR="755" hR="755" stAng="5400000" swAng="-5400000"/>
                <a:lnTo>
                  <a:pt x="21600" y="755"/>
                </a:lnTo>
                <a:arcTo wR="755" hR="755" stAng="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 Activities /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le Credit Limit is locked for CRRA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R Auction Invoice via the API or M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RAHs can receive postings on M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SEs can begin DAM Bid submission (15 submission ite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checkpoint calls begin to facilitate issues and read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ily Market Conference Bridge starts 11/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ounded Rectangle 31"/>
          <p:cNvSpPr/>
          <p:nvPr/>
        </p:nvSpPr>
        <p:spPr>
          <a:xfrm>
            <a:off x="254160" y="1371600"/>
            <a:ext cx="3251160" cy="1447920"/>
          </a:xfrm>
          <a:prstGeom prst="roundRect">
            <a:avLst>
              <a:gd name="adj" fmla="val 3495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264960" y="1414440"/>
            <a:ext cx="36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unction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tt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gestion Revenue R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rket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264960" y="685800"/>
            <a:ext cx="8650080" cy="685800"/>
            <a:chOff x="264960" y="685800"/>
            <a:chExt cx="8650080" cy="685800"/>
          </a:xfrm>
        </p:grpSpPr>
        <p:sp>
          <p:nvSpPr>
            <p:cNvPr id="202" name="AutoShape 5"/>
            <p:cNvSpPr/>
            <p:nvPr/>
          </p:nvSpPr>
          <p:spPr>
            <a:xfrm>
              <a:off x="26496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6"/>
            <p:cNvSpPr/>
            <p:nvPr/>
          </p:nvSpPr>
          <p:spPr>
            <a:xfrm>
              <a:off x="1310040" y="685800"/>
              <a:ext cx="1337040" cy="685800"/>
            </a:xfrm>
            <a:custGeom>
              <a:avLst/>
              <a:gdLst>
                <a:gd name="textAreaLeft" fmla="*/ 0 w 1337040"/>
                <a:gd name="textAreaRight" fmla="*/ 1337400 w 13370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15" y="0"/>
                  </a:lnTo>
                  <a:lnTo>
                    <a:pt x="21600" y="10800"/>
                  </a:lnTo>
                  <a:lnTo>
                    <a:pt x="16215" y="21600"/>
                  </a:lnTo>
                  <a:lnTo>
                    <a:pt x="0" y="21600"/>
                  </a:lnTo>
                  <a:lnTo>
                    <a:pt x="5385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Ju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7"/>
            <p:cNvSpPr/>
            <p:nvPr/>
          </p:nvSpPr>
          <p:spPr>
            <a:xfrm>
              <a:off x="235512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Ju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8"/>
            <p:cNvSpPr/>
            <p:nvPr/>
          </p:nvSpPr>
          <p:spPr>
            <a:xfrm>
              <a:off x="340020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9"/>
            <p:cNvSpPr/>
            <p:nvPr/>
          </p:nvSpPr>
          <p:spPr>
            <a:xfrm>
              <a:off x="444564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0"/>
            <p:cNvSpPr/>
            <p:nvPr/>
          </p:nvSpPr>
          <p:spPr>
            <a:xfrm>
              <a:off x="549072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1"/>
            <p:cNvSpPr/>
            <p:nvPr/>
          </p:nvSpPr>
          <p:spPr>
            <a:xfrm>
              <a:off x="6535800" y="685800"/>
              <a:ext cx="1337040" cy="685800"/>
            </a:xfrm>
            <a:custGeom>
              <a:avLst/>
              <a:gdLst>
                <a:gd name="textAreaLeft" fmla="*/ 0 w 1337040"/>
                <a:gd name="textAreaRight" fmla="*/ 1337400 w 13370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15" y="0"/>
                  </a:lnTo>
                  <a:lnTo>
                    <a:pt x="21600" y="10800"/>
                  </a:lnTo>
                  <a:lnTo>
                    <a:pt x="16215" y="21600"/>
                  </a:lnTo>
                  <a:lnTo>
                    <a:pt x="0" y="21600"/>
                  </a:lnTo>
                  <a:lnTo>
                    <a:pt x="5385" y="10800"/>
                  </a:lnTo>
                  <a:close/>
                </a:path>
              </a:pathLst>
            </a:custGeom>
            <a:solidFill>
              <a:srgbClr val="2222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o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2"/>
            <p:cNvSpPr/>
            <p:nvPr/>
          </p:nvSpPr>
          <p:spPr>
            <a:xfrm>
              <a:off x="758124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ut-Over Update - Novemb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581280" y="1400040"/>
            <a:ext cx="5410440" cy="4848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ey Cut-Over Activities for November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1/8/2010 12:00pm)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dit: Collateral Posting Deadline (Dec Auctio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1/8/2010 5:00pm)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R:  Credit Lock for Dec CRR Au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1/9/2010 – 11/11/2010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) CRR: December CRR Auction Bid Open/Clo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1/12/2010)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R: December CRR Auction Execu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1/15/2010)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R: December CRR Auction Results publish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1/16/2010)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ttlements: December CRR Auction Invoice publish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1/19/2010)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dit:  Payment Due for December CRR Auction Invo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1/22/2010)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ttlements:  Payments to CRRAH (Dec Auctio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1/23/2010)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rket Submission Opens (Remaining Protocol Go-Liv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1/24/2010)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el:  Network Model Loa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1/29/2010)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dit:  ERCOT to Publish ACL for the initial Day-Ahead Market execution by ERCO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Right Arrow 23"/>
          <p:cNvGrpSpPr/>
          <p:nvPr/>
        </p:nvGrpSpPr>
        <p:grpSpPr>
          <a:xfrm>
            <a:off x="2835360" y="1792440"/>
            <a:ext cx="877680" cy="493560"/>
            <a:chOff x="2835360" y="1792440"/>
            <a:chExt cx="877680" cy="493560"/>
          </a:xfrm>
        </p:grpSpPr>
        <p:pic>
          <p:nvPicPr>
            <p:cNvPr id="213" name="Right Arrow 23" descr=""/>
            <p:cNvPicPr/>
            <p:nvPr/>
          </p:nvPicPr>
          <p:blipFill>
            <a:blip r:embed="rId1"/>
            <a:stretch/>
          </p:blipFill>
          <p:spPr>
            <a:xfrm>
              <a:off x="2835360" y="1792440"/>
              <a:ext cx="87768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2895480" y="1924200"/>
              <a:ext cx="666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3280" indent="-2332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Right Arrow 24"/>
          <p:cNvGrpSpPr/>
          <p:nvPr/>
        </p:nvGrpSpPr>
        <p:grpSpPr>
          <a:xfrm>
            <a:off x="2835360" y="3164040"/>
            <a:ext cx="877680" cy="493560"/>
            <a:chOff x="2835360" y="3164040"/>
            <a:chExt cx="877680" cy="493560"/>
          </a:xfrm>
        </p:grpSpPr>
        <p:pic>
          <p:nvPicPr>
            <p:cNvPr id="216" name="Right Arrow 24" descr=""/>
            <p:cNvPicPr/>
            <p:nvPr/>
          </p:nvPicPr>
          <p:blipFill>
            <a:blip r:embed="rId2"/>
            <a:stretch/>
          </p:blipFill>
          <p:spPr>
            <a:xfrm>
              <a:off x="2835360" y="3164040"/>
              <a:ext cx="87768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0800000">
              <a:off x="2990880" y="3295440"/>
              <a:ext cx="666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3280" indent="-2332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2"/>
          <p:cNvSpPr/>
          <p:nvPr/>
        </p:nvSpPr>
        <p:spPr>
          <a:xfrm>
            <a:off x="6172200" y="645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ounded Rectangle 20"/>
          <p:cNvSpPr/>
          <p:nvPr/>
        </p:nvSpPr>
        <p:spPr>
          <a:xfrm>
            <a:off x="228600" y="2895480"/>
            <a:ext cx="3276720" cy="3276720"/>
          </a:xfrm>
          <a:prstGeom prst="roundRect">
            <a:avLst>
              <a:gd name="adj" fmla="val 349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 Activities /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ily Market Calls continue for issue facil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ment Calendar Extracts (See Emil for full list of posting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receive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odal Invoice for DAM and RTM via M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can submit Disputes via MIS or 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unded Rectangle 31"/>
          <p:cNvSpPr/>
          <p:nvPr/>
        </p:nvSpPr>
        <p:spPr>
          <a:xfrm>
            <a:off x="254160" y="1447920"/>
            <a:ext cx="3251160" cy="1447560"/>
          </a:xfrm>
          <a:prstGeom prst="roundRect">
            <a:avLst>
              <a:gd name="adj" fmla="val 3495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264960" y="1414440"/>
            <a:ext cx="36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unction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twork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tt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gestion Revenue R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rket Managemen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64960" y="685800"/>
            <a:ext cx="8650080" cy="685800"/>
            <a:chOff x="264960" y="685800"/>
            <a:chExt cx="8650080" cy="685800"/>
          </a:xfrm>
        </p:grpSpPr>
        <p:sp>
          <p:nvSpPr>
            <p:cNvPr id="224" name="AutoShape 5"/>
            <p:cNvSpPr/>
            <p:nvPr/>
          </p:nvSpPr>
          <p:spPr>
            <a:xfrm>
              <a:off x="26496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6"/>
            <p:cNvSpPr/>
            <p:nvPr/>
          </p:nvSpPr>
          <p:spPr>
            <a:xfrm>
              <a:off x="1310040" y="685800"/>
              <a:ext cx="1337040" cy="685800"/>
            </a:xfrm>
            <a:custGeom>
              <a:avLst/>
              <a:gdLst>
                <a:gd name="textAreaLeft" fmla="*/ 0 w 1337040"/>
                <a:gd name="textAreaRight" fmla="*/ 1337400 w 13370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15" y="0"/>
                  </a:lnTo>
                  <a:lnTo>
                    <a:pt x="21600" y="10800"/>
                  </a:lnTo>
                  <a:lnTo>
                    <a:pt x="16215" y="21600"/>
                  </a:lnTo>
                  <a:lnTo>
                    <a:pt x="0" y="21600"/>
                  </a:lnTo>
                  <a:lnTo>
                    <a:pt x="5385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Ju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7"/>
            <p:cNvSpPr/>
            <p:nvPr/>
          </p:nvSpPr>
          <p:spPr>
            <a:xfrm>
              <a:off x="235512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Ju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8"/>
            <p:cNvSpPr/>
            <p:nvPr/>
          </p:nvSpPr>
          <p:spPr>
            <a:xfrm>
              <a:off x="340020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9"/>
            <p:cNvSpPr/>
            <p:nvPr/>
          </p:nvSpPr>
          <p:spPr>
            <a:xfrm>
              <a:off x="444564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10"/>
            <p:cNvSpPr/>
            <p:nvPr/>
          </p:nvSpPr>
          <p:spPr>
            <a:xfrm>
              <a:off x="549072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11"/>
            <p:cNvSpPr/>
            <p:nvPr/>
          </p:nvSpPr>
          <p:spPr>
            <a:xfrm>
              <a:off x="6535800" y="685800"/>
              <a:ext cx="1337040" cy="685800"/>
            </a:xfrm>
            <a:custGeom>
              <a:avLst/>
              <a:gdLst>
                <a:gd name="textAreaLeft" fmla="*/ 0 w 1337040"/>
                <a:gd name="textAreaRight" fmla="*/ 1337400 w 13370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15" y="0"/>
                  </a:lnTo>
                  <a:lnTo>
                    <a:pt x="21600" y="10800"/>
                  </a:lnTo>
                  <a:lnTo>
                    <a:pt x="16215" y="21600"/>
                  </a:lnTo>
                  <a:lnTo>
                    <a:pt x="0" y="21600"/>
                  </a:lnTo>
                  <a:lnTo>
                    <a:pt x="5385" y="10800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o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12"/>
            <p:cNvSpPr/>
            <p:nvPr/>
          </p:nvSpPr>
          <p:spPr>
            <a:xfrm>
              <a:off x="7581240" y="685800"/>
              <a:ext cx="1333800" cy="68580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2222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ut-Over Monthly Outlook – Decemb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581280" y="1400040"/>
            <a:ext cx="5410440" cy="4848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ey Cut-Over Activities for December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2/01/10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al Program: Nodal Go-Live (Operating Day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2/3/2010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ments: Nodal Day Ahead Market Statement &amp; Invoice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2/8/20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Credit:  Nodal Payment Due for OD12/0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2/9/2010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:  Nodal Payout for OD12/0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2/15/2010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:  Network Model 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2/13/2010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ments:  Nodal Real-Time Statement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2/16/2010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ments:  Nodal Real-Time Invoice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2/27/20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Credit:  Nodal Payment Due for Real-Time Invoice 12/16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2/28/2010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:  Nodal Payout for Real-Time Invoice 12/16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Right Arrow 23"/>
          <p:cNvGrpSpPr/>
          <p:nvPr/>
        </p:nvGrpSpPr>
        <p:grpSpPr>
          <a:xfrm>
            <a:off x="2914560" y="1792440"/>
            <a:ext cx="876240" cy="493560"/>
            <a:chOff x="2914560" y="1792440"/>
            <a:chExt cx="876240" cy="493560"/>
          </a:xfrm>
        </p:grpSpPr>
        <p:pic>
          <p:nvPicPr>
            <p:cNvPr id="235" name="Right Arrow 23" descr=""/>
            <p:cNvPicPr/>
            <p:nvPr/>
          </p:nvPicPr>
          <p:blipFill>
            <a:blip r:embed="rId1"/>
            <a:stretch/>
          </p:blipFill>
          <p:spPr>
            <a:xfrm>
              <a:off x="2914560" y="1792440"/>
              <a:ext cx="87624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2971800" y="1924200"/>
              <a:ext cx="666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3280" indent="-2332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Right Arrow 24"/>
          <p:cNvGrpSpPr/>
          <p:nvPr/>
        </p:nvGrpSpPr>
        <p:grpSpPr>
          <a:xfrm>
            <a:off x="2835360" y="5376960"/>
            <a:ext cx="877680" cy="487440"/>
            <a:chOff x="2835360" y="5376960"/>
            <a:chExt cx="877680" cy="487440"/>
          </a:xfrm>
        </p:grpSpPr>
        <p:pic>
          <p:nvPicPr>
            <p:cNvPr id="238" name="Right Arrow 24" descr=""/>
            <p:cNvPicPr/>
            <p:nvPr/>
          </p:nvPicPr>
          <p:blipFill>
            <a:blip r:embed="rId2"/>
            <a:stretch/>
          </p:blipFill>
          <p:spPr>
            <a:xfrm>
              <a:off x="2835360" y="5376960"/>
              <a:ext cx="87768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rot="10800000">
              <a:off x="2990880" y="5505120"/>
              <a:ext cx="666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3280" indent="-2332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2"/>
          <p:cNvSpPr/>
          <p:nvPr/>
        </p:nvSpPr>
        <p:spPr>
          <a:xfrm>
            <a:off x="6172200" y="645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nneth Ragsda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incipal Market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380880" y="1905120"/>
            <a:ext cx="842976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4 Hour LFC Test Upd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4 Hour LFC Test (Highlights) – Completion Criteri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547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Initial assessment of Completion Criteria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lling CPS1 one minute average score must equal or exceed 100% during the test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e CPS1 average will not take into account the periods where ERCOT is transitioning to Nodal and then back to Z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e CPS1 average will not take into account the periods where ERCOT is performing system t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urly CPS1 Sco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66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Max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6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Mi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8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verage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l Commercially Significant Constraints (CSCs) and Closely Related Elements (CREs) managed below thermal limits: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Congestion managed below thermal limits :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ility limits managed below transfer limits :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RC Disturbance Control Standard (DCS) failure if applicable: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FC-SCED system issues that result in termination of the test :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4 Hour LFC Test (Highlights) – Observ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80880" y="1066680"/>
          <a:ext cx="8382240" cy="419760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560"/>
              </a:tblGrid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/ W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D Stopp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s 12:05, 12:10, 15: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 occurs when DSR telemetered Output Schedule = 0 MW and RST = OND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 fix targeted for 11/5/2010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ed Desired Base Po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BPs were observed to cease updating for 5 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 related to SCED stoppin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 fix targeted for 11/5/2010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S Alert Issu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volume of EMS alerts seen by MPs, including stale alerts and duplic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Cause under investig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ed parameter updates and purged database at approximately 11:30 AM on 10/27 to clear stale alerts and eliminate duplic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rrect Base Points, LMPs, HUB Prices, Load Zone Pr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impacted 13:15, 18:05, 18:5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 factor transfer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 fix targeted for 11/5/2010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0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4 Hour LFC Test (Highlights) – Observations (continued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80880" y="1066680"/>
          <a:ext cx="8382240" cy="25844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56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/ W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/ Low Pr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oughout peak period of the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outages (common this time of ye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 limit constraints (AS, ONTES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prices are not incentiv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rvative 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 software 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rrect Real-Time Metered Pr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te: this did not impact Base Points or other pric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ng EPS data between 12:00 and 13:30 on 10/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investig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d monitoring of data transfer proce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4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nneth Ragsda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incipal Market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380880" y="1905120"/>
            <a:ext cx="842976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dal Issues &amp; Defect Delivery Upd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fect Summary (slide 1 of 3)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[as of 10-29-10]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6360" y="746280"/>
          <a:ext cx="9107640" cy="5502240"/>
        </p:xfrm>
        <a:graphic>
          <a:graphicData uri="http://schemas.openxmlformats.org/drawingml/2006/table">
            <a:tbl>
              <a:tblPr/>
              <a:tblGrid>
                <a:gridCol w="1868760"/>
                <a:gridCol w="1981080"/>
                <a:gridCol w="1905120"/>
                <a:gridCol w="3352680"/>
              </a:tblGrid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cts to be resolved by Quarter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8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:  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Defects to be resolved by 11/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Defects to be resolved b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1/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Deferred defects require a workaround, all 51 workarounds in place and exerci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6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Defects to be resolved by 11/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 Deferred defects require a workaround, all 129 workarounds in place and exercis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 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Deferred defects require a workaround, all 36 workarounds in place and exercis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7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 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Deferred defects require a workaround, all 12 workarounds in place and exerci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61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fect Summary (slide 2 of 3)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[as of 10-29-10]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6360" y="746280"/>
          <a:ext cx="9107640" cy="5389560"/>
        </p:xfrm>
        <a:graphic>
          <a:graphicData uri="http://schemas.openxmlformats.org/drawingml/2006/table">
            <a:tbl>
              <a:tblPr/>
              <a:tblGrid>
                <a:gridCol w="1868760"/>
                <a:gridCol w="1981080"/>
                <a:gridCol w="1905120"/>
                <a:gridCol w="3352680"/>
              </a:tblGrid>
              <a:tr h="33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cts to be resolved by Quarter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0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Defects to be resolved by 10/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Defects to be resolved b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1/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Defects to be resolved b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Defects to be resolved by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1/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Deferred defects require a workaround, all 3 workarounds in place and exercised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M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: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Deferred defects require a workaround, all 9 workarounds in place and exerci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1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 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 Deferred defects require a workaround, all 40 workarounds in place and exercise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1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 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Deferred defects require a workaround, all 4 workarounds in place and exercise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65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oday’s Agend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1430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over Up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Hour LFC Test Up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al Issue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ect Delivery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oritization Process 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2"/>
          <p:cNvSpPr/>
          <p:nvPr/>
        </p:nvSpPr>
        <p:spPr>
          <a:xfrm>
            <a:off x="6172200" y="645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fect Summary (slide 3 of 3)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[as of 10-29-10]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7000" y="746280"/>
          <a:ext cx="9107640" cy="5425920"/>
        </p:xfrm>
        <a:graphic>
          <a:graphicData uri="http://schemas.openxmlformats.org/drawingml/2006/table">
            <a:tbl>
              <a:tblPr/>
              <a:tblGrid>
                <a:gridCol w="1868400"/>
                <a:gridCol w="1990800"/>
                <a:gridCol w="1895400"/>
                <a:gridCol w="3353040"/>
              </a:tblGrid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cts to be resolved by Quarter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689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 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Defects to be resolved by 11/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Deferred defects require a workaround, all 10 workarounds in place and exercise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89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 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Defects to be resolved by 11/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Deferred defects require a workaround, all  3 workarounds in place and exercise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9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S (EDW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:    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Defects to be resolved by 11/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erred De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one Require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69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ritical Defects to be resolved by Go-Live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12/1/10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219240" y="1152360"/>
            <a:ext cx="8705520" cy="28101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dal Defects Target Completion dates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as of 10/29/10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1174680" y="1143000"/>
            <a:ext cx="6654960" cy="48006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vember Nodal Classes/Workshop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380880" y="57150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llment at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odal.ercot.com/training/courses/index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04920" y="838080"/>
          <a:ext cx="8631000" cy="3154320"/>
        </p:xfrm>
        <a:graphic>
          <a:graphicData uri="http://schemas.openxmlformats.org/drawingml/2006/table">
            <a:tbl>
              <a:tblPr/>
              <a:tblGrid>
                <a:gridCol w="3200400"/>
                <a:gridCol w="1523880"/>
                <a:gridCol w="390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rt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MET Center (Aust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Entity 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ty Power (Flori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ettlements 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CR Auditorium (Aust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Market Workshop for Retail Electric Provi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ni Austin Hotel at Southpar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CR Auditorium (Aust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Nodal 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ez Energy (Houst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Entity 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MET Center (Aust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81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47560" y="1600200"/>
            <a:ext cx="647676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ioritization Process Overview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Rectangle 20"/>
          <p:cNvSpPr/>
          <p:nvPr/>
        </p:nvSpPr>
        <p:spPr>
          <a:xfrm>
            <a:off x="304920" y="297180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roy And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Manager, Enterprise Project Portfoli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04920" y="9903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dal Stabilization will be the primary focus after Go-L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coordinated effort is needed to prioritize and implement future changes to the Nodal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rred Defects will be worked as time allows during Stab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king Deck items need an impact assessment before final prioritization can be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lists of proposed changes have been comp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SE / TSP / DAM Issues li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omac Economics Market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requests will come through existing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s, SCRs, Revision Guide chang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t’s Time to Look Forward to 2011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Footer Placeholder 5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dal Stabilization Timelin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3610080"/>
          </a:xfrm>
          <a:prstGeom prst="rect">
            <a:avLst/>
          </a:prstGeom>
          <a:ln w="0">
            <a:noFill/>
          </a:ln>
        </p:spPr>
      </p:pic>
      <p:sp>
        <p:nvSpPr>
          <p:cNvPr id="291" name="Footer Placeholder 5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04920" y="9140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itial Prioritization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rious issues lists will be centralized and managed by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propose an initial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coordinate stakeholder review of the prioritiz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, COPS, PRS, T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and the Board will be asked to endorse the initial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s or SCRs will need to be submitted for market requests to ensure stakeholder suppor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QSE / TSP / DAM issue lis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going Prioritization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requests are considered through the usua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ion Request sub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Subcommittee consid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C and Board appro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Footer Placeholder 5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04560" y="9903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vember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k approval of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initial prioritization recommen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ecember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 review of prioritized list with stakeholder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ebruary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k TAC/Board approval of initial prioritiz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ioritization Timelin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380880" y="3691080"/>
            <a:ext cx="1676520" cy="1752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2057400" y="3691080"/>
            <a:ext cx="1676520" cy="1752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3733920" y="3691080"/>
            <a:ext cx="1676160" cy="1752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5410080" y="3691080"/>
            <a:ext cx="1676520" cy="1752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7086600" y="3691080"/>
            <a:ext cx="1676520" cy="1752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2057400" y="4191120"/>
            <a:ext cx="6705720" cy="228600"/>
          </a:xfrm>
          <a:prstGeom prst="rect">
            <a:avLst/>
          </a:prstGeom>
          <a:solidFill>
            <a:srgbClr val="ff99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al Stabiliz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7"/>
          <p:cNvSpPr/>
          <p:nvPr/>
        </p:nvSpPr>
        <p:spPr>
          <a:xfrm>
            <a:off x="533520" y="4521240"/>
            <a:ext cx="3352680" cy="228600"/>
          </a:xfrm>
          <a:prstGeom prst="rect">
            <a:avLst/>
          </a:prstGeom>
          <a:solidFill>
            <a:srgbClr val="99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l Prioritizatio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2286000" y="4859280"/>
            <a:ext cx="3124080" cy="228600"/>
          </a:xfrm>
          <a:prstGeom prst="rect">
            <a:avLst/>
          </a:prstGeom>
          <a:solidFill>
            <a:srgbClr val="00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Assessment of Parking Deck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Straight Arrow Connector 13"/>
          <p:cNvCxnSpPr/>
          <p:nvPr/>
        </p:nvCxnSpPr>
        <p:spPr>
          <a:xfrm>
            <a:off x="8628120" y="4317480"/>
            <a:ext cx="30384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8" name="Rectangle 20"/>
          <p:cNvSpPr/>
          <p:nvPr/>
        </p:nvSpPr>
        <p:spPr>
          <a:xfrm>
            <a:off x="380880" y="4191120"/>
            <a:ext cx="167652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8"/>
          <p:cNvSpPr/>
          <p:nvPr/>
        </p:nvSpPr>
        <p:spPr>
          <a:xfrm>
            <a:off x="6400800" y="4521240"/>
            <a:ext cx="2362320" cy="228600"/>
          </a:xfrm>
          <a:prstGeom prst="rect">
            <a:avLst/>
          </a:prstGeom>
          <a:solidFill>
            <a:srgbClr val="99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going Prioritiza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Straight Arrow Connector 29"/>
          <p:cNvCxnSpPr/>
          <p:nvPr/>
        </p:nvCxnSpPr>
        <p:spPr>
          <a:xfrm>
            <a:off x="8636040" y="4638240"/>
            <a:ext cx="30384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5-Point Star 30"/>
          <p:cNvSpPr/>
          <p:nvPr/>
        </p:nvSpPr>
        <p:spPr>
          <a:xfrm>
            <a:off x="5486400" y="520704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5-Point Star 31"/>
          <p:cNvSpPr/>
          <p:nvPr/>
        </p:nvSpPr>
        <p:spPr>
          <a:xfrm>
            <a:off x="6248520" y="520704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32"/>
          <p:cNvSpPr/>
          <p:nvPr/>
        </p:nvSpPr>
        <p:spPr>
          <a:xfrm>
            <a:off x="5148360" y="54309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C Conside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33"/>
          <p:cNvSpPr/>
          <p:nvPr/>
        </p:nvSpPr>
        <p:spPr>
          <a:xfrm>
            <a:off x="5910120" y="543564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 Conside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ooter Placeholder 5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2"/>
          <p:cNvSpPr/>
          <p:nvPr/>
        </p:nvSpPr>
        <p:spPr>
          <a:xfrm>
            <a:off x="6172200" y="645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tegrated Nodal Timelin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rcRect l="0" t="3155" r="0" b="0"/>
          <a:stretch/>
        </p:blipFill>
        <p:spPr>
          <a:xfrm>
            <a:off x="298440" y="816120"/>
            <a:ext cx="854712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tegrated Nodal Timeline – Go-Live December 1, 2010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Footer Placeholder 2"/>
          <p:cNvSpPr/>
          <p:nvPr/>
        </p:nvSpPr>
        <p:spPr>
          <a:xfrm>
            <a:off x="6172200" y="645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CutOver-byApp_10-28.jpg"/>
          <p:cNvPicPr/>
          <p:nvPr/>
        </p:nvPicPr>
        <p:blipFill>
          <a:blip r:embed="rId1"/>
          <a:stretch/>
        </p:blipFill>
        <p:spPr>
          <a:xfrm>
            <a:off x="0" y="546120"/>
            <a:ext cx="91440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26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Days to Go-L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Footer Placeholder 5"/>
          <p:cNvSpPr/>
          <p:nvPr/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0" y="685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Trials has Con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1066680"/>
            <a:ext cx="87631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t">
            <a:noAutofit/>
          </a:bodyPr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Upcoming Milestones: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Frequency Control(LFC)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FC test is scheduled for the week of November 8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support of the Soft Launch, the next LFC test will occur on 11/28/2010 and become binding with Go-L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T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tober 30, 2010:  ERCOT concluded the October testing windo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/18 – 10/30 Day Ahead Market, DRUC and HRUC tested da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/18 – 10/30 SCED published LMPs and base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/25 – 10/29 Focused input from the Market (e.g. realistic COPs, telemetry, offers and bi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/27 – 10/28 24-Hour LFC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ember 15, 2010 - November 29, 2010 Go-Live Soft Laun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that ERCOT has updated the start of the Soft Launch to 11/15 (previously 11/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 Launch will include a ramp into Go-Live bringing systems online, but non-binding over the stated 2-week 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minder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8380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Readiness Seminar 11/10/2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before Go-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held on Wednesday 11/10/2010 3pm – 5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Ex / Details po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alendar/2010/11/20101110-M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s to be cove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over, Go-Live and 30 Days an Stabi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ion and Market Call Sche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sue Management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2"/>
          <p:cNvSpPr/>
          <p:nvPr/>
        </p:nvSpPr>
        <p:spPr>
          <a:xfrm>
            <a:off x="6172200" y="645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ut-Over Monthly Outlook – Go-Live Sequence of Eve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762120"/>
          <a:ext cx="8610480" cy="541008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453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216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5/2010 – 11/29/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Initiates “Soft Launch” to Nodal Market Go-L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will run non-binding DAM, RUC daily per Nodal protocol timelines.  RTM will remain Open Loop, but continue to publish base points and LMPs.  Note that credit will be set high on 11/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55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5/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 posts ACLs and TPEs for non-binding DA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Operating Day 11/15 credit will be manually set to high lim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53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6/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redit Operating Day 11/16/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 reflects actual lim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1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7/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now able to submit transactions for first Nodal Operating Day (T-14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01/2010 Operating now available for Market submi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34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3/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SEs with Resources required to submit 7 days of rolling CO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01/2010 required on 11/23/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1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8/2010 2:00 PM – 11/28/2010 3:00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and Frequency Control switched to Nodal systems for final LFC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SEs will begin following Nodal base po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lements will continue to be Z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34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8/2010 2:00 PM – 11/30/2010  11:59: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SEs remain on Nodal Control while settling Zonally during the LFC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34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9/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 Non- Binding DAM for operating day 11/30/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65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2"/>
          <p:cNvSpPr/>
          <p:nvPr/>
        </p:nvSpPr>
        <p:spPr>
          <a:xfrm>
            <a:off x="6172200" y="645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ut-Over Monthly Outlook – Go-Live Sequence of Eve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09480" y="1219320"/>
          <a:ext cx="7925040" cy="407988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10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s and Offer sub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SE submit bids and off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 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e Dam Clearing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 DAM resul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 Ahead results posted to M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:30-14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t Post DAM COP upd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 for RU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 Execution of DRU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 DRUC Resul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 DRUC Resul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UC Begins Hourly Run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69" name=""/>
          <p:cNvSpPr txBox="1"/>
          <p:nvPr/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1/30/2010 Go-Live Sequenc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2"/>
          <p:cNvSpPr/>
          <p:nvPr/>
        </p:nvSpPr>
        <p:spPr>
          <a:xfrm>
            <a:off x="6172200" y="645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ut-Over Monthly Outlook – Go-Live Sequence of Eve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Key Zonal Notes for 11/30/2010 and 12/01/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QSEs will maint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lancing Energy Offers through Operating Day 12/01/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mitted on 11/30 for OD 12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Plans through Operating Day 12/01/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ed continuously through 12/01 to reflect actual Resourc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nal Outages effective on Operating Day 12/01/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: Actual Start / End, Forced Outages,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n 11/30/2010 ERCOT will ru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nal Ancillary Service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nal awards will be publ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nal RP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as a study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nal commitments will not be publ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Zonal prices will not be generated for 12/01/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o Zonal Submissions or Markets for Operating Day 12/02/2010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ote that all Zonal systems (ERCOT and MP) must remain in place until 1/1/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2"/>
          <p:cNvSpPr/>
          <p:nvPr/>
        </p:nvSpPr>
        <p:spPr>
          <a:xfrm>
            <a:off x="6172200" y="645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dberninger</cp:lastModifiedBy>
  <dcterms:modified xsi:type="dcterms:W3CDTF">2010-11-03T20:59:01Z</dcterms:modified>
  <cp:revision>912</cp:revision>
  <dc:subject/>
  <dc:title>Instructions</dc:title>
</cp:coreProperties>
</file>