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818-9A11-4D58-8F2E-7DC5F18E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85F-8135-462A-974D-E84CB76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441-9006-4536-B9E7-12B85030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BB-6E57-4F4F-9A93-0CCDA74A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149-896D-4C3C-A00E-5FFB295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A80-3C24-40FA-8BE0-A37ACBFD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D33-1239-4C12-A8F8-1CA9A56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CA8-9AAC-4772-897C-FD199CD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F75-80BC-496F-8ECB-F0B87F8C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D04-2625-4876-A43A-5A9553F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17B-C220-40E7-AC02-C0BC246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C1B-8AE3-46D9-950D-83C747F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842-20C2-4EA2-A770-AD8E0E97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5960" y="2354040"/>
            <a:ext cx="7758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Generation (DG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file Segment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pArt"/>
          <p:cNvPicPr/>
          <p:nvPr/>
        </p:nvPicPr>
        <p:blipFill>
          <a:blip r:embed="rId1"/>
          <a:stretch/>
        </p:blipFill>
        <p:spPr>
          <a:xfrm>
            <a:off x="6070680" y="4119480"/>
            <a:ext cx="17668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160" y="1440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880" y="1009800"/>
            <a:ext cx="8372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208 changes registration requirements for non-renewable distributed generation less than or equal to one MW; includes gray-box section for settlement of energy exported to the grid by non-PV and non-wind distributed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ject will be created to make system changes to implement NPRR208 gray-box languag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eveloped DG Load Profile Segment assignments and Profile Models (same as respective ‘standard’ models) to be applied to ESI IDs with non-PV and non-wind distributed gen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oad Profiles require a market notice of at least 150 days prior to their implement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C75-F576-4485-93B2-21EAFDB8BE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ipated DG Profile Segmen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" y="1123920"/>
            <a:ext cx="795024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GRR Normal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by – October 21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review – October 27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A Review – December 9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Review – Jan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– Feb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-Day Market Notice Announcing DG Profile Segments:  T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termined at a later time, as it is dependent on completion of a project that has not yet sta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begin posting forecasted load profiles three days before the implementation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begin posting backcasted load profiles one day after the implementation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A69-8E09-4CF4-90F8-C09603FB1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5920" y="1239840"/>
            <a:ext cx="821988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the 150-day market notice is published, TDSPs may begin sending documentation to ERCOT initiating a DG Profile Segment assignment reque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will accumulate and validate DG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five business days after the implementation date, ERCOT will send files of validated change requests to TDSPs for dis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TDSPs receive validated change requests from ERCOT, they may submit 814_20 transactions changing to DG Profile Segments with an effective date of a meter reading on or after the implementation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84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G Profile Segment Assignment Tran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E3A-AE3D-4FA4-889A-9E8FA7B4F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PWG</cp:lastModifiedBy>
  <cp:lastPrinted>2002-05-17T20:57:43Z</cp:lastPrinted>
  <dcterms:modified xsi:type="dcterms:W3CDTF">2010-10-20T16:45:46Z</dcterms:modified>
  <cp:revision>331</cp:revision>
  <dc:subject/>
  <dc:title>Retail Transactions Report</dc:title>
</cp:coreProperties>
</file>