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005638" cy="9248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05600" cy="924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6684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90160" y="693360"/>
            <a:ext cx="4622760" cy="346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0200" y="4392720"/>
            <a:ext cx="5603760" cy="4160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78328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66840" y="878328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546D4F-C34D-4AF1-8D92-65464D9D9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67200" y="878364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4ACCC2-344C-4768-8A64-380D13A8E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9052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0200" y="4392720"/>
            <a:ext cx="56037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67200" y="878364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080C07-5C08-4386-84FC-30EEA8979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9052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0200" y="4392720"/>
            <a:ext cx="56037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67200" y="878364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ABCF984-F8FA-4519-946C-00D3B5C06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052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0200" y="4392720"/>
            <a:ext cx="56037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384A-4F94-4CAA-953F-BA03086B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C9D-BBB7-4A8D-B1DA-3DE71AB4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364-99B0-4C2E-B6E2-DAA7F5F7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F6D-4051-49F8-B19B-BCE3C630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77CE-3683-45FE-AB07-95A1F77C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0753-3558-46E9-AA90-025D94C7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79AB-A07D-4141-8FC5-44F380D7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31DD-895B-4C99-B568-6B3C2DF7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6084-E43D-497B-B397-3126D84D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B432-84EE-4ABE-A10F-611B2678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E92F-A034-4A27-96F7-E4C280CE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0C5-C252-4CA9-8644-5831E0C9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A24A-FA2E-4D4D-980B-AAAAF47E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D293-4738-4633-99DC-E8A7D8BC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7274-61C9-49CA-8ECC-454D2B17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37A7-66ED-48A7-8AFB-31484B6D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CD3B-FC4B-4DC4-A44A-D8154EE9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703B-2E8E-466C-B25C-D8ACD6CE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C9D-AF7D-4EB4-A2D8-572E64F4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555-3BC6-4FFC-B60B-6D19A88A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DD6-1873-4D59-81DE-E528D3C1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2F4-FC1D-4BDA-8D55-3367A2E7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D99-2E17-4B0D-B5D8-866CB26E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8D6-44FE-4B87-8381-0C720112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ctober 7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escent Power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9860-31E3-4F0F-8D8F-20A1CED893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ctober 7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escent Power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537E-C833-4AB1-9156-3D40B566A3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ams@crescentpower.net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M &amp; A Parameters for the CRR Auction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ms Siddiqi, Ph.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scent Power, In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shams@crescentpower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l. (512) 263-065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ctober 7,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ctober 7, 201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rescent Power,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C377-4EC1-45C8-A3DB-F981D9200E2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RR Credit Constrai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goal in setting M &amp; A is to ensure adequate CRR credit requirement such that auction awards don’t result in collateral calls from FCE calculations immediately following CRR Auction clea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ensus on changing “M” from 1 to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much benefit to setting “A” less than “X” (=1) since this additional collateral required immediately after CRR Auction clearing – downside is increased default ri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827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1"/>
          <p:cNvSpPr/>
          <p:nvPr/>
        </p:nvSpPr>
        <p:spPr>
          <a:xfrm rot="5400000">
            <a:off x="1218960" y="1371600"/>
            <a:ext cx="304920" cy="167616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4572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3466800" y="952200"/>
            <a:ext cx="304920" cy="2514600"/>
          </a:xfrm>
          <a:custGeom>
            <a:avLst/>
            <a:gdLst>
              <a:gd name="textAreaLeft" fmla="*/ 0 w 304920"/>
              <a:gd name="textAreaRight" fmla="*/ 11016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4572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13"/>
          <p:cNvSpPr/>
          <p:nvPr/>
        </p:nvSpPr>
        <p:spPr>
          <a:xfrm rot="5400000">
            <a:off x="6248160" y="914400"/>
            <a:ext cx="304920" cy="2590560"/>
          </a:xfrm>
          <a:custGeom>
            <a:avLst/>
            <a:gdLst>
              <a:gd name="textAreaLeft" fmla="*/ 0 w 304920"/>
              <a:gd name="textAreaRight" fmla="*/ 110160 w 304920"/>
              <a:gd name="textAreaTop" fmla="*/ 95040 h 2590560"/>
              <a:gd name="textAreaBottom" fmla="*/ 249552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71"/>
                  <a:pt x="10800" y="2541"/>
                </a:cubicBezTo>
                <a:lnTo>
                  <a:pt x="10800" y="8259"/>
                </a:lnTo>
                <a:cubicBezTo>
                  <a:pt x="10800" y="9530"/>
                  <a:pt x="16200" y="10800"/>
                  <a:pt x="21600" y="10800"/>
                </a:cubicBezTo>
                <a:cubicBezTo>
                  <a:pt x="16200" y="10800"/>
                  <a:pt x="10800" y="12071"/>
                  <a:pt x="10800" y="13341"/>
                </a:cubicBezTo>
                <a:lnTo>
                  <a:pt x="10800" y="19059"/>
                </a:lnTo>
                <a:cubicBezTo>
                  <a:pt x="10800" y="2033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4572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380880" y="25146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4572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R Option Bi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2857680" y="2514600"/>
            <a:ext cx="194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4572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R Off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2514600"/>
            <a:ext cx="266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4572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R Obligation Bi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2514600" y="28195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re: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M +1,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η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ctober 7, 201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rescent Power,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39F8-537E-44F1-A67F-67F4547A306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uture Credit Expos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unter-Party’s Future Credit Exposure (FCE) for all PTP Obligation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CEOBL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x (ACPEOBL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, - FMMOBL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r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PEOBL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(ACPE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(j,k)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 OBLMW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(j,k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MMOBL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= [(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 AC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(j, k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+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* TOBL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(j, k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+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* FDOBL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(j,k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+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* PMOBL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(j, k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* OBLM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Verdana"/>
              </a:rPr>
              <a:t>(j, k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PE = if ACP &gt; Y, then Y * X / AC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Y &gt; ACP &gt; 0, then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ACP &lt; Y, then X + |ACP|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re ACP = PTP Obligation Auction Clearing Pri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 = $1/MW and Y = $1.5/M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us, FCEOBL is at least $1/MW and could be significantly larger based on FMMOBL for all ACP &lt; $1.5/MW (for large values of ACP, ACPE becomes insignificant compared to the collateral required to pay for the AC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11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ctober 7, 201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rescent Power,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8C3F-8959-402A-9BAE-8DCB8021D9F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asons to set “A” ≥ 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“A” ≥ $1/MW is less likely to result in credit shortfall immediately after auction (covers ACPE but may not fully cover FMMOBL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“A” &lt; $1/MW is more likely to result in credit shortfall after auction (may not even cover ACP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much benefit to setting “A” &lt; $1/MW since this additional collateral is required immediately after CRR Auction clea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wnside to setting “A” &lt; $1/MW is increased risk of defaul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” value of $1.5/MW (as currently set by TAC) allows for coverage for ACPE and some amount to cover FMMOB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1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21:38:03Z</dcterms:created>
  <dc:creator>ssiddiqi</dc:creator>
  <dc:description/>
  <dc:language>en-US</dc:language>
  <cp:lastModifiedBy>Shams Siddiqi</cp:lastModifiedBy>
  <dcterms:modified xsi:type="dcterms:W3CDTF">2010-10-07T16:09:45Z</dcterms:modified>
  <cp:revision>274</cp:revision>
  <dc:subject/>
  <dc:title>Locational Marginal Pricing: The Texas Nodal Market</dc:title>
</cp:coreProperties>
</file>