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5E0-3FB8-44AE-A968-EBC074E3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4475-D3F8-4FC2-94F4-66543A3E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ACE-53F7-4FAC-B8B8-8C9082E4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9716-AB94-4D6A-905E-BFB8E9FA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93A2-182F-42E4-AF91-352AE751C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F661-073A-43BA-A946-DCC0F20F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9580-C29C-4287-9BF4-B0B10088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E196-B2AC-407D-A8F4-96DAE895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D44B-EFF9-419E-AE2E-D95DD068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2021-F14E-4D81-8291-B70AF1C5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A2FD-E428-4695-815B-970D3EF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0F43-0623-4B85-88D4-427C37F4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4398-4059-4C20-A326-CA7F0C71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5463-A521-4B9C-BB4B-83B3DE7C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DF22-C0FE-44C3-9521-8DF3E618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43D1-0558-4D07-8222-837E112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611C-F8FE-4DAA-B97C-676B854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82BB-140D-46C2-BF69-CE571338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EBA1-64B9-4D8B-A5B5-99C86F57E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955E-05E7-4646-8025-C56AD6BF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o finalizing the next release of TEXAS SET (4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up of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Advanced Meter Processing TF: Sunse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Advanced Reads &amp; Settlements 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eployment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251,8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70,6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,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Total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895,6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BCA4-A68D-4982-8A3B-6A40A358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GRRR089, Revisions for Texas Nodal Market Implementation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219320"/>
          <a:ext cx="8153640" cy="4838760"/>
        </p:xfrm>
        <a:graphic>
          <a:graphicData uri="http://schemas.openxmlformats.org/drawingml/2006/table">
            <a:tbl>
              <a:tblPr/>
              <a:tblGrid>
                <a:gridCol w="2230560"/>
                <a:gridCol w="1492200"/>
                <a:gridCol w="443088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revises the RMG in anticipation of Texas Nodal Market implementation.  This RMGRR also proposes general clean-up of the RM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8/11/10, RMS unanimously voted to recommend approval of RMGRR089 as revised by RMS.  All Market Segments were present for the vot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RCOT CEO has determined that RMGRR089 is necessary prior to the Texas Nodal Market Implementation Date (i.e., Nodal Go-Live).  The ERCOT CEO has the right to reevaluate the RMGRR if there are any changes during the stakeholder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8088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GRR086, Submission of Distributed Generation Data for Advanced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GRR090, Revisions for Texas Nodal Market Implementation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219320"/>
          <a:ext cx="8153640" cy="4867200"/>
        </p:xfrm>
        <a:graphic>
          <a:graphicData uri="http://schemas.openxmlformats.org/drawingml/2006/table">
            <a:tbl>
              <a:tblPr/>
              <a:tblGrid>
                <a:gridCol w="2230560"/>
                <a:gridCol w="1492200"/>
                <a:gridCol w="443088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revises the RMG in anticipation of Texas Nodal Market implementation.  This RMGRR also proposes general clean-up of the RM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8/11/10 RMS Report as amended by the 9/8/10 ERCOT comments and as revised by RMS, and the Impact Analysis for RMGRR090 to TA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RCOT CEO has determined that RMGRR090 is necessary prior to the Texas Nodal Market Implementation Date (i.e., Nodal Go-Live).  The ERCOT CEO has the right to reevaluate the RMGRR if there are any changes during the stakeholder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8088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GRR088, Updates to the IDR Meter Installation and Remov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0-10-04T19:16:05Z</dcterms:modified>
  <cp:revision>87</cp:revision>
  <dc:subject/>
  <dc:title>Instructions</dc:title>
</cp:coreProperties>
</file>