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512D-6AAD-458F-AC1C-BE60CD14D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0025-9278-40A2-8C28-27728418D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3A9B-E183-4A6A-89C7-4272864B8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6A81-6644-41C7-AFB9-AF4E9BE2F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EF39-9E7D-41E3-980C-0E164225B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BF80-26D4-41CE-840F-39CCA5197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495FA-D63E-4809-B335-4CB7F4EC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09327-731D-45A3-96A8-54254AC3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25235-AFBC-404F-B197-9471A08C9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6576E-04C2-4AC4-B7BE-AD5CE8E1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B64D-E3D4-42F5-9630-27FEDEF5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048AB-8B21-44B2-B7F0-B80D8BE8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79B93-6A4B-4AE8-B167-5D4C7FC1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AA950-7700-4AF5-BD8D-D96C830F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A272F-506D-4762-9C4E-4DACABD7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7BC18-5100-46AB-A8B8-D4C27F6F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A1B4-01BD-4A09-BC4A-7904201A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13738-039F-41EB-9E2E-C90B5C82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F4DD-47DE-4FF3-8C8A-F911B8A3F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BC5F-232D-4B74-83ED-B5EC37250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/7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MS Upd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yle Patr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MS Updat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AS 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to finalizing the next release of TEXAS SET (4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S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CT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for meter tamp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es for ESI ID transition between CRs due to acqui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n up of ex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ail Advanced Meter Processing TF: Sunset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CT AMIT 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S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ouraging engagement from 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pting action items from A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Advanced Reads &amp; Settlements T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Deployment 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c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,251,8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P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70,6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EP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3,1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Total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,895,6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2B1F-60E1-4832-9FAC-71B53FF01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MGRRR089, Revisions for Texas Nodal Market Implementation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880" y="1219320"/>
          <a:ext cx="8153640" cy="4838760"/>
        </p:xfrm>
        <a:graphic>
          <a:graphicData uri="http://schemas.openxmlformats.org/drawingml/2006/table">
            <a:tbl>
              <a:tblPr/>
              <a:tblGrid>
                <a:gridCol w="2230560"/>
                <a:gridCol w="1492200"/>
                <a:gridCol w="4430880"/>
              </a:tblGrid>
              <a:tr h="76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Retail Market Guide Revision Request (RMGRR) revises the RMG in anticipation of Texas Nodal Market implementation.  This RMGRR also proposes general clean-up of the RMG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mp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ubcommittee Acronym) V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8/11/10, RMS unanimously voted to recommend approval of RMGRR089 as revised by RMS.  All Market Segments were present for the vote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O Determin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RCOT CEO has determined that RMGRR089 is necessary prior to the Texas Nodal Market Implementation Date (i.e., Nodal Go-Live).  The ERCOT CEO has the right to reevaluate the RMGRR if there are any changes during the stakeholder proces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/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762120" y="1600200"/>
            <a:ext cx="7619760" cy="419112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289548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38862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48006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849960" y="207000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em Revie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5552640" y="199404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978640" y="1944720"/>
            <a:ext cx="82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762120" y="5181480"/>
            <a:ext cx="2103480" cy="5806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844560" y="26258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846000" y="315900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794880" y="368136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796680" y="42260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794880" y="47592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3888000" y="19447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4"/>
          <p:cNvSpPr/>
          <p:nvPr/>
        </p:nvSpPr>
        <p:spPr>
          <a:xfrm>
            <a:off x="3200400" y="31240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6"/>
          <p:cNvSpPr/>
          <p:nvPr/>
        </p:nvSpPr>
        <p:spPr>
          <a:xfrm>
            <a:off x="3200400" y="41911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8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9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0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80880" y="30492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GRR086, Submission of Distributed Generation Data for Advanced 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6"/>
          <p:cNvSpPr/>
          <p:nvPr/>
        </p:nvSpPr>
        <p:spPr>
          <a:xfrm>
            <a:off x="3200400" y="47242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6"/>
          <p:cNvSpPr/>
          <p:nvPr/>
        </p:nvSpPr>
        <p:spPr>
          <a:xfrm>
            <a:off x="3200400" y="36576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6"/>
          <p:cNvSpPr/>
          <p:nvPr/>
        </p:nvSpPr>
        <p:spPr>
          <a:xfrm>
            <a:off x="3200400" y="25909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MGRR090, Revisions for Texas Nodal Market Implementation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80880" y="1219320"/>
          <a:ext cx="8153640" cy="4867200"/>
        </p:xfrm>
        <a:graphic>
          <a:graphicData uri="http://schemas.openxmlformats.org/drawingml/2006/table">
            <a:tbl>
              <a:tblPr/>
              <a:tblGrid>
                <a:gridCol w="2230560"/>
                <a:gridCol w="1492200"/>
                <a:gridCol w="4430880"/>
              </a:tblGrid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Retail Market Guide Revision Request (RMGRR) revises the RMG in anticipation of Texas Nodal Market implementation.  This RMGRR also proposes general clean-up of the RMG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mp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ubcommittee Acronym) V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ndorse and forward the 8/11/10 RMS Report as amended by the 9/8/10 ERCOT comments and as revised by RMS, and the Impact Analysis for RMGRR090 to TAC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O Determin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ERCOT CEO has determined that RMGRR090 is necessary prior to the Texas Nodal Market Implementation Date (i.e., Nodal Go-Live).  The ERCOT CEO has the right to reevaluate the RMGRR if there are any changes during the stakeholder proces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/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762120" y="1600200"/>
            <a:ext cx="7619760" cy="419112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289548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38862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48006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849960" y="207000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em Revie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5552640" y="199404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2978640" y="1944720"/>
            <a:ext cx="82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2120" y="5181480"/>
            <a:ext cx="2103480" cy="5806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844560" y="26258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846000" y="315900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794880" y="368136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796680" y="42260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794880" y="47592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3888000" y="19447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>
            <a:off x="3200400" y="31240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6"/>
          <p:cNvSpPr/>
          <p:nvPr/>
        </p:nvSpPr>
        <p:spPr>
          <a:xfrm>
            <a:off x="3200400" y="41911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8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9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0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80880" y="30492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GRR088, Updates to the IDR Meter Installation and Removal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6"/>
          <p:cNvSpPr/>
          <p:nvPr/>
        </p:nvSpPr>
        <p:spPr>
          <a:xfrm>
            <a:off x="3200400" y="47242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6"/>
          <p:cNvSpPr/>
          <p:nvPr/>
        </p:nvSpPr>
        <p:spPr>
          <a:xfrm>
            <a:off x="3200400" y="36576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6"/>
          <p:cNvSpPr/>
          <p:nvPr/>
        </p:nvSpPr>
        <p:spPr>
          <a:xfrm>
            <a:off x="3200400" y="25909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kpatrick</cp:lastModifiedBy>
  <dcterms:modified xsi:type="dcterms:W3CDTF">2010-10-04T19:16:05Z</dcterms:modified>
  <cp:revision>87</cp:revision>
  <dc:subject/>
  <dc:title>Instructions</dc:title>
</cp:coreProperties>
</file>