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189788"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5"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59"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68"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2"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6"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7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84"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nodal.ercot.c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0D328260-E1BF-49E1-BA40-E5FC584A789A}"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logo"/>
          <p:cNvPicPr/>
          <p:nvPr/>
        </p:nvPicPr>
        <p:blipFill>
          <a:blip r:embed="rId2"/>
          <a:stretch/>
        </p:blipFill>
        <p:spPr>
          <a:xfrm>
            <a:off x="152280" y="6351480"/>
            <a:ext cx="727200" cy="392400"/>
          </a:xfrm>
          <a:prstGeom prst="rect">
            <a:avLst/>
          </a:prstGeom>
          <a:ln w="0">
            <a:noFill/>
          </a:ln>
        </p:spPr>
      </p:pic>
      <p:sp>
        <p:nvSpPr>
          <p:cNvPr id="6"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8" descr="logo"/>
          <p:cNvPicPr/>
          <p:nvPr/>
        </p:nvPicPr>
        <p:blipFill>
          <a:blip r:embed="rId2"/>
          <a:stretch/>
        </p:blipFill>
        <p:spPr>
          <a:xfrm>
            <a:off x="152280" y="6351480"/>
            <a:ext cx="727200" cy="392400"/>
          </a:xfrm>
          <a:prstGeom prst="rect">
            <a:avLst/>
          </a:prstGeom>
          <a:ln w="0">
            <a:noFill/>
          </a:ln>
        </p:spPr>
      </p:pic>
      <p:sp>
        <p:nvSpPr>
          <p:cNvPr id="48"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53" name="PlaceHolder 3"/>
          <p:cNvSpPr>
            <a:spLocks noGrp="1"/>
          </p:cNvSpPr>
          <p:nvPr>
            <p:ph type="ftr" idx="2"/>
          </p:nvPr>
        </p:nvSpPr>
        <p:spPr>
          <a:xfrm>
            <a:off x="1143000" y="6432480"/>
            <a:ext cx="7835760" cy="425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nodal.ercot.c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1C62C685-ABD4-449C-BB50-58370EE1E8AF}"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odal.ercot.com/readiness/markettrials/coms/index.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1295280" y="6432480"/>
            <a:ext cx="73915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B3311AA-3C81-4FA8-8480-719164ED536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Aggregation and Market Extracts</a:t>
            </a:r>
            <a:endParaRPr b="0" lang="en-US" sz="4000" spc="-1" strike="noStrike">
              <a:solidFill>
                <a:srgbClr val="ffffff"/>
              </a:solidFill>
              <a:latin typeface="Arial Black"/>
            </a:endParaRPr>
          </a:p>
        </p:txBody>
      </p:sp>
      <p:sp>
        <p:nvSpPr>
          <p:cNvPr id="92" name="PlaceHolder 2"/>
          <p:cNvSpPr>
            <a:spLocks noGrp="1"/>
          </p:cNvSpPr>
          <p:nvPr>
            <p:ph type="subTitle"/>
          </p:nvPr>
        </p:nvSpPr>
        <p:spPr>
          <a:xfrm>
            <a:off x="1371600" y="3886200"/>
            <a:ext cx="6400800" cy="3808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System Data and Load Cut Validation</a:t>
            </a:r>
            <a:endParaRPr b="1" lang="en-US" sz="2000" spc="-1" strike="noStrike">
              <a:solidFill>
                <a:srgbClr val="000000"/>
              </a:solidFill>
              <a:latin typeface="Arial"/>
            </a:endParaRPr>
          </a:p>
        </p:txBody>
      </p:sp>
      <p:sp>
        <p:nvSpPr>
          <p:cNvPr id="93" name="Rectangle 6"/>
          <p:cNvSpPr/>
          <p:nvPr/>
        </p:nvSpPr>
        <p:spPr>
          <a:xfrm>
            <a:off x="1447920" y="4800600"/>
            <a:ext cx="6400800" cy="3808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tember 30,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B8C59FC-32FE-4BCB-BC23-B4BC782A817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Q&amp;A </a:t>
            </a:r>
            <a:endParaRPr b="0" lang="en-US" sz="2400" spc="-1" strike="noStrike">
              <a:solidFill>
                <a:srgbClr val="ffffff"/>
              </a:solidFill>
              <a:latin typeface="Arial Black"/>
            </a:endParaRPr>
          </a:p>
        </p:txBody>
      </p:sp>
      <p:sp>
        <p:nvSpPr>
          <p:cNvPr id="120" name="Rectangle 3"/>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cussion</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1155600" y="6432480"/>
            <a:ext cx="78361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DD4E1D6-1146-492F-BC9D-8C3A15FAB82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5" name="PlaceHolder 1"/>
          <p:cNvSpPr>
            <a:spLocks noGrp="1"/>
          </p:cNvSpPr>
          <p:nvPr>
            <p:ph type="title"/>
          </p:nvPr>
        </p:nvSpPr>
        <p:spPr>
          <a:xfrm>
            <a:off x="76320" y="76320"/>
            <a:ext cx="899136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genda</a:t>
            </a:r>
            <a:endParaRPr b="0" lang="en-US" sz="2400" spc="-1" strike="noStrike">
              <a:solidFill>
                <a:srgbClr val="ffffff"/>
              </a:solidFill>
              <a:latin typeface="Arial Black"/>
            </a:endParaRPr>
          </a:p>
        </p:txBody>
      </p:sp>
      <p:sp>
        <p:nvSpPr>
          <p:cNvPr id="96" name="PlaceHolder 2"/>
          <p:cNvSpPr>
            <a:spLocks noGrp="1"/>
          </p:cNvSpPr>
          <p:nvPr>
            <p:ph/>
          </p:nvPr>
        </p:nvSpPr>
        <p:spPr>
          <a:xfrm>
            <a:off x="228600" y="762120"/>
            <a:ext cx="868680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Communications</a:t>
            </a:r>
            <a:endParaRPr b="1"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Meeting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Trials Handboo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al Test System Data </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 meter dat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 meter data</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ggregation Zonal/Nodal System(s)</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ystem</a:t>
            </a:r>
            <a:r>
              <a:rPr b="0" lang="en-US" sz="1800" spc="-1" strike="noStrike">
                <a:solidFill>
                  <a:srgbClr val="ff0000"/>
                </a:solidFill>
                <a:latin typeface="Arial"/>
              </a:rPr>
              <a:t> </a:t>
            </a:r>
            <a:r>
              <a:rPr b="0" lang="en-US" sz="1800" spc="-1" strike="noStrike">
                <a:solidFill>
                  <a:srgbClr val="000000"/>
                </a:solidFill>
                <a:latin typeface="Arial"/>
              </a:rPr>
              <a:t>– Market Tri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Sys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Data Aggregation System Validations</a:t>
            </a:r>
            <a:endParaRPr b="1"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testing and data aggregation validat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 Data Extract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a:t>
            </a:r>
            <a:endParaRPr b="1"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A8144DA-1AAF-4DB8-8F52-37DD581211AC}"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8"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ket Communications</a:t>
            </a:r>
            <a:endParaRPr b="0" lang="en-US" sz="2400" spc="-1" strike="noStrike">
              <a:solidFill>
                <a:srgbClr val="ffffff"/>
              </a:solidFill>
              <a:latin typeface="Arial Black"/>
            </a:endParaRPr>
          </a:p>
        </p:txBody>
      </p:sp>
      <p:sp>
        <p:nvSpPr>
          <p:cNvPr id="99"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rials Phase 4 Kick-off meeting -</a:t>
            </a:r>
            <a:r>
              <a:rPr b="1" lang="en-US" sz="1800" spc="-1" strike="noStrike">
                <a:solidFill>
                  <a:srgbClr val="000000"/>
                </a:solidFill>
                <a:latin typeface="Arial"/>
              </a:rPr>
              <a:t> March 25, 2010 </a:t>
            </a:r>
            <a:r>
              <a:rPr b="1" lang="en-US" sz="1400" spc="-1" strike="noStrike">
                <a:solidFill>
                  <a:srgbClr val="000000"/>
                </a:solidFill>
                <a:latin typeface="Arial"/>
              </a:rPr>
              <a:t>(slide 57)</a:t>
            </a:r>
            <a:endParaRPr b="1"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Data Aggregation Process</a:t>
            </a:r>
            <a:endParaRPr b="0" lang="en-US" sz="1800" spc="-1" strike="noStrike">
              <a:solidFill>
                <a:srgbClr val="000000"/>
              </a:solidFill>
              <a:latin typeface="Arial"/>
            </a:endParaRPr>
          </a:p>
          <a:p>
            <a:pPr lvl="2" marL="11430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ata aggregation process will use EPS meter data from the Zonal production environment for use in the Market Trials generation &amp; load data aggregation processes.</a:t>
            </a:r>
            <a:endParaRPr b="0" lang="en-US" sz="1600" spc="-1" strike="noStrike">
              <a:solidFill>
                <a:srgbClr val="000000"/>
              </a:solidFill>
              <a:latin typeface="Arial"/>
            </a:endParaRPr>
          </a:p>
          <a:p>
            <a:pPr lvl="2" marL="1143000" indent="-228600">
              <a:lnSpc>
                <a:spcPct val="12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non-EPS meter data, ERCOT will use the data that existed in ERCOT Zonal production systems on October 16, 2009.  This means QSEs will not be able to true up RTAML in the Market Trials environment to the actual Zonal load for the Operating Dates of the Market Trials Tests</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ly 30, 2010 - COMS/Settlement &amp; Credit Weekly Update </a:t>
            </a:r>
            <a:r>
              <a:rPr b="1" lang="en-US" sz="1400" spc="-1" strike="noStrike">
                <a:solidFill>
                  <a:srgbClr val="000000"/>
                </a:solidFill>
                <a:latin typeface="Arial"/>
              </a:rPr>
              <a:t>(slide 19)</a:t>
            </a:r>
            <a:endParaRPr b="1"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Load Data is being used in Market Trial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r non-EPS meters, ERCOT is using a snapshot of Zonal Load from 10-16-2009.  Non-EPS meters that are weather sensitive use proxy days, so the load in the Market Trials environment will not always be the 10-16-2009 load. For EPS meters, Nodal and Zonal load should be the same for any given operating day.</a:t>
            </a:r>
            <a:endParaRPr b="0" lang="en-US" sz="1600" spc="-1" strike="noStrike">
              <a:solidFill>
                <a:srgbClr val="000000"/>
              </a:solidFill>
              <a:latin typeface="Arial"/>
            </a:endParaRPr>
          </a:p>
          <a:p>
            <a:pPr lvl="3" marL="160020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A4B19C8-783D-435E-A7F7-234FFDF12CC1}"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1"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Market Communications  </a:t>
            </a:r>
            <a:endParaRPr b="0" lang="en-US" sz="2400" spc="-1" strike="noStrike">
              <a:solidFill>
                <a:srgbClr val="ffffff"/>
              </a:solidFill>
              <a:latin typeface="Arial Black"/>
            </a:endParaRPr>
          </a:p>
        </p:txBody>
      </p:sp>
      <p:sp>
        <p:nvSpPr>
          <p:cNvPr id="102"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rials Handbook  v3.1 - </a:t>
            </a:r>
            <a:r>
              <a:rPr b="1" lang="en-US" sz="1800" spc="-1" strike="noStrike">
                <a:solidFill>
                  <a:srgbClr val="000000"/>
                </a:solidFill>
                <a:latin typeface="Arial"/>
              </a:rPr>
              <a:t>March 31, 2010 </a:t>
            </a:r>
            <a:r>
              <a:rPr b="1" lang="en-US" sz="1400" spc="-1" strike="noStrike">
                <a:solidFill>
                  <a:srgbClr val="000000"/>
                </a:solidFill>
                <a:latin typeface="Arial"/>
              </a:rPr>
              <a:t>(section 5.4 - page 16)</a:t>
            </a:r>
            <a:endParaRPr b="1"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nodal.ercot.com/readiness/markettrials/coms/index.html</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ing dated April 21,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ter Data Used in Data Aggregation Proces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aggregation process will use EPS meter data from the Zonal production environment for use in the Market Trials generation &amp; load data aggregation processes.  For non-EPS meter data, ERCOT will use the data that existed in ERCOT systems as of the point in time that the test environment was created from the Zonal production environment, which is October 16, 2009.  The load data set may be further modified to incorporate AMS dat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because a Zonal production snapshot is being used for non-EPS meter data, QSEs will not be able to true-up the load used in the Market Trials environment with actual Zonal load for the Operating Days of the Market Trials tests.</a:t>
            </a:r>
            <a:endParaRPr b="0" lang="en-US" sz="1800" spc="-1" strike="noStrike">
              <a:solidFill>
                <a:srgbClr val="000000"/>
              </a:solidFill>
              <a:latin typeface="Arial"/>
            </a:endParaRPr>
          </a:p>
          <a:p>
            <a:pPr lvl="3" marL="160020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A52A4CE-F369-48AC-8613-BB2A85BC830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 Test System Data for Market Trials </a:t>
            </a:r>
            <a:endParaRPr b="0" lang="en-US" sz="2400" spc="-1" strike="noStrike">
              <a:solidFill>
                <a:srgbClr val="ffffff"/>
              </a:solidFill>
              <a:latin typeface="Arial Black"/>
            </a:endParaRPr>
          </a:p>
        </p:txBody>
      </p:sp>
      <p:sp>
        <p:nvSpPr>
          <p:cNvPr id="105"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PS Meter Data – current zonal production data</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on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irectional NOIE metering poin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Upload EPS Data</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Agg process does not estimate missing generation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S meter data upload includes all active meter points for the operating da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tas between EPS meter data upload and data aggregation system results in processing errors that must be reconcil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D4DA0DC-6DBA-49AC-AAA8-0CA124A117A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7"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 Test System Data for Market Trials </a:t>
            </a:r>
            <a:endParaRPr b="0" lang="en-US" sz="2400" spc="-1" strike="noStrike">
              <a:solidFill>
                <a:srgbClr val="ffffff"/>
              </a:solidFill>
              <a:latin typeface="Arial Black"/>
            </a:endParaRPr>
          </a:p>
        </p:txBody>
      </p:sp>
      <p:sp>
        <p:nvSpPr>
          <p:cNvPr id="108"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SP Meter Data – snapshot from 10-16-2009</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IE radial Load poi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Load poi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use a Snapshot</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impacts for maintaining nodal test system synchronization with zonal production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data adequate for test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ed load data available to Market Participants in Market Trials Settlements ex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Aggregation process has estimation routine for data not in ERCOT systems on10-16-2009  </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B47ED9B-F846-4D9E-A246-1EBA0CF68E88}"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ata Aggregation Zonal/Nodal System(s) </a:t>
            </a:r>
            <a:endParaRPr b="0" lang="en-US" sz="2400" spc="-1" strike="noStrike">
              <a:solidFill>
                <a:srgbClr val="ffffff"/>
              </a:solidFill>
              <a:latin typeface="Arial Black"/>
            </a:endParaRPr>
          </a:p>
        </p:txBody>
      </p:sp>
      <p:sp>
        <p:nvSpPr>
          <p:cNvPr id="111"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Trials Settlement System</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s System is truly a test environm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napshot of data meets testing nee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 of data is resource intensive</a:t>
            </a:r>
            <a:endParaRPr b="0" lang="en-US" sz="20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on Syste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I ID and Resource ID data loading processes remain the sa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estimation process in the data aggregation routines remains the sa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data aggregation code unchang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ail processes still the sa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ing still the same</a:t>
            </a:r>
            <a:endParaRPr b="0" lang="en-US" sz="2000" spc="-1" strike="noStrike">
              <a:solidFill>
                <a:srgbClr val="000000"/>
              </a:solidFill>
              <a:latin typeface="Arial"/>
            </a:endParaRPr>
          </a:p>
          <a:p>
            <a:pPr lvl="3" marL="1600200" indent="0">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78C7A54-6AFD-4081-832C-BEFA13F927A4}"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3"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Data Aggregation System Validations </a:t>
            </a:r>
            <a:endParaRPr b="0" lang="en-US" sz="2400" spc="-1" strike="noStrike">
              <a:solidFill>
                <a:srgbClr val="ffffff"/>
              </a:solidFill>
              <a:latin typeface="Arial Black"/>
            </a:endParaRPr>
          </a:p>
        </p:txBody>
      </p:sp>
      <p:sp>
        <p:nvSpPr>
          <p:cNvPr id="114"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Testing and Validation</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and Nodal Load cut comparison performed in 2008</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ed that data aggregation nodal code for competitive and NOIE Load provided output consistent with zonal code</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cation covered 45 operating day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and Nodal output for EPS Metered NOIE’s comparis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ied that data aggregation nodal code for NOIE aggregation  provided output consistent with zonal code for  August 7, 2010 operating day</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comparison of Zonal and Nodal Load cuts on the horiz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on planned before the end of  October 2010</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provide further validation that  data aggregation nodal code for competitive and NOIE Load provides output consistent with zonal code</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3"/>
          <p:cNvSpPr/>
          <p:nvPr/>
        </p:nvSpPr>
        <p:spPr>
          <a:xfrm>
            <a:off x="1143000" y="6324480"/>
            <a:ext cx="69343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E1E425B-75D9-455F-AC7D-753944D5479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6" name="PlaceHolder 1"/>
          <p:cNvSpPr>
            <a:spLocks noGrp="1"/>
          </p:cNvSpPr>
          <p:nvPr>
            <p:ph type="title"/>
          </p:nvPr>
        </p:nvSpPr>
        <p:spPr>
          <a:xfrm>
            <a:off x="151920" y="0"/>
            <a:ext cx="8991720" cy="528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RCOT Data Aggregation System Validations</a:t>
            </a:r>
            <a:endParaRPr b="0" lang="en-US" sz="2400" spc="-1" strike="noStrike">
              <a:solidFill>
                <a:srgbClr val="ffffff"/>
              </a:solidFill>
              <a:latin typeface="Arial Black"/>
            </a:endParaRPr>
          </a:p>
        </p:txBody>
      </p:sp>
      <p:sp>
        <p:nvSpPr>
          <p:cNvPr id="117" name="PlaceHolder 2"/>
          <p:cNvSpPr>
            <a:spLocks noGrp="1"/>
          </p:cNvSpPr>
          <p:nvPr>
            <p:ph/>
          </p:nvPr>
        </p:nvSpPr>
        <p:spPr>
          <a:xfrm>
            <a:off x="291960" y="837720"/>
            <a:ext cx="854712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Participant Settlements Data Extracts for Market Trial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M Market Operating Day Extract &amp; RTM Consolidated Operating Day Extrac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d generation and load data</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s data</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E &amp; PGC</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M Market Operating Day Extract &amp; RTM Consolidated Operating Day Extrac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d load data</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0T13:37:36Z</dcterms:created>
  <dc:creator/>
  <dc:description/>
  <dc:language>en-US</dc:language>
  <cp:lastModifiedBy>dtucker</cp:lastModifiedBy>
  <dcterms:modified xsi:type="dcterms:W3CDTF">2010-09-28T15:38:52Z</dcterms:modified>
  <cp:revision>1249</cp:revision>
  <dc:subject/>
  <dc:title>Texas Nodal Detailled Market Trials Planning Process 30 January 2007</dc:title>
</cp:coreProperties>
</file>