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1900-D5E7-47B2-BD6E-D3B353A6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0DF9-3436-40FF-8940-7A3BA61A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CC8D-3A67-4A76-959A-320C157E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B837-0790-40DA-A880-208E51EC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F856-6633-4D4C-8245-1D54A472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1BD3-9A0F-406E-ACC0-21A2D0C6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FE0D-97CC-4338-9754-EB956DE6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5B4E-2D33-4230-8D5C-DD76C873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E2B7-BEE3-4A45-8096-BBEFDED7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C089-9435-4DF0-B076-D41FD09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F2A2-8D07-481D-9303-64398F60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B24D-E4E2-469D-B1DF-2253BB6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D801-7D3D-48FF-AFD6-B655512DF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S-P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. 22-2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D3DE-B339-40DA-B458-3108DB07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t. 22-23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MS-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2333520" y="5334120"/>
            <a:ext cx="6276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M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. 22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S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. 23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PRR 278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ILS Self-Provision Settlemen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 Other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42880" y="41335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l Wattles, ERCOT Sta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-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2-23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imary Issue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Staff and market participants identified inequities in existing settlement equations relating to EILS Self Pro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protocols under-value self-provided EILS by calculating obligations of self-providing QSEs as a percentage of the total unadjusted, originall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u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ILS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base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iv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pacity (adjusted for availability and/or performance evalu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lso results in miscalculation of the weighted average price used to credit EILS self-pro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tom line: overstates self-providing QSE’s obligation and under-values its self-provided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-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2-23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imary Issue Summary (cont’d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Staff identified additional potential self-provision settlement issues with the existing langua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quations do not accurately credit self-provision from more than one QSE self-providing EILS when some self-provide greater than their obligation and others self-provide less than their 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problem yet, but could be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 278 establishes the concept of a ‘self-provision capacity upper limi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for all self-providing QSEs through simultaneous linea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lf-providers fine-tune their offers during procurement when less than 1,000 MW is proc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equitable settlement for all self-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-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2-23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Issue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 278 is also a vehicle for addressing other issues with EI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language requires ERCOT to build individual default baseline models for each member of an EILS Load aggre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 metering could bring much larger aggregations that would burden ERCOT systems without improving baseline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language would allow ERCOT the option of summing the members’ interval usage prior to building the baselin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orms Nodal language to current Zonal practice by allowing fractional MW offers (to tenths of a MW) as long as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W offer minimum, prescribed by Rule, is m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ERCOT to reduce payment for EILS Loads that fail two consecutive Load-shed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es QSE EILS portfolio performanc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-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2-23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Clarifying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aft NPRR also makes a number of changes that ERCOT considers to be clarifying in n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hanges are described in detail in the Revision Description section of the NP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-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2-23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tus and Proposed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iewed at WMS on June 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 discussed in detail at DSWG on Sept. 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d on Sept. 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O Review and Impact Analysis are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ing WMS endorsement Sept. 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S first consideration Sept. 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ing PRS IA Review and approval on Oct. 2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on Nov.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ard on Nov. 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 date of Feb. 1,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es cutover date for all EILS Nodal Protocol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ncides with Feb.-May 2011 EILS Contrac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approval will provide ample time to update EILS Technical Requirements to be consistent with NP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S-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2-23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3521160" y="2149560"/>
            <a:ext cx="1728720" cy="2712960"/>
            <a:chOff x="3521160" y="2149560"/>
            <a:chExt cx="1728720" cy="2712960"/>
          </a:xfrm>
        </p:grpSpPr>
        <p:pic>
          <p:nvPicPr>
            <p:cNvPr id="117" name="Picture 4" descr="MCj03403080000[1]"/>
            <p:cNvPicPr/>
            <p:nvPr/>
          </p:nvPicPr>
          <p:blipFill>
            <a:blip r:embed="rId1"/>
            <a:stretch/>
          </p:blipFill>
          <p:spPr>
            <a:xfrm>
              <a:off x="3521160" y="2149560"/>
              <a:ext cx="1728720" cy="27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5"/>
            <p:cNvSpPr/>
            <p:nvPr/>
          </p:nvSpPr>
          <p:spPr>
            <a:xfrm>
              <a:off x="4165560" y="2529360"/>
              <a:ext cx="703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4165560" y="4050720"/>
              <a:ext cx="703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0-09-21T21:09:34Z</dcterms:modified>
  <cp:revision>53</cp:revision>
  <dc:subject/>
  <dc:title>Instructions</dc:title>
</cp:coreProperties>
</file>