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B656-1E2E-4425-9DCC-9715926B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79DF5-AC00-471F-B57B-C9ED50A2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369F-E94E-45BE-91DB-00B54507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B899B-228B-451F-93E8-93EBF633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B9AB-2175-43B3-BF82-69E5CF60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2DF2-9D3C-45ED-BB4A-04F52B38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DEA2-B9E3-4AD4-A349-AEFAA5FC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80ED-FC7B-4007-9A2D-B7FDE5B8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DCF5-B43F-4A40-85B6-92FA6457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E7E9-8211-45F8-9BFA-8057F5D8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16C5-E763-4890-BA89-90652DDD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590F-4E6C-4D0E-99C2-1BAEF0F1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1F36-27FD-4585-BF81-A1D17EB6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B88E-6363-4182-A2A1-9BB7A95A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4DAB-AD3D-43D5-AA71-0F8925CA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644B-0BA6-48D9-A367-6ED04162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BF2D-BB89-4FF6-87F8-B1F12288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E9B9-3CBA-4B8D-83B5-BC9C30C6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84C7-5B21-439B-B43D-7EE77760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B726-1F01-48D9-8FBC-0EF6586B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39B3-06F6-4904-B5BE-78D8F378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DF048-9F08-4344-AA72-AE65D914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92707-8AA8-446F-BB0E-802E1513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F17B-3E88-47B6-9B10-5FF25EE2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7A18-C719-4D0E-9AE7-65B377F062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511D-D276-4B78-BA5C-AA8DAB348B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Market Credit Working Group Update to WM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d. Sep 22, 20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CWG September  2010 Overview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CWG Activities Since August 2010 WMS Upd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dal 168 hour test Credit Monitoring Management (CMM) Performance Discu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port on Joint MCWG/CWG Mee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dal Credit Readin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R Credit Parameters Presentations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ssible Vo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CR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umina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ctober Joint CWG/MCWG Mee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Party Credit Administr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10 Goals (and parking lo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xt Meeting MCW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CWG Activities Since August 2010 WMS Updat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CWG met face-to-face three times since the last WMS upd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ugust 26, 20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ugust 30, 20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ptember 8, 20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dal 168 hour test Credit Monitoring Management (CMM) Performance Discus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itial reports are that the 168 hour test was  successful from a credit perspective (CMM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stem and proces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ff has identified an interim solution to update the ACL’s on the non-business da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liver Wyman has been engaged by ERCOT to prepare a credit readiness assess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ryl will provide further information to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port on Joint MCWG/CWG Meeting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R Credit Requirements was the focus of the September meet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R Credit Parameters Presentatio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CR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umina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OTE on CRR’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ctober Joint CWG/MCWG Meet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dit Readiness Assessment for F&amp;A (CW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Party Credit Administ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ll invit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arty solution providers who may have nodal products/solutions that will reduce credit requirements and/or reduce ERCOT credit ri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ect to have 3-4 solution providers who are working on products and/or ERCOT specific solutions for Day 1 nod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WG Update to F&amp;A Sep 21, 2010</a:t>
            </a:r>
            <a:br>
              <a:rPr sz="36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from CWG Slides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pen items - primary remaining issues to be resolv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MM (Core) credit calculation – TPE/AC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Ongoing concern with extreme data in the credit calculatio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view in proc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302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M credit constraint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redit constraint – 95</a:t>
            </a:r>
            <a:r>
              <a:rPr b="0" lang="en-US" sz="16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percentiles over the past 30 day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redit consumption over Non-Business Day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solution pendin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bility to shadow DAM exposure calculat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RR auction credit constraint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hanges to two factors (adder (A) and multiplier (M)) being discusse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Expect to have recommendation for consideration at the October BOD meetin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redit Work Group will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ork to resolve last remaining open item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view/recommend solutions for any new credit concerns raised in Nodal Tri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ke recommendation to F&amp;A -Nodal Credit Readiness by Oct. 2010 Meeting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CWG Parking Lot for 2010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rection of invoice timing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 bottom up review of existing creditworthiness standards (after CCRO Best Practices effor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tion of settlement cycle due to PRR 568 (7day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rther reductions in settlement cy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includes looking at the potential to reduce the settlement cycle 30% with improved meter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xt Meeting MCW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iday September 2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9:30AM (phon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pdate on MCWG presentation to W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xt Steps on reviewing nodal credit requir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alizing October 2010 Joint MCWG/CWG Meeting on Third Party Solu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 busi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7:11:00Z</dcterms:created>
  <dc:creator>daviesm</dc:creator>
  <dc:description/>
  <dc:language>en-US</dc:language>
  <cp:lastModifiedBy>daviesm</cp:lastModifiedBy>
  <dcterms:modified xsi:type="dcterms:W3CDTF">2010-09-21T16:12:52Z</dcterms:modified>
  <cp:revision>59</cp:revision>
  <dc:subject/>
  <dc:title>Market Credit Working Group Update to WMS</dc:title>
</cp:coreProperties>
</file>