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6B23-61AA-45A9-BDB8-DBE98243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78A-5543-48B6-8822-2A3B76D8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1FAE-34A5-41C4-BB93-31B9DDEC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7BC9-743C-4C37-95F7-34DC4D1E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2355-4580-4E6A-A2E0-6BEA0B0D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C2BA-0E27-400B-AF19-184BE912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2B6E-7BDA-43F0-B4C3-70CDF558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32EA-F540-420E-BD82-B1A92678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CDF8-C094-452B-B7E5-4FBE1A60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62A4-0FAE-4A4A-8B3D-5BE3A444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C19D-7F33-4E2B-A3F8-15268F5B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28C5-5B25-47E7-87F9-0AA97780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7CD6-2501-4A0E-9F25-44C6CA19BD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RCOT SPWG ASPEN License Proposal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urrent Statu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majority of ERCOT SPWG members use ASPE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urrent case update process requires most members to convert files from ASPEN to PSS/E format, then submit to ERCO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Proble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nce the case is compiled most members then have to convert from PSS/E format back to ASPE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formation is sometimes lost in the convers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spen and PSSE are competitors, so conversion utilities are not updated at same time as software update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enefit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ERCOT’s purchase of ASPEN will eliminate this conversion process for most memb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uture ASPEN updates may include the use of graphics for short circuit models;  currently graphics are added back after file convers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esti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PWG completed a successful trial earlier this year in updating both the current and future year cases using a temporary license of ASPE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nversion to PSS/E format for members that do not have ASPEN will be maintain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commenda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Calibri"/>
              </a:rPr>
              <a:t>The SPWG recommendation is to purchase ASPEN for ERCOT’s use in updating ERCOT short circuit case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6:12:29Z</dcterms:created>
  <dc:creator>Woolard, Samuel</dc:creator>
  <dc:description/>
  <dc:language>en-US</dc:language>
  <cp:lastModifiedBy>Woolard, Samuel</cp:lastModifiedBy>
  <dcterms:modified xsi:type="dcterms:W3CDTF">2010-09-10T20:15:03Z</dcterms:modified>
  <cp:revision>9</cp:revision>
  <dc:subject/>
  <dc:title>Conversion of Short Circuit Database to Aspen Format</dc:title>
</cp:coreProperties>
</file>