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0A7-85FA-4ADD-B9BE-276607A46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3DC-D1A3-4838-BB2C-9DEFB3A9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305F-EC4E-4E1F-9DF6-5B548CC5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655-8DF6-497B-BFE0-8DF5CF0D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FF48-0CEE-4E3B-8DF6-81691C96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D865-E3A4-438C-84B4-BA8CCFAC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AFEB-B286-4953-BD65-A646FDB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C096-803A-4F47-BDF2-5B04EE6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4601-42CC-4609-A6C3-BCC88F8B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6D9D-AF6B-4EA7-8792-81876617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0887-6B0A-4DFD-9BEE-BAC4A0B7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F6B2-3022-4628-8E1D-7B35428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FD88-CC61-401F-B4D2-2318C21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0265-6C18-4B12-A4F1-6E18752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409-D9A9-42D5-A4CF-0B4CB337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B68-D6AE-49EC-AA65-26D79EBF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formation Lifecycle Management (ILM) Benefi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752480"/>
          <a:ext cx="5715000" cy="1260720"/>
        </p:xfrm>
        <a:graphic>
          <a:graphicData uri="http://schemas.openxmlformats.org/drawingml/2006/table">
            <a:tbl>
              <a:tblPr/>
              <a:tblGrid>
                <a:gridCol w="2032200"/>
                <a:gridCol w="917640"/>
                <a:gridCol w="1331640"/>
                <a:gridCol w="143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 Storage Addition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r 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er Tier Sto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ILM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,000/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LM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827/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97" name="Content Placeholder 10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617220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6629400" y="1809720"/>
            <a:ext cx="236232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plementation of ILM policies resulted in an 80% reduction in the cost per Terabyte of the storage acqui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81680" y="3324240"/>
            <a:ext cx="2210040" cy="20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recast future benef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5% decrease in data volu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0% reduction in capital costs for new storage acquisi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8"/>
          <p:cNvCxnSpPr>
            <a:stCxn id="98" idx="1"/>
            <a:endCxn id="98" idx="1"/>
          </p:cNvCxnSpPr>
          <p:nvPr/>
        </p:nvCxnSpPr>
        <p:spPr>
          <a:xfrm>
            <a:off x="6629400" y="2381040"/>
            <a:ext cx="360" cy="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1" name="Oval 9"/>
          <p:cNvSpPr/>
          <p:nvPr/>
        </p:nvSpPr>
        <p:spPr>
          <a:xfrm>
            <a:off x="4648320" y="2209680"/>
            <a:ext cx="167616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H="1">
            <a:off x="4571640" y="4038120"/>
            <a:ext cx="2286720" cy="3819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Straight Arrow Connector 18"/>
          <p:cNvCxnSpPr/>
          <p:nvPr/>
        </p:nvCxnSpPr>
        <p:spPr>
          <a:xfrm flipH="1">
            <a:off x="3885480" y="4800600"/>
            <a:ext cx="2972520" cy="4579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Date Placeholder 10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1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5720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recovered to date as a result of PR90006_01: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5 T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on recent storage purchase and storage fore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Heather Day</cp:lastModifiedBy>
  <dcterms:modified xsi:type="dcterms:W3CDTF">2010-09-10T16:48:34Z</dcterms:modified>
  <cp:revision>186</cp:revision>
  <dc:subject/>
  <dc:title>Instructions</dc:title>
</cp:coreProperties>
</file>