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notesMasterIdLst>
    <p:notesMasterId r:id="rId25"/>
  </p:notes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notesMaster" Target="notesMasters/notesMaster1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878C-A4F6-45C7-BBC0-27DF5CA54F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E380-D9B3-44E6-8706-40BD331EB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56BF-6CC0-404E-8244-FA5A2A347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DAB02-B11C-4683-93FB-AE51D6B351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92FCE-3179-4349-8401-E60AB2F93E8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BA591-9566-46E2-BA60-4F209D2BBE5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87225-9130-4060-9132-801EFBAD932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B89ED-5C67-4025-976A-125A92D628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21721-F51D-4999-A7C4-F550E39793B8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A5A87-B74C-483E-B81D-50AFA5F2751B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A1EC4-3BF3-4DB8-8F72-BB98DE9DF895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85067-1F5A-4E84-B904-C19EC720F78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F143D-8E30-4571-BC02-6C0912BB9E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CC6B8-9EA8-4BE2-8EB1-1BBC0030F3D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DF0A7-237A-4C30-B980-2E458F8F9EA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69858-64F3-44D8-B577-E63CFE0ACE4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BD4CD-24D3-4935-B9AE-638833B8E91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72279-24DA-443C-908C-3A72BE2A1D6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AFDD1-3B23-4CBE-87A9-6822B6034F7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67579-5D11-4926-AD49-BEC1401809A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4B99D-4EF2-4E2B-AFDB-01766F86260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55EBC-D668-49CE-83BC-3A18708E7DB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106A1-95BC-4D3F-AA69-3460CC70B2C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979A8-9B1B-4FE7-B3D3-135F1E7DAF3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3F6DF-3151-433E-8FD4-EC36E8EFA11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9EAA4-C158-4FA2-9DE4-F48B1019372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1991D-C5CC-447D-B11A-85BF876D1BD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43CC-DE87-4FAF-9C74-A2E5F1E5C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14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DB382203-1307-4F8E-B890-09FB7BA17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14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7AAD5E0E-38AA-44CA-951A-DFD4A3501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14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7A6FD3A5-D2DE-4408-92E6-BFE059AAA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14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124C5E4B-3AA0-4830-AF05-2E61EDD30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22F19BF7-A09C-4C8C-BA5C-A2961B5D5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8174DEDD-4370-49E4-8046-0A45FEAA2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62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154E10C4-41E9-48F7-AE14-201A0E719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67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B737759F-7AED-4107-B6C6-69FE3555E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71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7AA54E9B-3942-4993-8FD7-35B924624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76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A44367E8-F627-490E-B859-D6FE7418B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0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EA2937CD-3100-4E2B-86C2-24A9A0941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5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3E0A0787-B4F3-437A-9367-91676FF41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9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97B4CC46-E481-4CF7-B2C4-AF5A7229A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4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01E965CF-452B-405B-9499-7A0451A94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8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C50F4512-030C-4696-B9A7-91B89EEF5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64E2-6B51-4C48-AFEC-7A68F3245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354CECDA-DB54-4E50-8F0A-FDD045533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14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3A46B555-5543-4ED1-A883-420D91D98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14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84F6486D-804B-44DF-A425-62C5A713C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14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22E5B4A5-4A61-445A-B402-649D669FC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14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C8DA2395-240E-4B85-9393-A654C4884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14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16F57049-6594-43A8-B9A3-FB061B83C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066320" y="167616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MO Projects Financial Overview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Commercial Operations Subcommitte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September 14, 2010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Heather Day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Market Operations Division Projects Organ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7" name="Line 3"/>
          <p:cNvSpPr/>
          <p:nvPr/>
        </p:nvSpPr>
        <p:spPr>
          <a:xfrm>
            <a:off x="990720" y="3124080"/>
            <a:ext cx="716256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10 Proje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39" name="Picture 4" descr=""/>
          <p:cNvPicPr/>
          <p:nvPr/>
        </p:nvPicPr>
        <p:blipFill>
          <a:blip r:embed="rId1"/>
          <a:stretch/>
        </p:blipFill>
        <p:spPr>
          <a:xfrm>
            <a:off x="138240" y="914400"/>
            <a:ext cx="8867520" cy="398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in Execu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1" name="TextBox 4"/>
          <p:cNvSpPr/>
          <p:nvPr/>
        </p:nvSpPr>
        <p:spPr>
          <a:xfrm>
            <a:off x="457200" y="1143000"/>
            <a:ext cx="81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projects in Execution Phas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in Plann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3" name="Text Box 4"/>
          <p:cNvSpPr/>
          <p:nvPr/>
        </p:nvSpPr>
        <p:spPr>
          <a:xfrm>
            <a:off x="228600" y="4191120"/>
            <a:ext cx="868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Picture 2" descr=""/>
          <p:cNvPicPr/>
          <p:nvPr/>
        </p:nvPicPr>
        <p:blipFill>
          <a:blip r:embed="rId1"/>
          <a:stretch/>
        </p:blipFill>
        <p:spPr>
          <a:xfrm>
            <a:off x="519120" y="990720"/>
            <a:ext cx="8104320" cy="100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in Initia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6" name="TextBox 3"/>
          <p:cNvSpPr/>
          <p:nvPr/>
        </p:nvSpPr>
        <p:spPr>
          <a:xfrm>
            <a:off x="795240" y="1219320"/>
            <a:ext cx="19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projects in Initi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On Hold, Deferred or Not Start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48" name="Picture 6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103960" cy="30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Closing, Closed or Cancell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50" name="Picture 4" descr=""/>
          <p:cNvPicPr/>
          <p:nvPr/>
        </p:nvPicPr>
        <p:blipFill>
          <a:blip r:embed="rId1"/>
          <a:stretch/>
        </p:blipFill>
        <p:spPr>
          <a:xfrm>
            <a:off x="519120" y="1066680"/>
            <a:ext cx="8105760" cy="100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l Overview as of 09/10/2010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52" name=""/>
          <p:cNvGraphicFramePr/>
          <p:nvPr/>
        </p:nvGraphicFramePr>
        <p:xfrm>
          <a:off x="152280" y="762120"/>
          <a:ext cx="8763120" cy="4491000"/>
        </p:xfrm>
        <a:graphic>
          <a:graphicData uri="http://schemas.openxmlformats.org/drawingml/2006/table">
            <a:tbl>
              <a:tblPr/>
              <a:tblGrid>
                <a:gridCol w="2629080"/>
                <a:gridCol w="1035000"/>
                <a:gridCol w="5099040"/>
              </a:tblGrid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 PPL Budget Activit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/commen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MO Capability Line Budget Fund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$1.30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approved MO funding alloca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ates where the capability line fall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900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d on current expectations and run rates for active and not started projects above the capability lin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400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 is difference between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Capability Line Budget Funding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/ Cont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4" name="Rectangle 3"/>
          <p:cNvSpPr/>
          <p:nvPr/>
        </p:nvSpPr>
        <p:spPr>
          <a:xfrm>
            <a:off x="533520" y="1371600"/>
            <a:ext cx="82296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her 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Operations Divisional Projects Organ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417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ay@erco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Heather Day</cp:lastModifiedBy>
  <dcterms:modified xsi:type="dcterms:W3CDTF">2010-09-10T16:47:57Z</dcterms:modified>
  <cp:revision>686</cp:revision>
  <dc:subject/>
  <dc:title>Role of Account Management at ERCOT</dc:title>
</cp:coreProperties>
</file>