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947D-287B-436C-8196-04416DB0C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FED-A41D-4C76-B2A9-FFF07AB7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1F78-4A74-4029-B3FF-638466D7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051-18E3-4A4D-A5DA-7F26DF051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D22-F2BE-49C9-BE69-B77F1699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4302-A8D4-4F35-8339-D3D4B697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7C3E-F5F0-435A-9013-7D40CBD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FA11-CD1B-413B-8A79-2CF51CB5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0574-7706-4E4B-A7A7-95C59219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3B58-1B1D-4E6A-B300-B44A0C6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CC77-81C7-4327-B40C-04D32AD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F69A-72DD-49D7-9C2A-7D2A6CD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14EF-21AA-4ED5-8F4C-806275ED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8AD2-25DE-4C20-9764-C9D5FC3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94D2-1A62-4562-86F2-E0D9C8A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B39B-105D-4F7D-A7F9-63CDE54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4586-7A38-437F-8E7A-D7D2DB0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F75-EAD9-4D85-A615-0AC3DBD28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al Advisory Task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Augus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D8E-FF02-49BB-A547-A7CF00D5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 August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al Advisory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8320"/>
            <a:ext cx="81532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M Performa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sues with CRR Off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38858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eve Ree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arket Design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2 September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133800" y="2514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33800" y="25146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perposition Princip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O, DAM energy only offers/bids, PTP obligations can cancel each othe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MW injected at point A and 100 MW withdrawn at point A put 0 MW o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MW A to B PTP Obligation and 75MW B to A PTP Obligation put 0 MW o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deled all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P Options (CRR Offers) do not cancel each othe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MW A to B CRR Offer and 75 MW B to A CRR Offer put 75 MW on the system each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modeled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e go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Immediate and Long-Ter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cription of issu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design issue; it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anc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, experience elsewhere and ERCOT trials suggest the DAM can take hours to solve if PTP Option Bids involve &gt; a hundred (or so) source-sink pairs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sk Analysis Re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 performance is degraded when the number of distinct source/sink pairs of CRR offers in combination with the number of contingencies becomes excess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g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 150 source/sink pairs x 2500 contingencies = 375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formance bottleneck occurs in the Power flow and Contingency Analysis module (NS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 of performance degradation is sheer volume of computations involved in running Contingency Analysis on CRR Off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AM Workflow Proc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00200" y="17524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752480"/>
            <a:ext cx="1295280" cy="64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57400" y="1752480"/>
            <a:ext cx="1447920" cy="64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867280" y="1447920"/>
            <a:ext cx="1447920" cy="133416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Flow, Contingenc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733920" y="1447920"/>
            <a:ext cx="1752480" cy="1334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ment, Dispatch &amp;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467480" y="1704960"/>
            <a:ext cx="990720" cy="64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8288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5053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54864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73152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 flipV="1">
            <a:off x="66294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H="1">
            <a:off x="4571640" y="1143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45720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 rot="5400000">
            <a:off x="5372280" y="1409400"/>
            <a:ext cx="304560" cy="3124080"/>
          </a:xfrm>
          <a:custGeom>
            <a:avLst/>
            <a:gdLst>
              <a:gd name="textAreaLeft" fmla="*/ 0 w 304560"/>
              <a:gd name="textAreaRight" fmla="*/ 109800 w 30456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4574520" y="29718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152280" y="3352680"/>
            <a:ext cx="8839440" cy="29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process needs to complete in approximately 3 ½ hours: (10:00 AM – 1:30 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 ½ hour timeframe includes time for review of results by ERCOT before 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 ½ hour timeframe includes possibility of rerunning DAM in case of AS insu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100 distinct source/sink combinations, 2600 conting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6 iterations between NSM &amp; NC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verage NSM execution time ≈  8 minutes per iteration: Total= 48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verage NCUC execution time ≈ 20 minutes per iteration: Total= 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TIGHT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wer Flow and Contingency Analys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s if there are any transmission violations due to the awarded quantities of three-part offers (3PO), DAM energy only offers/bids, PTP obligation bids and CRR off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base cas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roximately 2500 contin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PO, DAM energy only offers/bids, PTP obligations are such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erposition principle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 they can be added togeth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is the sum of 1 Base Case (larger flow computation)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500 Contingency Power (incremental flow computations) per hour per ite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1 + 2,500)*24 = 60,024 power flows per it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for CRR offer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erposition principle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 not hol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ence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is the product of number of distinct source/sink combinations in all the CRR Offers and number of contingencies +1 Base Case per hour per iter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distinct source/sink combinations * (1 + 2500)*24 power flows per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number of distinct source/sink combinations = 150 then the power flows per iteration is approximately 9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f six iterations are needed to solve then, just for CRR Offers, the number of power flows becomes 5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ow We Got He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erformance issues were identified last year and major changes were implemented to address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in 2009 at TPTF/NATF limitations for DAM Energy Only Offers/Bids, PTP Obligations Bids and CRR O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on CRR Offers =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releases focused to address these performanc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found satisfactory DAM performance based on assumption of CRR Offers only sinking to NOIE load z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ly 4 NOIE load zones, performance improvements and the 2000 limit on CRR offers sufficiently limited the number of distinct source/sink combinations across all the CRR Offers in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rket Trials, there have been no reported issues with DAM performance due to CRR off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isk assessment, realized that CRR offers into the DAM are not restricted to the NOIE load zones (i.e., between any settlement poi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R PTP Offers: ERCOT’s Action Pla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6320" y="762120"/>
            <a:ext cx="4876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Go-Live: Immediate Miti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MS – D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bas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ke changes to the software which could allow the NSM processes to run faster by enabling paralle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M - Network Analysis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o four weeks are required to determine the performance improvement of this o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time will be required to fully verify the functional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ze newer math libraries in the software that may improv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M – Unit Commitment, Dispatch and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ur weeks are required to determine the performance improvement of this o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time will be required to fully verify the function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222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rdware bas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grade to faster processors. This is being tested at ERCOT this week to determine the magnitude of performanc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35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to eight weeks required to migrate the ERCOT production environments to this processor se t if this option is pur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72428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Go-Live: Long Term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M - Network Analysis Mod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long ter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bas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enhance parallel computation capability of Network Analysis Module (N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2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ow network analysis for each hour of the study period to be done in parall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2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e new process controller that manages these parallel network analysis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2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the interface of passing transmission constraints after network analysis for all 24 hours back to the unit commitment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22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option, not viable before go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234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leted Ac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CRR Offer Stress Test Scenarios Run in Market T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/30 -126 pairs, 8/31 – 114 pairs, 9/1 – 16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M run time a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UC run time significantly longer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under 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erformed new estimate on number of CRR pa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ed at all Resources associated with NOIE Q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with appropriate Load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in all possible Hub-LZ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00 total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est of faster processor solution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3% reduction in processing time on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esting to be done on Market Trials stress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ing Forwar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E allocation eligibility due to ERCOT on September 8,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IEs to submit expected CRR offer paths on or before September 8,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o analyze expect offer path to current CRR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e  (~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up meeting with NOIEs during the week of September 13, 2010 to discuss allocation results and possible 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o coordinate CRR Offer stress test scenario in Market T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tephen Reedy</cp:lastModifiedBy>
  <dcterms:modified xsi:type="dcterms:W3CDTF">2010-09-02T02:58:59Z</dcterms:modified>
  <cp:revision>751</cp:revision>
  <dc:subject/>
  <dc:title>Instructions</dc:title>
</cp:coreProperties>
</file>