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7DF87-31D8-4A7F-A6A2-C7CB50939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0491-814B-4D03-8B05-55CBB0B0B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30E77-E823-44A8-86EA-643985AD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5122A-053D-4A96-96E3-69538AE2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3FD8-EDB4-489A-A6E3-C7F3650A0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C5E86-CCB2-40DB-A17C-AC112CFB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3972-18BD-491C-B0E8-3D874542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9DACF-5621-4494-9BB5-5C7D387EF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3690D-3FFB-4AFE-909F-FCDCFD21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0B6C-5B38-4BD5-A927-9B73FC2D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E4E6-9763-4D3C-9781-1EE444E9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B4C8-9BC9-425C-BC20-DCD509416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796E-4BB3-4BD2-86DE-1BD8373DD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dal Credi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 Non-Business Day Treatment of Available Credit Limit (A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amp; Time Constrain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 was run over non-business days for the first time with credit constraints over the weekend of August 14-1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ificant amount of credit was consumed, resulting in some CPs being constrained in the Monday DAM. Key drivers includ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mpact –very high values used for the 95% price differences between RT and DA applied to Energy Only Offers and Three Part Offers</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from market trials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ected to be the norm after go live</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elements –ACL is consumed for Three Part Offers over non-business days when it is not consumed in the DAM on business days</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believes it is appropriate for this topic to be reviewed by the market and possibly consider whether a revision to the current methodology is warranted</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clarification must be finalized quickly to achieve implementation prior to go live </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amp; Time Constrai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review schedul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August 26 - Review with MCWG/CW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August 30 –Review with MCWG/CW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August 31 –Potential vote by NAT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September 2 –Review by TAC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acti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Non-Business days, MMS reduces the latest ACL by the following each day until a new ACL is received from credi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offers: ACL is reduced by the product of the cleared quantity of the offer times the 95</a:t>
            </a:r>
            <a:r>
              <a:rPr b="0" lang="en-US" sz="1400" spc="-1" strike="noStrike" baseline="30000">
                <a:solidFill>
                  <a:srgbClr val="000000"/>
                </a:solidFill>
                <a:latin typeface="Arial"/>
              </a:rPr>
              <a:t>th</a:t>
            </a:r>
            <a:r>
              <a:rPr b="0" lang="en-US" sz="1400" spc="-1" strike="noStrike">
                <a:solidFill>
                  <a:srgbClr val="000000"/>
                </a:solidFill>
                <a:latin typeface="Arial"/>
              </a:rPr>
              <a:t> percentile of the positive hourly difference of the Real-Time Settlement Point Price and Day-Ahead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bids: ACL is reduced by the product of the cleared bid quantity multiplied by the cleared bid price.</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part energy offers: ACL is reduced by the product of the cleared quantity of the offer times the 95thpercentile of the positive hourly difference of the Real-Time Settlement Point Price and Day-Ahead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P Obligation bids: For each cleared PTP Obligation Bid, the ACL is reduced by the cleared bid quantity multiplied by the sum of the cleared bid price, if positive, plus the 95th percentile of the hourly positive price difference between the source Real-Time Settlement Point Price minus the sink Real-Time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d AS: For procured Ancillary Services, the ACL is reduced by the product of the cleared quantity of Ancillary Service not self-arranged times the hourly MCPC for that Ancillary Service for that hou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Pt 1</a:t>
            </a:r>
            <a:endParaRPr b="0" lang="en-US" sz="4400" spc="-1" strike="noStrike">
              <a:solidFill>
                <a:srgbClr val="000000"/>
              </a:solidFill>
              <a:latin typeface="Arial"/>
            </a:endParaRPr>
          </a:p>
        </p:txBody>
      </p:sp>
      <p:graphicFrame>
        <p:nvGraphicFramePr>
          <p:cNvPr id="50" name=""/>
          <p:cNvGraphicFramePr/>
          <p:nvPr/>
        </p:nvGraphicFramePr>
        <p:xfrm>
          <a:off x="457200" y="1600200"/>
          <a:ext cx="8229600" cy="3589200"/>
        </p:xfrm>
        <a:graphic>
          <a:graphicData uri="http://schemas.openxmlformats.org/drawingml/2006/table">
            <a:tbl>
              <a:tblPr/>
              <a:tblGrid>
                <a:gridCol w="2057400"/>
                <a:gridCol w="2057400"/>
                <a:gridCol w="2057400"/>
                <a:gridCol w="2057400"/>
              </a:tblGrid>
              <a:tr h="74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o-li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Part Off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ile of the positive diff between RT and DA pr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xposure by qty * pr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Bi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exposure by qty * pr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only Off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ile of the positive diff between RT and DA pr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spread &amp; reduce exposure by qty * price * e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Pt 2</a:t>
            </a:r>
            <a:endParaRPr b="0" lang="en-US" sz="4400" spc="-1" strike="noStrike">
              <a:solidFill>
                <a:srgbClr val="000000"/>
              </a:solidFill>
              <a:latin typeface="Arial"/>
            </a:endParaRPr>
          </a:p>
        </p:txBody>
      </p:sp>
      <p:graphicFrame>
        <p:nvGraphicFramePr>
          <p:cNvPr id="52" name=""/>
          <p:cNvGraphicFramePr/>
          <p:nvPr/>
        </p:nvGraphicFramePr>
        <p:xfrm>
          <a:off x="457200" y="1600200"/>
          <a:ext cx="8229600" cy="4118040"/>
        </p:xfrm>
        <a:graphic>
          <a:graphicData uri="http://schemas.openxmlformats.org/drawingml/2006/table">
            <a:tbl>
              <a:tblPr/>
              <a:tblGrid>
                <a:gridCol w="2057400"/>
                <a:gridCol w="2057400"/>
                <a:gridCol w="2057400"/>
                <a:gridCol w="2057400"/>
              </a:tblGrid>
              <a:tr h="70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o-li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P Bi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leared bid quantity multiplied by the sum of the cleared bid price, if positive, plus the “u”th percentile of the hourly positive price difference between the source RTSPP minus the sink RTSP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illary Servi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ed qty not self-arranged * p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Mo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ve that ERCOT reduce ACL for the DAM on non-business days as it does today, excep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ould reduce exposure from three part offers by the product of DAM clearing price times cleared qty for each cleared transactio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 longer increase exposure for three part offers based on the difference between historic DAM and RTM pri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duce exposure from each cleared energy only offer by the product of DAM clearing price, cleared qty, and e2.  e2 is set by ERCOT for each counterparty, and only counterparties with favorable pre-DAM treatment qualify this redu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ed on the market participants being able to test a DAM weekend prior to go-live with these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0:03:27Z</dcterms:created>
  <dc:creator>Eric Goff</dc:creator>
  <dc:description/>
  <dc:language>en-US</dc:language>
  <cp:lastModifiedBy>NATF</cp:lastModifiedBy>
  <dcterms:modified xsi:type="dcterms:W3CDTF">2010-09-02T14:31:24Z</dcterms:modified>
  <cp:revision>10</cp:revision>
  <dc:subject/>
  <dc:title>Nodal Credit</dc:title>
</cp:coreProperties>
</file>