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03B5DE-B8FB-4C21-A99A-9DD6D98505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162FAA-CBA6-4F66-9D42-DE4676732F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2DC7A6-F652-4B59-B34A-A9E2DE3175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4F61F0-80E1-4CAD-B2AB-92CD8CA7F1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B1AD6A-4D22-4224-BEC6-02BC37ED70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22631A-E972-4BC6-8ED8-6CE5B03CAF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1CA287-DDD2-4BBA-B688-E81F9D7CA4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78CF96-5C13-4F8D-BF07-8E59A4973C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462004-E6D3-4205-B679-7B727573DF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68207-3D3C-456F-AFA1-00FC8571C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43D5E-9076-43F8-8E4A-4C3F1A3F54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833C6-8681-48AD-BA07-36AF5A3B32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72A66-F436-4B61-8315-D5276E1F49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dal Credit</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M Non-Business Day Treatment of Available Credit Limit (AC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sue &amp; Time Constraint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M was run over non-business days for the first time with credit constraints over the weekend of August 14-16</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ignificant amount of credit was consumed, resulting in some CPs being constrained in the Monday DAM. Key drivers include:</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mpact –very high values used for the 95% price differences between RT and DA applied to Energy Only Offers and Three Part Offers</a:t>
            </a:r>
            <a:endParaRPr b="0" lang="en-US" sz="16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lts from market trials </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expected to be the norm after go live</a:t>
            </a:r>
            <a:endParaRPr b="0" lang="en-US" sz="1400" spc="-1" strike="noStrike">
              <a:solidFill>
                <a:srgbClr val="000000"/>
              </a:solidFill>
              <a:latin typeface="Arial"/>
            </a:endParaRPr>
          </a:p>
          <a:p>
            <a:pPr lvl="3" marL="16002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osure elements –ACL is consumed for Three Part Offers over non-business days when it is not consumed in the DAM on business days</a:t>
            </a:r>
            <a:endParaRPr b="0" lang="en-US" sz="16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 believes it is appropriate for this topic to be reviewed by the market and possibly consider whether a revision to the current methodology is warranted</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clarification must be finalized quickly to achieve implementation prior to go live </a:t>
            </a:r>
            <a:endParaRPr b="0" lang="en-US" sz="16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sue &amp; Time Constraint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posed review schedul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ursday, August 26 - Review with MCWG/CW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day, August 30 –Review with MCWG/CW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esday, August 31 –Potential vote by NATF</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ursday, September 2 –Review by TAC </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Practice</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Non-Business days, MMS reduces the latest ACL by the following each day until a new ACL is received from credit.</a:t>
            </a:r>
            <a:endParaRPr b="0" lang="en-US" sz="1800" spc="-1" strike="noStrike">
              <a:solidFill>
                <a:srgbClr val="000000"/>
              </a:solidFill>
              <a:latin typeface="Arial"/>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280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ergy-only offers: ACL is reduced by the product of the cleared quantity of the offer times the 95</a:t>
            </a:r>
            <a:r>
              <a:rPr b="0" lang="en-US" sz="1400" spc="-1" strike="noStrike" baseline="30000">
                <a:solidFill>
                  <a:srgbClr val="000000"/>
                </a:solidFill>
                <a:latin typeface="Arial"/>
              </a:rPr>
              <a:t>th</a:t>
            </a:r>
            <a:r>
              <a:rPr b="0" lang="en-US" sz="1400" spc="-1" strike="noStrike">
                <a:solidFill>
                  <a:srgbClr val="000000"/>
                </a:solidFill>
                <a:latin typeface="Arial"/>
              </a:rPr>
              <a:t> percentile of the positive hourly difference of the Real-Time Settlement Point Price and Day-Ahead Settlement Point Price over the previous 30 days for the hour.</a:t>
            </a:r>
            <a:endParaRPr b="0" lang="en-US" sz="1400" spc="-1" strike="noStrike">
              <a:solidFill>
                <a:srgbClr val="000000"/>
              </a:solidFill>
              <a:latin typeface="Arial"/>
            </a:endParaRPr>
          </a:p>
          <a:p>
            <a:pPr lvl="2" marL="111996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27920" indent="-280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ergy bids: ACL is reduced by the product of the cleared bid quantity multiplied by the cleared bid price.</a:t>
            </a:r>
            <a:endParaRPr b="0" lang="en-US" sz="1400" spc="-1" strike="noStrike">
              <a:solidFill>
                <a:srgbClr val="000000"/>
              </a:solidFill>
              <a:latin typeface="Arial"/>
            </a:endParaRPr>
          </a:p>
          <a:p>
            <a:pPr lvl="2" marL="111996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27920" indent="-280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part energy offers: ACL is reduced by the product of the cleared quantity of the offer times the 95thpercentile of the positive hourly difference of the Real-Time Settlement Point Price and Day-Ahead Settlement Point Price over the previous 30 days for the hour.</a:t>
            </a:r>
            <a:endParaRPr b="0" lang="en-US" sz="1400" spc="-1" strike="noStrike">
              <a:solidFill>
                <a:srgbClr val="000000"/>
              </a:solidFill>
              <a:latin typeface="Arial"/>
            </a:endParaRPr>
          </a:p>
          <a:p>
            <a:pPr lvl="2" marL="111996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27920" indent="-280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TP Obligation bids: For each cleared PTP Obligation Bid, the ACL is reduced by the cleared bid quantity multiplied by the sum of the cleared bid price, if positive, plus the 95th percentile of the hourly positive price difference between the source Real-Time Settlement Point Price minus the sink Real-Time Settlement Point Price over the previous 30 days for the hour.</a:t>
            </a:r>
            <a:endParaRPr b="0" lang="en-US" sz="1400" spc="-1" strike="noStrike">
              <a:solidFill>
                <a:srgbClr val="000000"/>
              </a:solidFill>
              <a:latin typeface="Arial"/>
            </a:endParaRPr>
          </a:p>
          <a:p>
            <a:pPr lvl="2" marL="111996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27920" indent="-280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ured AS: For procured Ancillary Services, the ACL is reduced by the product of the cleared quantity of Ancillary Service not self-arranged times the hourly MCPC for that Ancillary Service for that hou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mmendation, Pt 1</a:t>
            </a:r>
            <a:endParaRPr b="0" lang="en-US" sz="4400" spc="-1" strike="noStrike">
              <a:solidFill>
                <a:srgbClr val="000000"/>
              </a:solidFill>
              <a:latin typeface="Arial"/>
            </a:endParaRPr>
          </a:p>
        </p:txBody>
      </p:sp>
      <p:graphicFrame>
        <p:nvGraphicFramePr>
          <p:cNvPr id="50" name=""/>
          <p:cNvGraphicFramePr/>
          <p:nvPr/>
        </p:nvGraphicFramePr>
        <p:xfrm>
          <a:off x="457200" y="1600200"/>
          <a:ext cx="8229600" cy="3589200"/>
        </p:xfrm>
        <a:graphic>
          <a:graphicData uri="http://schemas.openxmlformats.org/drawingml/2006/table">
            <a:tbl>
              <a:tblPr/>
              <a:tblGrid>
                <a:gridCol w="2057400"/>
                <a:gridCol w="2057400"/>
                <a:gridCol w="2057400"/>
                <a:gridCol w="2057400"/>
              </a:tblGrid>
              <a:tr h="747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ity Typ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mmenda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go-liv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Part Offer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5%ile of the positive diff between RT and DA pri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 exposure by qty * pri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rgy Bid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 exposure by qty * pri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rgy-only Offer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5%ile of the positive diff between RT and DA pri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e spread &amp; reduce exposure by qty * price * e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mmendation, Pt 2</a:t>
            </a:r>
            <a:endParaRPr b="0" lang="en-US" sz="4400" spc="-1" strike="noStrike">
              <a:solidFill>
                <a:srgbClr val="000000"/>
              </a:solidFill>
              <a:latin typeface="Arial"/>
            </a:endParaRPr>
          </a:p>
        </p:txBody>
      </p:sp>
      <p:graphicFrame>
        <p:nvGraphicFramePr>
          <p:cNvPr id="52" name=""/>
          <p:cNvGraphicFramePr/>
          <p:nvPr/>
        </p:nvGraphicFramePr>
        <p:xfrm>
          <a:off x="457200" y="1600200"/>
          <a:ext cx="8229600" cy="4118040"/>
        </p:xfrm>
        <a:graphic>
          <a:graphicData uri="http://schemas.openxmlformats.org/drawingml/2006/table">
            <a:tbl>
              <a:tblPr/>
              <a:tblGrid>
                <a:gridCol w="2057400"/>
                <a:gridCol w="2057400"/>
                <a:gridCol w="2057400"/>
                <a:gridCol w="2057400"/>
              </a:tblGrid>
              <a:tr h="700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ity Typ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mmenda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go-liv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7366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TP Bid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cleared bid quantity multiplied by the sum of the cleared bid price, if positive, plus the “u”th percentile of the hourly positive price difference between the source RTSPP minus the sink RTSPP</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90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R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nor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7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cillary Service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red qty not self-arranged * pri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6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osed Motion</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Move that ERCOT reduce ACL for the DAM on non-business days as it does today, excep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should reduce exposure from three part offers by the product of price times qty for each cleared transaction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No longer increase exposure for three part offers based on the difference between historic DAM and RTM pric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Reduce exposure from energy only offers by the product of price, qty, and e2.  e2 is set by ERCOT for each counterparty, and only counterparties with favorable pre-DAM treatment qualify this redu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30T20:03:27Z</dcterms:created>
  <dc:creator>Eric Goff</dc:creator>
  <dc:description/>
  <dc:language>en-US</dc:language>
  <cp:lastModifiedBy>klandry</cp:lastModifiedBy>
  <dcterms:modified xsi:type="dcterms:W3CDTF">2010-08-31T22:32:24Z</dcterms:modified>
  <cp:revision>5</cp:revision>
  <dc:subject/>
  <dc:title>Nodal Credit</dc:title>
</cp:coreProperties>
</file>