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1CC4-CC9A-43D2-9214-169676AF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8259D-43C1-47D1-939A-37D1D45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5A5B-35B0-4F20-9F53-D73BF85A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0238-A87A-4A38-A69B-5DDB4131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2A82-3FCD-4759-8DAF-D773B0E1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B733-6C1C-4387-AE06-B59392AF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E46E-BC71-4B85-A93A-70A2AF9C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9B05-189C-446D-A57C-093FE490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79F6-CA3D-4CF5-8461-523E30C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D2AB-F248-486D-A1D5-20C3C695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9DFD-C11C-4EC9-9650-A458CD8D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C0A2-E564-4480-A543-0A7E54B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DAC0-F0C0-48FC-B54E-EFC530EE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17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AF72-412E-4513-90EE-B59BC1F0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17,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 R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25360" y="838080"/>
            <a:ext cx="7008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ail Transaction Processing outag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Application connectivity with the database failed, resulting in two unscheduled outages for 236 minutes on 7/19, including 57 minutes to Retail API.  Database and application processes were restarted to resolve the issue. Operating System tuning was performed after second outage.  A root cause has been diagnosed and is under further study.  ERCOT is in contact with the vendors and evaluating their recommendations.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rcial API Changes (upcoming)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Nodal Go-Live, the ERCOT Commercial API will be available to download Retail, Nodal and Zonal extracts and reports unti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nday, February 27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s may use the All/All function to download 3 days of posted data or the report type id or date to download individual extracts and reports for Retail, Nodal and Zonal mark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ruary 28, 20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the ERCOT Commercial API download capability will be modified to only provide extracts and reports that are posted as part of the Retail and Zonal markets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al reports will no longer be available via Commercial API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ercial API will remain in place until the decommission of TML; estimated execution date is TB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3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uly 2010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62120" y="808200"/>
            <a:ext cx="769608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33520" y="793800"/>
            <a:ext cx="821520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Transaction Processing Availability Summary (contd.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09480" y="809640"/>
            <a:ext cx="80010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00200" y="817560"/>
            <a:ext cx="594360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21000" y="838080"/>
            <a:ext cx="6175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826920"/>
            <a:ext cx="7010280" cy="53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orfia, David</dc:creator>
  <dc:description/>
  <dc:language>en-US</dc:language>
  <cp:lastModifiedBy>tfelton</cp:lastModifiedBy>
  <dcterms:modified xsi:type="dcterms:W3CDTF">2010-08-04T18:48:41Z</dcterms:modified>
  <cp:revision>520</cp:revision>
  <dc:subject/>
  <dc:title>Instructions</dc:title>
</cp:coreProperties>
</file>