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EE5-65D2-418D-8980-C56EECF06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F18E-67F3-4C39-A4E3-1BE06D2B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C46E-8E53-4516-BA96-F558EF73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DC82-DFDE-4008-B565-7510E49A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9CB0-33DA-4280-A78E-182B7B60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F79D-DBEE-462A-997B-A9A53D39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DBC4-FCB0-41E0-9EA8-A89E4876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F7DC-78A6-4662-B7C3-F06DE82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1487-1992-4653-913B-D77602A2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3D96-79FD-483E-B1F6-B3F9D3EC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E321-B7C0-49F1-B235-4C1831B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BE19-B8BC-4FB5-B512-A0F18A6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6165-75A7-4DBC-B42F-1558BCB9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AE2D-BA86-4189-A74A-BDF71C26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3FE0-B9CD-4C39-A1F5-6ABEF731D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FE8C-2A5A-4FAA-92BB-A80325AE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C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AC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Lead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will be convening a meeting of Subcommittee leadership.  This meeting will be expected to review the work product of each Subcommittee, Working Group, and Task For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will be made to TA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ffort is in response to Sunset Commission com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6526-9D9C-4067-AF05-7576D3BD0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da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Advisory Task For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oduced a Business Practice M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ability and Wholesale market commercial practices current operating plan practices by Q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8 hour Test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seeking input from MPs on how this testing should l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 and Criteria are being organized by ERC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Program Upd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ng has been adj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on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Cut-Over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Revenue Right (CRR) Go-Live Decision (Vo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age Scheduler Go-Live Decision (Vo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bcommitte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al Protocol Revision Requests (NPRRs): 7 Votes-All Approv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18, Resolution of Alignment Item A71 - Add Protocol Description of the Power Balance Penalty Factor used in the SC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28, Resolution of Alignment Items A2, A80, A83 and A93 - As-Built Treatment and Settlement of Combined Cycle Generation Resources in ERCOT Market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33, Clarifying Method of Enforcing CRR Auction Limitation on Market Sub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36, Resolution of Alignment Item A83 partially, A86, A87 partially, A88 partially, and A142 - Clarify Default Actions for Missing Data and Range of Valid Data Entries for Energy O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37, Resolution of Alignment Items A22, A143, A148, A153, A160  and A169 – Clarification of NERC Reliability Standards and MIS Post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42, Synchronization of Nodal Protocols with PRR7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45, Protocol Synchronization and As-Built Clarification for RUC Shortfall Calculation Notice of Rejection of SCR741, Multi-Day Scheduling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 Noticed TAC of Rejected Revision Requ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PRR216, Allow ERCOT Option to Cancel Commitments Previously Issued Through R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king Deck has been updated and posted for 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bcommitte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MGRR018, Updates to References of IDR and/or IDR Meter in the Commercial Operations Market Guide Due to the Proposed Definition of IDR Meter in PRR845 (Vo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MGRR020, Creating Subsection 10.3, Unregistered Distributed Generation Reports (Vo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MGRR021, Market Participant Market Notice Process (Vo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RR034, Rescind Telemetry Performance Calculation Exclusions  (Vo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RR038, Synchronization with OGRR243, Disturbance Monitoring Requirements Clarification (Vo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ed ROS Procedures (Vo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bcommittees &amp; Working Group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GRR011, Revisions for Texas Nodal Market Implementation and Synchronization with PRR821 (Vo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on WMS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Operations and Planning IT Re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ton Import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te to Approve Project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0-08-09T13:01:43Z</dcterms:modified>
  <cp:revision>83</cp:revision>
  <dc:subject/>
  <dc:title>Instructions</dc:title>
</cp:coreProperties>
</file>