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A766-E2DE-4358-9803-AE462B54E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D81B-7101-4FEF-B119-0DA980EBD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828C-DC06-4614-86C3-953E37DF4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52CB-5AD9-4047-9EB2-4AF006CC8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3E28-7AAC-4DF9-A4B5-69A1E843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C3AD-6080-4429-891C-795F16D3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ADFF-15DB-49B0-9F82-1F4E5C74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10B6-BF69-499D-9C5F-3A463B8C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F1F2-ED78-496A-88FA-90114690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879A-9D97-4EF7-9064-29FFB2FE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845B-A46B-4D20-A549-45040F26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78ED-B2AB-445E-956B-3B8E665D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85F8-85E5-46F8-AF10-A59AB1B5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15D3-6348-49D4-BC07-61A8D5CF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80E0-1546-4959-8B52-B15220D7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136D-D9EF-481B-AC51-5D4BDEEC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0240-4550-4690-AE15-94A135B9A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F63F-F02E-4AD6-9804-F787D1C33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/5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yle Patr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AS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arly stages of formalizing the next release of TEXAS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S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meter tamp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ESI ID transition between CRs due to acqui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n up of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Advanced Reads &amp; Settlements T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is in early stages of discussing if a long term solution for settlement is necessary (AMS Proj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Deployment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cor: 1,086,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P: 426,0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EP: 29, 8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er Tampering T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live on July 1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rt up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Force held a lessons learned August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nteraction &amp; Data Delivery in Nodal Trai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training aimed at informing retail market on Nodal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2B21-AD81-446E-BD95-46501731B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MGRR011, Revisions for Texas Nodal Market Implementation and Synchronization with PRR821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1219320"/>
          <a:ext cx="8153640" cy="5495760"/>
        </p:xfrm>
        <a:graphic>
          <a:graphicData uri="http://schemas.openxmlformats.org/drawingml/2006/table">
            <a:tbl>
              <a:tblPr/>
              <a:tblGrid>
                <a:gridCol w="2230560"/>
                <a:gridCol w="1492200"/>
                <a:gridCol w="4430880"/>
              </a:tblGrid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for Texas Nodal Market Implementation and Synchronization with PRR82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 Descrip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ation for Texas Nodal Market implementation and synchronization with PRR821 to update Section 17 and align with current stakeholder process and provides changes in support of PRR845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7/14/10, RMS unanimously voted to recommend approval of CMGRR011 as recommended by RMWG in the 6/29/10 RMWG Recommendation Report.   The Cooperative Market Segment was not present for the vote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RCOT CEO has determined that CMGRR011is necessary prior to the Texas Nodal Market Implementation Date (i.e., Nodal Go-Live)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 1, 201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6"/>
          <p:cNvSpPr/>
          <p:nvPr/>
        </p:nvSpPr>
        <p:spPr>
          <a:xfrm>
            <a:off x="32004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80880" y="304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GRR011, Revisions for Texas Nodal Market Implementation and Synchronization with PRR8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"/>
          <p:cNvSpPr/>
          <p:nvPr/>
        </p:nvSpPr>
        <p:spPr>
          <a:xfrm>
            <a:off x="32004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6"/>
          <p:cNvSpPr/>
          <p:nvPr/>
        </p:nvSpPr>
        <p:spPr>
          <a:xfrm>
            <a:off x="32004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patrick</cp:lastModifiedBy>
  <dcterms:modified xsi:type="dcterms:W3CDTF">2010-07-29T15:40:25Z</dcterms:modified>
  <cp:revision>80</cp:revision>
  <dc:subject/>
  <dc:title>Instructions</dc:title>
</cp:coreProperties>
</file>