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1258-44D0-420F-AB1A-1FA7B8D37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BA48-376A-4D19-B2AA-8168AA349C8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55DD-739E-46DB-90C7-6C7592F309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34B1-FB84-442C-BA32-D4EF68CF21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8057-01F0-4183-A2FA-7E9B621390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9639-39BA-428D-AD2A-13D07B5336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60F2-6472-4189-A2A8-F9AE601751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4CFC-22FA-4EAD-8334-CD49D7BBC9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42AE-336E-4B8F-B678-0F3B7ED95F7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FB9F-8073-4B9A-BB84-3C3382B1F1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7088-66A8-469E-B442-6B1434EB05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8EC0-2BFA-401A-9D60-9D36F703DF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710A-9266-451A-98D1-762850E646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E359-8599-4C4F-B229-C207924BC8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3996-EB63-45EF-8364-A637F7FDB18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A05C-7426-402F-B56B-710960EFA6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7B7A-7912-43E3-9A4D-378820CEE4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1A52-FD08-4DFA-847E-D80B851CC4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BF7-87D8-44C3-A98C-A773F5B7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399-2CFB-4F49-8A90-CCD32101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207-E3C9-4B6C-B59B-0667871D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0E8-842A-4D72-A982-FEF20DC3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9ACF-447B-4422-97BD-691F2BD1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4DC3-A3F8-4B97-B5FA-D45CEBFA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EC60-6202-48F5-A785-6D15134D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78AF-6799-4287-A8D6-69A14C74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9855-659C-4496-86D6-F3131A59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E627-47C5-4CFF-9FF2-E969FEC2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D39F-9EAB-4902-855B-319FB374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14D-AAA2-467D-BC8C-776AE91C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6338-F5F3-445E-9ED2-3D54064F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54AC-03DC-4442-AF49-ACBE175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D456-6EEE-40C6-8FB6-3BD9FC84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B900-1BF0-4563-B252-593F3A21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4BEF-78A3-4F90-B6FF-CCC5CA7B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3D9-12BB-44DD-AB27-05109056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ED9-8D45-4901-8BAE-855F17D2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1A5-260E-432C-B6F1-9598C240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46E-7602-4289-953B-2718098C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9E0-1DC5-43C1-8B1B-3ECF357C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D51-DA77-4C38-9562-65F3156C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322D-A6F8-490A-A265-EE4123C5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33FD-42B0-47A1-A875-00B92A8E6CA4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68A4-EF00-47DB-A687-7A78726BBA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5847-9DCB-442C-8AC2-FAED09927F8B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E8BD-4724-4FE2-BB9C-B176C2E3FEB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August 10, 2010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Market  AMS</a:t>
            </a:r>
            <a:br>
              <a:rPr sz="4400"/>
            </a:b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Installed Total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454B-21DD-4EDC-937E-7186CB5E974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Rectangle 11" descr=""/>
          <p:cNvPicPr/>
          <p:nvPr/>
        </p:nvPicPr>
        <p:blipFill>
          <a:blip r:embed="rId1"/>
          <a:stretch/>
        </p:blipFill>
        <p:spPr>
          <a:xfrm>
            <a:off x="1285920" y="2189160"/>
            <a:ext cx="7035840" cy="1986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C:\Documents and Settings\00015621\Local Settings\Temporary Internet Files\Content.IE5\4H9UELBM\MC900093373[1].wmf"/>
          <p:cNvPicPr/>
          <p:nvPr/>
        </p:nvPicPr>
        <p:blipFill>
          <a:blip r:embed="rId2"/>
          <a:stretch/>
        </p:blipFill>
        <p:spPr>
          <a:xfrm rot="3883200">
            <a:off x="5284440" y="2817360"/>
            <a:ext cx="2916360" cy="4605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C:\Documents and Settings\00015621\Local Settings\Temporary Internet Files\Content.IE5\4H9UELBM\MC900093373[1].wmf"/>
          <p:cNvPicPr/>
          <p:nvPr/>
        </p:nvPicPr>
        <p:blipFill>
          <a:blip r:embed="rId3"/>
          <a:stretch/>
        </p:blipFill>
        <p:spPr>
          <a:xfrm rot="2458200">
            <a:off x="166320" y="1135080"/>
            <a:ext cx="2097000" cy="338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C:\Documents and Settings\00015621\Local Settings\Temporary Internet Files\Content.IE5\4H9UELBM\MC900093373[1].wmf"/>
          <p:cNvPicPr/>
          <p:nvPr/>
        </p:nvPicPr>
        <p:blipFill>
          <a:blip r:embed="rId4"/>
          <a:stretch/>
        </p:blipFill>
        <p:spPr>
          <a:xfrm rot="17194200">
            <a:off x="1410120" y="3164040"/>
            <a:ext cx="2892600" cy="4405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25" name="Picture 12" descr="C:\Documents and Settings\00015621\Local Settings\Temporary Internet Files\Content.IE5\4H9UELBM\MC900093373[1].wmf"/>
          <p:cNvPicPr/>
          <p:nvPr/>
        </p:nvPicPr>
        <p:blipFill>
          <a:blip r:embed="rId5"/>
          <a:stretch/>
        </p:blipFill>
        <p:spPr>
          <a:xfrm rot="19913400">
            <a:off x="6875640" y="399600"/>
            <a:ext cx="208404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F1F3-93DB-4603-A086-5745AA1D9FA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SMT Release II </a:t>
            </a:r>
            <a:br>
              <a:rPr sz="4400"/>
            </a:b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Market Breaking News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0520" y="1773360"/>
            <a:ext cx="861084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ed functionality effective 8/9/10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 Registration and subsequent Account Management will convert to Self Service, which was supported by the SMT Help Des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lished TDSP and REP administrators can be converted within one week after release and this will be done with personal assistance from Smart Meter Texas Help Des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r amount of data for meter and premise attribu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6CB9-B5F7-4852-8997-7CF50497298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SMT Release II</a:t>
            </a:r>
            <a:br>
              <a:rPr sz="4400"/>
            </a:b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Expanded Functionality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773360"/>
            <a:ext cx="899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hanced Monthly Usage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stomers will gain ability to provision and de-provision HAN de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sion of Regulatory Repor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ility to enroll Regulatory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rporating REP Branding to Smart Meter Texas web p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and maintain an account for Supplemental (Friends) Us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3AD7-B377-4503-84D7-BB1ABA8D2D1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1599840"/>
            <a:ext cx="7696080" cy="49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UGU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17 – Project #2, Web Portal &amp; Project #4, HAN Tasks Update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Portal Fall Release/Change Control Requests Review/Tasks Up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9:30-5:30    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52600" indent="-212400">
              <a:spcBef>
                <a:spcPts val="4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23– Project #8, Long-Term Settlement (F2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eting Focus: AMS Management of Congestion and AMS Enabled Demand Respon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n: 9:30-5: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ERCOT {7620 Metro Center Dr., Austin, TX 78744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452600" indent="-2124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9C54-3DDD-4D98-8DB3-4E1F76D2040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UGU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31- Project #4 HAN, and Smart Grid 1.0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utstanding Tasks Update/Resolution &amp; Smart Grid 1.0 Market Readiness Up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e: 9:30-5:3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D2FB-0D05-4758-97E9-630B0BC6563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EPTEMBER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ahoma"/>
              </a:rPr>
              <a:t>8-9 Projects – Project #2, Web Portal (F2F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of Design Materials for SMT Release #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Wed: 9:30-5:30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u: 8:30-4:30             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19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ahoma"/>
              </a:rPr>
              <a:t>21-22 Projects TBD (F2F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ue: 9:30-5:30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ed: 9:30-4:30             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cation: Public Utility Commission, CHR, 7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Floor, {1701 N. Congress Ave, Austin, TX 78701}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1C3C-088F-48BC-845B-FEA9CBF59D1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B516-B475-44B5-8D69-B16502FE384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7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Definition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62120" y="1828440"/>
            <a:ext cx="769608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S (IDR) meter type settled using the 15-Minute LSE data received from TDS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 Minute LSE data containing both generation and load values , also profile included DG with AMS (IDR) meter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MS data included Distributive Renewable Generation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COT estimated data because profile showed AMS (IDR) meter type, however the 15-minute LSE data wasn’t available  in ERCOT’s Settlement system at the time the ESI ID was being processed for Settlement .     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25AC-64DB-44AF-A5BB-134CB7D1DA8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Initial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ettlemen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July 19, 2010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July 11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1,090,2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,81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D8C5-9B8B-48D9-82F0-81F87E1842B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Final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ettlemen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July 19, 2010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May 23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877,8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0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,86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8132-0E8A-44DD-894B-935D0A44ACA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True-Up Settlemen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July 19, 2010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anuary 20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521,09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,89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C80F-489C-47DF-8ED7-3357DEBA35F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7/19/10 </a:t>
            </a:r>
            <a:br>
              <a:rPr sz="4400"/>
            </a:b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 Settlement Total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9F2B-DFFB-466A-8520-B5A7FD1301F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Rectangle 11" descr=""/>
          <p:cNvPicPr/>
          <p:nvPr/>
        </p:nvPicPr>
        <p:blipFill>
          <a:blip r:embed="rId1"/>
          <a:stretch/>
        </p:blipFill>
        <p:spPr>
          <a:xfrm>
            <a:off x="1274760" y="2127240"/>
            <a:ext cx="7070760" cy="202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C:\Documents and Settings\00015621\Local Settings\Temporary Internet Files\Content.IE5\4H9UELBM\MC900093373[1].wmf"/>
          <p:cNvPicPr/>
          <p:nvPr/>
        </p:nvPicPr>
        <p:blipFill>
          <a:blip r:embed="rId2"/>
          <a:stretch/>
        </p:blipFill>
        <p:spPr>
          <a:xfrm rot="3623400">
            <a:off x="5357880" y="2665440"/>
            <a:ext cx="2916360" cy="4605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C:\Documents and Settings\00015621\Local Settings\Temporary Internet Files\Content.IE5\4H9UELBM\MC900093373[1].wmf"/>
          <p:cNvPicPr/>
          <p:nvPr/>
        </p:nvPicPr>
        <p:blipFill>
          <a:blip r:embed="rId3"/>
          <a:stretch/>
        </p:blipFill>
        <p:spPr>
          <a:xfrm rot="2458200">
            <a:off x="304560" y="1185480"/>
            <a:ext cx="2097000" cy="296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C:\Documents and Settings\00015621\Local Settings\Temporary Internet Files\Content.IE5\4H9UELBM\MC900093373[1].wmf"/>
          <p:cNvPicPr/>
          <p:nvPr/>
        </p:nvPicPr>
        <p:blipFill>
          <a:blip r:embed="rId4"/>
          <a:stretch/>
        </p:blipFill>
        <p:spPr>
          <a:xfrm rot="16449000">
            <a:off x="1413360" y="2698920"/>
            <a:ext cx="2892600" cy="506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09" name="Picture 12" descr="C:\Documents and Settings\00015621\Local Settings\Temporary Internet Files\Content.IE5\4H9UELBM\MC900093373[1].wmf"/>
          <p:cNvPicPr/>
          <p:nvPr/>
        </p:nvPicPr>
        <p:blipFill>
          <a:blip r:embed="rId5"/>
          <a:stretch/>
        </p:blipFill>
        <p:spPr>
          <a:xfrm rot="19913400">
            <a:off x="6903720" y="502920"/>
            <a:ext cx="190332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ahoma"/>
              </a:rPr>
              <a:t>Oncor</a:t>
            </a: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1,165,035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as of </a:t>
            </a: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7.31.2010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loyment Plan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29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2C28-39DE-46AE-895C-C2FFA9CB1A4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enterPoint Energy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498,024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s of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8.05.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loyment Plan, includes projected growth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56,684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60,327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73,423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4224-06F3-4D3A-B39F-72D36F62CB1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merican Electric Power (AEP)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49,43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s of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8.3.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ployment Plan sched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8,212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51,571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79,329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3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78,28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FE72-2520-46C4-B7A1-A8A3DD4BC24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Scott, Kathy D.</cp:lastModifiedBy>
  <dcterms:modified xsi:type="dcterms:W3CDTF">2010-08-07T02:07:17Z</dcterms:modified>
  <cp:revision>381</cp:revision>
  <dc:subject/>
  <dc:title>MARS Taskforce </dc:title>
</cp:coreProperties>
</file>