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03E3-7431-473F-9FCF-CBC15F8064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2C32-C083-4D8B-AF33-5FDB69996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B11F-D79D-4ACC-B90E-FAD007543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6133-4DFE-4D7C-8D02-E676C5FF5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4BE3-ADD3-4F6D-879F-F85E4A730B6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D4D0-93E3-4FDB-9821-F58191241BE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8CAB-9F54-4728-9332-48B0B3AF72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CBC9-622F-45DE-B803-A5E885064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E9487-3B64-497E-894A-F419F832178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4EACB-8092-435E-B440-75126983B0E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8A67-5368-4B7C-AE1A-8774C70A653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6414-FAFA-4EED-A4DA-1937032901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E8AF-E5C4-4FBB-9CB9-6F0055E5F9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FFE0-C2EF-4DD1-853E-CAA3D2861B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3CF5-F751-45C8-9860-7A7BF89472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E90D-3072-4D23-9501-BBCBE64B77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DFCE-A7C2-4BCA-96F4-16CA0AC4C6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118CE-F189-4258-A66B-E7A1336F6E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BFF5B-F478-455A-8519-D44955FE62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FC6B-E458-44C6-A7AD-AAA1D85FD9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3BA07-0927-4F2A-B474-4FAC2265B6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4495-93F4-417F-831F-09C5813423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D169-12F0-49BB-88E1-43FE52AC40A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8D67-72E1-4E82-A74D-07445E8385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0B0B-BC96-4E64-A4C9-B4061ED73C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38D2-96CE-41E5-B0F1-9845E23495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7BC0-7208-45F2-A9EB-9EA888FB507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85C-D47B-45AC-9C65-A0E27BA42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FA9CEE-F22F-4D27-A660-A87BE598F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41B5FA-0D5C-4EEA-A000-5EC191BE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FD4A7C-3506-4809-916B-34EEFA24F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B2586E-28D8-4569-8947-76AE2F57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BD191E-0848-46D9-962F-9D354BCB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1D160E-D2AC-4A34-811E-C1CB6A29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20C69B-4AAD-4E8F-876D-636FC943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7E836E-E7F2-45F6-8E9D-F43E92EF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11E106-756A-4DE9-A96D-A9E31A76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C649DE-24BA-481D-99D0-54902BDEF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68362F-3A2B-4814-889E-1D5BDB5E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A6E1EF5-DE48-48D8-8960-E68742B63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9984A4-4135-4D11-A605-58865ED57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F6FBE8-E957-4EB4-B20D-8A32822E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EA9631-B470-431D-A2A5-45E0BE36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ED5E-B69E-48E5-9281-EDD8D6B5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2C0AFA-5402-4A15-83ED-E8B7D61C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982F93-0EDC-4F7A-8057-C6418CD2E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8DD584-9C9D-4488-8F23-1CD25F9C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D007F8C-B6D1-434F-A60D-943C5DAE7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22ECBD-1BDE-41D0-A08A-8B87591AD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0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23D1E5-2C5D-4856-AD8C-E15E6661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ugust 10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138240" y="914400"/>
            <a:ext cx="8866080" cy="398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1" name="Picture 7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104320" cy="100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2" name="TextBox 3"/>
          <p:cNvSpPr/>
          <p:nvPr/>
        </p:nvSpPr>
        <p:spPr>
          <a:xfrm>
            <a:off x="685800" y="2743200"/>
            <a:ext cx="754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90006_01 targeted for Closing Phase by 08/2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519120" y="990720"/>
            <a:ext cx="8104320" cy="100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TextBox 3"/>
          <p:cNvSpPr/>
          <p:nvPr/>
        </p:nvSpPr>
        <p:spPr>
          <a:xfrm>
            <a:off x="795240" y="1219320"/>
            <a:ext cx="19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Initi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9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039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1" name="TextBox 3"/>
          <p:cNvSpPr/>
          <p:nvPr/>
        </p:nvSpPr>
        <p:spPr>
          <a:xfrm>
            <a:off x="703800" y="1219320"/>
            <a:ext cx="409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currently in Closing, Closed or Cance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8/09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3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00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5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08-09T17:53:53Z</dcterms:modified>
  <cp:revision>679</cp:revision>
  <dc:subject/>
  <dc:title>Role of Account Management at ERCOT</dc:title>
</cp:coreProperties>
</file>