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D0B7-BAED-4932-8BBE-29CE6D37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09D8-731F-4C86-9D05-E1DEA87F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921F-67FE-491B-8B93-A86BBA75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F4DE-C817-4A39-8D8D-F9FB4B5B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9C03-480B-498F-A169-D66E6EF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9712-59D9-4DDC-8EFF-EABC675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B68E-B30A-4935-867D-AE745140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26C69-7A4D-4282-B07F-0EC17282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11C6-81F8-4921-B7AC-E7EF2B45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CEAE-0528-4FC2-975C-484AD603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8815-805B-48AE-B38A-B8A2B0FE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1C15-2375-486C-A135-0FCC4E4B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0256-2FD3-4EDD-8C9C-29615D80F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874-BADE-44F7-9B20-FB336AF83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10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904760"/>
            <a:ext cx="6829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dal EILS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dy Bau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ic Refresh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ier this year ERCOT brought options regarding the methodology to invoice the EILS payments and charges in N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iscellaneous Invoice vs. Miscellaneous Debit/Credit line item on a settle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the Miscellaneous Debit/Credit functionality (PUCT requirement to put it on a statement for an Op 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-A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RCOT continue to evaluate possibilities of a more robust solution (that doesn’t require system change) and the possibility of getting EILS data into the settlement ex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llow-Up on ERCOT Take-Aw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has confirmed a data-driven approach that, without system change, will enable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charge types specific to the EILS Payment and the EILS Charge on a settlement statement (instead of as a Miscellaneous Debit or Credit line i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LS Payment and Charge bill determinants in the settlements ex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due to the nature of the EILS process, this op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manual work-around and therefore there are limi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of the data elements can be provided; focus remains on the key bill determinants which show QSE’s payment/charge amounts, QSE’s time period LRS, and market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to accomplish this data driven approach, ERCOT needs to used slightly modified bill determinants than what currently show in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llow-Up on ERCOT Take-Awa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osed solution – bill determina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880" y="1235160"/>
          <a:ext cx="8458200" cy="4690800"/>
        </p:xfrm>
        <a:graphic>
          <a:graphicData uri="http://schemas.openxmlformats.org/drawingml/2006/table">
            <a:tbl>
              <a:tblPr/>
              <a:tblGrid>
                <a:gridCol w="1828800"/>
                <a:gridCol w="2743200"/>
                <a:gridCol w="3886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 Determin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PA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Payment Am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SE and Time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(no interval breakdow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PAMTQSE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Payment Amount QS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s the statement  (display in RTM Energy se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CA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Charge Am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SE and Time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(no interval breakdow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CAMTQSE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Charge Amount  QS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s the statement  (display in RTM Energy sec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L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Loa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by Time Perio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PAMTT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Payment Amount ERCOT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by Time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M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L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LS Load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QSE by Time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TM 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COPS preference of this option vs. use of Miscellaneous Debit / Credit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est to take the topic to SEWG to provide more details on the bill determinants and an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e this approach in upcoming market tr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eb 2010 - May 2010 contract perio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the Charge Type Matrix to include EILS sett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lect the bill determinants which will be used by the settlement statements and sent in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file an NPRR to address the bill determinant n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Nodal EILS bill determinants do not follow the standards that have been used across other charge type areas (i.e., they look “zonal” not “nodal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ection 9.5.3 (listing of RTM settlement charge types) to include the EILS charg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0-08-10T22:21:36Z</dcterms:modified>
  <cp:revision>103</cp:revision>
  <dc:subject/>
  <dc:title>Instructions</dc:title>
</cp:coreProperties>
</file>