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F4294-EFCD-47D2-9B1C-3F6D2B2599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92437-7FAD-450A-BDDF-0CAFE62BF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557C4-1440-4644-BAB9-2FF1DF079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7DE94-7344-49AA-88F1-FF06EDE21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AEDBE-E287-482E-B185-E66229B4B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C6F5D-ABBF-4114-9201-4062B3794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0DB8A-AE61-4F58-8753-EC9A862CA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C57C3-140A-466D-94BE-CE6112EC6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DED1D-E946-462F-9453-E1231105D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4A245-9200-436A-B71F-7A633C41C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571E9-3CBA-47BF-823E-49A9F1AA1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537C2-0B91-4117-89AE-4868ADB20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1FA07-3AD9-4ABA-9C8C-25DCB2541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92545-DEDD-4158-AB21-BA6924CF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E6A02-4341-4E5F-A1FE-B6449ABB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7D593-2AB4-4F43-A76D-31B0E9F7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7ED7B-2999-46B4-B419-120683E408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52B28-01B1-4656-8DAF-9148124B0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"/>
          <p:cNvSpPr/>
          <p:nvPr/>
        </p:nvSpPr>
        <p:spPr>
          <a:xfrm>
            <a:off x="2333520" y="5467320"/>
            <a:ext cx="6276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/5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5"/>
          <p:cNvSpPr/>
          <p:nvPr/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MS Upd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Kyle Patri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MS Updat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AS S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early stages of formalizing the next release of TEXAS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S Function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CT Function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es for meter tamp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es for ESI ID transition between CRs due to acquis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ean up of examp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Advanced Reads &amp; Settlements T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is in early stages of discussing if a long term solution for settlement is necessary (AMS Projec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Deployment fig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cor: 1,086,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NP: 426,0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EP: 29, 83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er Tampering T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 live on July 1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rt up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 Force held a lessons learned August 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Interaction &amp; Data Delivery in Nodal Train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training aimed at informing retail market on Nodal imp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439F0-E338-44A9-9A58-6F2E34130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MGRR011, Revisions for Texas Nodal Market Implementation and Synchronization with PRR821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80880" y="1219320"/>
          <a:ext cx="8153640" cy="5495760"/>
        </p:xfrm>
        <a:graphic>
          <a:graphicData uri="http://schemas.openxmlformats.org/drawingml/2006/table">
            <a:tbl>
              <a:tblPr/>
              <a:tblGrid>
                <a:gridCol w="2230560"/>
                <a:gridCol w="1492200"/>
                <a:gridCol w="4430880"/>
              </a:tblGrid>
              <a:tr h="75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pose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sions for Texas Nodal Market Implementation and Synchronization with PRR821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sion Descripti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ation for Texas Nodal Market implementation and synchronization with PRR821 to update Section 17 and align with current stakeholder process and provides changes in support of PRR845.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ubcommittee Acronym) Vo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7/14/10, RMS unanimously voted to recommend approval of CMGRR011 as recommended by RMWG in the 6/29/10 RMWG Recommendation Report.   The Cooperative Market Segment was not present for the vote.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O Determin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ERCOT CEO has determined that CMGRR011is necessary prior to the Texas Nodal Market Implementation Date (i.e., Nodal Go-Live).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tember 1, 2010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3"/>
          <p:cNvSpPr/>
          <p:nvPr/>
        </p:nvSpPr>
        <p:spPr>
          <a:xfrm>
            <a:off x="762120" y="1600200"/>
            <a:ext cx="7619760" cy="4191120"/>
          </a:xfrm>
          <a:prstGeom prst="rect">
            <a:avLst/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4"/>
          <p:cNvSpPr/>
          <p:nvPr/>
        </p:nvSpPr>
        <p:spPr>
          <a:xfrm>
            <a:off x="2895480" y="1600200"/>
            <a:ext cx="0" cy="419112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"/>
          <p:cNvSpPr/>
          <p:nvPr/>
        </p:nvSpPr>
        <p:spPr>
          <a:xfrm>
            <a:off x="3886200" y="1600200"/>
            <a:ext cx="0" cy="419112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6"/>
          <p:cNvSpPr/>
          <p:nvPr/>
        </p:nvSpPr>
        <p:spPr>
          <a:xfrm>
            <a:off x="4800600" y="1600200"/>
            <a:ext cx="0" cy="419112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7"/>
          <p:cNvSpPr/>
          <p:nvPr/>
        </p:nvSpPr>
        <p:spPr>
          <a:xfrm>
            <a:off x="762120" y="251460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762120" y="304812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9"/>
          <p:cNvSpPr/>
          <p:nvPr/>
        </p:nvSpPr>
        <p:spPr>
          <a:xfrm>
            <a:off x="762120" y="358128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0"/>
          <p:cNvSpPr/>
          <p:nvPr/>
        </p:nvSpPr>
        <p:spPr>
          <a:xfrm>
            <a:off x="762120" y="411480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1"/>
          <p:cNvSpPr/>
          <p:nvPr/>
        </p:nvSpPr>
        <p:spPr>
          <a:xfrm>
            <a:off x="762120" y="464832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2"/>
          <p:cNvSpPr/>
          <p:nvPr/>
        </p:nvSpPr>
        <p:spPr>
          <a:xfrm>
            <a:off x="762120" y="518148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849960" y="2070000"/>
            <a:ext cx="158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em Review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4"/>
          <p:cNvSpPr/>
          <p:nvPr/>
        </p:nvSpPr>
        <p:spPr>
          <a:xfrm>
            <a:off x="5552640" y="1994040"/>
            <a:ext cx="129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2978640" y="1944720"/>
            <a:ext cx="822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a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762120" y="5181480"/>
            <a:ext cx="2103480" cy="5806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dit Monitor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844560" y="262584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8"/>
          <p:cNvSpPr/>
          <p:nvPr/>
        </p:nvSpPr>
        <p:spPr>
          <a:xfrm>
            <a:off x="846000" y="315900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ff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9"/>
          <p:cNvSpPr/>
          <p:nvPr/>
        </p:nvSpPr>
        <p:spPr>
          <a:xfrm>
            <a:off x="794880" y="3681360"/>
            <a:ext cx="202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uter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0"/>
          <p:cNvSpPr/>
          <p:nvPr/>
        </p:nvSpPr>
        <p:spPr>
          <a:xfrm>
            <a:off x="796680" y="422604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iness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1"/>
          <p:cNvSpPr/>
          <p:nvPr/>
        </p:nvSpPr>
        <p:spPr>
          <a:xfrm>
            <a:off x="794880" y="47592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id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2"/>
          <p:cNvSpPr/>
          <p:nvPr/>
        </p:nvSpPr>
        <p:spPr>
          <a:xfrm>
            <a:off x="3888000" y="194472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24"/>
          <p:cNvSpPr/>
          <p:nvPr/>
        </p:nvSpPr>
        <p:spPr>
          <a:xfrm>
            <a:off x="3200400" y="3124080"/>
            <a:ext cx="380880" cy="38124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1240"/>
              <a:gd name="textAreaBottom" fmla="*/ 291240 h 38124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33ef4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26"/>
          <p:cNvSpPr/>
          <p:nvPr/>
        </p:nvSpPr>
        <p:spPr>
          <a:xfrm>
            <a:off x="3200400" y="4191120"/>
            <a:ext cx="380880" cy="38088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28"/>
          <p:cNvSpPr/>
          <p:nvPr/>
        </p:nvSpPr>
        <p:spPr>
          <a:xfrm>
            <a:off x="3200400" y="5257800"/>
            <a:ext cx="380880" cy="38088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33ef4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9"/>
          <p:cNvSpPr/>
          <p:nvPr/>
        </p:nvSpPr>
        <p:spPr>
          <a:xfrm>
            <a:off x="762120" y="579132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0"/>
          <p:cNvSpPr/>
          <p:nvPr/>
        </p:nvSpPr>
        <p:spPr>
          <a:xfrm>
            <a:off x="3200400" y="5257800"/>
            <a:ext cx="380880" cy="38088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380880" y="30492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MGRR011, Revisions for Texas Nodal Market Implementation and Synchronization with PRR8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26"/>
          <p:cNvSpPr/>
          <p:nvPr/>
        </p:nvSpPr>
        <p:spPr>
          <a:xfrm>
            <a:off x="3200400" y="4724280"/>
            <a:ext cx="380880" cy="38124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1240"/>
              <a:gd name="textAreaBottom" fmla="*/ 291240 h 38124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26"/>
          <p:cNvSpPr/>
          <p:nvPr/>
        </p:nvSpPr>
        <p:spPr>
          <a:xfrm>
            <a:off x="3200400" y="3657600"/>
            <a:ext cx="380880" cy="38088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26"/>
          <p:cNvSpPr/>
          <p:nvPr/>
        </p:nvSpPr>
        <p:spPr>
          <a:xfrm>
            <a:off x="3200400" y="2590920"/>
            <a:ext cx="380880" cy="38088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kpatrick</cp:lastModifiedBy>
  <dcterms:modified xsi:type="dcterms:W3CDTF">2010-07-29T15:40:25Z</dcterms:modified>
  <cp:revision>80</cp:revision>
  <dc:subject/>
  <dc:title>Instructions</dc:title>
</cp:coreProperties>
</file>