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5B6A91-8755-488F-9A61-323C788C9C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128A63-690B-4B42-B16F-73517C6E7B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07D7A8-37A4-4098-93B9-0B28C41005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B1C67F-6889-4A1B-AFCF-FEFC1EDA31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5B6177-CF69-4CE3-AE22-8CC5C3326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785FCA-2553-4E3E-BB64-E548FA8D03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A64234-80DF-4563-8845-DB9B826CDF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507F47-7798-4072-A48D-A2A1230F60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41DAE5-ABEA-4B70-B403-29189176FA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919CA-5C84-49CB-9BD2-61A33A7850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B8F44-2102-4999-940B-2655840E4E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66E6B-F9AA-4794-98F4-87C218F9FF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20757-2A79-4E9D-964F-F6264FF9AD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38088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DSWG Update  – July 2010</a:t>
            </a:r>
            <a:endParaRPr b="0" lang="en-US" sz="4000" spc="-1" strike="noStrike">
              <a:solidFill>
                <a:srgbClr val="000000"/>
              </a:solidFill>
              <a:latin typeface="Arial"/>
            </a:endParaRPr>
          </a:p>
        </p:txBody>
      </p:sp>
      <p:sp>
        <p:nvSpPr>
          <p:cNvPr id="42" name="PlaceHolder 2"/>
          <p:cNvSpPr>
            <a:spLocks noGrp="1"/>
          </p:cNvSpPr>
          <p:nvPr>
            <p:ph type="subTitle"/>
          </p:nvPr>
        </p:nvSpPr>
        <p:spPr>
          <a:xfrm>
            <a:off x="152280" y="1066680"/>
            <a:ext cx="8839440" cy="5486400"/>
          </a:xfrm>
          <a:prstGeom prst="rect">
            <a:avLst/>
          </a:prstGeom>
          <a:noFill/>
          <a:ln w="0">
            <a:noFill/>
          </a:ln>
        </p:spPr>
        <p:txBody>
          <a:bodyPr lIns="90000" rIns="90000" tIns="46800" bIns="46800" anchor="t">
            <a:noAutofit/>
          </a:bodyPr>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DSWG has not formally met since the last ROS meeting.</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SP’s have been involved in identifying a list of outstanding issues that need to be resolved by the TSP’s and ERCOT. This was requested by NATF in order for them determine if they could certify that TSP’s are ready for market go-live. They are also working on a similar set of issues for QSE’s. </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7 issues have been identified, their impacts to TSP’s and assigned priorities (1-4). </a:t>
            </a:r>
            <a:endParaRPr b="0" lang="en-US" sz="24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 Show stopper; Needs resolution before Go-live can be accomplished.</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 High priority issue that should be resolved by Go-live</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 Needed but can be implement post Go-live</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 Needed by Planning Go-Live (approximately March 2011)</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DSWG, NATF and ERCOT are planning on trying to resolve these issues in the next couple of weeks.</a:t>
            </a:r>
            <a:endParaRPr b="0" lang="en-US" sz="20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still significant performance issues with NMMS that need to be resolved. This is a high priority and needs ERCOT’s and their vendors full attention.</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2T17:54:59Z</dcterms:created>
  <dc:creator>AEP</dc:creator>
  <dc:description/>
  <dc:language>en-US</dc:language>
  <cp:lastModifiedBy>AEP</cp:lastModifiedBy>
  <dcterms:modified xsi:type="dcterms:W3CDTF">2010-07-12T18:18:47Z</dcterms:modified>
  <cp:revision>17</cp:revision>
  <dc:subject/>
  <dc:title>NDSWG Update to ROS – May 2010</dc:title>
</cp:coreProperties>
</file>