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3DC3-46B8-4194-B3CB-60915A29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AFEB-09BF-4FFE-B962-081B7B4F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A43D-9358-4DD2-8CE3-57E7FDF5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5804-B19F-48C2-B0A2-10DDC5155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4CA4-4118-4D51-B7EF-BD4681EF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A764-E805-49CF-86BC-A217B5BD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5704-62E6-49E7-9D5E-B04BC55B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4311-7D90-49C5-AE2D-8A5FC379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1BD2-FA8F-442F-ABF4-C1D2945E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985B-8DB2-4F2B-91D7-DAFD936E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86E7-24D6-4E9A-A3A0-42F4D1F0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CC9-1878-4569-BB50-731631A4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CB28-3491-456E-BC58-186594F19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15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dney Nieme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240" y="458640"/>
            <a:ext cx="90295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2560" y="453960"/>
            <a:ext cx="903888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28440" y="220680"/>
            <a:ext cx="9200880" cy="6419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10080" y="4572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RCOT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8160" y="353880"/>
            <a:ext cx="922032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99960"/>
            <a:ext cx="9144000" cy="6061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124080" y="380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CPS1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1143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S1 12 Month Rolling Average = 145.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17524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7960" y="311040"/>
            <a:ext cx="866808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37960" y="230040"/>
            <a:ext cx="8668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38160" y="15840"/>
            <a:ext cx="922032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7960" y="201600"/>
            <a:ext cx="86680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7960" y="206280"/>
            <a:ext cx="8668080" cy="644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Meeting July 7,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-001-TRE Upd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 scheduled for August 6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ed instruction and demonstration of Primary Frequency Response measure and eval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 Center from 9:00 am to 3:00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of latest draft of regional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RA is independently evaluating standard and writing instructions for evaluation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1670 MW of capacity is now testing proposed Governor settings: droop curve with no step function and lower dead-b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37960" y="58680"/>
            <a:ext cx="8668080" cy="67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s of July 7,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s with Governors presently set with an intentional deadband less than or equal to +/-0.01666 Hz and droop curve with no step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,987 MW Total Capacity Identified by PDCWG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90 MW Lig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34 MW C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80 MW Combustion Turbine Combined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19 MW Combustion Turbine Simpl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24 MW Steam Turbine – natural gas f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0 MW Hyd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DCWG Meeting July 7, 2010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al 8 hour LFC test revi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 with Regulation deployments as being excessive for frequency err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ed to unit oscillation and large frequency oscil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S1 hour data was significantly lower than recent CPS1 hour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further tuning of LFC regulation deployment in future test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as Renewables Integration Plan SP-05 Impact of Wind Turbines on System Inert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ted comments to the RTW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Event revi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23, 2010 15:20 DCS event was reviewed.  Primary Frequency Response evaluation will be available in Aug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d NPRR for Synchronization with PRR 824 and PRR 83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DCWG Meeting July 7, 2010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629400" y="762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S1 = 147.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3760" y="0"/>
            <a:ext cx="91915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629400" y="762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S1 = 157.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240" y="458640"/>
            <a:ext cx="90295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2560" y="453960"/>
            <a:ext cx="903888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7:13:32Z</dcterms:created>
  <dc:creator>Sydney L. Niemeyer</dc:creator>
  <dc:description/>
  <dc:language>en-US</dc:language>
  <cp:lastModifiedBy>PDCWG</cp:lastModifiedBy>
  <dcterms:modified xsi:type="dcterms:W3CDTF">2010-07-09T20:09:38Z</dcterms:modified>
  <cp:revision>68</cp:revision>
  <dc:subject/>
  <dc:title>Slide 1</dc:title>
</cp:coreProperties>
</file>