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AEB776-D9FE-41BF-AD25-17955BE03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9142FC-F1CB-46F6-B431-5763A0B4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8646-6529-45A5-B96A-5736F39AE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4B9F-3254-4500-B271-5A6023FA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A3EB-EBCF-4EC7-9DC8-49A86205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AF82-5867-4115-83D2-548AB476FF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075D-3031-4C7B-8325-880C582A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C1D30-8626-46D2-9D6F-805399D6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239D6-23F8-4971-9004-78C5B53E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CA3E1-85BD-46A3-B219-2B638824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1F58A-DE99-4E6A-9740-EF6976F5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4AD52-2642-4838-B997-0F2879C6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19AB-75B5-4C4C-9583-6B0CF3CE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43554-7FF8-44BD-A4E7-2D1B0D24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43938-D1D6-4A14-BD07-C1CFF9A7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79FBD-31DF-4C9C-BB11-E1B55B1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6ED0B-559D-44F6-A713-A6D582A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F59F1-7805-4DCD-B012-23810EED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B567A-4507-4281-A9E5-76069837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BC3CD-EB91-4307-B16D-CED5435D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29E3D-BF31-456D-B674-4C11C850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3624C-27D4-481E-8E1A-DB760263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6F739-1EC2-4A77-8C7F-F54CC58B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0E8F-CDCE-4276-A949-C23BCFA0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CC574-FF3A-4EE0-951E-41A769EF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2975C-4FBE-4C70-A212-B3BD10E5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6E8D2-7440-482E-A044-9130B7F9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386FC-9083-49C6-87C0-6086C51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72E81-FC09-4C6F-88F2-2161F09C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BA221-F05E-4A02-AA23-CAEE15F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EFB55-E24B-4CE1-9841-6C04A97E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95D70-DABA-4AE8-AF43-2F9C9133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E1E0D-7A31-4CE0-A31A-B327BBA1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5AD9-C095-4EBF-89E1-17A9B817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6D8D-264E-4E94-9F07-AE2850B8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E328-5F83-401A-A5C8-05096F1C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7D68-C55C-43C5-9F40-632E20F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95D5-9FF1-4CA5-BFCD-F43E708D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315B-6538-4D28-840A-46C5CFD19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66D2-4C0D-4B82-B1A9-85BFCC4C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78BE-BC08-4D6E-8E30-CF65A74A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E035-E231-4C51-986D-06ACD2918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4AB-A28D-4E1C-9894-5AC71114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038C-0DA0-4107-930F-85940EEE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dal Parking Deck Re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uly 15,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- Approv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8600" y="838080"/>
          <a:ext cx="8686800" cy="5257800"/>
        </p:xfrm>
        <a:graphic>
          <a:graphicData uri="http://schemas.openxmlformats.org/drawingml/2006/table">
            <a:tbl>
              <a:tblPr/>
              <a:tblGrid>
                <a:gridCol w="1219320"/>
                <a:gridCol w="4190760"/>
                <a:gridCol w="1143000"/>
                <a:gridCol w="213372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3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 Trades with ERCO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4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CP Telemetry Information Submitt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6/15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P Definition Revi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Forecasting Change to P50, Synchronization with PRR84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6/15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Resource Fixed Quantity Block Off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bmitting Ancillary Service offers in SAS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 Website Enhancem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2/16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– Pend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838080"/>
          <a:ext cx="8839440" cy="4916520"/>
        </p:xfrm>
        <a:graphic>
          <a:graphicData uri="http://schemas.openxmlformats.org/drawingml/2006/table">
            <a:tbl>
              <a:tblPr/>
              <a:tblGrid>
                <a:gridCol w="1306800"/>
                <a:gridCol w="3919320"/>
                <a:gridCol w="1306440"/>
                <a:gridCol w="2306880"/>
              </a:tblGrid>
              <a:tr h="63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gested 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Deselec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Boar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approved 7/1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tion and Settlement of Distributed Generation (DG) Less Than One MW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/Mediu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Boar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approved 7/1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Hour Start Unit RUC Clawbac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Boar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approved 6/3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 of PRR845, Definition for IDR Meters and Optional Removal of IDR Meters at a Premise Where an Advanced Meter Can be Provision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P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approved 7/14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GRR0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ind Telemetry Performance Calculation Exclus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RO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G approved 5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ments to the MarkeTrack 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Boar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 approved 6/3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LineSegment Name Length Increase in Information Model Manag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RO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96" name="Rectangle 2"/>
          <p:cNvSpPr/>
          <p:nvPr/>
        </p:nvSpPr>
        <p:spPr>
          <a:xfrm>
            <a:off x="1905120" y="5867280"/>
            <a:ext cx="5486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tems were removed from the Parking Deck in the past month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–Additional Items for Consider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April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04920" y="914400"/>
          <a:ext cx="8534160" cy="5038560"/>
        </p:xfrm>
        <a:graphic>
          <a:graphicData uri="http://schemas.openxmlformats.org/drawingml/2006/table">
            <a:tbl>
              <a:tblPr/>
              <a:tblGrid>
                <a:gridCol w="2869920"/>
                <a:gridCol w="566424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Cost Alloca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level impact assessment  of two options is near comple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rred NOGRR025 Report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NPRR in progress to gray-box reports planned for delivery after Nodal go-liv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AP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ity to be considered for post-go-live developmen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AP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ity to be considered for post-go-live developmen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Multiple Network Model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ity to be considered for post-go-live developmen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PSS Status to RAR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on of manual process as a result of NPRR15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 Default Uplift Invoi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on of manual process as a result of NPRR2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Enhancement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on of manual proces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Validation Tool (PVT) Enhancement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ments to be identified during market testing and Nodal implementa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Participation in SC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ity to be considered for post-go-live developmen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– Prioritization Guideli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April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4920" y="914400"/>
          <a:ext cx="8534160" cy="4475160"/>
        </p:xfrm>
        <a:graphic>
          <a:graphicData uri="http://schemas.openxmlformats.org/drawingml/2006/table">
            <a:tbl>
              <a:tblPr/>
              <a:tblGrid>
                <a:gridCol w="1904760"/>
                <a:gridCol w="662940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11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by Statute, PUCT Order, NERC compliance or 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ritical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liability of: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 Operation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nfrastructure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ettlement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ig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lue for a majority of market segments or ERCO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/ 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ig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lue to one or two segments, 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diu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lue for a majority of market segments or ERCO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diu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lue for only one segme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anderson</cp:lastModifiedBy>
  <dcterms:modified xsi:type="dcterms:W3CDTF">2010-07-14T19:55:22Z</dcterms:modified>
  <cp:revision>600</cp:revision>
  <dc:subject/>
  <dc:title>Instructions</dc:title>
</cp:coreProperties>
</file>