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notesMasterIdLst>
    <p:notesMasterId r:id="rId25"/>
  </p:notes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notesMaster" Target="notesMasters/notesMaster1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FD36-6AA2-443B-A8FF-BE8EED2729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9EA6-862A-4030-B7EC-A7EA334D7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1A59-B784-4478-B5D6-79F7A7AA7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8518C-77C0-4080-9342-ED9344B0A8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B5EA9-9C07-4307-9B3A-6E3906D9A15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A771A-1468-4614-A7F0-426D9DA8C4C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D2135-74EE-41DF-BC08-7D725F8260F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8ADAC-39C0-43E6-9FA1-0B46C56526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7513D-EEFF-494C-A7C2-A0C93DBCAFD6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88810-3CBE-4D5E-A5C7-8D0A71194B34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3F811-887E-40D4-A44A-C1EE557D787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11FE0-2162-42A9-9957-F40E325698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8F8C1-7A7B-43EC-82D0-701853EF1E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FE618-7A6C-4405-B80D-791C0BADD3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E711A-148C-46F8-87B7-8452AAA3997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2B871-11E8-430A-87DC-2826A15DE43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33E5C-59B0-475F-BFC8-C4D6681D946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193CC-B311-4258-976A-269C0A9FE38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2862E-FF11-4D57-8F6C-4A719FAA97E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72DE3-0773-43AF-BE0B-B33CEEB140D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D0A67-A08C-4A48-B473-578B22B2AF4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85579-91B9-4B1D-BB6A-FE0C656CA36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02F1F-C0C9-42D1-A32A-5A64A325590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ECF75-8753-4E18-A6EC-7710A950D05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735C6-9F61-4C1D-AD40-78681F79CD9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56EF8-4230-45F8-977E-DCFF1818019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325C5-27E3-46D5-A4F4-24990A3829F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7977-78A9-4605-8193-50166E334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13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7FE61E57-3668-42C9-B75C-ACEA41BD1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13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6B61635F-32D7-4603-8ADA-9C817F183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13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9F4FA4F2-5E13-4D05-A0A3-45FC7694F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13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386586B3-B559-4F4C-88F0-1C0D0EEE5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6154A9CE-8ADA-4001-9C95-672F27001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B4582A58-FAE6-499B-97CC-BA125F32F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EDFB7E6E-B533-4574-932E-E0D35DAF9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67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5B0A1E5A-0254-40A8-B7B1-29833DC3A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71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559448AB-DBD6-46C6-993A-E295F2FA3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76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5AE65F7E-3FD5-46B0-99FE-52B042485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0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83475F5A-0B7F-47A5-9D6E-968A17D0F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5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BF84268E-4676-484E-A813-481BF873C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9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4EC7E3B2-BFF9-4CD3-831D-5035ADDAB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4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B1E1FBAC-C503-4404-B08D-F0C674D21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8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3DB4AEC2-C206-4E29-BE7B-52ECA69DA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BFA3-3BCC-41C6-99D4-F5DD697AF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147D385A-09D0-4D54-ACC2-8DA54450B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13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F069EEB4-8726-4A04-A162-39F6DCA7B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13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78242AF6-4FAD-4479-9970-FB9B51DF1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13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00655877-314B-4A39-AAC7-6A3699669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13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FB1B2A5B-587D-4DF4-B4ED-65E76FEA5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13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EBEC9402-2A5E-485E-BE0A-07C2D9667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MO Projects Financial Overview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Commercial Operations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July 13, 2010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Heather Day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Market Operations Division Projects Organ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7" name="Line 3"/>
          <p:cNvSpPr/>
          <p:nvPr/>
        </p:nvSpPr>
        <p:spPr>
          <a:xfrm>
            <a:off x="990720" y="3124080"/>
            <a:ext cx="716256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0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39" name="Picture 2" descr=""/>
          <p:cNvPicPr/>
          <p:nvPr/>
        </p:nvPicPr>
        <p:blipFill>
          <a:blip r:embed="rId1"/>
          <a:stretch/>
        </p:blipFill>
        <p:spPr>
          <a:xfrm>
            <a:off x="138240" y="914400"/>
            <a:ext cx="8866080" cy="398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Execu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41" name="Picture 7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104320" cy="100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2" name="TextBox 3"/>
          <p:cNvSpPr/>
          <p:nvPr/>
        </p:nvSpPr>
        <p:spPr>
          <a:xfrm>
            <a:off x="457200" y="266688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90006_01 is scheduled to move to Closing before 07/30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Plann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4" name="Text Box 4"/>
          <p:cNvSpPr/>
          <p:nvPr/>
        </p:nvSpPr>
        <p:spPr>
          <a:xfrm>
            <a:off x="228600" y="4191120"/>
            <a:ext cx="868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5" name="Picture 2" descr=""/>
          <p:cNvPicPr/>
          <p:nvPr/>
        </p:nvPicPr>
        <p:blipFill>
          <a:blip r:embed="rId1"/>
          <a:stretch/>
        </p:blipFill>
        <p:spPr>
          <a:xfrm>
            <a:off x="519120" y="990720"/>
            <a:ext cx="8104320" cy="100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Initia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7" name="TextBox 3"/>
          <p:cNvSpPr/>
          <p:nvPr/>
        </p:nvSpPr>
        <p:spPr>
          <a:xfrm>
            <a:off x="795240" y="1219320"/>
            <a:ext cx="19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projects in Initi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On Hold, Deferred or Not Start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49" name="Picture 6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10396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Closing, Closed or Cancell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1" name="TextBox 3"/>
          <p:cNvSpPr/>
          <p:nvPr/>
        </p:nvSpPr>
        <p:spPr>
          <a:xfrm>
            <a:off x="703800" y="1219320"/>
            <a:ext cx="409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projects currently in Closing, Closed or Cancell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 Overview as of 06/04/2010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53" name=""/>
          <p:cNvGraphicFramePr/>
          <p:nvPr/>
        </p:nvGraphicFramePr>
        <p:xfrm>
          <a:off x="152280" y="762120"/>
          <a:ext cx="8763120" cy="4491000"/>
        </p:xfrm>
        <a:graphic>
          <a:graphicData uri="http://schemas.openxmlformats.org/drawingml/2006/table">
            <a:tbl>
              <a:tblPr/>
              <a:tblGrid>
                <a:gridCol w="2629080"/>
                <a:gridCol w="1035000"/>
                <a:gridCol w="5099040"/>
              </a:tblGrid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PPL Budget Activit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/commen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MO Capability Line Budget Fund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1.30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approved MO funding alloc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ates where the capability line fall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1.00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current expectations and run rates for active and not started projects above the capability lin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300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 is difference between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Capability Line Budget Funding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5" name="Rectangle 3"/>
          <p:cNvSpPr/>
          <p:nvPr/>
        </p:nvSpPr>
        <p:spPr>
          <a:xfrm>
            <a:off x="533520" y="1371600"/>
            <a:ext cx="82296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her 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Operations Divisional Projects Organ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417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ay@erco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Heather Day</cp:lastModifiedBy>
  <dcterms:modified xsi:type="dcterms:W3CDTF">2010-07-12T21:14:34Z</dcterms:modified>
  <cp:revision>676</cp:revision>
  <dc:subject/>
  <dc:title>Role of Account Management at ERCOT</dc:title>
</cp:coreProperties>
</file>