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E5F1-4FC5-4578-87CE-A17C36BB3C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6075-C0F1-438F-89E8-A38654D1A6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B781-0BE3-454B-80C3-F4449A035A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F0A6-0895-405F-9A75-8AA511039E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B69C-1E04-4464-9C42-9F9AE87A6C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95A8-873C-4EA5-A8D7-361029E669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BED5-232C-40A4-85C6-48CEC9B608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2E74-CD60-4C8E-AB0E-7E2A83E12D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7D44-D4F1-4B32-9CE4-038EE0AFA7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FCC6-D45C-4A59-9D78-306B9863A3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4529-8842-41A2-820B-5B49F6B7E4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C7E9-FE4E-44EB-A18D-2CA4BD36ED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B1D0-B511-4320-ACE3-F48F2585C2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037-DBF5-4295-86D6-02F1A3DF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796C-0889-44FF-8FDA-A23E9472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D39-D8CB-4F62-B985-4B1A9F82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201-E874-42A3-A954-D7747CA5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187C-518F-49C1-8121-FD9F526E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F5A5-0CB6-4DF3-AED9-66843817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8CFC-22A3-4216-9EDC-0FADA1DB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467D-71C4-484A-A1DA-5D1B1B64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3248-7BC5-4B91-898B-7398C99D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BC81-4899-49A6-B990-03BEE264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EF15-1D5A-440B-9FAF-EFB76849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3FD-2994-451C-B82F-CC3710D0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FF18-297A-42AA-9AEA-C93752F2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D9BF-A336-41F1-96AC-7EE5C030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1551-A7D8-4FC7-804B-1433A72B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7D04-93C3-46F7-8841-CF944712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3176-0ED3-452F-8B3D-602AE0C9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AA5-0727-4AB0-9C6E-07CFF6A7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3B2-5145-4643-ADCB-881AADBD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B42-0106-4A72-8B05-C4F9D224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E7B-E7C5-4706-8B92-0BAB4D3F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6A5-6FAE-48F9-97B0-131A678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503-22DB-446B-90BE-7D51728E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3F6-B414-4A57-8FE3-A949BA6A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897D-96CD-4E2C-805D-B80253204E48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BD2B-FA02-4CD2-AAF8-A2908E8582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CCD2-9FFF-4731-A620-757160754658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A8A1-1D83-4ED5-952F-30D16C4C8E7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S Update July 13, 201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UGUST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31- Projects TBD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923A-5277-42A1-86CE-469CA6F5DB4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Tahoma"/>
              </a:rPr>
              <a:t>SEPTEMBER 2010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1– Projects TBD (F2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d: 9:30-4:30             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ocation: ERCOT {7620 Metro Center Dr., Austin, TX 78744}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8-9 Projects TBD (F2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d: 9:30-5:3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Thu: 8:30-4:30             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7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21-22 Projects TBD (F2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d: 9:30-4:30             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7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ED59-99E1-43F7-86F0-5BECFE22E45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135B-2A78-4A06-A401-C96B4319B1B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C:\Documents and Settings\00015621\Local Settings\Temporary Internet Files\Content.IE5\UZYJAF85\MCj04344110000[1].wmf"/>
          <p:cNvPicPr/>
          <p:nvPr/>
        </p:nvPicPr>
        <p:blipFill>
          <a:blip r:embed="rId1"/>
          <a:stretch/>
        </p:blipFill>
        <p:spPr>
          <a:xfrm>
            <a:off x="380880" y="1905120"/>
            <a:ext cx="208296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4" name="Picture 3" descr="C:\Documents and Settings\00015621\Local Settings\Temporary Internet Files\Content.IE5\2NCNMXYB\MCj03833080000[1].wmf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:\Documents and Settings\00015621\Local Settings\Temporary Internet Files\Content.IE5\W7FBEKXX\MCj00787620000[1].wmf"/>
          <p:cNvPicPr/>
          <p:nvPr/>
        </p:nvPicPr>
        <p:blipFill>
          <a:blip r:embed="rId3"/>
          <a:stretch/>
        </p:blipFill>
        <p:spPr>
          <a:xfrm>
            <a:off x="2428920" y="3733920"/>
            <a:ext cx="252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lvl="1" marL="332640" indent="-33264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Tahoma"/>
              </a:rPr>
              <a:t>As of June 29, 2010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ERCOT’s Settlement numbers for: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Initial Settlement of Operating date  6/21/2010 the total =  </a:t>
            </a:r>
            <a:r>
              <a:rPr b="1" lang="en-US" sz="3700" spc="-1" strike="noStrike">
                <a:solidFill>
                  <a:srgbClr val="ffff00"/>
                </a:solidFill>
                <a:latin typeface="Tahoma"/>
              </a:rPr>
              <a:t>986,929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Final Settlement of Operating date 5/3/2010 the total =            </a:t>
            </a:r>
            <a:r>
              <a:rPr b="1" lang="en-US" sz="3700" spc="-1" strike="noStrike">
                <a:solidFill>
                  <a:srgbClr val="ffff00"/>
                </a:solidFill>
                <a:latin typeface="Tahoma"/>
              </a:rPr>
              <a:t>755,348</a:t>
            </a: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True-Up Settlement of Operating date 12/31/2009 the total =         </a:t>
            </a:r>
            <a:r>
              <a:rPr b="1" lang="en-US" sz="3700" spc="-1" strike="noStrike">
                <a:solidFill>
                  <a:srgbClr val="ffff00"/>
                </a:solidFill>
                <a:latin typeface="Tahoma"/>
              </a:rPr>
              <a:t>460,943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lvl="1" marL="332640" indent="-3326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33600" indent="-33228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0A5D-1E64-4C59-93B6-0DEE547CE62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ahoma"/>
              </a:rPr>
              <a:t>Oncor</a:t>
            </a: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1,086,006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as of 6.30.2010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ployment Plan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29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5ADA-0014-456D-8AE9-563F95E9707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enterPoint Energ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426,080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s of 6.30.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loyment Plan, includes projected growth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56,684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60,327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73,423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528A-5E27-49D3-800F-3AD3CC8CE2C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lvl="1" marL="339480" indent="-339480">
              <a:lnSpc>
                <a:spcPct val="9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ffc000"/>
                </a:solidFill>
                <a:latin typeface="Tahoma"/>
              </a:rPr>
              <a:t>New player to the AMS Party: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Tahoma"/>
              </a:rPr>
              <a:t>American Electric Power (AEP): 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300" spc="-1" strike="noStrike">
                <a:solidFill>
                  <a:srgbClr val="ffff00"/>
                </a:solidFill>
                <a:latin typeface="Tahoma"/>
              </a:rPr>
              <a:t>29,835</a:t>
            </a:r>
            <a:r>
              <a:rPr b="0" lang="en-US" sz="3300" spc="-1" strike="noStrike">
                <a:solidFill>
                  <a:srgbClr val="ffffff"/>
                </a:solidFill>
                <a:latin typeface="Tahoma"/>
              </a:rPr>
              <a:t> as of 6.30.2010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Deployment Plan schedule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88,212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eter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251,571  meter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279,329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mete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lnSpc>
                <a:spcPct val="90000"/>
              </a:lnSpc>
              <a:spcBef>
                <a:spcPts val="7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2013 – 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278,280  meters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565280" indent="-33912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F359-A661-42FD-8570-6C2A7DEE1F7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UCT Project 34610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0512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ced Metering Implementation Team (AMIT) Documentation &amp; Meeting Schedules can be found 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Utility Commission of Texas Project 34610 Webs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76212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21A5-50D8-4393-B611-661D230026D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560" y="1219320"/>
            <a:ext cx="8839080" cy="579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ULY 20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7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–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Project 5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- Retail Market Interface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d: 9:30-4:30     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13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– Project 5 – Retail Market Interface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:  9:30 - 5:30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F982-D27A-498E-9964-F2418C1C2AC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219320"/>
            <a:ext cx="8610480" cy="579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ULY 20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7-28 – Project #4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HAN Discu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:  9:30-5: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d: 9:30-4:30     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: State Capitol Extension, 112 East 11th Street, Room E2.0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42AF-B019-4C74-9D93-C742B81C362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2120" y="1599840"/>
            <a:ext cx="7696080" cy="492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UGU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17-18 – Projects TBD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d: 9:30-4:30            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*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NEW: 23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–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Project #8, Long-Term Settlement (F2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30720" indent="-22392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eting Focus: AMS Management of Congestion and AMS Enabled Demand Respon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: 9:30-5: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ERCOT {7620 Metro Center Dr., Austin, TX 78744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649D-49C7-44A4-9979-AFF1BA5A769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10-07-09T17:58:10Z</dcterms:modified>
  <cp:revision>367</cp:revision>
  <dc:subject/>
  <dc:title>MARS Taskforce </dc:title>
</cp:coreProperties>
</file>