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25FDA-41DA-41E9-A126-B377D4AF9E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09AC4-AB8D-4854-9864-67AA434879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8AE10-920E-4DE4-BD10-3206F7EB23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84AE-B287-41E1-9722-F962E7A6B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934D-EF93-4CBE-A352-9D78FA5AE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6271-5F66-417A-AC2E-303B18772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BAAC-0916-4116-961A-088EFED65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B1767-E7FC-48EC-852A-AB6DE3279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7A83C-7A5D-4CA5-8B74-61241FCDC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73BEC-86E8-4218-AADE-50E9837F1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83AE3-7839-4C17-B701-C509976BD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ED34A-DE5C-4FAF-A9C8-28423753D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AA61C-AFD0-47BB-B195-5DC13709B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C117A-2091-4A0A-B5A4-14AD70C00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2BC6-26D3-4560-BA57-A82CAA932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8B93A-E80B-4EAD-B52B-F60C2C38F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CE4CE-1715-48BB-B327-5422354F4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E5EA5-EE17-4874-8E76-5DB0590F2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EA33D-7256-4514-BE7F-04574AC4F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D3BBC-3A25-40B8-A854-2E6F7297B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CD52-8EC6-4CFE-A5A9-B8378A489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77D8-DD13-4EA4-9F60-A545BEDF0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397E-2730-4BDE-90D7-46E25E49C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99B6-1439-4CEF-8F30-63CAC619A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73F5-581D-468D-ADD3-533FA63CC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323E-88DE-4B87-94C1-AB4263B09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EF10-89A4-4DB1-9F36-956EAD35F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9F419-2C80-474E-9921-D55D195BBD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8AAFC-9F7F-4480-87F1-15CDA84DFF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CWG June 24</a:t>
            </a:r>
            <a:r>
              <a:rPr b="0" lang="en-US" sz="4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Mee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2286000"/>
            <a:ext cx="792504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CWG Update to CO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uly 13,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FA4D2-338F-4F6C-82F4-D178F0E9B4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CWG June 24</a:t>
            </a:r>
            <a:r>
              <a:rPr b="0" lang="en-US" sz="4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Mee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COPMGRRs – COPS Voting Item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OPMGRR018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, Updates to References of IDR and/or IDR Meter due to the proposed definition of IDR Meter in PRR84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99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change is to capitalize IDR ‘Meter’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99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cheduled to come to COPS in Jun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OPMGRR020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, Creating Subsection 10.3, Unregistered Distributed Generation Repor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99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cifies reporting requiremen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99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mpanion to NPRR028, Registration and Settlement of Dist Gen Less than One MW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28AC2-2DB9-48D1-B7A4-79217B267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CWG June 24</a:t>
            </a:r>
            <a:r>
              <a:rPr b="0" lang="en-US" sz="4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Mee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COPMGRRs – COPS Voting Item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OPMGRR021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, Market Participant Market Notice Proces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99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Updates Section 5 and Appendix 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99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ndorsed by RM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99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o Impacts and No Opinion on the need for Go-Liv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99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nal review by CCWG at June Meet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20684-ED04-4968-951A-9047AD0A4E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CWG June 24</a:t>
            </a:r>
            <a:r>
              <a:rPr b="0" lang="en-US" sz="4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Mee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COPMG Change History Docum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99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reated and Updated the new Docume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99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cluded Instructions in the Document to review and update it Quarterl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99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ecided to make the Generation Aggregation and Load Aggregation Process documentation into a User’s Guide, as opposed to including it in the COPM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E0DAA-9EA2-4A3E-AE5F-810382D16B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CWG June 24</a:t>
            </a:r>
            <a:r>
              <a:rPr b="0" lang="en-US" sz="4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Mee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COP Market Guid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continues (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e are making good progr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tion 6, Commercial Systems Model / Market Processes / Market Overview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tion 7, Inputs to Settlement Process and Data Aggreg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tion 8, ERCOT Invoice and Settlement Proces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tion 10, Extracts and Repor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722BE-4421-4056-B009-7023342A2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CWG’s Next Mee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9250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xt mee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y 29, 9:30 to Noon, ERCOT Austin, Room 211, or Web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end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e work on the COPMG – Focus on reviewing remaining s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FA74A-136A-4454-982C-E83CFA06CD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CWG’s Next Mee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9250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D7538-DFDC-4998-9CC8-7D9C0204E1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5T15:58:45Z</dcterms:created>
  <dc:creator>BP - Judy Briscoe</dc:creator>
  <dc:description/>
  <dc:language>en-US</dc:language>
  <cp:lastModifiedBy>balbracht</cp:lastModifiedBy>
  <dcterms:modified xsi:type="dcterms:W3CDTF">2010-07-06T21:47:23Z</dcterms:modified>
  <cp:revision>268</cp:revision>
  <dc:subject/>
  <dc:title>CCWG 2006 Accomplishments</dc:title>
</cp:coreProperties>
</file>