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0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1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9232-772D-4ED9-9A66-F89116C54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05F6-2857-4190-B067-0F2709D6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68A9-8EB0-4DEE-A931-5AB76B2BF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3D81-458F-4510-A740-B7C3C0E43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432F-2E0B-4075-9D17-4D3F45ED7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xample on this slid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1: Pick days that are exceptionally different comparing kWh for profile to sample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2: Same as above but presenting interval % of kW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53E-78B0-4E4F-A87B-760406B17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xample on this slide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1: Pick days that are exceptionally different comparing kWh for profile to sample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2: Same as above but presenting interval % of kW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E145-475C-45F4-96F5-C413C129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D8DE-ABA2-4998-8D9A-9551D95E10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1223-BB07-4741-8EED-7AA4ABB1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D2C4-6834-4353-95F0-8F8D543C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9227-A00C-4C9B-9250-F12BC54651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103-8B59-4307-9191-1FBB46D9B9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9A9-C284-4410-A964-6BDBAFF5F8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BCE-69E4-45D8-A35F-C7F90C499F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22A-5874-4B2F-B545-52DCCB95E3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710-238B-4A46-BBF8-6F026351DA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303-4D19-4505-9B4E-0BAE464A46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94C-95FB-4E88-BFF7-E6E3FDCC2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7C89-3EB5-4172-97B3-AB981E83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B8B-AFBB-4E23-8379-D72B988CD8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C85-0E0F-4476-91CF-C48674D45F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A37-FFA6-4A7C-89C4-A2C3EF34F1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D254-162A-4B41-807D-D350E3EF0E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4E4-73B1-4ACA-AE8A-C360E32651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9AC5-E9E9-4489-8B6B-327D902E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1F91-BB59-4FC7-85A8-2A672FF7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4377-B89A-4CBF-A195-FA63E6F4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FFF2-F575-4483-879B-1545492F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E6DF-DC5D-423A-B06E-D446E35A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E33A3-8462-484E-A06C-B8C48829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0827-D853-491E-A1E6-C991AE73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5E38-1713-4D60-B650-50E2B792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AEF2-0668-44A3-A54F-27B14A0A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9456-8A80-4524-827D-2EE6B851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777E-4BCF-4217-A7DF-9FA419E9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6EBE-1AF6-4F15-8AF4-DEF2DF94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396C-30F0-4AB9-A4CC-694D5B22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E031C-4BAA-4ED9-8EB9-2F1D59401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E18C7-F451-4AA2-BFC9-D745A4ED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D558D-33D9-49B0-871B-97C09902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51DD-BE34-4617-B472-E8B51BB0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6527E-19BB-444C-BABE-6348F79C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DD197-A295-403B-B04C-BBE2E6A8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555D1-FC0B-4C8F-B932-51824A6F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E6C4B3-B037-457A-898B-18EA609D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09642-665F-4CB9-8495-D2C97971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266D1-EEE0-47A3-8301-7C4789B0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DA010-E8F6-4EF0-9322-21DBD0A2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93A25-0284-48AC-BD14-8711D9B5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0D1B9-DEFC-4D01-BC9D-C2EA9C3A0F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275E-B1B5-4F87-BD0B-CC23C6CD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15BD-42C5-46E0-918E-2FC9CF5A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1EB4-89DB-4CDA-B5F3-D50B8B87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AEA99-EE72-4BA5-A0EB-C1380D39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01AC-B766-4139-BFBF-BF0374B7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rcot Logo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F0B0-8BD5-41E5-AF02-548E325BB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494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497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E8EC-FBA0-40DA-8E09-AA2443956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2352-F9F6-4625-885B-5F3EF2D69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0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A95A-52BF-4D0C-BBA9-525DD236D8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A7EC-5501-4164-BE99-D52182F2C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uly 13,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5379-3E2F-4BA0-9497-D9E2AC697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163440" y="1676520"/>
            <a:ext cx="8828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76A1-D236-44F1-8B5C-CD256762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Annual Validation Estimate of 2010 Mig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1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4582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F5DE-DAF1-42E3-B2A5-53ADD14E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nd 2 Sample (Goal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s completed data collection through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liminary slides of sample vs. current profiles shown at the 3/24 PWG Mtg. http://www.ercot.com/calendar/2010/03/20100324-PW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llection period for the LRS Round 2 sample is over, and that TDSPs can cease submitting LRS data to ERC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round 2 sample vs. current profiles shown at 5/26 PWG Mtg. http://www.ercot.com/calendar/2010/05/20100526-PW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round 2 sample vs. current profiles shown at 6/24 PWG Mtg. http://www.ercot.com/calendar/2010/05/20100624-PW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011 target new Load Profile Model implementation;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imeline on hol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more analysis by ERCOT staff can demonstrate significant benefit from implementing round 2 models. Anticipate several months of work for ERCOT evaluation of some round 2 models with current coefficients refreshed vs. current profile models. The PWG wants to see the performance of current profiles vs. round 2 sample before recommending new profile models or just keep current models in lieu of the AMS implementation. Further analysis is pending email po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The PWG via email is polling the members for feed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82800" y="150840"/>
            <a:ext cx="62560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Sample vs. Current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41120" y="1118880"/>
            <a:ext cx="736596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MAPE for the 2008-2009 4CP days (6.7%) is less than the MAPE for the study period (8.5%) because the current models were designed and perform best during summer high-load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ing error is a significant part of UFE so it is expected that the average MAPE for selected 2009 high UFE days (9.3%) would be greater than MAPE for the study period (8.5%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rcot.com/calendar/2010/05/20100624-PW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8A2B-A0DF-49A6-967F-37E710DFF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ERCOTLogoColor"/>
          <p:cNvPicPr/>
          <p:nvPr/>
        </p:nvPicPr>
        <p:blipFill>
          <a:blip r:embed="rId1"/>
          <a:stretch/>
        </p:blipFill>
        <p:spPr>
          <a:xfrm>
            <a:off x="7721640" y="54000"/>
            <a:ext cx="1422360" cy="77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82800" y="150840"/>
            <a:ext cx="62560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mary Sample vs. Current Profil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t Case Revised Timeline as of 6/24/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71A4-BAFF-4B7D-B5B0-6DAE5865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ERCOTLogoColor"/>
          <p:cNvPicPr/>
          <p:nvPr/>
        </p:nvPicPr>
        <p:blipFill>
          <a:blip r:embed="rId1"/>
          <a:stretch/>
        </p:blipFill>
        <p:spPr>
          <a:xfrm>
            <a:off x="7721640" y="54000"/>
            <a:ext cx="1422360" cy="772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6095880" cy="55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91B6-0826-414A-B710-60CFD2BD5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79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60840" indent="-517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for Annual Validation suspension for AMS has been discussed and is a work in progress. Consensus that AMS premises should not be subject to the same annual validation of Profile Type as NIDR premises. (Goal 3)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WG submitted LPGRR langu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 LPGRR that takes the LRS TDSP CSV Operations Guide and makes it Appendix A of the Load Profiling Guide (LPG)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WG submitted LPGRR langu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8 Revisions for Texas Nodal Market Implementation and Synchronization with PRR821, Update of Section 21, Process for Protocol Revision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A and Recommendation Report to be reviewed at the next PWG meeting and then to COPS in Aug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9 Revisions for Texas Nodal Market Implementation Part Two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A and Recommendation Report to be reviewed at the next PWG meeting and then to COPS in Aug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 6 – Draft LPGRR language per NPRR208, Registration and Settlement of Distributed Generation (DG) Less Than One MW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PRR remanded by the ERCOT Board to the TAC.  On June 3, 2010 TAC remanded to COPS. COPS filed Comments 06/11. ERCOT filed Comments 6/24. See additional  presentation on the PWG discussions on 5/25/2010. TAC meets 7/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 and PR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8574-D870-47D4-828B-7044F3AF1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4572000"/>
            <a:ext cx="8001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10 meeting dates - 4th Wednesday of th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248080" cy="30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Picture 11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4192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208" name="TextBox 6"/>
          <p:cNvGrpSpPr/>
          <p:nvPr/>
        </p:nvGrpSpPr>
        <p:grpSpPr>
          <a:xfrm>
            <a:off x="219240" y="4943520"/>
            <a:ext cx="8553240" cy="1305000"/>
            <a:chOff x="219240" y="4943520"/>
            <a:chExt cx="8553240" cy="1305000"/>
          </a:xfrm>
        </p:grpSpPr>
        <p:pic>
          <p:nvPicPr>
            <p:cNvPr id="209" name="TextBox 6" descr=""/>
            <p:cNvPicPr/>
            <p:nvPr/>
          </p:nvPicPr>
          <p:blipFill>
            <a:blip r:embed="rId3"/>
            <a:stretch/>
          </p:blipFill>
          <p:spPr>
            <a:xfrm>
              <a:off x="219240" y="4943520"/>
              <a:ext cx="855324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57200" y="5181480"/>
              <a:ext cx="807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Unless there are new topics the July meeting may be a half day morning conference cal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10-06-30T19:00:44Z</dcterms:modified>
  <cp:revision>456</cp:revision>
  <dc:subject/>
  <dc:title>PowerPoint Presentation</dc:title>
</cp:coreProperties>
</file>