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854A-260D-41D3-839D-27DC2A80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FD7E-111C-4677-A2B0-B8EB39FB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7D9-6F9A-4E71-B8B6-551830B6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E84-443B-4C3B-8B2D-55E63D92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D8EE-03E1-4888-B568-2BE1C064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9BE4-12C9-4A3F-9386-42F7173D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CCAD-EBB5-447D-88F4-4FD4724A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2CA9-C59D-4CAD-8515-0B33C652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AD2F-D606-4743-B7CE-AE9421AE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55D3-5960-432C-9ADD-80E3792F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BDCF-55A6-4BAF-948A-8C108EE3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CB05-8061-4F77-977A-47854B8F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172C-5A5C-46E0-A497-D0E1A572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0497-6B5D-497C-A645-BE6EDAAD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CEB3-F17A-42A9-8BCB-D064FC77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2B87-0DC5-46CA-B13E-74ED3D61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AC11-50F8-44D8-9E0C-6FD0168F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12C89-BF05-4F2F-A2EF-251D515D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255AE-2931-42C8-8DB7-61AC6ECE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FBE15-7C35-40BD-BDD9-394D0E5F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69C38-4D49-4B8F-AEA7-694B5DCB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BBAA9-49BD-4911-9612-FD72B8EB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5BF-19CA-4266-B398-73F34A4B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5565B-2797-49DF-BAE2-3C9B48B3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27CB0-FBB0-46C9-B8C8-CF4059FC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D95A8-360E-4FB3-92F0-4001BC66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B3BBED-E07C-4F75-83D7-0A108BFB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497A8-61F9-476C-A8D8-CE705F9F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BC3C2-6939-44B7-BDB3-DD408A0C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0A771-1DA8-46B4-9455-C297E512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961C1-4BF0-4D0E-A043-D3D6E91F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BA7BE-38FB-4E96-8910-B607D1E1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0E146-45B8-490A-ACD2-D1766389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265-2D4D-4623-AD33-6044518C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7D49E-9EA9-4300-9912-796FCD18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CBAF-7F6D-404B-8190-93B6E8FF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69CCC-0741-45BD-A5A4-F90A1B73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7D940-9F08-4505-94E2-6DBA4514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E3738-76FA-41B6-A6F8-2F2B7152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3E7F7-A015-457B-8044-E48671AE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E3FA5-A0BB-461D-A873-8BEE833F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83962-C55D-4079-A3CF-FE48AB3D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2D840-B4E7-4D99-9EA7-8E766D88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F1B087-C1A0-409E-B43B-0BD11CE7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642-A79E-42E8-9F65-EC248C8D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B5A3D-5109-4318-B980-F0C16B26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62849-7B02-482B-BDFA-7E94B8CB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5C606-FEB5-4F62-B75C-1422DBC3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7F05BF-5841-46A0-81F0-F48958F7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7A2BA3-2A7E-428E-AC9E-0921F8CA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FFFCC-11E4-4C9F-877D-E1C73085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56EEF-4AAB-4178-A57B-E16F3C28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3C804-4E06-4A15-B75E-1E324794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13094-55AE-457E-9446-43DD3BE5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E7F088-793F-46E6-9E2E-79068C1B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1F2-E3D4-4FC5-B9BB-0801A38A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7002C2-1242-482F-8059-EAFAA148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417AF7-D0F1-4175-8EA8-15F9E2B1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7D1511-3F2D-43D7-A02E-EDF008BA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E2270-4208-42A9-929C-2A94086B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2E67A-AA62-4D0A-BE02-5532A545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4BBAF3-8681-4DA4-8566-BDBA9D3F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19A5B-94BE-4A13-BB72-6E5601F7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B2175-BB4F-47EE-98F5-BAD2BDC5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E348ED-E55B-4E0A-BDC2-50F2E443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227560-9D1A-440F-9BD9-B89C7656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AD5-C2BB-43ED-9DBE-C0878CF4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AFDFF-AFDE-4C53-AFC1-255A88F6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B3B357-4C2B-454B-BC6A-A654282D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66C3FA-71BE-409A-A5FA-1EF53736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72FFF-09CB-4330-96D4-A8E8019A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999247-6052-4344-B38E-2A142D68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098719-0EC0-41C5-A6CD-A86E063D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6E335D-EFED-4915-AF0C-CA16DEC3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4F0E22-8055-43D7-9770-F1F99E2A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6C0C97-6025-40B7-AD83-D42A0077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6DFA7-F8E7-41AC-89B6-3BA9143F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BDC-BD10-4DE2-B525-9881B130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09C6B-B13E-4762-A49E-2E58919C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BECFAE-F6C9-4B8F-9C83-B03383CA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65F431-06B4-49C4-A473-199742FB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13A7A9-74F1-45C3-A113-A1A4AD27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E84227-2674-495E-BE8F-5BE7E519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6D8-FAA2-40BA-803A-95FFC64E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7118-1B88-4224-A7BC-63A9FF4FEC9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3A3C-8B44-411B-A41C-81020852BB9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C949-87BA-4B5E-A9C8-E91719F961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0E5B-7D53-4DFD-ABA9-1F392EB016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868C-4CD8-4F91-8F2E-765FD22D7A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58F2-BA2E-49FA-8DC8-6E12EA3C58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9C0D-9761-41A7-87C7-58F2219C1B4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NODAL PROGRAM UPDATE TO COPS 07-13-2010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Jim Galvi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FC TEST TOTA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http://nodal.ercot.com </a:t>
            </a: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	</a:t>
            </a:r>
            <a:fld id="{04B27119-67D0-4BD7-83E3-63AF56A59067}" type="slidenum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number&gt;</a:t>
            </a:fld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2514600" cy="12697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"/>
          <p:cNvPicPr/>
          <p:nvPr/>
        </p:nvPicPr>
        <p:blipFill>
          <a:blip r:embed="rId2"/>
          <a:stretch/>
        </p:blipFill>
        <p:spPr>
          <a:xfrm>
            <a:off x="6172200" y="1676520"/>
            <a:ext cx="2590920" cy="1307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"/>
          <p:cNvPicPr/>
          <p:nvPr/>
        </p:nvPicPr>
        <p:blipFill>
          <a:blip r:embed="rId3"/>
          <a:stretch/>
        </p:blipFill>
        <p:spPr>
          <a:xfrm>
            <a:off x="3200400" y="1676520"/>
            <a:ext cx="2565360" cy="1295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"/>
          <p:cNvPicPr/>
          <p:nvPr/>
        </p:nvPicPr>
        <p:blipFill>
          <a:blip r:embed="rId4"/>
          <a:stretch/>
        </p:blipFill>
        <p:spPr>
          <a:xfrm>
            <a:off x="141120" y="3809880"/>
            <a:ext cx="8907480" cy="962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3" descr=""/>
          <p:cNvPicPr/>
          <p:nvPr/>
        </p:nvPicPr>
        <p:blipFill>
          <a:blip r:embed="rId5"/>
          <a:stretch/>
        </p:blipFill>
        <p:spPr>
          <a:xfrm>
            <a:off x="176040" y="4903920"/>
            <a:ext cx="884880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TTLEMENT/COMS/CREDI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red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ports are still being generated and posted for MP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uly 7 (reflected on July 8 AM reports) ERCOT reduced credit limits to 30% above TPE for entities that have not given instructions in the past wee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s created the need to send collateral calls and 90% warnings sent to MP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s activity may have limited DAM activity in the July 8 DAM for Operating Day July 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RCOT continues to mitigate historical RTM price to DAM clearing price difference to $20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verall, exposures still remain high due to limited history in market trials and RTM market trial pric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QUESTION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Picture 2" descr="C:\Documents and Settings\xqh5\Local Settings\Temporary Internet Files\Content.IE5\0ZRNYSP1\MCj04414280000[1].png"/>
          <p:cNvPicPr/>
          <p:nvPr/>
        </p:nvPicPr>
        <p:blipFill>
          <a:blip r:embed="rId1"/>
          <a:stretch/>
        </p:blipFill>
        <p:spPr>
          <a:xfrm>
            <a:off x="2743200" y="16002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OGRAM STATU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lease refer to ERCOT presentations for readiness metrics and participation metric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esentations to COPS going forward will focus on Market Trial items arou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TM and LF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R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ttlements/COMS/Credi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R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 new issues repor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ll known defects to CRR application have been fix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ture Activiti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uly 12 (yesterday) August Auction window ope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uly 15 Auction bid window clos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hase 5 has ramped up to running 5x per week DAM with associated settle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AM is including credit simu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redit reports on available credit are available prior to DA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RCOT reduced some market participant credit limits for entities that had not updated credit information (more in Settlements/Credit upda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RCOT will provide more information on July 8 DAM where South Load Zone prices for a few hours cleared at $25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UC Issu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UC commitments are on the decline, an indication that information being submitted and results from ERCOT systems appear to be more realisti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RUC for July 7-9 saw approximately 5 RUC commitments per da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RUC for July 7 was 34 RUC commitments reducing to 15 on July 8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RCOT is running a WRUC requiring valid COP data 7-days out for a good solu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pcoming Week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o guardrails- ERCOT requests bids and offers to be reasonable and COPs to reflect Zon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RUC with each DAM, HRUC as need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SM will be run as need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o specific Operational Scenari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 better support LFC testing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n LFC test days ERCOT will provide a focused input day where MPs will submit trades, bids, offers and COPs that more representative of the post go-live marke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on LFC days ERCOT will continue to run DAM 5x per week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TM/LFC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l Time metrics on State Estimator convergence remains stro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fer cap price ($2250) intervals at 34 down from 100+ for the previous week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ight hour LFC test review is included in the Real Time/LFC summary from Friday’s meeting presentation with the following highlight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ystem Frequency was managed and maintain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mergency Base Points test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sponsive Reserve deployment tested successfull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REDP calculations tracked and provided to MP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PPs questionable due to shift factors not being migrated from MMS to EMS system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TM/LFC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pcoming Changes will focus concentration on additional LFC tes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ditional LFC testing will be schedule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5-hour test week of June 1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24-hour test week of August 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ugust will include and additional 1-2 tests, September 1-3 tes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s updated in the DAM section, LFC tests will include a “focused input day” to have MPs include trades, bids, offers and COPs that are more indicative of Nodal operation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TTLEMENTS/COMS/CREDI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tements, Invoices and Extracts continue to be delivered under protocol timelines for Market Trial activ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RCOT provides a total dollar breakdown by charge type of settlement activity on the weekly cal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Settlement algorithms will be tested by August, please consult the latest presentation on Settlements/Credit for an up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FC test for June 17 contained real time prices that were suspect due to lack of shift factors imported from MMS to EM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8:44:47Z</dcterms:created>
  <dc:creator>xqh5</dc:creator>
  <dc:description/>
  <dc:language>en-US</dc:language>
  <cp:lastModifiedBy>balbracht</cp:lastModifiedBy>
  <dcterms:modified xsi:type="dcterms:W3CDTF">2010-07-12T22:06:19Z</dcterms:modified>
  <cp:revision>173</cp:revision>
  <dc:subject/>
  <dc:title>Nodal Program Update</dc:title>
</cp:coreProperties>
</file>