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D9B1-7A83-437F-AEC5-F2BB1E7E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CF1E-E2D4-47AD-BB1C-89EFB860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05FF-4645-4B30-B2CC-E9024AD2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616B-5C15-4F3D-86F7-AFF05A0C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5E90-6EF5-4930-B04B-773C1EEC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687C-6D86-4464-94E7-DE4389E7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4B71-B2FB-4DA5-B4EF-38C9482F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8BF5-F8E3-41E4-9C98-CC622556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0E40-D72F-4461-B419-EE06D55A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B400-45F1-4BEC-ABDC-F2940BDC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DDCD-D4EC-46C2-B4FA-5373469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3E8A-AFCC-4E7C-B928-EDAEFBE6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8BEC-F10D-40C5-AD28-D526C946E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0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85CE-AF6D-4F1E-A83B-FDBC0D748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y 20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formation Technology Re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IT Admin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90720" y="711360"/>
            <a:ext cx="739116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SLA-impacting outage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June, Commercial systems reported in the following slides achieved 100% SLA avail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 Monitoring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ated at MarkeTrak Task Force; currently tracking performance against these benchmar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 S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began discussions at TDTWG; will bring draft forward in Augu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10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939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une 2010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8786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96880" y="838080"/>
            <a:ext cx="80899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Transaction Processing Availability Summary (contd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4360" y="838080"/>
            <a:ext cx="7773840" cy="51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820800"/>
            <a:ext cx="609588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521000" y="838080"/>
            <a:ext cx="62514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066680" y="770040"/>
            <a:ext cx="70866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Forfia, David</dc:creator>
  <dc:description/>
  <dc:language>en-US</dc:language>
  <cp:lastModifiedBy>tfelton</cp:lastModifiedBy>
  <dcterms:modified xsi:type="dcterms:W3CDTF">2010-07-08T14:06:50Z</dcterms:modified>
  <cp:revision>441</cp:revision>
  <dc:subject/>
  <dc:title>Instructions</dc:title>
</cp:coreProperties>
</file>