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A965-8FAC-49D7-8491-A0043F347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5881-2081-49E4-B958-3122A1FAE6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B9E7-F44A-4DA0-8A00-595B7870B9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1A9-2648-4F25-A7B6-624E90FB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6AC-869B-4F54-B35A-799D7C7B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A79-D0F4-4386-9004-22516A36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671-4659-4E21-8EDB-1B2F7F25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7803-9716-44DF-A777-7655374E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1207-12AB-41A4-B7AD-CC39E12B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E9B6-FD3F-4C2A-80AF-59904774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EE64-1F88-44C8-8AF4-4D2487C2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7875-B149-40FA-B9A6-C2A01B98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500C-024D-436B-8E2A-FA345EF2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7B20-BB7A-43E7-883A-52957A37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207-797C-49FD-81E4-D2B74FA2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1FC7-E9C1-44C4-A641-353C6B7B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E6E7-6A6F-4EB9-8E76-CDCD753E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7CCA-5E79-4C31-9084-72173264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1624-9F6A-41F4-ACCB-44A021FE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2D12-8EF5-4D01-B29F-5D1AED15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C85-4800-4BA2-AA7C-5C4B2BC8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140-0F82-4C9A-B2D3-ECF42C5A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47F-DC04-41CA-AA0E-BD0F0698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918-16D6-45D2-ADAA-A2543071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60B-F62F-409E-A1CC-0CA2FC09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696-1A30-4F2B-B30C-9BB87A57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440-44C5-4024-8705-E6B072B3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96DC-D886-4D63-B75B-4410B98656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42BE-88C7-4C70-9309-BF0C1DB7F4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806400"/>
            <a:ext cx="78487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ne 8, 201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e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date to TA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1,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12680" y="1751040"/>
            <a:ext cx="75931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152280"/>
            <a:ext cx="8510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COPs Considered approval for the following Voting Item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320" y="1371240"/>
            <a:ext cx="869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MGRR018, Updates to References of IDR and/or IDR Meter in the Commercial Operations Market Guide Due to the Proposed Definition of IDR Meter in PRR84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ote) – Tabled at COPs, waiting until Board approval of PRR84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MGRR019, Revisions for Texas Nodal Market Implementation and Synchronization with PRR821, Update of Section21, Process for Protocol Revi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ote)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pproved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PRR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ote) COPs voted to recommend TAC approval as amended by COPs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pproved with two abstention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1086-63B3-4833-B1E4-3E0DD8BE1C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7986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manded by the ERCOT Board to the TAC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June 3 TAC remanded to COP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May 25 PWG discus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WG was in agreement that having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two-step shap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settlement of wind generation exported to the grid would bring us closer to a more accurate settl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June 8, 2010 COPS voted to recommend approval of NPRR208 as amended by COPS (2 abstentions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S proposed language to Section 11.4.2.2, Load Reduction for Excess PhotoVoltaic Distributed Renewable Generation and Section 11.4.2.3, Load Reduction for Excess Non Voltaic Distributed Generation include a proposal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use a two-ti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roach to settle wi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S also requested that the language proposed by COPS on June 8, 2010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ould be reviewed by the CEO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sion Request Review process prior to TAC consideration on July 1, 20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S filed Comments 06/1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RCOT filed Comments 6/24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Times New Roman"/>
              </a:rPr>
              <a:t>Voting Items - NPRR20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3A81-97FD-43E3-A28E-ECD3B24611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7986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COT has determined that COP’s proposed revisions to Section 11.4.4.2, Load Reduction for Excess Photo Voltaic Distributed Renewable Generation, and Section 11.4.4.3, Load Reduction for Excess Non Voltaic Distributed Generation,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 a system impact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implement the Settlement enhancement for a two-tiered allocation of wind outflow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COT proposes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 grey-box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ose proposed revisions for implementation post Nodal Go-Liv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COT also highlights the need to synchronize the Nodal Protocols with Protocol Revision Request (PRR) 756, Distributed Renewable Generation Modifications, to avoid a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ystem impact for the current market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d process for Settlement of small Distributed Renewable Generation (DRG) (less than 50 kW) for Photo Voltaic and non-Photo Voltaic renewable gene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COT proposes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-inserting the languag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roved by the Protocol Revision Subcommittee (PRS) on 03/25/10, language shown with the author “ERCOT062410” and the administrative edits proposed at the 05/06/10 Technical Advisory Committee (TAC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Times New Roman"/>
              </a:rPr>
              <a:t>NPRR208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COPs Voting Items for TAC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s recommends TAC approval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PRR208, Registration and Settlement of Distributed Generation (DG) Less Than One M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CWG Working Group Upd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WG continuing developing sections of the COP Market Guide needed for Nod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WG Completed modifications to COPMG Section 5 and Appendix A for Market Participants Notifications – Impact Analysis to be discussed at next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d development of Section 8.2 Settlement Statements and Invoices (currently tabled at TAC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6137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Voting Items for TA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s recommends TAC approval o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778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MGRR017, Creating subsection 8.2, Settlement Statements and Invoices (currently tabled at T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MGRR019, Revisions for Texas Nodal Market Implementation and Synchronization with PRR821, Update of Section 21, Process for Protocol Re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 u="sng">
                <a:solidFill>
                  <a:srgbClr val="ffffff"/>
                </a:solidFill>
                <a:uFillTx/>
                <a:latin typeface="Times New Roman"/>
              </a:rPr>
              <a:t>SEWG Upd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4443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 u="sng">
                <a:solidFill>
                  <a:srgbClr val="ffffff"/>
                </a:solidFill>
                <a:uFillTx/>
                <a:latin typeface="Times New Roman"/>
              </a:rPr>
              <a:t>SEW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cused on Nodal – promoting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viewing Extract iss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leted review of UFE analysis as requested by MP. Additional analysis will be completed as ongoing wor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dal Settlement Algorithms – guide in progr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WG Upd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320" y="1295280"/>
            <a:ext cx="8613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FE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PRR was presented by Direct Energy proposing that both IDR and NIDR distribution metered premises have an equal allocation factor of 0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. No consens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. Discuss about the relative allocation of transmission vs.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. AMIT stakeholders discussed and decided no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. PWG and SEWG discussions contin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ing work on Profiles as needed for various Market chan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PRR208 – workshop held in May to address Market Participant vie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Registered User</cp:lastModifiedBy>
  <dcterms:modified xsi:type="dcterms:W3CDTF">2010-06-30T23:13:23Z</dcterms:modified>
  <cp:revision>1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