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F28D-88C9-4008-9A53-0CCF9B285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EC92-4A50-46B4-A86F-B42F9C8EA4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4975-F54C-46B1-A8ED-90AD748CF8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1BBC-AB66-4AC2-A62C-1C8317612A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9A2-2BF8-4BAF-9A81-396B5C76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1EA-C46E-45A8-8819-8601F7FE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064-4DC6-431F-A549-F58C86EA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F62-D0BE-40AB-B7C1-176FC86A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12CD-916E-4D87-918D-5967D4CB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36EF-C701-435F-96F3-E3FEF46D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F1C3-669C-4465-B029-5C0B2376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B006-7514-4363-A605-00E0204F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0A4D-5DF7-4089-83C6-BCD7156B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7965-CAFD-4035-9D1C-CF6569AB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26E9-1D5A-4F71-8E4B-B9B1ECD5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25B-5E67-4156-871D-96892609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580E-B527-4368-A3D3-34724449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C2D2-730A-4DE8-9A6B-4D994089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6ED7-D754-4999-B9D8-F156F7B0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8FFC-A379-4FF5-AF51-BA56A739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119C-E672-4559-8C5C-5A88D784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D94-EC92-45B6-95DD-6F9DBEF9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A8E-38D2-4FAC-AEBA-F96F5116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FDE-2757-4066-8CF0-471E9618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BC6-C92A-486C-81D0-EA9E38AC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08C-E9FF-41CF-8AB6-934BE063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093-8CB6-40F4-9254-640B5A9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52F-0206-43F6-B6DF-7A52634E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777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9BD7-42DF-468C-8EB9-7A5DB9455A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27D1-A19A-4F06-A925-DA3A60CA4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uc.state.tx.us/rules/rulemake/37291/37291.cf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5400000">
            <a:off x="-4229280" y="22478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-4457880" y="217152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4381200" y="2247840"/>
            <a:ext cx="9144000" cy="76320"/>
          </a:xfrm>
          <a:custGeom>
            <a:avLst/>
            <a:gdLst>
              <a:gd name="textAreaLeft" fmla="*/ 0 w 9144000"/>
              <a:gd name="textAreaRight" fmla="*/ 9144360 w 9144000"/>
              <a:gd name="textAreaTop" fmla="*/ 9720 h 76320"/>
              <a:gd name="textAreaBottom" fmla="*/ 666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4152600" y="2400120"/>
            <a:ext cx="9144000" cy="76320"/>
          </a:xfrm>
          <a:custGeom>
            <a:avLst/>
            <a:gdLst>
              <a:gd name="textAreaLeft" fmla="*/ 0 w 9144000"/>
              <a:gd name="textAreaRight" fmla="*/ 9144360 w 9144000"/>
              <a:gd name="textAreaTop" fmla="*/ 9720 h 76320"/>
              <a:gd name="textAreaBottom" fmla="*/ 666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WordArt 13"/>
          <p:cNvSpPr txBox="1"/>
          <p:nvPr/>
        </p:nvSpPr>
        <p:spPr>
          <a:xfrm>
            <a:off x="762120" y="838080"/>
            <a:ext cx="6172200" cy="304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46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pperplate Gothic Bold"/>
              </a:rPr>
              <a:t>Retai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46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46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pperplate Gothic Bold"/>
              </a:rPr>
              <a:t>Market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46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46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pperplate Gothic Bold"/>
              </a:rPr>
              <a:t>Subcommitt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46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457200" cy="175248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280"/>
            <a:ext cx="228600" cy="15264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0492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352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8580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1440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066680"/>
            <a:ext cx="228600" cy="15264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95280"/>
            <a:ext cx="228600" cy="15264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44792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WordArt 12"/>
          <p:cNvSpPr txBox="1"/>
          <p:nvPr/>
        </p:nvSpPr>
        <p:spPr>
          <a:xfrm>
            <a:off x="762120" y="4267080"/>
            <a:ext cx="2971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46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Copperplate Gothic Bold"/>
              </a:rPr>
              <a:t>July 1, 2010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46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rot="5400000">
            <a:off x="-4229280" y="22478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-4457880" y="217152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4381200" y="2247840"/>
            <a:ext cx="9144000" cy="76320"/>
          </a:xfrm>
          <a:custGeom>
            <a:avLst/>
            <a:gdLst>
              <a:gd name="textAreaLeft" fmla="*/ 0 w 9144000"/>
              <a:gd name="textAreaRight" fmla="*/ 9144360 w 9144000"/>
              <a:gd name="textAreaTop" fmla="*/ 9720 h 76320"/>
              <a:gd name="textAreaBottom" fmla="*/ 666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4152600" y="2400120"/>
            <a:ext cx="9144000" cy="76320"/>
          </a:xfrm>
          <a:custGeom>
            <a:avLst/>
            <a:gdLst>
              <a:gd name="textAreaLeft" fmla="*/ 0 w 9144000"/>
              <a:gd name="textAreaRight" fmla="*/ 9144360 w 9144000"/>
              <a:gd name="textAreaTop" fmla="*/ 9720 h 76320"/>
              <a:gd name="textAreaBottom" fmla="*/ 666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457200" cy="175248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52280"/>
            <a:ext cx="228600" cy="15264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0492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3352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68580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91440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066680"/>
            <a:ext cx="228600" cy="15264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295280"/>
            <a:ext cx="228600" cy="15264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44792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WordArt 12"/>
          <p:cNvSpPr txBox="1"/>
          <p:nvPr/>
        </p:nvSpPr>
        <p:spPr>
          <a:xfrm>
            <a:off x="990720" y="533520"/>
            <a:ext cx="6248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0000"/>
                  </a:outerShdw>
                </a:effectLst>
                <a:latin typeface="Copperplate Gothic Bold"/>
              </a:rPr>
              <a:t>RMS  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85800" y="1523880"/>
            <a:ext cx="79246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RMS has been encouraging MPs to keep engaged in Nodal Train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Working Groups and Task Forc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Four standing working group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TEXAS S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Texas Test Plan Te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Texas Data Transport Working Grou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Retail Metering Working Grou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Four Ad Hoc Task Forc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Market Advanced Reads Settlemen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Retail Advanced Meter Process Task For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MarkeTrak Task For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Meter Tampering Task For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819520"/>
            <a:ext cx="762120" cy="609480"/>
          </a:xfrm>
          <a:custGeom>
            <a:avLst/>
            <a:gdLst>
              <a:gd name="textAreaLeft" fmla="*/ 0 w 762120"/>
              <a:gd name="textAreaRight" fmla="*/ 275040 w 762120"/>
              <a:gd name="textAreaTop" fmla="*/ 21240 h 609480"/>
              <a:gd name="textAreaBottom" fmla="*/ 588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15"/>
                  <a:pt x="10800" y="2430"/>
                </a:cubicBezTo>
                <a:lnTo>
                  <a:pt x="10800" y="8370"/>
                </a:lnTo>
                <a:cubicBezTo>
                  <a:pt x="10800" y="9585"/>
                  <a:pt x="16200" y="10800"/>
                  <a:pt x="21600" y="10800"/>
                </a:cubicBezTo>
                <a:cubicBezTo>
                  <a:pt x="16200" y="10800"/>
                  <a:pt x="10800" y="12015"/>
                  <a:pt x="10800" y="13230"/>
                </a:cubicBezTo>
                <a:lnTo>
                  <a:pt x="10800" y="19170"/>
                </a:lnTo>
                <a:cubicBezTo>
                  <a:pt x="10800" y="2038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5560" dir="108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2895480"/>
            <a:ext cx="236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28954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pperplate Gothic Bold"/>
              </a:rPr>
              <a:t>To be consolidat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5400000">
            <a:off x="-4229280" y="22478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-4457880" y="217152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-4381200" y="2247840"/>
            <a:ext cx="9144000" cy="76320"/>
          </a:xfrm>
          <a:custGeom>
            <a:avLst/>
            <a:gdLst>
              <a:gd name="textAreaLeft" fmla="*/ 0 w 9144000"/>
              <a:gd name="textAreaRight" fmla="*/ 9144360 w 9144000"/>
              <a:gd name="textAreaTop" fmla="*/ 9720 h 76320"/>
              <a:gd name="textAreaBottom" fmla="*/ 666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-4152600" y="2400120"/>
            <a:ext cx="9144000" cy="76320"/>
          </a:xfrm>
          <a:custGeom>
            <a:avLst/>
            <a:gdLst>
              <a:gd name="textAreaLeft" fmla="*/ 0 w 9144000"/>
              <a:gd name="textAreaRight" fmla="*/ 9144360 w 9144000"/>
              <a:gd name="textAreaTop" fmla="*/ 9720 h 76320"/>
              <a:gd name="textAreaBottom" fmla="*/ 666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457200" cy="175248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52280"/>
            <a:ext cx="228600" cy="15264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0492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3352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68580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91440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1066680"/>
            <a:ext cx="228600" cy="15264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95280"/>
            <a:ext cx="228600" cy="15264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447920"/>
            <a:ext cx="228600" cy="152280"/>
          </a:xfrm>
          <a:prstGeom prst="star5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WordArt 12"/>
          <p:cNvSpPr txBox="1"/>
          <p:nvPr/>
        </p:nvSpPr>
        <p:spPr>
          <a:xfrm>
            <a:off x="990720" y="533520"/>
            <a:ext cx="6248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46"/>
                </a:solidFill>
                <a:effectLst>
                  <a:outerShdw dist="40186" dir="1096358" blurRad="0" rotWithShape="0">
                    <a:srgbClr val="ff0000"/>
                  </a:outerShdw>
                </a:effectLst>
                <a:latin typeface="Copperplate Gothic Bold"/>
              </a:rPr>
              <a:t>RMS  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46"/>
              </a:solidFill>
              <a:effectLst>
                <a:outerShdw dist="40186" dir="1096358" blurRad="0" rotWithShape="0">
                  <a:srgbClr val="ff00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5800" y="1523880"/>
            <a:ext cx="79246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Meter Tampering Task For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pperplate Gothic Bold"/>
                <a:hlinkClick r:id="rId1"/>
              </a:rPr>
              <a:t>PUCT Project 37291</a:t>
            </a: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Implemented July 1, 2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What is changing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ESI IDs where tampering is identified will be subject to a “Switch Hold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CRs and TDSPs will work together to remove “Switch Holds” after customers at the ESI ID have resolved the situ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TDSPs have back-billing limitat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6"/>
                </a:solidFill>
                <a:latin typeface="Copperplate Gothic Bold"/>
              </a:rPr>
              <a:t>TDSPs have time limits for removing tampering from a premi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895480"/>
            <a:ext cx="236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kpatrick</cp:lastModifiedBy>
  <dcterms:modified xsi:type="dcterms:W3CDTF">2010-06-29T13:01:03Z</dcterms:modified>
  <cp:revision>59</cp:revision>
  <dc:subject/>
  <dc:title>Slide 1</dc:title>
</cp:coreProperties>
</file>