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208-9B36-42B3-9B76-C8E6FB561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DE36-2E31-468A-BB03-E101C1B4D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anual Date&gt; – &lt;Manual Filename&gt;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CA91F13-2310-4D84-859C-BA0584797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1779051-FE5D-45CA-9BB8-456C502EC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254040"/>
            <a:ext cx="784836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8-Hour LFC Test Update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Preliminary results as of June 23</a:t>
            </a:r>
            <a:r>
              <a:rPr b="0" lang="en-US" sz="2400" spc="-1" strike="noStrike" baseline="30000">
                <a:solidFill>
                  <a:srgbClr val="808080"/>
                </a:solidFill>
                <a:latin typeface="Arial Black"/>
              </a:rPr>
              <a:t>rd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NATF Meeting June 23, 2010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Picture 5" descr="logo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375C7A9-5BF5-4BBD-80F1-A7A3FAFA7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04920" y="1065240"/>
            <a:ext cx="8686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tline of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FC Tes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es of LFC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s during LFC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observations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 for 48-hour LFC Test in 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7BA9825-BC0C-44E0-9ADD-78B7DC42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FC Test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8440" y="761760"/>
            <a:ext cx="85471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33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17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80880" y="1295280"/>
          <a:ext cx="8458200" cy="4935600"/>
        </p:xfrm>
        <a:graphic>
          <a:graphicData uri="http://schemas.openxmlformats.org/drawingml/2006/table">
            <a:tbl>
              <a:tblPr/>
              <a:tblGrid>
                <a:gridCol w="5715000"/>
                <a:gridCol w="2743200"/>
              </a:tblGrid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st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pprox 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ket WebEx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:0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RCOT - MP pre-test troubleshooting peri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:00 AM – 10:0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st sta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:0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onal-Nodal cut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:00 AM – 10:46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ystem frequency controlled by nod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:46 AM – 5:1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RRS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:15 PM – 2:25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MBP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:00 PM – 3:2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odal-Zonal cut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:10 PM – 5:42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s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:42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rket WebEx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:5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FC Test Overview for June 17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Footer Placeholder 6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A1F2816-ED45-4E73-9B42-3EE4E2492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1066680" y="45450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4267080" y="3048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380880" y="6858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train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/>
          <a:stretch/>
        </p:blipFill>
        <p:spPr>
          <a:xfrm>
            <a:off x="404640" y="2378160"/>
            <a:ext cx="83347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DA6F95D-A6CC-4BC7-A3C9-0C311307B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04920" y="838080"/>
            <a:ext cx="8686800" cy="32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COT operational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witching of control between systems went smooth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was controlled for duration of test by nodal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ed operational scenarios were executed as pl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scores were passing except for one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Operators able to manage numerous active constraints with S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uccesses during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5F51168-B84C-4E1A-9204-32362878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152280" y="838080"/>
            <a:ext cx="88394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sues during test for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#1 – Missing Shift Factors for constraints in SCED for brief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Factors integration from EMS to MMS from1320-1339 had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factors were ignored by SCED for 29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closely monitored by Operators until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corrected and evaluating improved monitoring to prevent re-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#2 – Missing Shift Factors for Electrical Bus affect SPP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integration did not properly provide electrical bus shift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Zone, Hub, and Electrical Bus LMPs/SPPs 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ution identified and in place later this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is is on going and will be communicated once more information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ssues during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830BF5D-E7CB-4140-A7D9-E6F5D3CFD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304920" y="838080"/>
            <a:ext cx="868680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sues during test for Market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between JOU owners (e.g., telemetry, CO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 Ancillary Service values in telemetry for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9080" indent="-461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tatus Codes in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nal Resource plan in agreement with 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with nodal Output Schedule offering BES into zon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not following their nodal bas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not following regulation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rect HSL/LSL values telemet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ssues during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7E80F01-EBEF-4B29-A08D-9ABC83A6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04920" y="838080"/>
            <a:ext cx="8686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st-to-North Stability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onths ago ERCOT created nodal W-N stability limit in 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LFC tests, ERCOT reduces limit to be less than zonal so that OC1 in zonal would not be acti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to the LFC test at 0915, the W-N constraint was activated in z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the LFC test at 1000, nodal constraints for W-N limit were in p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ing transition to nodal and until 1300, Nodal and Zonal W-N limit exc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 relieved at 1300 for remainder of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ing further analysis to review dispatch, basepoint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work closely with market for W-N management for 48-hou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will continue to provide updates on the market calls and next NATF regarding results and lessons learned from 8-hour LFC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ther Observations and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B319162-B548-4C20-978A-679E21F19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304920" y="838080"/>
            <a:ext cx="86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analysis of 8-hour test and consider improvements to 48-h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an discuss at next NA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 of June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-Hour LFC Test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ek of July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48-Hour LFC Test (July 20, 21, 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15228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xt Steps for the 48-hour LFC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03:12:19Z</dcterms:created>
  <dc:creator>jmoseley</dc:creator>
  <dc:description/>
  <dc:language>en-US</dc:language>
  <cp:lastModifiedBy>smiddleton</cp:lastModifiedBy>
  <dcterms:modified xsi:type="dcterms:W3CDTF">2010-06-23T18:23:30Z</dcterms:modified>
  <cp:revision>275</cp:revision>
  <dc:subject/>
  <dc:title>Texas Nodal NMMS Development   By John Moseley, ERCOT, Network Model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7179D39FC851A449B8879F08F2EDC7C5</vt:lpwstr>
  </property>
  <property fmtid="{D5CDD505-2E9C-101B-9397-08002B2CF9AE}" pid="3" name="Information Classification">
    <vt:lpwstr>ERCOT Limited</vt:lpwstr>
  </property>
  <property fmtid="{D5CDD505-2E9C-101B-9397-08002B2CF9AE}" pid="4" name="Koepke_Test">
    <vt:lpwstr/>
  </property>
  <property fmtid="{D5CDD505-2E9C-101B-9397-08002B2CF9AE}" pid="5" name="Test">
    <vt:lpwstr/>
  </property>
</Properties>
</file>