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4EA0-897E-45BD-A97A-AFD71D3623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D8C7-4F11-440E-896A-F55BDFE7FEB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E9BB-30CE-4080-B95A-563D3DA2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05066-3B1E-4F2F-A7CE-618A5CD7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2A5BC-A8C4-487E-9C0F-E27792C4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905AE-8E6B-4955-86EB-0FEB171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6F9B6-8D91-414F-B4DA-D6D3D9E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76995-ED68-4FD7-860A-C4627E1A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6AE70-0C21-4CFC-8E7C-44DB5DEA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7422-C9B6-40F1-AFD2-EA93243D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19C57-A714-46EB-A05A-48E54394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E151-0F4F-47DD-8C5A-1A8C7CDF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AB91-1634-416E-9BEF-1BDA02E824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BA547-0603-429C-A245-035A9105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925CC-8E5A-4E04-BC75-E1BDC2F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90615-5144-473A-9E67-A5F82FB7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2CF63-C269-486E-9D02-E8380A71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6A463-C40B-49C1-B968-BEAE9CE3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946A3-C2BD-4DFE-A67A-1E3BDB6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A05BE-C0C9-4665-8EC1-76FA7186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37C2C-5D43-4038-8209-B0B61E5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2CB14-2F59-4542-B88C-34413716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D1CA2-A154-4189-ABBA-CABC9FD6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0061-81F2-4321-97B3-CF6F38505F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EB005-8D0E-4B31-B3F9-34AA63DF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ADAFD-D75A-4437-9396-F9F7D116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9568D-737D-4DE7-88BA-BA6F7E27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9D203-46E3-42C7-9E7D-F260225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76192-CB6F-4C55-9C3B-031459FA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270E2-52E0-49D8-B415-3F27F843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119D5-C043-4C9E-9B66-DD8F0A2A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AB11D-33FF-4714-A53D-B6E5E8DE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E461A-B0EC-4D68-90CC-C5C8430A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0A7D6-2A78-47D3-A8D7-85A7EFC8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2034E-272F-474D-A1C4-5E65E27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EF420-975A-4ACA-A7C6-4FCD79E5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FE57-0EDA-4502-BDA1-5BD33358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89C6D-5574-4569-B37F-5BAEF897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97BAD-989B-4C3F-9527-DEC78EA9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90EB9-BA53-40BA-B56A-0CC099A6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4E15A-2E87-4DEF-8314-1AEB8564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367BF-50CC-4EBA-A916-5A121776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BBEFD-2E65-4F4A-929F-5B1F837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84A75-2106-4563-A992-DD95415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E2A1E-26E1-4D4F-9FD5-7BEF918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C5632-5E88-48E2-A676-A2989F98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B38AD-90A9-458E-937F-2A225FCB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7B79D-E463-400D-9632-A72DCCF9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067E7D-12AD-4AFB-BAA3-02641A62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EFACB8-B2B4-4B1C-B324-2A4E3B4FA3A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84CA71-ADD5-4F0B-B1BB-FA0B0E0E551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41BB96-8E68-4C3C-93BB-7CFF33D9838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45DECA-08BE-4736-8404-6856D50BED1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39CBEE-9013-46A8-9327-29035392B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16B1CF-7DC4-4E67-A601-2ED881AA9E6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C61FE6-9B7F-42C2-A7FE-8510F9C55FE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86A159-F551-4C82-83A1-E25442AB8A5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0A9C1F-3898-48C3-8A20-78C97D86C76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4FC7DF-FDE4-44F4-A33F-38AB206301F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57327B-4E95-4A1C-A98F-46881277675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136F97-E5B5-40AA-BBAA-1C81425F611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948B4B-86D4-442E-836A-A38DA58E10A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02CF9-DCDA-4C28-970F-63CBD40C19E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0E3DF5-9F5D-49DF-9F34-34EEBC0055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4DA9C0-848D-4585-9646-9EB4E8321C1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2A0DA-7F12-43FF-9359-0AAE7EA4123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3DB02A-DFAF-4154-88DD-894E405D68B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B8C962-F85E-4DB5-A425-3F1E8E2E507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B51D46-63F6-49C9-BC28-707FA21C77D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64BDF6-BCCC-46AF-BFE5-80871830CA9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305463-830A-413A-873E-4F93E410715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3334E5-8609-4F33-810F-AD8098F05C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52D4BD-3E1D-44DC-AE7B-E60CBFF0B82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D1C0B-D58A-4F42-A772-065DF3707B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6DA81-846E-47F9-B8FC-BAD596752ED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5A5BB-F86F-4416-8585-25925BCD444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4F51C-1B92-4976-90ED-4E552BF51D6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C225E-1A79-475D-862F-BED05EA2661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B80EB-DC69-4C67-BCD0-F72D89548BB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7EFDE-C087-40CB-A571-4F2256B0D49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5D826-7F66-4C6C-84B1-28C637CA5D9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14FF0-A648-4E54-80FB-9E6B00FB418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72AF8-7341-40F9-907B-A056DA120D6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9CE8F-A887-4911-99FD-BFDE15D498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1FBA3-F556-4F63-A232-9AAE8EA4DC4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93D5C8-BB6C-403E-AB50-80449F9DC6D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224480-DC4A-4BB3-A9A2-FC3D9C0B205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A4EC0-F39F-4C48-B054-4282A43B545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501DFB-3DE9-4415-A707-30E3B8CF5F0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1B5F9-F117-4893-B9C5-DA08F7F456DD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504AD6-D50E-4557-B2C0-87DE9E9D5A2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E7BBA5-B352-4164-B814-C1A8A6FA61E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24FCD1-FD45-4560-86DF-CC724DE328B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B094C9-C8E3-49F6-8AC4-53FD3F9412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C6DBA6-6E94-409A-9543-7399281A4D7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16312B-53DC-4B43-A7DC-965519D2D97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CE7244-BFCC-420C-87E0-6526811AE27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E102F7-D41C-44FC-93A0-DE6C907F854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B0B5637-D33D-4E8F-9ABB-6DA97036235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DD9E1D-0D19-45CF-9638-944789E5A40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CAE040-C8BB-47F7-98B9-C8B2B9A8AD4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7C18E2-4CF7-4410-91BA-0304941DE7D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A1E7021-F3A0-4DEA-876A-F8E164BC883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922ECBA-BDD8-4282-BF28-42A0BE698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C1CE-3F52-43F0-9315-37F134B54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892A0DF-18A2-4D08-ADDE-38E33CD517F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1C52581-A598-498B-832A-C4A984C0F3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69B8E3-FD6B-471D-BE2A-E0F9B22A77B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617FE4-60DE-4F0C-A1B6-3756E139654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2398D2-F895-488E-A775-66FEF05DC58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06275CB-22D2-438B-B686-228BDC4F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3A42CB-9C24-4C09-9679-2713BD2D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3B1FDA-0F81-42EF-BB10-A39E11FC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CF9B74-4DA6-428E-AD50-429545C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3722238-8982-4141-8FC5-63FFA03C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22D532F-BB80-4E94-8784-9F7561D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13AAEBC-3D08-4235-A0E6-EDAF1DC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A0A03FB-12C8-413F-986F-98CB80E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47B6B3-425D-464B-B309-91D7421C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8627BB-32B7-4943-A108-5C96EBA4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9FFE83-2D7B-4AE5-B51D-BC6BBA98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37C34E-93DA-4158-8641-AB130D3C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D215DFA-D8CA-41FD-B6AC-3A84F65E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C3AFE7F-7E09-420D-B38B-371E0A1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7904F84-5D73-441E-A113-76F0CF78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938673-FADD-4B69-A0E0-588F0581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9524C2D-898A-4D8F-9B50-E090DDBA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883489-F861-42A7-8AC8-4098B2EA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F481E37-897E-4112-A351-3D48F90A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27B97B-17C6-4210-94B5-62A6FFB4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81F4D1-0C39-412C-BF73-FFD2DBFB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8690FCC-127C-475A-8F22-C660317B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1BAAFF6-9C03-4B89-B52A-7376CAB7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484575-6928-4561-9ABF-EEBB165A2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70A46A7-D7D5-4377-8D20-40B147CC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559F697-FDD3-4C77-85ED-9EDF4317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9825A84-343F-4ECE-86A9-399991E3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87C98EF-58BD-4796-91A1-C08021E3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694EC43-DAB2-44D8-AE8D-7D061C75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BDA647-7168-4EE7-A8E2-55152FBF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AD6A17-A32D-490F-9072-FC219BE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420EBE-C7FD-4714-A476-D89088A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BFFDBFB-A675-481B-BD6A-D92262E3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6400C9-3DDA-4EE3-9094-4153C375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12B7A3C-E9ED-4481-B401-D38B08E2E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71D6791-71E3-441E-A371-FFF5B97F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FC82A6-AA9B-4E3E-B9F7-D5FFAA5E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414424A-4273-4F7A-997F-1E42CA53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D18D03-5307-472F-B16D-0E4F40D0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ED4472-13FD-44B6-B27C-208B8787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2D44E9-4A22-47A6-8784-466A5B7E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AE0107E-BD41-44ED-AE57-0D7A621E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53FB96-3E85-4D83-A55C-838F3C1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8743A8-A865-4A02-A373-EF657B25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B487B6-973F-4A22-938E-3764032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B2A3243-3F71-48E7-95CC-2C1CD843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B82BE05-CA14-4602-98E8-2CAB4105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F13E055-D472-4494-8EAE-8A9F3009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B69BC3A-7540-4B6E-AE19-D6FD82F7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449E857-76C4-4C6D-8090-329B16C2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10044F8-638E-4F6B-A431-A15C25E8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D6FED07-BB90-4CA5-9442-F1317B8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5B93946-B674-490E-8BF5-4F6A6FF6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282D8F0-532E-4C52-8562-3E7F825B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082E0B-6739-4D01-889D-A0B9D183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524E4F7-04F2-4732-9797-728F59DE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93F584D-239A-416F-9D9A-B354CD74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6FFA115-4D07-4049-88F2-1DE8839B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857A76-F070-4443-8FF2-17F98915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4AA75A3-9D14-4CC9-B90E-846209A79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269388-B954-4650-AB9C-969039F4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8A7816F-FE72-46E1-86C2-BDABAFB7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D321BDE-9351-4A61-8863-56A2E73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E62F2F8-93E5-4FBD-A367-DEC91DB9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1D16B2-D6AF-40E4-BA8B-390A9A4C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2C85268-3146-4AA7-9076-32A04E13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B6AF953-31AB-464B-8344-2988F88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8419249-12F5-4612-A7C4-7882D677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CAD2D04-4B4D-4EC1-8944-53929C2C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A846780-A68F-43C3-B71C-A3785A80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78380DE-F8A8-4988-83CF-90133004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05096C-0665-4C8F-B9E0-714E6FEF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0AEC5C-DD1F-4B30-BD74-F933C923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911E699-756B-4A64-98B0-67A1A76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367E711-5834-42FE-B07B-F103FB3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CCED96D-B26D-4D8B-AB4C-6BB444D0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BFB5ECD-0CB7-48EE-A4C9-FDF1FC8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E19FE93-81F1-4D03-9C85-008121A5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DE971E-CA50-43E8-B06D-FC6C0953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09AB9F-A1B0-4E9D-A44B-1D7D7125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07366C8-4FC9-40EF-B4C1-B1A3C79E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972B95-5643-40BA-BE23-87BC579C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2A7C69-FEA5-4E8E-812B-52428729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8F51284-42E8-40E0-A31E-DF2CAB8F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F5A224A-A391-4A8B-9043-6FA2CE91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BA6781-02FC-47BB-B14E-99028927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2093372-0344-4D6C-9FA9-610D9348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52B7B78-227C-4DF8-AEAC-63FC0FF5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AA8891-1577-412A-B03A-E7141FC8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7EA68EB-7DB0-4035-A1F7-80FAC38A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A683B6C-E21E-4F8E-9530-943C81E6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9E7453C-0E3B-487D-8470-AEE87C21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6A63EE2-276A-4600-8952-95714670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794933-DD66-4212-8E58-2AA9BA3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98D23EB-8421-4DA1-98A3-D1BD9739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85BA9-4FF4-40A6-AD9D-294DCBB84B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F750FE-F665-4039-9B73-84182B54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5F73049-AB51-4EA4-B370-C9D37870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FCFBCD6-90D6-44BA-A567-6E23320D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5191ABB-F5B5-4DAD-8AB5-091538FA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E74FB5C-FE74-459B-9AB5-9501627F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B5115B9-C9F2-4801-8600-7F22C6FE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EE2A1CE-F435-44F1-AA55-23CF025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5A5C8FE-4C49-4E10-BB8C-B33D31A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63B15FE-E119-4625-828C-896D2814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EDFC6A9-98B9-425D-B0DB-98A9832B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9FDF06-A315-4FB3-8CA8-91BA6C3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E7A66BB-407A-4FFC-8FDD-956F0861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34CC07D-16D1-42BC-98B9-31FD1CE1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0EF5E5-5D98-4999-A1B4-47B4D9C7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697CE2A-9EF6-4265-9238-118ED52A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C4F664-3295-4C54-B248-D747E666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DAA8422-7528-465D-8A61-54D72CB2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9B67A49-B88C-44A7-9A08-44FE0B18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F23359-8C73-4095-A403-C26FF30A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E81275-8731-479C-922D-89A91443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20D733A-E8ED-44F4-82A6-C481B5C2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406603A-4E1E-4139-B3BB-9777F18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16CF56C-B2AE-42D6-B591-0CF2DF8C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4C42C6F-58FC-474B-B452-6F7EF7A7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34D15CE-57CF-481E-90A6-B7FA8D32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8860-B299-44C2-8ED4-8272DF7B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F8BF-5F55-4182-BAF2-E1A31E2F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4036-C5F3-446B-BD8B-F783088D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722F4-18EB-4AE0-B025-3E3073B1FC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B5C8-AD95-4E49-8705-96C9FCD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3192-A937-4B05-9682-76B80D7D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46E3-D41F-4BB2-A0F0-17F9E84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C734-21E6-42CD-A755-A6B841A3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8F49-DB27-4F77-810C-18E4BA4D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6978-DFC6-459D-BB68-803060B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379B-1307-4890-96A6-57FF2F916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057D-29C3-46C1-B3A6-B9E8C7B7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8112-B5F9-4029-848F-081F373F8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81831-FD3F-4514-9DF5-4F416A86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E080-1492-4E3E-8D79-035569966A7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BC365-C2FD-4D03-B40B-B35FC8B7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B9454-1AB8-4AA3-AB1D-A5FC2592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AD094-2E63-4D28-B84C-283A865D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A766-2F3D-4833-9F3E-E46922CB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DE182-265B-4ABD-BF8F-0DFF9E4B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8588-19A7-4467-A311-E63846E5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B00E9-01C0-4981-B4B5-A3734B16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DA56-8BAA-4EEC-9E6B-6A092481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D9391-87AF-4B8E-BCFC-34422BF4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0A7E2-8FAA-45C7-82AC-02AD73A0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AE4D-4386-4E6B-87D2-A85CD7AA263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B4D86-6D84-416B-9A10-8C477786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55CD-EB83-43AA-95C0-3E2AF46E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483D3-1D85-42EC-8383-F2770B08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4CDB1-9DFB-4747-9702-71EB363B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F52C3-7842-4051-8073-F6AA9BF2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D96AF-2BC8-484B-933C-1004C6B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4EBC2-C900-4085-BF66-C5B1B7AF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DFE45-C4C7-44AB-9CBF-F67E6D6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6A8B7-A804-4100-BE99-02C3CF15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2934-16F2-4422-92F5-5D8C04A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564F-0EB5-43DD-BCBA-45B93B41B47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16C1-9893-4967-9282-A200906C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F7B76-723A-4EC3-8BB5-C5389F8B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09FEC-898D-4C2D-81BB-7B7AFE9FF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2EA1F-0706-43E2-A655-5BCC544A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7BAB1-B35C-4028-BD51-0CB90C6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5115-4678-4890-8D66-92669404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DAEC-0570-4483-BBE6-DC60FD4F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DAD1-B25B-43C0-9400-DD54A86B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66038-2A7C-4C6A-8D2F-13DD8AE4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BFA9-3F46-4D26-BB10-920C4926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D78F-6BDA-42BC-9CB2-127EAFAD22D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D35E1-F01F-43E4-A328-E9E16D6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710FC-C78D-4C91-9551-B9BAF57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9635A-5ED1-4309-BC1E-F6FCE43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6517-F645-4011-A59E-C39D8263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16C55-2124-4873-8829-25BC95DD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CD2C7-4CCA-4814-8A4D-46FC65A6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AC759-1A0D-4425-B2CC-EFE35659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8EF62-730B-4605-896E-279C6539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D4D86-40CE-462C-9FF2-AE85006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3F2D5-E87D-4CE2-95B8-DB416AA7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01AC-B241-49EA-80A9-9500463EE96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264600" y="320400"/>
            <a:ext cx="8650440" cy="253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F025C-B380-4E25-918E-02AEE8AF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83114-F1BA-4166-A635-446283E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75AF2-4ACC-4056-B1D4-54F6C54A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5D26-5367-40CB-9938-FE06A54B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264960" y="3764160"/>
            <a:ext cx="86868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A0609-3D10-4C9D-BC0C-802E627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6360" y="127944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649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716360" y="3764160"/>
            <a:ext cx="423900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469EC-947F-44D5-B577-4186D035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0220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139080" y="127944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26496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0220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139080" y="3764160"/>
            <a:ext cx="2796840" cy="22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D0158-7CEE-4295-B078-CF3F0919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5EC2-0A84-4F88-9248-F12AD2B7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694BC-2348-4966-88E5-A3DAEF98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7EB15-A52B-4E62-AD13-B3DF75D7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35ED-E161-4D53-863A-58EF8BD5FDD7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4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007A-D62C-4E3A-9448-C67F279405B3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0D03-216C-4A4C-89DD-B1CABFF5E835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B0D-6E1C-4A71-ABA9-74C8A1F99D68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842-F54F-44A5-B6D7-18040FE4C627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D6E5-E2EA-4F1D-BDBB-47B67C5A0CB2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6F5F-4CA3-42C6-AB7B-E6CCE4060E5D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3D20-97DA-4F18-BD97-B2366F46BA97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70C3-6FE4-4FDB-84E3-6D9A45481817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31E8-D7A3-4D51-80ED-51FF3DDD6A3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0D8A-2775-4B85-8E9B-7D3F8C45D80F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815E-9BD7-43CE-98A3-135FBF2D561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2863-EAE4-4CA8-B9E4-F065BD03548B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6035-79BD-4D7C-81F7-4BE615D92029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4CB-0B74-446E-A55E-81B9E48ED8D8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F98E-C2A0-4934-9F89-186DD86625EE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647-353B-4355-92FE-DC05A137610F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CCC-10A4-4D23-A745-07E9CB0E2FDE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DFFD-7D02-4C1A-9429-EE4E2BDEAB01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44BD-2145-41F1-B430-E32375F5F502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6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27EA-A430-48E3-9582-D6C138AC549C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A298-E2F2-4F0B-A0E7-2C1F5A7DEB36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2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E427-8ECA-4B6B-A732-6BEA3E3C90E9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5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F671-028D-4EBD-A881-CF42AE53F313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C0CE-E75B-4C3B-9D54-84396BA49A42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5D39F-C86E-46B1-8154-94083A343B88}" type="slidenum">
              <a:rPr b="0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9" descr="Cover_no title.png"/>
          <p:cNvPicPr/>
          <p:nvPr/>
        </p:nvPicPr>
        <p:blipFill>
          <a:blip r:embed="rId1"/>
          <a:stretch/>
        </p:blipFill>
        <p:spPr>
          <a:xfrm>
            <a:off x="22320" y="0"/>
            <a:ext cx="9121680" cy="685800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264600" y="231840"/>
            <a:ext cx="8650440" cy="19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RCO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MR Deployment and Cost Proposals 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7" name="TextBox 3"/>
          <p:cNvSpPr/>
          <p:nvPr/>
        </p:nvSpPr>
        <p:spPr>
          <a:xfrm>
            <a:off x="2171880" y="642132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:  Matt Mereness and Ino Gonza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loyment of RMR Units in the Real-Tim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264960" y="1279080"/>
            <a:ext cx="86868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ment of RMR units in Rea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R unit committed in DAM, DRUC or HRUC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online at LSL with Energy Offer Curve for SCED to dispatch for resolving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184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perator needs resource at predetermined MW level, Operator can set LDL = 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A33CABC3-F412-498E-A71A-60E9241FB284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opic Out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Design / NPRR231 decision for consid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posal for Establishing O&amp;M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the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D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the Adjustment Period / H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763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E50F4C24-774E-459E-AA1F-B2CBF171A214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eed for RMR Uni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"/>
          <p:cNvSpPr txBox="1"/>
          <p:nvPr/>
        </p:nvSpPr>
        <p:spPr>
          <a:xfrm>
            <a:off x="104400" y="1255680"/>
            <a:ext cx="88678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 ERCOT deploys RMR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olve local reliability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ovide voltag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design is that when System Operator knows in Day-Ahead of need for RMR for reliability, it is committed for Real-Time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offering the resource into the DA market at verifiable (contract) cost for willing buyer/QSE to purchase ener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pprox 200MW offer into DAM for Spencer and Permian Bas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 selected in DAM, Operator pre-selects for RUC and is assigned to capacity short QSEs (applies to DRUC and HRU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F consideration of NPRR231 is to remove RMR energy offers from the 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2D8381AF-AA10-4CFD-94E4-4747D5A45095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ermining O&amp;M Costs for RMR Unit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64960" y="1279080"/>
            <a:ext cx="86868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MWG Proposal for Establishing O&amp;M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up Costs = 200% of The Resource Category Startup Offer Generic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. Costs =150% of the Resource Category Minimum-Energy Generic 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cerns with QMWG Propo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source Category Minimum-Energy Generic Cap has no O&amp;M.  The 150% is not applic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percentages (200%, 150%) apply to all resources regardless of siz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RMR units are steam genera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am generators have Nameplate ratings ranging between 8MW – 900M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approximately 80 steam generators connected to the ERCOT gri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costs do not consider generator size and may not be a good proxy for O&amp;M costs used in 3PO for all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R Resources may have high variable O&amp;M costs which under the QMWG proposal could be under or over-st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0BB19627-E86C-407C-8618-FE98E001AB6E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ermining O&amp;M Costs for RMR Unit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64960" y="867960"/>
            <a:ext cx="8686800" cy="57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6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posal for Establishing O&amp;M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696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posal for Determining O&amp;M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R QSEs should provide variable O&amp;M costs to ERCOT as part of the process for establishing the Resource as an RMR unit (may require Protocol chang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ble O&amp;M costs should not include fixed or fuel co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could be based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80960" indent="-3427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elines described in Verifiable Cost Manual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80960" indent="-3427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variable component of the budgeted a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ssumed to be for a cold start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verifiable costs percentages (inter. = 70% x cold start; hot = 50% x cold star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to remain fixed for duration of contract peri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l Startup and Min. Rates need to change based on proxy heat rates (to estimate RT energy revenu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l prices do not need to be increased as described in NPRR174 because RMR Resources include a Fuel Adder in the calculation of 3P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801FD2F3-E170-41B4-9EF8-397D76DEDCE6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pendix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ix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the 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D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the Adjustment Period / H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MR units in 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8678880" y="6539040"/>
            <a:ext cx="465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5EB7-66E6-44BD-89C0-BE8249726D4E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loyment of RMR Units in Day Ahe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ERCOT deploys RMR units in D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perations decides need for RMR in Real Time prior to 10 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may only be needed for a few hours or all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may be needed to run at top or at a lower M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reates 3-Part Supply Offer according to the cost of unit (based on verif. c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s into DAM for the hours/duration requested by System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sult in DAM commitment for the RM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elected by DAM, Resource will be committed and online next day at L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energy and PTP Obligation bids pay for the cost of the RMR’s Make- Whole 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B932F18E-08F9-4BDD-BD3A-6C4D830C0D40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loyment of RMR Units in Day Ahea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ERCOT deploys RMR units in DRU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MR not awarded in DA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has option t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-select into DRU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needed in for volt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1268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not optimized based on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ther hours not selected in DAM or for voltage support, Operator can all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C optimization to evaluate commitment of RM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solve local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fter RUC st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perator can still manually select unit for RUC commi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in DRUC commitment for the RM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ommitted in DRUC process, unit instructed to be online at L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s will use the DAM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-Whole payments assigned to Capacity Short in D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0080" indent="-280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67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51356B9C-8600-4555-B7A7-9FD054F40E18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64600" y="320400"/>
            <a:ext cx="86504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ployment of RMR Units in the Adjustment Perio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264960" y="1279440"/>
            <a:ext cx="86868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ment of RMR units in the Adjustment Peri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iscovers need for RMR units in the Adjustment peri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rocess and commitment decisions in HRUC as D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MR unit needed for voltage support, pre-select by Operator in HRU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UC will evaluate need to resolve local constraint, or be manually committed after the HRUC study and part of the RUC commi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lements would use the RMR costs (verifiable co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-Whole payments assigned to Capacity Short in HRU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397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7500960" y="6573960"/>
            <a:ext cx="15112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lide </a:t>
            </a:r>
            <a:fld id="{0E8D2D54-C0AC-4D77-97DC-A30ADC7459D6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7:20:46Z</dcterms:created>
  <dc:creator>mcarter</dc:creator>
  <dc:description/>
  <dc:language>en-US</dc:language>
  <cp:lastModifiedBy>MMereness</cp:lastModifiedBy>
  <dcterms:modified xsi:type="dcterms:W3CDTF">2010-06-23T12:44:35Z</dcterms:modified>
  <cp:revision>318</cp:revision>
  <dc:subject/>
  <dc:title>Topic Title goes her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72EBB1C947A294CB639A2C419CA1526</vt:lpwstr>
  </property>
  <property fmtid="{D5CDD505-2E9C-101B-9397-08002B2CF9AE}" pid="3" name="Information Classification">
    <vt:lpwstr/>
  </property>
</Properties>
</file>