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1133E-0A15-40B2-A3B8-42B842CD3F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A2BE7-173D-4CBE-B003-BECDCCA6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57DB-298A-4A7F-9937-0CB50D56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D095-FECB-4A5A-9246-E2B66FB03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6095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3FA2-F561-4D9C-ABDE-C0086589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01CD-FF40-4621-9032-15082AD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C20A-D2AF-414F-9AEF-58780B31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61E3-FEC0-4CAC-8F86-F7F33CE1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6095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7A5C-96EE-4AA0-A155-0C95906B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AF4C-2EDD-483E-BF0B-B7A5B00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3335A-1092-4E5B-ACA1-141374F4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DB66-C91C-483D-B33A-D99A8F4A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581280" y="6645240"/>
            <a:ext cx="19051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578440" y="6645240"/>
            <a:ext cx="336600" cy="15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 anchorCtr="1">
            <a:noAutofit/>
          </a:bodyPr>
          <a:lstStyle>
            <a:lvl1pPr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FD64-FB65-4F78-8CAC-26D56EECA8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90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94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94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94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828800" y="905040"/>
            <a:ext cx="66294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07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CPTemplate"/>
          <p:cNvPicPr/>
          <p:nvPr/>
        </p:nvPicPr>
        <p:blipFill>
          <a:blip r:embed="rId2"/>
          <a:srcRect l="0" t="0" r="0" b="75559"/>
          <a:stretch/>
        </p:blipFill>
        <p:spPr>
          <a:xfrm>
            <a:off x="0" y="0"/>
            <a:ext cx="9144000" cy="1168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457200" y="3049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07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0" descr="Centerpoint"/>
          <p:cNvPicPr/>
          <p:nvPr/>
        </p:nvPicPr>
        <p:blipFill>
          <a:blip r:embed="rId3"/>
          <a:stretch/>
        </p:blipFill>
        <p:spPr>
          <a:xfrm>
            <a:off x="7149960" y="76320"/>
            <a:ext cx="1994040" cy="116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7178760" y="6492960"/>
            <a:ext cx="9396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ctober 4,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90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94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94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948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·"/>
              <a:tabLst>
                <a:tab algn="l" pos="7601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578800" y="6645240"/>
            <a:ext cx="3366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2EE2-E58C-4718-9B45-71000EE30E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ctr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76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7601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Point Energy                      Load Determination For Transmission Planning Base Ca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7601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7601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7601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ne Kem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7601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7601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/10/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8578800" y="6645240"/>
            <a:ext cx="3366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01B7-31CB-4BE9-B23C-1796F17895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066680"/>
            <a:ext cx="8121600" cy="57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of individual substation loads are provided to ERCOT using the Annual Load Data Request (ALDR) submittal and these loads are modeled in the Transmission Planning Base C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the process used in formulating the forecast is provided as part of the AL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9 CNP peak load on June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approximately 3.5% (561MW) greater than the CNP load (15679 MW) at the time of the ERCOT peak on Aug 13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ribution portion of the forecast is provided by the CenterPoint Energy Distribution Planning and is the same forecast used for planning the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mission customer portion of the forecast is provided by the Transmission Planning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Load Determ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8578800" y="6645240"/>
            <a:ext cx="3366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4197-7CFB-4D05-B5AA-487E1D6A3D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71600"/>
            <a:ext cx="8121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load contributed approximately 86% (13920MW) of the total CenterPoint Energy load for the 2009 coincident peak of 16240 M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cast is based on historical peak day data and input from personnel developing distribution plans for residential, commercial and small industrial customer expa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cast factors in load growth, ambient temperature adjustments and historical distribution peak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mission Level Customer Load Determ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8578800" y="6645240"/>
            <a:ext cx="3366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B27F-0CA5-42E6-AB3A-AE2E279596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94920"/>
            <a:ext cx="812160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level load, primarily industrial, contributed approximately 14% (2320 MW) of the total Center Point Energy load for the 2009 peak of 16240 M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is concentrated geographically, for example in the ship channel area, and individual substation peaks may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customers are surveyed annually and the results are incorporated into the forec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cast factors in the customer surveys and historical peaks with adjustments for spikes and anomal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7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8578800" y="6645240"/>
            <a:ext cx="3366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>
            <a:no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0F7E-85BA-4A78-A7FE-53D3207D5C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294920"/>
            <a:ext cx="789300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dent planning of the Houston area transmission grid includes planning for Houston area peak loads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ston load at the time of the ERCOT p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Point Energy has a track record over many years of providing reliable, timely and economic transmission expansion using this load forecasting method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base cases are developed by TSP’s for use in planning their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Point Energy recognizes that it is appropriate to use other forecasts, for example the ERCOT coincident peak load forecast, for som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lanning has successfully implemented other forecasts for many studies including economic evaluations in the Five-Year Transmissio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76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2:42:52Z</dcterms:created>
  <dc:creator>Christopher Dann</dc:creator>
  <dc:description/>
  <cp:keywords/>
  <dc:language>en-US</dc:language>
  <cp:lastModifiedBy>Wayne Kemper CenterPoint Energy</cp:lastModifiedBy>
  <cp:lastPrinted>2004-09-27T19:24:36Z</cp:lastPrinted>
  <dcterms:modified xsi:type="dcterms:W3CDTF">2010-06-04T18:30:29Z</dcterms:modified>
  <cp:revision>2636</cp:revision>
  <dc:subject>Best-Practice Presentation</dc:subject>
  <dc:title>Workshop Materials</dc:title>
</cp:coreProperties>
</file>