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466A-2333-4EEC-BFAB-8DB33EE49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95480" y="304560"/>
            <a:ext cx="5562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242B-3630-4B82-9ECF-8586FEA9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95480" y="304560"/>
            <a:ext cx="5562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FDAA-86D3-4A25-B5B6-1F6454E80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95480" y="304560"/>
            <a:ext cx="5562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46E2-94DD-482D-AD80-580A27EB8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95480" y="304560"/>
            <a:ext cx="5562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14D7-CE1C-49AB-A700-32041931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5480" y="304560"/>
            <a:ext cx="5562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D71A-A218-43C5-8B56-F97FF6FC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5480" y="304560"/>
            <a:ext cx="5562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3E82-445B-4B8A-9564-C52FE9B5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95480" y="304560"/>
            <a:ext cx="5562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EF0F-C224-47AC-A358-C1D4022E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95480" y="304560"/>
            <a:ext cx="55627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AD31-9ECA-4F43-A621-726E125C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480" y="304560"/>
            <a:ext cx="5562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9819-601B-47CC-8A38-EFE8A2DA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480" y="304560"/>
            <a:ext cx="5562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985B-B508-49BC-B01A-4AE5EFF8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95480" y="304560"/>
            <a:ext cx="5562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E639-5F35-4702-B469-0B69224B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95480" y="304560"/>
            <a:ext cx="5562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Lucid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Lucid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Lucid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2437-B45B-40EE-85BB-5AC548F784E4}" type="slidenum">
              <a:rPr b="0" lang="en-US" sz="1400" spc="-1" strike="noStrike">
                <a:solidFill>
                  <a:srgbClr val="000099"/>
                </a:solidFill>
                <a:latin typeface="Lucid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9144000" cy="68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2743200"/>
            <a:ext cx="8839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</a:rPr>
              <a:t>Load Projections / Forecasting</a:t>
            </a:r>
            <a:endParaRPr b="1" lang="en-US" sz="36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520" y="48765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Lucida Sans"/>
              </a:rPr>
              <a:t>Dwain Duke, PE</a:t>
            </a:r>
            <a:endParaRPr b="0" lang="en-US" sz="2800" spc="-1" strike="noStrike">
              <a:solidFill>
                <a:srgbClr val="000099"/>
              </a:solidFill>
              <a:latin typeface="Lucida San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Lucida Sans"/>
              </a:rPr>
              <a:t>Blake Williams, PE</a:t>
            </a:r>
            <a:endParaRPr b="0" lang="en-US" sz="2800" spc="-1" strike="noStrike">
              <a:solidFill>
                <a:srgbClr val="000099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95480" y="304560"/>
            <a:ext cx="5562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Lucida Sans"/>
              </a:rPr>
              <a:t>System Demand</a:t>
            </a:r>
            <a:endParaRPr b="1" lang="en-US" sz="44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91520" y="387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80880" y="1365120"/>
          <a:ext cx="845820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65120"/>
                    <a:ext cx="84582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480" y="304560"/>
            <a:ext cx="5562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Lucida Sans"/>
              </a:rPr>
              <a:t>Forecasting</a:t>
            </a:r>
            <a:endParaRPr b="1" lang="en-US" sz="44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Lucida Sans"/>
              <a:buChar char="•"/>
              <a:tabLst>
                <a:tab algn="r" pos="857556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Lucida Sans"/>
              </a:rPr>
              <a:t>Feeder Forecast Starts at Customer Level</a:t>
            </a:r>
            <a:endParaRPr b="0" lang="en-US" sz="2000" spc="-1" strike="noStrike">
              <a:solidFill>
                <a:srgbClr val="000099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Lucida Sans"/>
              <a:buChar char="–"/>
              <a:tabLst>
                <a:tab algn="r" pos="857556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Sans"/>
              </a:rPr>
              <a:t>New Subdivisions</a:t>
            </a:r>
            <a:endParaRPr b="0" lang="en-US" sz="1800" spc="-1" strike="noStrike">
              <a:solidFill>
                <a:srgbClr val="000099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Lucida Sans"/>
              <a:buChar char="–"/>
              <a:tabLst>
                <a:tab algn="r" pos="857556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Sans"/>
              </a:rPr>
              <a:t>New Commercial Development</a:t>
            </a:r>
            <a:endParaRPr b="0" lang="en-US" sz="1800" spc="-1" strike="noStrike">
              <a:solidFill>
                <a:srgbClr val="000099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Lucida Sans"/>
              <a:buChar char="–"/>
              <a:tabLst>
                <a:tab algn="r" pos="857556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Sans"/>
              </a:rPr>
              <a:t>Small Base Load Growth</a:t>
            </a:r>
            <a:endParaRPr b="0" lang="en-US" sz="1800" spc="-1" strike="noStrike">
              <a:solidFill>
                <a:srgbClr val="000099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Lucida Sans"/>
              <a:buChar char="–"/>
              <a:tabLst>
                <a:tab algn="r" pos="857556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Sans"/>
              </a:rPr>
              <a:t>Potential Loads from Economic Development Activities</a:t>
            </a:r>
            <a:endParaRPr b="0" lang="en-US" sz="1800" spc="-1" strike="noStrike">
              <a:solidFill>
                <a:srgbClr val="000099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Lucida Sans"/>
              <a:buChar char="–"/>
              <a:tabLst>
                <a:tab algn="r" pos="857556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Sans"/>
              </a:rPr>
              <a:t>Conservative (larger values)</a:t>
            </a:r>
            <a:endParaRPr b="0" lang="en-US" sz="1800" spc="-1" strike="noStrike">
              <a:solidFill>
                <a:srgbClr val="000099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Lucida Sans"/>
              <a:buChar char="•"/>
              <a:tabLst>
                <a:tab algn="r" pos="857556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Lucida Sans"/>
              </a:rPr>
              <a:t>Feeder Combined to Transformer Forecast</a:t>
            </a:r>
            <a:endParaRPr b="0" lang="en-US" sz="2000" spc="-1" strike="noStrike">
              <a:solidFill>
                <a:srgbClr val="000099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Lucida Sans"/>
              <a:buChar char="•"/>
              <a:tabLst>
                <a:tab algn="r" pos="857556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Lucida Sans"/>
              </a:rPr>
              <a:t>Transformer Combined to Substation Forecast</a:t>
            </a:r>
            <a:endParaRPr b="0" lang="en-US" sz="2000" spc="-1" strike="noStrike">
              <a:solidFill>
                <a:srgbClr val="000099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Lucida Sans"/>
              <a:buChar char="•"/>
              <a:tabLst>
                <a:tab algn="r" pos="857556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Lucida Sans"/>
              </a:rPr>
              <a:t>Substation Forecast entered into ALDR</a:t>
            </a:r>
            <a:endParaRPr b="0" lang="en-US" sz="2000" spc="-1" strike="noStrike">
              <a:solidFill>
                <a:srgbClr val="000099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Lucida Sans"/>
              <a:buChar char="•"/>
              <a:tabLst>
                <a:tab algn="r" pos="857556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Lucida Sans"/>
              </a:rPr>
              <a:t>ALDR</a:t>
            </a:r>
            <a:endParaRPr b="0" lang="en-US" sz="2000" spc="-1" strike="noStrike">
              <a:solidFill>
                <a:srgbClr val="000099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Lucida Sans"/>
              <a:buChar char="–"/>
              <a:tabLst>
                <a:tab algn="r" pos="857556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Sans"/>
              </a:rPr>
              <a:t>Non-coincident Load is the sum of Substation Forecast</a:t>
            </a:r>
            <a:endParaRPr b="0" lang="en-US" sz="1800" spc="-1" strike="noStrike">
              <a:solidFill>
                <a:srgbClr val="000099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Lucida Sans"/>
              <a:buChar char="–"/>
              <a:tabLst>
                <a:tab algn="r" pos="857556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Sans"/>
              </a:rPr>
              <a:t>Load Coincident with ERCOT is based on actual coincidence factors</a:t>
            </a:r>
            <a:endParaRPr b="0" lang="en-US" sz="1800" spc="-1" strike="noStrike">
              <a:solidFill>
                <a:srgbClr val="000099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5480" y="304560"/>
            <a:ext cx="5562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Lucida Sans"/>
              </a:rPr>
              <a:t>System Forecast</a:t>
            </a:r>
            <a:endParaRPr b="1" lang="en-US" sz="44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387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04920" y="1365120"/>
          <a:ext cx="845820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365120"/>
                    <a:ext cx="84582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95480" y="304560"/>
            <a:ext cx="5562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Lucida Sans"/>
              </a:rPr>
              <a:t>Base Case Load</a:t>
            </a:r>
            <a:endParaRPr b="1" lang="en-US" sz="44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8763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99"/>
              </a:buClr>
              <a:buFont typeface="Lucida Sans"/>
              <a:buChar char="•"/>
              <a:tabLst>
                <a:tab algn="r" pos="857556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Substation Loads are adjusted to CPS Energy Coincidence</a:t>
            </a:r>
            <a:endParaRPr b="0" lang="en-US" sz="3200" spc="-1" strike="noStrike">
              <a:solidFill>
                <a:srgbClr val="000099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Font typeface="Lucida Sans"/>
              <a:buChar char="–"/>
              <a:tabLst>
                <a:tab algn="r" pos="857556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Lucida Sans"/>
              </a:rPr>
              <a:t>Coincidence Factor is based on actual System Coincidence</a:t>
            </a:r>
            <a:endParaRPr b="0" lang="en-US" sz="2800" spc="-1" strike="noStrike">
              <a:solidFill>
                <a:srgbClr val="000099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95480" y="304560"/>
            <a:ext cx="5562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Lucida Sans"/>
              </a:rPr>
              <a:t>Base Case Load</a:t>
            </a:r>
            <a:endParaRPr b="1" lang="en-US" sz="4400" spc="-1" strike="noStrike">
              <a:solidFill>
                <a:srgbClr val="000099"/>
              </a:solidFill>
              <a:latin typeface="Lucida Sans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91520" y="387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80880" y="1413000"/>
          <a:ext cx="8382240" cy="544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13000"/>
                    <a:ext cx="8382240" cy="54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9T18:59:52Z</dcterms:created>
  <dc:creator>ldlewis</dc:creator>
  <dc:description/>
  <dc:language>en-US</dc:language>
  <cp:lastModifiedBy>bawilliams</cp:lastModifiedBy>
  <dcterms:modified xsi:type="dcterms:W3CDTF">2010-06-03T19:43:37Z</dcterms:modified>
  <cp:revision>33</cp:revision>
  <dc:subject/>
  <dc:title>PowerPoint Presentation</dc:title>
</cp:coreProperties>
</file>