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F4BC-857C-4A52-BC67-F18F93A77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BAEE-DEEA-4EE2-854D-1A32DF66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CBFE-6685-401D-8C89-54AB0A2D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0346-AB3F-46CF-A8E8-0A290952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FC1F-2BE0-4A0D-8ACE-FC757743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A0A6-176A-428B-A242-6C293E37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675F-359D-4490-8BA9-1393E1F8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6652-2E55-4DB8-937A-7A4A4A2E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CD83-EEA5-4C45-9651-F61EC6C6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EB24-ECEA-4C67-A920-D079E6DA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1C55-1D4A-4D17-A597-A8D7A76B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183-2A8B-4FBF-ABDA-D665CD51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F38A-17A6-4BCC-9232-42D9C3584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casting Metho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ed b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EC Member C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ops requested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vid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lphabetical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ers Electric Coope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yson Collin Electric Coope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nity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C Electric Cooperative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 Trending P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from Actual Usage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 of Projection determines Amount of History uti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Loads Added to Projections when Applic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 of Transfer Loads on the 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CEC Electric Cooperative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 Trending P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from Actual Usage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 of Projection determines Amount of History uti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Loads Added to Projections when Applic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 of Transfer Loads on the 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rinity Valley Electric Cooperative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 Trending by P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from Actual Usage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 of Projection determines Amount of History uti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Loads Added to Projections when Applic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 of Transfer Loads on the 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centage Varianc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ions vs Actu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 ~2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 ~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9 ~ 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4:40:32Z</dcterms:created>
  <dc:creator> </dc:creator>
  <dc:description/>
  <dc:language>en-US</dc:language>
  <cp:lastModifiedBy> </cp:lastModifiedBy>
  <dcterms:modified xsi:type="dcterms:W3CDTF">2010-06-02T14:26:19Z</dcterms:modified>
  <cp:revision>4</cp:revision>
  <dc:subject/>
  <dc:title>Forecasting Methods </dc:title>
</cp:coreProperties>
</file>