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BE5-84CB-4AE3-A718-73146398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368-C216-475F-9EB2-FFA7D8D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8FC-37C4-40EA-B2C3-2C4D8C0E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EAF-2DDB-4E8A-9590-F63574A0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65E0-E656-4C2C-B024-7F0AF8AF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044B-F510-4B61-B5B4-D206A46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BED1-6C35-46FC-947B-587F7885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8F5F-BA00-460B-990A-B6F86B74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1892-6F70-4272-922C-53ED42C2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CBA7-B48E-427C-A61F-9F798227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CC93-7D92-4C41-B38F-88C7C00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76D-ECD4-484A-9F08-A892125D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9D3E-8DEB-486C-BC32-EB8BC3F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8AC4-E0A5-432E-B2E1-07A458A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E2DC-A8C1-464C-913F-6C509724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3E37-961D-4078-9EC0-B0DB522B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2A07-18F2-4E13-A85B-F1573F3C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BA6-9ADD-4D5B-8BEE-AD314890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DFE-180A-4663-8309-08A21CC2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849-2B60-4A8C-846D-EC20301D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144-A822-4E34-8855-B2085052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8B2-3678-4AEE-9AFE-1192597B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429-A2EF-44C2-947C-5D78221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94C-7ED1-4FEA-A3CC-0C9458E9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6645-7E01-4F60-9B56-407FBEFBA1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0A7E-4FEE-414E-A039-9C4E615DAE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Austin Energy Load Forecast Outpu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nual and monthly energy s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 to System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nual, Monthly Peak Dem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Term Hourly Load forec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Austin Energy Proces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Overview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 models (Residential, Commercial, Industrial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cally adjusted end use modeling with economic drivers and demand side management tr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ical KWh, meter reading schedules, net to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 To system is a function of current month sales and next month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ak model is a function of Net to System, temperature and DSM Active Load Control de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8104320" y="6350040"/>
            <a:ext cx="4856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42640" y="4190760"/>
            <a:ext cx="7542360" cy="42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Risk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s of New Law – 2007 Energy Independence &amp; Security Act (EISA) &amp; 2009 American Recovery and Reinvestment Act (AR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tude and speed of economic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major industrial key accounts and their expansion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tude of New DSM Savings Goals in light of econom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9" descr=""/>
          <p:cNvPicPr/>
          <p:nvPr/>
        </p:nvPicPr>
        <p:blipFill>
          <a:blip r:embed="rId1"/>
          <a:stretch/>
        </p:blipFill>
        <p:spPr>
          <a:xfrm>
            <a:off x="1316160" y="1076400"/>
            <a:ext cx="6858000" cy="2894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6633"/>
                </a:solidFill>
                <a:latin typeface="Garamond"/>
              </a:rPr>
              <a:t>Base Case Scenario Assump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8104320" y="6319800"/>
            <a:ext cx="485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3b812f"/>
                </a:solidFill>
                <a:latin typeface="Garamond"/>
              </a:rPr>
              <a:t> </a:t>
            </a:r>
            <a:fld id="{A89874C8-E138-4E11-BA02-CBCE28B98857}" type="slidenum">
              <a:rPr b="1" lang="en-US" sz="1400" spc="-1" strike="noStrike">
                <a:solidFill>
                  <a:srgbClr val="3b812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Peak Demand Model Specificatio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source Peak Demand requirements (ResourcePeakMW</a:t>
            </a:r>
            <a:r>
              <a:rPr b="0" i="1" lang="en-US" sz="1600" spc="-1" strike="noStrike" u="sng" baseline="-25000">
                <a:solidFill>
                  <a:srgbClr val="000000"/>
                </a:solidFill>
                <a:uFillTx/>
                <a:latin typeface="Arial"/>
              </a:rPr>
              <a:t>y,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PeakM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y,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 PeakM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y,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- DL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y,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kMW 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Arial"/>
              </a:rPr>
              <a:t>y,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Peak One Hour MW Demand Regression Model estimates before any DSM Direct Load Control (DLC) deployments in forecast year y, month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LC 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Arial"/>
              </a:rPr>
              <a:t>y,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DSM Active Load Control (ALC) Program deployments measured in MW in forecast year y, month 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ak One Hour MW Demand Regression Mod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akM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y,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f ( ExtremeDayTem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y,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, N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y,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remeDayTemp 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Arial"/>
              </a:rPr>
              <a:t>y,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Peak Day Extreme Max/Mi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in forecast year y, month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S 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Arial"/>
              </a:rPr>
              <a:t>y,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AE’s Net-to-System Generation 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t Energy for Loa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equirements in forecast year y, month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Peak Demand Model Spec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egression model form, the Peak One Hour MW Demand model is specified by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010280" cy="1447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3866400"/>
            <a:ext cx="8229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HDD y,m , DecHDDy,m, JanHDDy,m ,FebHDDy,m ,MarHDDy,m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k Day Min. Dry Bulb Temperature Heating Degree-Days for the months of November, December, January, February, and March in year y, month m, based 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5 F heating breakpoi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CDD y,m , MarCDDy,m, AprCDDy,m , …, ,OctCDDy,m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k Day Max. Dry Bulb Temperature Cooling Degree-Days from the months of February till October in year y, month m, based 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 F cooling breakpoi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Va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near Time Trend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One </a:t>
            </a:r>
            <a:r>
              <a:rPr b="0" i="1" lang="en-US" sz="4600" spc="-1" strike="noStrike">
                <a:solidFill>
                  <a:srgbClr val="006633"/>
                </a:solidFill>
                <a:latin typeface="Garamond"/>
              </a:rPr>
              <a:t>Hour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 Peak MW Model Perform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5880" y="403848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4197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3434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5638680"/>
            <a:ext cx="2400120" cy="333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657600" y="5486400"/>
            <a:ext cx="2438280" cy="51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5257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Sta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Austin Energy Load Flow Inpu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stem Peak = Substation Loads +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tion Load Allocation Consid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Metered Load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Feeder Configuration/Switching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Load Levels for Industri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for High-Probability Spot Load Grow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Trended Loads to Match Forecasted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08:10Z</dcterms:created>
  <dc:creator>dadapz</dc:creator>
  <dc:description/>
  <dc:language>en-US</dc:language>
  <cp:lastModifiedBy>armke</cp:lastModifiedBy>
  <dcterms:modified xsi:type="dcterms:W3CDTF">2010-06-03T16:44:21Z</dcterms:modified>
  <cp:revision>10</cp:revision>
  <dc:subject/>
  <dc:title>Peak Demand Model Specification </dc:title>
</cp:coreProperties>
</file>