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11.png" ContentType="image/png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FE0E94-41F3-4E01-B602-4DBECDDC9ED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41936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FE19D3-616F-43FB-86D1-EF047A3A9D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4193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4193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204A1C-C574-4017-A3B9-F8D46AF8B1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75248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75248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4193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4193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4193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3C7986-23CE-4B22-811F-5C51F82BA90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1448D-EF80-4568-88D4-1EE1DC067CF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7524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A17C3-E30C-482E-80E6-AD9349F1940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57ECB-30BC-4324-A9CF-5CED769939F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01C43-AFBE-480F-AE01-3C6326F1007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9446D-9D3B-4252-87BD-D389B02A362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7E55E-B0FC-43FA-8957-88A7359BFAF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4193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488E0-6B38-43AB-9A0D-21AF9CB0E50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7524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5DA183-12BB-41E6-88E4-69753AAB392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44193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4C73A-07FB-4DF0-B0FD-6226E9F2AE1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41936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7C781-4270-4F43-AE1F-7383E2697C5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441936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201B2-71E2-4AC0-BC03-CCAA776D215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4193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44193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9931F-E138-4357-B449-5AFE789F802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75248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75248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44193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44193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44193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54122-56CB-42DE-AFDC-1C8B92398A0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619B3D-D080-48A7-9D7C-EFBD2B185C9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ACD6B9-A747-4D61-BB3A-0E09DC05D3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F5C107-2399-42AF-AC8B-E754459F7B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031920-E79F-46B3-B549-E3D0B3E420B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4193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1948B4-DFE8-457E-8167-C4A2635D35D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4193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C5DAF4-03B2-4F85-AC8D-E053A9E1F2C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41936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E16413-97D8-47E1-A92A-C897906F5C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1.jpeg"/><Relationship Id="rId8" Type="http://schemas.openxmlformats.org/officeDocument/2006/relationships/image" Target="../media/image7.jpeg"/><Relationship Id="rId9" Type="http://schemas.openxmlformats.org/officeDocument/2006/relationships/slideLayout" Target="../slideLayouts/slideLayout13.xml"/><Relationship Id="rId10" Type="http://schemas.openxmlformats.org/officeDocument/2006/relationships/slideLayout" Target="../slideLayouts/slideLayout14.xml"/><Relationship Id="rId11" Type="http://schemas.openxmlformats.org/officeDocument/2006/relationships/slideLayout" Target="../slideLayouts/slideLayout15.xml"/><Relationship Id="rId12" Type="http://schemas.openxmlformats.org/officeDocument/2006/relationships/slideLayout" Target="../slideLayouts/slideLayout16.xml"/><Relationship Id="rId13" Type="http://schemas.openxmlformats.org/officeDocument/2006/relationships/slideLayout" Target="../slideLayouts/slideLayout17.xml"/><Relationship Id="rId14" Type="http://schemas.openxmlformats.org/officeDocument/2006/relationships/slideLayout" Target="../slideLayouts/slideLayout18.xml"/><Relationship Id="rId15" Type="http://schemas.openxmlformats.org/officeDocument/2006/relationships/slideLayout" Target="../slideLayouts/slideLayout19.xml"/><Relationship Id="rId16" Type="http://schemas.openxmlformats.org/officeDocument/2006/relationships/slideLayout" Target="../slideLayouts/slideLayout20.xml"/><Relationship Id="rId17" Type="http://schemas.openxmlformats.org/officeDocument/2006/relationships/slideLayout" Target="../slideLayouts/slideLayout21.xml"/><Relationship Id="rId18" Type="http://schemas.openxmlformats.org/officeDocument/2006/relationships/slideLayout" Target="../slideLayouts/slideLayout22.xml"/><Relationship Id="rId19" Type="http://schemas.openxmlformats.org/officeDocument/2006/relationships/slideLayout" Target="../slideLayouts/slideLayout23.xml"/><Relationship Id="rId20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5866920"/>
            <a:chOff x="0" y="0"/>
            <a:chExt cx="9144000" cy="5866920"/>
          </a:xfrm>
        </p:grpSpPr>
        <p:sp>
          <p:nvSpPr>
            <p:cNvPr id="1" name="Rectangle 3"/>
            <p:cNvSpPr/>
            <p:nvPr/>
          </p:nvSpPr>
          <p:spPr>
            <a:xfrm>
              <a:off x="0" y="5647680"/>
              <a:ext cx="9144000" cy="219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9144000" cy="1365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0" y="0"/>
              <a:ext cx="228600" cy="5658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8915400" y="0"/>
              <a:ext cx="228600" cy="5658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body"/>
          </p:nvPr>
        </p:nvSpPr>
        <p:spPr>
          <a:xfrm>
            <a:off x="457200" y="17524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ddd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ddddd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ddddd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ddddd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ddddd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9"/>
          <p:cNvSpPr/>
          <p:nvPr/>
        </p:nvSpPr>
        <p:spPr>
          <a:xfrm>
            <a:off x="228600" y="320760"/>
            <a:ext cx="8686800" cy="89856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sldNum" idx="1"/>
          </p:nvPr>
        </p:nvSpPr>
        <p:spPr>
          <a:xfrm>
            <a:off x="6781320" y="6400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569F7-B5C3-4A03-97F5-4C03CAB8F92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" name="Picture 15" descr="_gdsBugOnly"/>
          <p:cNvPicPr/>
          <p:nvPr/>
        </p:nvPicPr>
        <p:blipFill>
          <a:blip r:embed="rId2"/>
          <a:stretch/>
        </p:blipFill>
        <p:spPr>
          <a:xfrm>
            <a:off x="228600" y="6408720"/>
            <a:ext cx="351000" cy="372960"/>
          </a:xfrm>
          <a:prstGeom prst="rect">
            <a:avLst/>
          </a:prstGeom>
          <a:ln w="0">
            <a:noFill/>
          </a:ln>
        </p:spPr>
      </p:pic>
      <p:sp>
        <p:nvSpPr>
          <p:cNvPr id="10" name="Text Box 16"/>
          <p:cNvSpPr/>
          <p:nvPr/>
        </p:nvSpPr>
        <p:spPr>
          <a:xfrm>
            <a:off x="533520" y="6583320"/>
            <a:ext cx="2590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DS Associates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49296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Tex-La Electric Cooperative of Tex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9144000" cy="6552720"/>
            <a:chOff x="0" y="0"/>
            <a:chExt cx="9144000" cy="6552720"/>
          </a:xfrm>
        </p:grpSpPr>
        <p:sp>
          <p:nvSpPr>
            <p:cNvPr id="49" name="Rectangle 3"/>
            <p:cNvSpPr/>
            <p:nvPr/>
          </p:nvSpPr>
          <p:spPr>
            <a:xfrm>
              <a:off x="0" y="6307920"/>
              <a:ext cx="9144000" cy="244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Rectangle 4"/>
            <p:cNvSpPr/>
            <p:nvPr/>
          </p:nvSpPr>
          <p:spPr>
            <a:xfrm>
              <a:off x="0" y="0"/>
              <a:ext cx="9144000" cy="1525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Rectangle 5"/>
            <p:cNvSpPr/>
            <p:nvPr/>
          </p:nvSpPr>
          <p:spPr>
            <a:xfrm>
              <a:off x="0" y="0"/>
              <a:ext cx="228600" cy="631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6"/>
            <p:cNvSpPr/>
            <p:nvPr/>
          </p:nvSpPr>
          <p:spPr>
            <a:xfrm>
              <a:off x="8915400" y="0"/>
              <a:ext cx="228600" cy="631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Rectangle 10"/>
          <p:cNvSpPr/>
          <p:nvPr/>
        </p:nvSpPr>
        <p:spPr>
          <a:xfrm>
            <a:off x="228600" y="304920"/>
            <a:ext cx="8686800" cy="1050840"/>
          </a:xfrm>
          <a:prstGeom prst="rect">
            <a:avLst/>
          </a:prstGeom>
          <a:solidFill>
            <a:srgbClr val="d0d0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3" descr="EIS0089E"/>
          <p:cNvPicPr/>
          <p:nvPr/>
        </p:nvPicPr>
        <p:blipFill>
          <a:blip r:embed="rId2"/>
          <a:srcRect l="0" t="0" r="3753" b="4677"/>
          <a:stretch/>
        </p:blipFill>
        <p:spPr>
          <a:xfrm>
            <a:off x="228600" y="304920"/>
            <a:ext cx="1319040" cy="10429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4" descr="EIS0096E"/>
          <p:cNvPicPr/>
          <p:nvPr/>
        </p:nvPicPr>
        <p:blipFill>
          <a:blip r:embed="rId3"/>
          <a:srcRect l="0" t="0" r="9423" b="1753"/>
          <a:stretch/>
        </p:blipFill>
        <p:spPr>
          <a:xfrm>
            <a:off x="1579680" y="304920"/>
            <a:ext cx="1452600" cy="10508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5" descr="EIS0100E"/>
          <p:cNvPicPr/>
          <p:nvPr/>
        </p:nvPicPr>
        <p:blipFill>
          <a:blip r:embed="rId4"/>
          <a:srcRect l="3532" t="0" r="3532" b="1753"/>
          <a:stretch/>
        </p:blipFill>
        <p:spPr>
          <a:xfrm>
            <a:off x="4648320" y="304920"/>
            <a:ext cx="1487520" cy="10490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6" descr="EIS0099D"/>
          <p:cNvPicPr/>
          <p:nvPr/>
        </p:nvPicPr>
        <p:blipFill>
          <a:blip r:embed="rId5"/>
          <a:srcRect l="0" t="0" r="3540" b="48250"/>
          <a:stretch/>
        </p:blipFill>
        <p:spPr>
          <a:xfrm>
            <a:off x="6172200" y="304920"/>
            <a:ext cx="1295280" cy="10429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7" descr="00076891"/>
          <p:cNvPicPr/>
          <p:nvPr/>
        </p:nvPicPr>
        <p:blipFill>
          <a:blip r:embed="rId6"/>
          <a:srcRect l="5008" t="0" r="5835" b="0"/>
          <a:stretch/>
        </p:blipFill>
        <p:spPr>
          <a:xfrm>
            <a:off x="7510320" y="304920"/>
            <a:ext cx="1398600" cy="10429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9" descr="_gdsBugOnly"/>
          <p:cNvPicPr/>
          <p:nvPr/>
        </p:nvPicPr>
        <p:blipFill>
          <a:blip r:embed="rId7"/>
          <a:stretch/>
        </p:blipFill>
        <p:spPr>
          <a:xfrm>
            <a:off x="228600" y="6418440"/>
            <a:ext cx="343080" cy="3632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00076965"/>
          <p:cNvPicPr/>
          <p:nvPr/>
        </p:nvPicPr>
        <p:blipFill>
          <a:blip r:embed="rId8"/>
          <a:srcRect l="0" t="0" r="3991" b="0"/>
          <a:stretch/>
        </p:blipFill>
        <p:spPr>
          <a:xfrm>
            <a:off x="3079800" y="295200"/>
            <a:ext cx="1525680" cy="1058760"/>
          </a:xfrm>
          <a:prstGeom prst="rect">
            <a:avLst/>
          </a:prstGeom>
          <a:ln w="0">
            <a:noFill/>
          </a:ln>
        </p:spPr>
      </p:pic>
      <p:sp>
        <p:nvSpPr>
          <p:cNvPr id="61" name="Text Box 12"/>
          <p:cNvSpPr/>
          <p:nvPr/>
        </p:nvSpPr>
        <p:spPr>
          <a:xfrm>
            <a:off x="533520" y="6583320"/>
            <a:ext cx="2590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DS Associates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body"/>
          </p:nvPr>
        </p:nvSpPr>
        <p:spPr>
          <a:xfrm>
            <a:off x="457200" y="17524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ddd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ddddd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ddddd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ddddd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ddddd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 type="sldNum" idx="3"/>
          </p:nvPr>
        </p:nvSpPr>
        <p:spPr>
          <a:xfrm>
            <a:off x="6552720" y="65815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14621-B19C-40EE-8520-497B063101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 type="ftr" idx="4"/>
          </p:nvPr>
        </p:nvSpPr>
        <p:spPr>
          <a:xfrm>
            <a:off x="3124080" y="649296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Tex-La Electric Cooperative of Tex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9"/>
    <p:sldLayoutId id="2147483663" r:id="rId10"/>
    <p:sldLayoutId id="2147483664" r:id="rId11"/>
    <p:sldLayoutId id="2147483665" r:id="rId12"/>
    <p:sldLayoutId id="2147483666" r:id="rId13"/>
    <p:sldLayoutId id="2147483667" r:id="rId14"/>
    <p:sldLayoutId id="2147483668" r:id="rId15"/>
    <p:sldLayoutId id="2147483669" r:id="rId16"/>
    <p:sldLayoutId id="2147483670" r:id="rId17"/>
    <p:sldLayoutId id="2147483671" r:id="rId18"/>
    <p:sldLayoutId id="2147483672" r:id="rId19"/>
    <p:sldLayoutId id="2147483673" r:id="rId2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761760" y="3886200"/>
            <a:ext cx="78483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RCOT Reliability Operations Subcommitte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une 10, 2010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ex-La Electric Cooperative of Texas</a:t>
            </a:r>
            <a:br>
              <a:rPr sz="36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ad Forecast Methodologi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ex-La Service Territory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5" name="Group 2"/>
          <p:cNvGrpSpPr/>
          <p:nvPr/>
        </p:nvGrpSpPr>
        <p:grpSpPr>
          <a:xfrm>
            <a:off x="1600200" y="1676520"/>
            <a:ext cx="6248160" cy="4571640"/>
            <a:chOff x="1600200" y="1676520"/>
            <a:chExt cx="6248160" cy="4571640"/>
          </a:xfrm>
        </p:grpSpPr>
        <p:sp>
          <p:nvSpPr>
            <p:cNvPr id="106" name="Freeform 3"/>
            <p:cNvSpPr/>
            <p:nvPr/>
          </p:nvSpPr>
          <p:spPr>
            <a:xfrm>
              <a:off x="2315880" y="2958840"/>
              <a:ext cx="3916080" cy="3276360"/>
            </a:xfrm>
            <a:custGeom>
              <a:avLst/>
              <a:gdLst>
                <a:gd name="textAreaLeft" fmla="*/ 0 w 3916080"/>
                <a:gd name="textAreaRight" fmla="*/ 3916440 w 3916080"/>
                <a:gd name="textAreaTop" fmla="*/ 0 h 3276360"/>
                <a:gd name="textAreaBottom" fmla="*/ 3276720 h 3276360"/>
              </a:gdLst>
              <a:ahLst/>
              <a:rect l="textAreaLeft" t="textAreaTop" r="textAreaRight" b="textAreaBottom"/>
              <a:pathLst>
                <a:path w="3254" h="3254">
                  <a:moveTo>
                    <a:pt x="901" y="0"/>
                  </a:moveTo>
                  <a:lnTo>
                    <a:pt x="1112" y="0"/>
                  </a:lnTo>
                  <a:lnTo>
                    <a:pt x="1649" y="0"/>
                  </a:lnTo>
                  <a:lnTo>
                    <a:pt x="1649" y="537"/>
                  </a:lnTo>
                  <a:lnTo>
                    <a:pt x="1649" y="595"/>
                  </a:lnTo>
                  <a:lnTo>
                    <a:pt x="1694" y="614"/>
                  </a:lnTo>
                  <a:lnTo>
                    <a:pt x="1726" y="652"/>
                  </a:lnTo>
                  <a:lnTo>
                    <a:pt x="1777" y="639"/>
                  </a:lnTo>
                  <a:lnTo>
                    <a:pt x="1829" y="639"/>
                  </a:lnTo>
                  <a:lnTo>
                    <a:pt x="1848" y="697"/>
                  </a:lnTo>
                  <a:lnTo>
                    <a:pt x="1892" y="703"/>
                  </a:lnTo>
                  <a:lnTo>
                    <a:pt x="1931" y="722"/>
                  </a:lnTo>
                  <a:lnTo>
                    <a:pt x="1976" y="722"/>
                  </a:lnTo>
                  <a:lnTo>
                    <a:pt x="2008" y="722"/>
                  </a:lnTo>
                  <a:lnTo>
                    <a:pt x="2046" y="722"/>
                  </a:lnTo>
                  <a:lnTo>
                    <a:pt x="2103" y="729"/>
                  </a:lnTo>
                  <a:lnTo>
                    <a:pt x="2129" y="761"/>
                  </a:lnTo>
                  <a:lnTo>
                    <a:pt x="2212" y="780"/>
                  </a:lnTo>
                  <a:lnTo>
                    <a:pt x="2251" y="786"/>
                  </a:lnTo>
                  <a:lnTo>
                    <a:pt x="2314" y="812"/>
                  </a:lnTo>
                  <a:lnTo>
                    <a:pt x="2353" y="818"/>
                  </a:lnTo>
                  <a:lnTo>
                    <a:pt x="2353" y="850"/>
                  </a:lnTo>
                  <a:lnTo>
                    <a:pt x="2404" y="799"/>
                  </a:lnTo>
                  <a:lnTo>
                    <a:pt x="2462" y="818"/>
                  </a:lnTo>
                  <a:lnTo>
                    <a:pt x="2494" y="799"/>
                  </a:lnTo>
                  <a:lnTo>
                    <a:pt x="2551" y="863"/>
                  </a:lnTo>
                  <a:lnTo>
                    <a:pt x="2583" y="844"/>
                  </a:lnTo>
                  <a:lnTo>
                    <a:pt x="2628" y="812"/>
                  </a:lnTo>
                  <a:lnTo>
                    <a:pt x="2692" y="806"/>
                  </a:lnTo>
                  <a:lnTo>
                    <a:pt x="2724" y="793"/>
                  </a:lnTo>
                  <a:lnTo>
                    <a:pt x="2800" y="799"/>
                  </a:lnTo>
                  <a:lnTo>
                    <a:pt x="2832" y="774"/>
                  </a:lnTo>
                  <a:lnTo>
                    <a:pt x="2884" y="806"/>
                  </a:lnTo>
                  <a:lnTo>
                    <a:pt x="2916" y="831"/>
                  </a:lnTo>
                  <a:lnTo>
                    <a:pt x="2973" y="850"/>
                  </a:lnTo>
                  <a:lnTo>
                    <a:pt x="3018" y="869"/>
                  </a:lnTo>
                  <a:lnTo>
                    <a:pt x="3069" y="901"/>
                  </a:lnTo>
                  <a:lnTo>
                    <a:pt x="3107" y="895"/>
                  </a:lnTo>
                  <a:lnTo>
                    <a:pt x="3120" y="1259"/>
                  </a:lnTo>
                  <a:lnTo>
                    <a:pt x="3127" y="1323"/>
                  </a:lnTo>
                  <a:lnTo>
                    <a:pt x="3120" y="1381"/>
                  </a:lnTo>
                  <a:lnTo>
                    <a:pt x="3171" y="1432"/>
                  </a:lnTo>
                  <a:lnTo>
                    <a:pt x="3184" y="1528"/>
                  </a:lnTo>
                  <a:lnTo>
                    <a:pt x="3210" y="1566"/>
                  </a:lnTo>
                  <a:lnTo>
                    <a:pt x="3254" y="1630"/>
                  </a:lnTo>
                  <a:lnTo>
                    <a:pt x="3254" y="1669"/>
                  </a:lnTo>
                  <a:lnTo>
                    <a:pt x="3254" y="1707"/>
                  </a:lnTo>
                  <a:lnTo>
                    <a:pt x="3242" y="1752"/>
                  </a:lnTo>
                  <a:lnTo>
                    <a:pt x="3203" y="1847"/>
                  </a:lnTo>
                  <a:lnTo>
                    <a:pt x="3222" y="1943"/>
                  </a:lnTo>
                  <a:lnTo>
                    <a:pt x="3184" y="2014"/>
                  </a:lnTo>
                  <a:lnTo>
                    <a:pt x="3171" y="2084"/>
                  </a:lnTo>
                  <a:lnTo>
                    <a:pt x="3127" y="2090"/>
                  </a:lnTo>
                  <a:lnTo>
                    <a:pt x="3056" y="2122"/>
                  </a:lnTo>
                  <a:lnTo>
                    <a:pt x="3018" y="2142"/>
                  </a:lnTo>
                  <a:lnTo>
                    <a:pt x="2986" y="2154"/>
                  </a:lnTo>
                  <a:lnTo>
                    <a:pt x="2960" y="2180"/>
                  </a:lnTo>
                  <a:lnTo>
                    <a:pt x="3005" y="2142"/>
                  </a:lnTo>
                  <a:lnTo>
                    <a:pt x="2948" y="2142"/>
                  </a:lnTo>
                  <a:lnTo>
                    <a:pt x="2967" y="2058"/>
                  </a:lnTo>
                  <a:lnTo>
                    <a:pt x="2916" y="2090"/>
                  </a:lnTo>
                  <a:lnTo>
                    <a:pt x="2884" y="2135"/>
                  </a:lnTo>
                  <a:lnTo>
                    <a:pt x="2909" y="2199"/>
                  </a:lnTo>
                  <a:lnTo>
                    <a:pt x="2877" y="2231"/>
                  </a:lnTo>
                  <a:lnTo>
                    <a:pt x="2832" y="2269"/>
                  </a:lnTo>
                  <a:lnTo>
                    <a:pt x="2820" y="2314"/>
                  </a:lnTo>
                  <a:lnTo>
                    <a:pt x="2749" y="2359"/>
                  </a:lnTo>
                  <a:lnTo>
                    <a:pt x="2705" y="2397"/>
                  </a:lnTo>
                  <a:lnTo>
                    <a:pt x="2673" y="2416"/>
                  </a:lnTo>
                  <a:lnTo>
                    <a:pt x="2641" y="2429"/>
                  </a:lnTo>
                  <a:lnTo>
                    <a:pt x="2570" y="2474"/>
                  </a:lnTo>
                  <a:lnTo>
                    <a:pt x="2615" y="2436"/>
                  </a:lnTo>
                  <a:lnTo>
                    <a:pt x="2641" y="2410"/>
                  </a:lnTo>
                  <a:lnTo>
                    <a:pt x="2698" y="2391"/>
                  </a:lnTo>
                  <a:lnTo>
                    <a:pt x="2609" y="2423"/>
                  </a:lnTo>
                  <a:lnTo>
                    <a:pt x="2577" y="2436"/>
                  </a:lnTo>
                  <a:lnTo>
                    <a:pt x="2589" y="2391"/>
                  </a:lnTo>
                  <a:lnTo>
                    <a:pt x="2545" y="2410"/>
                  </a:lnTo>
                  <a:lnTo>
                    <a:pt x="2474" y="2397"/>
                  </a:lnTo>
                  <a:lnTo>
                    <a:pt x="2513" y="2442"/>
                  </a:lnTo>
                  <a:lnTo>
                    <a:pt x="2506" y="2493"/>
                  </a:lnTo>
                  <a:lnTo>
                    <a:pt x="2462" y="2512"/>
                  </a:lnTo>
                  <a:lnTo>
                    <a:pt x="2436" y="2468"/>
                  </a:lnTo>
                  <a:lnTo>
                    <a:pt x="2442" y="2525"/>
                  </a:lnTo>
                  <a:lnTo>
                    <a:pt x="2423" y="2563"/>
                  </a:lnTo>
                  <a:lnTo>
                    <a:pt x="2398" y="2544"/>
                  </a:lnTo>
                  <a:lnTo>
                    <a:pt x="2334" y="2595"/>
                  </a:lnTo>
                  <a:lnTo>
                    <a:pt x="2378" y="2583"/>
                  </a:lnTo>
                  <a:lnTo>
                    <a:pt x="2372" y="2615"/>
                  </a:lnTo>
                  <a:lnTo>
                    <a:pt x="2302" y="2659"/>
                  </a:lnTo>
                  <a:lnTo>
                    <a:pt x="2270" y="2659"/>
                  </a:lnTo>
                  <a:lnTo>
                    <a:pt x="2302" y="2717"/>
                  </a:lnTo>
                  <a:lnTo>
                    <a:pt x="2308" y="2755"/>
                  </a:lnTo>
                  <a:lnTo>
                    <a:pt x="2289" y="2813"/>
                  </a:lnTo>
                  <a:lnTo>
                    <a:pt x="2225" y="2826"/>
                  </a:lnTo>
                  <a:lnTo>
                    <a:pt x="2199" y="2787"/>
                  </a:lnTo>
                  <a:lnTo>
                    <a:pt x="2206" y="2826"/>
                  </a:lnTo>
                  <a:lnTo>
                    <a:pt x="2251" y="2845"/>
                  </a:lnTo>
                  <a:lnTo>
                    <a:pt x="2283" y="2845"/>
                  </a:lnTo>
                  <a:lnTo>
                    <a:pt x="2270" y="2921"/>
                  </a:lnTo>
                  <a:lnTo>
                    <a:pt x="2270" y="3005"/>
                  </a:lnTo>
                  <a:lnTo>
                    <a:pt x="2283" y="3068"/>
                  </a:lnTo>
                  <a:lnTo>
                    <a:pt x="2283" y="3107"/>
                  </a:lnTo>
                  <a:lnTo>
                    <a:pt x="2302" y="3145"/>
                  </a:lnTo>
                  <a:lnTo>
                    <a:pt x="2327" y="3203"/>
                  </a:lnTo>
                  <a:lnTo>
                    <a:pt x="2353" y="3215"/>
                  </a:lnTo>
                  <a:lnTo>
                    <a:pt x="2353" y="3247"/>
                  </a:lnTo>
                  <a:lnTo>
                    <a:pt x="2321" y="3247"/>
                  </a:lnTo>
                  <a:lnTo>
                    <a:pt x="2263" y="3254"/>
                  </a:lnTo>
                  <a:lnTo>
                    <a:pt x="2212" y="3228"/>
                  </a:lnTo>
                  <a:lnTo>
                    <a:pt x="2155" y="3215"/>
                  </a:lnTo>
                  <a:lnTo>
                    <a:pt x="2129" y="3222"/>
                  </a:lnTo>
                  <a:lnTo>
                    <a:pt x="2065" y="3196"/>
                  </a:lnTo>
                  <a:lnTo>
                    <a:pt x="2008" y="3158"/>
                  </a:lnTo>
                  <a:lnTo>
                    <a:pt x="1963" y="3145"/>
                  </a:lnTo>
                  <a:lnTo>
                    <a:pt x="1918" y="3126"/>
                  </a:lnTo>
                  <a:lnTo>
                    <a:pt x="1886" y="3113"/>
                  </a:lnTo>
                  <a:lnTo>
                    <a:pt x="1861" y="3068"/>
                  </a:lnTo>
                  <a:lnTo>
                    <a:pt x="1848" y="3036"/>
                  </a:lnTo>
                  <a:lnTo>
                    <a:pt x="1829" y="2979"/>
                  </a:lnTo>
                  <a:lnTo>
                    <a:pt x="1790" y="2928"/>
                  </a:lnTo>
                  <a:lnTo>
                    <a:pt x="1790" y="2857"/>
                  </a:lnTo>
                  <a:lnTo>
                    <a:pt x="1771" y="2813"/>
                  </a:lnTo>
                  <a:lnTo>
                    <a:pt x="1765" y="2749"/>
                  </a:lnTo>
                  <a:lnTo>
                    <a:pt x="1720" y="2723"/>
                  </a:lnTo>
                  <a:lnTo>
                    <a:pt x="1675" y="2659"/>
                  </a:lnTo>
                  <a:lnTo>
                    <a:pt x="1643" y="2615"/>
                  </a:lnTo>
                  <a:lnTo>
                    <a:pt x="1598" y="2563"/>
                  </a:lnTo>
                  <a:lnTo>
                    <a:pt x="1566" y="2512"/>
                  </a:lnTo>
                  <a:lnTo>
                    <a:pt x="1534" y="2423"/>
                  </a:lnTo>
                  <a:lnTo>
                    <a:pt x="1509" y="2372"/>
                  </a:lnTo>
                  <a:lnTo>
                    <a:pt x="1477" y="2295"/>
                  </a:lnTo>
                  <a:lnTo>
                    <a:pt x="1451" y="2237"/>
                  </a:lnTo>
                  <a:lnTo>
                    <a:pt x="1413" y="2205"/>
                  </a:lnTo>
                  <a:lnTo>
                    <a:pt x="1362" y="2167"/>
                  </a:lnTo>
                  <a:lnTo>
                    <a:pt x="1343" y="2129"/>
                  </a:lnTo>
                  <a:lnTo>
                    <a:pt x="1304" y="2084"/>
                  </a:lnTo>
                  <a:lnTo>
                    <a:pt x="1266" y="2078"/>
                  </a:lnTo>
                  <a:lnTo>
                    <a:pt x="1215" y="2078"/>
                  </a:lnTo>
                  <a:lnTo>
                    <a:pt x="1170" y="2071"/>
                  </a:lnTo>
                  <a:lnTo>
                    <a:pt x="1138" y="2071"/>
                  </a:lnTo>
                  <a:lnTo>
                    <a:pt x="1100" y="2052"/>
                  </a:lnTo>
                  <a:lnTo>
                    <a:pt x="1061" y="2071"/>
                  </a:lnTo>
                  <a:lnTo>
                    <a:pt x="1010" y="2078"/>
                  </a:lnTo>
                  <a:lnTo>
                    <a:pt x="953" y="2148"/>
                  </a:lnTo>
                  <a:lnTo>
                    <a:pt x="946" y="2199"/>
                  </a:lnTo>
                  <a:lnTo>
                    <a:pt x="895" y="2276"/>
                  </a:lnTo>
                  <a:lnTo>
                    <a:pt x="857" y="2314"/>
                  </a:lnTo>
                  <a:lnTo>
                    <a:pt x="818" y="2301"/>
                  </a:lnTo>
                  <a:lnTo>
                    <a:pt x="761" y="2263"/>
                  </a:lnTo>
                  <a:lnTo>
                    <a:pt x="735" y="2263"/>
                  </a:lnTo>
                  <a:lnTo>
                    <a:pt x="697" y="2225"/>
                  </a:lnTo>
                  <a:lnTo>
                    <a:pt x="652" y="2225"/>
                  </a:lnTo>
                  <a:lnTo>
                    <a:pt x="620" y="2199"/>
                  </a:lnTo>
                  <a:lnTo>
                    <a:pt x="569" y="2148"/>
                  </a:lnTo>
                  <a:lnTo>
                    <a:pt x="524" y="2110"/>
                  </a:lnTo>
                  <a:lnTo>
                    <a:pt x="511" y="2071"/>
                  </a:lnTo>
                  <a:lnTo>
                    <a:pt x="486" y="2001"/>
                  </a:lnTo>
                  <a:lnTo>
                    <a:pt x="486" y="1956"/>
                  </a:lnTo>
                  <a:lnTo>
                    <a:pt x="447" y="1886"/>
                  </a:lnTo>
                  <a:lnTo>
                    <a:pt x="435" y="1835"/>
                  </a:lnTo>
                  <a:lnTo>
                    <a:pt x="383" y="1784"/>
                  </a:lnTo>
                  <a:lnTo>
                    <a:pt x="339" y="1758"/>
                  </a:lnTo>
                  <a:lnTo>
                    <a:pt x="262" y="1675"/>
                  </a:lnTo>
                  <a:lnTo>
                    <a:pt x="192" y="1611"/>
                  </a:lnTo>
                  <a:lnTo>
                    <a:pt x="160" y="1579"/>
                  </a:lnTo>
                  <a:lnTo>
                    <a:pt x="102" y="1553"/>
                  </a:lnTo>
                  <a:lnTo>
                    <a:pt x="76" y="1483"/>
                  </a:lnTo>
                  <a:lnTo>
                    <a:pt x="45" y="1464"/>
                  </a:lnTo>
                  <a:lnTo>
                    <a:pt x="13" y="1438"/>
                  </a:lnTo>
                  <a:lnTo>
                    <a:pt x="0" y="1394"/>
                  </a:lnTo>
                  <a:lnTo>
                    <a:pt x="889" y="1387"/>
                  </a:lnTo>
                  <a:lnTo>
                    <a:pt x="889" y="1093"/>
                  </a:lnTo>
                  <a:lnTo>
                    <a:pt x="895" y="953"/>
                  </a:lnTo>
                  <a:lnTo>
                    <a:pt x="895" y="671"/>
                  </a:lnTo>
                  <a:lnTo>
                    <a:pt x="895" y="537"/>
                  </a:lnTo>
                  <a:lnTo>
                    <a:pt x="901" y="0"/>
                  </a:lnTo>
                </a:path>
              </a:pathLst>
            </a:custGeom>
            <a:noFill/>
            <a:ln w="63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7" name="Group 4"/>
            <p:cNvGrpSpPr/>
            <p:nvPr/>
          </p:nvGrpSpPr>
          <p:grpSpPr>
            <a:xfrm>
              <a:off x="1600200" y="1676520"/>
              <a:ext cx="6248160" cy="4571640"/>
              <a:chOff x="1600200" y="1676520"/>
              <a:chExt cx="6248160" cy="4571640"/>
            </a:xfrm>
          </p:grpSpPr>
          <p:sp>
            <p:nvSpPr>
              <p:cNvPr id="108" name="Freeform 6"/>
              <p:cNvSpPr/>
              <p:nvPr/>
            </p:nvSpPr>
            <p:spPr>
              <a:xfrm>
                <a:off x="5545800" y="3990600"/>
                <a:ext cx="682200" cy="786240"/>
              </a:xfrm>
              <a:custGeom>
                <a:avLst/>
                <a:gdLst>
                  <a:gd name="textAreaLeft" fmla="*/ 0 w 682200"/>
                  <a:gd name="textAreaRight" fmla="*/ 682560 w 682200"/>
                  <a:gd name="textAreaTop" fmla="*/ 0 h 786240"/>
                  <a:gd name="textAreaBottom" fmla="*/ 786600 h 786240"/>
                </a:gdLst>
                <a:ahLst/>
                <a:rect l="textAreaLeft" t="textAreaTop" r="textAreaRight" b="textAreaBottom"/>
                <a:pathLst>
                  <a:path w="568" h="780">
                    <a:moveTo>
                      <a:pt x="412" y="12"/>
                    </a:moveTo>
                    <a:lnTo>
                      <a:pt x="348" y="8"/>
                    </a:lnTo>
                    <a:lnTo>
                      <a:pt x="276" y="0"/>
                    </a:lnTo>
                    <a:lnTo>
                      <a:pt x="280" y="36"/>
                    </a:lnTo>
                    <a:lnTo>
                      <a:pt x="276" y="68"/>
                    </a:lnTo>
                    <a:lnTo>
                      <a:pt x="224" y="60"/>
                    </a:lnTo>
                    <a:lnTo>
                      <a:pt x="208" y="76"/>
                    </a:lnTo>
                    <a:lnTo>
                      <a:pt x="176" y="112"/>
                    </a:lnTo>
                    <a:lnTo>
                      <a:pt x="140" y="108"/>
                    </a:lnTo>
                    <a:lnTo>
                      <a:pt x="156" y="156"/>
                    </a:lnTo>
                    <a:lnTo>
                      <a:pt x="116" y="160"/>
                    </a:lnTo>
                    <a:lnTo>
                      <a:pt x="52" y="160"/>
                    </a:lnTo>
                    <a:lnTo>
                      <a:pt x="96" y="200"/>
                    </a:lnTo>
                    <a:lnTo>
                      <a:pt x="88" y="256"/>
                    </a:lnTo>
                    <a:lnTo>
                      <a:pt x="76" y="264"/>
                    </a:lnTo>
                    <a:lnTo>
                      <a:pt x="76" y="296"/>
                    </a:lnTo>
                    <a:lnTo>
                      <a:pt x="88" y="340"/>
                    </a:lnTo>
                    <a:lnTo>
                      <a:pt x="56" y="372"/>
                    </a:lnTo>
                    <a:lnTo>
                      <a:pt x="68" y="396"/>
                    </a:lnTo>
                    <a:lnTo>
                      <a:pt x="48" y="456"/>
                    </a:lnTo>
                    <a:lnTo>
                      <a:pt x="0" y="468"/>
                    </a:lnTo>
                    <a:lnTo>
                      <a:pt x="16" y="504"/>
                    </a:lnTo>
                    <a:lnTo>
                      <a:pt x="100" y="520"/>
                    </a:lnTo>
                    <a:lnTo>
                      <a:pt x="112" y="564"/>
                    </a:lnTo>
                    <a:lnTo>
                      <a:pt x="124" y="612"/>
                    </a:lnTo>
                    <a:lnTo>
                      <a:pt x="116" y="660"/>
                    </a:lnTo>
                    <a:lnTo>
                      <a:pt x="120" y="720"/>
                    </a:lnTo>
                    <a:lnTo>
                      <a:pt x="168" y="724"/>
                    </a:lnTo>
                    <a:lnTo>
                      <a:pt x="212" y="704"/>
                    </a:lnTo>
                    <a:lnTo>
                      <a:pt x="248" y="728"/>
                    </a:lnTo>
                    <a:lnTo>
                      <a:pt x="276" y="744"/>
                    </a:lnTo>
                    <a:lnTo>
                      <a:pt x="368" y="736"/>
                    </a:lnTo>
                    <a:lnTo>
                      <a:pt x="448" y="752"/>
                    </a:lnTo>
                    <a:lnTo>
                      <a:pt x="484" y="780"/>
                    </a:lnTo>
                    <a:lnTo>
                      <a:pt x="520" y="760"/>
                    </a:lnTo>
                    <a:lnTo>
                      <a:pt x="568" y="664"/>
                    </a:lnTo>
                    <a:lnTo>
                      <a:pt x="556" y="596"/>
                    </a:lnTo>
                    <a:lnTo>
                      <a:pt x="500" y="496"/>
                    </a:lnTo>
                    <a:lnTo>
                      <a:pt x="484" y="408"/>
                    </a:lnTo>
                    <a:lnTo>
                      <a:pt x="444" y="360"/>
                    </a:lnTo>
                    <a:lnTo>
                      <a:pt x="476" y="300"/>
                    </a:lnTo>
                    <a:lnTo>
                      <a:pt x="460" y="240"/>
                    </a:lnTo>
                    <a:lnTo>
                      <a:pt x="428" y="120"/>
                    </a:lnTo>
                    <a:lnTo>
                      <a:pt x="412" y="12"/>
                    </a:lnTo>
                    <a:close/>
                  </a:path>
                </a:pathLst>
              </a:custGeom>
              <a:solidFill>
                <a:srgbClr val="dddddd"/>
              </a:solidFill>
              <a:ln w="25560">
                <a:solidFill>
                  <a:srgbClr val="dddddd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9" name="Group 7"/>
              <p:cNvGrpSpPr/>
              <p:nvPr/>
            </p:nvGrpSpPr>
            <p:grpSpPr>
              <a:xfrm>
                <a:off x="5322240" y="2951640"/>
                <a:ext cx="2521440" cy="2329920"/>
                <a:chOff x="5322240" y="2951640"/>
                <a:chExt cx="2521440" cy="2329920"/>
              </a:xfrm>
            </p:grpSpPr>
            <p:sp>
              <p:nvSpPr>
                <p:cNvPr id="110" name="Freeform 8"/>
                <p:cNvSpPr/>
                <p:nvPr/>
              </p:nvSpPr>
              <p:spPr>
                <a:xfrm>
                  <a:off x="6790320" y="3420720"/>
                  <a:ext cx="1053360" cy="1493280"/>
                </a:xfrm>
                <a:custGeom>
                  <a:avLst/>
                  <a:gdLst>
                    <a:gd name="textAreaLeft" fmla="*/ 0 w 1053360"/>
                    <a:gd name="textAreaRight" fmla="*/ 1053720 w 1053360"/>
                    <a:gd name="textAreaTop" fmla="*/ 0 h 1493280"/>
                    <a:gd name="textAreaBottom" fmla="*/ 1493640 h 1493280"/>
                  </a:gdLst>
                  <a:ahLst/>
                  <a:rect l="textAreaLeft" t="textAreaTop" r="textAreaRight" b="textAreaBottom"/>
                  <a:pathLst>
                    <a:path w="876" h="1483">
                      <a:moveTo>
                        <a:pt x="518" y="1483"/>
                      </a:moveTo>
                      <a:lnTo>
                        <a:pt x="499" y="1471"/>
                      </a:lnTo>
                      <a:lnTo>
                        <a:pt x="493" y="1451"/>
                      </a:lnTo>
                      <a:lnTo>
                        <a:pt x="499" y="1439"/>
                      </a:lnTo>
                      <a:lnTo>
                        <a:pt x="480" y="1400"/>
                      </a:lnTo>
                      <a:lnTo>
                        <a:pt x="454" y="1368"/>
                      </a:lnTo>
                      <a:lnTo>
                        <a:pt x="454" y="1336"/>
                      </a:lnTo>
                      <a:lnTo>
                        <a:pt x="448" y="1324"/>
                      </a:lnTo>
                      <a:lnTo>
                        <a:pt x="454" y="1304"/>
                      </a:lnTo>
                      <a:lnTo>
                        <a:pt x="461" y="1285"/>
                      </a:lnTo>
                      <a:lnTo>
                        <a:pt x="473" y="1247"/>
                      </a:lnTo>
                      <a:lnTo>
                        <a:pt x="467" y="1228"/>
                      </a:lnTo>
                      <a:lnTo>
                        <a:pt x="339" y="1228"/>
                      </a:lnTo>
                      <a:lnTo>
                        <a:pt x="320" y="1234"/>
                      </a:lnTo>
                      <a:lnTo>
                        <a:pt x="19" y="1240"/>
                      </a:lnTo>
                      <a:lnTo>
                        <a:pt x="13" y="1215"/>
                      </a:lnTo>
                      <a:lnTo>
                        <a:pt x="7" y="1196"/>
                      </a:lnTo>
                      <a:lnTo>
                        <a:pt x="7" y="1170"/>
                      </a:lnTo>
                      <a:lnTo>
                        <a:pt x="0" y="1151"/>
                      </a:lnTo>
                      <a:lnTo>
                        <a:pt x="26" y="1151"/>
                      </a:lnTo>
                      <a:lnTo>
                        <a:pt x="26" y="1132"/>
                      </a:lnTo>
                      <a:lnTo>
                        <a:pt x="26" y="1100"/>
                      </a:lnTo>
                      <a:lnTo>
                        <a:pt x="39" y="1106"/>
                      </a:lnTo>
                      <a:lnTo>
                        <a:pt x="32" y="1081"/>
                      </a:lnTo>
                      <a:lnTo>
                        <a:pt x="32" y="1068"/>
                      </a:lnTo>
                      <a:lnTo>
                        <a:pt x="51" y="1061"/>
                      </a:lnTo>
                      <a:lnTo>
                        <a:pt x="32" y="1042"/>
                      </a:lnTo>
                      <a:lnTo>
                        <a:pt x="58" y="1036"/>
                      </a:lnTo>
                      <a:lnTo>
                        <a:pt x="58" y="1017"/>
                      </a:lnTo>
                      <a:lnTo>
                        <a:pt x="71" y="1004"/>
                      </a:lnTo>
                      <a:lnTo>
                        <a:pt x="90" y="998"/>
                      </a:lnTo>
                      <a:lnTo>
                        <a:pt x="77" y="985"/>
                      </a:lnTo>
                      <a:lnTo>
                        <a:pt x="71" y="972"/>
                      </a:lnTo>
                      <a:lnTo>
                        <a:pt x="90" y="972"/>
                      </a:lnTo>
                      <a:lnTo>
                        <a:pt x="103" y="972"/>
                      </a:lnTo>
                      <a:lnTo>
                        <a:pt x="115" y="927"/>
                      </a:lnTo>
                      <a:lnTo>
                        <a:pt x="128" y="921"/>
                      </a:lnTo>
                      <a:lnTo>
                        <a:pt x="128" y="908"/>
                      </a:lnTo>
                      <a:lnTo>
                        <a:pt x="141" y="902"/>
                      </a:lnTo>
                      <a:lnTo>
                        <a:pt x="167" y="870"/>
                      </a:lnTo>
                      <a:lnTo>
                        <a:pt x="154" y="870"/>
                      </a:lnTo>
                      <a:lnTo>
                        <a:pt x="135" y="889"/>
                      </a:lnTo>
                      <a:lnTo>
                        <a:pt x="115" y="882"/>
                      </a:lnTo>
                      <a:lnTo>
                        <a:pt x="115" y="863"/>
                      </a:lnTo>
                      <a:lnTo>
                        <a:pt x="135" y="857"/>
                      </a:lnTo>
                      <a:lnTo>
                        <a:pt x="160" y="857"/>
                      </a:lnTo>
                      <a:lnTo>
                        <a:pt x="167" y="838"/>
                      </a:lnTo>
                      <a:lnTo>
                        <a:pt x="179" y="825"/>
                      </a:lnTo>
                      <a:lnTo>
                        <a:pt x="160" y="812"/>
                      </a:lnTo>
                      <a:lnTo>
                        <a:pt x="154" y="806"/>
                      </a:lnTo>
                      <a:lnTo>
                        <a:pt x="154" y="787"/>
                      </a:lnTo>
                      <a:lnTo>
                        <a:pt x="135" y="780"/>
                      </a:lnTo>
                      <a:lnTo>
                        <a:pt x="128" y="767"/>
                      </a:lnTo>
                      <a:lnTo>
                        <a:pt x="154" y="774"/>
                      </a:lnTo>
                      <a:lnTo>
                        <a:pt x="141" y="755"/>
                      </a:lnTo>
                      <a:lnTo>
                        <a:pt x="154" y="735"/>
                      </a:lnTo>
                      <a:lnTo>
                        <a:pt x="135" y="735"/>
                      </a:lnTo>
                      <a:lnTo>
                        <a:pt x="122" y="735"/>
                      </a:lnTo>
                      <a:lnTo>
                        <a:pt x="122" y="710"/>
                      </a:lnTo>
                      <a:lnTo>
                        <a:pt x="135" y="710"/>
                      </a:lnTo>
                      <a:lnTo>
                        <a:pt x="135" y="691"/>
                      </a:lnTo>
                      <a:lnTo>
                        <a:pt x="115" y="684"/>
                      </a:lnTo>
                      <a:lnTo>
                        <a:pt x="128" y="652"/>
                      </a:lnTo>
                      <a:lnTo>
                        <a:pt x="135" y="633"/>
                      </a:lnTo>
                      <a:lnTo>
                        <a:pt x="128" y="627"/>
                      </a:lnTo>
                      <a:lnTo>
                        <a:pt x="122" y="640"/>
                      </a:lnTo>
                      <a:lnTo>
                        <a:pt x="109" y="640"/>
                      </a:lnTo>
                      <a:lnTo>
                        <a:pt x="109" y="627"/>
                      </a:lnTo>
                      <a:lnTo>
                        <a:pt x="122" y="601"/>
                      </a:lnTo>
                      <a:lnTo>
                        <a:pt x="109" y="576"/>
                      </a:lnTo>
                      <a:lnTo>
                        <a:pt x="128" y="569"/>
                      </a:lnTo>
                      <a:lnTo>
                        <a:pt x="135" y="556"/>
                      </a:lnTo>
                      <a:lnTo>
                        <a:pt x="147" y="537"/>
                      </a:lnTo>
                      <a:lnTo>
                        <a:pt x="135" y="531"/>
                      </a:lnTo>
                      <a:lnTo>
                        <a:pt x="115" y="512"/>
                      </a:lnTo>
                      <a:lnTo>
                        <a:pt x="135" y="493"/>
                      </a:lnTo>
                      <a:lnTo>
                        <a:pt x="135" y="480"/>
                      </a:lnTo>
                      <a:lnTo>
                        <a:pt x="115" y="493"/>
                      </a:lnTo>
                      <a:lnTo>
                        <a:pt x="122" y="467"/>
                      </a:lnTo>
                      <a:lnTo>
                        <a:pt x="109" y="473"/>
                      </a:lnTo>
                      <a:lnTo>
                        <a:pt x="109" y="454"/>
                      </a:lnTo>
                      <a:lnTo>
                        <a:pt x="96" y="441"/>
                      </a:lnTo>
                      <a:lnTo>
                        <a:pt x="115" y="429"/>
                      </a:lnTo>
                      <a:lnTo>
                        <a:pt x="109" y="409"/>
                      </a:lnTo>
                      <a:lnTo>
                        <a:pt x="109" y="390"/>
                      </a:lnTo>
                      <a:lnTo>
                        <a:pt x="128" y="409"/>
                      </a:lnTo>
                      <a:lnTo>
                        <a:pt x="135" y="390"/>
                      </a:lnTo>
                      <a:lnTo>
                        <a:pt x="122" y="384"/>
                      </a:lnTo>
                      <a:lnTo>
                        <a:pt x="141" y="371"/>
                      </a:lnTo>
                      <a:lnTo>
                        <a:pt x="141" y="320"/>
                      </a:lnTo>
                      <a:lnTo>
                        <a:pt x="135" y="301"/>
                      </a:lnTo>
                      <a:lnTo>
                        <a:pt x="160" y="314"/>
                      </a:lnTo>
                      <a:lnTo>
                        <a:pt x="160" y="301"/>
                      </a:lnTo>
                      <a:lnTo>
                        <a:pt x="173" y="288"/>
                      </a:lnTo>
                      <a:lnTo>
                        <a:pt x="160" y="262"/>
                      </a:lnTo>
                      <a:lnTo>
                        <a:pt x="173" y="256"/>
                      </a:lnTo>
                      <a:lnTo>
                        <a:pt x="192" y="262"/>
                      </a:lnTo>
                      <a:lnTo>
                        <a:pt x="179" y="243"/>
                      </a:lnTo>
                      <a:lnTo>
                        <a:pt x="198" y="230"/>
                      </a:lnTo>
                      <a:lnTo>
                        <a:pt x="211" y="218"/>
                      </a:lnTo>
                      <a:lnTo>
                        <a:pt x="224" y="218"/>
                      </a:lnTo>
                      <a:lnTo>
                        <a:pt x="224" y="186"/>
                      </a:lnTo>
                      <a:lnTo>
                        <a:pt x="243" y="186"/>
                      </a:lnTo>
                      <a:lnTo>
                        <a:pt x="262" y="173"/>
                      </a:lnTo>
                      <a:lnTo>
                        <a:pt x="262" y="154"/>
                      </a:lnTo>
                      <a:lnTo>
                        <a:pt x="269" y="135"/>
                      </a:lnTo>
                      <a:lnTo>
                        <a:pt x="262" y="115"/>
                      </a:lnTo>
                      <a:lnTo>
                        <a:pt x="269" y="96"/>
                      </a:lnTo>
                      <a:lnTo>
                        <a:pt x="288" y="103"/>
                      </a:lnTo>
                      <a:lnTo>
                        <a:pt x="288" y="90"/>
                      </a:lnTo>
                      <a:lnTo>
                        <a:pt x="269" y="83"/>
                      </a:lnTo>
                      <a:lnTo>
                        <a:pt x="294" y="77"/>
                      </a:lnTo>
                      <a:lnTo>
                        <a:pt x="301" y="51"/>
                      </a:lnTo>
                      <a:lnTo>
                        <a:pt x="320" y="39"/>
                      </a:lnTo>
                      <a:lnTo>
                        <a:pt x="333" y="32"/>
                      </a:lnTo>
                      <a:lnTo>
                        <a:pt x="346" y="20"/>
                      </a:lnTo>
                      <a:lnTo>
                        <a:pt x="851" y="0"/>
                      </a:lnTo>
                      <a:lnTo>
                        <a:pt x="857" y="20"/>
                      </a:lnTo>
                      <a:lnTo>
                        <a:pt x="876" y="32"/>
                      </a:lnTo>
                      <a:lnTo>
                        <a:pt x="863" y="122"/>
                      </a:lnTo>
                      <a:lnTo>
                        <a:pt x="857" y="167"/>
                      </a:lnTo>
                      <a:lnTo>
                        <a:pt x="857" y="211"/>
                      </a:lnTo>
                      <a:lnTo>
                        <a:pt x="851" y="288"/>
                      </a:lnTo>
                      <a:lnTo>
                        <a:pt x="838" y="390"/>
                      </a:lnTo>
                      <a:lnTo>
                        <a:pt x="832" y="454"/>
                      </a:lnTo>
                      <a:lnTo>
                        <a:pt x="825" y="525"/>
                      </a:lnTo>
                      <a:lnTo>
                        <a:pt x="819" y="620"/>
                      </a:lnTo>
                      <a:lnTo>
                        <a:pt x="819" y="640"/>
                      </a:lnTo>
                      <a:lnTo>
                        <a:pt x="806" y="748"/>
                      </a:lnTo>
                      <a:lnTo>
                        <a:pt x="800" y="831"/>
                      </a:lnTo>
                      <a:lnTo>
                        <a:pt x="800" y="857"/>
                      </a:lnTo>
                      <a:lnTo>
                        <a:pt x="780" y="959"/>
                      </a:lnTo>
                      <a:lnTo>
                        <a:pt x="787" y="1017"/>
                      </a:lnTo>
                      <a:lnTo>
                        <a:pt x="787" y="1100"/>
                      </a:lnTo>
                      <a:lnTo>
                        <a:pt x="800" y="1196"/>
                      </a:lnTo>
                      <a:lnTo>
                        <a:pt x="800" y="1234"/>
                      </a:lnTo>
                      <a:lnTo>
                        <a:pt x="800" y="1311"/>
                      </a:lnTo>
                      <a:lnTo>
                        <a:pt x="806" y="1413"/>
                      </a:lnTo>
                      <a:lnTo>
                        <a:pt x="787" y="1426"/>
                      </a:lnTo>
                      <a:lnTo>
                        <a:pt x="768" y="1432"/>
                      </a:lnTo>
                      <a:lnTo>
                        <a:pt x="761" y="1413"/>
                      </a:lnTo>
                      <a:lnTo>
                        <a:pt x="723" y="1426"/>
                      </a:lnTo>
                      <a:lnTo>
                        <a:pt x="710" y="1426"/>
                      </a:lnTo>
                      <a:lnTo>
                        <a:pt x="704" y="1413"/>
                      </a:lnTo>
                      <a:lnTo>
                        <a:pt x="691" y="1407"/>
                      </a:lnTo>
                      <a:lnTo>
                        <a:pt x="640" y="1413"/>
                      </a:lnTo>
                      <a:lnTo>
                        <a:pt x="608" y="1432"/>
                      </a:lnTo>
                      <a:lnTo>
                        <a:pt x="589" y="1445"/>
                      </a:lnTo>
                      <a:lnTo>
                        <a:pt x="576" y="1426"/>
                      </a:lnTo>
                      <a:lnTo>
                        <a:pt x="563" y="1426"/>
                      </a:lnTo>
                      <a:lnTo>
                        <a:pt x="557" y="1445"/>
                      </a:lnTo>
                      <a:lnTo>
                        <a:pt x="544" y="1464"/>
                      </a:lnTo>
                      <a:lnTo>
                        <a:pt x="518" y="1483"/>
                      </a:lnTo>
                      <a:close/>
                    </a:path>
                  </a:pathLst>
                </a:custGeom>
                <a:solidFill>
                  <a:srgbClr val="3333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" name="Freeform 9"/>
                <p:cNvSpPr/>
                <p:nvPr/>
              </p:nvSpPr>
              <p:spPr>
                <a:xfrm>
                  <a:off x="5936760" y="2951640"/>
                  <a:ext cx="1446480" cy="1093680"/>
                </a:xfrm>
                <a:custGeom>
                  <a:avLst/>
                  <a:gdLst>
                    <a:gd name="textAreaLeft" fmla="*/ 0 w 1446480"/>
                    <a:gd name="textAreaRight" fmla="*/ 1446840 w 1446480"/>
                    <a:gd name="textAreaTop" fmla="*/ 0 h 1093680"/>
                    <a:gd name="textAreaBottom" fmla="*/ 1094040 h 1093680"/>
                  </a:gdLst>
                  <a:ahLst/>
                  <a:rect l="textAreaLeft" t="textAreaTop" r="textAreaRight" b="textAreaBottom"/>
                  <a:pathLst>
                    <a:path w="1203" h="1086">
                      <a:moveTo>
                        <a:pt x="109" y="1074"/>
                      </a:moveTo>
                      <a:lnTo>
                        <a:pt x="109" y="914"/>
                      </a:lnTo>
                      <a:lnTo>
                        <a:pt x="96" y="907"/>
                      </a:lnTo>
                      <a:lnTo>
                        <a:pt x="84" y="907"/>
                      </a:lnTo>
                      <a:lnTo>
                        <a:pt x="64" y="901"/>
                      </a:lnTo>
                      <a:lnTo>
                        <a:pt x="58" y="914"/>
                      </a:lnTo>
                      <a:lnTo>
                        <a:pt x="52" y="907"/>
                      </a:lnTo>
                      <a:lnTo>
                        <a:pt x="45" y="914"/>
                      </a:lnTo>
                      <a:lnTo>
                        <a:pt x="20" y="914"/>
                      </a:lnTo>
                      <a:lnTo>
                        <a:pt x="7" y="901"/>
                      </a:lnTo>
                      <a:lnTo>
                        <a:pt x="0" y="895"/>
                      </a:lnTo>
                      <a:lnTo>
                        <a:pt x="0" y="882"/>
                      </a:lnTo>
                      <a:lnTo>
                        <a:pt x="0" y="716"/>
                      </a:lnTo>
                      <a:lnTo>
                        <a:pt x="0" y="613"/>
                      </a:lnTo>
                      <a:lnTo>
                        <a:pt x="0" y="549"/>
                      </a:lnTo>
                      <a:lnTo>
                        <a:pt x="7" y="473"/>
                      </a:lnTo>
                      <a:lnTo>
                        <a:pt x="7" y="338"/>
                      </a:lnTo>
                      <a:lnTo>
                        <a:pt x="64" y="313"/>
                      </a:lnTo>
                      <a:lnTo>
                        <a:pt x="90" y="243"/>
                      </a:lnTo>
                      <a:lnTo>
                        <a:pt x="77" y="191"/>
                      </a:lnTo>
                      <a:lnTo>
                        <a:pt x="58" y="128"/>
                      </a:lnTo>
                      <a:lnTo>
                        <a:pt x="45" y="57"/>
                      </a:lnTo>
                      <a:lnTo>
                        <a:pt x="32" y="0"/>
                      </a:lnTo>
                      <a:lnTo>
                        <a:pt x="103" y="12"/>
                      </a:lnTo>
                      <a:lnTo>
                        <a:pt x="224" y="12"/>
                      </a:lnTo>
                      <a:lnTo>
                        <a:pt x="288" y="6"/>
                      </a:lnTo>
                      <a:lnTo>
                        <a:pt x="301" y="12"/>
                      </a:lnTo>
                      <a:lnTo>
                        <a:pt x="410" y="6"/>
                      </a:lnTo>
                      <a:lnTo>
                        <a:pt x="429" y="6"/>
                      </a:lnTo>
                      <a:lnTo>
                        <a:pt x="486" y="12"/>
                      </a:lnTo>
                      <a:lnTo>
                        <a:pt x="589" y="12"/>
                      </a:lnTo>
                      <a:lnTo>
                        <a:pt x="697" y="6"/>
                      </a:lnTo>
                      <a:lnTo>
                        <a:pt x="755" y="12"/>
                      </a:lnTo>
                      <a:lnTo>
                        <a:pt x="761" y="6"/>
                      </a:lnTo>
                      <a:lnTo>
                        <a:pt x="1075" y="6"/>
                      </a:lnTo>
                      <a:lnTo>
                        <a:pt x="1075" y="12"/>
                      </a:lnTo>
                      <a:lnTo>
                        <a:pt x="1081" y="38"/>
                      </a:lnTo>
                      <a:lnTo>
                        <a:pt x="1094" y="38"/>
                      </a:lnTo>
                      <a:lnTo>
                        <a:pt x="1094" y="51"/>
                      </a:lnTo>
                      <a:lnTo>
                        <a:pt x="1094" y="70"/>
                      </a:lnTo>
                      <a:lnTo>
                        <a:pt x="1081" y="76"/>
                      </a:lnTo>
                      <a:lnTo>
                        <a:pt x="1075" y="89"/>
                      </a:lnTo>
                      <a:lnTo>
                        <a:pt x="1068" y="96"/>
                      </a:lnTo>
                      <a:lnTo>
                        <a:pt x="1068" y="108"/>
                      </a:lnTo>
                      <a:lnTo>
                        <a:pt x="1043" y="121"/>
                      </a:lnTo>
                      <a:lnTo>
                        <a:pt x="1017" y="160"/>
                      </a:lnTo>
                      <a:lnTo>
                        <a:pt x="1183" y="160"/>
                      </a:lnTo>
                      <a:lnTo>
                        <a:pt x="1203" y="185"/>
                      </a:lnTo>
                      <a:lnTo>
                        <a:pt x="1203" y="191"/>
                      </a:lnTo>
                      <a:lnTo>
                        <a:pt x="1177" y="191"/>
                      </a:lnTo>
                      <a:lnTo>
                        <a:pt x="1177" y="198"/>
                      </a:lnTo>
                      <a:lnTo>
                        <a:pt x="1183" y="204"/>
                      </a:lnTo>
                      <a:lnTo>
                        <a:pt x="1183" y="217"/>
                      </a:lnTo>
                      <a:lnTo>
                        <a:pt x="1164" y="223"/>
                      </a:lnTo>
                      <a:lnTo>
                        <a:pt x="1158" y="236"/>
                      </a:lnTo>
                      <a:lnTo>
                        <a:pt x="1139" y="243"/>
                      </a:lnTo>
                      <a:lnTo>
                        <a:pt x="1126" y="243"/>
                      </a:lnTo>
                      <a:lnTo>
                        <a:pt x="1126" y="255"/>
                      </a:lnTo>
                      <a:lnTo>
                        <a:pt x="1145" y="268"/>
                      </a:lnTo>
                      <a:lnTo>
                        <a:pt x="1139" y="294"/>
                      </a:lnTo>
                      <a:lnTo>
                        <a:pt x="1139" y="307"/>
                      </a:lnTo>
                      <a:lnTo>
                        <a:pt x="1132" y="307"/>
                      </a:lnTo>
                      <a:lnTo>
                        <a:pt x="1126" y="307"/>
                      </a:lnTo>
                      <a:lnTo>
                        <a:pt x="1113" y="313"/>
                      </a:lnTo>
                      <a:lnTo>
                        <a:pt x="1113" y="332"/>
                      </a:lnTo>
                      <a:lnTo>
                        <a:pt x="1100" y="345"/>
                      </a:lnTo>
                      <a:lnTo>
                        <a:pt x="1094" y="345"/>
                      </a:lnTo>
                      <a:lnTo>
                        <a:pt x="1094" y="326"/>
                      </a:lnTo>
                      <a:lnTo>
                        <a:pt x="1081" y="326"/>
                      </a:lnTo>
                      <a:lnTo>
                        <a:pt x="1075" y="338"/>
                      </a:lnTo>
                      <a:lnTo>
                        <a:pt x="1068" y="358"/>
                      </a:lnTo>
                      <a:lnTo>
                        <a:pt x="1075" y="358"/>
                      </a:lnTo>
                      <a:lnTo>
                        <a:pt x="1088" y="351"/>
                      </a:lnTo>
                      <a:lnTo>
                        <a:pt x="1094" y="364"/>
                      </a:lnTo>
                      <a:lnTo>
                        <a:pt x="1094" y="390"/>
                      </a:lnTo>
                      <a:lnTo>
                        <a:pt x="1100" y="409"/>
                      </a:lnTo>
                      <a:lnTo>
                        <a:pt x="1094" y="422"/>
                      </a:lnTo>
                      <a:lnTo>
                        <a:pt x="1100" y="428"/>
                      </a:lnTo>
                      <a:lnTo>
                        <a:pt x="1081" y="447"/>
                      </a:lnTo>
                      <a:lnTo>
                        <a:pt x="1075" y="441"/>
                      </a:lnTo>
                      <a:lnTo>
                        <a:pt x="1056" y="460"/>
                      </a:lnTo>
                      <a:lnTo>
                        <a:pt x="1043" y="460"/>
                      </a:lnTo>
                      <a:lnTo>
                        <a:pt x="1049" y="479"/>
                      </a:lnTo>
                      <a:lnTo>
                        <a:pt x="1049" y="492"/>
                      </a:lnTo>
                      <a:lnTo>
                        <a:pt x="1043" y="511"/>
                      </a:lnTo>
                      <a:lnTo>
                        <a:pt x="1030" y="511"/>
                      </a:lnTo>
                      <a:lnTo>
                        <a:pt x="1011" y="517"/>
                      </a:lnTo>
                      <a:lnTo>
                        <a:pt x="1011" y="537"/>
                      </a:lnTo>
                      <a:lnTo>
                        <a:pt x="1004" y="543"/>
                      </a:lnTo>
                      <a:lnTo>
                        <a:pt x="979" y="543"/>
                      </a:lnTo>
                      <a:lnTo>
                        <a:pt x="979" y="556"/>
                      </a:lnTo>
                      <a:lnTo>
                        <a:pt x="998" y="562"/>
                      </a:lnTo>
                      <a:lnTo>
                        <a:pt x="1004" y="569"/>
                      </a:lnTo>
                      <a:lnTo>
                        <a:pt x="998" y="575"/>
                      </a:lnTo>
                      <a:lnTo>
                        <a:pt x="985" y="562"/>
                      </a:lnTo>
                      <a:lnTo>
                        <a:pt x="979" y="569"/>
                      </a:lnTo>
                      <a:lnTo>
                        <a:pt x="972" y="588"/>
                      </a:lnTo>
                      <a:lnTo>
                        <a:pt x="985" y="594"/>
                      </a:lnTo>
                      <a:lnTo>
                        <a:pt x="985" y="607"/>
                      </a:lnTo>
                      <a:lnTo>
                        <a:pt x="979" y="607"/>
                      </a:lnTo>
                      <a:lnTo>
                        <a:pt x="972" y="626"/>
                      </a:lnTo>
                      <a:lnTo>
                        <a:pt x="972" y="645"/>
                      </a:lnTo>
                      <a:lnTo>
                        <a:pt x="953" y="658"/>
                      </a:lnTo>
                      <a:lnTo>
                        <a:pt x="928" y="658"/>
                      </a:lnTo>
                      <a:lnTo>
                        <a:pt x="928" y="684"/>
                      </a:lnTo>
                      <a:lnTo>
                        <a:pt x="934" y="684"/>
                      </a:lnTo>
                      <a:lnTo>
                        <a:pt x="928" y="690"/>
                      </a:lnTo>
                      <a:lnTo>
                        <a:pt x="915" y="690"/>
                      </a:lnTo>
                      <a:lnTo>
                        <a:pt x="902" y="703"/>
                      </a:lnTo>
                      <a:lnTo>
                        <a:pt x="889" y="703"/>
                      </a:lnTo>
                      <a:lnTo>
                        <a:pt x="889" y="716"/>
                      </a:lnTo>
                      <a:lnTo>
                        <a:pt x="908" y="722"/>
                      </a:lnTo>
                      <a:lnTo>
                        <a:pt x="908" y="728"/>
                      </a:lnTo>
                      <a:lnTo>
                        <a:pt x="902" y="728"/>
                      </a:lnTo>
                      <a:lnTo>
                        <a:pt x="883" y="728"/>
                      </a:lnTo>
                      <a:lnTo>
                        <a:pt x="870" y="728"/>
                      </a:lnTo>
                      <a:lnTo>
                        <a:pt x="883" y="748"/>
                      </a:lnTo>
                      <a:lnTo>
                        <a:pt x="883" y="754"/>
                      </a:lnTo>
                      <a:lnTo>
                        <a:pt x="883" y="767"/>
                      </a:lnTo>
                      <a:lnTo>
                        <a:pt x="870" y="773"/>
                      </a:lnTo>
                      <a:lnTo>
                        <a:pt x="870" y="780"/>
                      </a:lnTo>
                      <a:lnTo>
                        <a:pt x="864" y="786"/>
                      </a:lnTo>
                      <a:lnTo>
                        <a:pt x="857" y="773"/>
                      </a:lnTo>
                      <a:lnTo>
                        <a:pt x="845" y="773"/>
                      </a:lnTo>
                      <a:lnTo>
                        <a:pt x="851" y="792"/>
                      </a:lnTo>
                      <a:lnTo>
                        <a:pt x="851" y="837"/>
                      </a:lnTo>
                      <a:lnTo>
                        <a:pt x="832" y="850"/>
                      </a:lnTo>
                      <a:lnTo>
                        <a:pt x="832" y="856"/>
                      </a:lnTo>
                      <a:lnTo>
                        <a:pt x="845" y="863"/>
                      </a:lnTo>
                      <a:lnTo>
                        <a:pt x="845" y="875"/>
                      </a:lnTo>
                      <a:lnTo>
                        <a:pt x="838" y="882"/>
                      </a:lnTo>
                      <a:lnTo>
                        <a:pt x="819" y="863"/>
                      </a:lnTo>
                      <a:lnTo>
                        <a:pt x="813" y="869"/>
                      </a:lnTo>
                      <a:lnTo>
                        <a:pt x="813" y="882"/>
                      </a:lnTo>
                      <a:lnTo>
                        <a:pt x="825" y="895"/>
                      </a:lnTo>
                      <a:lnTo>
                        <a:pt x="806" y="914"/>
                      </a:lnTo>
                      <a:lnTo>
                        <a:pt x="813" y="927"/>
                      </a:lnTo>
                      <a:lnTo>
                        <a:pt x="813" y="946"/>
                      </a:lnTo>
                      <a:lnTo>
                        <a:pt x="825" y="933"/>
                      </a:lnTo>
                      <a:lnTo>
                        <a:pt x="832" y="933"/>
                      </a:lnTo>
                      <a:lnTo>
                        <a:pt x="825" y="946"/>
                      </a:lnTo>
                      <a:lnTo>
                        <a:pt x="819" y="959"/>
                      </a:lnTo>
                      <a:lnTo>
                        <a:pt x="825" y="965"/>
                      </a:lnTo>
                      <a:lnTo>
                        <a:pt x="832" y="965"/>
                      </a:lnTo>
                      <a:lnTo>
                        <a:pt x="838" y="952"/>
                      </a:lnTo>
                      <a:lnTo>
                        <a:pt x="845" y="952"/>
                      </a:lnTo>
                      <a:lnTo>
                        <a:pt x="845" y="965"/>
                      </a:lnTo>
                      <a:lnTo>
                        <a:pt x="825" y="978"/>
                      </a:lnTo>
                      <a:lnTo>
                        <a:pt x="825" y="984"/>
                      </a:lnTo>
                      <a:lnTo>
                        <a:pt x="838" y="1010"/>
                      </a:lnTo>
                      <a:lnTo>
                        <a:pt x="838" y="1016"/>
                      </a:lnTo>
                      <a:lnTo>
                        <a:pt x="845" y="997"/>
                      </a:lnTo>
                      <a:lnTo>
                        <a:pt x="857" y="1003"/>
                      </a:lnTo>
                      <a:lnTo>
                        <a:pt x="845" y="1022"/>
                      </a:lnTo>
                      <a:lnTo>
                        <a:pt x="845" y="1029"/>
                      </a:lnTo>
                      <a:lnTo>
                        <a:pt x="845" y="1035"/>
                      </a:lnTo>
                      <a:lnTo>
                        <a:pt x="838" y="1042"/>
                      </a:lnTo>
                      <a:lnTo>
                        <a:pt x="825" y="1042"/>
                      </a:lnTo>
                      <a:lnTo>
                        <a:pt x="819" y="1048"/>
                      </a:lnTo>
                      <a:lnTo>
                        <a:pt x="832" y="1067"/>
                      </a:lnTo>
                      <a:lnTo>
                        <a:pt x="832" y="1074"/>
                      </a:lnTo>
                      <a:lnTo>
                        <a:pt x="819" y="1086"/>
                      </a:lnTo>
                      <a:lnTo>
                        <a:pt x="435" y="1086"/>
                      </a:lnTo>
                      <a:lnTo>
                        <a:pt x="371" y="1080"/>
                      </a:lnTo>
                      <a:lnTo>
                        <a:pt x="160" y="1080"/>
                      </a:lnTo>
                      <a:lnTo>
                        <a:pt x="109" y="1074"/>
                      </a:lnTo>
                      <a:close/>
                    </a:path>
                  </a:pathLst>
                </a:custGeom>
                <a:solidFill>
                  <a:srgbClr val="3333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" name="Freeform 10"/>
                <p:cNvSpPr/>
                <p:nvPr/>
              </p:nvSpPr>
              <p:spPr>
                <a:xfrm>
                  <a:off x="6067800" y="4025880"/>
                  <a:ext cx="1492560" cy="1255680"/>
                </a:xfrm>
                <a:custGeom>
                  <a:avLst/>
                  <a:gdLst>
                    <a:gd name="textAreaLeft" fmla="*/ 0 w 1492560"/>
                    <a:gd name="textAreaRight" fmla="*/ 1492920 w 1492560"/>
                    <a:gd name="textAreaTop" fmla="*/ 0 h 1255680"/>
                    <a:gd name="textAreaBottom" fmla="*/ 1256040 h 1255680"/>
                  </a:gdLst>
                  <a:ahLst/>
                  <a:rect l="textAreaLeft" t="textAreaTop" r="textAreaRight" b="textAreaBottom"/>
                  <a:pathLst>
                    <a:path w="1241" h="1247">
                      <a:moveTo>
                        <a:pt x="45" y="1023"/>
                      </a:moveTo>
                      <a:lnTo>
                        <a:pt x="32" y="997"/>
                      </a:lnTo>
                      <a:lnTo>
                        <a:pt x="45" y="978"/>
                      </a:lnTo>
                      <a:lnTo>
                        <a:pt x="71" y="940"/>
                      </a:lnTo>
                      <a:lnTo>
                        <a:pt x="83" y="921"/>
                      </a:lnTo>
                      <a:lnTo>
                        <a:pt x="83" y="895"/>
                      </a:lnTo>
                      <a:lnTo>
                        <a:pt x="71" y="857"/>
                      </a:lnTo>
                      <a:lnTo>
                        <a:pt x="64" y="818"/>
                      </a:lnTo>
                      <a:lnTo>
                        <a:pt x="58" y="793"/>
                      </a:lnTo>
                      <a:lnTo>
                        <a:pt x="58" y="774"/>
                      </a:lnTo>
                      <a:lnTo>
                        <a:pt x="71" y="735"/>
                      </a:lnTo>
                      <a:lnTo>
                        <a:pt x="83" y="710"/>
                      </a:lnTo>
                      <a:lnTo>
                        <a:pt x="96" y="678"/>
                      </a:lnTo>
                      <a:lnTo>
                        <a:pt x="109" y="652"/>
                      </a:lnTo>
                      <a:lnTo>
                        <a:pt x="128" y="627"/>
                      </a:lnTo>
                      <a:lnTo>
                        <a:pt x="102" y="595"/>
                      </a:lnTo>
                      <a:lnTo>
                        <a:pt x="102" y="569"/>
                      </a:lnTo>
                      <a:lnTo>
                        <a:pt x="109" y="563"/>
                      </a:lnTo>
                      <a:lnTo>
                        <a:pt x="96" y="544"/>
                      </a:lnTo>
                      <a:lnTo>
                        <a:pt x="96" y="518"/>
                      </a:lnTo>
                      <a:lnTo>
                        <a:pt x="58" y="486"/>
                      </a:lnTo>
                      <a:lnTo>
                        <a:pt x="45" y="454"/>
                      </a:lnTo>
                      <a:lnTo>
                        <a:pt x="51" y="422"/>
                      </a:lnTo>
                      <a:lnTo>
                        <a:pt x="51" y="384"/>
                      </a:lnTo>
                      <a:lnTo>
                        <a:pt x="45" y="371"/>
                      </a:lnTo>
                      <a:lnTo>
                        <a:pt x="13" y="326"/>
                      </a:lnTo>
                      <a:lnTo>
                        <a:pt x="0" y="262"/>
                      </a:lnTo>
                      <a:lnTo>
                        <a:pt x="0" y="198"/>
                      </a:lnTo>
                      <a:lnTo>
                        <a:pt x="0" y="0"/>
                      </a:lnTo>
                      <a:lnTo>
                        <a:pt x="51" y="7"/>
                      </a:lnTo>
                      <a:lnTo>
                        <a:pt x="262" y="7"/>
                      </a:lnTo>
                      <a:lnTo>
                        <a:pt x="326" y="13"/>
                      </a:lnTo>
                      <a:lnTo>
                        <a:pt x="710" y="13"/>
                      </a:lnTo>
                      <a:lnTo>
                        <a:pt x="704" y="39"/>
                      </a:lnTo>
                      <a:lnTo>
                        <a:pt x="723" y="39"/>
                      </a:lnTo>
                      <a:lnTo>
                        <a:pt x="736" y="32"/>
                      </a:lnTo>
                      <a:lnTo>
                        <a:pt x="716" y="71"/>
                      </a:lnTo>
                      <a:lnTo>
                        <a:pt x="729" y="90"/>
                      </a:lnTo>
                      <a:lnTo>
                        <a:pt x="723" y="109"/>
                      </a:lnTo>
                      <a:lnTo>
                        <a:pt x="723" y="134"/>
                      </a:lnTo>
                      <a:lnTo>
                        <a:pt x="755" y="134"/>
                      </a:lnTo>
                      <a:lnTo>
                        <a:pt x="755" y="166"/>
                      </a:lnTo>
                      <a:lnTo>
                        <a:pt x="736" y="160"/>
                      </a:lnTo>
                      <a:lnTo>
                        <a:pt x="736" y="179"/>
                      </a:lnTo>
                      <a:lnTo>
                        <a:pt x="755" y="205"/>
                      </a:lnTo>
                      <a:lnTo>
                        <a:pt x="774" y="218"/>
                      </a:lnTo>
                      <a:lnTo>
                        <a:pt x="768" y="237"/>
                      </a:lnTo>
                      <a:lnTo>
                        <a:pt x="729" y="256"/>
                      </a:lnTo>
                      <a:lnTo>
                        <a:pt x="716" y="262"/>
                      </a:lnTo>
                      <a:lnTo>
                        <a:pt x="716" y="281"/>
                      </a:lnTo>
                      <a:lnTo>
                        <a:pt x="755" y="275"/>
                      </a:lnTo>
                      <a:lnTo>
                        <a:pt x="768" y="269"/>
                      </a:lnTo>
                      <a:lnTo>
                        <a:pt x="742" y="301"/>
                      </a:lnTo>
                      <a:lnTo>
                        <a:pt x="729" y="301"/>
                      </a:lnTo>
                      <a:lnTo>
                        <a:pt x="716" y="326"/>
                      </a:lnTo>
                      <a:lnTo>
                        <a:pt x="704" y="345"/>
                      </a:lnTo>
                      <a:lnTo>
                        <a:pt x="678" y="371"/>
                      </a:lnTo>
                      <a:lnTo>
                        <a:pt x="665" y="384"/>
                      </a:lnTo>
                      <a:lnTo>
                        <a:pt x="691" y="397"/>
                      </a:lnTo>
                      <a:lnTo>
                        <a:pt x="659" y="409"/>
                      </a:lnTo>
                      <a:lnTo>
                        <a:pt x="659" y="429"/>
                      </a:lnTo>
                      <a:lnTo>
                        <a:pt x="633" y="435"/>
                      </a:lnTo>
                      <a:lnTo>
                        <a:pt x="652" y="441"/>
                      </a:lnTo>
                      <a:lnTo>
                        <a:pt x="627" y="467"/>
                      </a:lnTo>
                      <a:lnTo>
                        <a:pt x="633" y="492"/>
                      </a:lnTo>
                      <a:lnTo>
                        <a:pt x="620" y="518"/>
                      </a:lnTo>
                      <a:lnTo>
                        <a:pt x="627" y="550"/>
                      </a:lnTo>
                      <a:lnTo>
                        <a:pt x="608" y="550"/>
                      </a:lnTo>
                      <a:lnTo>
                        <a:pt x="608" y="569"/>
                      </a:lnTo>
                      <a:lnTo>
                        <a:pt x="608" y="595"/>
                      </a:lnTo>
                      <a:lnTo>
                        <a:pt x="614" y="639"/>
                      </a:lnTo>
                      <a:lnTo>
                        <a:pt x="921" y="633"/>
                      </a:lnTo>
                      <a:lnTo>
                        <a:pt x="934" y="627"/>
                      </a:lnTo>
                      <a:lnTo>
                        <a:pt x="1068" y="627"/>
                      </a:lnTo>
                      <a:lnTo>
                        <a:pt x="1062" y="684"/>
                      </a:lnTo>
                      <a:lnTo>
                        <a:pt x="1049" y="723"/>
                      </a:lnTo>
                      <a:lnTo>
                        <a:pt x="1055" y="767"/>
                      </a:lnTo>
                      <a:lnTo>
                        <a:pt x="1081" y="799"/>
                      </a:lnTo>
                      <a:lnTo>
                        <a:pt x="1094" y="825"/>
                      </a:lnTo>
                      <a:lnTo>
                        <a:pt x="1094" y="850"/>
                      </a:lnTo>
                      <a:lnTo>
                        <a:pt x="1119" y="882"/>
                      </a:lnTo>
                      <a:lnTo>
                        <a:pt x="1100" y="889"/>
                      </a:lnTo>
                      <a:lnTo>
                        <a:pt x="1081" y="882"/>
                      </a:lnTo>
                      <a:lnTo>
                        <a:pt x="1049" y="863"/>
                      </a:lnTo>
                      <a:lnTo>
                        <a:pt x="1030" y="857"/>
                      </a:lnTo>
                      <a:lnTo>
                        <a:pt x="1004" y="857"/>
                      </a:lnTo>
                      <a:lnTo>
                        <a:pt x="998" y="838"/>
                      </a:lnTo>
                      <a:lnTo>
                        <a:pt x="979" y="818"/>
                      </a:lnTo>
                      <a:lnTo>
                        <a:pt x="934" y="825"/>
                      </a:lnTo>
                      <a:lnTo>
                        <a:pt x="895" y="882"/>
                      </a:lnTo>
                      <a:lnTo>
                        <a:pt x="902" y="902"/>
                      </a:lnTo>
                      <a:lnTo>
                        <a:pt x="915" y="914"/>
                      </a:lnTo>
                      <a:lnTo>
                        <a:pt x="934" y="921"/>
                      </a:lnTo>
                      <a:lnTo>
                        <a:pt x="979" y="921"/>
                      </a:lnTo>
                      <a:lnTo>
                        <a:pt x="991" y="921"/>
                      </a:lnTo>
                      <a:lnTo>
                        <a:pt x="1023" y="908"/>
                      </a:lnTo>
                      <a:lnTo>
                        <a:pt x="1042" y="889"/>
                      </a:lnTo>
                      <a:lnTo>
                        <a:pt x="1068" y="889"/>
                      </a:lnTo>
                      <a:lnTo>
                        <a:pt x="1081" y="889"/>
                      </a:lnTo>
                      <a:lnTo>
                        <a:pt x="1087" y="908"/>
                      </a:lnTo>
                      <a:lnTo>
                        <a:pt x="1068" y="927"/>
                      </a:lnTo>
                      <a:lnTo>
                        <a:pt x="1049" y="921"/>
                      </a:lnTo>
                      <a:lnTo>
                        <a:pt x="1049" y="953"/>
                      </a:lnTo>
                      <a:lnTo>
                        <a:pt x="1062" y="953"/>
                      </a:lnTo>
                      <a:lnTo>
                        <a:pt x="1100" y="978"/>
                      </a:lnTo>
                      <a:lnTo>
                        <a:pt x="1106" y="953"/>
                      </a:lnTo>
                      <a:lnTo>
                        <a:pt x="1113" y="934"/>
                      </a:lnTo>
                      <a:lnTo>
                        <a:pt x="1126" y="921"/>
                      </a:lnTo>
                      <a:lnTo>
                        <a:pt x="1170" y="921"/>
                      </a:lnTo>
                      <a:lnTo>
                        <a:pt x="1190" y="895"/>
                      </a:lnTo>
                      <a:lnTo>
                        <a:pt x="1196" y="934"/>
                      </a:lnTo>
                      <a:lnTo>
                        <a:pt x="1202" y="953"/>
                      </a:lnTo>
                      <a:lnTo>
                        <a:pt x="1177" y="978"/>
                      </a:lnTo>
                      <a:lnTo>
                        <a:pt x="1151" y="997"/>
                      </a:lnTo>
                      <a:lnTo>
                        <a:pt x="1145" y="1029"/>
                      </a:lnTo>
                      <a:lnTo>
                        <a:pt x="1119" y="1036"/>
                      </a:lnTo>
                      <a:lnTo>
                        <a:pt x="1100" y="1061"/>
                      </a:lnTo>
                      <a:lnTo>
                        <a:pt x="1100" y="1081"/>
                      </a:lnTo>
                      <a:lnTo>
                        <a:pt x="1113" y="1106"/>
                      </a:lnTo>
                      <a:lnTo>
                        <a:pt x="1151" y="1125"/>
                      </a:lnTo>
                      <a:lnTo>
                        <a:pt x="1170" y="1138"/>
                      </a:lnTo>
                      <a:lnTo>
                        <a:pt x="1183" y="1157"/>
                      </a:lnTo>
                      <a:lnTo>
                        <a:pt x="1202" y="1164"/>
                      </a:lnTo>
                      <a:lnTo>
                        <a:pt x="1215" y="1176"/>
                      </a:lnTo>
                      <a:lnTo>
                        <a:pt x="1241" y="1176"/>
                      </a:lnTo>
                      <a:lnTo>
                        <a:pt x="1228" y="1215"/>
                      </a:lnTo>
                      <a:lnTo>
                        <a:pt x="1209" y="1228"/>
                      </a:lnTo>
                      <a:lnTo>
                        <a:pt x="1215" y="1247"/>
                      </a:lnTo>
                      <a:lnTo>
                        <a:pt x="1190" y="1215"/>
                      </a:lnTo>
                      <a:lnTo>
                        <a:pt x="1170" y="1240"/>
                      </a:lnTo>
                      <a:lnTo>
                        <a:pt x="1151" y="1202"/>
                      </a:lnTo>
                      <a:lnTo>
                        <a:pt x="1132" y="1170"/>
                      </a:lnTo>
                      <a:lnTo>
                        <a:pt x="1106" y="1164"/>
                      </a:lnTo>
                      <a:lnTo>
                        <a:pt x="1094" y="1144"/>
                      </a:lnTo>
                      <a:lnTo>
                        <a:pt x="1068" y="1151"/>
                      </a:lnTo>
                      <a:lnTo>
                        <a:pt x="1049" y="1144"/>
                      </a:lnTo>
                      <a:lnTo>
                        <a:pt x="1049" y="1106"/>
                      </a:lnTo>
                      <a:lnTo>
                        <a:pt x="1017" y="1106"/>
                      </a:lnTo>
                      <a:lnTo>
                        <a:pt x="991" y="1093"/>
                      </a:lnTo>
                      <a:lnTo>
                        <a:pt x="1007" y="1136"/>
                      </a:lnTo>
                      <a:lnTo>
                        <a:pt x="991" y="1138"/>
                      </a:lnTo>
                      <a:lnTo>
                        <a:pt x="985" y="1164"/>
                      </a:lnTo>
                      <a:lnTo>
                        <a:pt x="985" y="1189"/>
                      </a:lnTo>
                      <a:lnTo>
                        <a:pt x="953" y="1221"/>
                      </a:lnTo>
                      <a:lnTo>
                        <a:pt x="934" y="1189"/>
                      </a:lnTo>
                      <a:lnTo>
                        <a:pt x="927" y="1164"/>
                      </a:lnTo>
                      <a:lnTo>
                        <a:pt x="908" y="1176"/>
                      </a:lnTo>
                      <a:lnTo>
                        <a:pt x="889" y="1176"/>
                      </a:lnTo>
                      <a:lnTo>
                        <a:pt x="874" y="1168"/>
                      </a:lnTo>
                      <a:lnTo>
                        <a:pt x="851" y="1176"/>
                      </a:lnTo>
                      <a:lnTo>
                        <a:pt x="838" y="1202"/>
                      </a:lnTo>
                      <a:lnTo>
                        <a:pt x="806" y="1215"/>
                      </a:lnTo>
                      <a:lnTo>
                        <a:pt x="774" y="1196"/>
                      </a:lnTo>
                      <a:lnTo>
                        <a:pt x="748" y="1183"/>
                      </a:lnTo>
                      <a:lnTo>
                        <a:pt x="729" y="1176"/>
                      </a:lnTo>
                      <a:lnTo>
                        <a:pt x="729" y="1164"/>
                      </a:lnTo>
                      <a:lnTo>
                        <a:pt x="723" y="1138"/>
                      </a:lnTo>
                      <a:lnTo>
                        <a:pt x="704" y="1125"/>
                      </a:lnTo>
                      <a:lnTo>
                        <a:pt x="691" y="1106"/>
                      </a:lnTo>
                      <a:lnTo>
                        <a:pt x="672" y="1093"/>
                      </a:lnTo>
                      <a:lnTo>
                        <a:pt x="652" y="1081"/>
                      </a:lnTo>
                      <a:lnTo>
                        <a:pt x="620" y="1081"/>
                      </a:lnTo>
                      <a:lnTo>
                        <a:pt x="620" y="1061"/>
                      </a:lnTo>
                      <a:lnTo>
                        <a:pt x="595" y="1055"/>
                      </a:lnTo>
                      <a:lnTo>
                        <a:pt x="595" y="1029"/>
                      </a:lnTo>
                      <a:lnTo>
                        <a:pt x="563" y="1010"/>
                      </a:lnTo>
                      <a:lnTo>
                        <a:pt x="544" y="1023"/>
                      </a:lnTo>
                      <a:lnTo>
                        <a:pt x="544" y="991"/>
                      </a:lnTo>
                      <a:lnTo>
                        <a:pt x="512" y="985"/>
                      </a:lnTo>
                      <a:lnTo>
                        <a:pt x="473" y="1023"/>
                      </a:lnTo>
                      <a:lnTo>
                        <a:pt x="461" y="1017"/>
                      </a:lnTo>
                      <a:lnTo>
                        <a:pt x="480" y="1029"/>
                      </a:lnTo>
                      <a:lnTo>
                        <a:pt x="486" y="1055"/>
                      </a:lnTo>
                      <a:lnTo>
                        <a:pt x="461" y="1068"/>
                      </a:lnTo>
                      <a:lnTo>
                        <a:pt x="435" y="1074"/>
                      </a:lnTo>
                      <a:lnTo>
                        <a:pt x="390" y="1068"/>
                      </a:lnTo>
                      <a:lnTo>
                        <a:pt x="358" y="1068"/>
                      </a:lnTo>
                      <a:lnTo>
                        <a:pt x="307" y="1049"/>
                      </a:lnTo>
                      <a:lnTo>
                        <a:pt x="262" y="1023"/>
                      </a:lnTo>
                      <a:lnTo>
                        <a:pt x="243" y="1010"/>
                      </a:lnTo>
                      <a:lnTo>
                        <a:pt x="224" y="997"/>
                      </a:lnTo>
                      <a:lnTo>
                        <a:pt x="198" y="997"/>
                      </a:lnTo>
                      <a:lnTo>
                        <a:pt x="186" y="1004"/>
                      </a:lnTo>
                      <a:lnTo>
                        <a:pt x="166" y="1004"/>
                      </a:lnTo>
                      <a:lnTo>
                        <a:pt x="96" y="1004"/>
                      </a:lnTo>
                      <a:lnTo>
                        <a:pt x="45" y="1023"/>
                      </a:lnTo>
                      <a:close/>
                    </a:path>
                  </a:pathLst>
                </a:custGeom>
                <a:solidFill>
                  <a:srgbClr val="3333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" name="Freeform 11"/>
                <p:cNvSpPr/>
                <p:nvPr/>
              </p:nvSpPr>
              <p:spPr>
                <a:xfrm>
                  <a:off x="5322240" y="4531680"/>
                  <a:ext cx="1953000" cy="588960"/>
                </a:xfrm>
                <a:custGeom>
                  <a:avLst/>
                  <a:gdLst>
                    <a:gd name="textAreaLeft" fmla="*/ 0 w 1953000"/>
                    <a:gd name="textAreaRight" fmla="*/ 1953360 w 1953000"/>
                    <a:gd name="textAreaTop" fmla="*/ 0 h 588960"/>
                    <a:gd name="textAreaBottom" fmla="*/ 589320 h 588960"/>
                  </a:gdLst>
                  <a:ahLst/>
                  <a:rect l="textAreaLeft" t="textAreaTop" r="textAreaRight" b="textAreaBottom"/>
                  <a:pathLst>
                    <a:path w="1624" h="585">
                      <a:moveTo>
                        <a:pt x="1618" y="195"/>
                      </a:moveTo>
                      <a:lnTo>
                        <a:pt x="1579" y="176"/>
                      </a:lnTo>
                      <a:lnTo>
                        <a:pt x="1477" y="182"/>
                      </a:lnTo>
                      <a:lnTo>
                        <a:pt x="1240" y="176"/>
                      </a:lnTo>
                      <a:lnTo>
                        <a:pt x="1183" y="195"/>
                      </a:lnTo>
                      <a:lnTo>
                        <a:pt x="1176" y="310"/>
                      </a:lnTo>
                      <a:lnTo>
                        <a:pt x="1145" y="310"/>
                      </a:lnTo>
                      <a:lnTo>
                        <a:pt x="1151" y="374"/>
                      </a:lnTo>
                      <a:lnTo>
                        <a:pt x="1081" y="412"/>
                      </a:lnTo>
                      <a:lnTo>
                        <a:pt x="978" y="291"/>
                      </a:lnTo>
                      <a:lnTo>
                        <a:pt x="914" y="284"/>
                      </a:lnTo>
                      <a:lnTo>
                        <a:pt x="876" y="329"/>
                      </a:lnTo>
                      <a:lnTo>
                        <a:pt x="710" y="336"/>
                      </a:lnTo>
                      <a:lnTo>
                        <a:pt x="684" y="323"/>
                      </a:lnTo>
                      <a:lnTo>
                        <a:pt x="671" y="284"/>
                      </a:lnTo>
                      <a:lnTo>
                        <a:pt x="742" y="144"/>
                      </a:lnTo>
                      <a:lnTo>
                        <a:pt x="742" y="118"/>
                      </a:lnTo>
                      <a:lnTo>
                        <a:pt x="722" y="67"/>
                      </a:lnTo>
                      <a:lnTo>
                        <a:pt x="651" y="10"/>
                      </a:lnTo>
                      <a:lnTo>
                        <a:pt x="502" y="0"/>
                      </a:lnTo>
                      <a:lnTo>
                        <a:pt x="422" y="54"/>
                      </a:lnTo>
                      <a:lnTo>
                        <a:pt x="352" y="22"/>
                      </a:lnTo>
                      <a:lnTo>
                        <a:pt x="230" y="10"/>
                      </a:lnTo>
                      <a:lnTo>
                        <a:pt x="70" y="3"/>
                      </a:lnTo>
                      <a:lnTo>
                        <a:pt x="11" y="80"/>
                      </a:lnTo>
                      <a:lnTo>
                        <a:pt x="0" y="208"/>
                      </a:lnTo>
                      <a:lnTo>
                        <a:pt x="48" y="277"/>
                      </a:lnTo>
                      <a:lnTo>
                        <a:pt x="115" y="272"/>
                      </a:lnTo>
                      <a:lnTo>
                        <a:pt x="147" y="272"/>
                      </a:lnTo>
                      <a:lnTo>
                        <a:pt x="339" y="310"/>
                      </a:lnTo>
                      <a:lnTo>
                        <a:pt x="384" y="278"/>
                      </a:lnTo>
                      <a:lnTo>
                        <a:pt x="467" y="284"/>
                      </a:lnTo>
                      <a:lnTo>
                        <a:pt x="473" y="304"/>
                      </a:lnTo>
                      <a:lnTo>
                        <a:pt x="492" y="336"/>
                      </a:lnTo>
                      <a:lnTo>
                        <a:pt x="531" y="368"/>
                      </a:lnTo>
                      <a:lnTo>
                        <a:pt x="502" y="416"/>
                      </a:lnTo>
                      <a:lnTo>
                        <a:pt x="467" y="495"/>
                      </a:lnTo>
                      <a:lnTo>
                        <a:pt x="454" y="579"/>
                      </a:lnTo>
                      <a:lnTo>
                        <a:pt x="486" y="579"/>
                      </a:lnTo>
                      <a:lnTo>
                        <a:pt x="486" y="585"/>
                      </a:lnTo>
                      <a:lnTo>
                        <a:pt x="639" y="527"/>
                      </a:lnTo>
                      <a:lnTo>
                        <a:pt x="684" y="508"/>
                      </a:lnTo>
                      <a:lnTo>
                        <a:pt x="742" y="502"/>
                      </a:lnTo>
                      <a:lnTo>
                        <a:pt x="806" y="508"/>
                      </a:lnTo>
                      <a:lnTo>
                        <a:pt x="812" y="495"/>
                      </a:lnTo>
                      <a:lnTo>
                        <a:pt x="844" y="502"/>
                      </a:lnTo>
                      <a:lnTo>
                        <a:pt x="895" y="521"/>
                      </a:lnTo>
                      <a:lnTo>
                        <a:pt x="959" y="553"/>
                      </a:lnTo>
                      <a:lnTo>
                        <a:pt x="1010" y="559"/>
                      </a:lnTo>
                      <a:lnTo>
                        <a:pt x="1055" y="579"/>
                      </a:lnTo>
                      <a:lnTo>
                        <a:pt x="1100" y="547"/>
                      </a:lnTo>
                      <a:lnTo>
                        <a:pt x="1081" y="521"/>
                      </a:lnTo>
                      <a:lnTo>
                        <a:pt x="1113" y="495"/>
                      </a:lnTo>
                      <a:lnTo>
                        <a:pt x="1132" y="483"/>
                      </a:lnTo>
                      <a:lnTo>
                        <a:pt x="1151" y="489"/>
                      </a:lnTo>
                      <a:lnTo>
                        <a:pt x="1164" y="508"/>
                      </a:lnTo>
                      <a:lnTo>
                        <a:pt x="1164" y="521"/>
                      </a:lnTo>
                      <a:lnTo>
                        <a:pt x="1183" y="508"/>
                      </a:lnTo>
                      <a:lnTo>
                        <a:pt x="1189" y="508"/>
                      </a:lnTo>
                      <a:lnTo>
                        <a:pt x="1208" y="521"/>
                      </a:lnTo>
                      <a:lnTo>
                        <a:pt x="1215" y="553"/>
                      </a:lnTo>
                      <a:lnTo>
                        <a:pt x="1272" y="495"/>
                      </a:lnTo>
                      <a:lnTo>
                        <a:pt x="1234" y="483"/>
                      </a:lnTo>
                      <a:lnTo>
                        <a:pt x="1247" y="476"/>
                      </a:lnTo>
                      <a:lnTo>
                        <a:pt x="1272" y="470"/>
                      </a:lnTo>
                      <a:lnTo>
                        <a:pt x="1247" y="483"/>
                      </a:lnTo>
                      <a:lnTo>
                        <a:pt x="1260" y="483"/>
                      </a:lnTo>
                      <a:lnTo>
                        <a:pt x="1208" y="483"/>
                      </a:lnTo>
                      <a:lnTo>
                        <a:pt x="1234" y="483"/>
                      </a:lnTo>
                      <a:lnTo>
                        <a:pt x="1247" y="470"/>
                      </a:lnTo>
                      <a:lnTo>
                        <a:pt x="1215" y="483"/>
                      </a:lnTo>
                      <a:lnTo>
                        <a:pt x="1228" y="463"/>
                      </a:lnTo>
                      <a:lnTo>
                        <a:pt x="1234" y="495"/>
                      </a:lnTo>
                      <a:lnTo>
                        <a:pt x="1234" y="489"/>
                      </a:lnTo>
                      <a:lnTo>
                        <a:pt x="1215" y="483"/>
                      </a:lnTo>
                      <a:lnTo>
                        <a:pt x="1215" y="470"/>
                      </a:lnTo>
                      <a:lnTo>
                        <a:pt x="1228" y="483"/>
                      </a:lnTo>
                      <a:lnTo>
                        <a:pt x="1215" y="483"/>
                      </a:lnTo>
                      <a:lnTo>
                        <a:pt x="1234" y="463"/>
                      </a:lnTo>
                      <a:lnTo>
                        <a:pt x="1247" y="463"/>
                      </a:lnTo>
                      <a:lnTo>
                        <a:pt x="1253" y="451"/>
                      </a:lnTo>
                      <a:lnTo>
                        <a:pt x="1260" y="457"/>
                      </a:lnTo>
                      <a:lnTo>
                        <a:pt x="1336" y="457"/>
                      </a:lnTo>
                      <a:lnTo>
                        <a:pt x="1343" y="444"/>
                      </a:lnTo>
                      <a:lnTo>
                        <a:pt x="1464" y="444"/>
                      </a:lnTo>
                      <a:lnTo>
                        <a:pt x="1471" y="457"/>
                      </a:lnTo>
                      <a:lnTo>
                        <a:pt x="1522" y="451"/>
                      </a:lnTo>
                      <a:lnTo>
                        <a:pt x="1567" y="419"/>
                      </a:lnTo>
                      <a:lnTo>
                        <a:pt x="1515" y="393"/>
                      </a:lnTo>
                      <a:lnTo>
                        <a:pt x="1554" y="329"/>
                      </a:lnTo>
                      <a:lnTo>
                        <a:pt x="1547" y="323"/>
                      </a:lnTo>
                      <a:lnTo>
                        <a:pt x="1605" y="316"/>
                      </a:lnTo>
                      <a:lnTo>
                        <a:pt x="1624" y="259"/>
                      </a:lnTo>
                      <a:lnTo>
                        <a:pt x="1605" y="214"/>
                      </a:lnTo>
                      <a:lnTo>
                        <a:pt x="1618" y="195"/>
                      </a:lnTo>
                      <a:close/>
                    </a:path>
                  </a:pathLst>
                </a:custGeom>
                <a:solidFill>
                  <a:srgbClr val="3333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4" name="Rectangle 12"/>
              <p:cNvSpPr/>
              <p:nvPr/>
            </p:nvSpPr>
            <p:spPr>
              <a:xfrm>
                <a:off x="3840840" y="2731320"/>
                <a:ext cx="2129760" cy="541800"/>
              </a:xfrm>
              <a:prstGeom prst="rect">
                <a:avLst/>
              </a:prstGeom>
              <a:solidFill>
                <a:srgbClr val="ddddd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Freeform 13"/>
              <p:cNvSpPr/>
              <p:nvPr/>
            </p:nvSpPr>
            <p:spPr>
              <a:xfrm>
                <a:off x="4293720" y="2777400"/>
                <a:ext cx="1677960" cy="1049400"/>
              </a:xfrm>
              <a:custGeom>
                <a:avLst/>
                <a:gdLst>
                  <a:gd name="textAreaLeft" fmla="*/ 0 w 1677960"/>
                  <a:gd name="textAreaRight" fmla="*/ 1678320 w 1677960"/>
                  <a:gd name="textAreaTop" fmla="*/ 0 h 1049400"/>
                  <a:gd name="textAreaBottom" fmla="*/ 1049760 h 1049400"/>
                </a:gdLst>
                <a:ahLst/>
                <a:rect l="textAreaLeft" t="textAreaTop" r="textAreaRight" b="textAreaBottom"/>
                <a:pathLst>
                  <a:path w="1394" h="1042">
                    <a:moveTo>
                      <a:pt x="6" y="531"/>
                    </a:moveTo>
                    <a:lnTo>
                      <a:pt x="0" y="275"/>
                    </a:lnTo>
                    <a:lnTo>
                      <a:pt x="51" y="275"/>
                    </a:lnTo>
                    <a:lnTo>
                      <a:pt x="64" y="249"/>
                    </a:lnTo>
                    <a:lnTo>
                      <a:pt x="83" y="288"/>
                    </a:lnTo>
                    <a:lnTo>
                      <a:pt x="109" y="301"/>
                    </a:lnTo>
                    <a:lnTo>
                      <a:pt x="122" y="301"/>
                    </a:lnTo>
                    <a:lnTo>
                      <a:pt x="147" y="294"/>
                    </a:lnTo>
                    <a:lnTo>
                      <a:pt x="173" y="281"/>
                    </a:lnTo>
                    <a:lnTo>
                      <a:pt x="179" y="294"/>
                    </a:lnTo>
                    <a:lnTo>
                      <a:pt x="237" y="307"/>
                    </a:lnTo>
                    <a:lnTo>
                      <a:pt x="275" y="371"/>
                    </a:lnTo>
                    <a:lnTo>
                      <a:pt x="345" y="364"/>
                    </a:lnTo>
                    <a:lnTo>
                      <a:pt x="345" y="435"/>
                    </a:lnTo>
                    <a:lnTo>
                      <a:pt x="435" y="435"/>
                    </a:lnTo>
                    <a:lnTo>
                      <a:pt x="665" y="19"/>
                    </a:lnTo>
                    <a:lnTo>
                      <a:pt x="1253" y="0"/>
                    </a:lnTo>
                    <a:lnTo>
                      <a:pt x="1260" y="58"/>
                    </a:lnTo>
                    <a:lnTo>
                      <a:pt x="1324" y="58"/>
                    </a:lnTo>
                    <a:lnTo>
                      <a:pt x="1337" y="160"/>
                    </a:lnTo>
                    <a:lnTo>
                      <a:pt x="1285" y="160"/>
                    </a:lnTo>
                    <a:lnTo>
                      <a:pt x="1285" y="198"/>
                    </a:lnTo>
                    <a:lnTo>
                      <a:pt x="1209" y="205"/>
                    </a:lnTo>
                    <a:lnTo>
                      <a:pt x="1209" y="281"/>
                    </a:lnTo>
                    <a:lnTo>
                      <a:pt x="1049" y="281"/>
                    </a:lnTo>
                    <a:lnTo>
                      <a:pt x="1042" y="416"/>
                    </a:lnTo>
                    <a:lnTo>
                      <a:pt x="1228" y="416"/>
                    </a:lnTo>
                    <a:lnTo>
                      <a:pt x="1228" y="364"/>
                    </a:lnTo>
                    <a:lnTo>
                      <a:pt x="1356" y="364"/>
                    </a:lnTo>
                    <a:lnTo>
                      <a:pt x="1394" y="384"/>
                    </a:lnTo>
                    <a:lnTo>
                      <a:pt x="1388" y="1036"/>
                    </a:lnTo>
                    <a:lnTo>
                      <a:pt x="1343" y="1042"/>
                    </a:lnTo>
                    <a:lnTo>
                      <a:pt x="1285" y="1010"/>
                    </a:lnTo>
                    <a:lnTo>
                      <a:pt x="1228" y="978"/>
                    </a:lnTo>
                    <a:lnTo>
                      <a:pt x="1189" y="940"/>
                    </a:lnTo>
                    <a:lnTo>
                      <a:pt x="1151" y="972"/>
                    </a:lnTo>
                    <a:lnTo>
                      <a:pt x="1081" y="972"/>
                    </a:lnTo>
                    <a:lnTo>
                      <a:pt x="1068" y="959"/>
                    </a:lnTo>
                    <a:lnTo>
                      <a:pt x="1036" y="985"/>
                    </a:lnTo>
                    <a:lnTo>
                      <a:pt x="998" y="985"/>
                    </a:lnTo>
                    <a:lnTo>
                      <a:pt x="902" y="1036"/>
                    </a:lnTo>
                    <a:lnTo>
                      <a:pt x="851" y="978"/>
                    </a:lnTo>
                    <a:lnTo>
                      <a:pt x="812" y="991"/>
                    </a:lnTo>
                    <a:lnTo>
                      <a:pt x="774" y="972"/>
                    </a:lnTo>
                    <a:lnTo>
                      <a:pt x="735" y="978"/>
                    </a:lnTo>
                    <a:lnTo>
                      <a:pt x="716" y="1029"/>
                    </a:lnTo>
                    <a:lnTo>
                      <a:pt x="633" y="985"/>
                    </a:lnTo>
                    <a:lnTo>
                      <a:pt x="569" y="959"/>
                    </a:lnTo>
                    <a:lnTo>
                      <a:pt x="480" y="953"/>
                    </a:lnTo>
                    <a:lnTo>
                      <a:pt x="429" y="908"/>
                    </a:lnTo>
                    <a:lnTo>
                      <a:pt x="262" y="901"/>
                    </a:lnTo>
                    <a:lnTo>
                      <a:pt x="211" y="876"/>
                    </a:lnTo>
                    <a:lnTo>
                      <a:pt x="179" y="818"/>
                    </a:lnTo>
                    <a:lnTo>
                      <a:pt x="77" y="825"/>
                    </a:lnTo>
                    <a:lnTo>
                      <a:pt x="13" y="767"/>
                    </a:lnTo>
                    <a:lnTo>
                      <a:pt x="0" y="735"/>
                    </a:lnTo>
                    <a:lnTo>
                      <a:pt x="0" y="729"/>
                    </a:lnTo>
                    <a:lnTo>
                      <a:pt x="6" y="531"/>
                    </a:lnTo>
                    <a:close/>
                  </a:path>
                </a:pathLst>
              </a:custGeom>
              <a:solidFill>
                <a:srgbClr val="ddddd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Freeform 14"/>
              <p:cNvSpPr/>
              <p:nvPr/>
            </p:nvSpPr>
            <p:spPr>
              <a:xfrm>
                <a:off x="5625720" y="1972440"/>
                <a:ext cx="714240" cy="618480"/>
              </a:xfrm>
              <a:custGeom>
                <a:avLst/>
                <a:gdLst>
                  <a:gd name="textAreaLeft" fmla="*/ 0 w 714240"/>
                  <a:gd name="textAreaRight" fmla="*/ 714600 w 714240"/>
                  <a:gd name="textAreaTop" fmla="*/ 0 h 618480"/>
                  <a:gd name="textAreaBottom" fmla="*/ 618840 h 618480"/>
                </a:gdLst>
                <a:ahLst/>
                <a:rect l="textAreaLeft" t="textAreaTop" r="textAreaRight" b="textAreaBottom"/>
                <a:pathLst>
                  <a:path w="595" h="614">
                    <a:moveTo>
                      <a:pt x="224" y="614"/>
                    </a:moveTo>
                    <a:lnTo>
                      <a:pt x="71" y="543"/>
                    </a:lnTo>
                    <a:lnTo>
                      <a:pt x="0" y="454"/>
                    </a:lnTo>
                    <a:lnTo>
                      <a:pt x="0" y="384"/>
                    </a:lnTo>
                    <a:lnTo>
                      <a:pt x="71" y="294"/>
                    </a:lnTo>
                    <a:lnTo>
                      <a:pt x="147" y="275"/>
                    </a:lnTo>
                    <a:lnTo>
                      <a:pt x="237" y="275"/>
                    </a:lnTo>
                    <a:lnTo>
                      <a:pt x="173" y="166"/>
                    </a:lnTo>
                    <a:lnTo>
                      <a:pt x="141" y="77"/>
                    </a:lnTo>
                    <a:lnTo>
                      <a:pt x="122" y="45"/>
                    </a:lnTo>
                    <a:lnTo>
                      <a:pt x="224" y="6"/>
                    </a:lnTo>
                    <a:lnTo>
                      <a:pt x="448" y="0"/>
                    </a:lnTo>
                    <a:lnTo>
                      <a:pt x="531" y="6"/>
                    </a:lnTo>
                    <a:lnTo>
                      <a:pt x="569" y="6"/>
                    </a:lnTo>
                    <a:lnTo>
                      <a:pt x="595" y="38"/>
                    </a:lnTo>
                    <a:lnTo>
                      <a:pt x="589" y="64"/>
                    </a:lnTo>
                    <a:lnTo>
                      <a:pt x="550" y="83"/>
                    </a:lnTo>
                    <a:lnTo>
                      <a:pt x="563" y="102"/>
                    </a:lnTo>
                    <a:lnTo>
                      <a:pt x="569" y="122"/>
                    </a:lnTo>
                    <a:lnTo>
                      <a:pt x="569" y="147"/>
                    </a:lnTo>
                    <a:lnTo>
                      <a:pt x="442" y="320"/>
                    </a:lnTo>
                    <a:lnTo>
                      <a:pt x="224" y="614"/>
                    </a:lnTo>
                    <a:close/>
                  </a:path>
                </a:pathLst>
              </a:custGeom>
              <a:solidFill>
                <a:srgbClr val="ddddd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Freeform 15"/>
              <p:cNvSpPr/>
              <p:nvPr/>
            </p:nvSpPr>
            <p:spPr>
              <a:xfrm>
                <a:off x="5555520" y="1683000"/>
                <a:ext cx="461160" cy="354240"/>
              </a:xfrm>
              <a:custGeom>
                <a:avLst/>
                <a:gdLst>
                  <a:gd name="textAreaLeft" fmla="*/ 0 w 461160"/>
                  <a:gd name="textAreaRight" fmla="*/ 461520 w 461160"/>
                  <a:gd name="textAreaTop" fmla="*/ 0 h 354240"/>
                  <a:gd name="textAreaBottom" fmla="*/ 354600 h 354240"/>
                </a:gdLst>
                <a:ahLst/>
                <a:rect l="textAreaLeft" t="textAreaTop" r="textAreaRight" b="textAreaBottom"/>
                <a:pathLst>
                  <a:path w="383" h="352">
                    <a:moveTo>
                      <a:pt x="198" y="352"/>
                    </a:moveTo>
                    <a:lnTo>
                      <a:pt x="294" y="352"/>
                    </a:lnTo>
                    <a:lnTo>
                      <a:pt x="288" y="326"/>
                    </a:lnTo>
                    <a:lnTo>
                      <a:pt x="307" y="326"/>
                    </a:lnTo>
                    <a:lnTo>
                      <a:pt x="300" y="314"/>
                    </a:lnTo>
                    <a:lnTo>
                      <a:pt x="313" y="307"/>
                    </a:lnTo>
                    <a:lnTo>
                      <a:pt x="313" y="282"/>
                    </a:lnTo>
                    <a:lnTo>
                      <a:pt x="300" y="269"/>
                    </a:lnTo>
                    <a:lnTo>
                      <a:pt x="300" y="243"/>
                    </a:lnTo>
                    <a:lnTo>
                      <a:pt x="300" y="224"/>
                    </a:lnTo>
                    <a:lnTo>
                      <a:pt x="300" y="205"/>
                    </a:lnTo>
                    <a:lnTo>
                      <a:pt x="326" y="186"/>
                    </a:lnTo>
                    <a:lnTo>
                      <a:pt x="345" y="167"/>
                    </a:lnTo>
                    <a:lnTo>
                      <a:pt x="345" y="154"/>
                    </a:lnTo>
                    <a:lnTo>
                      <a:pt x="364" y="154"/>
                    </a:lnTo>
                    <a:lnTo>
                      <a:pt x="383" y="0"/>
                    </a:lnTo>
                    <a:lnTo>
                      <a:pt x="0" y="0"/>
                    </a:lnTo>
                    <a:lnTo>
                      <a:pt x="6" y="20"/>
                    </a:lnTo>
                    <a:lnTo>
                      <a:pt x="25" y="32"/>
                    </a:lnTo>
                    <a:lnTo>
                      <a:pt x="25" y="52"/>
                    </a:lnTo>
                    <a:lnTo>
                      <a:pt x="45" y="77"/>
                    </a:lnTo>
                    <a:lnTo>
                      <a:pt x="38" y="90"/>
                    </a:lnTo>
                    <a:lnTo>
                      <a:pt x="64" y="103"/>
                    </a:lnTo>
                    <a:lnTo>
                      <a:pt x="83" y="122"/>
                    </a:lnTo>
                    <a:lnTo>
                      <a:pt x="89" y="128"/>
                    </a:lnTo>
                    <a:lnTo>
                      <a:pt x="89" y="154"/>
                    </a:lnTo>
                    <a:lnTo>
                      <a:pt x="89" y="167"/>
                    </a:lnTo>
                    <a:lnTo>
                      <a:pt x="153" y="224"/>
                    </a:lnTo>
                    <a:lnTo>
                      <a:pt x="192" y="243"/>
                    </a:lnTo>
                    <a:lnTo>
                      <a:pt x="140" y="301"/>
                    </a:lnTo>
                    <a:lnTo>
                      <a:pt x="160" y="352"/>
                    </a:lnTo>
                    <a:lnTo>
                      <a:pt x="198" y="352"/>
                    </a:lnTo>
                    <a:close/>
                  </a:path>
                </a:pathLst>
              </a:custGeom>
              <a:solidFill>
                <a:srgbClr val="ddddd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Freeform 16"/>
              <p:cNvSpPr/>
              <p:nvPr/>
            </p:nvSpPr>
            <p:spPr>
              <a:xfrm>
                <a:off x="5763960" y="2416680"/>
                <a:ext cx="599040" cy="651600"/>
              </a:xfrm>
              <a:custGeom>
                <a:avLst/>
                <a:gdLst>
                  <a:gd name="textAreaLeft" fmla="*/ 0 w 599040"/>
                  <a:gd name="textAreaRight" fmla="*/ 599400 w 599040"/>
                  <a:gd name="textAreaTop" fmla="*/ 0 h 651600"/>
                  <a:gd name="textAreaBottom" fmla="*/ 651960 h 651600"/>
                </a:gdLst>
                <a:ahLst/>
                <a:rect l="textAreaLeft" t="textAreaTop" r="textAreaRight" b="textAreaBottom"/>
                <a:pathLst>
                  <a:path w="499" h="646">
                    <a:moveTo>
                      <a:pt x="109" y="320"/>
                    </a:moveTo>
                    <a:lnTo>
                      <a:pt x="0" y="320"/>
                    </a:lnTo>
                    <a:lnTo>
                      <a:pt x="7" y="435"/>
                    </a:lnTo>
                    <a:lnTo>
                      <a:pt x="109" y="435"/>
                    </a:lnTo>
                    <a:lnTo>
                      <a:pt x="135" y="543"/>
                    </a:lnTo>
                    <a:lnTo>
                      <a:pt x="141" y="639"/>
                    </a:lnTo>
                    <a:lnTo>
                      <a:pt x="179" y="646"/>
                    </a:lnTo>
                    <a:lnTo>
                      <a:pt x="173" y="524"/>
                    </a:lnTo>
                    <a:lnTo>
                      <a:pt x="237" y="537"/>
                    </a:lnTo>
                    <a:lnTo>
                      <a:pt x="231" y="473"/>
                    </a:lnTo>
                    <a:lnTo>
                      <a:pt x="358" y="480"/>
                    </a:lnTo>
                    <a:lnTo>
                      <a:pt x="358" y="537"/>
                    </a:lnTo>
                    <a:lnTo>
                      <a:pt x="461" y="543"/>
                    </a:lnTo>
                    <a:lnTo>
                      <a:pt x="454" y="486"/>
                    </a:lnTo>
                    <a:lnTo>
                      <a:pt x="410" y="441"/>
                    </a:lnTo>
                    <a:lnTo>
                      <a:pt x="390" y="448"/>
                    </a:lnTo>
                    <a:lnTo>
                      <a:pt x="390" y="403"/>
                    </a:lnTo>
                    <a:lnTo>
                      <a:pt x="480" y="384"/>
                    </a:lnTo>
                    <a:lnTo>
                      <a:pt x="499" y="0"/>
                    </a:lnTo>
                    <a:lnTo>
                      <a:pt x="365" y="13"/>
                    </a:lnTo>
                    <a:lnTo>
                      <a:pt x="371" y="51"/>
                    </a:lnTo>
                    <a:lnTo>
                      <a:pt x="205" y="45"/>
                    </a:lnTo>
                    <a:lnTo>
                      <a:pt x="199" y="134"/>
                    </a:lnTo>
                    <a:lnTo>
                      <a:pt x="128" y="141"/>
                    </a:lnTo>
                    <a:lnTo>
                      <a:pt x="109" y="320"/>
                    </a:lnTo>
                    <a:close/>
                  </a:path>
                </a:pathLst>
              </a:custGeom>
              <a:solidFill>
                <a:srgbClr val="ddddd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Freeform 17"/>
              <p:cNvSpPr/>
              <p:nvPr/>
            </p:nvSpPr>
            <p:spPr>
              <a:xfrm>
                <a:off x="4123800" y="1857240"/>
                <a:ext cx="1801800" cy="946440"/>
              </a:xfrm>
              <a:custGeom>
                <a:avLst/>
                <a:gdLst>
                  <a:gd name="textAreaLeft" fmla="*/ 0 w 1801800"/>
                  <a:gd name="textAreaRight" fmla="*/ 1802160 w 1801800"/>
                  <a:gd name="textAreaTop" fmla="*/ 0 h 946440"/>
                  <a:gd name="textAreaBottom" fmla="*/ 946800 h 946440"/>
                </a:gdLst>
                <a:ahLst/>
                <a:rect l="textAreaLeft" t="textAreaTop" r="textAreaRight" b="textAreaBottom"/>
                <a:pathLst>
                  <a:path w="1497" h="940">
                    <a:moveTo>
                      <a:pt x="0" y="940"/>
                    </a:moveTo>
                    <a:lnTo>
                      <a:pt x="7" y="690"/>
                    </a:lnTo>
                    <a:lnTo>
                      <a:pt x="429" y="690"/>
                    </a:lnTo>
                    <a:lnTo>
                      <a:pt x="454" y="377"/>
                    </a:lnTo>
                    <a:lnTo>
                      <a:pt x="563" y="377"/>
                    </a:lnTo>
                    <a:lnTo>
                      <a:pt x="563" y="313"/>
                    </a:lnTo>
                    <a:lnTo>
                      <a:pt x="672" y="313"/>
                    </a:lnTo>
                    <a:lnTo>
                      <a:pt x="729" y="0"/>
                    </a:lnTo>
                    <a:lnTo>
                      <a:pt x="1305" y="0"/>
                    </a:lnTo>
                    <a:lnTo>
                      <a:pt x="1356" y="58"/>
                    </a:lnTo>
                    <a:lnTo>
                      <a:pt x="1401" y="51"/>
                    </a:lnTo>
                    <a:lnTo>
                      <a:pt x="1401" y="83"/>
                    </a:lnTo>
                    <a:lnTo>
                      <a:pt x="1350" y="153"/>
                    </a:lnTo>
                    <a:lnTo>
                      <a:pt x="1420" y="211"/>
                    </a:lnTo>
                    <a:lnTo>
                      <a:pt x="1426" y="268"/>
                    </a:lnTo>
                    <a:lnTo>
                      <a:pt x="1478" y="288"/>
                    </a:lnTo>
                    <a:lnTo>
                      <a:pt x="1497" y="294"/>
                    </a:lnTo>
                    <a:lnTo>
                      <a:pt x="1478" y="499"/>
                    </a:lnTo>
                    <a:lnTo>
                      <a:pt x="1433" y="486"/>
                    </a:lnTo>
                    <a:lnTo>
                      <a:pt x="1433" y="441"/>
                    </a:lnTo>
                    <a:lnTo>
                      <a:pt x="1401" y="441"/>
                    </a:lnTo>
                    <a:lnTo>
                      <a:pt x="1375" y="422"/>
                    </a:lnTo>
                    <a:lnTo>
                      <a:pt x="1337" y="460"/>
                    </a:lnTo>
                    <a:lnTo>
                      <a:pt x="1330" y="518"/>
                    </a:lnTo>
                    <a:lnTo>
                      <a:pt x="1286" y="543"/>
                    </a:lnTo>
                    <a:lnTo>
                      <a:pt x="1337" y="582"/>
                    </a:lnTo>
                    <a:lnTo>
                      <a:pt x="1337" y="607"/>
                    </a:lnTo>
                    <a:lnTo>
                      <a:pt x="1382" y="671"/>
                    </a:lnTo>
                    <a:lnTo>
                      <a:pt x="1446" y="671"/>
                    </a:lnTo>
                    <a:lnTo>
                      <a:pt x="1478" y="690"/>
                    </a:lnTo>
                    <a:lnTo>
                      <a:pt x="1471" y="882"/>
                    </a:lnTo>
                    <a:lnTo>
                      <a:pt x="1362" y="869"/>
                    </a:lnTo>
                    <a:lnTo>
                      <a:pt x="1369" y="940"/>
                    </a:lnTo>
                    <a:lnTo>
                      <a:pt x="1279" y="940"/>
                    </a:lnTo>
                    <a:lnTo>
                      <a:pt x="0" y="940"/>
                    </a:lnTo>
                    <a:close/>
                  </a:path>
                </a:pathLst>
              </a:custGeom>
              <a:solidFill>
                <a:srgbClr val="ddddd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Freeform 18"/>
              <p:cNvSpPr/>
              <p:nvPr/>
            </p:nvSpPr>
            <p:spPr>
              <a:xfrm>
                <a:off x="3393360" y="2707560"/>
                <a:ext cx="745200" cy="255960"/>
              </a:xfrm>
              <a:custGeom>
                <a:avLst/>
                <a:gdLst>
                  <a:gd name="textAreaLeft" fmla="*/ 0 w 745200"/>
                  <a:gd name="textAreaRight" fmla="*/ 745560 w 745200"/>
                  <a:gd name="textAreaTop" fmla="*/ 0 h 255960"/>
                  <a:gd name="textAreaBottom" fmla="*/ 256320 h 255960"/>
                </a:gdLst>
                <a:ahLst/>
                <a:rect l="textAreaLeft" t="textAreaTop" r="textAreaRight" b="textAreaBottom"/>
                <a:pathLst>
                  <a:path w="620" h="255">
                    <a:moveTo>
                      <a:pt x="614" y="217"/>
                    </a:moveTo>
                    <a:lnTo>
                      <a:pt x="614" y="0"/>
                    </a:lnTo>
                    <a:lnTo>
                      <a:pt x="243" y="13"/>
                    </a:lnTo>
                    <a:lnTo>
                      <a:pt x="243" y="89"/>
                    </a:lnTo>
                    <a:lnTo>
                      <a:pt x="0" y="89"/>
                    </a:lnTo>
                    <a:lnTo>
                      <a:pt x="0" y="255"/>
                    </a:lnTo>
                    <a:lnTo>
                      <a:pt x="499" y="249"/>
                    </a:lnTo>
                    <a:lnTo>
                      <a:pt x="620" y="249"/>
                    </a:lnTo>
                    <a:lnTo>
                      <a:pt x="614" y="217"/>
                    </a:lnTo>
                    <a:close/>
                  </a:path>
                </a:pathLst>
              </a:custGeom>
              <a:solidFill>
                <a:srgbClr val="ddddd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Freeform 19"/>
              <p:cNvSpPr/>
              <p:nvPr/>
            </p:nvSpPr>
            <p:spPr>
              <a:xfrm>
                <a:off x="5894640" y="1837440"/>
                <a:ext cx="500400" cy="726840"/>
              </a:xfrm>
              <a:custGeom>
                <a:avLst/>
                <a:gdLst>
                  <a:gd name="textAreaLeft" fmla="*/ 0 w 500400"/>
                  <a:gd name="textAreaRight" fmla="*/ 500760 w 500400"/>
                  <a:gd name="textAreaTop" fmla="*/ 0 h 726840"/>
                  <a:gd name="textAreaBottom" fmla="*/ 727200 h 726840"/>
                </a:gdLst>
                <a:ahLst/>
                <a:rect l="textAreaLeft" t="textAreaTop" r="textAreaRight" b="textAreaBottom"/>
                <a:pathLst>
                  <a:path w="416" h="722">
                    <a:moveTo>
                      <a:pt x="7" y="722"/>
                    </a:moveTo>
                    <a:lnTo>
                      <a:pt x="96" y="722"/>
                    </a:lnTo>
                    <a:lnTo>
                      <a:pt x="96" y="633"/>
                    </a:lnTo>
                    <a:lnTo>
                      <a:pt x="256" y="633"/>
                    </a:lnTo>
                    <a:lnTo>
                      <a:pt x="256" y="607"/>
                    </a:lnTo>
                    <a:lnTo>
                      <a:pt x="409" y="607"/>
                    </a:lnTo>
                    <a:lnTo>
                      <a:pt x="416" y="575"/>
                    </a:lnTo>
                    <a:lnTo>
                      <a:pt x="403" y="575"/>
                    </a:lnTo>
                    <a:lnTo>
                      <a:pt x="403" y="396"/>
                    </a:lnTo>
                    <a:lnTo>
                      <a:pt x="377" y="396"/>
                    </a:lnTo>
                    <a:lnTo>
                      <a:pt x="377" y="383"/>
                    </a:lnTo>
                    <a:lnTo>
                      <a:pt x="409" y="383"/>
                    </a:lnTo>
                    <a:lnTo>
                      <a:pt x="409" y="307"/>
                    </a:lnTo>
                    <a:lnTo>
                      <a:pt x="377" y="300"/>
                    </a:lnTo>
                    <a:lnTo>
                      <a:pt x="371" y="262"/>
                    </a:lnTo>
                    <a:lnTo>
                      <a:pt x="326" y="262"/>
                    </a:lnTo>
                    <a:lnTo>
                      <a:pt x="326" y="287"/>
                    </a:lnTo>
                    <a:lnTo>
                      <a:pt x="320" y="287"/>
                    </a:lnTo>
                    <a:lnTo>
                      <a:pt x="307" y="281"/>
                    </a:lnTo>
                    <a:lnTo>
                      <a:pt x="301" y="262"/>
                    </a:lnTo>
                    <a:lnTo>
                      <a:pt x="237" y="262"/>
                    </a:lnTo>
                    <a:lnTo>
                      <a:pt x="179" y="262"/>
                    </a:lnTo>
                    <a:lnTo>
                      <a:pt x="179" y="236"/>
                    </a:lnTo>
                    <a:lnTo>
                      <a:pt x="186" y="217"/>
                    </a:lnTo>
                    <a:lnTo>
                      <a:pt x="179" y="217"/>
                    </a:lnTo>
                    <a:lnTo>
                      <a:pt x="224" y="198"/>
                    </a:lnTo>
                    <a:lnTo>
                      <a:pt x="211" y="166"/>
                    </a:lnTo>
                    <a:lnTo>
                      <a:pt x="179" y="153"/>
                    </a:lnTo>
                    <a:lnTo>
                      <a:pt x="70" y="0"/>
                    </a:lnTo>
                    <a:lnTo>
                      <a:pt x="19" y="64"/>
                    </a:lnTo>
                    <a:lnTo>
                      <a:pt x="26" y="121"/>
                    </a:lnTo>
                    <a:lnTo>
                      <a:pt x="115" y="319"/>
                    </a:lnTo>
                    <a:lnTo>
                      <a:pt x="77" y="339"/>
                    </a:lnTo>
                    <a:lnTo>
                      <a:pt x="70" y="364"/>
                    </a:lnTo>
                    <a:lnTo>
                      <a:pt x="45" y="377"/>
                    </a:lnTo>
                    <a:lnTo>
                      <a:pt x="32" y="486"/>
                    </a:lnTo>
                    <a:lnTo>
                      <a:pt x="32" y="569"/>
                    </a:lnTo>
                    <a:lnTo>
                      <a:pt x="0" y="620"/>
                    </a:lnTo>
                    <a:lnTo>
                      <a:pt x="7" y="722"/>
                    </a:lnTo>
                    <a:close/>
                  </a:path>
                </a:pathLst>
              </a:custGeom>
              <a:solidFill>
                <a:srgbClr val="ddddd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Freeform 20"/>
              <p:cNvSpPr/>
              <p:nvPr/>
            </p:nvSpPr>
            <p:spPr>
              <a:xfrm>
                <a:off x="3386520" y="2951640"/>
                <a:ext cx="914040" cy="1267560"/>
              </a:xfrm>
              <a:custGeom>
                <a:avLst/>
                <a:gdLst>
                  <a:gd name="textAreaLeft" fmla="*/ 0 w 914040"/>
                  <a:gd name="textAreaRight" fmla="*/ 914400 w 914040"/>
                  <a:gd name="textAreaTop" fmla="*/ 0 h 1267560"/>
                  <a:gd name="textAreaBottom" fmla="*/ 1267920 h 1267560"/>
                </a:gdLst>
                <a:ahLst/>
                <a:rect l="textAreaLeft" t="textAreaTop" r="textAreaRight" b="textAreaBottom"/>
                <a:pathLst>
                  <a:path w="760" h="1259">
                    <a:moveTo>
                      <a:pt x="6" y="12"/>
                    </a:moveTo>
                    <a:lnTo>
                      <a:pt x="0" y="1259"/>
                    </a:lnTo>
                    <a:lnTo>
                      <a:pt x="166" y="1182"/>
                    </a:lnTo>
                    <a:lnTo>
                      <a:pt x="172" y="1093"/>
                    </a:lnTo>
                    <a:lnTo>
                      <a:pt x="581" y="1054"/>
                    </a:lnTo>
                    <a:lnTo>
                      <a:pt x="524" y="1003"/>
                    </a:lnTo>
                    <a:lnTo>
                      <a:pt x="549" y="364"/>
                    </a:lnTo>
                    <a:lnTo>
                      <a:pt x="748" y="383"/>
                    </a:lnTo>
                    <a:lnTo>
                      <a:pt x="754" y="345"/>
                    </a:lnTo>
                    <a:lnTo>
                      <a:pt x="760" y="140"/>
                    </a:lnTo>
                    <a:lnTo>
                      <a:pt x="434" y="147"/>
                    </a:lnTo>
                    <a:lnTo>
                      <a:pt x="441" y="0"/>
                    </a:lnTo>
                    <a:lnTo>
                      <a:pt x="390" y="0"/>
                    </a:lnTo>
                    <a:lnTo>
                      <a:pt x="166" y="6"/>
                    </a:lnTo>
                    <a:lnTo>
                      <a:pt x="6" y="12"/>
                    </a:lnTo>
                    <a:close/>
                  </a:path>
                </a:pathLst>
              </a:custGeom>
              <a:solidFill>
                <a:srgbClr val="ddddd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Freeform 21"/>
              <p:cNvSpPr/>
              <p:nvPr/>
            </p:nvSpPr>
            <p:spPr>
              <a:xfrm>
                <a:off x="2739600" y="3524400"/>
                <a:ext cx="660960" cy="831240"/>
              </a:xfrm>
              <a:custGeom>
                <a:avLst/>
                <a:gdLst>
                  <a:gd name="textAreaLeft" fmla="*/ 0 w 660960"/>
                  <a:gd name="textAreaRight" fmla="*/ 661320 w 660960"/>
                  <a:gd name="textAreaTop" fmla="*/ 0 h 831240"/>
                  <a:gd name="textAreaBottom" fmla="*/ 831600 h 831240"/>
                </a:gdLst>
                <a:ahLst/>
                <a:rect l="textAreaLeft" t="textAreaTop" r="textAreaRight" b="textAreaBottom"/>
                <a:pathLst>
                  <a:path w="550" h="824">
                    <a:moveTo>
                      <a:pt x="26" y="466"/>
                    </a:moveTo>
                    <a:lnTo>
                      <a:pt x="58" y="0"/>
                    </a:lnTo>
                    <a:lnTo>
                      <a:pt x="550" y="12"/>
                    </a:lnTo>
                    <a:lnTo>
                      <a:pt x="531" y="824"/>
                    </a:lnTo>
                    <a:lnTo>
                      <a:pt x="0" y="824"/>
                    </a:lnTo>
                    <a:lnTo>
                      <a:pt x="13" y="728"/>
                    </a:lnTo>
                    <a:lnTo>
                      <a:pt x="26" y="466"/>
                    </a:lnTo>
                    <a:close/>
                  </a:path>
                </a:pathLst>
              </a:custGeom>
              <a:solidFill>
                <a:srgbClr val="ddddd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Freeform 22"/>
              <p:cNvSpPr/>
              <p:nvPr/>
            </p:nvSpPr>
            <p:spPr>
              <a:xfrm>
                <a:off x="5469840" y="3769920"/>
                <a:ext cx="810000" cy="810000"/>
              </a:xfrm>
              <a:custGeom>
                <a:avLst/>
                <a:gdLst>
                  <a:gd name="textAreaLeft" fmla="*/ 0 w 810000"/>
                  <a:gd name="textAreaRight" fmla="*/ 810360 w 810000"/>
                  <a:gd name="textAreaTop" fmla="*/ 0 h 810000"/>
                  <a:gd name="textAreaBottom" fmla="*/ 810360 h 810000"/>
                </a:gdLst>
                <a:ahLst/>
                <a:rect l="textAreaLeft" t="textAreaTop" r="textAreaRight" b="textAreaBottom"/>
                <a:pathLst>
                  <a:path w="673" h="805">
                    <a:moveTo>
                      <a:pt x="641" y="268"/>
                    </a:moveTo>
                    <a:lnTo>
                      <a:pt x="494" y="255"/>
                    </a:lnTo>
                    <a:lnTo>
                      <a:pt x="481" y="95"/>
                    </a:lnTo>
                    <a:lnTo>
                      <a:pt x="385" y="63"/>
                    </a:lnTo>
                    <a:lnTo>
                      <a:pt x="315" y="31"/>
                    </a:lnTo>
                    <a:lnTo>
                      <a:pt x="264" y="0"/>
                    </a:lnTo>
                    <a:lnTo>
                      <a:pt x="244" y="102"/>
                    </a:lnTo>
                    <a:lnTo>
                      <a:pt x="244" y="121"/>
                    </a:lnTo>
                    <a:lnTo>
                      <a:pt x="219" y="121"/>
                    </a:lnTo>
                    <a:lnTo>
                      <a:pt x="206" y="121"/>
                    </a:lnTo>
                    <a:lnTo>
                      <a:pt x="200" y="134"/>
                    </a:lnTo>
                    <a:lnTo>
                      <a:pt x="193" y="153"/>
                    </a:lnTo>
                    <a:lnTo>
                      <a:pt x="129" y="140"/>
                    </a:lnTo>
                    <a:lnTo>
                      <a:pt x="136" y="179"/>
                    </a:lnTo>
                    <a:lnTo>
                      <a:pt x="96" y="213"/>
                    </a:lnTo>
                    <a:lnTo>
                      <a:pt x="72" y="242"/>
                    </a:lnTo>
                    <a:lnTo>
                      <a:pt x="59" y="281"/>
                    </a:lnTo>
                    <a:lnTo>
                      <a:pt x="27" y="319"/>
                    </a:lnTo>
                    <a:lnTo>
                      <a:pt x="27" y="332"/>
                    </a:lnTo>
                    <a:lnTo>
                      <a:pt x="0" y="378"/>
                    </a:lnTo>
                    <a:lnTo>
                      <a:pt x="33" y="402"/>
                    </a:lnTo>
                    <a:lnTo>
                      <a:pt x="110" y="409"/>
                    </a:lnTo>
                    <a:lnTo>
                      <a:pt x="160" y="421"/>
                    </a:lnTo>
                    <a:lnTo>
                      <a:pt x="155" y="473"/>
                    </a:lnTo>
                    <a:lnTo>
                      <a:pt x="144" y="506"/>
                    </a:lnTo>
                    <a:lnTo>
                      <a:pt x="123" y="527"/>
                    </a:lnTo>
                    <a:lnTo>
                      <a:pt x="155" y="556"/>
                    </a:lnTo>
                    <a:lnTo>
                      <a:pt x="118" y="618"/>
                    </a:lnTo>
                    <a:lnTo>
                      <a:pt x="182" y="661"/>
                    </a:lnTo>
                    <a:lnTo>
                      <a:pt x="251" y="639"/>
                    </a:lnTo>
                    <a:lnTo>
                      <a:pt x="302" y="613"/>
                    </a:lnTo>
                    <a:lnTo>
                      <a:pt x="334" y="658"/>
                    </a:lnTo>
                    <a:lnTo>
                      <a:pt x="406" y="735"/>
                    </a:lnTo>
                    <a:lnTo>
                      <a:pt x="459" y="762"/>
                    </a:lnTo>
                    <a:lnTo>
                      <a:pt x="480" y="773"/>
                    </a:lnTo>
                    <a:lnTo>
                      <a:pt x="507" y="767"/>
                    </a:lnTo>
                    <a:lnTo>
                      <a:pt x="550" y="773"/>
                    </a:lnTo>
                    <a:lnTo>
                      <a:pt x="619" y="805"/>
                    </a:lnTo>
                    <a:lnTo>
                      <a:pt x="551" y="684"/>
                    </a:lnTo>
                    <a:lnTo>
                      <a:pt x="551" y="658"/>
                    </a:lnTo>
                    <a:lnTo>
                      <a:pt x="602" y="658"/>
                    </a:lnTo>
                    <a:lnTo>
                      <a:pt x="634" y="645"/>
                    </a:lnTo>
                    <a:lnTo>
                      <a:pt x="654" y="645"/>
                    </a:lnTo>
                    <a:lnTo>
                      <a:pt x="673" y="639"/>
                    </a:lnTo>
                    <a:lnTo>
                      <a:pt x="666" y="607"/>
                    </a:lnTo>
                    <a:lnTo>
                      <a:pt x="660" y="613"/>
                    </a:lnTo>
                    <a:lnTo>
                      <a:pt x="641" y="268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Freeform 23"/>
              <p:cNvSpPr/>
              <p:nvPr/>
            </p:nvSpPr>
            <p:spPr>
              <a:xfrm>
                <a:off x="6132240" y="4419000"/>
                <a:ext cx="615960" cy="522000"/>
              </a:xfrm>
              <a:custGeom>
                <a:avLst/>
                <a:gdLst>
                  <a:gd name="textAreaLeft" fmla="*/ 0 w 615960"/>
                  <a:gd name="textAreaRight" fmla="*/ 616320 w 615960"/>
                  <a:gd name="textAreaTop" fmla="*/ 0 h 522000"/>
                  <a:gd name="textAreaBottom" fmla="*/ 522360 h 522000"/>
                </a:gdLst>
                <a:ahLst/>
                <a:rect l="textAreaLeft" t="textAreaTop" r="textAreaRight" b="textAreaBottom"/>
                <a:pathLst>
                  <a:path w="512" h="518">
                    <a:moveTo>
                      <a:pt x="13" y="435"/>
                    </a:moveTo>
                    <a:lnTo>
                      <a:pt x="0" y="390"/>
                    </a:lnTo>
                    <a:lnTo>
                      <a:pt x="51" y="269"/>
                    </a:lnTo>
                    <a:lnTo>
                      <a:pt x="51" y="256"/>
                    </a:lnTo>
                    <a:lnTo>
                      <a:pt x="83" y="237"/>
                    </a:lnTo>
                    <a:lnTo>
                      <a:pt x="71" y="224"/>
                    </a:lnTo>
                    <a:lnTo>
                      <a:pt x="51" y="205"/>
                    </a:lnTo>
                    <a:lnTo>
                      <a:pt x="45" y="186"/>
                    </a:lnTo>
                    <a:lnTo>
                      <a:pt x="39" y="147"/>
                    </a:lnTo>
                    <a:lnTo>
                      <a:pt x="32" y="154"/>
                    </a:lnTo>
                    <a:lnTo>
                      <a:pt x="51" y="128"/>
                    </a:lnTo>
                    <a:lnTo>
                      <a:pt x="45" y="128"/>
                    </a:lnTo>
                    <a:lnTo>
                      <a:pt x="0" y="83"/>
                    </a:lnTo>
                    <a:lnTo>
                      <a:pt x="0" y="51"/>
                    </a:lnTo>
                    <a:lnTo>
                      <a:pt x="7" y="7"/>
                    </a:lnTo>
                    <a:lnTo>
                      <a:pt x="122" y="0"/>
                    </a:lnTo>
                    <a:lnTo>
                      <a:pt x="122" y="26"/>
                    </a:lnTo>
                    <a:lnTo>
                      <a:pt x="256" y="19"/>
                    </a:lnTo>
                    <a:lnTo>
                      <a:pt x="288" y="96"/>
                    </a:lnTo>
                    <a:lnTo>
                      <a:pt x="429" y="102"/>
                    </a:lnTo>
                    <a:lnTo>
                      <a:pt x="512" y="301"/>
                    </a:lnTo>
                    <a:lnTo>
                      <a:pt x="493" y="422"/>
                    </a:lnTo>
                    <a:lnTo>
                      <a:pt x="467" y="422"/>
                    </a:lnTo>
                    <a:lnTo>
                      <a:pt x="474" y="492"/>
                    </a:lnTo>
                    <a:lnTo>
                      <a:pt x="416" y="518"/>
                    </a:lnTo>
                    <a:lnTo>
                      <a:pt x="301" y="403"/>
                    </a:lnTo>
                    <a:lnTo>
                      <a:pt x="237" y="409"/>
                    </a:lnTo>
                    <a:lnTo>
                      <a:pt x="205" y="454"/>
                    </a:lnTo>
                    <a:lnTo>
                      <a:pt x="13" y="448"/>
                    </a:lnTo>
                    <a:lnTo>
                      <a:pt x="13" y="435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Freeform 24"/>
              <p:cNvSpPr/>
              <p:nvPr/>
            </p:nvSpPr>
            <p:spPr>
              <a:xfrm>
                <a:off x="5925600" y="2951640"/>
                <a:ext cx="214920" cy="1087920"/>
              </a:xfrm>
              <a:custGeom>
                <a:avLst/>
                <a:gdLst>
                  <a:gd name="textAreaLeft" fmla="*/ 0 w 214920"/>
                  <a:gd name="textAreaRight" fmla="*/ 215280 w 214920"/>
                  <a:gd name="textAreaTop" fmla="*/ 0 h 1087920"/>
                  <a:gd name="textAreaBottom" fmla="*/ 1088280 h 1087920"/>
                </a:gdLst>
                <a:ahLst/>
                <a:rect l="textAreaLeft" t="textAreaTop" r="textAreaRight" b="textAreaBottom"/>
                <a:pathLst>
                  <a:path w="179" h="1080">
                    <a:moveTo>
                      <a:pt x="121" y="1080"/>
                    </a:moveTo>
                    <a:lnTo>
                      <a:pt x="179" y="1074"/>
                    </a:lnTo>
                    <a:lnTo>
                      <a:pt x="153" y="895"/>
                    </a:lnTo>
                    <a:lnTo>
                      <a:pt x="172" y="850"/>
                    </a:lnTo>
                    <a:lnTo>
                      <a:pt x="121" y="735"/>
                    </a:lnTo>
                    <a:lnTo>
                      <a:pt x="160" y="703"/>
                    </a:lnTo>
                    <a:lnTo>
                      <a:pt x="172" y="658"/>
                    </a:lnTo>
                    <a:lnTo>
                      <a:pt x="121" y="665"/>
                    </a:lnTo>
                    <a:lnTo>
                      <a:pt x="128" y="645"/>
                    </a:lnTo>
                    <a:lnTo>
                      <a:pt x="147" y="626"/>
                    </a:lnTo>
                    <a:lnTo>
                      <a:pt x="147" y="562"/>
                    </a:lnTo>
                    <a:lnTo>
                      <a:pt x="89" y="575"/>
                    </a:lnTo>
                    <a:lnTo>
                      <a:pt x="121" y="326"/>
                    </a:lnTo>
                    <a:lnTo>
                      <a:pt x="160" y="230"/>
                    </a:lnTo>
                    <a:lnTo>
                      <a:pt x="160" y="204"/>
                    </a:lnTo>
                    <a:lnTo>
                      <a:pt x="128" y="179"/>
                    </a:lnTo>
                    <a:lnTo>
                      <a:pt x="121" y="115"/>
                    </a:lnTo>
                    <a:lnTo>
                      <a:pt x="160" y="6"/>
                    </a:lnTo>
                    <a:lnTo>
                      <a:pt x="38" y="0"/>
                    </a:lnTo>
                    <a:lnTo>
                      <a:pt x="44" y="108"/>
                    </a:lnTo>
                    <a:lnTo>
                      <a:pt x="0" y="108"/>
                    </a:lnTo>
                    <a:lnTo>
                      <a:pt x="0" y="172"/>
                    </a:lnTo>
                    <a:lnTo>
                      <a:pt x="76" y="172"/>
                    </a:lnTo>
                    <a:lnTo>
                      <a:pt x="57" y="307"/>
                    </a:lnTo>
                    <a:lnTo>
                      <a:pt x="19" y="313"/>
                    </a:lnTo>
                    <a:lnTo>
                      <a:pt x="19" y="428"/>
                    </a:lnTo>
                    <a:lnTo>
                      <a:pt x="6" y="882"/>
                    </a:lnTo>
                    <a:lnTo>
                      <a:pt x="96" y="920"/>
                    </a:lnTo>
                    <a:lnTo>
                      <a:pt x="102" y="1080"/>
                    </a:lnTo>
                    <a:lnTo>
                      <a:pt x="121" y="108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Freeform 25"/>
              <p:cNvSpPr/>
              <p:nvPr/>
            </p:nvSpPr>
            <p:spPr>
              <a:xfrm>
                <a:off x="4130640" y="5303160"/>
                <a:ext cx="1202400" cy="926640"/>
              </a:xfrm>
              <a:custGeom>
                <a:avLst/>
                <a:gdLst>
                  <a:gd name="textAreaLeft" fmla="*/ 0 w 1202400"/>
                  <a:gd name="textAreaRight" fmla="*/ 1202760 w 1202400"/>
                  <a:gd name="textAreaTop" fmla="*/ 0 h 926640"/>
                  <a:gd name="textAreaBottom" fmla="*/ 927000 h 926640"/>
                </a:gdLst>
                <a:ahLst/>
                <a:rect l="textAreaLeft" t="textAreaTop" r="textAreaRight" b="textAreaBottom"/>
                <a:pathLst>
                  <a:path w="1000" h="920">
                    <a:moveTo>
                      <a:pt x="0" y="48"/>
                    </a:moveTo>
                    <a:lnTo>
                      <a:pt x="80" y="224"/>
                    </a:lnTo>
                    <a:lnTo>
                      <a:pt x="184" y="384"/>
                    </a:lnTo>
                    <a:lnTo>
                      <a:pt x="248" y="408"/>
                    </a:lnTo>
                    <a:lnTo>
                      <a:pt x="264" y="448"/>
                    </a:lnTo>
                    <a:lnTo>
                      <a:pt x="280" y="552"/>
                    </a:lnTo>
                    <a:lnTo>
                      <a:pt x="288" y="632"/>
                    </a:lnTo>
                    <a:lnTo>
                      <a:pt x="344" y="688"/>
                    </a:lnTo>
                    <a:lnTo>
                      <a:pt x="392" y="784"/>
                    </a:lnTo>
                    <a:lnTo>
                      <a:pt x="480" y="824"/>
                    </a:lnTo>
                    <a:lnTo>
                      <a:pt x="544" y="872"/>
                    </a:lnTo>
                    <a:lnTo>
                      <a:pt x="696" y="896"/>
                    </a:lnTo>
                    <a:lnTo>
                      <a:pt x="752" y="920"/>
                    </a:lnTo>
                    <a:lnTo>
                      <a:pt x="808" y="920"/>
                    </a:lnTo>
                    <a:lnTo>
                      <a:pt x="856" y="872"/>
                    </a:lnTo>
                    <a:lnTo>
                      <a:pt x="792" y="824"/>
                    </a:lnTo>
                    <a:lnTo>
                      <a:pt x="776" y="704"/>
                    </a:lnTo>
                    <a:lnTo>
                      <a:pt x="768" y="528"/>
                    </a:lnTo>
                    <a:lnTo>
                      <a:pt x="736" y="528"/>
                    </a:lnTo>
                    <a:lnTo>
                      <a:pt x="704" y="496"/>
                    </a:lnTo>
                    <a:lnTo>
                      <a:pt x="744" y="480"/>
                    </a:lnTo>
                    <a:lnTo>
                      <a:pt x="776" y="472"/>
                    </a:lnTo>
                    <a:lnTo>
                      <a:pt x="784" y="384"/>
                    </a:lnTo>
                    <a:lnTo>
                      <a:pt x="768" y="352"/>
                    </a:lnTo>
                    <a:lnTo>
                      <a:pt x="768" y="328"/>
                    </a:lnTo>
                    <a:lnTo>
                      <a:pt x="816" y="320"/>
                    </a:lnTo>
                    <a:lnTo>
                      <a:pt x="856" y="280"/>
                    </a:lnTo>
                    <a:lnTo>
                      <a:pt x="840" y="240"/>
                    </a:lnTo>
                    <a:lnTo>
                      <a:pt x="904" y="224"/>
                    </a:lnTo>
                    <a:lnTo>
                      <a:pt x="928" y="184"/>
                    </a:lnTo>
                    <a:lnTo>
                      <a:pt x="928" y="160"/>
                    </a:lnTo>
                    <a:lnTo>
                      <a:pt x="968" y="168"/>
                    </a:lnTo>
                    <a:lnTo>
                      <a:pt x="1000" y="144"/>
                    </a:lnTo>
                    <a:lnTo>
                      <a:pt x="992" y="112"/>
                    </a:lnTo>
                    <a:lnTo>
                      <a:pt x="960" y="64"/>
                    </a:lnTo>
                    <a:lnTo>
                      <a:pt x="776" y="0"/>
                    </a:lnTo>
                    <a:lnTo>
                      <a:pt x="0" y="48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Freeform 26"/>
              <p:cNvSpPr/>
              <p:nvPr/>
            </p:nvSpPr>
            <p:spPr>
              <a:xfrm>
                <a:off x="2714040" y="3336480"/>
                <a:ext cx="3245040" cy="2063160"/>
              </a:xfrm>
              <a:custGeom>
                <a:avLst/>
                <a:gdLst>
                  <a:gd name="textAreaLeft" fmla="*/ 0 w 3245040"/>
                  <a:gd name="textAreaRight" fmla="*/ 3245400 w 3245040"/>
                  <a:gd name="textAreaTop" fmla="*/ 0 h 2063160"/>
                  <a:gd name="textAreaBottom" fmla="*/ 2063520 h 2063160"/>
                </a:gdLst>
                <a:ahLst/>
                <a:rect l="textAreaLeft" t="textAreaTop" r="textAreaRight" b="textAreaBottom"/>
                <a:pathLst>
                  <a:path w="2696" h="2048">
                    <a:moveTo>
                      <a:pt x="0" y="1384"/>
                    </a:moveTo>
                    <a:lnTo>
                      <a:pt x="24" y="1016"/>
                    </a:lnTo>
                    <a:lnTo>
                      <a:pt x="544" y="1008"/>
                    </a:lnTo>
                    <a:lnTo>
                      <a:pt x="560" y="872"/>
                    </a:lnTo>
                    <a:lnTo>
                      <a:pt x="728" y="816"/>
                    </a:lnTo>
                    <a:lnTo>
                      <a:pt x="736" y="712"/>
                    </a:lnTo>
                    <a:lnTo>
                      <a:pt x="1120" y="696"/>
                    </a:lnTo>
                    <a:lnTo>
                      <a:pt x="1136" y="648"/>
                    </a:lnTo>
                    <a:lnTo>
                      <a:pt x="1096" y="624"/>
                    </a:lnTo>
                    <a:lnTo>
                      <a:pt x="1120" y="0"/>
                    </a:lnTo>
                    <a:lnTo>
                      <a:pt x="1320" y="16"/>
                    </a:lnTo>
                    <a:lnTo>
                      <a:pt x="1304" y="208"/>
                    </a:lnTo>
                    <a:lnTo>
                      <a:pt x="1376" y="272"/>
                    </a:lnTo>
                    <a:lnTo>
                      <a:pt x="1504" y="280"/>
                    </a:lnTo>
                    <a:lnTo>
                      <a:pt x="1520" y="344"/>
                    </a:lnTo>
                    <a:lnTo>
                      <a:pt x="1608" y="352"/>
                    </a:lnTo>
                    <a:lnTo>
                      <a:pt x="1712" y="352"/>
                    </a:lnTo>
                    <a:lnTo>
                      <a:pt x="1744" y="352"/>
                    </a:lnTo>
                    <a:lnTo>
                      <a:pt x="1792" y="408"/>
                    </a:lnTo>
                    <a:lnTo>
                      <a:pt x="1832" y="400"/>
                    </a:lnTo>
                    <a:lnTo>
                      <a:pt x="1968" y="432"/>
                    </a:lnTo>
                    <a:lnTo>
                      <a:pt x="2024" y="464"/>
                    </a:lnTo>
                    <a:lnTo>
                      <a:pt x="2048" y="424"/>
                    </a:lnTo>
                    <a:lnTo>
                      <a:pt x="2072" y="424"/>
                    </a:lnTo>
                    <a:lnTo>
                      <a:pt x="2136" y="440"/>
                    </a:lnTo>
                    <a:lnTo>
                      <a:pt x="2168" y="432"/>
                    </a:lnTo>
                    <a:lnTo>
                      <a:pt x="2208" y="480"/>
                    </a:lnTo>
                    <a:lnTo>
                      <a:pt x="2296" y="448"/>
                    </a:lnTo>
                    <a:lnTo>
                      <a:pt x="2328" y="424"/>
                    </a:lnTo>
                    <a:lnTo>
                      <a:pt x="2376" y="408"/>
                    </a:lnTo>
                    <a:lnTo>
                      <a:pt x="2464" y="432"/>
                    </a:lnTo>
                    <a:lnTo>
                      <a:pt x="2504" y="392"/>
                    </a:lnTo>
                    <a:lnTo>
                      <a:pt x="2528" y="432"/>
                    </a:lnTo>
                    <a:lnTo>
                      <a:pt x="2528" y="488"/>
                    </a:lnTo>
                    <a:lnTo>
                      <a:pt x="2528" y="536"/>
                    </a:lnTo>
                    <a:lnTo>
                      <a:pt x="2504" y="544"/>
                    </a:lnTo>
                    <a:lnTo>
                      <a:pt x="2480" y="552"/>
                    </a:lnTo>
                    <a:lnTo>
                      <a:pt x="2448" y="576"/>
                    </a:lnTo>
                    <a:lnTo>
                      <a:pt x="2408" y="576"/>
                    </a:lnTo>
                    <a:lnTo>
                      <a:pt x="2400" y="616"/>
                    </a:lnTo>
                    <a:lnTo>
                      <a:pt x="2400" y="648"/>
                    </a:lnTo>
                    <a:lnTo>
                      <a:pt x="2360" y="664"/>
                    </a:lnTo>
                    <a:lnTo>
                      <a:pt x="2328" y="720"/>
                    </a:lnTo>
                    <a:lnTo>
                      <a:pt x="2288" y="792"/>
                    </a:lnTo>
                    <a:lnTo>
                      <a:pt x="2304" y="832"/>
                    </a:lnTo>
                    <a:lnTo>
                      <a:pt x="2344" y="840"/>
                    </a:lnTo>
                    <a:lnTo>
                      <a:pt x="2439" y="856"/>
                    </a:lnTo>
                    <a:lnTo>
                      <a:pt x="2440" y="896"/>
                    </a:lnTo>
                    <a:lnTo>
                      <a:pt x="2432" y="936"/>
                    </a:lnTo>
                    <a:lnTo>
                      <a:pt x="2432" y="976"/>
                    </a:lnTo>
                    <a:lnTo>
                      <a:pt x="2417" y="1037"/>
                    </a:lnTo>
                    <a:lnTo>
                      <a:pt x="2439" y="1075"/>
                    </a:lnTo>
                    <a:lnTo>
                      <a:pt x="2513" y="1080"/>
                    </a:lnTo>
                    <a:lnTo>
                      <a:pt x="2593" y="1064"/>
                    </a:lnTo>
                    <a:lnTo>
                      <a:pt x="2640" y="1104"/>
                    </a:lnTo>
                    <a:lnTo>
                      <a:pt x="2664" y="1128"/>
                    </a:lnTo>
                    <a:lnTo>
                      <a:pt x="2673" y="1149"/>
                    </a:lnTo>
                    <a:lnTo>
                      <a:pt x="2695" y="1181"/>
                    </a:lnTo>
                    <a:lnTo>
                      <a:pt x="2631" y="1213"/>
                    </a:lnTo>
                    <a:lnTo>
                      <a:pt x="2568" y="1232"/>
                    </a:lnTo>
                    <a:lnTo>
                      <a:pt x="2504" y="1208"/>
                    </a:lnTo>
                    <a:lnTo>
                      <a:pt x="2328" y="1200"/>
                    </a:lnTo>
                    <a:lnTo>
                      <a:pt x="2216" y="1200"/>
                    </a:lnTo>
                    <a:lnTo>
                      <a:pt x="2200" y="1248"/>
                    </a:lnTo>
                    <a:lnTo>
                      <a:pt x="2192" y="1312"/>
                    </a:lnTo>
                    <a:lnTo>
                      <a:pt x="2184" y="1392"/>
                    </a:lnTo>
                    <a:lnTo>
                      <a:pt x="2216" y="1456"/>
                    </a:lnTo>
                    <a:lnTo>
                      <a:pt x="2256" y="1464"/>
                    </a:lnTo>
                    <a:lnTo>
                      <a:pt x="2352" y="1472"/>
                    </a:lnTo>
                    <a:lnTo>
                      <a:pt x="2512" y="1488"/>
                    </a:lnTo>
                    <a:lnTo>
                      <a:pt x="2560" y="1456"/>
                    </a:lnTo>
                    <a:lnTo>
                      <a:pt x="2624" y="1456"/>
                    </a:lnTo>
                    <a:lnTo>
                      <a:pt x="2648" y="1512"/>
                    </a:lnTo>
                    <a:lnTo>
                      <a:pt x="2696" y="1552"/>
                    </a:lnTo>
                    <a:lnTo>
                      <a:pt x="2656" y="1648"/>
                    </a:lnTo>
                    <a:lnTo>
                      <a:pt x="2552" y="1720"/>
                    </a:lnTo>
                    <a:lnTo>
                      <a:pt x="2544" y="1776"/>
                    </a:lnTo>
                    <a:lnTo>
                      <a:pt x="2576" y="1816"/>
                    </a:lnTo>
                    <a:lnTo>
                      <a:pt x="2568" y="1840"/>
                    </a:lnTo>
                    <a:lnTo>
                      <a:pt x="2496" y="1880"/>
                    </a:lnTo>
                    <a:lnTo>
                      <a:pt x="2480" y="1936"/>
                    </a:lnTo>
                    <a:lnTo>
                      <a:pt x="2344" y="2040"/>
                    </a:lnTo>
                    <a:lnTo>
                      <a:pt x="2312" y="2040"/>
                    </a:lnTo>
                    <a:lnTo>
                      <a:pt x="2288" y="2048"/>
                    </a:lnTo>
                    <a:lnTo>
                      <a:pt x="2256" y="2032"/>
                    </a:lnTo>
                    <a:lnTo>
                      <a:pt x="2200" y="2040"/>
                    </a:lnTo>
                    <a:lnTo>
                      <a:pt x="2144" y="2016"/>
                    </a:lnTo>
                    <a:lnTo>
                      <a:pt x="1184" y="2016"/>
                    </a:lnTo>
                    <a:lnTo>
                      <a:pt x="1120" y="1856"/>
                    </a:lnTo>
                    <a:lnTo>
                      <a:pt x="1000" y="1768"/>
                    </a:lnTo>
                    <a:lnTo>
                      <a:pt x="936" y="1688"/>
                    </a:lnTo>
                    <a:lnTo>
                      <a:pt x="808" y="1680"/>
                    </a:lnTo>
                    <a:lnTo>
                      <a:pt x="744" y="1680"/>
                    </a:lnTo>
                    <a:lnTo>
                      <a:pt x="656" y="1712"/>
                    </a:lnTo>
                    <a:lnTo>
                      <a:pt x="616" y="1784"/>
                    </a:lnTo>
                    <a:lnTo>
                      <a:pt x="584" y="1888"/>
                    </a:lnTo>
                    <a:lnTo>
                      <a:pt x="520" y="1936"/>
                    </a:lnTo>
                    <a:lnTo>
                      <a:pt x="400" y="1856"/>
                    </a:lnTo>
                    <a:lnTo>
                      <a:pt x="344" y="1832"/>
                    </a:lnTo>
                    <a:lnTo>
                      <a:pt x="216" y="1752"/>
                    </a:lnTo>
                    <a:lnTo>
                      <a:pt x="184" y="1672"/>
                    </a:lnTo>
                    <a:lnTo>
                      <a:pt x="152" y="1576"/>
                    </a:lnTo>
                    <a:lnTo>
                      <a:pt x="112" y="1496"/>
                    </a:lnTo>
                    <a:lnTo>
                      <a:pt x="112" y="1448"/>
                    </a:lnTo>
                    <a:lnTo>
                      <a:pt x="0" y="1384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Freeform 27"/>
              <p:cNvSpPr/>
              <p:nvPr/>
            </p:nvSpPr>
            <p:spPr>
              <a:xfrm>
                <a:off x="5555520" y="1676520"/>
                <a:ext cx="1999800" cy="1443240"/>
              </a:xfrm>
              <a:custGeom>
                <a:avLst/>
                <a:gdLst>
                  <a:gd name="textAreaLeft" fmla="*/ 0 w 1999800"/>
                  <a:gd name="textAreaRight" fmla="*/ 2000160 w 1999800"/>
                  <a:gd name="textAreaTop" fmla="*/ 0 h 1443240"/>
                  <a:gd name="textAreaBottom" fmla="*/ 1443600 h 1443240"/>
                </a:gdLst>
                <a:ahLst/>
                <a:rect l="textAreaLeft" t="textAreaTop" r="textAreaRight" b="textAreaBottom"/>
                <a:pathLst>
                  <a:path w="1662" h="1432">
                    <a:moveTo>
                      <a:pt x="108" y="185"/>
                    </a:moveTo>
                    <a:lnTo>
                      <a:pt x="89" y="173"/>
                    </a:lnTo>
                    <a:lnTo>
                      <a:pt x="96" y="153"/>
                    </a:lnTo>
                    <a:lnTo>
                      <a:pt x="89" y="141"/>
                    </a:lnTo>
                    <a:lnTo>
                      <a:pt x="83" y="128"/>
                    </a:lnTo>
                    <a:lnTo>
                      <a:pt x="70" y="115"/>
                    </a:lnTo>
                    <a:lnTo>
                      <a:pt x="57" y="109"/>
                    </a:lnTo>
                    <a:lnTo>
                      <a:pt x="57" y="102"/>
                    </a:lnTo>
                    <a:lnTo>
                      <a:pt x="38" y="96"/>
                    </a:lnTo>
                    <a:lnTo>
                      <a:pt x="38" y="77"/>
                    </a:lnTo>
                    <a:lnTo>
                      <a:pt x="38" y="58"/>
                    </a:lnTo>
                    <a:lnTo>
                      <a:pt x="25" y="38"/>
                    </a:lnTo>
                    <a:lnTo>
                      <a:pt x="13" y="32"/>
                    </a:lnTo>
                    <a:lnTo>
                      <a:pt x="6" y="19"/>
                    </a:lnTo>
                    <a:lnTo>
                      <a:pt x="0" y="13"/>
                    </a:lnTo>
                    <a:lnTo>
                      <a:pt x="211" y="6"/>
                    </a:lnTo>
                    <a:lnTo>
                      <a:pt x="281" y="13"/>
                    </a:lnTo>
                    <a:lnTo>
                      <a:pt x="499" y="13"/>
                    </a:lnTo>
                    <a:lnTo>
                      <a:pt x="550" y="6"/>
                    </a:lnTo>
                    <a:lnTo>
                      <a:pt x="895" y="6"/>
                    </a:lnTo>
                    <a:lnTo>
                      <a:pt x="953" y="0"/>
                    </a:lnTo>
                    <a:lnTo>
                      <a:pt x="1010" y="6"/>
                    </a:lnTo>
                    <a:lnTo>
                      <a:pt x="1016" y="19"/>
                    </a:lnTo>
                    <a:lnTo>
                      <a:pt x="1036" y="19"/>
                    </a:lnTo>
                    <a:lnTo>
                      <a:pt x="1042" y="38"/>
                    </a:lnTo>
                    <a:lnTo>
                      <a:pt x="1055" y="45"/>
                    </a:lnTo>
                    <a:lnTo>
                      <a:pt x="1061" y="64"/>
                    </a:lnTo>
                    <a:lnTo>
                      <a:pt x="1080" y="77"/>
                    </a:lnTo>
                    <a:lnTo>
                      <a:pt x="1061" y="121"/>
                    </a:lnTo>
                    <a:lnTo>
                      <a:pt x="1061" y="128"/>
                    </a:lnTo>
                    <a:lnTo>
                      <a:pt x="1061" y="147"/>
                    </a:lnTo>
                    <a:lnTo>
                      <a:pt x="1061" y="179"/>
                    </a:lnTo>
                    <a:lnTo>
                      <a:pt x="1074" y="192"/>
                    </a:lnTo>
                    <a:lnTo>
                      <a:pt x="1080" y="211"/>
                    </a:lnTo>
                    <a:lnTo>
                      <a:pt x="1074" y="230"/>
                    </a:lnTo>
                    <a:lnTo>
                      <a:pt x="1093" y="256"/>
                    </a:lnTo>
                    <a:lnTo>
                      <a:pt x="1100" y="268"/>
                    </a:lnTo>
                    <a:lnTo>
                      <a:pt x="1100" y="281"/>
                    </a:lnTo>
                    <a:lnTo>
                      <a:pt x="1106" y="281"/>
                    </a:lnTo>
                    <a:lnTo>
                      <a:pt x="1112" y="294"/>
                    </a:lnTo>
                    <a:lnTo>
                      <a:pt x="1138" y="320"/>
                    </a:lnTo>
                    <a:lnTo>
                      <a:pt x="1144" y="326"/>
                    </a:lnTo>
                    <a:lnTo>
                      <a:pt x="1164" y="358"/>
                    </a:lnTo>
                    <a:lnTo>
                      <a:pt x="1189" y="377"/>
                    </a:lnTo>
                    <a:lnTo>
                      <a:pt x="1202" y="377"/>
                    </a:lnTo>
                    <a:lnTo>
                      <a:pt x="1215" y="384"/>
                    </a:lnTo>
                    <a:lnTo>
                      <a:pt x="1234" y="409"/>
                    </a:lnTo>
                    <a:lnTo>
                      <a:pt x="1253" y="435"/>
                    </a:lnTo>
                    <a:lnTo>
                      <a:pt x="1253" y="460"/>
                    </a:lnTo>
                    <a:lnTo>
                      <a:pt x="1259" y="467"/>
                    </a:lnTo>
                    <a:lnTo>
                      <a:pt x="1253" y="486"/>
                    </a:lnTo>
                    <a:lnTo>
                      <a:pt x="1259" y="505"/>
                    </a:lnTo>
                    <a:lnTo>
                      <a:pt x="1266" y="524"/>
                    </a:lnTo>
                    <a:lnTo>
                      <a:pt x="1266" y="531"/>
                    </a:lnTo>
                    <a:lnTo>
                      <a:pt x="1272" y="537"/>
                    </a:lnTo>
                    <a:lnTo>
                      <a:pt x="1285" y="550"/>
                    </a:lnTo>
                    <a:lnTo>
                      <a:pt x="1298" y="537"/>
                    </a:lnTo>
                    <a:lnTo>
                      <a:pt x="1311" y="524"/>
                    </a:lnTo>
                    <a:lnTo>
                      <a:pt x="1323" y="518"/>
                    </a:lnTo>
                    <a:lnTo>
                      <a:pt x="1330" y="518"/>
                    </a:lnTo>
                    <a:lnTo>
                      <a:pt x="1355" y="524"/>
                    </a:lnTo>
                    <a:lnTo>
                      <a:pt x="1375" y="524"/>
                    </a:lnTo>
                    <a:lnTo>
                      <a:pt x="1400" y="550"/>
                    </a:lnTo>
                    <a:lnTo>
                      <a:pt x="1407" y="563"/>
                    </a:lnTo>
                    <a:lnTo>
                      <a:pt x="1400" y="575"/>
                    </a:lnTo>
                    <a:lnTo>
                      <a:pt x="1394" y="575"/>
                    </a:lnTo>
                    <a:lnTo>
                      <a:pt x="1387" y="582"/>
                    </a:lnTo>
                    <a:lnTo>
                      <a:pt x="1387" y="607"/>
                    </a:lnTo>
                    <a:lnTo>
                      <a:pt x="1394" y="626"/>
                    </a:lnTo>
                    <a:lnTo>
                      <a:pt x="1368" y="652"/>
                    </a:lnTo>
                    <a:lnTo>
                      <a:pt x="1362" y="678"/>
                    </a:lnTo>
                    <a:lnTo>
                      <a:pt x="1343" y="697"/>
                    </a:lnTo>
                    <a:lnTo>
                      <a:pt x="1336" y="710"/>
                    </a:lnTo>
                    <a:lnTo>
                      <a:pt x="1343" y="735"/>
                    </a:lnTo>
                    <a:lnTo>
                      <a:pt x="1343" y="748"/>
                    </a:lnTo>
                    <a:lnTo>
                      <a:pt x="1362" y="754"/>
                    </a:lnTo>
                    <a:lnTo>
                      <a:pt x="1368" y="773"/>
                    </a:lnTo>
                    <a:lnTo>
                      <a:pt x="1387" y="786"/>
                    </a:lnTo>
                    <a:lnTo>
                      <a:pt x="1394" y="786"/>
                    </a:lnTo>
                    <a:lnTo>
                      <a:pt x="1407" y="805"/>
                    </a:lnTo>
                    <a:lnTo>
                      <a:pt x="1438" y="818"/>
                    </a:lnTo>
                    <a:lnTo>
                      <a:pt x="1445" y="818"/>
                    </a:lnTo>
                    <a:lnTo>
                      <a:pt x="1438" y="831"/>
                    </a:lnTo>
                    <a:lnTo>
                      <a:pt x="1458" y="850"/>
                    </a:lnTo>
                    <a:lnTo>
                      <a:pt x="1477" y="844"/>
                    </a:lnTo>
                    <a:lnTo>
                      <a:pt x="1502" y="863"/>
                    </a:lnTo>
                    <a:lnTo>
                      <a:pt x="1515" y="869"/>
                    </a:lnTo>
                    <a:lnTo>
                      <a:pt x="1522" y="889"/>
                    </a:lnTo>
                    <a:lnTo>
                      <a:pt x="1554" y="914"/>
                    </a:lnTo>
                    <a:lnTo>
                      <a:pt x="1554" y="921"/>
                    </a:lnTo>
                    <a:lnTo>
                      <a:pt x="1554" y="940"/>
                    </a:lnTo>
                    <a:lnTo>
                      <a:pt x="1554" y="959"/>
                    </a:lnTo>
                    <a:lnTo>
                      <a:pt x="1573" y="984"/>
                    </a:lnTo>
                    <a:lnTo>
                      <a:pt x="1579" y="1010"/>
                    </a:lnTo>
                    <a:lnTo>
                      <a:pt x="1554" y="1023"/>
                    </a:lnTo>
                    <a:lnTo>
                      <a:pt x="1554" y="1029"/>
                    </a:lnTo>
                    <a:lnTo>
                      <a:pt x="1566" y="1042"/>
                    </a:lnTo>
                    <a:lnTo>
                      <a:pt x="1566" y="1048"/>
                    </a:lnTo>
                    <a:lnTo>
                      <a:pt x="1573" y="1068"/>
                    </a:lnTo>
                    <a:lnTo>
                      <a:pt x="1586" y="1080"/>
                    </a:lnTo>
                    <a:lnTo>
                      <a:pt x="1586" y="1087"/>
                    </a:lnTo>
                    <a:lnTo>
                      <a:pt x="1586" y="1099"/>
                    </a:lnTo>
                    <a:lnTo>
                      <a:pt x="1592" y="1106"/>
                    </a:lnTo>
                    <a:lnTo>
                      <a:pt x="1605" y="1119"/>
                    </a:lnTo>
                    <a:lnTo>
                      <a:pt x="1618" y="1119"/>
                    </a:lnTo>
                    <a:lnTo>
                      <a:pt x="1605" y="1099"/>
                    </a:lnTo>
                    <a:lnTo>
                      <a:pt x="1605" y="1093"/>
                    </a:lnTo>
                    <a:lnTo>
                      <a:pt x="1624" y="1099"/>
                    </a:lnTo>
                    <a:lnTo>
                      <a:pt x="1637" y="1119"/>
                    </a:lnTo>
                    <a:lnTo>
                      <a:pt x="1650" y="1125"/>
                    </a:lnTo>
                    <a:lnTo>
                      <a:pt x="1656" y="1125"/>
                    </a:lnTo>
                    <a:lnTo>
                      <a:pt x="1662" y="1125"/>
                    </a:lnTo>
                    <a:lnTo>
                      <a:pt x="1656" y="1157"/>
                    </a:lnTo>
                    <a:lnTo>
                      <a:pt x="1650" y="1170"/>
                    </a:lnTo>
                    <a:lnTo>
                      <a:pt x="1650" y="1176"/>
                    </a:lnTo>
                    <a:lnTo>
                      <a:pt x="1656" y="1202"/>
                    </a:lnTo>
                    <a:lnTo>
                      <a:pt x="1656" y="1215"/>
                    </a:lnTo>
                    <a:lnTo>
                      <a:pt x="1643" y="1227"/>
                    </a:lnTo>
                    <a:lnTo>
                      <a:pt x="1637" y="1234"/>
                    </a:lnTo>
                    <a:lnTo>
                      <a:pt x="1637" y="1247"/>
                    </a:lnTo>
                    <a:lnTo>
                      <a:pt x="1624" y="1253"/>
                    </a:lnTo>
                    <a:lnTo>
                      <a:pt x="1605" y="1234"/>
                    </a:lnTo>
                    <a:lnTo>
                      <a:pt x="1598" y="1227"/>
                    </a:lnTo>
                    <a:lnTo>
                      <a:pt x="1586" y="1272"/>
                    </a:lnTo>
                    <a:lnTo>
                      <a:pt x="1579" y="1278"/>
                    </a:lnTo>
                    <a:lnTo>
                      <a:pt x="1566" y="1285"/>
                    </a:lnTo>
                    <a:lnTo>
                      <a:pt x="1566" y="1266"/>
                    </a:lnTo>
                    <a:lnTo>
                      <a:pt x="1547" y="1253"/>
                    </a:lnTo>
                    <a:lnTo>
                      <a:pt x="1554" y="1266"/>
                    </a:lnTo>
                    <a:lnTo>
                      <a:pt x="1547" y="1278"/>
                    </a:lnTo>
                    <a:lnTo>
                      <a:pt x="1547" y="1291"/>
                    </a:lnTo>
                    <a:lnTo>
                      <a:pt x="1554" y="1310"/>
                    </a:lnTo>
                    <a:lnTo>
                      <a:pt x="1547" y="1317"/>
                    </a:lnTo>
                    <a:lnTo>
                      <a:pt x="1528" y="1323"/>
                    </a:lnTo>
                    <a:lnTo>
                      <a:pt x="1541" y="1342"/>
                    </a:lnTo>
                    <a:lnTo>
                      <a:pt x="1541" y="1355"/>
                    </a:lnTo>
                    <a:lnTo>
                      <a:pt x="1528" y="1349"/>
                    </a:lnTo>
                    <a:lnTo>
                      <a:pt x="1522" y="1349"/>
                    </a:lnTo>
                    <a:lnTo>
                      <a:pt x="1509" y="1355"/>
                    </a:lnTo>
                    <a:lnTo>
                      <a:pt x="1528" y="1368"/>
                    </a:lnTo>
                    <a:lnTo>
                      <a:pt x="1528" y="1400"/>
                    </a:lnTo>
                    <a:lnTo>
                      <a:pt x="1509" y="1413"/>
                    </a:lnTo>
                    <a:lnTo>
                      <a:pt x="1502" y="1426"/>
                    </a:lnTo>
                    <a:lnTo>
                      <a:pt x="1438" y="1426"/>
                    </a:lnTo>
                    <a:lnTo>
                      <a:pt x="1362" y="1432"/>
                    </a:lnTo>
                    <a:lnTo>
                      <a:pt x="1343" y="1426"/>
                    </a:lnTo>
                    <a:lnTo>
                      <a:pt x="1368" y="1394"/>
                    </a:lnTo>
                    <a:lnTo>
                      <a:pt x="1387" y="1374"/>
                    </a:lnTo>
                    <a:lnTo>
                      <a:pt x="1387" y="1362"/>
                    </a:lnTo>
                    <a:lnTo>
                      <a:pt x="1400" y="1355"/>
                    </a:lnTo>
                    <a:lnTo>
                      <a:pt x="1407" y="1342"/>
                    </a:lnTo>
                    <a:lnTo>
                      <a:pt x="1413" y="1336"/>
                    </a:lnTo>
                    <a:lnTo>
                      <a:pt x="1413" y="1317"/>
                    </a:lnTo>
                    <a:lnTo>
                      <a:pt x="1413" y="1310"/>
                    </a:lnTo>
                    <a:lnTo>
                      <a:pt x="1407" y="1304"/>
                    </a:lnTo>
                    <a:lnTo>
                      <a:pt x="1400" y="1278"/>
                    </a:lnTo>
                    <a:lnTo>
                      <a:pt x="1394" y="1272"/>
                    </a:lnTo>
                    <a:lnTo>
                      <a:pt x="1151" y="1272"/>
                    </a:lnTo>
                    <a:lnTo>
                      <a:pt x="1080" y="1278"/>
                    </a:lnTo>
                    <a:lnTo>
                      <a:pt x="1068" y="1278"/>
                    </a:lnTo>
                    <a:lnTo>
                      <a:pt x="1016" y="1272"/>
                    </a:lnTo>
                    <a:lnTo>
                      <a:pt x="908" y="1278"/>
                    </a:lnTo>
                    <a:lnTo>
                      <a:pt x="895" y="1278"/>
                    </a:lnTo>
                    <a:lnTo>
                      <a:pt x="799" y="1272"/>
                    </a:lnTo>
                    <a:lnTo>
                      <a:pt x="288" y="1272"/>
                    </a:lnTo>
                    <a:lnTo>
                      <a:pt x="281" y="1215"/>
                    </a:lnTo>
                    <a:lnTo>
                      <a:pt x="288" y="1189"/>
                    </a:lnTo>
                    <a:lnTo>
                      <a:pt x="281" y="1112"/>
                    </a:lnTo>
                    <a:lnTo>
                      <a:pt x="281" y="1016"/>
                    </a:lnTo>
                    <a:lnTo>
                      <a:pt x="288" y="1004"/>
                    </a:lnTo>
                    <a:lnTo>
                      <a:pt x="288" y="793"/>
                    </a:lnTo>
                    <a:lnTo>
                      <a:pt x="294" y="690"/>
                    </a:lnTo>
                    <a:lnTo>
                      <a:pt x="288" y="665"/>
                    </a:lnTo>
                    <a:lnTo>
                      <a:pt x="294" y="582"/>
                    </a:lnTo>
                    <a:lnTo>
                      <a:pt x="288" y="550"/>
                    </a:lnTo>
                    <a:lnTo>
                      <a:pt x="294" y="486"/>
                    </a:lnTo>
                    <a:lnTo>
                      <a:pt x="294" y="454"/>
                    </a:lnTo>
                    <a:lnTo>
                      <a:pt x="275" y="441"/>
                    </a:lnTo>
                    <a:lnTo>
                      <a:pt x="256" y="447"/>
                    </a:lnTo>
                    <a:lnTo>
                      <a:pt x="243" y="441"/>
                    </a:lnTo>
                    <a:lnTo>
                      <a:pt x="230" y="416"/>
                    </a:lnTo>
                    <a:lnTo>
                      <a:pt x="224" y="396"/>
                    </a:lnTo>
                    <a:lnTo>
                      <a:pt x="224" y="384"/>
                    </a:lnTo>
                    <a:lnTo>
                      <a:pt x="211" y="377"/>
                    </a:lnTo>
                    <a:lnTo>
                      <a:pt x="192" y="358"/>
                    </a:lnTo>
                    <a:lnTo>
                      <a:pt x="166" y="339"/>
                    </a:lnTo>
                    <a:lnTo>
                      <a:pt x="185" y="294"/>
                    </a:lnTo>
                    <a:lnTo>
                      <a:pt x="204" y="281"/>
                    </a:lnTo>
                    <a:lnTo>
                      <a:pt x="204" y="268"/>
                    </a:lnTo>
                    <a:lnTo>
                      <a:pt x="217" y="275"/>
                    </a:lnTo>
                    <a:lnTo>
                      <a:pt x="224" y="268"/>
                    </a:lnTo>
                    <a:lnTo>
                      <a:pt x="211" y="256"/>
                    </a:lnTo>
                    <a:lnTo>
                      <a:pt x="224" y="256"/>
                    </a:lnTo>
                    <a:lnTo>
                      <a:pt x="224" y="230"/>
                    </a:lnTo>
                    <a:lnTo>
                      <a:pt x="204" y="230"/>
                    </a:lnTo>
                    <a:lnTo>
                      <a:pt x="204" y="217"/>
                    </a:lnTo>
                    <a:lnTo>
                      <a:pt x="185" y="224"/>
                    </a:lnTo>
                    <a:lnTo>
                      <a:pt x="160" y="230"/>
                    </a:lnTo>
                    <a:lnTo>
                      <a:pt x="140" y="211"/>
                    </a:lnTo>
                    <a:lnTo>
                      <a:pt x="128" y="205"/>
                    </a:lnTo>
                    <a:lnTo>
                      <a:pt x="108" y="18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Freeform 28"/>
              <p:cNvSpPr/>
              <p:nvPr/>
            </p:nvSpPr>
            <p:spPr>
              <a:xfrm>
                <a:off x="6795000" y="3421080"/>
                <a:ext cx="1053360" cy="1493640"/>
              </a:xfrm>
              <a:custGeom>
                <a:avLst/>
                <a:gdLst>
                  <a:gd name="textAreaLeft" fmla="*/ 0 w 1053360"/>
                  <a:gd name="textAreaRight" fmla="*/ 1053720 w 1053360"/>
                  <a:gd name="textAreaTop" fmla="*/ 0 h 1493640"/>
                  <a:gd name="textAreaBottom" fmla="*/ 1494000 h 1493640"/>
                </a:gdLst>
                <a:ahLst/>
                <a:rect l="textAreaLeft" t="textAreaTop" r="textAreaRight" b="textAreaBottom"/>
                <a:pathLst>
                  <a:path w="876" h="1483">
                    <a:moveTo>
                      <a:pt x="518" y="1483"/>
                    </a:moveTo>
                    <a:lnTo>
                      <a:pt x="499" y="1471"/>
                    </a:lnTo>
                    <a:lnTo>
                      <a:pt x="493" y="1451"/>
                    </a:lnTo>
                    <a:lnTo>
                      <a:pt x="499" y="1439"/>
                    </a:lnTo>
                    <a:lnTo>
                      <a:pt x="480" y="1400"/>
                    </a:lnTo>
                    <a:lnTo>
                      <a:pt x="454" y="1368"/>
                    </a:lnTo>
                    <a:lnTo>
                      <a:pt x="454" y="1336"/>
                    </a:lnTo>
                    <a:lnTo>
                      <a:pt x="448" y="1324"/>
                    </a:lnTo>
                    <a:lnTo>
                      <a:pt x="454" y="1304"/>
                    </a:lnTo>
                    <a:lnTo>
                      <a:pt x="461" y="1285"/>
                    </a:lnTo>
                    <a:lnTo>
                      <a:pt x="473" y="1247"/>
                    </a:lnTo>
                    <a:lnTo>
                      <a:pt x="467" y="1228"/>
                    </a:lnTo>
                    <a:lnTo>
                      <a:pt x="339" y="1228"/>
                    </a:lnTo>
                    <a:lnTo>
                      <a:pt x="320" y="1234"/>
                    </a:lnTo>
                    <a:lnTo>
                      <a:pt x="19" y="1240"/>
                    </a:lnTo>
                    <a:lnTo>
                      <a:pt x="13" y="1215"/>
                    </a:lnTo>
                    <a:lnTo>
                      <a:pt x="7" y="1196"/>
                    </a:lnTo>
                    <a:lnTo>
                      <a:pt x="7" y="1170"/>
                    </a:lnTo>
                    <a:lnTo>
                      <a:pt x="0" y="1151"/>
                    </a:lnTo>
                    <a:lnTo>
                      <a:pt x="26" y="1151"/>
                    </a:lnTo>
                    <a:lnTo>
                      <a:pt x="26" y="1132"/>
                    </a:lnTo>
                    <a:lnTo>
                      <a:pt x="26" y="1100"/>
                    </a:lnTo>
                    <a:lnTo>
                      <a:pt x="39" y="1106"/>
                    </a:lnTo>
                    <a:lnTo>
                      <a:pt x="32" y="1081"/>
                    </a:lnTo>
                    <a:lnTo>
                      <a:pt x="32" y="1068"/>
                    </a:lnTo>
                    <a:lnTo>
                      <a:pt x="51" y="1061"/>
                    </a:lnTo>
                    <a:lnTo>
                      <a:pt x="32" y="1042"/>
                    </a:lnTo>
                    <a:lnTo>
                      <a:pt x="58" y="1036"/>
                    </a:lnTo>
                    <a:lnTo>
                      <a:pt x="58" y="1017"/>
                    </a:lnTo>
                    <a:lnTo>
                      <a:pt x="71" y="1004"/>
                    </a:lnTo>
                    <a:lnTo>
                      <a:pt x="90" y="998"/>
                    </a:lnTo>
                    <a:lnTo>
                      <a:pt x="77" y="985"/>
                    </a:lnTo>
                    <a:lnTo>
                      <a:pt x="71" y="972"/>
                    </a:lnTo>
                    <a:lnTo>
                      <a:pt x="90" y="972"/>
                    </a:lnTo>
                    <a:lnTo>
                      <a:pt x="103" y="972"/>
                    </a:lnTo>
                    <a:lnTo>
                      <a:pt x="115" y="927"/>
                    </a:lnTo>
                    <a:lnTo>
                      <a:pt x="128" y="921"/>
                    </a:lnTo>
                    <a:lnTo>
                      <a:pt x="128" y="908"/>
                    </a:lnTo>
                    <a:lnTo>
                      <a:pt x="141" y="902"/>
                    </a:lnTo>
                    <a:lnTo>
                      <a:pt x="167" y="870"/>
                    </a:lnTo>
                    <a:lnTo>
                      <a:pt x="154" y="870"/>
                    </a:lnTo>
                    <a:lnTo>
                      <a:pt x="135" y="889"/>
                    </a:lnTo>
                    <a:lnTo>
                      <a:pt x="115" y="882"/>
                    </a:lnTo>
                    <a:lnTo>
                      <a:pt x="115" y="863"/>
                    </a:lnTo>
                    <a:lnTo>
                      <a:pt x="135" y="857"/>
                    </a:lnTo>
                    <a:lnTo>
                      <a:pt x="160" y="857"/>
                    </a:lnTo>
                    <a:lnTo>
                      <a:pt x="167" y="838"/>
                    </a:lnTo>
                    <a:lnTo>
                      <a:pt x="179" y="825"/>
                    </a:lnTo>
                    <a:lnTo>
                      <a:pt x="160" y="812"/>
                    </a:lnTo>
                    <a:lnTo>
                      <a:pt x="154" y="806"/>
                    </a:lnTo>
                    <a:lnTo>
                      <a:pt x="154" y="787"/>
                    </a:lnTo>
                    <a:lnTo>
                      <a:pt x="135" y="780"/>
                    </a:lnTo>
                    <a:lnTo>
                      <a:pt x="128" y="767"/>
                    </a:lnTo>
                    <a:lnTo>
                      <a:pt x="154" y="774"/>
                    </a:lnTo>
                    <a:lnTo>
                      <a:pt x="141" y="755"/>
                    </a:lnTo>
                    <a:lnTo>
                      <a:pt x="154" y="735"/>
                    </a:lnTo>
                    <a:lnTo>
                      <a:pt x="135" y="735"/>
                    </a:lnTo>
                    <a:lnTo>
                      <a:pt x="122" y="735"/>
                    </a:lnTo>
                    <a:lnTo>
                      <a:pt x="122" y="710"/>
                    </a:lnTo>
                    <a:lnTo>
                      <a:pt x="135" y="710"/>
                    </a:lnTo>
                    <a:lnTo>
                      <a:pt x="135" y="691"/>
                    </a:lnTo>
                    <a:lnTo>
                      <a:pt x="115" y="684"/>
                    </a:lnTo>
                    <a:lnTo>
                      <a:pt x="128" y="652"/>
                    </a:lnTo>
                    <a:lnTo>
                      <a:pt x="135" y="633"/>
                    </a:lnTo>
                    <a:lnTo>
                      <a:pt x="128" y="627"/>
                    </a:lnTo>
                    <a:lnTo>
                      <a:pt x="122" y="640"/>
                    </a:lnTo>
                    <a:lnTo>
                      <a:pt x="109" y="640"/>
                    </a:lnTo>
                    <a:lnTo>
                      <a:pt x="109" y="627"/>
                    </a:lnTo>
                    <a:lnTo>
                      <a:pt x="122" y="601"/>
                    </a:lnTo>
                    <a:lnTo>
                      <a:pt x="109" y="576"/>
                    </a:lnTo>
                    <a:lnTo>
                      <a:pt x="128" y="569"/>
                    </a:lnTo>
                    <a:lnTo>
                      <a:pt x="135" y="556"/>
                    </a:lnTo>
                    <a:lnTo>
                      <a:pt x="147" y="537"/>
                    </a:lnTo>
                    <a:lnTo>
                      <a:pt x="135" y="531"/>
                    </a:lnTo>
                    <a:lnTo>
                      <a:pt x="115" y="512"/>
                    </a:lnTo>
                    <a:lnTo>
                      <a:pt x="135" y="493"/>
                    </a:lnTo>
                    <a:lnTo>
                      <a:pt x="135" y="480"/>
                    </a:lnTo>
                    <a:lnTo>
                      <a:pt x="115" y="493"/>
                    </a:lnTo>
                    <a:lnTo>
                      <a:pt x="122" y="467"/>
                    </a:lnTo>
                    <a:lnTo>
                      <a:pt x="109" y="473"/>
                    </a:lnTo>
                    <a:lnTo>
                      <a:pt x="109" y="454"/>
                    </a:lnTo>
                    <a:lnTo>
                      <a:pt x="96" y="441"/>
                    </a:lnTo>
                    <a:lnTo>
                      <a:pt x="115" y="429"/>
                    </a:lnTo>
                    <a:lnTo>
                      <a:pt x="109" y="409"/>
                    </a:lnTo>
                    <a:lnTo>
                      <a:pt x="109" y="390"/>
                    </a:lnTo>
                    <a:lnTo>
                      <a:pt x="128" y="409"/>
                    </a:lnTo>
                    <a:lnTo>
                      <a:pt x="135" y="390"/>
                    </a:lnTo>
                    <a:lnTo>
                      <a:pt x="122" y="384"/>
                    </a:lnTo>
                    <a:lnTo>
                      <a:pt x="141" y="371"/>
                    </a:lnTo>
                    <a:lnTo>
                      <a:pt x="141" y="320"/>
                    </a:lnTo>
                    <a:lnTo>
                      <a:pt x="135" y="301"/>
                    </a:lnTo>
                    <a:lnTo>
                      <a:pt x="160" y="314"/>
                    </a:lnTo>
                    <a:lnTo>
                      <a:pt x="160" y="301"/>
                    </a:lnTo>
                    <a:lnTo>
                      <a:pt x="173" y="288"/>
                    </a:lnTo>
                    <a:lnTo>
                      <a:pt x="160" y="262"/>
                    </a:lnTo>
                    <a:lnTo>
                      <a:pt x="173" y="256"/>
                    </a:lnTo>
                    <a:lnTo>
                      <a:pt x="192" y="262"/>
                    </a:lnTo>
                    <a:lnTo>
                      <a:pt x="179" y="243"/>
                    </a:lnTo>
                    <a:lnTo>
                      <a:pt x="198" y="230"/>
                    </a:lnTo>
                    <a:lnTo>
                      <a:pt x="211" y="218"/>
                    </a:lnTo>
                    <a:lnTo>
                      <a:pt x="224" y="218"/>
                    </a:lnTo>
                    <a:lnTo>
                      <a:pt x="224" y="186"/>
                    </a:lnTo>
                    <a:lnTo>
                      <a:pt x="243" y="186"/>
                    </a:lnTo>
                    <a:lnTo>
                      <a:pt x="262" y="173"/>
                    </a:lnTo>
                    <a:lnTo>
                      <a:pt x="262" y="154"/>
                    </a:lnTo>
                    <a:lnTo>
                      <a:pt x="269" y="135"/>
                    </a:lnTo>
                    <a:lnTo>
                      <a:pt x="262" y="115"/>
                    </a:lnTo>
                    <a:lnTo>
                      <a:pt x="269" y="96"/>
                    </a:lnTo>
                    <a:lnTo>
                      <a:pt x="288" y="103"/>
                    </a:lnTo>
                    <a:lnTo>
                      <a:pt x="288" y="90"/>
                    </a:lnTo>
                    <a:lnTo>
                      <a:pt x="269" y="83"/>
                    </a:lnTo>
                    <a:lnTo>
                      <a:pt x="294" y="77"/>
                    </a:lnTo>
                    <a:lnTo>
                      <a:pt x="301" y="51"/>
                    </a:lnTo>
                    <a:lnTo>
                      <a:pt x="320" y="39"/>
                    </a:lnTo>
                    <a:lnTo>
                      <a:pt x="333" y="32"/>
                    </a:lnTo>
                    <a:lnTo>
                      <a:pt x="346" y="20"/>
                    </a:lnTo>
                    <a:lnTo>
                      <a:pt x="851" y="0"/>
                    </a:lnTo>
                    <a:lnTo>
                      <a:pt x="857" y="20"/>
                    </a:lnTo>
                    <a:lnTo>
                      <a:pt x="876" y="32"/>
                    </a:lnTo>
                    <a:lnTo>
                      <a:pt x="863" y="122"/>
                    </a:lnTo>
                    <a:lnTo>
                      <a:pt x="857" y="167"/>
                    </a:lnTo>
                    <a:lnTo>
                      <a:pt x="857" y="211"/>
                    </a:lnTo>
                    <a:lnTo>
                      <a:pt x="851" y="288"/>
                    </a:lnTo>
                    <a:lnTo>
                      <a:pt x="838" y="390"/>
                    </a:lnTo>
                    <a:lnTo>
                      <a:pt x="832" y="454"/>
                    </a:lnTo>
                    <a:lnTo>
                      <a:pt x="825" y="525"/>
                    </a:lnTo>
                    <a:lnTo>
                      <a:pt x="819" y="620"/>
                    </a:lnTo>
                    <a:lnTo>
                      <a:pt x="819" y="640"/>
                    </a:lnTo>
                    <a:lnTo>
                      <a:pt x="806" y="748"/>
                    </a:lnTo>
                    <a:lnTo>
                      <a:pt x="800" y="831"/>
                    </a:lnTo>
                    <a:lnTo>
                      <a:pt x="800" y="857"/>
                    </a:lnTo>
                    <a:lnTo>
                      <a:pt x="780" y="959"/>
                    </a:lnTo>
                    <a:lnTo>
                      <a:pt x="787" y="1017"/>
                    </a:lnTo>
                    <a:lnTo>
                      <a:pt x="787" y="1100"/>
                    </a:lnTo>
                    <a:lnTo>
                      <a:pt x="800" y="1196"/>
                    </a:lnTo>
                    <a:lnTo>
                      <a:pt x="800" y="1234"/>
                    </a:lnTo>
                    <a:lnTo>
                      <a:pt x="800" y="1311"/>
                    </a:lnTo>
                    <a:lnTo>
                      <a:pt x="806" y="1413"/>
                    </a:lnTo>
                    <a:lnTo>
                      <a:pt x="787" y="1426"/>
                    </a:lnTo>
                    <a:lnTo>
                      <a:pt x="768" y="1432"/>
                    </a:lnTo>
                    <a:lnTo>
                      <a:pt x="761" y="1413"/>
                    </a:lnTo>
                    <a:lnTo>
                      <a:pt x="723" y="1426"/>
                    </a:lnTo>
                    <a:lnTo>
                      <a:pt x="710" y="1426"/>
                    </a:lnTo>
                    <a:lnTo>
                      <a:pt x="704" y="1413"/>
                    </a:lnTo>
                    <a:lnTo>
                      <a:pt x="691" y="1407"/>
                    </a:lnTo>
                    <a:lnTo>
                      <a:pt x="640" y="1413"/>
                    </a:lnTo>
                    <a:lnTo>
                      <a:pt x="608" y="1432"/>
                    </a:lnTo>
                    <a:lnTo>
                      <a:pt x="589" y="1445"/>
                    </a:lnTo>
                    <a:lnTo>
                      <a:pt x="576" y="1426"/>
                    </a:lnTo>
                    <a:lnTo>
                      <a:pt x="563" y="1426"/>
                    </a:lnTo>
                    <a:lnTo>
                      <a:pt x="557" y="1445"/>
                    </a:lnTo>
                    <a:lnTo>
                      <a:pt x="544" y="1464"/>
                    </a:lnTo>
                    <a:lnTo>
                      <a:pt x="518" y="148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Freeform 29"/>
              <p:cNvSpPr/>
              <p:nvPr/>
            </p:nvSpPr>
            <p:spPr>
              <a:xfrm>
                <a:off x="6071760" y="4026600"/>
                <a:ext cx="1493640" cy="1255320"/>
              </a:xfrm>
              <a:custGeom>
                <a:avLst/>
                <a:gdLst>
                  <a:gd name="textAreaLeft" fmla="*/ 0 w 1493640"/>
                  <a:gd name="textAreaRight" fmla="*/ 1494000 w 1493640"/>
                  <a:gd name="textAreaTop" fmla="*/ 0 h 1255320"/>
                  <a:gd name="textAreaBottom" fmla="*/ 1255680 h 1255320"/>
                </a:gdLst>
                <a:ahLst/>
                <a:rect l="textAreaLeft" t="textAreaTop" r="textAreaRight" b="textAreaBottom"/>
                <a:pathLst>
                  <a:path w="1241" h="1247">
                    <a:moveTo>
                      <a:pt x="45" y="1023"/>
                    </a:moveTo>
                    <a:lnTo>
                      <a:pt x="32" y="997"/>
                    </a:lnTo>
                    <a:lnTo>
                      <a:pt x="45" y="978"/>
                    </a:lnTo>
                    <a:lnTo>
                      <a:pt x="71" y="940"/>
                    </a:lnTo>
                    <a:lnTo>
                      <a:pt x="83" y="921"/>
                    </a:lnTo>
                    <a:lnTo>
                      <a:pt x="83" y="895"/>
                    </a:lnTo>
                    <a:lnTo>
                      <a:pt x="71" y="857"/>
                    </a:lnTo>
                    <a:lnTo>
                      <a:pt x="64" y="818"/>
                    </a:lnTo>
                    <a:lnTo>
                      <a:pt x="58" y="793"/>
                    </a:lnTo>
                    <a:lnTo>
                      <a:pt x="58" y="774"/>
                    </a:lnTo>
                    <a:lnTo>
                      <a:pt x="71" y="735"/>
                    </a:lnTo>
                    <a:lnTo>
                      <a:pt x="83" y="710"/>
                    </a:lnTo>
                    <a:lnTo>
                      <a:pt x="96" y="678"/>
                    </a:lnTo>
                    <a:lnTo>
                      <a:pt x="109" y="652"/>
                    </a:lnTo>
                    <a:lnTo>
                      <a:pt x="128" y="627"/>
                    </a:lnTo>
                    <a:lnTo>
                      <a:pt x="102" y="595"/>
                    </a:lnTo>
                    <a:lnTo>
                      <a:pt x="102" y="569"/>
                    </a:lnTo>
                    <a:lnTo>
                      <a:pt x="109" y="563"/>
                    </a:lnTo>
                    <a:lnTo>
                      <a:pt x="96" y="544"/>
                    </a:lnTo>
                    <a:lnTo>
                      <a:pt x="96" y="518"/>
                    </a:lnTo>
                    <a:lnTo>
                      <a:pt x="58" y="486"/>
                    </a:lnTo>
                    <a:lnTo>
                      <a:pt x="45" y="454"/>
                    </a:lnTo>
                    <a:lnTo>
                      <a:pt x="51" y="422"/>
                    </a:lnTo>
                    <a:lnTo>
                      <a:pt x="51" y="384"/>
                    </a:lnTo>
                    <a:lnTo>
                      <a:pt x="45" y="371"/>
                    </a:lnTo>
                    <a:lnTo>
                      <a:pt x="13" y="326"/>
                    </a:lnTo>
                    <a:lnTo>
                      <a:pt x="0" y="262"/>
                    </a:lnTo>
                    <a:lnTo>
                      <a:pt x="0" y="198"/>
                    </a:lnTo>
                    <a:lnTo>
                      <a:pt x="0" y="0"/>
                    </a:lnTo>
                    <a:lnTo>
                      <a:pt x="51" y="7"/>
                    </a:lnTo>
                    <a:lnTo>
                      <a:pt x="262" y="7"/>
                    </a:lnTo>
                    <a:lnTo>
                      <a:pt x="326" y="13"/>
                    </a:lnTo>
                    <a:lnTo>
                      <a:pt x="710" y="13"/>
                    </a:lnTo>
                    <a:lnTo>
                      <a:pt x="704" y="39"/>
                    </a:lnTo>
                    <a:lnTo>
                      <a:pt x="723" y="39"/>
                    </a:lnTo>
                    <a:lnTo>
                      <a:pt x="736" y="32"/>
                    </a:lnTo>
                    <a:lnTo>
                      <a:pt x="716" y="71"/>
                    </a:lnTo>
                    <a:lnTo>
                      <a:pt x="729" y="90"/>
                    </a:lnTo>
                    <a:lnTo>
                      <a:pt x="723" y="109"/>
                    </a:lnTo>
                    <a:lnTo>
                      <a:pt x="723" y="134"/>
                    </a:lnTo>
                    <a:lnTo>
                      <a:pt x="755" y="134"/>
                    </a:lnTo>
                    <a:lnTo>
                      <a:pt x="755" y="166"/>
                    </a:lnTo>
                    <a:lnTo>
                      <a:pt x="736" y="160"/>
                    </a:lnTo>
                    <a:lnTo>
                      <a:pt x="736" y="179"/>
                    </a:lnTo>
                    <a:lnTo>
                      <a:pt x="755" y="205"/>
                    </a:lnTo>
                    <a:lnTo>
                      <a:pt x="774" y="218"/>
                    </a:lnTo>
                    <a:lnTo>
                      <a:pt x="768" y="237"/>
                    </a:lnTo>
                    <a:lnTo>
                      <a:pt x="729" y="256"/>
                    </a:lnTo>
                    <a:lnTo>
                      <a:pt x="716" y="262"/>
                    </a:lnTo>
                    <a:lnTo>
                      <a:pt x="716" y="281"/>
                    </a:lnTo>
                    <a:lnTo>
                      <a:pt x="755" y="275"/>
                    </a:lnTo>
                    <a:lnTo>
                      <a:pt x="768" y="269"/>
                    </a:lnTo>
                    <a:lnTo>
                      <a:pt x="742" y="301"/>
                    </a:lnTo>
                    <a:lnTo>
                      <a:pt x="729" y="301"/>
                    </a:lnTo>
                    <a:lnTo>
                      <a:pt x="716" y="326"/>
                    </a:lnTo>
                    <a:lnTo>
                      <a:pt x="704" y="345"/>
                    </a:lnTo>
                    <a:lnTo>
                      <a:pt x="678" y="371"/>
                    </a:lnTo>
                    <a:lnTo>
                      <a:pt x="665" y="384"/>
                    </a:lnTo>
                    <a:lnTo>
                      <a:pt x="691" y="397"/>
                    </a:lnTo>
                    <a:lnTo>
                      <a:pt x="659" y="409"/>
                    </a:lnTo>
                    <a:lnTo>
                      <a:pt x="659" y="429"/>
                    </a:lnTo>
                    <a:lnTo>
                      <a:pt x="633" y="435"/>
                    </a:lnTo>
                    <a:lnTo>
                      <a:pt x="652" y="441"/>
                    </a:lnTo>
                    <a:lnTo>
                      <a:pt x="627" y="467"/>
                    </a:lnTo>
                    <a:lnTo>
                      <a:pt x="633" y="492"/>
                    </a:lnTo>
                    <a:lnTo>
                      <a:pt x="620" y="518"/>
                    </a:lnTo>
                    <a:lnTo>
                      <a:pt x="627" y="550"/>
                    </a:lnTo>
                    <a:lnTo>
                      <a:pt x="608" y="550"/>
                    </a:lnTo>
                    <a:lnTo>
                      <a:pt x="608" y="569"/>
                    </a:lnTo>
                    <a:lnTo>
                      <a:pt x="608" y="595"/>
                    </a:lnTo>
                    <a:lnTo>
                      <a:pt x="614" y="639"/>
                    </a:lnTo>
                    <a:lnTo>
                      <a:pt x="921" y="633"/>
                    </a:lnTo>
                    <a:lnTo>
                      <a:pt x="934" y="627"/>
                    </a:lnTo>
                    <a:lnTo>
                      <a:pt x="1068" y="627"/>
                    </a:lnTo>
                    <a:lnTo>
                      <a:pt x="1062" y="684"/>
                    </a:lnTo>
                    <a:lnTo>
                      <a:pt x="1049" y="723"/>
                    </a:lnTo>
                    <a:lnTo>
                      <a:pt x="1055" y="767"/>
                    </a:lnTo>
                    <a:lnTo>
                      <a:pt x="1081" y="799"/>
                    </a:lnTo>
                    <a:lnTo>
                      <a:pt x="1094" y="825"/>
                    </a:lnTo>
                    <a:lnTo>
                      <a:pt x="1094" y="850"/>
                    </a:lnTo>
                    <a:lnTo>
                      <a:pt x="1119" y="882"/>
                    </a:lnTo>
                    <a:lnTo>
                      <a:pt x="1100" y="889"/>
                    </a:lnTo>
                    <a:lnTo>
                      <a:pt x="1081" y="882"/>
                    </a:lnTo>
                    <a:lnTo>
                      <a:pt x="1049" y="863"/>
                    </a:lnTo>
                    <a:lnTo>
                      <a:pt x="1030" y="857"/>
                    </a:lnTo>
                    <a:lnTo>
                      <a:pt x="1004" y="857"/>
                    </a:lnTo>
                    <a:lnTo>
                      <a:pt x="998" y="838"/>
                    </a:lnTo>
                    <a:lnTo>
                      <a:pt x="979" y="818"/>
                    </a:lnTo>
                    <a:lnTo>
                      <a:pt x="934" y="825"/>
                    </a:lnTo>
                    <a:lnTo>
                      <a:pt x="895" y="882"/>
                    </a:lnTo>
                    <a:lnTo>
                      <a:pt x="902" y="902"/>
                    </a:lnTo>
                    <a:lnTo>
                      <a:pt x="915" y="914"/>
                    </a:lnTo>
                    <a:lnTo>
                      <a:pt x="934" y="921"/>
                    </a:lnTo>
                    <a:lnTo>
                      <a:pt x="979" y="921"/>
                    </a:lnTo>
                    <a:lnTo>
                      <a:pt x="991" y="921"/>
                    </a:lnTo>
                    <a:lnTo>
                      <a:pt x="1023" y="908"/>
                    </a:lnTo>
                    <a:lnTo>
                      <a:pt x="1042" y="889"/>
                    </a:lnTo>
                    <a:lnTo>
                      <a:pt x="1068" y="889"/>
                    </a:lnTo>
                    <a:lnTo>
                      <a:pt x="1081" y="889"/>
                    </a:lnTo>
                    <a:lnTo>
                      <a:pt x="1087" y="908"/>
                    </a:lnTo>
                    <a:lnTo>
                      <a:pt x="1068" y="927"/>
                    </a:lnTo>
                    <a:lnTo>
                      <a:pt x="1049" y="921"/>
                    </a:lnTo>
                    <a:lnTo>
                      <a:pt x="1049" y="953"/>
                    </a:lnTo>
                    <a:lnTo>
                      <a:pt x="1062" y="953"/>
                    </a:lnTo>
                    <a:lnTo>
                      <a:pt x="1100" y="978"/>
                    </a:lnTo>
                    <a:lnTo>
                      <a:pt x="1106" y="953"/>
                    </a:lnTo>
                    <a:lnTo>
                      <a:pt x="1113" y="934"/>
                    </a:lnTo>
                    <a:lnTo>
                      <a:pt x="1126" y="921"/>
                    </a:lnTo>
                    <a:lnTo>
                      <a:pt x="1170" y="921"/>
                    </a:lnTo>
                    <a:lnTo>
                      <a:pt x="1190" y="895"/>
                    </a:lnTo>
                    <a:lnTo>
                      <a:pt x="1196" y="934"/>
                    </a:lnTo>
                    <a:lnTo>
                      <a:pt x="1202" y="953"/>
                    </a:lnTo>
                    <a:lnTo>
                      <a:pt x="1177" y="978"/>
                    </a:lnTo>
                    <a:lnTo>
                      <a:pt x="1151" y="997"/>
                    </a:lnTo>
                    <a:lnTo>
                      <a:pt x="1145" y="1029"/>
                    </a:lnTo>
                    <a:lnTo>
                      <a:pt x="1119" y="1036"/>
                    </a:lnTo>
                    <a:lnTo>
                      <a:pt x="1100" y="1061"/>
                    </a:lnTo>
                    <a:lnTo>
                      <a:pt x="1100" y="1081"/>
                    </a:lnTo>
                    <a:lnTo>
                      <a:pt x="1113" y="1106"/>
                    </a:lnTo>
                    <a:lnTo>
                      <a:pt x="1151" y="1125"/>
                    </a:lnTo>
                    <a:lnTo>
                      <a:pt x="1170" y="1138"/>
                    </a:lnTo>
                    <a:lnTo>
                      <a:pt x="1183" y="1157"/>
                    </a:lnTo>
                    <a:lnTo>
                      <a:pt x="1202" y="1164"/>
                    </a:lnTo>
                    <a:lnTo>
                      <a:pt x="1215" y="1176"/>
                    </a:lnTo>
                    <a:lnTo>
                      <a:pt x="1241" y="1176"/>
                    </a:lnTo>
                    <a:lnTo>
                      <a:pt x="1228" y="1215"/>
                    </a:lnTo>
                    <a:lnTo>
                      <a:pt x="1209" y="1228"/>
                    </a:lnTo>
                    <a:lnTo>
                      <a:pt x="1215" y="1247"/>
                    </a:lnTo>
                    <a:lnTo>
                      <a:pt x="1190" y="1215"/>
                    </a:lnTo>
                    <a:lnTo>
                      <a:pt x="1170" y="1240"/>
                    </a:lnTo>
                    <a:lnTo>
                      <a:pt x="1151" y="1202"/>
                    </a:lnTo>
                    <a:lnTo>
                      <a:pt x="1132" y="1170"/>
                    </a:lnTo>
                    <a:lnTo>
                      <a:pt x="1106" y="1164"/>
                    </a:lnTo>
                    <a:lnTo>
                      <a:pt x="1094" y="1144"/>
                    </a:lnTo>
                    <a:lnTo>
                      <a:pt x="1068" y="1151"/>
                    </a:lnTo>
                    <a:lnTo>
                      <a:pt x="1049" y="1144"/>
                    </a:lnTo>
                    <a:lnTo>
                      <a:pt x="1049" y="1106"/>
                    </a:lnTo>
                    <a:lnTo>
                      <a:pt x="1017" y="1106"/>
                    </a:lnTo>
                    <a:lnTo>
                      <a:pt x="991" y="1093"/>
                    </a:lnTo>
                    <a:lnTo>
                      <a:pt x="998" y="1113"/>
                    </a:lnTo>
                    <a:lnTo>
                      <a:pt x="991" y="1138"/>
                    </a:lnTo>
                    <a:lnTo>
                      <a:pt x="985" y="1164"/>
                    </a:lnTo>
                    <a:lnTo>
                      <a:pt x="985" y="1189"/>
                    </a:lnTo>
                    <a:lnTo>
                      <a:pt x="953" y="1221"/>
                    </a:lnTo>
                    <a:lnTo>
                      <a:pt x="934" y="1189"/>
                    </a:lnTo>
                    <a:lnTo>
                      <a:pt x="927" y="1164"/>
                    </a:lnTo>
                    <a:lnTo>
                      <a:pt x="908" y="1176"/>
                    </a:lnTo>
                    <a:lnTo>
                      <a:pt x="889" y="1176"/>
                    </a:lnTo>
                    <a:lnTo>
                      <a:pt x="870" y="1157"/>
                    </a:lnTo>
                    <a:lnTo>
                      <a:pt x="851" y="1176"/>
                    </a:lnTo>
                    <a:lnTo>
                      <a:pt x="838" y="1202"/>
                    </a:lnTo>
                    <a:lnTo>
                      <a:pt x="806" y="1215"/>
                    </a:lnTo>
                    <a:lnTo>
                      <a:pt x="774" y="1196"/>
                    </a:lnTo>
                    <a:lnTo>
                      <a:pt x="748" y="1183"/>
                    </a:lnTo>
                    <a:lnTo>
                      <a:pt x="729" y="1176"/>
                    </a:lnTo>
                    <a:lnTo>
                      <a:pt x="729" y="1164"/>
                    </a:lnTo>
                    <a:lnTo>
                      <a:pt x="723" y="1138"/>
                    </a:lnTo>
                    <a:lnTo>
                      <a:pt x="704" y="1125"/>
                    </a:lnTo>
                    <a:lnTo>
                      <a:pt x="691" y="1106"/>
                    </a:lnTo>
                    <a:lnTo>
                      <a:pt x="672" y="1093"/>
                    </a:lnTo>
                    <a:lnTo>
                      <a:pt x="652" y="1081"/>
                    </a:lnTo>
                    <a:lnTo>
                      <a:pt x="620" y="1081"/>
                    </a:lnTo>
                    <a:lnTo>
                      <a:pt x="620" y="1061"/>
                    </a:lnTo>
                    <a:lnTo>
                      <a:pt x="595" y="1055"/>
                    </a:lnTo>
                    <a:lnTo>
                      <a:pt x="595" y="1029"/>
                    </a:lnTo>
                    <a:lnTo>
                      <a:pt x="563" y="1010"/>
                    </a:lnTo>
                    <a:lnTo>
                      <a:pt x="544" y="1023"/>
                    </a:lnTo>
                    <a:lnTo>
                      <a:pt x="544" y="991"/>
                    </a:lnTo>
                    <a:lnTo>
                      <a:pt x="512" y="985"/>
                    </a:lnTo>
                    <a:lnTo>
                      <a:pt x="473" y="1023"/>
                    </a:lnTo>
                    <a:lnTo>
                      <a:pt x="461" y="1017"/>
                    </a:lnTo>
                    <a:lnTo>
                      <a:pt x="480" y="1029"/>
                    </a:lnTo>
                    <a:lnTo>
                      <a:pt x="486" y="1055"/>
                    </a:lnTo>
                    <a:lnTo>
                      <a:pt x="461" y="1068"/>
                    </a:lnTo>
                    <a:lnTo>
                      <a:pt x="435" y="1074"/>
                    </a:lnTo>
                    <a:lnTo>
                      <a:pt x="390" y="1068"/>
                    </a:lnTo>
                    <a:lnTo>
                      <a:pt x="358" y="1068"/>
                    </a:lnTo>
                    <a:lnTo>
                      <a:pt x="307" y="1049"/>
                    </a:lnTo>
                    <a:lnTo>
                      <a:pt x="262" y="1023"/>
                    </a:lnTo>
                    <a:lnTo>
                      <a:pt x="243" y="1010"/>
                    </a:lnTo>
                    <a:lnTo>
                      <a:pt x="224" y="997"/>
                    </a:lnTo>
                    <a:lnTo>
                      <a:pt x="198" y="997"/>
                    </a:lnTo>
                    <a:lnTo>
                      <a:pt x="186" y="1004"/>
                    </a:lnTo>
                    <a:lnTo>
                      <a:pt x="166" y="1004"/>
                    </a:lnTo>
                    <a:lnTo>
                      <a:pt x="96" y="1004"/>
                    </a:lnTo>
                    <a:lnTo>
                      <a:pt x="45" y="102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Freeform 30"/>
              <p:cNvSpPr/>
              <p:nvPr/>
            </p:nvSpPr>
            <p:spPr>
              <a:xfrm>
                <a:off x="1600200" y="2804040"/>
                <a:ext cx="1798920" cy="1757520"/>
              </a:xfrm>
              <a:custGeom>
                <a:avLst/>
                <a:gdLst>
                  <a:gd name="textAreaLeft" fmla="*/ 0 w 1798920"/>
                  <a:gd name="textAreaRight" fmla="*/ 1799280 w 1798920"/>
                  <a:gd name="textAreaTop" fmla="*/ 0 h 1757520"/>
                  <a:gd name="textAreaBottom" fmla="*/ 1757880 h 1757520"/>
                </a:gdLst>
                <a:ahLst/>
                <a:rect l="textAreaLeft" t="textAreaTop" r="textAreaRight" b="textAreaBottom"/>
                <a:pathLst>
                  <a:path w="1496" h="1745">
                    <a:moveTo>
                      <a:pt x="0" y="1738"/>
                    </a:moveTo>
                    <a:lnTo>
                      <a:pt x="0" y="990"/>
                    </a:lnTo>
                    <a:lnTo>
                      <a:pt x="0" y="741"/>
                    </a:lnTo>
                    <a:lnTo>
                      <a:pt x="0" y="0"/>
                    </a:lnTo>
                    <a:lnTo>
                      <a:pt x="1496" y="0"/>
                    </a:lnTo>
                    <a:lnTo>
                      <a:pt x="1496" y="153"/>
                    </a:lnTo>
                    <a:lnTo>
                      <a:pt x="1490" y="153"/>
                    </a:lnTo>
                    <a:lnTo>
                      <a:pt x="1490" y="690"/>
                    </a:lnTo>
                    <a:lnTo>
                      <a:pt x="1490" y="831"/>
                    </a:lnTo>
                    <a:lnTo>
                      <a:pt x="1490" y="1106"/>
                    </a:lnTo>
                    <a:lnTo>
                      <a:pt x="1484" y="1246"/>
                    </a:lnTo>
                    <a:lnTo>
                      <a:pt x="1484" y="1540"/>
                    </a:lnTo>
                    <a:lnTo>
                      <a:pt x="601" y="1540"/>
                    </a:lnTo>
                    <a:lnTo>
                      <a:pt x="595" y="1547"/>
                    </a:lnTo>
                    <a:lnTo>
                      <a:pt x="595" y="1579"/>
                    </a:lnTo>
                    <a:lnTo>
                      <a:pt x="608" y="1591"/>
                    </a:lnTo>
                    <a:lnTo>
                      <a:pt x="620" y="1611"/>
                    </a:lnTo>
                    <a:lnTo>
                      <a:pt x="435" y="1598"/>
                    </a:lnTo>
                    <a:lnTo>
                      <a:pt x="205" y="1598"/>
                    </a:lnTo>
                    <a:lnTo>
                      <a:pt x="205" y="1738"/>
                    </a:lnTo>
                    <a:lnTo>
                      <a:pt x="134" y="1745"/>
                    </a:lnTo>
                    <a:lnTo>
                      <a:pt x="38" y="1745"/>
                    </a:lnTo>
                    <a:lnTo>
                      <a:pt x="0" y="173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Freeform 31"/>
              <p:cNvSpPr/>
              <p:nvPr/>
            </p:nvSpPr>
            <p:spPr>
              <a:xfrm>
                <a:off x="3684600" y="1862640"/>
                <a:ext cx="2232000" cy="941040"/>
              </a:xfrm>
              <a:custGeom>
                <a:avLst/>
                <a:gdLst>
                  <a:gd name="textAreaLeft" fmla="*/ 0 w 2232000"/>
                  <a:gd name="textAreaRight" fmla="*/ 2232360 w 2232000"/>
                  <a:gd name="textAreaTop" fmla="*/ 0 h 941040"/>
                  <a:gd name="textAreaBottom" fmla="*/ 941400 h 941040"/>
                </a:gdLst>
                <a:ahLst/>
                <a:rect l="textAreaLeft" t="textAreaTop" r="textAreaRight" b="textAreaBottom"/>
                <a:pathLst>
                  <a:path w="1854" h="934">
                    <a:moveTo>
                      <a:pt x="0" y="7"/>
                    </a:moveTo>
                    <a:lnTo>
                      <a:pt x="601" y="7"/>
                    </a:lnTo>
                    <a:lnTo>
                      <a:pt x="716" y="7"/>
                    </a:lnTo>
                    <a:lnTo>
                      <a:pt x="742" y="7"/>
                    </a:lnTo>
                    <a:lnTo>
                      <a:pt x="1662" y="7"/>
                    </a:lnTo>
                    <a:lnTo>
                      <a:pt x="1669" y="0"/>
                    </a:lnTo>
                    <a:lnTo>
                      <a:pt x="1688" y="13"/>
                    </a:lnTo>
                    <a:lnTo>
                      <a:pt x="1694" y="26"/>
                    </a:lnTo>
                    <a:lnTo>
                      <a:pt x="1720" y="45"/>
                    </a:lnTo>
                    <a:lnTo>
                      <a:pt x="1739" y="39"/>
                    </a:lnTo>
                    <a:lnTo>
                      <a:pt x="1758" y="32"/>
                    </a:lnTo>
                    <a:lnTo>
                      <a:pt x="1765" y="45"/>
                    </a:lnTo>
                    <a:lnTo>
                      <a:pt x="1778" y="45"/>
                    </a:lnTo>
                    <a:lnTo>
                      <a:pt x="1778" y="71"/>
                    </a:lnTo>
                    <a:lnTo>
                      <a:pt x="1771" y="71"/>
                    </a:lnTo>
                    <a:lnTo>
                      <a:pt x="1784" y="83"/>
                    </a:lnTo>
                    <a:lnTo>
                      <a:pt x="1771" y="83"/>
                    </a:lnTo>
                    <a:lnTo>
                      <a:pt x="1758" y="83"/>
                    </a:lnTo>
                    <a:lnTo>
                      <a:pt x="1758" y="96"/>
                    </a:lnTo>
                    <a:lnTo>
                      <a:pt x="1739" y="109"/>
                    </a:lnTo>
                    <a:lnTo>
                      <a:pt x="1733" y="128"/>
                    </a:lnTo>
                    <a:lnTo>
                      <a:pt x="1720" y="141"/>
                    </a:lnTo>
                    <a:lnTo>
                      <a:pt x="1720" y="147"/>
                    </a:lnTo>
                    <a:lnTo>
                      <a:pt x="1752" y="173"/>
                    </a:lnTo>
                    <a:lnTo>
                      <a:pt x="1765" y="192"/>
                    </a:lnTo>
                    <a:lnTo>
                      <a:pt x="1778" y="192"/>
                    </a:lnTo>
                    <a:lnTo>
                      <a:pt x="1778" y="211"/>
                    </a:lnTo>
                    <a:lnTo>
                      <a:pt x="1784" y="231"/>
                    </a:lnTo>
                    <a:lnTo>
                      <a:pt x="1797" y="250"/>
                    </a:lnTo>
                    <a:lnTo>
                      <a:pt x="1810" y="256"/>
                    </a:lnTo>
                    <a:lnTo>
                      <a:pt x="1816" y="262"/>
                    </a:lnTo>
                    <a:lnTo>
                      <a:pt x="1835" y="256"/>
                    </a:lnTo>
                    <a:lnTo>
                      <a:pt x="1848" y="269"/>
                    </a:lnTo>
                    <a:lnTo>
                      <a:pt x="1854" y="275"/>
                    </a:lnTo>
                    <a:lnTo>
                      <a:pt x="1848" y="301"/>
                    </a:lnTo>
                    <a:lnTo>
                      <a:pt x="1842" y="365"/>
                    </a:lnTo>
                    <a:lnTo>
                      <a:pt x="1848" y="397"/>
                    </a:lnTo>
                    <a:lnTo>
                      <a:pt x="1842" y="480"/>
                    </a:lnTo>
                    <a:lnTo>
                      <a:pt x="1848" y="505"/>
                    </a:lnTo>
                    <a:lnTo>
                      <a:pt x="1842" y="614"/>
                    </a:lnTo>
                    <a:lnTo>
                      <a:pt x="1842" y="819"/>
                    </a:lnTo>
                    <a:lnTo>
                      <a:pt x="1842" y="825"/>
                    </a:lnTo>
                    <a:lnTo>
                      <a:pt x="1842" y="934"/>
                    </a:lnTo>
                    <a:lnTo>
                      <a:pt x="1643" y="934"/>
                    </a:lnTo>
                    <a:lnTo>
                      <a:pt x="1618" y="921"/>
                    </a:lnTo>
                    <a:lnTo>
                      <a:pt x="1554" y="934"/>
                    </a:lnTo>
                    <a:lnTo>
                      <a:pt x="1368" y="934"/>
                    </a:lnTo>
                    <a:lnTo>
                      <a:pt x="1324" y="934"/>
                    </a:lnTo>
                    <a:lnTo>
                      <a:pt x="1215" y="934"/>
                    </a:lnTo>
                    <a:lnTo>
                      <a:pt x="1145" y="934"/>
                    </a:lnTo>
                    <a:lnTo>
                      <a:pt x="1055" y="934"/>
                    </a:lnTo>
                    <a:lnTo>
                      <a:pt x="876" y="934"/>
                    </a:lnTo>
                    <a:lnTo>
                      <a:pt x="754" y="934"/>
                    </a:lnTo>
                    <a:lnTo>
                      <a:pt x="639" y="934"/>
                    </a:lnTo>
                    <a:lnTo>
                      <a:pt x="505" y="934"/>
                    </a:lnTo>
                    <a:lnTo>
                      <a:pt x="492" y="934"/>
                    </a:lnTo>
                    <a:lnTo>
                      <a:pt x="358" y="934"/>
                    </a:lnTo>
                    <a:lnTo>
                      <a:pt x="243" y="934"/>
                    </a:lnTo>
                    <a:lnTo>
                      <a:pt x="128" y="934"/>
                    </a:lnTo>
                    <a:lnTo>
                      <a:pt x="13" y="934"/>
                    </a:lnTo>
                    <a:lnTo>
                      <a:pt x="6" y="934"/>
                    </a:lnTo>
                    <a:lnTo>
                      <a:pt x="6" y="704"/>
                    </a:lnTo>
                    <a:lnTo>
                      <a:pt x="0" y="544"/>
                    </a:lnTo>
                    <a:lnTo>
                      <a:pt x="0" y="435"/>
                    </a:lnTo>
                    <a:lnTo>
                      <a:pt x="6" y="409"/>
                    </a:lnTo>
                    <a:lnTo>
                      <a:pt x="0" y="301"/>
                    </a:lnTo>
                    <a:lnTo>
                      <a:pt x="0" y="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Freeform 34"/>
              <p:cNvSpPr/>
              <p:nvPr/>
            </p:nvSpPr>
            <p:spPr>
              <a:xfrm>
                <a:off x="6795000" y="3427920"/>
                <a:ext cx="1053360" cy="1486800"/>
              </a:xfrm>
              <a:custGeom>
                <a:avLst/>
                <a:gdLst>
                  <a:gd name="textAreaLeft" fmla="*/ 0 w 1053360"/>
                  <a:gd name="textAreaRight" fmla="*/ 1053720 w 1053360"/>
                  <a:gd name="textAreaTop" fmla="*/ 0 h 1486800"/>
                  <a:gd name="textAreaBottom" fmla="*/ 1487160 h 1486800"/>
                </a:gdLst>
                <a:ahLst/>
                <a:rect l="textAreaLeft" t="textAreaTop" r="textAreaRight" b="textAreaBottom"/>
                <a:pathLst>
                  <a:path w="876" h="1476">
                    <a:moveTo>
                      <a:pt x="518" y="1476"/>
                    </a:moveTo>
                    <a:lnTo>
                      <a:pt x="499" y="1470"/>
                    </a:lnTo>
                    <a:lnTo>
                      <a:pt x="493" y="1451"/>
                    </a:lnTo>
                    <a:lnTo>
                      <a:pt x="499" y="1432"/>
                    </a:lnTo>
                    <a:lnTo>
                      <a:pt x="480" y="1400"/>
                    </a:lnTo>
                    <a:lnTo>
                      <a:pt x="454" y="1368"/>
                    </a:lnTo>
                    <a:lnTo>
                      <a:pt x="454" y="1336"/>
                    </a:lnTo>
                    <a:lnTo>
                      <a:pt x="448" y="1317"/>
                    </a:lnTo>
                    <a:lnTo>
                      <a:pt x="454" y="1297"/>
                    </a:lnTo>
                    <a:lnTo>
                      <a:pt x="461" y="1285"/>
                    </a:lnTo>
                    <a:lnTo>
                      <a:pt x="473" y="1240"/>
                    </a:lnTo>
                    <a:lnTo>
                      <a:pt x="467" y="1227"/>
                    </a:lnTo>
                    <a:lnTo>
                      <a:pt x="339" y="1227"/>
                    </a:lnTo>
                    <a:lnTo>
                      <a:pt x="320" y="1233"/>
                    </a:lnTo>
                    <a:lnTo>
                      <a:pt x="7" y="1233"/>
                    </a:lnTo>
                    <a:lnTo>
                      <a:pt x="13" y="1208"/>
                    </a:lnTo>
                    <a:lnTo>
                      <a:pt x="7" y="1189"/>
                    </a:lnTo>
                    <a:lnTo>
                      <a:pt x="7" y="1163"/>
                    </a:lnTo>
                    <a:lnTo>
                      <a:pt x="0" y="1150"/>
                    </a:lnTo>
                    <a:lnTo>
                      <a:pt x="26" y="1144"/>
                    </a:lnTo>
                    <a:lnTo>
                      <a:pt x="26" y="1125"/>
                    </a:lnTo>
                    <a:lnTo>
                      <a:pt x="26" y="1099"/>
                    </a:lnTo>
                    <a:lnTo>
                      <a:pt x="39" y="1106"/>
                    </a:lnTo>
                    <a:lnTo>
                      <a:pt x="32" y="1080"/>
                    </a:lnTo>
                    <a:lnTo>
                      <a:pt x="32" y="1061"/>
                    </a:lnTo>
                    <a:lnTo>
                      <a:pt x="51" y="1054"/>
                    </a:lnTo>
                    <a:lnTo>
                      <a:pt x="32" y="1042"/>
                    </a:lnTo>
                    <a:lnTo>
                      <a:pt x="58" y="1029"/>
                    </a:lnTo>
                    <a:lnTo>
                      <a:pt x="58" y="1016"/>
                    </a:lnTo>
                    <a:lnTo>
                      <a:pt x="71" y="997"/>
                    </a:lnTo>
                    <a:lnTo>
                      <a:pt x="90" y="997"/>
                    </a:lnTo>
                    <a:lnTo>
                      <a:pt x="77" y="984"/>
                    </a:lnTo>
                    <a:lnTo>
                      <a:pt x="71" y="971"/>
                    </a:lnTo>
                    <a:lnTo>
                      <a:pt x="90" y="965"/>
                    </a:lnTo>
                    <a:lnTo>
                      <a:pt x="103" y="971"/>
                    </a:lnTo>
                    <a:lnTo>
                      <a:pt x="115" y="920"/>
                    </a:lnTo>
                    <a:lnTo>
                      <a:pt x="128" y="920"/>
                    </a:lnTo>
                    <a:lnTo>
                      <a:pt x="128" y="901"/>
                    </a:lnTo>
                    <a:lnTo>
                      <a:pt x="141" y="895"/>
                    </a:lnTo>
                    <a:lnTo>
                      <a:pt x="167" y="863"/>
                    </a:lnTo>
                    <a:lnTo>
                      <a:pt x="154" y="863"/>
                    </a:lnTo>
                    <a:lnTo>
                      <a:pt x="135" y="882"/>
                    </a:lnTo>
                    <a:lnTo>
                      <a:pt x="115" y="875"/>
                    </a:lnTo>
                    <a:lnTo>
                      <a:pt x="115" y="856"/>
                    </a:lnTo>
                    <a:lnTo>
                      <a:pt x="135" y="850"/>
                    </a:lnTo>
                    <a:lnTo>
                      <a:pt x="160" y="850"/>
                    </a:lnTo>
                    <a:lnTo>
                      <a:pt x="167" y="837"/>
                    </a:lnTo>
                    <a:lnTo>
                      <a:pt x="179" y="818"/>
                    </a:lnTo>
                    <a:lnTo>
                      <a:pt x="160" y="812"/>
                    </a:lnTo>
                    <a:lnTo>
                      <a:pt x="154" y="799"/>
                    </a:lnTo>
                    <a:lnTo>
                      <a:pt x="154" y="786"/>
                    </a:lnTo>
                    <a:lnTo>
                      <a:pt x="135" y="780"/>
                    </a:lnTo>
                    <a:lnTo>
                      <a:pt x="128" y="767"/>
                    </a:lnTo>
                    <a:lnTo>
                      <a:pt x="154" y="767"/>
                    </a:lnTo>
                    <a:lnTo>
                      <a:pt x="141" y="748"/>
                    </a:lnTo>
                    <a:lnTo>
                      <a:pt x="154" y="728"/>
                    </a:lnTo>
                    <a:lnTo>
                      <a:pt x="135" y="728"/>
                    </a:lnTo>
                    <a:lnTo>
                      <a:pt x="122" y="728"/>
                    </a:lnTo>
                    <a:lnTo>
                      <a:pt x="122" y="709"/>
                    </a:lnTo>
                    <a:lnTo>
                      <a:pt x="135" y="703"/>
                    </a:lnTo>
                    <a:lnTo>
                      <a:pt x="135" y="684"/>
                    </a:lnTo>
                    <a:lnTo>
                      <a:pt x="115" y="677"/>
                    </a:lnTo>
                    <a:lnTo>
                      <a:pt x="128" y="645"/>
                    </a:lnTo>
                    <a:lnTo>
                      <a:pt x="135" y="633"/>
                    </a:lnTo>
                    <a:lnTo>
                      <a:pt x="128" y="626"/>
                    </a:lnTo>
                    <a:lnTo>
                      <a:pt x="122" y="639"/>
                    </a:lnTo>
                    <a:lnTo>
                      <a:pt x="109" y="639"/>
                    </a:lnTo>
                    <a:lnTo>
                      <a:pt x="109" y="620"/>
                    </a:lnTo>
                    <a:lnTo>
                      <a:pt x="122" y="601"/>
                    </a:lnTo>
                    <a:lnTo>
                      <a:pt x="109" y="575"/>
                    </a:lnTo>
                    <a:lnTo>
                      <a:pt x="128" y="569"/>
                    </a:lnTo>
                    <a:lnTo>
                      <a:pt x="135" y="556"/>
                    </a:lnTo>
                    <a:lnTo>
                      <a:pt x="147" y="530"/>
                    </a:lnTo>
                    <a:lnTo>
                      <a:pt x="135" y="524"/>
                    </a:lnTo>
                    <a:lnTo>
                      <a:pt x="115" y="511"/>
                    </a:lnTo>
                    <a:lnTo>
                      <a:pt x="135" y="492"/>
                    </a:lnTo>
                    <a:lnTo>
                      <a:pt x="135" y="473"/>
                    </a:lnTo>
                    <a:lnTo>
                      <a:pt x="115" y="492"/>
                    </a:lnTo>
                    <a:lnTo>
                      <a:pt x="122" y="466"/>
                    </a:lnTo>
                    <a:lnTo>
                      <a:pt x="109" y="466"/>
                    </a:lnTo>
                    <a:lnTo>
                      <a:pt x="109" y="447"/>
                    </a:lnTo>
                    <a:lnTo>
                      <a:pt x="96" y="434"/>
                    </a:lnTo>
                    <a:lnTo>
                      <a:pt x="115" y="422"/>
                    </a:lnTo>
                    <a:lnTo>
                      <a:pt x="109" y="402"/>
                    </a:lnTo>
                    <a:lnTo>
                      <a:pt x="109" y="390"/>
                    </a:lnTo>
                    <a:lnTo>
                      <a:pt x="128" y="402"/>
                    </a:lnTo>
                    <a:lnTo>
                      <a:pt x="135" y="390"/>
                    </a:lnTo>
                    <a:lnTo>
                      <a:pt x="122" y="377"/>
                    </a:lnTo>
                    <a:lnTo>
                      <a:pt x="141" y="364"/>
                    </a:lnTo>
                    <a:lnTo>
                      <a:pt x="141" y="319"/>
                    </a:lnTo>
                    <a:lnTo>
                      <a:pt x="135" y="300"/>
                    </a:lnTo>
                    <a:lnTo>
                      <a:pt x="160" y="313"/>
                    </a:lnTo>
                    <a:lnTo>
                      <a:pt x="160" y="294"/>
                    </a:lnTo>
                    <a:lnTo>
                      <a:pt x="173" y="281"/>
                    </a:lnTo>
                    <a:lnTo>
                      <a:pt x="160" y="255"/>
                    </a:lnTo>
                    <a:lnTo>
                      <a:pt x="173" y="249"/>
                    </a:lnTo>
                    <a:lnTo>
                      <a:pt x="192" y="255"/>
                    </a:lnTo>
                    <a:lnTo>
                      <a:pt x="179" y="236"/>
                    </a:lnTo>
                    <a:lnTo>
                      <a:pt x="198" y="230"/>
                    </a:lnTo>
                    <a:lnTo>
                      <a:pt x="211" y="211"/>
                    </a:lnTo>
                    <a:lnTo>
                      <a:pt x="224" y="211"/>
                    </a:lnTo>
                    <a:lnTo>
                      <a:pt x="224" y="185"/>
                    </a:lnTo>
                    <a:lnTo>
                      <a:pt x="243" y="185"/>
                    </a:lnTo>
                    <a:lnTo>
                      <a:pt x="262" y="172"/>
                    </a:lnTo>
                    <a:lnTo>
                      <a:pt x="262" y="147"/>
                    </a:lnTo>
                    <a:lnTo>
                      <a:pt x="269" y="128"/>
                    </a:lnTo>
                    <a:lnTo>
                      <a:pt x="262" y="108"/>
                    </a:lnTo>
                    <a:lnTo>
                      <a:pt x="269" y="96"/>
                    </a:lnTo>
                    <a:lnTo>
                      <a:pt x="288" y="96"/>
                    </a:lnTo>
                    <a:lnTo>
                      <a:pt x="288" y="83"/>
                    </a:lnTo>
                    <a:lnTo>
                      <a:pt x="269" y="76"/>
                    </a:lnTo>
                    <a:lnTo>
                      <a:pt x="294" y="70"/>
                    </a:lnTo>
                    <a:lnTo>
                      <a:pt x="301" y="51"/>
                    </a:lnTo>
                    <a:lnTo>
                      <a:pt x="320" y="38"/>
                    </a:lnTo>
                    <a:lnTo>
                      <a:pt x="333" y="25"/>
                    </a:lnTo>
                    <a:lnTo>
                      <a:pt x="346" y="13"/>
                    </a:lnTo>
                    <a:lnTo>
                      <a:pt x="851" y="0"/>
                    </a:lnTo>
                    <a:lnTo>
                      <a:pt x="857" y="13"/>
                    </a:lnTo>
                    <a:lnTo>
                      <a:pt x="876" y="25"/>
                    </a:lnTo>
                    <a:lnTo>
                      <a:pt x="863" y="121"/>
                    </a:lnTo>
                    <a:lnTo>
                      <a:pt x="857" y="160"/>
                    </a:lnTo>
                    <a:lnTo>
                      <a:pt x="857" y="204"/>
                    </a:lnTo>
                    <a:lnTo>
                      <a:pt x="851" y="281"/>
                    </a:lnTo>
                    <a:lnTo>
                      <a:pt x="838" y="390"/>
                    </a:lnTo>
                    <a:lnTo>
                      <a:pt x="832" y="447"/>
                    </a:lnTo>
                    <a:lnTo>
                      <a:pt x="825" y="524"/>
                    </a:lnTo>
                    <a:lnTo>
                      <a:pt x="819" y="613"/>
                    </a:lnTo>
                    <a:lnTo>
                      <a:pt x="819" y="633"/>
                    </a:lnTo>
                    <a:lnTo>
                      <a:pt x="806" y="741"/>
                    </a:lnTo>
                    <a:lnTo>
                      <a:pt x="800" y="824"/>
                    </a:lnTo>
                    <a:lnTo>
                      <a:pt x="800" y="850"/>
                    </a:lnTo>
                    <a:lnTo>
                      <a:pt x="780" y="952"/>
                    </a:lnTo>
                    <a:lnTo>
                      <a:pt x="787" y="1016"/>
                    </a:lnTo>
                    <a:lnTo>
                      <a:pt x="787" y="1099"/>
                    </a:lnTo>
                    <a:lnTo>
                      <a:pt x="800" y="1189"/>
                    </a:lnTo>
                    <a:lnTo>
                      <a:pt x="800" y="1233"/>
                    </a:lnTo>
                    <a:lnTo>
                      <a:pt x="800" y="1304"/>
                    </a:lnTo>
                    <a:lnTo>
                      <a:pt x="806" y="1412"/>
                    </a:lnTo>
                    <a:lnTo>
                      <a:pt x="787" y="1419"/>
                    </a:lnTo>
                    <a:lnTo>
                      <a:pt x="768" y="1425"/>
                    </a:lnTo>
                    <a:lnTo>
                      <a:pt x="761" y="1406"/>
                    </a:lnTo>
                    <a:lnTo>
                      <a:pt x="723" y="1419"/>
                    </a:lnTo>
                    <a:lnTo>
                      <a:pt x="710" y="1419"/>
                    </a:lnTo>
                    <a:lnTo>
                      <a:pt x="704" y="1406"/>
                    </a:lnTo>
                    <a:lnTo>
                      <a:pt x="691" y="1400"/>
                    </a:lnTo>
                    <a:lnTo>
                      <a:pt x="640" y="1412"/>
                    </a:lnTo>
                    <a:lnTo>
                      <a:pt x="608" y="1425"/>
                    </a:lnTo>
                    <a:lnTo>
                      <a:pt x="589" y="1438"/>
                    </a:lnTo>
                    <a:lnTo>
                      <a:pt x="576" y="1419"/>
                    </a:lnTo>
                    <a:lnTo>
                      <a:pt x="563" y="1419"/>
                    </a:lnTo>
                    <a:lnTo>
                      <a:pt x="557" y="1444"/>
                    </a:lnTo>
                    <a:lnTo>
                      <a:pt x="544" y="1464"/>
                    </a:lnTo>
                    <a:lnTo>
                      <a:pt x="518" y="147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Freeform 35"/>
              <p:cNvSpPr/>
              <p:nvPr/>
            </p:nvSpPr>
            <p:spPr>
              <a:xfrm>
                <a:off x="5417640" y="5019120"/>
                <a:ext cx="459720" cy="404640"/>
              </a:xfrm>
              <a:custGeom>
                <a:avLst/>
                <a:gdLst>
                  <a:gd name="textAreaLeft" fmla="*/ 0 w 459720"/>
                  <a:gd name="textAreaRight" fmla="*/ 460080 w 459720"/>
                  <a:gd name="textAreaTop" fmla="*/ 0 h 404640"/>
                  <a:gd name="textAreaBottom" fmla="*/ 405000 h 404640"/>
                </a:gdLst>
                <a:ahLst/>
                <a:rect l="textAreaLeft" t="textAreaTop" r="textAreaRight" b="textAreaBottom"/>
                <a:pathLst>
                  <a:path w="383" h="402">
                    <a:moveTo>
                      <a:pt x="383" y="25"/>
                    </a:moveTo>
                    <a:lnTo>
                      <a:pt x="345" y="57"/>
                    </a:lnTo>
                    <a:lnTo>
                      <a:pt x="326" y="89"/>
                    </a:lnTo>
                    <a:lnTo>
                      <a:pt x="351" y="153"/>
                    </a:lnTo>
                    <a:lnTo>
                      <a:pt x="345" y="172"/>
                    </a:lnTo>
                    <a:lnTo>
                      <a:pt x="268" y="230"/>
                    </a:lnTo>
                    <a:lnTo>
                      <a:pt x="255" y="268"/>
                    </a:lnTo>
                    <a:lnTo>
                      <a:pt x="249" y="275"/>
                    </a:lnTo>
                    <a:lnTo>
                      <a:pt x="89" y="396"/>
                    </a:lnTo>
                    <a:lnTo>
                      <a:pt x="70" y="396"/>
                    </a:lnTo>
                    <a:lnTo>
                      <a:pt x="57" y="383"/>
                    </a:lnTo>
                    <a:lnTo>
                      <a:pt x="12" y="402"/>
                    </a:lnTo>
                    <a:lnTo>
                      <a:pt x="0" y="370"/>
                    </a:lnTo>
                    <a:lnTo>
                      <a:pt x="57" y="345"/>
                    </a:lnTo>
                    <a:lnTo>
                      <a:pt x="76" y="351"/>
                    </a:lnTo>
                    <a:lnTo>
                      <a:pt x="83" y="358"/>
                    </a:lnTo>
                    <a:lnTo>
                      <a:pt x="223" y="255"/>
                    </a:lnTo>
                    <a:lnTo>
                      <a:pt x="236" y="217"/>
                    </a:lnTo>
                    <a:lnTo>
                      <a:pt x="243" y="211"/>
                    </a:lnTo>
                    <a:lnTo>
                      <a:pt x="313" y="153"/>
                    </a:lnTo>
                    <a:lnTo>
                      <a:pt x="287" y="96"/>
                    </a:lnTo>
                    <a:lnTo>
                      <a:pt x="294" y="76"/>
                    </a:lnTo>
                    <a:lnTo>
                      <a:pt x="319" y="38"/>
                    </a:lnTo>
                    <a:lnTo>
                      <a:pt x="364" y="0"/>
                    </a:lnTo>
                    <a:lnTo>
                      <a:pt x="383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Freeform 36"/>
              <p:cNvSpPr/>
              <p:nvPr/>
            </p:nvSpPr>
            <p:spPr>
              <a:xfrm>
                <a:off x="5409360" y="5366880"/>
                <a:ext cx="54720" cy="56880"/>
              </a:xfrm>
              <a:custGeom>
                <a:avLst/>
                <a:gdLst>
                  <a:gd name="textAreaLeft" fmla="*/ 0 w 54720"/>
                  <a:gd name="textAreaRight" fmla="*/ 55080 w 54720"/>
                  <a:gd name="textAreaTop" fmla="*/ 0 h 56880"/>
                  <a:gd name="textAreaBottom" fmla="*/ 57240 h 56880"/>
                </a:gdLst>
                <a:ahLst/>
                <a:rect l="textAreaLeft" t="textAreaTop" r="textAreaRight" b="textAreaBottom"/>
                <a:pathLst>
                  <a:path w="45" h="57">
                    <a:moveTo>
                      <a:pt x="19" y="57"/>
                    </a:moveTo>
                    <a:lnTo>
                      <a:pt x="0" y="45"/>
                    </a:lnTo>
                    <a:lnTo>
                      <a:pt x="13" y="0"/>
                    </a:lnTo>
                    <a:lnTo>
                      <a:pt x="45" y="0"/>
                    </a:lnTo>
                    <a:lnTo>
                      <a:pt x="32" y="45"/>
                    </a:lnTo>
                    <a:lnTo>
                      <a:pt x="19" y="5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Freeform 37"/>
              <p:cNvSpPr/>
              <p:nvPr/>
            </p:nvSpPr>
            <p:spPr>
              <a:xfrm>
                <a:off x="5278320" y="5347080"/>
                <a:ext cx="185400" cy="64440"/>
              </a:xfrm>
              <a:custGeom>
                <a:avLst/>
                <a:gdLst>
                  <a:gd name="textAreaLeft" fmla="*/ 0 w 185400"/>
                  <a:gd name="textAreaRight" fmla="*/ 185760 w 185400"/>
                  <a:gd name="textAreaTop" fmla="*/ 0 h 64440"/>
                  <a:gd name="textAreaBottom" fmla="*/ 64800 h 64440"/>
                </a:gdLst>
                <a:ahLst/>
                <a:rect l="textAreaLeft" t="textAreaTop" r="textAreaRight" b="textAreaBottom"/>
                <a:pathLst>
                  <a:path w="153" h="64">
                    <a:moveTo>
                      <a:pt x="140" y="32"/>
                    </a:moveTo>
                    <a:lnTo>
                      <a:pt x="89" y="64"/>
                    </a:lnTo>
                    <a:lnTo>
                      <a:pt x="76" y="64"/>
                    </a:lnTo>
                    <a:lnTo>
                      <a:pt x="0" y="32"/>
                    </a:lnTo>
                    <a:lnTo>
                      <a:pt x="12" y="0"/>
                    </a:lnTo>
                    <a:lnTo>
                      <a:pt x="83" y="32"/>
                    </a:lnTo>
                    <a:lnTo>
                      <a:pt x="121" y="6"/>
                    </a:lnTo>
                    <a:lnTo>
                      <a:pt x="153" y="19"/>
                    </a:lnTo>
                    <a:lnTo>
                      <a:pt x="140" y="3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Freeform 38"/>
              <p:cNvSpPr/>
              <p:nvPr/>
            </p:nvSpPr>
            <p:spPr>
              <a:xfrm>
                <a:off x="5225040" y="5347080"/>
                <a:ext cx="130680" cy="154440"/>
              </a:xfrm>
              <a:custGeom>
                <a:avLst/>
                <a:gdLst>
                  <a:gd name="textAreaLeft" fmla="*/ 0 w 130680"/>
                  <a:gd name="textAreaRight" fmla="*/ 131040 w 130680"/>
                  <a:gd name="textAreaTop" fmla="*/ 0 h 154440"/>
                  <a:gd name="textAreaBottom" fmla="*/ 154440 h 154440"/>
                </a:gdLst>
                <a:ahLst/>
                <a:rect l="textAreaLeft" t="textAreaTop" r="textAreaRight" b="textAreaBottom"/>
                <a:pathLst>
                  <a:path w="109" h="153">
                    <a:moveTo>
                      <a:pt x="64" y="12"/>
                    </a:moveTo>
                    <a:lnTo>
                      <a:pt x="109" y="64"/>
                    </a:lnTo>
                    <a:lnTo>
                      <a:pt x="109" y="70"/>
                    </a:lnTo>
                    <a:lnTo>
                      <a:pt x="96" y="121"/>
                    </a:lnTo>
                    <a:lnTo>
                      <a:pt x="89" y="134"/>
                    </a:lnTo>
                    <a:lnTo>
                      <a:pt x="45" y="153"/>
                    </a:lnTo>
                    <a:lnTo>
                      <a:pt x="25" y="147"/>
                    </a:lnTo>
                    <a:lnTo>
                      <a:pt x="0" y="108"/>
                    </a:lnTo>
                    <a:lnTo>
                      <a:pt x="25" y="89"/>
                    </a:lnTo>
                    <a:lnTo>
                      <a:pt x="45" y="115"/>
                    </a:lnTo>
                    <a:lnTo>
                      <a:pt x="70" y="108"/>
                    </a:lnTo>
                    <a:lnTo>
                      <a:pt x="77" y="76"/>
                    </a:lnTo>
                    <a:lnTo>
                      <a:pt x="38" y="32"/>
                    </a:lnTo>
                    <a:lnTo>
                      <a:pt x="57" y="0"/>
                    </a:lnTo>
                    <a:lnTo>
                      <a:pt x="64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Freeform 39"/>
              <p:cNvSpPr/>
              <p:nvPr/>
            </p:nvSpPr>
            <p:spPr>
              <a:xfrm>
                <a:off x="5209560" y="5437080"/>
                <a:ext cx="60480" cy="101520"/>
              </a:xfrm>
              <a:custGeom>
                <a:avLst/>
                <a:gdLst>
                  <a:gd name="textAreaLeft" fmla="*/ 0 w 60480"/>
                  <a:gd name="textAreaRight" fmla="*/ 60840 w 6048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51" h="102">
                    <a:moveTo>
                      <a:pt x="38" y="13"/>
                    </a:moveTo>
                    <a:lnTo>
                      <a:pt x="51" y="58"/>
                    </a:lnTo>
                    <a:lnTo>
                      <a:pt x="51" y="64"/>
                    </a:lnTo>
                    <a:lnTo>
                      <a:pt x="38" y="90"/>
                    </a:lnTo>
                    <a:lnTo>
                      <a:pt x="32" y="102"/>
                    </a:lnTo>
                    <a:lnTo>
                      <a:pt x="0" y="102"/>
                    </a:lnTo>
                    <a:lnTo>
                      <a:pt x="6" y="77"/>
                    </a:lnTo>
                    <a:lnTo>
                      <a:pt x="13" y="64"/>
                    </a:lnTo>
                    <a:lnTo>
                      <a:pt x="19" y="58"/>
                    </a:lnTo>
                    <a:lnTo>
                      <a:pt x="6" y="13"/>
                    </a:lnTo>
                    <a:lnTo>
                      <a:pt x="38" y="0"/>
                    </a:lnTo>
                    <a:lnTo>
                      <a:pt x="38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Freeform 40"/>
              <p:cNvSpPr/>
              <p:nvPr/>
            </p:nvSpPr>
            <p:spPr>
              <a:xfrm>
                <a:off x="5101200" y="5506920"/>
                <a:ext cx="145800" cy="78120"/>
              </a:xfrm>
              <a:custGeom>
                <a:avLst/>
                <a:gdLst>
                  <a:gd name="textAreaLeft" fmla="*/ 0 w 145800"/>
                  <a:gd name="textAreaRight" fmla="*/ 146160 w 145800"/>
                  <a:gd name="textAreaTop" fmla="*/ 0 h 78120"/>
                  <a:gd name="textAreaBottom" fmla="*/ 78480 h 78120"/>
                </a:gdLst>
                <a:ahLst/>
                <a:rect l="textAreaLeft" t="textAreaTop" r="textAreaRight" b="textAreaBottom"/>
                <a:pathLst>
                  <a:path w="122" h="77">
                    <a:moveTo>
                      <a:pt x="122" y="32"/>
                    </a:moveTo>
                    <a:lnTo>
                      <a:pt x="103" y="45"/>
                    </a:lnTo>
                    <a:lnTo>
                      <a:pt x="77" y="32"/>
                    </a:lnTo>
                    <a:lnTo>
                      <a:pt x="20" y="77"/>
                    </a:lnTo>
                    <a:lnTo>
                      <a:pt x="0" y="52"/>
                    </a:lnTo>
                    <a:lnTo>
                      <a:pt x="64" y="0"/>
                    </a:lnTo>
                    <a:lnTo>
                      <a:pt x="90" y="0"/>
                    </a:lnTo>
                    <a:lnTo>
                      <a:pt x="122" y="20"/>
                    </a:lnTo>
                    <a:lnTo>
                      <a:pt x="122" y="3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Freeform 41"/>
              <p:cNvSpPr/>
              <p:nvPr/>
            </p:nvSpPr>
            <p:spPr>
              <a:xfrm>
                <a:off x="5054760" y="5546520"/>
                <a:ext cx="132120" cy="102960"/>
              </a:xfrm>
              <a:custGeom>
                <a:avLst/>
                <a:gdLst>
                  <a:gd name="textAreaLeft" fmla="*/ 0 w 132120"/>
                  <a:gd name="textAreaRight" fmla="*/ 132480 w 13212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109" h="102">
                    <a:moveTo>
                      <a:pt x="51" y="13"/>
                    </a:moveTo>
                    <a:lnTo>
                      <a:pt x="96" y="0"/>
                    </a:lnTo>
                    <a:lnTo>
                      <a:pt x="109" y="13"/>
                    </a:lnTo>
                    <a:lnTo>
                      <a:pt x="109" y="51"/>
                    </a:lnTo>
                    <a:lnTo>
                      <a:pt x="102" y="64"/>
                    </a:lnTo>
                    <a:lnTo>
                      <a:pt x="26" y="102"/>
                    </a:lnTo>
                    <a:lnTo>
                      <a:pt x="19" y="102"/>
                    </a:lnTo>
                    <a:lnTo>
                      <a:pt x="0" y="102"/>
                    </a:lnTo>
                    <a:lnTo>
                      <a:pt x="0" y="70"/>
                    </a:lnTo>
                    <a:lnTo>
                      <a:pt x="26" y="70"/>
                    </a:lnTo>
                    <a:lnTo>
                      <a:pt x="77" y="45"/>
                    </a:lnTo>
                    <a:lnTo>
                      <a:pt x="77" y="38"/>
                    </a:lnTo>
                    <a:lnTo>
                      <a:pt x="51" y="45"/>
                    </a:lnTo>
                    <a:lnTo>
                      <a:pt x="38" y="13"/>
                    </a:lnTo>
                    <a:lnTo>
                      <a:pt x="51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Freeform 42"/>
              <p:cNvSpPr/>
              <p:nvPr/>
            </p:nvSpPr>
            <p:spPr>
              <a:xfrm>
                <a:off x="4947840" y="5618160"/>
                <a:ext cx="161640" cy="198000"/>
              </a:xfrm>
              <a:custGeom>
                <a:avLst/>
                <a:gdLst>
                  <a:gd name="textAreaLeft" fmla="*/ 0 w 161640"/>
                  <a:gd name="textAreaRight" fmla="*/ 162000 w 161640"/>
                  <a:gd name="textAreaTop" fmla="*/ 0 h 198000"/>
                  <a:gd name="textAreaBottom" fmla="*/ 198360 h 198000"/>
                </a:gdLst>
                <a:ahLst/>
                <a:rect l="textAreaLeft" t="textAreaTop" r="textAreaRight" b="textAreaBottom"/>
                <a:pathLst>
                  <a:path w="134" h="198">
                    <a:moveTo>
                      <a:pt x="102" y="13"/>
                    </a:moveTo>
                    <a:lnTo>
                      <a:pt x="134" y="64"/>
                    </a:lnTo>
                    <a:lnTo>
                      <a:pt x="134" y="70"/>
                    </a:lnTo>
                    <a:lnTo>
                      <a:pt x="108" y="173"/>
                    </a:lnTo>
                    <a:lnTo>
                      <a:pt x="96" y="186"/>
                    </a:lnTo>
                    <a:lnTo>
                      <a:pt x="32" y="198"/>
                    </a:lnTo>
                    <a:lnTo>
                      <a:pt x="19" y="192"/>
                    </a:lnTo>
                    <a:lnTo>
                      <a:pt x="0" y="160"/>
                    </a:lnTo>
                    <a:lnTo>
                      <a:pt x="25" y="141"/>
                    </a:lnTo>
                    <a:lnTo>
                      <a:pt x="38" y="166"/>
                    </a:lnTo>
                    <a:lnTo>
                      <a:pt x="83" y="154"/>
                    </a:lnTo>
                    <a:lnTo>
                      <a:pt x="102" y="70"/>
                    </a:lnTo>
                    <a:lnTo>
                      <a:pt x="76" y="32"/>
                    </a:lnTo>
                    <a:lnTo>
                      <a:pt x="89" y="0"/>
                    </a:lnTo>
                    <a:lnTo>
                      <a:pt x="102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Freeform 43"/>
              <p:cNvSpPr/>
              <p:nvPr/>
            </p:nvSpPr>
            <p:spPr>
              <a:xfrm>
                <a:off x="2700000" y="3318120"/>
                <a:ext cx="2470320" cy="2930040"/>
              </a:xfrm>
              <a:custGeom>
                <a:avLst/>
                <a:gdLst>
                  <a:gd name="textAreaLeft" fmla="*/ 0 w 2470320"/>
                  <a:gd name="textAreaRight" fmla="*/ 2470680 w 2470320"/>
                  <a:gd name="textAreaTop" fmla="*/ 0 h 2930040"/>
                  <a:gd name="textAreaBottom" fmla="*/ 2930400 h 2930040"/>
                </a:gdLst>
                <a:ahLst/>
                <a:rect l="textAreaLeft" t="textAreaTop" r="textAreaRight" b="textAreaBottom"/>
                <a:pathLst>
                  <a:path w="2053" h="2909">
                    <a:moveTo>
                      <a:pt x="1893" y="2429"/>
                    </a:moveTo>
                    <a:lnTo>
                      <a:pt x="1912" y="2468"/>
                    </a:lnTo>
                    <a:lnTo>
                      <a:pt x="1932" y="2480"/>
                    </a:lnTo>
                    <a:lnTo>
                      <a:pt x="1964" y="2480"/>
                    </a:lnTo>
                    <a:lnTo>
                      <a:pt x="1976" y="2493"/>
                    </a:lnTo>
                    <a:lnTo>
                      <a:pt x="1970" y="2615"/>
                    </a:lnTo>
                    <a:lnTo>
                      <a:pt x="1976" y="2685"/>
                    </a:lnTo>
                    <a:lnTo>
                      <a:pt x="1976" y="2742"/>
                    </a:lnTo>
                    <a:lnTo>
                      <a:pt x="1983" y="2768"/>
                    </a:lnTo>
                    <a:lnTo>
                      <a:pt x="2008" y="2806"/>
                    </a:lnTo>
                    <a:lnTo>
                      <a:pt x="2021" y="2832"/>
                    </a:lnTo>
                    <a:lnTo>
                      <a:pt x="2047" y="2851"/>
                    </a:lnTo>
                    <a:lnTo>
                      <a:pt x="2053" y="2864"/>
                    </a:lnTo>
                    <a:lnTo>
                      <a:pt x="2053" y="2883"/>
                    </a:lnTo>
                    <a:lnTo>
                      <a:pt x="2040" y="2896"/>
                    </a:lnTo>
                    <a:lnTo>
                      <a:pt x="2008" y="2902"/>
                    </a:lnTo>
                    <a:lnTo>
                      <a:pt x="1970" y="2902"/>
                    </a:lnTo>
                    <a:lnTo>
                      <a:pt x="1938" y="2909"/>
                    </a:lnTo>
                    <a:lnTo>
                      <a:pt x="1932" y="2909"/>
                    </a:lnTo>
                    <a:lnTo>
                      <a:pt x="1887" y="2889"/>
                    </a:lnTo>
                    <a:lnTo>
                      <a:pt x="1836" y="2877"/>
                    </a:lnTo>
                    <a:lnTo>
                      <a:pt x="1810" y="2870"/>
                    </a:lnTo>
                    <a:lnTo>
                      <a:pt x="1753" y="2857"/>
                    </a:lnTo>
                    <a:lnTo>
                      <a:pt x="1746" y="2857"/>
                    </a:lnTo>
                    <a:lnTo>
                      <a:pt x="1669" y="2806"/>
                    </a:lnTo>
                    <a:lnTo>
                      <a:pt x="1554" y="2768"/>
                    </a:lnTo>
                    <a:lnTo>
                      <a:pt x="1548" y="2762"/>
                    </a:lnTo>
                    <a:lnTo>
                      <a:pt x="1497" y="2634"/>
                    </a:lnTo>
                    <a:lnTo>
                      <a:pt x="1452" y="2583"/>
                    </a:lnTo>
                    <a:lnTo>
                      <a:pt x="1452" y="2576"/>
                    </a:lnTo>
                    <a:lnTo>
                      <a:pt x="1452" y="2493"/>
                    </a:lnTo>
                    <a:lnTo>
                      <a:pt x="1433" y="2448"/>
                    </a:lnTo>
                    <a:lnTo>
                      <a:pt x="1433" y="2442"/>
                    </a:lnTo>
                    <a:lnTo>
                      <a:pt x="1433" y="2397"/>
                    </a:lnTo>
                    <a:lnTo>
                      <a:pt x="1382" y="2378"/>
                    </a:lnTo>
                    <a:lnTo>
                      <a:pt x="1375" y="2372"/>
                    </a:lnTo>
                    <a:lnTo>
                      <a:pt x="1267" y="2212"/>
                    </a:lnTo>
                    <a:lnTo>
                      <a:pt x="1203" y="2097"/>
                    </a:lnTo>
                    <a:lnTo>
                      <a:pt x="1145" y="1950"/>
                    </a:lnTo>
                    <a:lnTo>
                      <a:pt x="1113" y="1886"/>
                    </a:lnTo>
                    <a:lnTo>
                      <a:pt x="1056" y="1841"/>
                    </a:lnTo>
                    <a:lnTo>
                      <a:pt x="1049" y="1835"/>
                    </a:lnTo>
                    <a:lnTo>
                      <a:pt x="966" y="1739"/>
                    </a:lnTo>
                    <a:lnTo>
                      <a:pt x="806" y="1720"/>
                    </a:lnTo>
                    <a:lnTo>
                      <a:pt x="800" y="1720"/>
                    </a:lnTo>
                    <a:lnTo>
                      <a:pt x="768" y="1707"/>
                    </a:lnTo>
                    <a:lnTo>
                      <a:pt x="717" y="1739"/>
                    </a:lnTo>
                    <a:lnTo>
                      <a:pt x="710" y="1739"/>
                    </a:lnTo>
                    <a:lnTo>
                      <a:pt x="691" y="1732"/>
                    </a:lnTo>
                    <a:lnTo>
                      <a:pt x="646" y="1803"/>
                    </a:lnTo>
                    <a:lnTo>
                      <a:pt x="646" y="1835"/>
                    </a:lnTo>
                    <a:lnTo>
                      <a:pt x="646" y="1841"/>
                    </a:lnTo>
                    <a:lnTo>
                      <a:pt x="634" y="1873"/>
                    </a:lnTo>
                    <a:lnTo>
                      <a:pt x="544" y="1975"/>
                    </a:lnTo>
                    <a:lnTo>
                      <a:pt x="525" y="1982"/>
                    </a:lnTo>
                    <a:lnTo>
                      <a:pt x="435" y="1911"/>
                    </a:lnTo>
                    <a:lnTo>
                      <a:pt x="422" y="1918"/>
                    </a:lnTo>
                    <a:lnTo>
                      <a:pt x="410" y="1918"/>
                    </a:lnTo>
                    <a:lnTo>
                      <a:pt x="378" y="1892"/>
                    </a:lnTo>
                    <a:lnTo>
                      <a:pt x="359" y="1879"/>
                    </a:lnTo>
                    <a:lnTo>
                      <a:pt x="333" y="1873"/>
                    </a:lnTo>
                    <a:lnTo>
                      <a:pt x="327" y="1873"/>
                    </a:lnTo>
                    <a:lnTo>
                      <a:pt x="307" y="1860"/>
                    </a:lnTo>
                    <a:lnTo>
                      <a:pt x="199" y="1758"/>
                    </a:lnTo>
                    <a:lnTo>
                      <a:pt x="192" y="1752"/>
                    </a:lnTo>
                    <a:lnTo>
                      <a:pt x="180" y="1726"/>
                    </a:lnTo>
                    <a:lnTo>
                      <a:pt x="180" y="1720"/>
                    </a:lnTo>
                    <a:lnTo>
                      <a:pt x="180" y="1713"/>
                    </a:lnTo>
                    <a:lnTo>
                      <a:pt x="148" y="1649"/>
                    </a:lnTo>
                    <a:lnTo>
                      <a:pt x="148" y="1643"/>
                    </a:lnTo>
                    <a:lnTo>
                      <a:pt x="148" y="1611"/>
                    </a:lnTo>
                    <a:lnTo>
                      <a:pt x="103" y="1521"/>
                    </a:lnTo>
                    <a:lnTo>
                      <a:pt x="103" y="1515"/>
                    </a:lnTo>
                    <a:lnTo>
                      <a:pt x="103" y="1483"/>
                    </a:lnTo>
                    <a:lnTo>
                      <a:pt x="7" y="1413"/>
                    </a:lnTo>
                    <a:lnTo>
                      <a:pt x="0" y="1400"/>
                    </a:lnTo>
                    <a:lnTo>
                      <a:pt x="26" y="1023"/>
                    </a:lnTo>
                    <a:lnTo>
                      <a:pt x="39" y="1010"/>
                    </a:lnTo>
                    <a:lnTo>
                      <a:pt x="544" y="1016"/>
                    </a:lnTo>
                    <a:lnTo>
                      <a:pt x="550" y="882"/>
                    </a:lnTo>
                    <a:lnTo>
                      <a:pt x="557" y="869"/>
                    </a:lnTo>
                    <a:lnTo>
                      <a:pt x="717" y="806"/>
                    </a:lnTo>
                    <a:lnTo>
                      <a:pt x="723" y="735"/>
                    </a:lnTo>
                    <a:lnTo>
                      <a:pt x="736" y="722"/>
                    </a:lnTo>
                    <a:lnTo>
                      <a:pt x="1119" y="690"/>
                    </a:lnTo>
                    <a:lnTo>
                      <a:pt x="1126" y="671"/>
                    </a:lnTo>
                    <a:lnTo>
                      <a:pt x="1100" y="665"/>
                    </a:lnTo>
                    <a:lnTo>
                      <a:pt x="1088" y="652"/>
                    </a:lnTo>
                    <a:lnTo>
                      <a:pt x="1094" y="307"/>
                    </a:lnTo>
                    <a:lnTo>
                      <a:pt x="1113" y="13"/>
                    </a:lnTo>
                    <a:lnTo>
                      <a:pt x="1126" y="0"/>
                    </a:lnTo>
                    <a:lnTo>
                      <a:pt x="1330" y="0"/>
                    </a:lnTo>
                    <a:lnTo>
                      <a:pt x="1343" y="13"/>
                    </a:lnTo>
                    <a:lnTo>
                      <a:pt x="1337" y="217"/>
                    </a:lnTo>
                    <a:lnTo>
                      <a:pt x="1414" y="275"/>
                    </a:lnTo>
                    <a:lnTo>
                      <a:pt x="1516" y="275"/>
                    </a:lnTo>
                    <a:lnTo>
                      <a:pt x="1529" y="281"/>
                    </a:lnTo>
                    <a:lnTo>
                      <a:pt x="1548" y="332"/>
                    </a:lnTo>
                    <a:lnTo>
                      <a:pt x="1580" y="339"/>
                    </a:lnTo>
                    <a:lnTo>
                      <a:pt x="1586" y="339"/>
                    </a:lnTo>
                    <a:lnTo>
                      <a:pt x="1618" y="352"/>
                    </a:lnTo>
                    <a:lnTo>
                      <a:pt x="1676" y="352"/>
                    </a:lnTo>
                    <a:lnTo>
                      <a:pt x="1701" y="352"/>
                    </a:lnTo>
                    <a:lnTo>
                      <a:pt x="1753" y="352"/>
                    </a:lnTo>
                    <a:lnTo>
                      <a:pt x="1759" y="352"/>
                    </a:lnTo>
                    <a:lnTo>
                      <a:pt x="1816" y="403"/>
                    </a:lnTo>
                    <a:lnTo>
                      <a:pt x="1861" y="403"/>
                    </a:lnTo>
                    <a:lnTo>
                      <a:pt x="1906" y="416"/>
                    </a:lnTo>
                    <a:lnTo>
                      <a:pt x="1957" y="428"/>
                    </a:lnTo>
                    <a:lnTo>
                      <a:pt x="1964" y="428"/>
                    </a:lnTo>
                    <a:lnTo>
                      <a:pt x="1995" y="441"/>
                    </a:lnTo>
                    <a:lnTo>
                      <a:pt x="2034" y="467"/>
                    </a:lnTo>
                    <a:lnTo>
                      <a:pt x="2040" y="467"/>
                    </a:lnTo>
                    <a:lnTo>
                      <a:pt x="2040" y="499"/>
                    </a:lnTo>
                    <a:lnTo>
                      <a:pt x="2027" y="499"/>
                    </a:lnTo>
                    <a:lnTo>
                      <a:pt x="2015" y="492"/>
                    </a:lnTo>
                    <a:lnTo>
                      <a:pt x="1989" y="473"/>
                    </a:lnTo>
                    <a:lnTo>
                      <a:pt x="1938" y="454"/>
                    </a:lnTo>
                    <a:lnTo>
                      <a:pt x="1906" y="448"/>
                    </a:lnTo>
                    <a:lnTo>
                      <a:pt x="1861" y="435"/>
                    </a:lnTo>
                    <a:lnTo>
                      <a:pt x="1810" y="435"/>
                    </a:lnTo>
                    <a:lnTo>
                      <a:pt x="1797" y="428"/>
                    </a:lnTo>
                    <a:lnTo>
                      <a:pt x="1746" y="384"/>
                    </a:lnTo>
                    <a:lnTo>
                      <a:pt x="1701" y="384"/>
                    </a:lnTo>
                    <a:lnTo>
                      <a:pt x="1676" y="384"/>
                    </a:lnTo>
                    <a:lnTo>
                      <a:pt x="1612" y="384"/>
                    </a:lnTo>
                    <a:lnTo>
                      <a:pt x="1605" y="384"/>
                    </a:lnTo>
                    <a:lnTo>
                      <a:pt x="1567" y="371"/>
                    </a:lnTo>
                    <a:lnTo>
                      <a:pt x="1535" y="364"/>
                    </a:lnTo>
                    <a:lnTo>
                      <a:pt x="1516" y="352"/>
                    </a:lnTo>
                    <a:lnTo>
                      <a:pt x="1503" y="307"/>
                    </a:lnTo>
                    <a:lnTo>
                      <a:pt x="1407" y="307"/>
                    </a:lnTo>
                    <a:lnTo>
                      <a:pt x="1394" y="301"/>
                    </a:lnTo>
                    <a:lnTo>
                      <a:pt x="1311" y="237"/>
                    </a:lnTo>
                    <a:lnTo>
                      <a:pt x="1305" y="224"/>
                    </a:lnTo>
                    <a:lnTo>
                      <a:pt x="1311" y="32"/>
                    </a:lnTo>
                    <a:lnTo>
                      <a:pt x="1145" y="32"/>
                    </a:lnTo>
                    <a:lnTo>
                      <a:pt x="1126" y="307"/>
                    </a:lnTo>
                    <a:lnTo>
                      <a:pt x="1119" y="639"/>
                    </a:lnTo>
                    <a:lnTo>
                      <a:pt x="1139" y="639"/>
                    </a:lnTo>
                    <a:lnTo>
                      <a:pt x="1158" y="658"/>
                    </a:lnTo>
                    <a:lnTo>
                      <a:pt x="1151" y="703"/>
                    </a:lnTo>
                    <a:lnTo>
                      <a:pt x="1132" y="722"/>
                    </a:lnTo>
                    <a:lnTo>
                      <a:pt x="755" y="754"/>
                    </a:lnTo>
                    <a:lnTo>
                      <a:pt x="749" y="818"/>
                    </a:lnTo>
                    <a:lnTo>
                      <a:pt x="736" y="837"/>
                    </a:lnTo>
                    <a:lnTo>
                      <a:pt x="582" y="895"/>
                    </a:lnTo>
                    <a:lnTo>
                      <a:pt x="576" y="1029"/>
                    </a:lnTo>
                    <a:lnTo>
                      <a:pt x="557" y="1048"/>
                    </a:lnTo>
                    <a:lnTo>
                      <a:pt x="58" y="1042"/>
                    </a:lnTo>
                    <a:lnTo>
                      <a:pt x="32" y="1394"/>
                    </a:lnTo>
                    <a:lnTo>
                      <a:pt x="128" y="1464"/>
                    </a:lnTo>
                    <a:lnTo>
                      <a:pt x="135" y="1477"/>
                    </a:lnTo>
                    <a:lnTo>
                      <a:pt x="135" y="1521"/>
                    </a:lnTo>
                    <a:lnTo>
                      <a:pt x="173" y="1598"/>
                    </a:lnTo>
                    <a:lnTo>
                      <a:pt x="180" y="1605"/>
                    </a:lnTo>
                    <a:lnTo>
                      <a:pt x="180" y="1649"/>
                    </a:lnTo>
                    <a:lnTo>
                      <a:pt x="205" y="1700"/>
                    </a:lnTo>
                    <a:lnTo>
                      <a:pt x="211" y="1707"/>
                    </a:lnTo>
                    <a:lnTo>
                      <a:pt x="211" y="1726"/>
                    </a:lnTo>
                    <a:lnTo>
                      <a:pt x="327" y="1835"/>
                    </a:lnTo>
                    <a:lnTo>
                      <a:pt x="339" y="1841"/>
                    </a:lnTo>
                    <a:lnTo>
                      <a:pt x="365" y="1847"/>
                    </a:lnTo>
                    <a:lnTo>
                      <a:pt x="378" y="1854"/>
                    </a:lnTo>
                    <a:lnTo>
                      <a:pt x="397" y="1867"/>
                    </a:lnTo>
                    <a:lnTo>
                      <a:pt x="416" y="1886"/>
                    </a:lnTo>
                    <a:lnTo>
                      <a:pt x="429" y="1879"/>
                    </a:lnTo>
                    <a:lnTo>
                      <a:pt x="448" y="1886"/>
                    </a:lnTo>
                    <a:lnTo>
                      <a:pt x="531" y="1943"/>
                    </a:lnTo>
                    <a:lnTo>
                      <a:pt x="602" y="1860"/>
                    </a:lnTo>
                    <a:lnTo>
                      <a:pt x="614" y="1828"/>
                    </a:lnTo>
                    <a:lnTo>
                      <a:pt x="614" y="1796"/>
                    </a:lnTo>
                    <a:lnTo>
                      <a:pt x="621" y="1784"/>
                    </a:lnTo>
                    <a:lnTo>
                      <a:pt x="672" y="1707"/>
                    </a:lnTo>
                    <a:lnTo>
                      <a:pt x="685" y="1700"/>
                    </a:lnTo>
                    <a:lnTo>
                      <a:pt x="717" y="1707"/>
                    </a:lnTo>
                    <a:lnTo>
                      <a:pt x="761" y="1681"/>
                    </a:lnTo>
                    <a:lnTo>
                      <a:pt x="774" y="1675"/>
                    </a:lnTo>
                    <a:lnTo>
                      <a:pt x="819" y="1688"/>
                    </a:lnTo>
                    <a:lnTo>
                      <a:pt x="972" y="1707"/>
                    </a:lnTo>
                    <a:lnTo>
                      <a:pt x="985" y="1713"/>
                    </a:lnTo>
                    <a:lnTo>
                      <a:pt x="1075" y="1816"/>
                    </a:lnTo>
                    <a:lnTo>
                      <a:pt x="1139" y="1867"/>
                    </a:lnTo>
                    <a:lnTo>
                      <a:pt x="1139" y="1873"/>
                    </a:lnTo>
                    <a:lnTo>
                      <a:pt x="1171" y="1937"/>
                    </a:lnTo>
                    <a:lnTo>
                      <a:pt x="1177" y="1937"/>
                    </a:lnTo>
                    <a:lnTo>
                      <a:pt x="1247" y="2122"/>
                    </a:lnTo>
                    <a:lnTo>
                      <a:pt x="1273" y="2167"/>
                    </a:lnTo>
                    <a:lnTo>
                      <a:pt x="1394" y="2346"/>
                    </a:lnTo>
                    <a:lnTo>
                      <a:pt x="1452" y="2365"/>
                    </a:lnTo>
                    <a:lnTo>
                      <a:pt x="1465" y="2384"/>
                    </a:lnTo>
                    <a:lnTo>
                      <a:pt x="1465" y="2436"/>
                    </a:lnTo>
                    <a:lnTo>
                      <a:pt x="1484" y="2480"/>
                    </a:lnTo>
                    <a:lnTo>
                      <a:pt x="1484" y="2487"/>
                    </a:lnTo>
                    <a:lnTo>
                      <a:pt x="1484" y="2570"/>
                    </a:lnTo>
                    <a:lnTo>
                      <a:pt x="1522" y="2615"/>
                    </a:lnTo>
                    <a:lnTo>
                      <a:pt x="1529" y="2621"/>
                    </a:lnTo>
                    <a:lnTo>
                      <a:pt x="1573" y="2736"/>
                    </a:lnTo>
                    <a:lnTo>
                      <a:pt x="1682" y="2774"/>
                    </a:lnTo>
                    <a:lnTo>
                      <a:pt x="1689" y="2781"/>
                    </a:lnTo>
                    <a:lnTo>
                      <a:pt x="1759" y="2826"/>
                    </a:lnTo>
                    <a:lnTo>
                      <a:pt x="1810" y="2838"/>
                    </a:lnTo>
                    <a:lnTo>
                      <a:pt x="1836" y="2845"/>
                    </a:lnTo>
                    <a:lnTo>
                      <a:pt x="1900" y="2857"/>
                    </a:lnTo>
                    <a:lnTo>
                      <a:pt x="1906" y="2864"/>
                    </a:lnTo>
                    <a:lnTo>
                      <a:pt x="1932" y="2877"/>
                    </a:lnTo>
                    <a:lnTo>
                      <a:pt x="1970" y="2870"/>
                    </a:lnTo>
                    <a:lnTo>
                      <a:pt x="2008" y="2870"/>
                    </a:lnTo>
                    <a:lnTo>
                      <a:pt x="2021" y="2870"/>
                    </a:lnTo>
                    <a:lnTo>
                      <a:pt x="1995" y="2851"/>
                    </a:lnTo>
                    <a:lnTo>
                      <a:pt x="1995" y="2845"/>
                    </a:lnTo>
                    <a:lnTo>
                      <a:pt x="1957" y="2787"/>
                    </a:lnTo>
                    <a:lnTo>
                      <a:pt x="1951" y="2774"/>
                    </a:lnTo>
                    <a:lnTo>
                      <a:pt x="1944" y="2742"/>
                    </a:lnTo>
                    <a:lnTo>
                      <a:pt x="1944" y="2685"/>
                    </a:lnTo>
                    <a:lnTo>
                      <a:pt x="1938" y="2615"/>
                    </a:lnTo>
                    <a:lnTo>
                      <a:pt x="1944" y="2512"/>
                    </a:lnTo>
                    <a:lnTo>
                      <a:pt x="1925" y="2512"/>
                    </a:lnTo>
                    <a:lnTo>
                      <a:pt x="1919" y="2506"/>
                    </a:lnTo>
                    <a:lnTo>
                      <a:pt x="1893" y="2493"/>
                    </a:lnTo>
                    <a:lnTo>
                      <a:pt x="1880" y="2487"/>
                    </a:lnTo>
                    <a:lnTo>
                      <a:pt x="1861" y="2442"/>
                    </a:lnTo>
                    <a:lnTo>
                      <a:pt x="1893" y="2423"/>
                    </a:lnTo>
                    <a:lnTo>
                      <a:pt x="1893" y="2429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Freeform 44"/>
              <p:cNvSpPr/>
              <p:nvPr/>
            </p:nvSpPr>
            <p:spPr>
              <a:xfrm>
                <a:off x="5140440" y="3717360"/>
                <a:ext cx="646920" cy="116280"/>
              </a:xfrm>
              <a:custGeom>
                <a:avLst/>
                <a:gdLst>
                  <a:gd name="textAreaLeft" fmla="*/ 0 w 646920"/>
                  <a:gd name="textAreaRight" fmla="*/ 647280 w 646920"/>
                  <a:gd name="textAreaTop" fmla="*/ 0 h 116280"/>
                  <a:gd name="textAreaBottom" fmla="*/ 116640 h 116280"/>
                </a:gdLst>
                <a:ahLst/>
                <a:rect l="textAreaLeft" t="textAreaTop" r="textAreaRight" b="textAreaBottom"/>
                <a:pathLst>
                  <a:path w="538" h="115">
                    <a:moveTo>
                      <a:pt x="0" y="77"/>
                    </a:moveTo>
                    <a:lnTo>
                      <a:pt x="26" y="39"/>
                    </a:lnTo>
                    <a:lnTo>
                      <a:pt x="32" y="32"/>
                    </a:lnTo>
                    <a:lnTo>
                      <a:pt x="52" y="26"/>
                    </a:lnTo>
                    <a:lnTo>
                      <a:pt x="64" y="26"/>
                    </a:lnTo>
                    <a:lnTo>
                      <a:pt x="116" y="45"/>
                    </a:lnTo>
                    <a:lnTo>
                      <a:pt x="141" y="32"/>
                    </a:lnTo>
                    <a:lnTo>
                      <a:pt x="160" y="32"/>
                    </a:lnTo>
                    <a:lnTo>
                      <a:pt x="205" y="77"/>
                    </a:lnTo>
                    <a:lnTo>
                      <a:pt x="288" y="39"/>
                    </a:lnTo>
                    <a:lnTo>
                      <a:pt x="295" y="39"/>
                    </a:lnTo>
                    <a:lnTo>
                      <a:pt x="320" y="39"/>
                    </a:lnTo>
                    <a:lnTo>
                      <a:pt x="352" y="20"/>
                    </a:lnTo>
                    <a:lnTo>
                      <a:pt x="359" y="20"/>
                    </a:lnTo>
                    <a:lnTo>
                      <a:pt x="397" y="26"/>
                    </a:lnTo>
                    <a:lnTo>
                      <a:pt x="448" y="26"/>
                    </a:lnTo>
                    <a:lnTo>
                      <a:pt x="480" y="0"/>
                    </a:lnTo>
                    <a:lnTo>
                      <a:pt x="493" y="0"/>
                    </a:lnTo>
                    <a:lnTo>
                      <a:pt x="538" y="39"/>
                    </a:lnTo>
                    <a:lnTo>
                      <a:pt x="518" y="64"/>
                    </a:lnTo>
                    <a:lnTo>
                      <a:pt x="486" y="39"/>
                    </a:lnTo>
                    <a:lnTo>
                      <a:pt x="467" y="52"/>
                    </a:lnTo>
                    <a:lnTo>
                      <a:pt x="454" y="58"/>
                    </a:lnTo>
                    <a:lnTo>
                      <a:pt x="397" y="58"/>
                    </a:lnTo>
                    <a:lnTo>
                      <a:pt x="359" y="52"/>
                    </a:lnTo>
                    <a:lnTo>
                      <a:pt x="339" y="64"/>
                    </a:lnTo>
                    <a:lnTo>
                      <a:pt x="327" y="71"/>
                    </a:lnTo>
                    <a:lnTo>
                      <a:pt x="301" y="71"/>
                    </a:lnTo>
                    <a:lnTo>
                      <a:pt x="205" y="115"/>
                    </a:lnTo>
                    <a:lnTo>
                      <a:pt x="186" y="109"/>
                    </a:lnTo>
                    <a:lnTo>
                      <a:pt x="148" y="71"/>
                    </a:lnTo>
                    <a:lnTo>
                      <a:pt x="122" y="77"/>
                    </a:lnTo>
                    <a:lnTo>
                      <a:pt x="109" y="77"/>
                    </a:lnTo>
                    <a:lnTo>
                      <a:pt x="58" y="58"/>
                    </a:lnTo>
                    <a:lnTo>
                      <a:pt x="45" y="64"/>
                    </a:lnTo>
                    <a:lnTo>
                      <a:pt x="26" y="96"/>
                    </a:lnTo>
                    <a:lnTo>
                      <a:pt x="13" y="103"/>
                    </a:lnTo>
                    <a:lnTo>
                      <a:pt x="0" y="7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Freeform 45"/>
              <p:cNvSpPr/>
              <p:nvPr/>
            </p:nvSpPr>
            <p:spPr>
              <a:xfrm>
                <a:off x="5772240" y="3749040"/>
                <a:ext cx="15120" cy="32760"/>
              </a:xfrm>
              <a:custGeom>
                <a:avLst/>
                <a:gdLst>
                  <a:gd name="textAreaLeft" fmla="*/ 0 w 15120"/>
                  <a:gd name="textAreaRight" fmla="*/ 15480 w 15120"/>
                  <a:gd name="textAreaTop" fmla="*/ 0 h 32760"/>
                  <a:gd name="textAreaBottom" fmla="*/ 33120 h 32760"/>
                </a:gdLst>
                <a:ahLst/>
                <a:rect l="textAreaLeft" t="textAreaTop" r="textAreaRight" b="textAreaBottom"/>
                <a:pathLst>
                  <a:path w="13" h="32">
                    <a:moveTo>
                      <a:pt x="13" y="7"/>
                    </a:moveTo>
                    <a:lnTo>
                      <a:pt x="6" y="32"/>
                    </a:lnTo>
                    <a:lnTo>
                      <a:pt x="0" y="32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13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Rectangle 46"/>
              <p:cNvSpPr/>
              <p:nvPr/>
            </p:nvSpPr>
            <p:spPr>
              <a:xfrm>
                <a:off x="5772240" y="3756960"/>
                <a:ext cx="5400" cy="31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Freeform 47"/>
              <p:cNvSpPr/>
              <p:nvPr/>
            </p:nvSpPr>
            <p:spPr>
              <a:xfrm>
                <a:off x="5748120" y="3756960"/>
                <a:ext cx="46440" cy="69840"/>
              </a:xfrm>
              <a:custGeom>
                <a:avLst/>
                <a:gdLst>
                  <a:gd name="textAreaLeft" fmla="*/ 0 w 46440"/>
                  <a:gd name="textAreaRight" fmla="*/ 46800 w 46440"/>
                  <a:gd name="textAreaTop" fmla="*/ 0 h 69840"/>
                  <a:gd name="textAreaBottom" fmla="*/ 70200 h 69840"/>
                </a:gdLst>
                <a:ahLst/>
                <a:rect l="textAreaLeft" t="textAreaTop" r="textAreaRight" b="textAreaBottom"/>
                <a:pathLst>
                  <a:path w="38" h="70">
                    <a:moveTo>
                      <a:pt x="25" y="0"/>
                    </a:moveTo>
                    <a:lnTo>
                      <a:pt x="38" y="13"/>
                    </a:lnTo>
                    <a:lnTo>
                      <a:pt x="38" y="32"/>
                    </a:lnTo>
                    <a:lnTo>
                      <a:pt x="32" y="70"/>
                    </a:lnTo>
                    <a:lnTo>
                      <a:pt x="0" y="70"/>
                    </a:lnTo>
                    <a:lnTo>
                      <a:pt x="6" y="32"/>
                    </a:lnTo>
                    <a:lnTo>
                      <a:pt x="6" y="13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Freeform 48"/>
              <p:cNvSpPr/>
              <p:nvPr/>
            </p:nvSpPr>
            <p:spPr>
              <a:xfrm>
                <a:off x="5748120" y="3800520"/>
                <a:ext cx="51840" cy="39600"/>
              </a:xfrm>
              <a:custGeom>
                <a:avLst/>
                <a:gdLst>
                  <a:gd name="textAreaLeft" fmla="*/ 0 w 51840"/>
                  <a:gd name="textAreaRight" fmla="*/ 52200 w 51840"/>
                  <a:gd name="textAreaTop" fmla="*/ 0 h 39600"/>
                  <a:gd name="textAreaBottom" fmla="*/ 39960 h 39600"/>
                </a:gdLst>
                <a:ahLst/>
                <a:rect l="textAreaLeft" t="textAreaTop" r="textAreaRight" b="textAreaBottom"/>
                <a:pathLst>
                  <a:path w="44" h="39">
                    <a:moveTo>
                      <a:pt x="6" y="13"/>
                    </a:moveTo>
                    <a:lnTo>
                      <a:pt x="19" y="0"/>
                    </a:lnTo>
                    <a:lnTo>
                      <a:pt x="44" y="26"/>
                    </a:lnTo>
                    <a:lnTo>
                      <a:pt x="32" y="39"/>
                    </a:lnTo>
                    <a:lnTo>
                      <a:pt x="0" y="26"/>
                    </a:lnTo>
                    <a:lnTo>
                      <a:pt x="6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Rectangle 49"/>
              <p:cNvSpPr/>
              <p:nvPr/>
            </p:nvSpPr>
            <p:spPr>
              <a:xfrm>
                <a:off x="3926160" y="4475880"/>
                <a:ext cx="102492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865080"/>
                    <a:tab algn="l" pos="1730520"/>
                    <a:tab algn="l" pos="2595600"/>
                    <a:tab algn="l" pos="3460680"/>
                    <a:tab algn="l" pos="4325760"/>
                    <a:tab algn="l" pos="5191200"/>
                    <a:tab algn="l" pos="6056280"/>
                    <a:tab algn="l" pos="6921360"/>
                    <a:tab algn="l" pos="7786800"/>
                    <a:tab algn="l" pos="8651880"/>
                    <a:tab algn="l" pos="9516960"/>
                    <a:tab algn="l" pos="10382400"/>
                  </a:tabLst>
                </a:pPr>
                <a:r>
                  <a:rPr b="1" lang="en-US" sz="2300" spc="-1" strike="noStrike">
                    <a:solidFill>
                      <a:srgbClr val="ffffff"/>
                    </a:solidFill>
                    <a:latin typeface="Arial"/>
                  </a:rPr>
                  <a:t>ERCOT</a:t>
                </a:r>
                <a:endParaRPr b="0" lang="en-US" sz="2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Freeform 51"/>
              <p:cNvSpPr/>
              <p:nvPr/>
            </p:nvSpPr>
            <p:spPr>
              <a:xfrm>
                <a:off x="6125400" y="4091400"/>
                <a:ext cx="625680" cy="840240"/>
              </a:xfrm>
              <a:custGeom>
                <a:avLst/>
                <a:gdLst>
                  <a:gd name="textAreaLeft" fmla="*/ 0 w 625680"/>
                  <a:gd name="textAreaRight" fmla="*/ 626040 w 625680"/>
                  <a:gd name="textAreaTop" fmla="*/ 0 h 840240"/>
                  <a:gd name="textAreaBottom" fmla="*/ 840600 h 840240"/>
                </a:gdLst>
                <a:ahLst/>
                <a:rect l="textAreaLeft" t="textAreaTop" r="textAreaRight" b="textAreaBottom"/>
                <a:pathLst>
                  <a:path w="520" h="834">
                    <a:moveTo>
                      <a:pt x="36" y="494"/>
                    </a:moveTo>
                    <a:lnTo>
                      <a:pt x="52" y="530"/>
                    </a:lnTo>
                    <a:lnTo>
                      <a:pt x="80" y="546"/>
                    </a:lnTo>
                    <a:lnTo>
                      <a:pt x="92" y="558"/>
                    </a:lnTo>
                    <a:lnTo>
                      <a:pt x="72" y="574"/>
                    </a:lnTo>
                    <a:lnTo>
                      <a:pt x="52" y="582"/>
                    </a:lnTo>
                    <a:lnTo>
                      <a:pt x="52" y="594"/>
                    </a:lnTo>
                    <a:lnTo>
                      <a:pt x="40" y="630"/>
                    </a:lnTo>
                    <a:lnTo>
                      <a:pt x="12" y="690"/>
                    </a:lnTo>
                    <a:lnTo>
                      <a:pt x="0" y="714"/>
                    </a:lnTo>
                    <a:lnTo>
                      <a:pt x="12" y="762"/>
                    </a:lnTo>
                    <a:lnTo>
                      <a:pt x="24" y="778"/>
                    </a:lnTo>
                    <a:lnTo>
                      <a:pt x="76" y="770"/>
                    </a:lnTo>
                    <a:lnTo>
                      <a:pt x="120" y="778"/>
                    </a:lnTo>
                    <a:lnTo>
                      <a:pt x="172" y="774"/>
                    </a:lnTo>
                    <a:lnTo>
                      <a:pt x="204" y="774"/>
                    </a:lnTo>
                    <a:lnTo>
                      <a:pt x="216" y="774"/>
                    </a:lnTo>
                    <a:lnTo>
                      <a:pt x="220" y="758"/>
                    </a:lnTo>
                    <a:lnTo>
                      <a:pt x="248" y="730"/>
                    </a:lnTo>
                    <a:lnTo>
                      <a:pt x="260" y="730"/>
                    </a:lnTo>
                    <a:lnTo>
                      <a:pt x="284" y="730"/>
                    </a:lnTo>
                    <a:lnTo>
                      <a:pt x="308" y="734"/>
                    </a:lnTo>
                    <a:lnTo>
                      <a:pt x="344" y="766"/>
                    </a:lnTo>
                    <a:lnTo>
                      <a:pt x="392" y="818"/>
                    </a:lnTo>
                    <a:lnTo>
                      <a:pt x="412" y="834"/>
                    </a:lnTo>
                    <a:lnTo>
                      <a:pt x="436" y="834"/>
                    </a:lnTo>
                    <a:lnTo>
                      <a:pt x="448" y="830"/>
                    </a:lnTo>
                    <a:lnTo>
                      <a:pt x="464" y="818"/>
                    </a:lnTo>
                    <a:lnTo>
                      <a:pt x="480" y="818"/>
                    </a:lnTo>
                    <a:lnTo>
                      <a:pt x="476" y="786"/>
                    </a:lnTo>
                    <a:lnTo>
                      <a:pt x="472" y="754"/>
                    </a:lnTo>
                    <a:lnTo>
                      <a:pt x="476" y="742"/>
                    </a:lnTo>
                    <a:lnTo>
                      <a:pt x="492" y="750"/>
                    </a:lnTo>
                    <a:lnTo>
                      <a:pt x="504" y="742"/>
                    </a:lnTo>
                    <a:lnTo>
                      <a:pt x="508" y="702"/>
                    </a:lnTo>
                    <a:lnTo>
                      <a:pt x="508" y="682"/>
                    </a:lnTo>
                    <a:lnTo>
                      <a:pt x="520" y="638"/>
                    </a:lnTo>
                    <a:lnTo>
                      <a:pt x="520" y="626"/>
                    </a:lnTo>
                    <a:lnTo>
                      <a:pt x="464" y="498"/>
                    </a:lnTo>
                    <a:lnTo>
                      <a:pt x="432" y="430"/>
                    </a:lnTo>
                    <a:lnTo>
                      <a:pt x="416" y="426"/>
                    </a:lnTo>
                    <a:lnTo>
                      <a:pt x="364" y="422"/>
                    </a:lnTo>
                    <a:lnTo>
                      <a:pt x="288" y="422"/>
                    </a:lnTo>
                    <a:lnTo>
                      <a:pt x="272" y="354"/>
                    </a:lnTo>
                    <a:lnTo>
                      <a:pt x="264" y="342"/>
                    </a:lnTo>
                    <a:lnTo>
                      <a:pt x="220" y="346"/>
                    </a:lnTo>
                    <a:lnTo>
                      <a:pt x="168" y="346"/>
                    </a:lnTo>
                    <a:lnTo>
                      <a:pt x="128" y="350"/>
                    </a:lnTo>
                    <a:lnTo>
                      <a:pt x="128" y="326"/>
                    </a:lnTo>
                    <a:lnTo>
                      <a:pt x="132" y="310"/>
                    </a:lnTo>
                    <a:lnTo>
                      <a:pt x="120" y="290"/>
                    </a:lnTo>
                    <a:lnTo>
                      <a:pt x="112" y="270"/>
                    </a:lnTo>
                    <a:lnTo>
                      <a:pt x="112" y="142"/>
                    </a:lnTo>
                    <a:lnTo>
                      <a:pt x="104" y="38"/>
                    </a:lnTo>
                    <a:lnTo>
                      <a:pt x="104" y="14"/>
                    </a:lnTo>
                    <a:lnTo>
                      <a:pt x="100" y="0"/>
                    </a:lnTo>
                  </a:path>
                </a:pathLst>
              </a:custGeom>
              <a:noFill/>
              <a:ln w="442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Freeform 52"/>
              <p:cNvSpPr/>
              <p:nvPr/>
            </p:nvSpPr>
            <p:spPr>
              <a:xfrm>
                <a:off x="6028200" y="3072240"/>
                <a:ext cx="217800" cy="1028160"/>
              </a:xfrm>
              <a:custGeom>
                <a:avLst/>
                <a:gdLst>
                  <a:gd name="textAreaLeft" fmla="*/ 0 w 217800"/>
                  <a:gd name="textAreaRight" fmla="*/ 218160 w 217800"/>
                  <a:gd name="textAreaTop" fmla="*/ 0 h 1028160"/>
                  <a:gd name="textAreaBottom" fmla="*/ 1028520 h 1028160"/>
                </a:gdLst>
                <a:ahLst/>
                <a:rect l="textAreaLeft" t="textAreaTop" r="textAreaRight" b="textAreaBottom"/>
                <a:pathLst>
                  <a:path w="180" h="1020">
                    <a:moveTo>
                      <a:pt x="180" y="1020"/>
                    </a:moveTo>
                    <a:lnTo>
                      <a:pt x="180" y="984"/>
                    </a:lnTo>
                    <a:lnTo>
                      <a:pt x="180" y="956"/>
                    </a:lnTo>
                    <a:lnTo>
                      <a:pt x="168" y="952"/>
                    </a:lnTo>
                    <a:lnTo>
                      <a:pt x="112" y="952"/>
                    </a:lnTo>
                    <a:lnTo>
                      <a:pt x="84" y="944"/>
                    </a:lnTo>
                    <a:lnTo>
                      <a:pt x="84" y="868"/>
                    </a:lnTo>
                    <a:lnTo>
                      <a:pt x="68" y="804"/>
                    </a:lnTo>
                    <a:lnTo>
                      <a:pt x="68" y="780"/>
                    </a:lnTo>
                    <a:lnTo>
                      <a:pt x="76" y="752"/>
                    </a:lnTo>
                    <a:lnTo>
                      <a:pt x="84" y="732"/>
                    </a:lnTo>
                    <a:lnTo>
                      <a:pt x="84" y="720"/>
                    </a:lnTo>
                    <a:lnTo>
                      <a:pt x="60" y="668"/>
                    </a:lnTo>
                    <a:lnTo>
                      <a:pt x="44" y="628"/>
                    </a:lnTo>
                    <a:lnTo>
                      <a:pt x="40" y="612"/>
                    </a:lnTo>
                    <a:lnTo>
                      <a:pt x="48" y="600"/>
                    </a:lnTo>
                    <a:lnTo>
                      <a:pt x="60" y="588"/>
                    </a:lnTo>
                    <a:lnTo>
                      <a:pt x="72" y="572"/>
                    </a:lnTo>
                    <a:lnTo>
                      <a:pt x="80" y="548"/>
                    </a:lnTo>
                    <a:lnTo>
                      <a:pt x="80" y="536"/>
                    </a:lnTo>
                    <a:lnTo>
                      <a:pt x="80" y="524"/>
                    </a:lnTo>
                    <a:lnTo>
                      <a:pt x="64" y="536"/>
                    </a:lnTo>
                    <a:lnTo>
                      <a:pt x="52" y="540"/>
                    </a:lnTo>
                    <a:lnTo>
                      <a:pt x="40" y="540"/>
                    </a:lnTo>
                    <a:lnTo>
                      <a:pt x="40" y="528"/>
                    </a:lnTo>
                    <a:lnTo>
                      <a:pt x="48" y="512"/>
                    </a:lnTo>
                    <a:lnTo>
                      <a:pt x="60" y="508"/>
                    </a:lnTo>
                    <a:lnTo>
                      <a:pt x="60" y="484"/>
                    </a:lnTo>
                    <a:lnTo>
                      <a:pt x="60" y="460"/>
                    </a:lnTo>
                    <a:lnTo>
                      <a:pt x="56" y="444"/>
                    </a:lnTo>
                    <a:lnTo>
                      <a:pt x="44" y="444"/>
                    </a:lnTo>
                    <a:lnTo>
                      <a:pt x="24" y="448"/>
                    </a:lnTo>
                    <a:lnTo>
                      <a:pt x="0" y="456"/>
                    </a:lnTo>
                    <a:lnTo>
                      <a:pt x="4" y="412"/>
                    </a:lnTo>
                    <a:lnTo>
                      <a:pt x="12" y="368"/>
                    </a:lnTo>
                    <a:lnTo>
                      <a:pt x="28" y="260"/>
                    </a:lnTo>
                    <a:lnTo>
                      <a:pt x="28" y="224"/>
                    </a:lnTo>
                    <a:lnTo>
                      <a:pt x="28" y="208"/>
                    </a:lnTo>
                    <a:lnTo>
                      <a:pt x="40" y="184"/>
                    </a:lnTo>
                    <a:lnTo>
                      <a:pt x="60" y="144"/>
                    </a:lnTo>
                    <a:lnTo>
                      <a:pt x="72" y="112"/>
                    </a:lnTo>
                    <a:lnTo>
                      <a:pt x="72" y="84"/>
                    </a:lnTo>
                    <a:lnTo>
                      <a:pt x="64" y="72"/>
                    </a:lnTo>
                    <a:lnTo>
                      <a:pt x="48" y="56"/>
                    </a:lnTo>
                    <a:lnTo>
                      <a:pt x="36" y="44"/>
                    </a:lnTo>
                    <a:lnTo>
                      <a:pt x="32" y="0"/>
                    </a:lnTo>
                  </a:path>
                </a:pathLst>
              </a:custGeom>
              <a:noFill/>
              <a:ln w="442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Freeform 53"/>
              <p:cNvSpPr/>
              <p:nvPr/>
            </p:nvSpPr>
            <p:spPr>
              <a:xfrm>
                <a:off x="6037920" y="2041200"/>
                <a:ext cx="366840" cy="1038600"/>
              </a:xfrm>
              <a:custGeom>
                <a:avLst/>
                <a:gdLst>
                  <a:gd name="textAreaLeft" fmla="*/ 0 w 366840"/>
                  <a:gd name="textAreaRight" fmla="*/ 367200 w 366840"/>
                  <a:gd name="textAreaTop" fmla="*/ 0 h 1038600"/>
                  <a:gd name="textAreaBottom" fmla="*/ 1038960 h 1038600"/>
                </a:gdLst>
                <a:ahLst/>
                <a:rect l="textAreaLeft" t="textAreaTop" r="textAreaRight" b="textAreaBottom"/>
                <a:pathLst>
                  <a:path w="304" h="1032">
                    <a:moveTo>
                      <a:pt x="28" y="1032"/>
                    </a:moveTo>
                    <a:lnTo>
                      <a:pt x="36" y="1000"/>
                    </a:lnTo>
                    <a:lnTo>
                      <a:pt x="56" y="952"/>
                    </a:lnTo>
                    <a:lnTo>
                      <a:pt x="64" y="912"/>
                    </a:lnTo>
                    <a:lnTo>
                      <a:pt x="16" y="908"/>
                    </a:lnTo>
                    <a:lnTo>
                      <a:pt x="0" y="896"/>
                    </a:lnTo>
                    <a:lnTo>
                      <a:pt x="4" y="848"/>
                    </a:lnTo>
                    <a:lnTo>
                      <a:pt x="64" y="848"/>
                    </a:lnTo>
                    <a:lnTo>
                      <a:pt x="120" y="848"/>
                    </a:lnTo>
                    <a:lnTo>
                      <a:pt x="128" y="896"/>
                    </a:lnTo>
                    <a:lnTo>
                      <a:pt x="128" y="920"/>
                    </a:lnTo>
                    <a:lnTo>
                      <a:pt x="148" y="920"/>
                    </a:lnTo>
                    <a:lnTo>
                      <a:pt x="188" y="912"/>
                    </a:lnTo>
                    <a:lnTo>
                      <a:pt x="212" y="916"/>
                    </a:lnTo>
                    <a:lnTo>
                      <a:pt x="224" y="920"/>
                    </a:lnTo>
                    <a:lnTo>
                      <a:pt x="228" y="888"/>
                    </a:lnTo>
                    <a:lnTo>
                      <a:pt x="220" y="860"/>
                    </a:lnTo>
                    <a:lnTo>
                      <a:pt x="208" y="836"/>
                    </a:lnTo>
                    <a:lnTo>
                      <a:pt x="180" y="816"/>
                    </a:lnTo>
                    <a:lnTo>
                      <a:pt x="160" y="820"/>
                    </a:lnTo>
                    <a:lnTo>
                      <a:pt x="160" y="776"/>
                    </a:lnTo>
                    <a:lnTo>
                      <a:pt x="180" y="772"/>
                    </a:lnTo>
                    <a:lnTo>
                      <a:pt x="212" y="764"/>
                    </a:lnTo>
                    <a:lnTo>
                      <a:pt x="228" y="768"/>
                    </a:lnTo>
                    <a:lnTo>
                      <a:pt x="244" y="768"/>
                    </a:lnTo>
                    <a:lnTo>
                      <a:pt x="252" y="756"/>
                    </a:lnTo>
                    <a:lnTo>
                      <a:pt x="256" y="696"/>
                    </a:lnTo>
                    <a:lnTo>
                      <a:pt x="260" y="564"/>
                    </a:lnTo>
                    <a:lnTo>
                      <a:pt x="268" y="448"/>
                    </a:lnTo>
                    <a:lnTo>
                      <a:pt x="268" y="416"/>
                    </a:lnTo>
                    <a:lnTo>
                      <a:pt x="292" y="404"/>
                    </a:lnTo>
                    <a:lnTo>
                      <a:pt x="304" y="372"/>
                    </a:lnTo>
                    <a:lnTo>
                      <a:pt x="288" y="364"/>
                    </a:lnTo>
                    <a:lnTo>
                      <a:pt x="276" y="356"/>
                    </a:lnTo>
                    <a:lnTo>
                      <a:pt x="284" y="320"/>
                    </a:lnTo>
                    <a:lnTo>
                      <a:pt x="284" y="232"/>
                    </a:lnTo>
                    <a:lnTo>
                      <a:pt x="284" y="200"/>
                    </a:lnTo>
                    <a:lnTo>
                      <a:pt x="272" y="188"/>
                    </a:lnTo>
                    <a:lnTo>
                      <a:pt x="256" y="188"/>
                    </a:lnTo>
                    <a:lnTo>
                      <a:pt x="280" y="172"/>
                    </a:lnTo>
                    <a:lnTo>
                      <a:pt x="292" y="168"/>
                    </a:lnTo>
                    <a:lnTo>
                      <a:pt x="292" y="148"/>
                    </a:lnTo>
                    <a:lnTo>
                      <a:pt x="288" y="96"/>
                    </a:lnTo>
                    <a:lnTo>
                      <a:pt x="256" y="96"/>
                    </a:lnTo>
                    <a:lnTo>
                      <a:pt x="252" y="72"/>
                    </a:lnTo>
                    <a:lnTo>
                      <a:pt x="252" y="56"/>
                    </a:lnTo>
                    <a:lnTo>
                      <a:pt x="240" y="52"/>
                    </a:lnTo>
                    <a:lnTo>
                      <a:pt x="224" y="48"/>
                    </a:lnTo>
                    <a:lnTo>
                      <a:pt x="220" y="28"/>
                    </a:lnTo>
                    <a:lnTo>
                      <a:pt x="216" y="8"/>
                    </a:lnTo>
                    <a:lnTo>
                      <a:pt x="240" y="0"/>
                    </a:lnTo>
                  </a:path>
                </a:pathLst>
              </a:custGeom>
              <a:noFill/>
              <a:ln w="442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Freeform 54"/>
              <p:cNvSpPr/>
              <p:nvPr/>
            </p:nvSpPr>
            <p:spPr>
              <a:xfrm>
                <a:off x="5995800" y="1690920"/>
                <a:ext cx="351720" cy="349920"/>
              </a:xfrm>
              <a:custGeom>
                <a:avLst/>
                <a:gdLst>
                  <a:gd name="textAreaLeft" fmla="*/ 0 w 351720"/>
                  <a:gd name="textAreaRight" fmla="*/ 352080 w 351720"/>
                  <a:gd name="textAreaTop" fmla="*/ 0 h 349920"/>
                  <a:gd name="textAreaBottom" fmla="*/ 350280 h 349920"/>
                </a:gdLst>
                <a:ahLst/>
                <a:rect l="textAreaLeft" t="textAreaTop" r="textAreaRight" b="textAreaBottom"/>
                <a:pathLst>
                  <a:path w="292" h="348">
                    <a:moveTo>
                      <a:pt x="276" y="348"/>
                    </a:moveTo>
                    <a:lnTo>
                      <a:pt x="284" y="336"/>
                    </a:lnTo>
                    <a:lnTo>
                      <a:pt x="292" y="324"/>
                    </a:lnTo>
                    <a:lnTo>
                      <a:pt x="284" y="312"/>
                    </a:lnTo>
                    <a:lnTo>
                      <a:pt x="272" y="288"/>
                    </a:lnTo>
                    <a:lnTo>
                      <a:pt x="260" y="276"/>
                    </a:lnTo>
                    <a:lnTo>
                      <a:pt x="220" y="284"/>
                    </a:lnTo>
                    <a:lnTo>
                      <a:pt x="172" y="276"/>
                    </a:lnTo>
                    <a:lnTo>
                      <a:pt x="124" y="280"/>
                    </a:lnTo>
                    <a:lnTo>
                      <a:pt x="92" y="272"/>
                    </a:lnTo>
                    <a:lnTo>
                      <a:pt x="60" y="256"/>
                    </a:lnTo>
                    <a:lnTo>
                      <a:pt x="32" y="208"/>
                    </a:lnTo>
                    <a:lnTo>
                      <a:pt x="8" y="168"/>
                    </a:lnTo>
                    <a:lnTo>
                      <a:pt x="0" y="144"/>
                    </a:lnTo>
                    <a:lnTo>
                      <a:pt x="0" y="120"/>
                    </a:lnTo>
                    <a:lnTo>
                      <a:pt x="4" y="64"/>
                    </a:lnTo>
                    <a:lnTo>
                      <a:pt x="12" y="36"/>
                    </a:lnTo>
                    <a:lnTo>
                      <a:pt x="16" y="24"/>
                    </a:lnTo>
                    <a:lnTo>
                      <a:pt x="20" y="0"/>
                    </a:lnTo>
                  </a:path>
                </a:pathLst>
              </a:custGeom>
              <a:noFill/>
              <a:ln w="442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Freeform 56"/>
              <p:cNvSpPr/>
              <p:nvPr/>
            </p:nvSpPr>
            <p:spPr>
              <a:xfrm>
                <a:off x="6325200" y="2949480"/>
                <a:ext cx="1116720" cy="1974600"/>
              </a:xfrm>
              <a:custGeom>
                <a:avLst/>
                <a:gdLst>
                  <a:gd name="textAreaLeft" fmla="*/ 0 w 1116720"/>
                  <a:gd name="textAreaRight" fmla="*/ 1117080 w 1116720"/>
                  <a:gd name="textAreaTop" fmla="*/ 0 h 1974600"/>
                  <a:gd name="textAreaBottom" fmla="*/ 1974960 h 1974600"/>
                </a:gdLst>
                <a:ahLst/>
                <a:rect l="textAreaLeft" t="textAreaTop" r="textAreaRight" b="textAreaBottom"/>
                <a:pathLst>
                  <a:path w="928" h="1960">
                    <a:moveTo>
                      <a:pt x="0" y="0"/>
                    </a:moveTo>
                    <a:lnTo>
                      <a:pt x="752" y="0"/>
                    </a:lnTo>
                    <a:lnTo>
                      <a:pt x="768" y="56"/>
                    </a:lnTo>
                    <a:lnTo>
                      <a:pt x="744" y="112"/>
                    </a:lnTo>
                    <a:lnTo>
                      <a:pt x="720" y="144"/>
                    </a:lnTo>
                    <a:lnTo>
                      <a:pt x="704" y="176"/>
                    </a:lnTo>
                    <a:lnTo>
                      <a:pt x="760" y="152"/>
                    </a:lnTo>
                    <a:lnTo>
                      <a:pt x="864" y="160"/>
                    </a:lnTo>
                    <a:lnTo>
                      <a:pt x="888" y="168"/>
                    </a:lnTo>
                    <a:lnTo>
                      <a:pt x="864" y="192"/>
                    </a:lnTo>
                    <a:lnTo>
                      <a:pt x="800" y="240"/>
                    </a:lnTo>
                    <a:lnTo>
                      <a:pt x="800" y="264"/>
                    </a:lnTo>
                    <a:lnTo>
                      <a:pt x="824" y="288"/>
                    </a:lnTo>
                    <a:lnTo>
                      <a:pt x="768" y="328"/>
                    </a:lnTo>
                    <a:lnTo>
                      <a:pt x="760" y="376"/>
                    </a:lnTo>
                    <a:lnTo>
                      <a:pt x="768" y="440"/>
                    </a:lnTo>
                    <a:lnTo>
                      <a:pt x="728" y="448"/>
                    </a:lnTo>
                    <a:lnTo>
                      <a:pt x="728" y="488"/>
                    </a:lnTo>
                    <a:lnTo>
                      <a:pt x="848" y="488"/>
                    </a:lnTo>
                    <a:lnTo>
                      <a:pt x="872" y="480"/>
                    </a:lnTo>
                    <a:lnTo>
                      <a:pt x="872" y="504"/>
                    </a:lnTo>
                    <a:lnTo>
                      <a:pt x="880" y="528"/>
                    </a:lnTo>
                    <a:lnTo>
                      <a:pt x="904" y="544"/>
                    </a:lnTo>
                    <a:lnTo>
                      <a:pt x="904" y="640"/>
                    </a:lnTo>
                    <a:lnTo>
                      <a:pt x="888" y="688"/>
                    </a:lnTo>
                    <a:lnTo>
                      <a:pt x="824" y="720"/>
                    </a:lnTo>
                    <a:lnTo>
                      <a:pt x="840" y="784"/>
                    </a:lnTo>
                    <a:lnTo>
                      <a:pt x="864" y="832"/>
                    </a:lnTo>
                    <a:lnTo>
                      <a:pt x="896" y="856"/>
                    </a:lnTo>
                    <a:lnTo>
                      <a:pt x="896" y="912"/>
                    </a:lnTo>
                    <a:lnTo>
                      <a:pt x="904" y="984"/>
                    </a:lnTo>
                    <a:lnTo>
                      <a:pt x="904" y="1024"/>
                    </a:lnTo>
                    <a:lnTo>
                      <a:pt x="920" y="1048"/>
                    </a:lnTo>
                    <a:lnTo>
                      <a:pt x="904" y="1088"/>
                    </a:lnTo>
                    <a:lnTo>
                      <a:pt x="912" y="1120"/>
                    </a:lnTo>
                    <a:lnTo>
                      <a:pt x="928" y="1160"/>
                    </a:lnTo>
                    <a:lnTo>
                      <a:pt x="904" y="1176"/>
                    </a:lnTo>
                    <a:lnTo>
                      <a:pt x="896" y="1224"/>
                    </a:lnTo>
                    <a:lnTo>
                      <a:pt x="864" y="1248"/>
                    </a:lnTo>
                    <a:lnTo>
                      <a:pt x="864" y="1312"/>
                    </a:lnTo>
                    <a:lnTo>
                      <a:pt x="856" y="1408"/>
                    </a:lnTo>
                    <a:lnTo>
                      <a:pt x="864" y="1456"/>
                    </a:lnTo>
                    <a:lnTo>
                      <a:pt x="752" y="1480"/>
                    </a:lnTo>
                    <a:lnTo>
                      <a:pt x="768" y="1544"/>
                    </a:lnTo>
                    <a:lnTo>
                      <a:pt x="736" y="1576"/>
                    </a:lnTo>
                    <a:lnTo>
                      <a:pt x="704" y="1584"/>
                    </a:lnTo>
                    <a:lnTo>
                      <a:pt x="736" y="1664"/>
                    </a:lnTo>
                    <a:lnTo>
                      <a:pt x="792" y="1696"/>
                    </a:lnTo>
                    <a:lnTo>
                      <a:pt x="872" y="1696"/>
                    </a:lnTo>
                    <a:lnTo>
                      <a:pt x="872" y="1728"/>
                    </a:lnTo>
                    <a:lnTo>
                      <a:pt x="832" y="1792"/>
                    </a:lnTo>
                    <a:lnTo>
                      <a:pt x="848" y="1824"/>
                    </a:lnTo>
                    <a:lnTo>
                      <a:pt x="856" y="1856"/>
                    </a:lnTo>
                    <a:lnTo>
                      <a:pt x="896" y="1880"/>
                    </a:lnTo>
                    <a:lnTo>
                      <a:pt x="896" y="1920"/>
                    </a:lnTo>
                    <a:lnTo>
                      <a:pt x="896" y="1960"/>
                    </a:lnTo>
                  </a:path>
                </a:pathLst>
              </a:custGeom>
              <a:noFill/>
              <a:ln w="442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Freeform 57"/>
              <p:cNvSpPr/>
              <p:nvPr/>
            </p:nvSpPr>
            <p:spPr>
              <a:xfrm>
                <a:off x="5874840" y="4860720"/>
                <a:ext cx="1680480" cy="422640"/>
              </a:xfrm>
              <a:custGeom>
                <a:avLst/>
                <a:gdLst>
                  <a:gd name="textAreaLeft" fmla="*/ 0 w 1680480"/>
                  <a:gd name="textAreaRight" fmla="*/ 1680840 w 1680480"/>
                  <a:gd name="textAreaTop" fmla="*/ 0 h 422640"/>
                  <a:gd name="textAreaBottom" fmla="*/ 423000 h 422640"/>
                </a:gdLst>
                <a:ahLst/>
                <a:rect l="textAreaLeft" t="textAreaTop" r="textAreaRight" b="textAreaBottom"/>
                <a:pathLst>
                  <a:path w="1398" h="421">
                    <a:moveTo>
                      <a:pt x="0" y="187"/>
                    </a:moveTo>
                    <a:lnTo>
                      <a:pt x="6" y="219"/>
                    </a:lnTo>
                    <a:lnTo>
                      <a:pt x="27" y="267"/>
                    </a:lnTo>
                    <a:lnTo>
                      <a:pt x="91" y="245"/>
                    </a:lnTo>
                    <a:lnTo>
                      <a:pt x="198" y="197"/>
                    </a:lnTo>
                    <a:lnTo>
                      <a:pt x="299" y="176"/>
                    </a:lnTo>
                    <a:lnTo>
                      <a:pt x="379" y="171"/>
                    </a:lnTo>
                    <a:lnTo>
                      <a:pt x="443" y="197"/>
                    </a:lnTo>
                    <a:lnTo>
                      <a:pt x="486" y="240"/>
                    </a:lnTo>
                    <a:lnTo>
                      <a:pt x="624" y="245"/>
                    </a:lnTo>
                    <a:lnTo>
                      <a:pt x="640" y="208"/>
                    </a:lnTo>
                    <a:lnTo>
                      <a:pt x="672" y="160"/>
                    </a:lnTo>
                    <a:lnTo>
                      <a:pt x="720" y="176"/>
                    </a:lnTo>
                    <a:lnTo>
                      <a:pt x="768" y="213"/>
                    </a:lnTo>
                    <a:lnTo>
                      <a:pt x="790" y="261"/>
                    </a:lnTo>
                    <a:lnTo>
                      <a:pt x="854" y="277"/>
                    </a:lnTo>
                    <a:lnTo>
                      <a:pt x="896" y="336"/>
                    </a:lnTo>
                    <a:lnTo>
                      <a:pt x="960" y="373"/>
                    </a:lnTo>
                    <a:lnTo>
                      <a:pt x="1008" y="368"/>
                    </a:lnTo>
                    <a:lnTo>
                      <a:pt x="1088" y="336"/>
                    </a:lnTo>
                    <a:lnTo>
                      <a:pt x="1104" y="389"/>
                    </a:lnTo>
                    <a:lnTo>
                      <a:pt x="1147" y="363"/>
                    </a:lnTo>
                    <a:lnTo>
                      <a:pt x="1190" y="293"/>
                    </a:lnTo>
                    <a:lnTo>
                      <a:pt x="1152" y="272"/>
                    </a:lnTo>
                    <a:lnTo>
                      <a:pt x="1200" y="272"/>
                    </a:lnTo>
                    <a:lnTo>
                      <a:pt x="1222" y="304"/>
                    </a:lnTo>
                    <a:lnTo>
                      <a:pt x="1243" y="331"/>
                    </a:lnTo>
                    <a:lnTo>
                      <a:pt x="1312" y="347"/>
                    </a:lnTo>
                    <a:lnTo>
                      <a:pt x="1323" y="421"/>
                    </a:lnTo>
                    <a:lnTo>
                      <a:pt x="1382" y="389"/>
                    </a:lnTo>
                    <a:lnTo>
                      <a:pt x="1398" y="352"/>
                    </a:lnTo>
                    <a:lnTo>
                      <a:pt x="1318" y="320"/>
                    </a:lnTo>
                    <a:lnTo>
                      <a:pt x="1286" y="272"/>
                    </a:lnTo>
                    <a:lnTo>
                      <a:pt x="1270" y="213"/>
                    </a:lnTo>
                    <a:lnTo>
                      <a:pt x="1376" y="139"/>
                    </a:lnTo>
                    <a:lnTo>
                      <a:pt x="1366" y="85"/>
                    </a:lnTo>
                    <a:lnTo>
                      <a:pt x="1323" y="75"/>
                    </a:lnTo>
                    <a:lnTo>
                      <a:pt x="1275" y="107"/>
                    </a:lnTo>
                    <a:lnTo>
                      <a:pt x="1264" y="139"/>
                    </a:lnTo>
                    <a:lnTo>
                      <a:pt x="1232" y="123"/>
                    </a:lnTo>
                    <a:lnTo>
                      <a:pt x="1227" y="101"/>
                    </a:lnTo>
                    <a:lnTo>
                      <a:pt x="1222" y="64"/>
                    </a:lnTo>
                    <a:lnTo>
                      <a:pt x="1216" y="85"/>
                    </a:lnTo>
                    <a:lnTo>
                      <a:pt x="1158" y="75"/>
                    </a:lnTo>
                    <a:lnTo>
                      <a:pt x="1099" y="96"/>
                    </a:lnTo>
                    <a:lnTo>
                      <a:pt x="1072" y="53"/>
                    </a:lnTo>
                    <a:lnTo>
                      <a:pt x="1094" y="5"/>
                    </a:lnTo>
                    <a:lnTo>
                      <a:pt x="1126" y="0"/>
                    </a:lnTo>
                    <a:lnTo>
                      <a:pt x="1168" y="21"/>
                    </a:lnTo>
                    <a:lnTo>
                      <a:pt x="1216" y="37"/>
                    </a:lnTo>
                    <a:lnTo>
                      <a:pt x="1243" y="43"/>
                    </a:lnTo>
                    <a:lnTo>
                      <a:pt x="1270" y="43"/>
                    </a:lnTo>
                  </a:path>
                </a:pathLst>
              </a:custGeom>
              <a:noFill/>
              <a:ln w="442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Freeform 58"/>
              <p:cNvSpPr/>
              <p:nvPr/>
            </p:nvSpPr>
            <p:spPr>
              <a:xfrm>
                <a:off x="5915880" y="2954520"/>
                <a:ext cx="236160" cy="1079640"/>
              </a:xfrm>
              <a:custGeom>
                <a:avLst/>
                <a:gdLst>
                  <a:gd name="textAreaLeft" fmla="*/ 0 w 236160"/>
                  <a:gd name="textAreaRight" fmla="*/ 236520 w 236160"/>
                  <a:gd name="textAreaTop" fmla="*/ 0 h 1079640"/>
                  <a:gd name="textAreaBottom" fmla="*/ 1080000 h 1079640"/>
                </a:gdLst>
                <a:ahLst/>
                <a:rect l="textAreaLeft" t="textAreaTop" r="textAreaRight" b="textAreaBottom"/>
                <a:pathLst>
                  <a:path w="197" h="1072">
                    <a:moveTo>
                      <a:pt x="197" y="1072"/>
                    </a:moveTo>
                    <a:lnTo>
                      <a:pt x="149" y="1072"/>
                    </a:lnTo>
                    <a:lnTo>
                      <a:pt x="123" y="1062"/>
                    </a:lnTo>
                    <a:lnTo>
                      <a:pt x="123" y="928"/>
                    </a:lnTo>
                    <a:lnTo>
                      <a:pt x="123" y="912"/>
                    </a:lnTo>
                    <a:lnTo>
                      <a:pt x="85" y="896"/>
                    </a:lnTo>
                    <a:lnTo>
                      <a:pt x="64" y="912"/>
                    </a:lnTo>
                    <a:lnTo>
                      <a:pt x="37" y="907"/>
                    </a:lnTo>
                    <a:lnTo>
                      <a:pt x="11" y="875"/>
                    </a:lnTo>
                    <a:lnTo>
                      <a:pt x="16" y="534"/>
                    </a:lnTo>
                    <a:lnTo>
                      <a:pt x="27" y="331"/>
                    </a:lnTo>
                    <a:lnTo>
                      <a:pt x="21" y="155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Freeform 59"/>
              <p:cNvSpPr/>
              <p:nvPr/>
            </p:nvSpPr>
            <p:spPr>
              <a:xfrm>
                <a:off x="5322240" y="3828240"/>
                <a:ext cx="648360" cy="1209240"/>
              </a:xfrm>
              <a:custGeom>
                <a:avLst/>
                <a:gdLst>
                  <a:gd name="textAreaLeft" fmla="*/ 0 w 648360"/>
                  <a:gd name="textAreaRight" fmla="*/ 648720 w 648360"/>
                  <a:gd name="textAreaTop" fmla="*/ 0 h 1209240"/>
                  <a:gd name="textAreaBottom" fmla="*/ 1209600 h 1209240"/>
                </a:gdLst>
                <a:ahLst/>
                <a:rect l="textAreaLeft" t="textAreaTop" r="textAreaRight" b="textAreaBottom"/>
                <a:pathLst>
                  <a:path w="538" h="1200">
                    <a:moveTo>
                      <a:pt x="368" y="0"/>
                    </a:moveTo>
                    <a:lnTo>
                      <a:pt x="352" y="21"/>
                    </a:lnTo>
                    <a:lnTo>
                      <a:pt x="346" y="53"/>
                    </a:lnTo>
                    <a:lnTo>
                      <a:pt x="298" y="69"/>
                    </a:lnTo>
                    <a:lnTo>
                      <a:pt x="288" y="96"/>
                    </a:lnTo>
                    <a:lnTo>
                      <a:pt x="261" y="91"/>
                    </a:lnTo>
                    <a:lnTo>
                      <a:pt x="218" y="96"/>
                    </a:lnTo>
                    <a:lnTo>
                      <a:pt x="245" y="128"/>
                    </a:lnTo>
                    <a:lnTo>
                      <a:pt x="229" y="144"/>
                    </a:lnTo>
                    <a:lnTo>
                      <a:pt x="218" y="165"/>
                    </a:lnTo>
                    <a:lnTo>
                      <a:pt x="186" y="176"/>
                    </a:lnTo>
                    <a:lnTo>
                      <a:pt x="176" y="208"/>
                    </a:lnTo>
                    <a:lnTo>
                      <a:pt x="138" y="256"/>
                    </a:lnTo>
                    <a:lnTo>
                      <a:pt x="122" y="288"/>
                    </a:lnTo>
                    <a:lnTo>
                      <a:pt x="122" y="336"/>
                    </a:lnTo>
                    <a:lnTo>
                      <a:pt x="154" y="352"/>
                    </a:lnTo>
                    <a:lnTo>
                      <a:pt x="192" y="357"/>
                    </a:lnTo>
                    <a:lnTo>
                      <a:pt x="261" y="363"/>
                    </a:lnTo>
                    <a:lnTo>
                      <a:pt x="277" y="384"/>
                    </a:lnTo>
                    <a:lnTo>
                      <a:pt x="272" y="405"/>
                    </a:lnTo>
                    <a:lnTo>
                      <a:pt x="245" y="464"/>
                    </a:lnTo>
                    <a:lnTo>
                      <a:pt x="272" y="501"/>
                    </a:lnTo>
                    <a:lnTo>
                      <a:pt x="245" y="544"/>
                    </a:lnTo>
                    <a:lnTo>
                      <a:pt x="240" y="576"/>
                    </a:lnTo>
                    <a:lnTo>
                      <a:pt x="293" y="608"/>
                    </a:lnTo>
                    <a:lnTo>
                      <a:pt x="384" y="576"/>
                    </a:lnTo>
                    <a:lnTo>
                      <a:pt x="432" y="576"/>
                    </a:lnTo>
                    <a:lnTo>
                      <a:pt x="464" y="619"/>
                    </a:lnTo>
                    <a:lnTo>
                      <a:pt x="485" y="645"/>
                    </a:lnTo>
                    <a:lnTo>
                      <a:pt x="538" y="688"/>
                    </a:lnTo>
                    <a:lnTo>
                      <a:pt x="480" y="704"/>
                    </a:lnTo>
                    <a:lnTo>
                      <a:pt x="432" y="741"/>
                    </a:lnTo>
                    <a:lnTo>
                      <a:pt x="394" y="725"/>
                    </a:lnTo>
                    <a:lnTo>
                      <a:pt x="346" y="741"/>
                    </a:lnTo>
                    <a:lnTo>
                      <a:pt x="341" y="720"/>
                    </a:lnTo>
                    <a:lnTo>
                      <a:pt x="272" y="709"/>
                    </a:lnTo>
                    <a:lnTo>
                      <a:pt x="224" y="693"/>
                    </a:lnTo>
                    <a:lnTo>
                      <a:pt x="154" y="704"/>
                    </a:lnTo>
                    <a:lnTo>
                      <a:pt x="64" y="709"/>
                    </a:lnTo>
                    <a:lnTo>
                      <a:pt x="48" y="725"/>
                    </a:lnTo>
                    <a:lnTo>
                      <a:pt x="21" y="763"/>
                    </a:lnTo>
                    <a:lnTo>
                      <a:pt x="5" y="827"/>
                    </a:lnTo>
                    <a:lnTo>
                      <a:pt x="21" y="880"/>
                    </a:lnTo>
                    <a:lnTo>
                      <a:pt x="0" y="917"/>
                    </a:lnTo>
                    <a:lnTo>
                      <a:pt x="37" y="955"/>
                    </a:lnTo>
                    <a:lnTo>
                      <a:pt x="42" y="987"/>
                    </a:lnTo>
                    <a:lnTo>
                      <a:pt x="112" y="981"/>
                    </a:lnTo>
                    <a:lnTo>
                      <a:pt x="213" y="992"/>
                    </a:lnTo>
                    <a:lnTo>
                      <a:pt x="304" y="1003"/>
                    </a:lnTo>
                    <a:lnTo>
                      <a:pt x="357" y="1003"/>
                    </a:lnTo>
                    <a:lnTo>
                      <a:pt x="362" y="971"/>
                    </a:lnTo>
                    <a:lnTo>
                      <a:pt x="448" y="971"/>
                    </a:lnTo>
                    <a:lnTo>
                      <a:pt x="469" y="1019"/>
                    </a:lnTo>
                    <a:lnTo>
                      <a:pt x="528" y="1056"/>
                    </a:lnTo>
                    <a:lnTo>
                      <a:pt x="490" y="1131"/>
                    </a:lnTo>
                    <a:lnTo>
                      <a:pt x="480" y="1173"/>
                    </a:lnTo>
                    <a:lnTo>
                      <a:pt x="426" y="1200"/>
                    </a:lnTo>
                  </a:path>
                </a:pathLst>
              </a:custGeom>
              <a:noFill/>
              <a:ln w="4428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Freeform 60"/>
              <p:cNvSpPr/>
              <p:nvPr/>
            </p:nvSpPr>
            <p:spPr>
              <a:xfrm>
                <a:off x="5963760" y="4522320"/>
                <a:ext cx="206640" cy="63360"/>
              </a:xfrm>
              <a:custGeom>
                <a:avLst/>
                <a:gdLst>
                  <a:gd name="textAreaLeft" fmla="*/ 0 w 206640"/>
                  <a:gd name="textAreaRight" fmla="*/ 207000 w 206640"/>
                  <a:gd name="textAreaTop" fmla="*/ 0 h 63360"/>
                  <a:gd name="textAreaBottom" fmla="*/ 63720 h 63360"/>
                </a:gdLst>
                <a:ahLst/>
                <a:rect l="textAreaLeft" t="textAreaTop" r="textAreaRight" b="textAreaBottom"/>
                <a:pathLst>
                  <a:path w="171" h="64">
                    <a:moveTo>
                      <a:pt x="0" y="0"/>
                    </a:moveTo>
                    <a:lnTo>
                      <a:pt x="75" y="27"/>
                    </a:lnTo>
                    <a:lnTo>
                      <a:pt x="128" y="21"/>
                    </a:lnTo>
                    <a:lnTo>
                      <a:pt x="171" y="64"/>
                    </a:lnTo>
                  </a:path>
                </a:pathLst>
              </a:custGeom>
              <a:noFill/>
              <a:ln w="442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920" bIns="169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Freeform 61"/>
              <p:cNvSpPr/>
              <p:nvPr/>
            </p:nvSpPr>
            <p:spPr>
              <a:xfrm>
                <a:off x="2733840" y="2546280"/>
                <a:ext cx="1905840" cy="1797480"/>
              </a:xfrm>
              <a:custGeom>
                <a:avLst/>
                <a:gdLst>
                  <a:gd name="textAreaLeft" fmla="*/ 0 w 1905840"/>
                  <a:gd name="textAreaRight" fmla="*/ 1906200 w 1905840"/>
                  <a:gd name="textAreaTop" fmla="*/ 0 h 1797480"/>
                  <a:gd name="textAreaBottom" fmla="*/ 1797840 h 1797480"/>
                </a:gdLst>
                <a:ahLst/>
                <a:rect l="textAreaLeft" t="textAreaTop" r="textAreaRight" b="textAreaBottom"/>
                <a:pathLst>
                  <a:path w="1584" h="1784">
                    <a:moveTo>
                      <a:pt x="0" y="1784"/>
                    </a:moveTo>
                    <a:lnTo>
                      <a:pt x="56" y="984"/>
                    </a:lnTo>
                    <a:lnTo>
                      <a:pt x="544" y="984"/>
                    </a:lnTo>
                    <a:lnTo>
                      <a:pt x="544" y="256"/>
                    </a:lnTo>
                    <a:lnTo>
                      <a:pt x="800" y="256"/>
                    </a:lnTo>
                    <a:lnTo>
                      <a:pt x="800" y="176"/>
                    </a:lnTo>
                    <a:lnTo>
                      <a:pt x="1160" y="160"/>
                    </a:lnTo>
                    <a:lnTo>
                      <a:pt x="1168" y="0"/>
                    </a:lnTo>
                    <a:lnTo>
                      <a:pt x="1584" y="0"/>
                    </a:lnTo>
                  </a:path>
                </a:pathLst>
              </a:custGeom>
              <a:noFill/>
              <a:ln w="442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Freeform 62"/>
              <p:cNvSpPr/>
              <p:nvPr/>
            </p:nvSpPr>
            <p:spPr>
              <a:xfrm>
                <a:off x="4639680" y="1676520"/>
                <a:ext cx="1358640" cy="869760"/>
              </a:xfrm>
              <a:custGeom>
                <a:avLst/>
                <a:gdLst>
                  <a:gd name="textAreaLeft" fmla="*/ 0 w 1358640"/>
                  <a:gd name="textAreaRight" fmla="*/ 1359000 w 1358640"/>
                  <a:gd name="textAreaTop" fmla="*/ 0 h 869760"/>
                  <a:gd name="textAreaBottom" fmla="*/ 870120 h 869760"/>
                </a:gdLst>
                <a:ahLst/>
                <a:rect l="textAreaLeft" t="textAreaTop" r="textAreaRight" b="textAreaBottom"/>
                <a:pathLst>
                  <a:path w="1128" h="864">
                    <a:moveTo>
                      <a:pt x="0" y="864"/>
                    </a:moveTo>
                    <a:lnTo>
                      <a:pt x="24" y="560"/>
                    </a:lnTo>
                    <a:lnTo>
                      <a:pt x="128" y="552"/>
                    </a:lnTo>
                    <a:lnTo>
                      <a:pt x="128" y="488"/>
                    </a:lnTo>
                    <a:lnTo>
                      <a:pt x="256" y="488"/>
                    </a:lnTo>
                    <a:lnTo>
                      <a:pt x="304" y="184"/>
                    </a:lnTo>
                    <a:lnTo>
                      <a:pt x="856" y="184"/>
                    </a:lnTo>
                    <a:lnTo>
                      <a:pt x="848" y="152"/>
                    </a:lnTo>
                    <a:lnTo>
                      <a:pt x="824" y="104"/>
                    </a:lnTo>
                    <a:lnTo>
                      <a:pt x="800" y="80"/>
                    </a:lnTo>
                    <a:lnTo>
                      <a:pt x="800" y="40"/>
                    </a:lnTo>
                    <a:lnTo>
                      <a:pt x="776" y="8"/>
                    </a:lnTo>
                    <a:lnTo>
                      <a:pt x="872" y="8"/>
                    </a:lnTo>
                    <a:lnTo>
                      <a:pt x="1008" y="0"/>
                    </a:lnTo>
                    <a:lnTo>
                      <a:pt x="1128" y="8"/>
                    </a:lnTo>
                  </a:path>
                </a:pathLst>
              </a:custGeom>
              <a:noFill/>
              <a:ln w="442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Rectangle 64"/>
              <p:cNvSpPr/>
              <p:nvPr/>
            </p:nvSpPr>
            <p:spPr>
              <a:xfrm>
                <a:off x="4860720" y="2963880"/>
                <a:ext cx="58608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865080"/>
                    <a:tab algn="l" pos="1730520"/>
                    <a:tab algn="l" pos="2595600"/>
                    <a:tab algn="l" pos="3460680"/>
                    <a:tab algn="l" pos="4325760"/>
                    <a:tab algn="l" pos="5191200"/>
                    <a:tab algn="l" pos="6056280"/>
                    <a:tab algn="l" pos="6921360"/>
                    <a:tab algn="l" pos="7786800"/>
                    <a:tab algn="l" pos="8651880"/>
                    <a:tab algn="l" pos="9516960"/>
                    <a:tab algn="l" pos="10382400"/>
                  </a:tabLst>
                </a:pPr>
                <a:r>
                  <a:rPr b="1" lang="en-US" sz="2300" spc="-1" strike="noStrike">
                    <a:solidFill>
                      <a:srgbClr val="5f5f5f"/>
                    </a:solidFill>
                    <a:latin typeface="Arial"/>
                  </a:rPr>
                  <a:t>SPP</a:t>
                </a:r>
                <a:endParaRPr b="0" lang="en-US" sz="2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Text Box 65"/>
              <p:cNvSpPr/>
              <p:nvPr/>
            </p:nvSpPr>
            <p:spPr>
              <a:xfrm>
                <a:off x="5943960" y="5581080"/>
                <a:ext cx="1053360" cy="34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6400" rIns="86400" tIns="43200" bIns="43200" anchor="ctr">
                <a:spAutoFit/>
              </a:bodyPr>
              <a:p>
                <a:pPr algn="ctr">
                  <a:tabLst>
                    <a:tab algn="l" pos="0"/>
                    <a:tab algn="l" pos="865080"/>
                    <a:tab algn="l" pos="1730520"/>
                    <a:tab algn="l" pos="2595600"/>
                    <a:tab algn="l" pos="3460680"/>
                    <a:tab algn="l" pos="4325760"/>
                    <a:tab algn="l" pos="5191200"/>
                    <a:tab algn="l" pos="6056280"/>
                    <a:tab algn="l" pos="6921360"/>
                    <a:tab algn="l" pos="7786800"/>
                    <a:tab algn="l" pos="8651880"/>
                    <a:tab algn="l" pos="9516960"/>
                    <a:tab algn="l" pos="10382400"/>
                  </a:tabLst>
                </a:pPr>
                <a:r>
                  <a:rPr b="1" i="1" lang="en-US" sz="1700" spc="-1" strike="noStrike">
                    <a:solidFill>
                      <a:srgbClr val="000000"/>
                    </a:solidFill>
                    <a:latin typeface="Arial"/>
                  </a:rPr>
                  <a:t>Tex-La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Rectangle 67"/>
              <p:cNvSpPr/>
              <p:nvPr/>
            </p:nvSpPr>
            <p:spPr>
              <a:xfrm>
                <a:off x="6396840" y="3511080"/>
                <a:ext cx="1288440" cy="869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865080"/>
                    <a:tab algn="l" pos="1730520"/>
                    <a:tab algn="l" pos="2595600"/>
                    <a:tab algn="l" pos="3460680"/>
                    <a:tab algn="l" pos="4325760"/>
                    <a:tab algn="l" pos="5191200"/>
                    <a:tab algn="l" pos="6056280"/>
                    <a:tab algn="l" pos="6921360"/>
                    <a:tab algn="l" pos="7786800"/>
                    <a:tab algn="l" pos="8651880"/>
                    <a:tab algn="l" pos="9516960"/>
                    <a:tab algn="l" pos="10382400"/>
                  </a:tabLst>
                </a:pPr>
                <a:r>
                  <a:rPr b="1" lang="en-US" sz="2300" spc="-1" strike="noStrike">
                    <a:solidFill>
                      <a:srgbClr val="ffffff"/>
                    </a:solidFill>
                    <a:latin typeface="Arial"/>
                  </a:rPr>
                  <a:t>SERC </a:t>
                </a:r>
                <a:endParaRPr b="0" lang="en-US" sz="23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865080"/>
                    <a:tab algn="l" pos="1730520"/>
                    <a:tab algn="l" pos="2595600"/>
                    <a:tab algn="l" pos="3460680"/>
                    <a:tab algn="l" pos="4325760"/>
                    <a:tab algn="l" pos="5191200"/>
                    <a:tab algn="l" pos="6056280"/>
                    <a:tab algn="l" pos="6921360"/>
                    <a:tab algn="l" pos="7786800"/>
                    <a:tab algn="l" pos="8651880"/>
                    <a:tab algn="l" pos="9516960"/>
                    <a:tab algn="l" pos="10382400"/>
                  </a:tabLst>
                </a:pPr>
                <a:r>
                  <a:rPr b="1" lang="en-US" sz="1700" spc="-1" strike="noStrike">
                    <a:solidFill>
                      <a:srgbClr val="ffffff"/>
                    </a:solidFill>
                    <a:latin typeface="Arial"/>
                  </a:rPr>
                  <a:t>(Entergy 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865080"/>
                    <a:tab algn="l" pos="1730520"/>
                    <a:tab algn="l" pos="2595600"/>
                    <a:tab algn="l" pos="3460680"/>
                    <a:tab algn="l" pos="4325760"/>
                    <a:tab algn="l" pos="5191200"/>
                    <a:tab algn="l" pos="6056280"/>
                    <a:tab algn="l" pos="6921360"/>
                    <a:tab algn="l" pos="7786800"/>
                    <a:tab algn="l" pos="8651880"/>
                    <a:tab algn="l" pos="9516960"/>
                    <a:tab algn="l" pos="10382400"/>
                  </a:tabLst>
                </a:pPr>
                <a:r>
                  <a:rPr b="1" lang="en-US" sz="1700" spc="-1" strike="noStrike">
                    <a:solidFill>
                      <a:srgbClr val="ffffff"/>
                    </a:solidFill>
                    <a:latin typeface="Arial"/>
                  </a:rPr>
                  <a:t>Sub-Region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Freeform 68"/>
              <p:cNvSpPr/>
              <p:nvPr/>
            </p:nvSpPr>
            <p:spPr>
              <a:xfrm>
                <a:off x="5620320" y="4331880"/>
                <a:ext cx="513000" cy="314640"/>
              </a:xfrm>
              <a:custGeom>
                <a:avLst/>
                <a:gdLst/>
                <a:ahLst/>
                <a:rect l="l" t="t" r="r" b="b"/>
                <a:pathLst>
                  <a:path w="10000" h="10844">
                    <a:moveTo>
                      <a:pt x="9629" y="1345"/>
                    </a:moveTo>
                    <a:lnTo>
                      <a:pt x="7595" y="397"/>
                    </a:lnTo>
                    <a:cubicBezTo>
                      <a:pt x="7494" y="3256"/>
                      <a:pt x="7236" y="342"/>
                      <a:pt x="6163" y="397"/>
                    </a:cubicBezTo>
                    <a:lnTo>
                      <a:pt x="6163" y="397"/>
                    </a:lnTo>
                    <a:cubicBezTo>
                      <a:pt x="6132" y="791"/>
                      <a:pt x="4763" y="0"/>
                      <a:pt x="4731" y="397"/>
                    </a:cubicBezTo>
                    <a:lnTo>
                      <a:pt x="4731" y="397"/>
                    </a:lnTo>
                    <a:lnTo>
                      <a:pt x="3299" y="397"/>
                    </a:lnTo>
                    <a:lnTo>
                      <a:pt x="433" y="3018"/>
                    </a:lnTo>
                    <a:cubicBezTo>
                      <a:pt x="0" y="3866"/>
                      <a:pt x="608" y="4803"/>
                      <a:pt x="698" y="5487"/>
                    </a:cubicBezTo>
                    <a:cubicBezTo>
                      <a:pt x="790" y="6028"/>
                      <a:pt x="884" y="6571"/>
                      <a:pt x="978" y="7116"/>
                    </a:cubicBezTo>
                    <a:cubicBezTo>
                      <a:pt x="1068" y="7706"/>
                      <a:pt x="1163" y="8299"/>
                      <a:pt x="1255" y="8894"/>
                    </a:cubicBezTo>
                    <a:cubicBezTo>
                      <a:pt x="1193" y="9485"/>
                      <a:pt x="3360" y="7673"/>
                      <a:pt x="3299" y="8265"/>
                    </a:cubicBezTo>
                    <a:cubicBezTo>
                      <a:pt x="3887" y="9076"/>
                      <a:pt x="4125" y="7832"/>
                      <a:pt x="4730" y="8265"/>
                    </a:cubicBezTo>
                    <a:lnTo>
                      <a:pt x="6163" y="8265"/>
                    </a:lnTo>
                    <a:cubicBezTo>
                      <a:pt x="6769" y="7937"/>
                      <a:pt x="8210" y="10844"/>
                      <a:pt x="8849" y="10233"/>
                    </a:cubicBezTo>
                    <a:cubicBezTo>
                      <a:pt x="9490" y="9623"/>
                      <a:pt x="9790" y="5424"/>
                      <a:pt x="10000" y="4599"/>
                    </a:cubicBezTo>
                    <a:cubicBezTo>
                      <a:pt x="9876" y="3517"/>
                      <a:pt x="9752" y="2431"/>
                      <a:pt x="9629" y="1345"/>
                    </a:cubicBezTo>
                    <a:close/>
                  </a:path>
                </a:pathLst>
              </a:custGeom>
              <a:solidFill>
                <a:srgbClr val="c0c0c0">
                  <a:alpha val="50000"/>
                </a:srgbClr>
              </a:solidFill>
              <a:ln w="25560">
                <a:solidFill>
                  <a:srgbClr val="ffffff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cxnSp>
        <p:nvCxnSpPr>
          <p:cNvPr id="165" name="Straight Arrow Connector 75"/>
          <p:cNvCxnSpPr>
            <a:stCxn id="162" idx="0"/>
          </p:cNvCxnSpPr>
          <p:nvPr/>
        </p:nvCxnSpPr>
        <p:spPr>
          <a:xfrm flipH="1" flipV="1">
            <a:off x="5790600" y="4495680"/>
            <a:ext cx="680040" cy="108324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sp>
        <p:nvSpPr>
          <p:cNvPr id="166" name="Slide Number Placeholder 76"/>
          <p:cNvSpPr/>
          <p:nvPr/>
        </p:nvSpPr>
        <p:spPr>
          <a:xfrm>
            <a:off x="67816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C07BF-00D4-44E5-9C06-5AD47559C54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Footer Placeholder 64"/>
          <p:cNvSpPr/>
          <p:nvPr/>
        </p:nvSpPr>
        <p:spPr>
          <a:xfrm>
            <a:off x="3124080" y="649296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ex-La Electric Cooperative of Tex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Forecast Summary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9" name="Content Placeholder 12" descr=""/>
          <p:cNvPicPr/>
          <p:nvPr/>
        </p:nvPicPr>
        <p:blipFill>
          <a:blip r:embed="rId1"/>
          <a:stretch/>
        </p:blipFill>
        <p:spPr>
          <a:xfrm>
            <a:off x="4648320" y="4014720"/>
            <a:ext cx="4038480" cy="238608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560" y="1752120"/>
            <a:ext cx="419076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ddddd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nter peak to increase by 31 MW from 2010-2016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ddddd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mmer peak to increase by 28 MW from 2010-2016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ddddd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ergy to increase by 182 GWH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ddddd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 industrial account will account for 22 MW and 135 GWH of total growth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ddddd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t of new industrial customer, energy to increase at 1.4% per year and peak to increase at 1.1% per yea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Content Placeholder 11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2262240"/>
          </a:xfrm>
          <a:prstGeom prst="rect">
            <a:avLst/>
          </a:prstGeom>
          <a:ln w="0">
            <a:noFill/>
          </a:ln>
        </p:spPr>
      </p:pic>
      <p:sp>
        <p:nvSpPr>
          <p:cNvPr id="172" name="Slide Number Placeholder 5"/>
          <p:cNvSpPr/>
          <p:nvPr/>
        </p:nvSpPr>
        <p:spPr>
          <a:xfrm>
            <a:off x="67816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1735D-CA18-4F4D-BF79-B01DDB11062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Footer Placeholder 6"/>
          <p:cNvSpPr/>
          <p:nvPr/>
        </p:nvSpPr>
        <p:spPr>
          <a:xfrm>
            <a:off x="3124080" y="649296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ex-La Electric Cooperative of Tex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Load Forecast Methodologi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3848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ddddd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ottom-Up, Top-Dow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ddddd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ustomer cla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ddddd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stribution cooperati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ddddd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x-L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ddddd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g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ddddd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int of delive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ddddd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ybrid End-Use and Econometric Mod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ddddd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conometric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ddddd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dgm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ddddd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istorical propor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Content Placeholder 19" descr=""/>
          <p:cNvPicPr/>
          <p:nvPr/>
        </p:nvPicPr>
        <p:blipFill>
          <a:blip r:embed="rId1"/>
          <a:stretch/>
        </p:blipFill>
        <p:spPr>
          <a:xfrm>
            <a:off x="4340160" y="1596960"/>
            <a:ext cx="4353120" cy="2425680"/>
          </a:xfrm>
          <a:prstGeom prst="rect">
            <a:avLst/>
          </a:prstGeom>
          <a:ln w="0">
            <a:noFill/>
          </a:ln>
        </p:spPr>
      </p:pic>
      <p:pic>
        <p:nvPicPr>
          <p:cNvPr id="177" name="Content Placeholder 20" descr=""/>
          <p:cNvPicPr/>
          <p:nvPr/>
        </p:nvPicPr>
        <p:blipFill>
          <a:blip r:embed="rId2"/>
          <a:stretch/>
        </p:blipFill>
        <p:spPr>
          <a:xfrm>
            <a:off x="4413240" y="4035600"/>
            <a:ext cx="4280040" cy="2468520"/>
          </a:xfrm>
          <a:prstGeom prst="rect">
            <a:avLst/>
          </a:prstGeom>
          <a:ln w="0">
            <a:noFill/>
          </a:ln>
        </p:spPr>
      </p:pic>
      <p:sp>
        <p:nvSpPr>
          <p:cNvPr id="178" name="Slide Number Placeholder 21"/>
          <p:cNvSpPr/>
          <p:nvPr/>
        </p:nvSpPr>
        <p:spPr>
          <a:xfrm>
            <a:off x="67816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737E3-334F-4E9B-ACEF-C4D4C9BC7E3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Footer Placeholder 6"/>
          <p:cNvSpPr/>
          <p:nvPr/>
        </p:nvSpPr>
        <p:spPr>
          <a:xfrm>
            <a:off x="3124080" y="649296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ex-La Electric Cooperative of Tex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68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2010 ALDR Fil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1" name="Picture 5" descr=""/>
          <p:cNvPicPr/>
          <p:nvPr/>
        </p:nvPicPr>
        <p:blipFill>
          <a:blip r:embed="rId1"/>
          <a:stretch/>
        </p:blipFill>
        <p:spPr>
          <a:xfrm>
            <a:off x="1216080" y="1752480"/>
            <a:ext cx="6711840" cy="4373640"/>
          </a:xfrm>
          <a:prstGeom prst="rect">
            <a:avLst/>
          </a:prstGeom>
          <a:ln w="0">
            <a:noFill/>
          </a:ln>
        </p:spPr>
      </p:pic>
      <p:sp>
        <p:nvSpPr>
          <p:cNvPr id="182" name="Slide Number Placeholder 13"/>
          <p:cNvSpPr/>
          <p:nvPr/>
        </p:nvSpPr>
        <p:spPr>
          <a:xfrm>
            <a:off x="67816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23CEE-CC97-44FA-8FF4-F4F8B600F66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Footer Placeholder 4"/>
          <p:cNvSpPr/>
          <p:nvPr/>
        </p:nvSpPr>
        <p:spPr>
          <a:xfrm>
            <a:off x="3124080" y="649296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ex-La Electric Cooperative of Tex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7T19:14:18Z</dcterms:created>
  <dc:creator>John Hutts</dc:creator>
  <dc:description/>
  <dc:language>en-US</dc:language>
  <cp:lastModifiedBy>balbracht</cp:lastModifiedBy>
  <dcterms:modified xsi:type="dcterms:W3CDTF">2010-06-02T19:50:04Z</dcterms:modified>
  <cp:revision>35</cp:revision>
  <dc:subject/>
  <dc:title>Tex-La Electric Cooperative of Texas Load Forecast Methodologies</dc:title>
</cp:coreProperties>
</file>