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FCEB3-50AA-418F-91B9-1B463E8D0B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75B37-C6F9-4A2B-8A18-78E0DAA50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AACD1-A9A0-43BA-9E0D-321788507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B9FBB-1355-45B3-B77A-BFB2DFCEB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8AB5E-D56D-4CA9-8A68-D2F7F879B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03124-A7CE-4C0D-8444-A73B47FE7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68497-E41B-41DD-B56C-C80388232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B7C6C-1168-4E08-9641-782EB5BDA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576DC-6259-4F00-87BC-C9F9E045D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5A3B2-A3E4-4D06-9502-FB5456E88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0A34F-AD0D-437A-B8A9-FC357D11E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BCF47-CFA6-4F74-B66A-F39FE38B76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3B56B-7570-4EB3-AB66-665B0BE8C3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uth Texas Electric Cooperative</a:t>
            </a: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Forecasting Methodolog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S Meeting, 6/10/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Load Forecas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Load Foreca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tation Load Forecast for Powerflow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 Forecast</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d by Clearspring Energy Advisors, LLC, with data obtained from STEC distribution cooperative member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incident forecas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 forecasts are developed for each of the major revenue classes (residential, small commercial, etc.) for customers and kWh per customer. kWh sales are then calculated as the product of the two series. Methods used to project these series include econometric (regression), trending and judgment.</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 energy is allocated to a monthly series based on historic shares. Using this series and historic monthly load factors, monthly peak demand projections are calculated. The other approach that is sometimes used is to develop econometric models of monthly energy and weather to forecast monthly peaks (the most recent study relied on load factor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m of each individual member forecast is calculated to determine the STEC forec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station Forecast</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in conjunction with the System Forecast to create powerflow mode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coincident foreca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C member cooperatives provide individual substation load dat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tation loads are adjusted for factors such as distribution feeder swapping and load transfers for new subst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tation load projections are extrapolated from historical load data based on 2, 5, and 10 year curve fi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knowledge and engineering judgment determine best curve fi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SA (Dataset A)</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SSWG Data Set A summer peak case non-coincident peak individual substation load forecast data is scaled to fit the STEC System Forecast. Off-peak, spring, fall, and winter loads are scaled from the summer peak case loads based upon historical system load lev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SB (Dataset B)</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C non-coincident peak individual substation load forecast data is used for the loads in the SSWG Data Set B summer peak cases. The minimum case loads are scaled from the summer peak case based upon historical STEC system load lev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wer Factor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substation load data and hourly interval MW and Mvar data are used to determine substation power factors for DSA cas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DSB cases the individual substation power factors determined for DSA may be adjusted when power factor corrections are necessary and expected to meet ERCOT requireme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7" name=""/>
          <p:cNvSpPr txBox="1"/>
          <p:nvPr/>
        </p:nvSpPr>
        <p:spPr>
          <a:xfrm>
            <a:off x="2895480" y="2057400"/>
            <a:ext cx="2819520" cy="3429000"/>
          </a:xfrm>
          <a:prstGeom prst="rect">
            <a:avLst/>
          </a:prstGeom>
        </p:spPr>
        <p:txBody>
          <a:bodyPr wrap="none" lIns="90000" rIns="90000" tIns="46800" bIns="46800" anchor="t" anchorCtr="1">
            <a:prstTxWarp prst="textPlain">
              <a:avLst>
                <a:gd name="adj" fmla="val 476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2T22:12:50Z</dcterms:created>
  <dc:creator>stec</dc:creator>
  <dc:description/>
  <dc:language>en-US</dc:language>
  <cp:lastModifiedBy>stec</cp:lastModifiedBy>
  <dcterms:modified xsi:type="dcterms:W3CDTF">2010-06-02T23:08:16Z</dcterms:modified>
  <cp:revision>16</cp:revision>
  <dc:subject/>
  <dc:title>South Texas Electric Cooperative </dc:title>
</cp:coreProperties>
</file>