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B79-9E6B-4BC2-86A3-65E6C24D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4BC-490D-4041-B2D7-EB98C40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80D-9698-41FF-B2D6-6F22BFEE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957-9597-4ECD-8D0A-8F2ABE54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C19-B09C-4CCB-867B-0E496523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412-C797-4B68-99AE-45946749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96F-1E7B-4DC5-942A-8C8BC163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9DB-1409-46FB-836B-58D43B1F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7B1-5B05-4880-982F-9E3B9706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234-148B-4C2F-8DEE-81F6831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A6F-CE7E-473D-AFD0-39BAAE7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181-2DAA-44B5-85AF-8B2A167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0468-8BDB-4B7F-AB26-15D6599D2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casting Metho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EC Member C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ps requested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phabet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s Electric Co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son Collin Electric Co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y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C Electric Cooperative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Trending P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rom Actual Usag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Projection determines Amount of History ut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oads Added to Projections when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Transfer Loads on the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CEC Electric Cooperative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Trending P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rom Actual Usag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Projection determines Amount of History ut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oads Added to Projections when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Transfer Loads on the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rinity Valley Electric Cooperative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Trending by P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rom Actual Usag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Projection determines Amount of History ut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oads Added to Projections when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Transfer Loads on the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entage Varianc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ions vs Actu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~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~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 ~ 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0:32Z</dcterms:created>
  <dc:creator> </dc:creator>
  <dc:description/>
  <dc:language>en-US</dc:language>
  <cp:lastModifiedBy> </cp:lastModifiedBy>
  <dcterms:modified xsi:type="dcterms:W3CDTF">2010-06-02T14:26:19Z</dcterms:modified>
  <cp:revision>4</cp:revision>
  <dc:subject/>
  <dc:title>Forecasting Methods </dc:title>
</cp:coreProperties>
</file>