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334-5789-4EFE-A52C-6B305ADA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5BC-D92C-4733-8B63-1A1E51CE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0ED-70DE-4B29-867A-DF6D144A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0AC-6069-4D06-B897-63EA99C6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CC7-9F59-4BFA-B085-99507D82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F8A-E60F-4E71-A29D-ABE03F4C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313-9D97-444E-91B1-B586C56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C57-2632-4625-B375-5756D67A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23B-D27F-4483-8574-8B1F1377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21A-03B0-4B81-B8A9-2CB938D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9CF-EB89-40D2-86EB-80D1E1B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2A7-F701-4210-AA29-F7EAB277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4FDB-3DA4-472B-B22E-CF2CC651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zos Electric Load Forecas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Albers, P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 – System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476" t="0" r="0" b="22165"/>
          <a:stretch/>
        </p:blipFill>
        <p:spPr>
          <a:xfrm>
            <a:off x="228600" y="380880"/>
            <a:ext cx="8915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ve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department holds annual meetings with member cooperatives to discuss load projections and futur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os 16 member cooperatives, including Bartlett, Comanche, Cooke, CoServ, Ft Belknap, Hamilton, HILCO, Heart of Texas, JAC, Mid-South, Navarro, Navasota Valley, South Plains, Tri-County, United Cooperative Services, and Wise County, provide service to 68 counties in Tex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s provide a 6-yea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coinci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mmer and winter peak forecast for each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s for forecasting the loads may vary but are generally the same, Rural Utilities Service (RUS) borrowers follow RUS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junction with cooperatives, Brazos power supply group develops a yearly summer and win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inci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azos peak fore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os Electric follows RUS guidelines, econometric (historical data, statistics, demand class, weather)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coinci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operative forecast peak loads are scaled down to match Brazo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inci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ak forec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os winter coincident peak load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rmal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 90% of the previous years summer pe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f peak case loads are based off a historical ratio of the appropriate season to the summer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Brazos coincident loads are applied to the ERCOT cases in order for Brazos to review, analyze and correct system deficiencies associated with Brazos facilities, if 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2:04:44Z</dcterms:created>
  <dc:creator>dalbers</dc:creator>
  <dc:description/>
  <dc:language>en-US</dc:language>
  <cp:lastModifiedBy>dalbers</cp:lastModifiedBy>
  <dcterms:modified xsi:type="dcterms:W3CDTF">2010-06-03T20:56:50Z</dcterms:modified>
  <cp:revision>19</cp:revision>
  <dc:subject/>
  <dc:title>Brazos Electric Load Forecast Methodology</dc:title>
</cp:coreProperties>
</file>