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7B08-8700-4B10-88DE-4A6FAF92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B78-D4C9-4A6B-B69C-7A842F17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A786-A89E-45E8-BF78-8FC181E15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54BE-63F2-4F7D-B6BB-2FAD0ACF0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93C-65FB-442F-B9B6-4DE30FB3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920-0D99-41E4-800B-C38140C6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836-6CD0-47B5-860B-0A56EAF9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08D-1A8C-4FCC-BD7F-7394C2BE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7642-74BF-4920-B189-E3D5810D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FD7C-267D-4397-97F9-56BCCEBA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F70C-F7B9-4EFA-8B1B-240D6284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5381-3709-4733-9878-0A7B4353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978B-53FB-437F-8665-78B0E6D4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FA63-CCBD-4F63-BA9E-7281DCA1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6CCB-33F2-4BB0-B454-99439AD1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858-47AA-4E2B-B980-A004DE3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E83A-29B0-4F2B-B545-28333490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5AF0-72B9-4B2A-86CA-B8E1BC8F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F097-2980-4AEA-9BA0-B07F3965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9DAC-21E1-445C-B81D-394B376C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4E06-978D-4A2F-9CF2-3F5019B4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77EB-AEE1-44F8-84CD-EE0E50D1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36FF-5390-43FC-BD68-8800DB8F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5386-3AC6-4F8A-A444-0011CE83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799A-74C8-41DC-AEC8-63B6A123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C03D-569E-43B6-AA68-EC0CE7AB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694-BE73-4D21-96F8-84E81999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FCB0-A6C0-4516-89E3-A21BA6A5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B6F9-3186-43D7-8FAA-C60BDE7A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D4F8-A9EA-49AA-B037-4085DD93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82EB-C498-4882-89DA-AC7EB52F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1648-CC41-4423-86B5-3B43EA1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BEF5-4ED4-4D8A-BECC-51972CEF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F72C-5914-465C-9DE2-45A9D57A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B562B-E681-4916-9F54-5037671C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10A57-5B5D-4916-B29A-674CD071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92364-D186-4AE4-9D00-8C245B1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453-36A7-4E0D-8DD0-2540B9BE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7355-0981-4B11-9504-1B7056EF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DB323-E861-497D-9A10-DEBC5F7D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70D7-90C9-4EDE-B669-5917941C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BA0D-95D2-4F7B-B0EC-E1CA6EE4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924D-18C3-43A2-A7E9-9B3DF29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6980-E2EB-4FBF-BB3F-52F26F48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1773A-F58A-479C-800D-1498B8B0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041A7-5340-4F6D-B42C-06E17E19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7DC25-B2A3-4FC3-A864-EFDBA53D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EE105-652B-48E1-8EB4-7DFB8D05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FFC-D12A-48C3-9C3C-DDA89762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B444E-31CD-46E8-A324-866C75F1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6D089-605B-40A6-BAB4-6197B05D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CE29-785A-4305-A120-34E598CC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CE8A9-013A-4987-83A6-2E42154A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F383-37FC-45A3-BAB3-EB4CFB1F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4D570-9194-48E9-AC43-CEA5FBC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860A-A047-435B-9758-FE4C84A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00617-1E17-476A-B706-C28CAC7F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9A1C-B711-4D88-B1E8-8084F1A7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B69BE-A7FA-4AF8-8A37-9BC23B47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63E-EE58-4C67-8FD9-4992C92C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0212-1AA4-4594-8B35-C9D55FEC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6796D-6900-4BC3-BC61-51BDC5E8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76F9-95B1-43EB-A782-813B7C4F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03B79-4960-4C0B-8A23-3C904316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67A49-C04C-483F-983A-D8362A13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9D23-87F1-4AF2-93AB-7918B79C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D8B05-C8E9-44C9-AB3C-7B2265E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2DCFF-DBA0-4601-87A0-6AEC7BC1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CDA68-000E-4914-BB32-F4791E21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EC985-595D-4BF9-8166-A23338A4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A71-8A13-4EEA-B893-CEB8FF13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4A73D-673F-4C95-A0E4-DB28213A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85D37-F23E-4DB1-B42D-82E3E502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99F0-F7DE-4613-AF9D-1FAF2B2D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AE2C7-8100-4A76-9991-3B54E04C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0FBCF-E417-4886-AA01-AA7CA052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2A93-632D-45DC-9D57-FC9DFD62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BF0D3-B9A7-4696-AFD2-1A00C3EC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1D6B-97F2-4A42-9346-0860ED4C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EA2A3-88AF-4A2C-BC89-E0101DE5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10771-C8D3-4437-B8DF-3B6644D7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7F8-B6C2-4025-91CF-BD8A91F5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77AE-D9F0-470A-8823-5DF6A75E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40F39-AF2C-4896-959C-E53D67A1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00A75-DC62-48D3-97E2-EAE4355F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4BEAB-C8F9-4773-A34F-578754DA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B9CC6-5368-430C-8315-24F2C31B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1A92E-344C-4946-9DCC-B53D7B0D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D6C15-16C1-45AD-B47B-4A2160BA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3B316-BD79-4AC1-BDE5-8B1AFE01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C3107-522A-4861-ABE1-F60E14FA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FE667-6296-417C-8ED9-64DBC88D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204-A127-4122-B4CA-50F3F90C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B8862-435A-45D7-9305-9EC5CDA2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B590A-CE2B-46FE-A7EE-8A2B68A5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34806-B708-4568-8E2E-5CA1215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F4EB1-9E67-455D-802E-78C554F3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B37ED-ACDF-4B80-9A83-7186DE4E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6F776-B130-4972-9DD4-BDAC7E5B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5F850-95B0-4062-8FDA-1ACAD287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A54D-AB7D-41A2-8FA3-E4EC372EAE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83F8-0C65-49B1-A3D3-86C0373950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7142-4D9D-45D7-BC96-E3B031C6D2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7F05-C0EB-431D-A213-953FB407E7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4A9F-4DFB-4592-9D15-01D0DCD5C3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5B9E-2BFE-4F22-9B07-F5FC2D4F44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BD82-F530-4F33-B8DB-B272ECD1D5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5C69-1498-48C5-887B-3AA0B5185E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92160" y="1749600"/>
            <a:ext cx="9016920" cy="1231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June 9, 20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ask Force meeting was held May 18,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lnSpc>
                <a:spcPct val="80000"/>
              </a:lnSpc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ask force updated the MarkeTrak User’s Guide with language to support the Meter Tampering rul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lnSpc>
                <a:spcPct val="80000"/>
              </a:lnSpc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RCOT presented a walk through of MarkeTrak scenarios for Meter Tampering issu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8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1600200"/>
            <a:ext cx="838080" cy="76212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3581280"/>
            <a:ext cx="762120" cy="60984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task force reviewed and defined the interim MarkeTrak process for missing LSE interval dat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iscussed market metrics resulting from ERCOT’s ongoing efforts to improve the MarkeTrak Too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next MarkeTrak meeting is scheduled for June 23, 2010 at ERCOT MET Cen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Lucida Sans Unicode"/>
              </a:rPr>
              <a:t>We encourage all market participants to atte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52280" y="1600200"/>
            <a:ext cx="762120" cy="60948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2819520"/>
            <a:ext cx="762120" cy="60948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3733920"/>
            <a:ext cx="762120" cy="609480"/>
          </a:xfrm>
          <a:prstGeom prst="star5">
            <a:avLst/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API WSDL/XS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MCj04042630000[1]"/>
          <p:cNvPicPr/>
          <p:nvPr/>
        </p:nvPicPr>
        <p:blipFill>
          <a:blip r:embed="rId1"/>
          <a:stretch/>
        </p:blipFill>
        <p:spPr>
          <a:xfrm>
            <a:off x="3652920" y="2897280"/>
            <a:ext cx="1838160" cy="169524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Reliant</cp:lastModifiedBy>
  <dcterms:modified xsi:type="dcterms:W3CDTF">2010-06-08T21:45:42Z</dcterms:modified>
  <cp:revision>503</cp:revision>
  <dc:subject/>
  <dc:title>MarkeTrak Task Force</dc:title>
</cp:coreProperties>
</file>