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8FCB-8CC4-4635-AAD0-9E2211126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A634-A975-4092-BCAB-43260AFDCF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D00-3407-4CB8-A764-8A1FAA87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27E-776A-4013-9992-F837C5FD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77A-7BAB-44D3-AAB6-E4DC5071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C03-8C21-4912-B6C6-BE13315B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E6FA-E1DF-4FFD-9D0A-FBE6CE99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55C9-CCCD-4AA3-AE3D-16F23645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E036-22A2-4436-BE19-F101367A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E35B-2422-4E32-989A-BFDE1835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800A-2988-4B80-B21E-7DD85785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4E07-53CF-48B8-9FD1-1D3BF53E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0E16-9FC4-4880-9769-E456082C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719-73A0-41C4-B97B-60AA3898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C278-2B95-4D9D-9689-68AF09FE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AA29-C086-4958-BDDE-710BC1BF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72A9-D483-46C1-825F-C8F1C5E6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DDBD-C9CA-40F4-A91A-872EB671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3DF2-B9AF-4A59-8AF5-F0D671AF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1BC-5367-4D47-9B15-56DEB09F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91B-4628-4C0B-9360-E0FB60DD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2DF-1D77-400C-BB88-21F193A8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8C2-E96E-4D25-AFF8-AD6F789E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EB2-18F7-47E3-A963-3F961A15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FC4-4494-485E-A5B0-42D84649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E31-CFB2-4E7D-8199-5B39515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32FE-77DF-4DAB-8766-4FB053E67F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120A-82C8-4A21-A0E4-DFA479893C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odal.ercot.com/training/courses/index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806400"/>
            <a:ext cx="78487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ne 8, 201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e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date to 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ne 9,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 u="sng">
                <a:solidFill>
                  <a:srgbClr val="ffffff"/>
                </a:solidFill>
                <a:uFillTx/>
                <a:latin typeface="Times New Roman"/>
              </a:rPr>
              <a:t>SEWG Upd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4443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 u="sng">
                <a:solidFill>
                  <a:srgbClr val="ffffff"/>
                </a:solidFill>
                <a:uFillTx/>
                <a:latin typeface="Times New Roman"/>
              </a:rPr>
              <a:t>SEW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cused on No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viewing Extract iss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leted review of UFE analysis as requested by MP. Additional analysis will be completed as ongoing wor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dal Settlement Algorithms – guide in progr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WG Upd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ing work on Profiles as needed for various Market chan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PRR208 – workshop held in May to address Market Participant vie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1018-5106-419F-8D59-160EDBF79F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raft PRR was presented by Direct Energy proposing that both IDR and NIDR distribution metered premises have an equal allocation factor of 0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No 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Discuss about the relative allocation of transmission vs.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AMIT stakeholders discussed and decided no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 PWG and SEWG discussions contin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WG Update - UFE Allocation – Statu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12680" y="1751040"/>
            <a:ext cx="75931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152280"/>
            <a:ext cx="8510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Voting It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320" y="1142640"/>
            <a:ext cx="86900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MGRR018, Updates to References of IDR and/or IDR Meter in the Commercial Operations Market Guide Due to the Proposed Definition of IDR Meter in PRR845 (Vote) – Tabled at COPs, waiting until Board approval of PRR84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MGRR019, Revisions for Texas Nodal Market Implementation and Synchronization with PRR821, Update of Section21, Process for Protocol Revision (Vote)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pproved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MGRR020, Creating Subsection 10.3, Unregistered Distributed Generation Reports (Vote) – to be presented at July COPs meeting based on TAC approval of NPRR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Voting Items – NPRR208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PRR208 – Registration and Settlement of Distributed Generation (DG) Less Than One M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ne 4, TAC remanded NPRR208 back to C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be revised and back to TAC by July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s members to determine acceptable solution in an effort to address all known concerns and move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on was created and approved with two abstentions. NPRR Will be at TAC in Ju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Nodal Update – Key Item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im Galvin, Chair of SEWG presented the Nodal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R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new issues re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COT will this wee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 July Auction No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 the CRR Ownership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NOIEs to begin submitting their nominations for 2011 and 20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Nodal Training has been scheduled and can be found at the following link for updated available training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http://nodal.ercot.com/training/courses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Day Ahead Market – Market Tria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s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C Commitments are still high, ERCOT says they are not operationally approved but communicating the commitments for experience for 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data issues pertaining to breaker statuses, line ratings and load distribution factors in resolving the high RUC 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ous one off issues around COP updates are being addressed with participants also contributing to high commitment of RUC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dit exposure calc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DAL PROGRAM STATU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1320" y="1143000"/>
            <a:ext cx="853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fication of Market Participants- 95% of MPs qualifi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1 of 84 QSEs with resources qual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1 of 192 QSEs without resources qual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Functionality testing to begin in May will result in push to get remaining QSEs qual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Tria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CRR Auctions now comple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DAM markets simulated with two additional this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ong participation in DAM trials (over 150 Q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Settlements – Market Tria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ments, Invoices and Extracts continue to be delivered under protocol timelines for Market Tri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COT provides a total dollar breakdown by charge type of settlement activity on the weekly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charge types are being calculated in Market Trials, examples of those not are BLT, Emergency Energy, DC Tie Export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tlements for BPD and RT Energy Imbalance appear high, but keep in mind that is based on actual Zonal output/demand compared to Nodal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Settlements – Market Trials cont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few questions are coming through Market Trials program team regarding sett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de available in the COMS extracts appear to be complete with determinants available for all calc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differences in extract data, it is important for market participants to review and utilize extract information to get accustomed to Nodal data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eper dives in SEWG planned to look at data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15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CWG Working Group Upd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WG continuing developing sections of the COP Market Guide needed for Nod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WG Completed modifications to COPMG Section 5 and Appendix A for Market Participants Notifications – Impact Analysis to be discussed at next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d development of Section 8.1 Settlement Statements and Invoices (currently tabled at TAC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Registered User</cp:lastModifiedBy>
  <dcterms:modified xsi:type="dcterms:W3CDTF">2010-06-09T14:28:54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