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67BB-67BC-45D3-8024-990DEA4040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8FB2-B5A7-48B0-9154-87042B4AA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8352-011E-42B0-93A7-22D8D0BC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63DF-9B95-48A8-9D3E-6E278D716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ACE4-2005-45FF-8626-828C0D36E80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DA32-1F00-4100-B8F4-E548757AE9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81FC-DE99-4F40-B3C4-79421B927C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C3F7-6D24-4B80-8371-4E941F0DD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D088-DB0A-49E8-8136-41DDBBC0BDB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96AC-5416-4F38-AC35-C5931DBD9FD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0208-C429-4DBE-B09E-7C5648577C7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480E-17DA-4BAE-904F-E57501BEDCA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B236-0A6F-4855-A37D-64E7BB168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E04F-74F8-4875-B0C0-9EC40C0BF0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60A6-713F-46D7-8423-0999CD3FF6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1736-9B0E-4685-BC68-85BB2D88D5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7E63-800E-4611-8BC4-E38188195A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274C-08A0-4BCE-8F44-EF6AC62419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8A3E-4CBA-4F67-AB60-6D8637C4EE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DB85-EDB8-4E76-AE7E-96F30CDFC1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7063-6FC6-4251-A332-4F3C1C542D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0257-0B73-46E3-9735-61711B7FDC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E185-7E7A-4D83-BA2E-2E48FEAE92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8A38-4FFD-4F14-B0C9-AA89A8E654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D7E7-8AA9-4B31-AF7A-A7AD8158E0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79DC-4E13-47BB-BE3E-812AE19D70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6213-D0E4-4826-8723-EA29C3202D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9CE-7AEC-4671-983F-3892B61C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8607A3-2947-4B40-8553-AEC99A2B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EF206D-C65B-4FD1-9880-0910C9874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F8C81D-87D8-4827-BF4F-0F0687A3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98F861-B606-455D-A59E-98F3C9AC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121FD9-4A59-402C-A629-DB7F7A49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B4DC2A-D14C-4D5B-A0D8-47BE0F232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96EA98-4EAB-4318-8E37-FED2420B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4E58B4-084F-494F-8344-2CC49BEA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60E1BE-0ED6-4BDC-A7FB-A61ADC55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72580B-BD4E-47F3-829E-A3E0058A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AFCEB5-D299-46F2-8D15-FDB77C492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982EA5-46C8-4623-9DE8-1C00DCC33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0E78FD-6252-4377-B28C-E65AF7CF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85679A-278A-42F7-9334-2C9DEAE6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FAA83D-5FF5-465F-A24B-006402DCE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68F6B3-7242-420D-B666-1631B5E7B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87B-E242-4D4F-9635-5A4551C8B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C43BC3-736B-4415-895B-ABA363D43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1A0D34-8B66-43C9-AE9D-D267A66B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C3883F-A12B-4E79-BE70-E26745D5F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BBCBEA-45AA-40DB-9D77-FE6EAF507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CF6EE3-D9AA-4E5E-A3DE-F1610733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DCCDA8-D02C-4DAC-AF75-7AB53A69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une 09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4" name="Picture 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89960" cy="43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6" name="Picture 6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66080" cy="13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5"/>
          <p:cNvSpPr/>
          <p:nvPr/>
        </p:nvSpPr>
        <p:spPr>
          <a:xfrm>
            <a:off x="929880" y="1295280"/>
            <a:ext cx="339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currently in the Planning Ph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1" name="Picture 5" descr=""/>
          <p:cNvPicPr/>
          <p:nvPr/>
        </p:nvPicPr>
        <p:blipFill>
          <a:blip r:embed="rId1"/>
          <a:stretch/>
        </p:blipFill>
        <p:spPr>
          <a:xfrm>
            <a:off x="657360" y="1009800"/>
            <a:ext cx="7827840" cy="24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3" name="Picture 5" descr=""/>
          <p:cNvPicPr/>
          <p:nvPr/>
        </p:nvPicPr>
        <p:blipFill>
          <a:blip r:embed="rId1"/>
          <a:stretch/>
        </p:blipFill>
        <p:spPr>
          <a:xfrm>
            <a:off x="657360" y="1143000"/>
            <a:ext cx="782784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5/10/2010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8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58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6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6-07T21:10:47Z</dcterms:modified>
  <cp:revision>667</cp:revision>
  <dc:subject/>
  <dc:title>Role of Account Management at ERCOT</dc:title>
</cp:coreProperties>
</file>