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D2BD7C7-17D5-41A0-906B-05ED4FC0F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8D5E09D-7D89-419A-9EC7-300D11F8A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72EE4BB-D1CC-4812-BB46-F7AE96424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32EAC21-32B2-4242-A130-AB9573D14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1B2AACE-C638-4951-8703-5FB878DCB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69FFF5F-25CC-45EC-905B-BEE2D4F7D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47E2C08-A22B-4661-AEA7-FEDF66E3D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F0AA1AB-4F4A-4E5E-A908-B50D3A00B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1ECFA02-4D62-4636-9485-FAA1A07B9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522-AA5B-491B-B1F9-01E4133A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5CB-5D1C-49EB-BB9D-07410A62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51D-2F7F-460C-974E-F1B8F240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D9B-4E3A-4504-A44F-09C65BCA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F34-896D-4FCE-A6B0-42173059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982-8898-4ADF-A0F2-C1598B44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D6D-1A0D-43BF-96BA-20B49288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C91-3E35-4D9C-B021-49800A98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4E4-E9EF-4740-BD2C-6CDDA4EE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F44-236E-4DEE-B666-9E1CC7D4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E46-5F0C-4A95-8DFB-9C071B4A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460-26D7-47ED-8017-66AF4CC2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8638" b="0"/>
          <a:stretch/>
        </p:blipFill>
        <p:spPr>
          <a:xfrm>
            <a:off x="6058080" y="0"/>
            <a:ext cx="3085920" cy="1359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B963-E846-4A8E-988C-B80B6AD25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314280" y="22860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A815-6FCA-4729-B071-221027921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09,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5C39-3232-4763-A936-8E42E7EF6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ed new Vice Chair: Isabelle Dur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ed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arter Performance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ed ERCOT System Outages and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presented Marketrak performance up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ed transport method for the CSA monthly file for R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lected new Vice Chair: Isabelle Dur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abelle Durham – CenterPointEnergy was elected by accla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0773-CD4D-45CD-8390-EEF33ECEC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ed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uarter Performance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ke McCarty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l Market Performance Measures Report Analysis and processing Iss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erly Report for First Quarte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1A1D-9870-41FB-A7B4-753844E13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ed ERCOT System Outages and fail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y Felton presented the monthly Incid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incidents affected the S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A5D6-53A5-4F08-9F96-85F5AA731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ERCOT presented Marketrak performance upd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y Felton presented information around MT system tuning and improved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s were presented and target Service Level Objectives were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0D75-A08F-47E1-8DA2-331DAA84B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ed transport method for the CSA monthly file for R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process is Email or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possibility of using NAE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S to provide feed back on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F42C-1EA6-4A67-947A-BB4C83D9C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57200" y="129528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DTWG Follow-up i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status of PJ # 37944 - Cyber Secur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DTWG’s 2010 Goal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A transport (CD vs NAESB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ESB versioning upda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255B-CF2C-44AC-BF7C-32C357602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Registered User</cp:lastModifiedBy>
  <cp:lastPrinted>2002-09-24T18:27:58Z</cp:lastPrinted>
  <dcterms:modified xsi:type="dcterms:W3CDTF">2010-06-03T17:53:09Z</dcterms:modified>
  <cp:revision>613</cp:revision>
  <dc:subject/>
  <dc:title>PowerPoint Presentation</dc:title>
</cp:coreProperties>
</file>