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963FE-A41E-4A10-88C9-47DB8AE756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A5634-0FF9-42D5-A83B-FE402BB138E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459F5-4ADD-4ED6-873F-679133503B1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C3296-6847-409C-928F-35676EDEA5F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5DAE2-46B7-4179-B458-D960FF908B6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F528D-27E9-4CB2-90C3-1889B6AE3AA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DAF89-C9F4-47FD-8B43-E02CC36DDDC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95108-6AA6-4DE2-B136-9F95FC48197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D6F93-6D0B-4341-BEB8-B8F265EDE69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3C8B1-5ACF-4A31-A69E-2468A8B66EE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C07F-2B3B-41ED-84CA-0D736D510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7B02-FDDA-4E37-9B70-6478A8BB6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BE26-22A9-4591-A4E6-943DD35FB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420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628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420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628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4AAE-1CE6-49FB-B3B9-ED33504E6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5AFBF-3230-4636-BD9E-F89762BAF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E7FAD-9F9A-47F0-BA66-10D42BB83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71BB8-9975-4BDC-85D9-7707E514C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A7E37-CADE-4F19-AD47-EF508BCA7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CC589-7363-4A7A-912D-2974502BB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333000"/>
            <a:ext cx="7696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D7592-A8C3-4B02-9874-4B18F3B1F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66FF5-E964-40F2-B24A-23E633E57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CA4B-A6B2-4693-8FF2-FF25D4656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5173C-CD88-400C-846F-F092D95C8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01E06-FFA3-43F1-BCC8-6DFC9552C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DAF7B-6A1B-4493-AE58-0A5D0679A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0CA16-4750-4E3D-9D33-47DCD7CAD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6420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628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6420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628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A79D4-C3F0-4E8D-BB54-6797C01DE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CDFD-CBD7-488D-B902-135D1FF11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99D7-4C57-4A0F-A1E3-BCF6C152C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7AE7-3EED-4BA0-B552-D3F34F4E2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333000"/>
            <a:ext cx="7696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8530-8204-4152-B01E-B9C42C45A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66EC-BD5F-409F-AE4F-F8D4A0049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CD6C-DEE6-4A74-AC72-DD9ADB014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B6EF-9329-4A36-BF49-3EDC26766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57E2D-60D8-424B-BFC2-60EDA907FC22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9BA25-C1D0-4C4F-B4D8-7828FFDFF09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AC2AA-09BD-4369-9A9C-2335A988B5B9}" type="datetime">
              <a:rPr b="0" lang="en-US" sz="1400" spc="-1" strike="noStrike">
                <a:solidFill>
                  <a:srgbClr val="ffffff"/>
                </a:solidFill>
                <a:latin typeface="Tahom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BDCA7-2F8E-43D8-A4C4-1A03CA504C04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560" y="5229360"/>
            <a:ext cx="77230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MARS Taskforce 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04560" y="6021000"/>
            <a:ext cx="7723080" cy="79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MS Update June 9, 2010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itle 1"/>
          <p:cNvSpPr/>
          <p:nvPr/>
        </p:nvSpPr>
        <p:spPr>
          <a:xfrm>
            <a:off x="914400" y="-609480"/>
            <a:ext cx="76960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Interim Settlement Solu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06/10 Status Repor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Slide Number Placeholder 4"/>
          <p:cNvSpPr/>
          <p:nvPr/>
        </p:nvSpPr>
        <p:spPr>
          <a:xfrm>
            <a:off x="6705720" y="640080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76320" y="2798640"/>
          <a:ext cx="8991360" cy="2154240"/>
        </p:xfrm>
        <a:graphic>
          <a:graphicData uri="http://schemas.openxmlformats.org/drawingml/2006/table">
            <a:tbl>
              <a:tblPr/>
              <a:tblGrid>
                <a:gridCol w="3146400"/>
                <a:gridCol w="1724040"/>
                <a:gridCol w="1798560"/>
                <a:gridCol w="2322360"/>
              </a:tblGrid>
              <a:tr h="361800">
                <a:tc>
                  <a:txBody>
                    <a:bodyPr lIns="86760" rIns="86760" tIns="43560" bIns="4356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ion Mileston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ef4"/>
                    </a:solidFill>
                  </a:tcPr>
                </a:tc>
                <a:tc>
                  <a:txBody>
                    <a:bodyPr lIns="86760" rIns="86760" tIns="43560" bIns="435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line Da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ef4"/>
                    </a:solidFill>
                  </a:tcPr>
                </a:tc>
                <a:tc>
                  <a:txBody>
                    <a:bodyPr lIns="86760" rIns="86760" tIns="43560" bIns="435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sed Da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ef4"/>
                    </a:solidFill>
                  </a:tcPr>
                </a:tc>
                <a:tc>
                  <a:txBody>
                    <a:bodyPr lIns="86760" rIns="86760" tIns="43560" bIns="435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ef4"/>
                    </a:solidFill>
                  </a:tcPr>
                </a:tc>
              </a:tr>
              <a:tr h="1802160">
                <a:tc>
                  <a:txBody>
                    <a:bodyPr lIns="86760" rIns="86760" tIns="43560" bIns="4356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ject Comple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6760" rIns="86760" tIns="43560" bIns="4356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5/21/20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6760" rIns="86760" tIns="43560" bIns="4356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6760" rIns="86760" tIns="43560" bIns="4356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mplete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inal Status Report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Status Report 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04920" y="1219320"/>
            <a:ext cx="8610480" cy="541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97000"/>
          </a:bodyPr>
          <a:p>
            <a:pPr lvl="1" marL="332640" indent="-332640">
              <a:lnSpc>
                <a:spcPct val="90000"/>
              </a:lnSpc>
              <a:spcBef>
                <a:spcPts val="55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ahoma"/>
              </a:rPr>
              <a:t>As of June 2, 2010 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ahoma"/>
              </a:rPr>
              <a:t>ERCOT’s Settlement numbers for: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924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ahoma"/>
              </a:rPr>
              <a:t>Initial Settlement of Operating date  5/25/2010 the total = </a:t>
            </a:r>
            <a:r>
              <a:rPr b="1" lang="en-US" sz="3700" spc="-1" strike="noStrike">
                <a:solidFill>
                  <a:srgbClr val="ffff00"/>
                </a:solidFill>
                <a:latin typeface="Tahoma"/>
              </a:rPr>
              <a:t>879,170</a:t>
            </a:r>
            <a:r>
              <a:rPr b="0" lang="en-US" sz="37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924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ahoma"/>
              </a:rPr>
              <a:t>Final Settlement of Operating date 4/6/2010 the total =           </a:t>
            </a:r>
            <a:r>
              <a:rPr b="1" lang="en-US" sz="3700" spc="-1" strike="noStrike">
                <a:solidFill>
                  <a:srgbClr val="ffff00"/>
                </a:solidFill>
                <a:latin typeface="Tahoma"/>
              </a:rPr>
              <a:t>716,486</a:t>
            </a:r>
            <a:r>
              <a:rPr b="0" lang="en-US" sz="37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924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ahoma"/>
              </a:rPr>
              <a:t>True-Up Settlement of Operating date 12/4/2009 the total =         </a:t>
            </a:r>
            <a:r>
              <a:rPr b="1" lang="en-US" sz="3700" spc="-1" strike="noStrike">
                <a:solidFill>
                  <a:srgbClr val="ffff00"/>
                </a:solidFill>
                <a:latin typeface="Tahoma"/>
              </a:rPr>
              <a:t>123,306</a:t>
            </a:r>
            <a:r>
              <a:rPr b="0" lang="en-US" sz="37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  <a:p>
            <a:pPr lvl="1" marL="332640" indent="-33264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533600" indent="-332280">
              <a:lnSpc>
                <a:spcPct val="90000"/>
              </a:lnSpc>
              <a:spcBef>
                <a:spcPts val="524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524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7010280" y="647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71FD2-56FA-4817-BD61-EE44B37C8614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AMS Meter Installation </a:t>
            </a:r>
            <a:br>
              <a:rPr sz="4400"/>
            </a:b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Status Report 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04920" y="1294920"/>
            <a:ext cx="8610480" cy="533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98000"/>
          </a:bodyPr>
          <a:p>
            <a:pPr lvl="1" marL="335880" indent="-335880">
              <a:lnSpc>
                <a:spcPct val="80000"/>
              </a:lnSpc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Oncor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-- 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CONGRATULATIONS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825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ahoma"/>
              </a:rPr>
              <a:t>Installed: </a:t>
            </a:r>
            <a:r>
              <a:rPr b="1" lang="en-US" sz="3300" spc="-1" strike="noStrike">
                <a:solidFill>
                  <a:srgbClr val="ffff00"/>
                </a:solidFill>
                <a:latin typeface="Tahoma"/>
              </a:rPr>
              <a:t>1,000,000</a:t>
            </a:r>
            <a:r>
              <a:rPr b="0" lang="en-US" sz="3300" spc="-1" strike="noStrike">
                <a:solidFill>
                  <a:srgbClr val="ffffff"/>
                </a:solidFill>
                <a:latin typeface="Tahoma"/>
              </a:rPr>
              <a:t> as of 6.2.2010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675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Marking a seven-digit milestone 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675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1-millionth smart meter was installed in Waco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64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335880" indent="-335880">
              <a:lnSpc>
                <a:spcPct val="80000"/>
              </a:lnSpc>
              <a:spcBef>
                <a:spcPts val="774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Deployment Plan: 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lvl="3" marL="1530720" indent="-223920">
              <a:lnSpc>
                <a:spcPct val="80000"/>
              </a:lnSpc>
              <a:spcBef>
                <a:spcPts val="675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2010 – </a:t>
            </a: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929,000  meters 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3" marL="1530720" indent="-223920">
              <a:lnSpc>
                <a:spcPct val="80000"/>
              </a:lnSpc>
              <a:spcBef>
                <a:spcPts val="675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2011 –  </a:t>
            </a: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902,000  meters 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3" marL="1530720" indent="-223920">
              <a:lnSpc>
                <a:spcPct val="80000"/>
              </a:lnSpc>
              <a:spcBef>
                <a:spcPts val="675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2012 –  </a:t>
            </a: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902,000  meters 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3" marL="1530720" indent="-223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335880" indent="-335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549440" indent="-335520">
              <a:lnSpc>
                <a:spcPct val="80000"/>
              </a:lnSpc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010280" y="647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F3171-7619-4684-AD4F-F0B4BC1A6361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AMS Meter Installation </a:t>
            </a:r>
            <a:br>
              <a:rPr sz="4400"/>
            </a:b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Status Report 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04920" y="1219320"/>
            <a:ext cx="8610480" cy="541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lvl="1" marL="343080" indent="-343080">
              <a:lnSpc>
                <a:spcPct val="90000"/>
              </a:lnSpc>
              <a:spcBef>
                <a:spcPts val="55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lnSpc>
                <a:spcPct val="90000"/>
              </a:lnSpc>
              <a:spcBef>
                <a:spcPts val="55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ahoma"/>
              </a:rPr>
              <a:t>CenterPoint Energy: 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ahoma"/>
              </a:rPr>
              <a:t>Installed: </a:t>
            </a:r>
            <a:r>
              <a:rPr b="1" lang="en-US" sz="3300" spc="-1" strike="noStrike">
                <a:solidFill>
                  <a:srgbClr val="ffff00"/>
                </a:solidFill>
                <a:latin typeface="Tahoma"/>
              </a:rPr>
              <a:t>383,512</a:t>
            </a:r>
            <a:r>
              <a:rPr b="0" lang="en-US" sz="3300" spc="-1" strike="noStrike">
                <a:solidFill>
                  <a:srgbClr val="ffffff"/>
                </a:solidFill>
                <a:latin typeface="Tahoma"/>
              </a:rPr>
              <a:t> as of 6.03.2010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lnSpc>
                <a:spcPct val="90000"/>
              </a:lnSpc>
              <a:spcBef>
                <a:spcPts val="75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lnSpc>
                <a:spcPct val="90000"/>
              </a:lnSpc>
              <a:spcBef>
                <a:spcPts val="75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Deployment Plan, includes projected growth: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lnSpc>
                <a:spcPct val="90000"/>
              </a:lnSpc>
              <a:spcBef>
                <a:spcPts val="75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2010 –  </a:t>
            </a: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756,</a:t>
            </a:r>
            <a:r>
              <a:rPr b="1" lang="en-US" sz="3000" spc="-1" strike="noStrike">
                <a:solidFill>
                  <a:srgbClr val="ffff00"/>
                </a:solidFill>
                <a:latin typeface="Tahoma"/>
              </a:rPr>
              <a:t>684</a:t>
            </a: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 meters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lnSpc>
                <a:spcPct val="90000"/>
              </a:lnSpc>
              <a:spcBef>
                <a:spcPts val="75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2011 –   </a:t>
            </a: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960,</a:t>
            </a:r>
            <a:r>
              <a:rPr b="1" lang="en-US" sz="3000" spc="-1" strike="noStrike">
                <a:solidFill>
                  <a:srgbClr val="ffff00"/>
                </a:solidFill>
                <a:latin typeface="Tahoma"/>
              </a:rPr>
              <a:t>327</a:t>
            </a: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 meters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lnSpc>
                <a:spcPct val="90000"/>
              </a:lnSpc>
              <a:spcBef>
                <a:spcPts val="75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2012 –   </a:t>
            </a: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Tahoma"/>
              </a:rPr>
              <a:t>373,423</a:t>
            </a: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 meters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581120" indent="-342720">
              <a:lnSpc>
                <a:spcPct val="90000"/>
              </a:lnSpc>
              <a:spcBef>
                <a:spcPts val="524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7010280" y="647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854EB-C60B-4E83-BB70-32AB406A4604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PUCT Project 34610 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190512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dvanced Metering Implementation Team (AMIT) Documentation &amp; Meeting Schedules can be found on: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ublic Utility Commission of Texas Project 34610 Websit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76212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http://www.puc.state.tx.us/electric/projects/34610/34610.cfm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2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2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5F51C-5C90-4737-93F7-C52FE72C1E46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Advanced Metering Implementation Team (AMIT) 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676160"/>
            <a:ext cx="8610480" cy="563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JUNE 2010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00"/>
                </a:solidFill>
                <a:uFillTx/>
                <a:latin typeface="Tahoma"/>
              </a:rPr>
              <a:t>22-23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Tahoma"/>
              </a:rPr>
              <a:t>–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Tahoma"/>
              </a:rPr>
              <a:t>Project #8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Long Term Settlements (F2F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ue:  9:30-5:3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ed: 8:30-4:30             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ocation: Public Utility Commission, CHR, 7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Floor, {1701 N. Congress Ave, Austin, TX 78701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00"/>
                </a:solidFill>
                <a:latin typeface="Tahoma"/>
              </a:rPr>
              <a:t>Critical Kick-Off for this Project - See Long Term Settlement Study results on AMIT webpage (recommended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Tahoma"/>
              </a:rPr>
              <a:t>28-29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–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Tahoma"/>
              </a:rPr>
              <a:t>Project #8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Long Term Settlements (F2F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Mon: 1:30-5:30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Tue: 8:30-4:30               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Location: Public Utility Commission, CHR, 7</a:t>
            </a:r>
            <a:r>
              <a:rPr b="0" lang="en-US" sz="2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Floor, {1701 N. Congress Ave, Austin, TX 78701}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7010280" y="647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FE444-185E-4491-B354-51B42D6587AF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Advanced Metering Implementation Team (AMIT) 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219320"/>
            <a:ext cx="8610480" cy="579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74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924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Tahoma"/>
              </a:rPr>
              <a:t>JULY 2010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7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–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Project 5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 - Retail Market Interface (F2F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ed: 8:30-4:30             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ocation: Public Utility Commission, CHR, 7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Floor, {1701 N. Congress Ave, Austin, TX 78701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ebEx: check AMIT webpage for instructions: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http://www.puc.state.tx.us/electric/projects/34610/34610.cf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24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24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13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–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Project 5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– Retail Market Interface (F2F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ue: 9:30-5:30        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ocation: Public Utility Commission, CHR, 7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Floor, {1701 N. Congress Ave, Austin, TX 78701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ebEx: check AMIT webpage for instructions: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http://www.puc.state.tx.us/electric/projects/34610/34610.cf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7010280" y="647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52184-1FAA-451E-9E23-96E5F60C7745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Questions?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28C58-4AFA-4EF3-81A2-EF1D94E3836F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2" descr="C:\Documents and Settings\00015621\Local Settings\Temporary Internet Files\Content.IE5\UZYJAF85\MCj04344110000[1].wmf"/>
          <p:cNvPicPr/>
          <p:nvPr/>
        </p:nvPicPr>
        <p:blipFill>
          <a:blip r:embed="rId1"/>
          <a:stretch/>
        </p:blipFill>
        <p:spPr>
          <a:xfrm>
            <a:off x="380880" y="1905120"/>
            <a:ext cx="2082960" cy="2361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115" name="Picture 3" descr="C:\Documents and Settings\00015621\Local Settings\Temporary Internet Files\Content.IE5\2NCNMXYB\MCj03833080000[1].wmf"/>
          <p:cNvPicPr/>
          <p:nvPr/>
        </p:nvPicPr>
        <p:blipFill>
          <a:blip r:embed="rId2"/>
          <a:stretch/>
        </p:blipFill>
        <p:spPr>
          <a:xfrm>
            <a:off x="4952880" y="1828800"/>
            <a:ext cx="3733920" cy="2438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C:\Documents and Settings\00015621\Local Settings\Temporary Internet Files\Content.IE5\W7FBEKXX\MCj00787620000[1].wmf"/>
          <p:cNvPicPr/>
          <p:nvPr/>
        </p:nvPicPr>
        <p:blipFill>
          <a:blip r:embed="rId3"/>
          <a:stretch/>
        </p:blipFill>
        <p:spPr>
          <a:xfrm>
            <a:off x="2428920" y="3733920"/>
            <a:ext cx="252396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01:21:15Z</dcterms:created>
  <dc:creator>Scott, Kathy D.</dc:creator>
  <dc:description/>
  <dc:language>en-US</dc:language>
  <cp:lastModifiedBy>Scott, Kathy D.</cp:lastModifiedBy>
  <dcterms:modified xsi:type="dcterms:W3CDTF">2010-06-08T03:11:37Z</dcterms:modified>
  <cp:revision>355</cp:revision>
  <dc:subject/>
  <dc:title>MARS Taskforce </dc:title>
</cp:coreProperties>
</file>