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3684-01A8-42B0-91C4-9853F84F73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C291-EA12-4BCE-866D-F7F1812C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1A6A-13E1-4CC3-9A7E-A20693A7F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5EC3-59EA-4976-A527-9D5C8626B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E499-A830-4355-A182-F4C6A037ACA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1D24-7FF2-4D89-8F2B-1E20EC8F4D1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6D01-3CA2-43DF-9897-91CDC426968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2605-7839-4A71-A98C-7FAB244C5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020B-3446-4E07-953C-AA9B70BE514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0D0A-A7A6-4C5D-81AF-51E49148EEE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AB3B-C357-4299-BA80-AF47ADD25D8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5DF7-A746-44A2-8BF6-91D157DEBF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5217-D214-458A-A536-9FCFA58DB7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9E4D-419A-40F2-98FD-058E057620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D2A1-7372-4440-851E-848E232F9A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F8E77-A644-49BC-A55F-408DEA8AB9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7F4B-B56B-45E8-A416-EBD3F06F4A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3DBE-186E-40DD-B40C-73D30087F2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C6EB-DFC9-4364-B23B-3418B2B081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7747-35FA-4C65-A3CD-147FF00555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8AB6-79AD-4DC6-878D-257479EFD0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B762-ACEC-4D43-8DA3-D277028994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F89F-770E-47B1-A4D3-7CD09A2D7E9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C7E0-BB88-4405-A285-5962624A63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0F3A-AC7A-404C-BEFF-9A6F7A6AD6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3042-80AB-440D-9791-AACC0DBBDB1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14A2-AD71-4729-992E-33A45627034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996E-4799-49C8-92C9-5F8CEBE19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8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BB5181-2704-483E-88B4-E4243877F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8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9EB19F-66B8-4E61-BECA-7FE8470EE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8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C0A2DA-CFDC-4B13-8717-36040B3FD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8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101EB3-AB7F-4566-9804-504CE0D0F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ABFF22-A443-4301-A2F5-41ECC64E1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5090CE-6615-4D6D-9D9D-036E15A47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F7534D-B127-4703-8358-E9E8E4FA1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03E99E-0C18-465B-AFC1-52208A707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E1C8F5-CA4E-4E81-BD8B-E5E2D7676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F0B548-3182-4FF1-89F5-2751CD24B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4DA994-F92A-40B2-B6F2-4CB1CD67B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DAA007-D6E9-4307-8CF3-3A9C1C440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1645D8-B832-4FFB-8FBB-1A59939C1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6D9ED6-D4DE-4089-AC95-F11FA04A1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DAE4CC-917C-4AF8-866D-D9354920B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1FC1-E780-4A91-8301-9F851FD9D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5833C1-6AD6-4C3A-9A64-D4A22FF82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8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76C5E2-C0B3-42FF-A382-5FD662E90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8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B9A2FD-F499-4BCF-9A9F-D259558F2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8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F13EFA-BF4E-4A87-8653-0B7DA16D5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8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BC1293-6D1F-4A13-919E-AAADF840D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08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020A90-0AA5-4893-9A8B-94A21EA0F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June 08, 2010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7" name="Line 3"/>
          <p:cNvSpPr/>
          <p:nvPr/>
        </p:nvSpPr>
        <p:spPr>
          <a:xfrm>
            <a:off x="990720" y="31240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138240" y="914400"/>
            <a:ext cx="8866080" cy="398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1" name="Picture 7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104320" cy="100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519120" y="990720"/>
            <a:ext cx="8104320" cy="100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Initi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6" name="TextBox 3"/>
          <p:cNvSpPr/>
          <p:nvPr/>
        </p:nvSpPr>
        <p:spPr>
          <a:xfrm>
            <a:off x="795240" y="1219320"/>
            <a:ext cx="19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in Initi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8" name="Picture 6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0396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0" name="TextBox 3"/>
          <p:cNvSpPr/>
          <p:nvPr/>
        </p:nvSpPr>
        <p:spPr>
          <a:xfrm>
            <a:off x="703800" y="1219320"/>
            <a:ext cx="409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currently in Closing, Closed or Cancell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6/04/2010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.30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01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9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10-06-07T21:08:33Z</dcterms:modified>
  <cp:revision>673</cp:revision>
  <dc:subject/>
  <dc:title>Role of Account Management at ERCOT</dc:title>
</cp:coreProperties>
</file>