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534-AD39-4BFD-AD2A-4068B31ECE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6CD-A61E-427E-A960-DF75F988B8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5B7B-1B50-4E0E-8DB8-D1BF78C270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8FA-E5A1-4741-9C25-EF93F67FC8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8DC-3885-426B-835C-BF267F4E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3CC-0447-47F4-9533-F674E30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7E9-4D67-4A43-B6DD-96AAFF41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5D8-C222-4F7F-9081-A9365415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1DB9-4833-4776-96D9-A05427AA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543-3637-4928-9422-8A114759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A092-7EA3-4237-884D-D33977F8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93DF-EF92-4FD2-AAA1-CF6B05C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3EA4-A1BE-469D-BD3B-4F995CC4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927-CF51-4E94-AFCE-4946D175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C9C-52D4-429E-AD5D-F74C7E3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4DC-0325-4C73-BA11-9EEFD6D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30F-AE02-4B70-98C6-FC0A9A1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66AC-E377-4DB3-880C-50A146B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CBFB-8C0F-4CFE-B3BD-AC3C76DA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938-D25B-40D2-B173-428801D6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0EE5-46A7-4E3C-9C56-14A8DB0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5E0-5825-4A74-ADFB-864B97E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BF7-43CA-4C7C-BF04-F5D0A87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176-B05F-484D-A096-CEFBFCE3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21D-3C06-4FD1-858C-5896EB71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C05-95CD-4D0F-8CA8-CF6D312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08B-7697-40FF-8EF9-218C33C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64F-E00E-4429-ADF8-4E066314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0E8F-779D-4CA1-8C80-25257D5A7E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079-50F2-447B-9DDD-FA38A8F468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RMS  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f8f6ac"/>
                  </a:outerShdw>
                </a:effectLst>
                <a:latin typeface="Cambria"/>
              </a:rPr>
              <a:t>June 2010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3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Update Timings Associated with the Expedited Switch Process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4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Revisions for Texas Nodal Market Implementation (Part 1)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5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Revisions for Texas Nodal Market Implementation (Part 2) and Synchronization with PRR821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7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Meter Tampering Business Processes Urgent (Vote)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PUCT Implementation Date of July 1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</a:rPr>
              <a:t>SCR756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: Enhancements to MarkeTrak App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Approved at P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Voting Item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011 PPL was review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CR756 was given “Critical” ra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RMS to perform last review 6/9/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Meter Tampering Task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Working on any “Long Term” enhanc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Planning two rele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3.0A, ETA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4.0, ETA 20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3049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Subcommittee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6-01T16:39:09Z</dcterms:modified>
  <cp:revision>24</cp:revision>
  <dc:subject/>
  <dc:title>R.M.S UPDATE</dc:title>
</cp:coreProperties>
</file>