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A034-0AC4-4689-A1EA-3D9777C4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7AB9-4C8B-4E91-8D79-0D222047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02BB-F37A-4347-A7F6-1DFAEE1D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9EAF-9BEB-4719-BE76-2D949556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C4D6-A17B-4C50-B589-3778D068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28F8-AFAE-4409-BC74-72733CA6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5B4E-6FD0-4279-B771-69E41030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E955-8647-463B-9527-CEE4A814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889F-735A-4044-8221-011DEB42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8A3A-D9DD-41D6-BD59-8A7F9C34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C53C-A35A-4054-965F-F8885D2A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DF3D-3F7A-48AA-A433-F90FB168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6B79-72C4-44A6-A36D-115B1CBC1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18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DE87-895B-43C7-99A0-7E3AD3A36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18,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COT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Zonal IT Sup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nager, IT Admini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Zonal IT Incidents – past 12 month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Chart 4" descr=""/>
          <p:cNvPicPr/>
          <p:nvPr/>
        </p:nvPicPr>
        <p:blipFill>
          <a:blip r:embed="rId1"/>
          <a:stretch/>
        </p:blipFill>
        <p:spPr>
          <a:xfrm>
            <a:off x="603360" y="1060560"/>
            <a:ext cx="80899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upport Focu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focus on system changes to address issues coming out of maintenance windows – the vast majority of our incidents happen here.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al changes recently made to improve reliability of these processes by consolidating Change and Release management functions, and Service Level management under one direc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al code freeze will reduce the number of changes introduc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monitoring and alerting being upgraded for both zonal and nodal syste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Process Monitoring tool is being rolled o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active incident and problem management to decrease resolution time once an incident is detected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ining procedures to handle inci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e and configuration issues continue to be addressed to increase perform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, recent MarkeTrak tuning led to much improved performance without a major system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 issues have not led to a high number of outages over the past 12 month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10-06-08T12:36:02Z</dcterms:modified>
  <cp:revision>299</cp:revision>
  <dc:subject/>
  <dc:title>Instructions</dc:title>
</cp:coreProperties>
</file>