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8B62-624A-4306-88A1-107F796C6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37B8-15A0-4DEF-9858-C850942A50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99F7-E24A-434F-82C0-8CC8830180F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7165-0728-425F-A106-ABCBEF9ABC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B34C-8BFF-4B92-9415-B8249B9EBD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0E65-A9A4-4F28-B7E7-4135C2E294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48E6-F2C2-4999-847D-AC0C04C39F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AE34-3E56-4187-8B1C-DA15E77AE8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FEDF-3D05-4B39-9CE1-C94242D8BA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A248-1949-406B-9C6E-B01DCF805E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DD5-69E3-4B45-8B81-F6FC8956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E3C-6459-4996-AFE9-DE43032A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28D-6344-412E-BE97-1CF0171B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EC8-9FC7-4258-B0F5-91E4FB42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9021-CEB9-4179-A8F3-62C7DCB4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ABDD-0DCC-4383-8355-B7A3F1F2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48E9-E8CE-4246-B7B0-7B9B8F40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27AC-7173-4DAA-AD22-E87DE50A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5DA0-ECB4-4633-AF27-C8F3E868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DD26-AE40-47A8-800E-0C27FC39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CD79-0386-411C-A51C-0206995A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521-C1A0-4E14-8C39-AE343659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9777-F2F6-4727-9386-8CAACC39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8ADD-91AF-4491-A48C-D7801276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356A-D9A9-4A78-AF0D-F6F853F0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872F-48C9-4A98-896C-760185A9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06DA-9651-46B3-9FC0-A7B71D3F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922-80D0-492C-8EBD-B837B0B4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3EA-121C-4732-A013-4A4C7998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7CA-F5D5-4144-9479-E91CD80A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EB6A-00DD-41E7-941E-316D6723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5DE-28DE-4A63-B51C-EFDB6DC1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7CC4-54EF-4B75-9C2B-9D15939C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CD0-AF01-4E36-9A05-63874477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71E2-B1EC-4A9D-902C-9ADE1FBD9BA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316E-D991-4FB3-975A-82196E2BA5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AE84-0516-4F0C-B362-39383E643E92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4252-3DF9-457B-88BF-A1904FAD75D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S Update June 8, 201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1"/>
          <p:cNvSpPr/>
          <p:nvPr/>
        </p:nvSpPr>
        <p:spPr>
          <a:xfrm>
            <a:off x="914400" y="-609480"/>
            <a:ext cx="7696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Interim Settlement S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06/10 Status Re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705720" y="640080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6320" y="2798640"/>
          <a:ext cx="8991360" cy="2154240"/>
        </p:xfrm>
        <a:graphic>
          <a:graphicData uri="http://schemas.openxmlformats.org/drawingml/2006/table">
            <a:tbl>
              <a:tblPr/>
              <a:tblGrid>
                <a:gridCol w="3146400"/>
                <a:gridCol w="1724040"/>
                <a:gridCol w="1798560"/>
                <a:gridCol w="2322360"/>
              </a:tblGrid>
              <a:tr h="36180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 Milest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</a:tr>
              <a:tr h="180216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ompl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/21/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lete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 Status Repor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7000"/>
          </a:bodyPr>
          <a:p>
            <a:pPr lvl="1" marL="332640" indent="-332640">
              <a:lnSpc>
                <a:spcPct val="9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As of June 2, 2010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ERCOT’s Settlement numbers for: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Initial Settlement of Operating date  5/25/2010 the total = </a:t>
            </a:r>
            <a:r>
              <a:rPr b="1" lang="en-US" sz="3700" spc="-1" strike="noStrike">
                <a:solidFill>
                  <a:srgbClr val="ffff00"/>
                </a:solidFill>
                <a:latin typeface="Tahoma"/>
              </a:rPr>
              <a:t>879,170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Final Settlement of Operating date 4/6/2010 the total =           </a:t>
            </a:r>
            <a:r>
              <a:rPr b="1" lang="en-US" sz="3700" spc="-1" strike="noStrike">
                <a:solidFill>
                  <a:srgbClr val="ffff00"/>
                </a:solidFill>
                <a:latin typeface="Tahoma"/>
              </a:rPr>
              <a:t>716,486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True-Up Settlement of Operating date 12/4/2009 the total =         </a:t>
            </a:r>
            <a:r>
              <a:rPr b="1" lang="en-US" sz="3700" spc="-1" strike="noStrike">
                <a:solidFill>
                  <a:srgbClr val="ffff00"/>
                </a:solidFill>
                <a:latin typeface="Tahoma"/>
              </a:rPr>
              <a:t>123,306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lvl="1" marL="332640" indent="-3326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33600" indent="-332280">
              <a:lnSpc>
                <a:spcPct val="90000"/>
              </a:lnSpc>
              <a:spcBef>
                <a:spcPts val="5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0E07-9677-4F54-8784-E030E46C549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lvl="1" marL="335880" indent="-33588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nco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-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ONGRATULATIONS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Installed: </a:t>
            </a:r>
            <a:r>
              <a:rPr b="1" lang="en-US" sz="3300" spc="-1" strike="noStrike">
                <a:solidFill>
                  <a:srgbClr val="ffff00"/>
                </a:solidFill>
                <a:latin typeface="Tahoma"/>
              </a:rPr>
              <a:t>1,000,000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as of 6.2.2010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6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Marking a seven-digit milestone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6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1-millionth smart meter was installed in Wac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335880" indent="-335880">
              <a:lnSpc>
                <a:spcPct val="80000"/>
              </a:lnSpc>
              <a:spcBef>
                <a:spcPts val="7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eployment Plan: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3" marL="1530720" indent="-223920">
              <a:lnSpc>
                <a:spcPct val="80000"/>
              </a:lnSpc>
              <a:spcBef>
                <a:spcPts val="6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010 –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929,000  meters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3" marL="1530720" indent="-223920">
              <a:lnSpc>
                <a:spcPct val="80000"/>
              </a:lnSpc>
              <a:spcBef>
                <a:spcPts val="6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011 –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902,000  meters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3" marL="1530720" indent="-223920">
              <a:lnSpc>
                <a:spcPct val="80000"/>
              </a:lnSpc>
              <a:spcBef>
                <a:spcPts val="6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012 –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902,000  meters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3" marL="1530720" indent="-223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549440" indent="-33552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BCEE-321E-4826-9461-BC2943D349A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CenterPoint Energy: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Installed: </a:t>
            </a:r>
            <a:r>
              <a:rPr b="1" lang="en-US" sz="3300" spc="-1" strike="noStrike">
                <a:solidFill>
                  <a:srgbClr val="ffff00"/>
                </a:solidFill>
                <a:latin typeface="Tahoma"/>
              </a:rPr>
              <a:t>383,512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as of 6.03.2010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ployment Plan, includes projected growth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2010 – 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756,</a:t>
            </a: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684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meter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2011 –  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960,</a:t>
            </a: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327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meter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2012 –  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373,423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meter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lnSpc>
                <a:spcPct val="90000"/>
              </a:lnSpc>
              <a:spcBef>
                <a:spcPts val="5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4A17-DCB7-4A2F-989F-F67F4139E9A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UCT Project 34610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0512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vanced Metering Implementation Team (AMIT) Documentation &amp; Meeting Schedules can be found on: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blic Utility Commission of Texas Project 34610 Websi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76212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http://www.puc.state.tx.us/electric/projects/34610/34610.cf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5DAB-68AB-4CAE-9430-A42B61843F4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676160"/>
            <a:ext cx="8610480" cy="563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JUNE 201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22-2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–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oject #8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Long Term Settlements (F2F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e:  9:30-5: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Critical Kick-Off for this Project - See Long Term Settlement Study results on AMIT webpage (recommended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28-29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–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oject #8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Long Term Settlements (F2F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n: 1:30-5:30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ue: 8:30-4:30               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48E8-6E3A-4CAE-9BBD-286B1A57F21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219320"/>
            <a:ext cx="8610480" cy="579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JULY 2010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7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–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oject 5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- Retail Market Interface (F2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2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2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1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–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oject 5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– Retail Market Interface (F2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e: 9:30-5:30       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2382-0F25-4832-8E51-543E3135F68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A058-068C-43F7-98F7-8235708F05D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C:\Documents and Settings\00015621\Local Settings\Temporary Internet Files\Content.IE5\UZYJAF85\MCj04344110000[1].wmf"/>
          <p:cNvPicPr/>
          <p:nvPr/>
        </p:nvPicPr>
        <p:blipFill>
          <a:blip r:embed="rId1"/>
          <a:stretch/>
        </p:blipFill>
        <p:spPr>
          <a:xfrm>
            <a:off x="380880" y="1905120"/>
            <a:ext cx="208296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5" name="Picture 3" descr="C:\Documents and Settings\00015621\Local Settings\Temporary Internet Files\Content.IE5\2NCNMXYB\MCj03833080000[1].wmf"/>
          <p:cNvPicPr/>
          <p:nvPr/>
        </p:nvPicPr>
        <p:blipFill>
          <a:blip r:embed="rId2"/>
          <a:stretch/>
        </p:blipFill>
        <p:spPr>
          <a:xfrm>
            <a:off x="4952880" y="182880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Documents and Settings\00015621\Local Settings\Temporary Internet Files\Content.IE5\W7FBEKXX\MCj00787620000[1].wmf"/>
          <p:cNvPicPr/>
          <p:nvPr/>
        </p:nvPicPr>
        <p:blipFill>
          <a:blip r:embed="rId3"/>
          <a:stretch/>
        </p:blipFill>
        <p:spPr>
          <a:xfrm>
            <a:off x="2428920" y="3733920"/>
            <a:ext cx="25239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21:15Z</dcterms:created>
  <dc:creator>Scott, Kathy D.</dc:creator>
  <dc:description/>
  <dc:language>en-US</dc:language>
  <cp:lastModifiedBy>Scott, Kathy D.</cp:lastModifiedBy>
  <dcterms:modified xsi:type="dcterms:W3CDTF">2010-06-08T03:08:45Z</dcterms:modified>
  <cp:revision>354</cp:revision>
  <dc:subject/>
  <dc:title>MARS Taskforce </dc:title>
</cp:coreProperties>
</file>