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9B93-49C2-4930-8D97-1108BEF62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699C-ABFA-49BF-B6A2-915924EE3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2527-9D15-4467-BFC4-7CF2F5080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5F4-203A-4FCA-99BA-D0AADE21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1F7-28E0-4BDB-8364-1738A307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7DB-8014-49CC-87C1-F23698B4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C50-191C-4D1B-A953-0AC70EE6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234C-BDF9-4E72-9DFE-60678529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70D2-CB89-45DE-A8FB-398C370C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B121-0561-4683-9C6A-0BB458C1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7151-11F4-4D84-A6DA-48499F00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F577-D61A-4DC8-98EF-EEF17E89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D41D-5A08-40E9-9C1B-D63CD369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4609-4588-4264-880D-1953C68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0B6-4353-4DA0-94FF-D41E4074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F0EB-21FB-4B90-A5C4-6779954D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E09A-C185-49F2-8499-08DD034B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271F-5978-4A5E-9D42-4757C902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85A2-8680-4C97-8055-138F17D0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9374-607B-421E-B127-A717CE6B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993-726B-47F4-B0E4-272C4E76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B53-7BB4-4D94-AC7E-CE6C4BBF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9BB-1FA9-4BAE-BD2D-EF900E9C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5F6-17C2-430F-8BA0-9DA6E8BE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37D-6F18-4609-BA8F-540A404D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E81-974C-405A-B5E9-3A32CABD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235-8094-4495-8FFE-06866120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7F15-0A37-4B25-8C5B-4AB65DD5B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9066-0780-4060-89E1-7144E57F5C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y 27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CWG Update to 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8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82D2-41C5-4D01-9347-2B4759D2A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y 27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MGRRs – COPS Voting I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18, Updates to References of IDR and/or IDR Meter due to the proposed definition of IDR Meter in PRR8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nge is to capitalize IDR ‘Meter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19, Revisions for Texas Nodal Market Implementation and Synchronization with PRR8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s Section 4 of COP Market Guide to align with current stakeholder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20, Creating Subsection 10.3, Unregistered Distributed Generation Re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ecifies Reporting Requir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6094-BB7B-49A0-BA70-104B443C9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y 27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MGR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2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Market Participant Market Notice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pdates Section 5 and Appendix 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CWG Recommended Approval in M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ll review Recommendation Report and Impact Analysis in Ju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1B46-E23B-41E9-8456-0D76D665C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y 27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 Market Gu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ontin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6, Commercial Systems Model / Market Processes / Market Overvie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7, Inputs to Settlement Process and Data Aggreg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8, ERCOT Invoice and Settlement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10, Extracts and Re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CB13-AC87-4757-8402-15B9F3BB7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’s Next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4, 9:30am to Noon, ERCOT Austin, Room 211, or Web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work on the COP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BF86-CFD5-43D4-90F6-9FEA86CA3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’s Next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EA88-4D7D-420B-AB8D-65209C69E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balbracht</cp:lastModifiedBy>
  <dcterms:modified xsi:type="dcterms:W3CDTF">2010-06-02T19:06:42Z</dcterms:modified>
  <cp:revision>275</cp:revision>
  <dc:subject/>
  <dc:title>CCWG 2006 Accomplishments</dc:title>
</cp:coreProperties>
</file>