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7"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8"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9"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C615-A2B8-4596-B4A0-2DF04BBE4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C3C1-D4E9-402B-A1C5-2F022F6B1D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04840" y="696960"/>
            <a:ext cx="4648320" cy="3486240"/>
          </a:xfrm>
          <a:prstGeom prst="rect">
            <a:avLst/>
          </a:prstGeom>
          <a:ln w="0">
            <a:noFill/>
          </a:ln>
        </p:spPr>
      </p:sp>
      <p:sp>
        <p:nvSpPr>
          <p:cNvPr id="15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0AE7-B0B4-4371-A272-69EF748AB8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A58F-DC7D-4072-B1B4-87567D2465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04840" y="696960"/>
            <a:ext cx="4648320" cy="3486240"/>
          </a:xfrm>
          <a:prstGeom prst="rect">
            <a:avLst/>
          </a:prstGeom>
          <a:ln w="0">
            <a:noFill/>
          </a:ln>
        </p:spPr>
      </p:sp>
      <p:sp>
        <p:nvSpPr>
          <p:cNvPr id="162"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9D24-18E6-4B6E-876B-BFA53CE9A24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602E39-E031-4E50-A3FA-A258A34F88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64694-04F4-4880-A203-0E0FF8D93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814232-0CAB-487E-B84A-464A906352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586CD-17DA-4B8D-891A-25444391DF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23FE64B-A08E-44B9-90E9-52B490875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2672096-86B1-467D-89DF-27A6117FF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4DC54E-8366-4B47-9270-F7BF737FF0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3DCE6F-A7CF-4957-9B88-06FF21F1B5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4191C6-C939-4186-B485-2BB47AB1B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4ADECB-D06A-489F-B205-D6C9AE3450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8F1C0AD-78D6-4511-A112-946B2219E7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499D2-E2CB-4D3E-9989-885B5AA602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1CA6D59-F4E1-4504-9478-1883C2BCF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CED638-C824-49BF-8B6E-E9EB741E35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0AD8CED-2C5A-49B6-B29E-DBE4A5E0A7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745C526-A7EA-4FF6-859C-12EAB74FACB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2046FA-99B3-4125-8DFB-EB594477038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A161E0F-190E-4AB4-A482-478C371A81B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8A38B89A-C043-4AAF-84B3-3D319E67784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0342832-1B20-42C8-AF3C-E4789D44177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924362C4-37EC-4D81-AA51-137EA4D6CD4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521AFD2E-FB6E-475E-9F06-E15B4ED424C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007C1-ABBD-412D-876E-78B2437F712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4A21DE34-E359-4C57-A241-2F5891C5C751}"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F62984D-CA66-4617-987E-91F11DD53CC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480983C4-133E-4EE6-A390-2227E9F116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B6A5D69-8D2D-4C32-95EE-2C54299B874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7CF65CAE-0934-43C2-898E-C38D1D6082E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F56F4A49-4F24-4540-A158-7E08BDF3F5A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C28CCE3F-D8A9-4962-80FC-5AD60EFE553C}"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BB2FC-C349-484B-9BB5-1BEF795FE85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A3BDEF-8DE8-42BF-855B-A813264CAA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792AF1D-AD1F-4720-87B2-1B58A7DF03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F3E8F-0B4E-4DCE-9543-8BADC69F3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E02F7-DED1-4DAB-81B3-6907E4163C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5207C3-75C9-43C2-B618-C0D9314D1C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6" name="Picture 9" descr="Ercot Logo"/>
          <p:cNvPicPr/>
          <p:nvPr/>
        </p:nvPicPr>
        <p:blipFill>
          <a:blip r:embed="rId2"/>
          <a:stretch/>
        </p:blipFill>
        <p:spPr>
          <a:xfrm>
            <a:off x="7620120" y="228600"/>
            <a:ext cx="1295280" cy="696960"/>
          </a:xfrm>
          <a:prstGeom prst="rect">
            <a:avLst/>
          </a:prstGeom>
          <a:ln w="0">
            <a:noFill/>
          </a:ln>
        </p:spPr>
      </p:pic>
      <p:sp>
        <p:nvSpPr>
          <p:cNvPr id="7" name="PlaceHolder 3"/>
          <p:cNvSpPr>
            <a:spLocks noGrp="1"/>
          </p:cNvSpPr>
          <p:nvPr>
            <p:ph type="sldNum" idx="1"/>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8184-CB3B-4751-AE37-30C59127E9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664-5379-4687-8D13-E5198AA6EB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9" name="Picture 7" descr="Copy of Ercot Logo"/>
          <p:cNvPicPr/>
          <p:nvPr/>
        </p:nvPicPr>
        <p:blipFill>
          <a:blip r:embed="rId2"/>
          <a:stretch/>
        </p:blipFill>
        <p:spPr>
          <a:xfrm>
            <a:off x="7315200" y="76320"/>
            <a:ext cx="1752480" cy="941400"/>
          </a:xfrm>
          <a:prstGeom prst="rect">
            <a:avLst/>
          </a:prstGeom>
          <a:ln w="0">
            <a:noFill/>
          </a:ln>
        </p:spPr>
      </p:pic>
      <p:sp>
        <p:nvSpPr>
          <p:cNvPr id="50"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Arial"/>
            </a:endParaRPr>
          </a:p>
        </p:txBody>
      </p:sp>
      <p:sp>
        <p:nvSpPr>
          <p:cNvPr id="51"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 name="Group 2"/>
          <p:cNvGrpSpPr/>
          <p:nvPr/>
        </p:nvGrpSpPr>
        <p:grpSpPr>
          <a:xfrm>
            <a:off x="-3222720" y="304920"/>
            <a:ext cx="11909520" cy="4724280"/>
            <a:chOff x="-3222720" y="304920"/>
            <a:chExt cx="11909520" cy="4724280"/>
          </a:xfrm>
        </p:grpSpPr>
        <p:sp>
          <p:nvSpPr>
            <p:cNvPr id="89"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2" name="Picture 10" descr="Ercot Logo"/>
          <p:cNvPicPr/>
          <p:nvPr/>
        </p:nvPicPr>
        <p:blipFill>
          <a:blip r:embed="rId2"/>
          <a:stretch/>
        </p:blipFill>
        <p:spPr>
          <a:xfrm>
            <a:off x="7620120" y="228600"/>
            <a:ext cx="1295280" cy="696960"/>
          </a:xfrm>
          <a:prstGeom prst="rect">
            <a:avLst/>
          </a:prstGeom>
          <a:ln w="0">
            <a:noFill/>
          </a:ln>
        </p:spPr>
      </p:pic>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4"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5"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9E5E-A8EF-426A-B19B-D88A764218B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10/04/20100428-PWG" TargetMode="External"/><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ED64-3075-4723-AFBC-BAEE31E62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p:nvPr>
        </p:nvSpPr>
        <p:spPr>
          <a:xfrm>
            <a:off x="615960" y="1085760"/>
            <a:ext cx="7758000" cy="468648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1.1</a:t>
            </a:r>
            <a:r>
              <a:rPr b="1" lang="en-US" sz="2800" spc="-1" strike="noStrike">
                <a:solidFill>
                  <a:srgbClr val="000000"/>
                </a:solidFill>
                <a:latin typeface="Arial"/>
              </a:rPr>
              <a:t>	</a:t>
            </a:r>
            <a:r>
              <a:rPr b="1" lang="en-US" sz="2800" spc="-1" strike="noStrike">
                <a:solidFill>
                  <a:srgbClr val="000000"/>
                </a:solidFill>
                <a:latin typeface="Arial"/>
              </a:rPr>
              <a:t>Profile Decision Tree Revision and Approval Process </a:t>
            </a:r>
            <a:endParaRPr b="0" lang="en-US" sz="2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ERCOT Staff is responsible for updating the Profile Decision Tree annually; these annual updates are limited to the contents of the “Segment Assignment Tab” and shall be submitted by the ERCOT Staff to the Profiling Working Group (PWG) for review, to the Commercial Operations Subcommittee (COPS) for a recommendation, and to the Technical Advisory Committee (TAC) for approval.  No later than five Business Days after the TAC approval ERCOT shall:</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Issue a market notice alerting Market Participants (MPs) of the change with the effective date ten days following the issuance of the market notice; and</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Electronically distribute the updated Profile Decision Tree to MP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EB91D-BFE2-4F48-9EAE-78BD4FCC37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p:nvPr>
        </p:nvSpPr>
        <p:spPr>
          <a:xfrm>
            <a:off x="615960" y="1085760"/>
            <a:ext cx="7758000" cy="4686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Update to Decision Tre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at the following lin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ercot.com/calendar/2010/04/20100428-PWG</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hanges only related to usage window</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9 Annual update approval schedule</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WG approval Apri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S approval Ma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C approval Jun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to TDSP June 30 as required in LPG</a:t>
            </a:r>
            <a:endParaRPr b="0" lang="en-US" sz="2000" spc="-1" strike="noStrike">
              <a:solidFill>
                <a:srgbClr val="000000"/>
              </a:solidFill>
              <a:latin typeface="Arial"/>
            </a:endParaRPr>
          </a:p>
        </p:txBody>
      </p:sp>
      <p:sp>
        <p:nvSpPr>
          <p:cNvPr id="145"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Schedule for Annual Update Approv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2DEF-97C4-4450-BC9B-212D17E96B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Rectangle 2"/>
          <p:cNvSpPr/>
          <p:nvPr/>
        </p:nvSpPr>
        <p:spPr>
          <a:xfrm>
            <a:off x="-152280" y="355680"/>
            <a:ext cx="795168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d5f5d"/>
                </a:solidFill>
                <a:latin typeface="Arial"/>
              </a:rPr>
              <a:t>Annual Updates – Decision Tree “</a:t>
            </a:r>
            <a:r>
              <a:rPr b="0" lang="en-US" sz="2000" spc="-1" strike="noStrike">
                <a:solidFill>
                  <a:srgbClr val="000000"/>
                </a:solidFill>
                <a:latin typeface="Arial"/>
              </a:rPr>
              <a:t>Segment Assignment Tab”</a:t>
            </a:r>
            <a:endParaRPr b="0" lang="en-US" sz="2000" spc="-1" strike="noStrike">
              <a:solidFill>
                <a:srgbClr val="000000"/>
              </a:solidFill>
              <a:latin typeface="Arial"/>
            </a:endParaRPr>
          </a:p>
        </p:txBody>
      </p:sp>
      <p:pic>
        <p:nvPicPr>
          <p:cNvPr id="148" name="Picture 2" descr=""/>
          <p:cNvPicPr/>
          <p:nvPr/>
        </p:nvPicPr>
        <p:blipFill>
          <a:blip r:embed="rId1"/>
          <a:stretch/>
        </p:blipFill>
        <p:spPr>
          <a:xfrm>
            <a:off x="966960" y="1143000"/>
            <a:ext cx="7210080" cy="514440"/>
          </a:xfrm>
          <a:prstGeom prst="rect">
            <a:avLst/>
          </a:prstGeom>
          <a:ln w="0">
            <a:noFill/>
          </a:ln>
        </p:spPr>
      </p:pic>
      <p:pic>
        <p:nvPicPr>
          <p:cNvPr id="149" name="Picture 3" descr=""/>
          <p:cNvPicPr/>
          <p:nvPr/>
        </p:nvPicPr>
        <p:blipFill>
          <a:blip r:embed="rId2"/>
          <a:stretch/>
        </p:blipFill>
        <p:spPr>
          <a:xfrm>
            <a:off x="1542960" y="1724040"/>
            <a:ext cx="6000840" cy="3838680"/>
          </a:xfrm>
          <a:prstGeom prst="rect">
            <a:avLst/>
          </a:prstGeom>
          <a:ln w="0">
            <a:noFill/>
          </a:ln>
        </p:spPr>
      </p:pic>
      <p:pic>
        <p:nvPicPr>
          <p:cNvPr id="150" name="Picture 4" descr=""/>
          <p:cNvPicPr/>
          <p:nvPr/>
        </p:nvPicPr>
        <p:blipFill>
          <a:blip r:embed="rId3"/>
          <a:stretch/>
        </p:blipFill>
        <p:spPr>
          <a:xfrm>
            <a:off x="762120" y="5686560"/>
            <a:ext cx="7619760" cy="48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CA8D-D0A7-470F-B782-2E94279B1B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2" name="PlaceHolder 1"/>
          <p:cNvSpPr>
            <a:spLocks noGrp="1"/>
          </p:cNvSpPr>
          <p:nvPr>
            <p:ph/>
          </p:nvPr>
        </p:nvSpPr>
        <p:spPr>
          <a:xfrm>
            <a:off x="700200" y="1066680"/>
            <a:ext cx="7758000" cy="4686480"/>
          </a:xfrm>
          <a:prstGeom prst="rect">
            <a:avLst/>
          </a:prstGeom>
          <a:noFill/>
          <a:ln w="0">
            <a:noFill/>
          </a:ln>
        </p:spPr>
        <p:txBody>
          <a:bodyPr anchor="t">
            <a:normAutofit/>
          </a:bodyPr>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te</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WG requests that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COPS recommend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 the TAC to approv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 Annual Validation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date to the </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ofile Decision Tree Revision</a:t>
            </a:r>
            <a:endParaRPr b="0" lang="en-US" sz="3600" spc="-1" strike="noStrike">
              <a:solidFill>
                <a:srgbClr val="000000"/>
              </a:solidFill>
              <a:latin typeface="Arial"/>
            </a:endParaRPr>
          </a:p>
        </p:txBody>
      </p:sp>
      <p:sp>
        <p:nvSpPr>
          <p:cNvPr id="153" name="Rectangle 3"/>
          <p:cNvSpPr/>
          <p:nvPr/>
        </p:nvSpPr>
        <p:spPr>
          <a:xfrm>
            <a:off x="309600" y="395280"/>
            <a:ext cx="72216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d5f5d"/>
                </a:solidFill>
                <a:latin typeface="Arial"/>
              </a:rPr>
              <a:t>Annual Update Approval Language - LP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balbracht</cp:lastModifiedBy>
  <dcterms:modified xsi:type="dcterms:W3CDTF">2010-05-27T13:52:10Z</dcterms:modified>
  <cp:revision>442</cp:revision>
  <dc:subject/>
  <dc:title>PowerPoint Presentation</dc:title>
</cp:coreProperties>
</file>