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007F-C403-4A48-B884-F403E4489F1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BF81-7D10-4762-9FA1-74DABF6C817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92F2-CCD4-45DF-B74D-7912B328751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619D-B68A-4520-9DF3-D7BBB14B766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F70A-560F-4F94-BB28-6F52DB8DE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683-39FA-4E28-94AB-63C1DEAE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533-8968-4CFA-96D1-7D7F2C59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6BF-AF34-4F27-A1D4-4049605BC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490A-2B52-4C16-8B71-85717710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941B-DACB-4AB8-8325-2258FF1B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0B69-0D92-4264-9851-958551E9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E5B4-487A-40F6-9585-2C558157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BF5F-71B4-4292-A59E-A138F895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00B5-E25A-456A-AB1C-2109953D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A1DB-8E76-455D-A79C-AFF94327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14F-066C-478D-BD89-A382693F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5354-24DA-4CF3-9512-6F3B61F8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DED5-6141-4E7C-84B5-97A5E18F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D597-DDB7-4BC8-BFE0-2742A0C5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C0E0-50EC-4BD9-A5E7-93DE1B0F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BE3C-45EB-4A5B-BBA7-8CBD2E39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6D4-60B3-4EDB-9F9D-BC1C1D5C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AF1-8526-4072-B852-AB14AEAD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8D7F-6810-4338-A0BC-669BD307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AD5-61E4-48A8-94A7-CE250D11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0DB-027A-4632-A73A-1615D051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66F-1C53-47AA-A63D-F2BF36CE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5E0C-403C-4AEC-BACC-CF3A6186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375f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75f2f"/>
                </a:gs>
                <a:gs pos="100000">
                  <a:srgbClr val="5586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759B-98F1-479A-BF07-2939C737B4D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50000">
                  <a:srgbClr val="b4ef7f"/>
                </a:gs>
                <a:gs pos="100000">
                  <a:srgbClr val="8ea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55863c"/>
                </a:gs>
                <a:gs pos="100000">
                  <a:srgbClr val="8ea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eac66"/>
                </a:gs>
                <a:gs pos="100000">
                  <a:srgbClr val="55863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375f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75f2f"/>
                  </a:gs>
                  <a:gs pos="100000">
                    <a:srgbClr val="55863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100000">
                    <a:srgbClr val="55863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5863c"/>
                  </a:gs>
                  <a:gs pos="100000">
                    <a:srgbClr val="8ea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eac66"/>
                  </a:gs>
                  <a:gs pos="50000">
                    <a:srgbClr val="b4ef7f"/>
                  </a:gs>
                  <a:gs pos="100000">
                    <a:srgbClr val="8eac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efb3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d1efb3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65A48-0EDE-4CD9-8934-767EB8D7EB4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43000" y="205740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f8f6ac"/>
                  </a:outerShdw>
                </a:effectLst>
                <a:latin typeface="Cambria"/>
              </a:rPr>
              <a:t>RMS   UPDA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f8f6ac"/>
                </a:outerShdw>
              </a:effectLst>
              <a:latin typeface="Cambria"/>
              <a:ea typeface="Cambr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143000" y="342900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f8f6ac"/>
                  </a:outerShdw>
                </a:effectLst>
                <a:latin typeface="Cambria"/>
              </a:rPr>
              <a:t>June 2010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f8f6ac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mbria"/>
                <a:ea typeface="Arial"/>
              </a:rPr>
              <a:t>RMGRR083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Arial"/>
              </a:rPr>
              <a:t>, Update Timings Associated with the Expedited Switch Process (Vot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mbria"/>
                <a:ea typeface="Arial"/>
              </a:rPr>
              <a:t>RMGRR084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Arial"/>
              </a:rPr>
              <a:t>, Revisions for Texas Nodal Market Implementation (Part 1) (Vot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mbria"/>
                <a:ea typeface="Arial"/>
              </a:rPr>
              <a:t>RMGRR085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Arial"/>
              </a:rPr>
              <a:t>, Revisions for Texas Nodal Market Implementation (Part 2) and Synchronization with PRR821 (Vot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mbria"/>
                <a:ea typeface="Arial"/>
              </a:rPr>
              <a:t>RMGRR087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Arial"/>
              </a:rPr>
              <a:t>, Meter Tampering Business Processes Urgent (Vote)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4ef7f"/>
              </a:buClr>
              <a:buSzPct val="70000"/>
              <a:buFont typeface="Cambr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PUCT Implementation Date of July 1, 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ambria"/>
              </a:rPr>
              <a:t>SCR756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: Enhancements to MarkeTrak Appl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4ef7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Approved at P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668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f8f6ac"/>
                  </a:outerShdw>
                </a:effectLst>
                <a:latin typeface="Cambria"/>
              </a:rPr>
              <a:t>Voting Items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f8f6ac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5f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8288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6576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86400"/>
            <a:ext cx="838080" cy="1828800"/>
          </a:xfrm>
          <a:prstGeom prst="flowChartDecision">
            <a:avLst/>
          </a:prstGeom>
          <a:noFill/>
          <a:ln w="9360">
            <a:solidFill>
              <a:srgbClr val="b4e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-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144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7432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45720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6400800"/>
            <a:ext cx="838080" cy="1828800"/>
          </a:xfrm>
          <a:prstGeom prst="flowChartDecision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914400" y="1981080"/>
            <a:ext cx="822960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2011 PPL was reviewe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SCR756 was given “Critical” rank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RMS to perform last review 6/9/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Meter Tampering Task Fo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Working on any “Long Term” enhancem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4ef7f"/>
              </a:buClr>
              <a:buSzPct val="70000"/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</a:rPr>
              <a:t>TEXAS SE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</a:rPr>
              <a:t>Planning two relea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4ef7f"/>
              </a:buClr>
              <a:buSzPct val="70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3.0A, ETA 201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4ef7f"/>
              </a:buClr>
              <a:buSzPct val="70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mbria"/>
              </a:rPr>
              <a:t>4.0, ETA 201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680" y="304920"/>
            <a:ext cx="6934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1096358" blurRad="0" rotWithShape="0">
                    <a:srgbClr val="f8f6ac"/>
                  </a:outerShdw>
                </a:effectLst>
                <a:latin typeface="Cambria"/>
              </a:rPr>
              <a:t>Subcommittee Updat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40186" dir="1096358" blurRad="0" rotWithShape="0">
                  <a:srgbClr val="f8f6ac"/>
                </a:outerShdw>
              </a:effectLst>
              <a:latin typeface="Cambria"/>
              <a:ea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19:53Z</dcterms:created>
  <dc:creator>Windows XP ver. 2.2</dc:creator>
  <dc:description/>
  <dc:language>en-US</dc:language>
  <cp:lastModifiedBy>kpatrick</cp:lastModifiedBy>
  <dcterms:modified xsi:type="dcterms:W3CDTF">2010-06-01T16:39:09Z</dcterms:modified>
  <cp:revision>24</cp:revision>
  <dc:subject/>
  <dc:title>R.M.S UPDATE</dc:title>
</cp:coreProperties>
</file>