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1897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F8CE-D5F1-4CFD-8CC6-9EFF2B1DB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1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1" descr="TRE Logo_2010_CMYK_HiRes_padding_transp.gif"/>
          <p:cNvPicPr/>
          <p:nvPr/>
        </p:nvPicPr>
        <p:blipFill>
          <a:blip r:embed="rId3"/>
          <a:stretch/>
        </p:blipFill>
        <p:spPr>
          <a:xfrm>
            <a:off x="304920" y="6172200"/>
            <a:ext cx="167616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4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TRE Logo_2010_CMYK_HiRes_padding_transp.gif"/>
          <p:cNvPicPr/>
          <p:nvPr/>
        </p:nvPicPr>
        <p:blipFill>
          <a:blip r:embed="rId3"/>
          <a:stretch/>
        </p:blipFill>
        <p:spPr>
          <a:xfrm>
            <a:off x="380880" y="152280"/>
            <a:ext cx="3353040" cy="12956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066320" y="4038480"/>
            <a:ext cx="65026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87"/>
                </a:solidFill>
                <a:latin typeface="Arial Black"/>
              </a:rPr>
              <a:t>Don Jo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87"/>
                </a:solidFill>
                <a:latin typeface="Arial Black"/>
              </a:rPr>
              <a:t>Manager, Reliability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487"/>
                </a:solidFill>
                <a:latin typeface="Arial Black"/>
              </a:rPr>
              <a:t>TAC – June 3, 20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18960" y="2209680"/>
            <a:ext cx="639108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Texas 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Reliability</a:t>
            </a: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 Entity Update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457200" y="63244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2010-2011 Members Representatives Committee Member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8600" y="1127160"/>
          <a:ext cx="8763120" cy="4664160"/>
        </p:xfrm>
        <a:graphic>
          <a:graphicData uri="http://schemas.openxmlformats.org/drawingml/2006/table">
            <a:tbl>
              <a:tblPr/>
              <a:tblGrid>
                <a:gridCol w="2819520"/>
                <a:gridCol w="2057400"/>
                <a:gridCol w="3886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oord &amp; Pla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ck Ma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Reliability Council of Texas, In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oord &amp; Planning Alter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 McInty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Reliability Council of Texas, Inc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Quin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or Electric Delivery Company, L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Mo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 Electric Power Service Cor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 Alter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nn Walk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Point Energy Houston Electric L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an Bar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era Electric Cooperative, In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 McLe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Texas Electric Cooperative, In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tive Alter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ny Y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os Electric Power Cooperative, In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 Castrej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S Ener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y Schwert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rland Power &amp; L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 Alter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 Willia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ton Municipal Electr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d J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minant Energy Company L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y J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pine Corpo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Alter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&amp; Marke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Hely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aska Power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&amp; Marke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tt Ward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idental Power Services, In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&amp; Marketing Alter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 nam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2010-2011 Reliability Standards Committee Members 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1127160"/>
          <a:ext cx="8763120" cy="4664160"/>
        </p:xfrm>
        <a:graphic>
          <a:graphicData uri="http://schemas.openxmlformats.org/drawingml/2006/table">
            <a:tbl>
              <a:tblPr/>
              <a:tblGrid>
                <a:gridCol w="2819520"/>
                <a:gridCol w="2057400"/>
                <a:gridCol w="3886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oord &amp; Plan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 My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Reliability Council of Texas, In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oord &amp; Planning Alter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ra Zot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 Reliability Council of Texas, Inc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Brockh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erPoint Energy Houston Electric, L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 Johns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 Electric Power Service Cor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mission Alter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 nam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ry Krem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dalupe Valley Electric Cooper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hard McLe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Texas Electric Cooperative, In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perative Alter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 nam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id Deteli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S Ener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k Ow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s Municipal Power Ag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 Alter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 nam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uerite Wag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EG Energy Resources &amp; Trade, L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y Sha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A Trading, L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tion Alter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ona Grea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F SUEZ Energy Marketing NA, In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&amp; Marke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emy Carpen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aska Power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&amp; Marke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k Keet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G Power Marketing LL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Serving &amp; Marketing Altern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 So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idental Power Services, In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Board of Director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Independent Dire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. Massoud Ami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aven Crowel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d N. Day, I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ores M. E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Affiliated Dire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ir and Vice Chair of MR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CT Chair Barry Smitherman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 offici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vot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UC Public Counsel Sheri Givens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 offici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vot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as RE CEO – Larry Grim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Independent Directors</a:t>
            </a: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106632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. Massoud Amin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Minneso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fessor of Electrical &amp; Computer Engineering (E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rector of the Technological Leadership Institute (TLI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rector of Graduate Studies for the Security Technologies Progr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rastructure Security, Operations/Planning, Risk and Policy Assess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aven Crowel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ver Wyman Consul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rtner – Energy and Water Resourc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nessee Valley Authority (T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irman (1993-2001), Vice President (1980-89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oard Member, Chairman, Advisory Council (1993-2005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Independent Director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ed N. Day, IV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gress Energy Carolinas (PEC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er President and C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 year career at Carolina Power/Progress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lores M. Et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fessor of Electrical and Computer Engineer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thern Methodist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Tower Center for Political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Naval Academy, University of Colorado, University of New Mex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RC Board of Trustees (2004-2005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partment of Defen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stant Secretary of the Navy for Research, Development and Acqui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uty Under Secretary of Defense Science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urrent Events and Date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2 – Independent Director vote en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2 – Member Representatives Committee (MR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4 – CIP-001 Ballot Pool clo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7 – CIP-001 Ballot beg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 – Texas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Reg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ntity Board Mt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25 – BAL-001-TRE Standard Drafting Te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– Tex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li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ntity Board Mt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uly 1 – TRANSFER OP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13 – New RSC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ly 22 – BAL-001-TRE Worksh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124080"/>
            <a:ext cx="4038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Questions?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57200" y="63244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MCj00787110000[1]"/>
          <p:cNvPicPr/>
          <p:nvPr/>
        </p:nvPicPr>
        <p:blipFill>
          <a:blip r:embed="rId1"/>
          <a:stretch/>
        </p:blipFill>
        <p:spPr>
          <a:xfrm>
            <a:off x="6324480" y="1828800"/>
            <a:ext cx="16225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Don Jones</cp:lastModifiedBy>
  <dcterms:modified xsi:type="dcterms:W3CDTF">2010-06-02T12:36:33Z</dcterms:modified>
  <cp:revision>61</cp:revision>
  <dc:subject/>
  <dc:title>Texas Regional Entity Presentation</dc:title>
</cp:coreProperties>
</file>