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3883-386E-4055-95B6-F8D1E0DD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05CA8-0196-4852-82D9-ECB3C42B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E4EC-C408-4D11-9ACF-2AA1AA73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030A-88A0-4A53-A0D2-9C7F83D6D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7C7B-BEE2-4BC4-AFDD-96A8B5D5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966E-5C3A-4C46-8984-C4322D9A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5BB1-168E-4BA5-9630-7DD6E750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9EB3-056D-4540-96AC-16BE0474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D432-B1AE-4F63-A9DB-AC457C6B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C442-8B52-4E6B-BA8F-A5A41F88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CECB2-AA27-4FB9-BF55-1ED132A2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1582-FC53-456D-8740-11825845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3233-C9BC-4413-835F-0D8C37FB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6610-6601-4B72-8D02-668CCFD7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6CFA-7373-48F1-A31E-A618EF7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FD10-14CF-499C-A2D7-7B9F7732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4363-8549-4971-B90F-6FA676BE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5388-72D6-40B4-813C-1DFEB58C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839C-F9A5-4AB0-B496-3F34E964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794F-A54E-4263-9004-76A868F1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941B0-FB4C-47D2-A090-D0E7C89F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80959-54DA-49A0-AE9F-EE28B461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7969-07CD-4A3E-8A00-FEB7C9E2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1AE2-1F24-4964-BC5C-F025F077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AE64-F7E0-402C-96D3-C466821D9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8723-A6A4-44D1-9A5E-8C1F7AF84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73E3-C55D-4440-A996-DB9D1A8D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4499-4C2E-4B81-8C3D-76449E874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dt" idx="8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une 3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chnical Adviso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MR Exit for Spencer 5 –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medial Action Pla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Jay Teixei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1 – Carrollton RAP cont’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8 kV Alternative Plan – RAP Ope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NMP Highland – TNMP Lewisville (branch 37050 – 37060) 138 kV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in – Frisco 138kV line is overload, open Arco – Krugerville 138 kV line (Branch 1993-1994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ison – Krum line is in-service, Collins– Frisco 138 kV line overload can be corrected by Collin Reactive S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llison – Krum 138 kV line is not in-service, Lewisville Switch (645)-Highland E 138 kV(1970) line may still be overloaded after opening Arco - Krugerville. Open Argyle – Corinth 138 kV line (Branch 1984-1985) to correct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7" descr=""/>
          <p:cNvPicPr/>
          <p:nvPr/>
        </p:nvPicPr>
        <p:blipFill>
          <a:blip r:embed="rId1"/>
          <a:stretch/>
        </p:blipFill>
        <p:spPr>
          <a:xfrm>
            <a:off x="0" y="685800"/>
            <a:ext cx="4627440" cy="54864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1 – Carrollton RAP cont’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4476600" y="685800"/>
            <a:ext cx="46674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Line 7"/>
          <p:cNvSpPr/>
          <p:nvPr/>
        </p:nvSpPr>
        <p:spPr>
          <a:xfrm flipH="1">
            <a:off x="2895120" y="35053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4042080" y="3375000"/>
            <a:ext cx="2969640" cy="459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g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ville 645 - Highland 664 138 kV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V="1">
            <a:off x="3809880" y="487656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3584160" y="5410080"/>
            <a:ext cx="3089880" cy="459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ville 645 – Highland 1970 138 kV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2"/>
          <p:cNvSpPr/>
          <p:nvPr/>
        </p:nvSpPr>
        <p:spPr>
          <a:xfrm flipH="1" flipV="1">
            <a:off x="1219320" y="25146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3"/>
          <p:cNvSpPr/>
          <p:nvPr/>
        </p:nvSpPr>
        <p:spPr>
          <a:xfrm>
            <a:off x="2133720" y="2743200"/>
            <a:ext cx="32623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rgyle 1984 – Corinth 1985 138 kV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 flipV="1">
            <a:off x="838080" y="4495680"/>
            <a:ext cx="3812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5"/>
          <p:cNvSpPr/>
          <p:nvPr/>
        </p:nvSpPr>
        <p:spPr>
          <a:xfrm>
            <a:off x="379440" y="5486400"/>
            <a:ext cx="23158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TNMP Highland 37050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NMP Lewisville 370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 flipH="1">
            <a:off x="5714640" y="25146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6784920" y="2286000"/>
            <a:ext cx="208584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rco 1993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gerville 1994 138 kV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1 – Carrollton RAP cont’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brid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 the 345 kV-plan upon initial detection of overload on the Lewisville Switch (645) to Highland (1970) 138 kV l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the Alternative 138 kV-plan and put the opened NW Carrollton – Lewisville 345 and 138 kV circuits back in servic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llows a quicker response since only 1 TSP is involved in the implementation of the 345 kV-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6248520" y="6458040"/>
            <a:ext cx="2514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Date Placeholder 5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4 – Frisco RA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gent element: Denton Steam – Corinth 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Teasley - Pockr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oad eleme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llin (2370) to Frisco (681) 138 kV l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ate A/B/C: 256/256/25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 opera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e the voltage of the West Denton 138 kV side to 140k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Collin Series Reactor SPS in-service so that it will operate when the Collin to Frisco line overlo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f this does not resolve the overload, put all three capacitor banks at Navo in-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Verify Argyle and Corinth capacitors ar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overload: 109% Rate B (278.9 M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number of hours RAP could operate in year 2010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2" descr=""/>
          <p:cNvPicPr/>
          <p:nvPr/>
        </p:nvPicPr>
        <p:blipFill>
          <a:blip r:embed="rId1"/>
          <a:stretch/>
        </p:blipFill>
        <p:spPr>
          <a:xfrm>
            <a:off x="0" y="695160"/>
            <a:ext cx="4483080" cy="562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4 - Frisco RAP cont’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 flipV="1">
            <a:off x="3276720" y="48006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373392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 flipV="1">
            <a:off x="3504960" y="4571640"/>
            <a:ext cx="228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2"/>
          <a:stretch/>
        </p:blipFill>
        <p:spPr>
          <a:xfrm>
            <a:off x="4665600" y="685800"/>
            <a:ext cx="4478400" cy="534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Text Box 10"/>
          <p:cNvSpPr/>
          <p:nvPr/>
        </p:nvSpPr>
        <p:spPr>
          <a:xfrm>
            <a:off x="2523240" y="5584680"/>
            <a:ext cx="3181320" cy="641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g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on Steam auto-transformer to Corinth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sley to Pockrus 138 kV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105800" y="4913280"/>
            <a:ext cx="10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377360" y="1523880"/>
            <a:ext cx="164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h De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7533360" y="1179360"/>
            <a:ext cx="81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2672280" y="787320"/>
            <a:ext cx="15811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P ac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t all three capaci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s at Navo in-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4267080" y="11430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 flipV="1">
            <a:off x="6629400" y="2133360"/>
            <a:ext cx="2209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"/>
          <p:cNvSpPr/>
          <p:nvPr/>
        </p:nvSpPr>
        <p:spPr>
          <a:xfrm>
            <a:off x="5187600" y="762120"/>
            <a:ext cx="2149560" cy="6415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load ele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ins (2370) to Frisco (6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8 kV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6934320" y="1371600"/>
            <a:ext cx="6094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1227600" y="3124080"/>
            <a:ext cx="1605600" cy="70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P ac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 the voltage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 Denton 138 kV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140 k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533520" y="38098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4434120" y="2743200"/>
            <a:ext cx="2209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P ac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n Series Reactor SPS Ope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Collin to Frisco line overloa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7772400" y="1522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7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4"/>
          <p:cNvSpPr/>
          <p:nvPr/>
        </p:nvSpPr>
        <p:spPr>
          <a:xfrm>
            <a:off x="6248520" y="6458040"/>
            <a:ext cx="2514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e Placeholder 5"/>
          <p:cNvSpPr/>
          <p:nvPr/>
        </p:nvSpPr>
        <p:spPr>
          <a:xfrm>
            <a:off x="1143000" y="63817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6 - Frisco Voltage RA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gent el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llin to Frisco 138 kV 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voltage elemen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risco and Panther Creek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 ope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rn on all 3 capacitor banks at Na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ise voltage at West Denton to 1.02~1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of problem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voltage at Frisco: 0.89718 p.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wisville (645) – Highland (1970): 104% [due to the presence of Carrollton – Lewisville 138 kV lin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o (1993) – Krugerville (1994): 106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d number of hours RAP could operate in year 2010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0.92 p.u. – 584 hours (Brazos Crite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0.90 p.u. – 90 hours (ERCOT Criter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o to Krugerville – 132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wisville to Highland – 36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51" descr=""/>
          <p:cNvPicPr/>
          <p:nvPr/>
        </p:nvPicPr>
        <p:blipFill>
          <a:blip r:embed="rId1"/>
          <a:stretch/>
        </p:blipFill>
        <p:spPr>
          <a:xfrm>
            <a:off x="4533840" y="762120"/>
            <a:ext cx="461016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4" name="Picture 48" descr=""/>
          <p:cNvPicPr/>
          <p:nvPr/>
        </p:nvPicPr>
        <p:blipFill>
          <a:blip r:embed="rId2"/>
          <a:stretch/>
        </p:blipFill>
        <p:spPr>
          <a:xfrm>
            <a:off x="0" y="685800"/>
            <a:ext cx="4430880" cy="5562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6 – Frisco Voltage RAP cont’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6" name="Line 29"/>
          <p:cNvSpPr/>
          <p:nvPr/>
        </p:nvSpPr>
        <p:spPr>
          <a:xfrm>
            <a:off x="373392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5"/>
          <p:cNvSpPr/>
          <p:nvPr/>
        </p:nvSpPr>
        <p:spPr>
          <a:xfrm>
            <a:off x="3968640" y="2057400"/>
            <a:ext cx="2149560" cy="641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g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ins (2370) to Frisco (6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8 kV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2"/>
          <p:cNvSpPr/>
          <p:nvPr/>
        </p:nvSpPr>
        <p:spPr>
          <a:xfrm>
            <a:off x="3435840" y="4952880"/>
            <a:ext cx="1081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3"/>
          <p:cNvSpPr/>
          <p:nvPr/>
        </p:nvSpPr>
        <p:spPr>
          <a:xfrm>
            <a:off x="1377360" y="1523880"/>
            <a:ext cx="1642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h De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5"/>
          <p:cNvSpPr/>
          <p:nvPr/>
        </p:nvSpPr>
        <p:spPr>
          <a:xfrm>
            <a:off x="7533360" y="1179360"/>
            <a:ext cx="81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5179320" y="762120"/>
            <a:ext cx="1625400" cy="459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voltage at Fr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1"/>
          <p:cNvSpPr/>
          <p:nvPr/>
        </p:nvSpPr>
        <p:spPr>
          <a:xfrm>
            <a:off x="6477120" y="121932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1227600" y="3124080"/>
            <a:ext cx="160560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P ac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 the voltage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st Denton 138 kV s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1.02~1.05 p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4"/>
          <p:cNvSpPr/>
          <p:nvPr/>
        </p:nvSpPr>
        <p:spPr>
          <a:xfrm flipH="1">
            <a:off x="533520" y="3809880"/>
            <a:ext cx="7617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5"/>
          <p:cNvSpPr/>
          <p:nvPr/>
        </p:nvSpPr>
        <p:spPr>
          <a:xfrm flipV="1">
            <a:off x="4876920" y="1980720"/>
            <a:ext cx="297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9"/>
          <p:cNvSpPr/>
          <p:nvPr/>
        </p:nvSpPr>
        <p:spPr>
          <a:xfrm>
            <a:off x="2901960" y="762120"/>
            <a:ext cx="143028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P ac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rn on all 3 capaci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s at Na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4343400" y="114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7772400" y="1522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90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4"/>
          <p:cNvSpPr/>
          <p:nvPr/>
        </p:nvSpPr>
        <p:spPr>
          <a:xfrm>
            <a:off x="6248520" y="6458040"/>
            <a:ext cx="2514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e Placeholder 5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7 – Arco-Krugerville RA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arrollton 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load elemen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llin (2370) to Frisco (681) 138 kV li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Rate A/B/C: 256/256/256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P operation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Open Arco (1993) – Krugerville (1994)138 kV 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of overload (Collins – Frisco 138 kV line)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ollton RAP – 345 kV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1 - 115.8% (296.3 MVA) after Carrollton RAP [pre RAP: 103.9% 259.4 MVA Collins Series Reactor SPS would relieve this but not after Carrollton RAP so use Arco RAP instea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2 – 114.2% (292.3 MVA) after Carrollton RAP [pre RAP: 102.1% 261.4 MVA Collins Series Reactor SPS would relieve this but not after Carrollton RAP so use Arco RAP instea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ollton RAP – 138V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1 – 103.2% (264.2 MVA) after Carrollton RAP [pre RAP: 103.9% 259.4 MVA Collins Series Reactor SPS would relieve this overloa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2 – 101.5% (292.3 MVA) after Carrollton RAP [pre RAP: 102.1% 261.4 MVA Collins Series Reactor SPS would relieve this overloa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4"/>
          <p:cNvSpPr/>
          <p:nvPr/>
        </p:nvSpPr>
        <p:spPr>
          <a:xfrm>
            <a:off x="6248520" y="6458040"/>
            <a:ext cx="2514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Date Placeholder 5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AP 7 – Arco RAP-Krugerville cont’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6172200" y="152280"/>
            <a:ext cx="28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ame # of hours 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Carrollton RAP &amp; Highland 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7"/>
          <p:cNvGrpSpPr/>
          <p:nvPr/>
        </p:nvGrpSpPr>
        <p:grpSpPr>
          <a:xfrm>
            <a:off x="457200" y="990720"/>
            <a:ext cx="8185320" cy="4935240"/>
            <a:chOff x="457200" y="990720"/>
            <a:chExt cx="8185320" cy="4935240"/>
          </a:xfrm>
        </p:grpSpPr>
        <p:pic>
          <p:nvPicPr>
            <p:cNvPr id="24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990720"/>
              <a:ext cx="8185320" cy="49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Text Box 7"/>
            <p:cNvSpPr/>
            <p:nvPr/>
          </p:nvSpPr>
          <p:spPr>
            <a:xfrm>
              <a:off x="5639040" y="2286000"/>
              <a:ext cx="2362320" cy="641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load element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llins (2370) to Frisco (681) 138 kV li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8"/>
            <p:cNvSpPr/>
            <p:nvPr/>
          </p:nvSpPr>
          <p:spPr>
            <a:xfrm>
              <a:off x="2584440" y="4952880"/>
              <a:ext cx="2568960" cy="4590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ingency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load caused by Carrollton RA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9"/>
            <p:cNvSpPr/>
            <p:nvPr/>
          </p:nvSpPr>
          <p:spPr>
            <a:xfrm flipV="1">
              <a:off x="3429000" y="3581280"/>
              <a:ext cx="2133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>
              <a:off x="6782040" y="2743200"/>
              <a:ext cx="5331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1145160" y="3200400"/>
              <a:ext cx="3573000" cy="45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P action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pen Arco (1993) – Krugerville (1994)138 kV li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 flipV="1">
              <a:off x="1066680" y="1981080"/>
              <a:ext cx="182880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2"/>
            <p:cNvSpPr/>
            <p:nvPr/>
          </p:nvSpPr>
          <p:spPr>
            <a:xfrm>
              <a:off x="7776000" y="3276720"/>
              <a:ext cx="749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ll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13"/>
            <p:cNvSpPr/>
            <p:nvPr/>
          </p:nvSpPr>
          <p:spPr>
            <a:xfrm>
              <a:off x="1374840" y="1143000"/>
              <a:ext cx="1256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rugervi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14"/>
            <p:cNvSpPr/>
            <p:nvPr/>
          </p:nvSpPr>
          <p:spPr>
            <a:xfrm>
              <a:off x="839880" y="2666880"/>
              <a:ext cx="650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rc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5"/>
            <p:cNvSpPr/>
            <p:nvPr/>
          </p:nvSpPr>
          <p:spPr>
            <a:xfrm>
              <a:off x="3355200" y="2133720"/>
              <a:ext cx="7124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16"/>
            <p:cNvSpPr/>
            <p:nvPr/>
          </p:nvSpPr>
          <p:spPr>
            <a:xfrm>
              <a:off x="4041360" y="2590920"/>
              <a:ext cx="1651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nther Cre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Line 20"/>
          <p:cNvSpPr/>
          <p:nvPr/>
        </p:nvSpPr>
        <p:spPr>
          <a:xfrm flipV="1">
            <a:off x="3429000" y="3962160"/>
            <a:ext cx="327672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219320" y="2666880"/>
            <a:ext cx="68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62120" y="914400"/>
            <a:ext cx="75438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staff analysis of the Spencer 5 RMR exit strategy identified the need for several transmission line upgrades as well as transformer and capacitor bank ad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llow exit of RMR prior to completion of the identified projects, Remedial Action Plans (RAPs)  were develop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ate Placeholder 5"/>
          <p:cNvSpPr/>
          <p:nvPr/>
        </p:nvSpPr>
        <p:spPr>
          <a:xfrm>
            <a:off x="1066680" y="6477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3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ist of RAPs needed for 2010**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52280" y="990720"/>
          <a:ext cx="8562960" cy="3992400"/>
        </p:xfrm>
        <a:graphic>
          <a:graphicData uri="http://schemas.openxmlformats.org/drawingml/2006/table">
            <a:tbl>
              <a:tblPr/>
              <a:tblGrid>
                <a:gridCol w="393480"/>
                <a:gridCol w="1662120"/>
                <a:gridCol w="6291720"/>
                <a:gridCol w="216000"/>
              </a:tblGrid>
              <a:tr h="580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gency/Overload pa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rollton R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: Lewisville Switch (645)-Highland E 138 kV(1970)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: Lewisville Switch (645)-Highland(66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: Lewisville Switch (645)-Highland E 138 kV(1970)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: Highland (664) - Canyon (66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isco R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: Collins (2370) – Frisco (681) 138 kV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: Denton Steam – Corinth; Teasley to Pockr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sco Voltage R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: Low voltage at Frisco and Panther Cre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: Collin to Frisco 138 kV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o-Krugerville R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lins (2370) to Frisco (681) 138 kV 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fter Operation of Carrollton RAP or Lake Pointe R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ed on 2010 SSWG load level and one unit un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for RAPs prior to completion of exit strategy projects will be reviewed each 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6248520" y="6458040"/>
            <a:ext cx="2514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5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ermanent RMR Exit Solu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685800"/>
          <a:ext cx="8686800" cy="5526000"/>
        </p:xfrm>
        <a:graphic>
          <a:graphicData uri="http://schemas.openxmlformats.org/drawingml/2006/table">
            <a:tbl>
              <a:tblPr/>
              <a:tblGrid>
                <a:gridCol w="228600"/>
                <a:gridCol w="5334120"/>
                <a:gridCol w="1752480"/>
                <a:gridCol w="1371600"/>
              </a:tblGrid>
              <a:tr h="6415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Completion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D Wells to Hickory 69kV (Dent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,167,00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grade Lewisville Switch to Highland (TNMP) 138 kV line to 290MVA or abov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21,17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 second 345/138 kV autotransformer at Lewisville switching subs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,165,15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grade Collin to Frisco 138 kV line to 326 M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81,594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pgrade West Denton to Jim Christal to North Denton138 kV line to 250 MVA or abo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,0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mmer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dditional capacitor banks at Navo and Panther Creek Substations (interim for Mustang capacitor ban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d in item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ustang Substation and capacitor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,760,50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e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grade Arco to Krugerville 138 k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,193,38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Planned prior to Spencer N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st Analysi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62120" y="914400"/>
            <a:ext cx="75438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ed annual RMR fixed costs that would be uplifted on an on-going basis are greater than the annual carrying costs of the transmission projects, notwithstanding any additional production cost sav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planned prior to Spencer NSO not included in transmission project co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219320" y="2666880"/>
            <a:ext cx="68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219320" y="2666880"/>
            <a:ext cx="68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6248520" y="6458040"/>
            <a:ext cx="2514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1 – Carrollton RA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gent element: Lewisville Switch (645)-Highland(66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oad element: Lewisville Switch (645)-Highland E 138 kV(1970) line (Rate A/B/C: 214/214/2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 operation: Open NW Carrollton (2361) – Lewisville Switch (646) 345 kV and 138 kV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 of overload: 121.2% Rate B (259.4 M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number of hours RAP could operate in year 2010: 722 ho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1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8534520" cy="5545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6324480" y="640080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5"/>
          <p:cNvSpPr/>
          <p:nvPr/>
        </p:nvSpPr>
        <p:spPr>
          <a:xfrm>
            <a:off x="1143000" y="645804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AP 1 – Carrollton RAP cont’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7772400" y="15228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72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2057400" y="4267080"/>
            <a:ext cx="1108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ano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1531440" y="68580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7246800" y="5791320"/>
            <a:ext cx="1613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W Carrol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3513240" y="685800"/>
            <a:ext cx="460800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genc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wisville Switch (645) to Highland E (1970) 138 kV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4"/>
          <p:cNvSpPr/>
          <p:nvPr/>
        </p:nvSpPr>
        <p:spPr>
          <a:xfrm flipH="1">
            <a:off x="3276720" y="990720"/>
            <a:ext cx="3045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3970440" y="1295280"/>
            <a:ext cx="4339800" cy="5202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load elem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wisville Switch (645) to Highland (664) 138 kV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6"/>
          <p:cNvSpPr/>
          <p:nvPr/>
        </p:nvSpPr>
        <p:spPr>
          <a:xfrm flipH="1">
            <a:off x="3276720" y="1447920"/>
            <a:ext cx="7617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7"/>
          <p:cNvSpPr/>
          <p:nvPr/>
        </p:nvSpPr>
        <p:spPr>
          <a:xfrm>
            <a:off x="6025680" y="1905120"/>
            <a:ext cx="25246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 a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NW Carrollton (2361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ville Switch (646) 345 kV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8"/>
          <p:cNvSpPr/>
          <p:nvPr/>
        </p:nvSpPr>
        <p:spPr>
          <a:xfrm flipH="1">
            <a:off x="5638320" y="205740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6482880" y="2666880"/>
            <a:ext cx="25246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 ac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NW Carrollton (2362)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wisville Switch (645) 138 kV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0"/>
          <p:cNvSpPr/>
          <p:nvPr/>
        </p:nvSpPr>
        <p:spPr>
          <a:xfrm flipH="1">
            <a:off x="5333760" y="274320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eixeira</cp:lastModifiedBy>
  <dcterms:modified xsi:type="dcterms:W3CDTF">2010-05-28T14:26:43Z</dcterms:modified>
  <cp:revision>262</cp:revision>
  <dc:subject/>
  <dc:title>Instructions</dc:title>
</cp:coreProperties>
</file>