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B7D0-B65A-45CF-90E9-18A6C18F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6DDB-5745-40D8-9053-6D6E6C23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20D5-8C4A-4B1E-8869-3E9BBFCD8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60D1-5A2D-4B87-9E04-96B47C06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F00C-1C34-44B8-AE8E-66C14AD8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E20C-8CEA-47A4-A8C5-1DD997E6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8755-9DFD-4FA7-8894-3EA7D11B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4C49-D836-43BC-B12F-A9BAD6C0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C0C0-177E-4EF6-BE84-4676362D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635F-BAC2-43B8-A208-58FCE1FD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3633-E8FC-4DF1-BA88-D159A11C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C9D0-BFA9-4FCE-B645-43E3D9C6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6A7D-3244-48E2-B1ED-57EE4032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D069-866F-42B7-8C89-FCAD46B4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921C-C44D-4EF4-8267-6FEB075E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BA19-00A5-4DFC-B2A1-380B565D4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DA31-9E87-4898-9655-D09BBC44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DF1D-D390-40DA-BCB0-127715D8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62A4-B91F-4866-AF37-60EA1F2D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9232-E509-4D4F-AEFD-9697049E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4CA5-8DD3-464B-85E0-9E0EBB1C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6721-04FD-46B8-847F-A07C6CCB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9761-5698-4E59-9297-1ED21667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C550-2A63-4405-81CB-09966E6A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911F-11F2-4B77-935D-68B0ABBA28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DDCB-1ADB-421B-800C-CE32C03831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09480" y="852480"/>
            <a:ext cx="7848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ommercial Operations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ubcommitte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ay 11, 2010 Mee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pdate to TA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ne 3,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Voting Ite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406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MGRR0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ating Subsection 8.2, Settlement Statements and Invo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guage will be included that references the User Guide being developed by SEW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are very grateful for the assistance from Mandy Bauld and Jamey Lava. Their knowledge gave great insight into this COPMGR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Voting Item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61372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nual Update to the Profile Decision T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 to the Profile Decision Tree relate to th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ge Wind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ition of an “else/if” stat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Nodal Program Status Report – Key Item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im Galvin, Chair of SEWG presented the Nodal Program Status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lighted progress in the Market Trials (very robu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couraged affected Market Participants to participate in the weekly Nodal cal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inded Market Participants they should consult Protocol Revision Request (PRR) 748, Settlement during EDS 3 Load Frequency Control Testing for Settlement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new Risk or Issue items added to the Nodal Program Risks and Issues 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152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CWG Working Group Upda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collaborate with SEWG regarding the Settlement Guide being created. Must be in synch with new Subsection 8.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WG Completed modifications to COPMG Section 5 and Appendix A for Market Participants Notification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CWG continuing developing and modifying sections of the COP MG to be current for Nodal – expected to be on time with all deliverab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 u="sng">
                <a:solidFill>
                  <a:srgbClr val="ffffff"/>
                </a:solidFill>
                <a:uFillTx/>
                <a:latin typeface="Times New Roman"/>
              </a:rPr>
              <a:t>SEWG Upda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444320"/>
            <a:ext cx="854064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 u="sng">
                <a:solidFill>
                  <a:srgbClr val="ffffff"/>
                </a:solidFill>
                <a:uFillTx/>
                <a:latin typeface="Times New Roman"/>
              </a:rPr>
              <a:t>SEW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cused on Nod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viewing Extract issues – several conc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leted review of UFE analysis as requested by MP. Additional analysis will be completed as ongoing wor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dal Settlement Algorithms Guide – where will this live? Once complete that will be termind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PWG Update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523880"/>
            <a:ext cx="838512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consensus on UFE allocation – PWG agreed to review again in the future in an attempt to gain consen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ad Ration Share Round 2 sample is over and TDSPs have ceased submitting LRS data to ERC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PRR208 – workshop to attempt achieving consen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10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ther Busines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4475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11 PPL – Reviewed and determined prioritization for projects in the MO CART 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PRR227, Termination of Access Privileges to Restricted Computer Systems and Control Systems – NPRR227 is a synchronization item for PRR822, Removing access to Restricted Computer Systems, Control  - stay current on these item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12680" y="1751040"/>
            <a:ext cx="7593120" cy="26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Questions 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5:17:58Z</dcterms:created>
  <dc:creator>lstarr</dc:creator>
  <dc:description/>
  <dc:language>en-US</dc:language>
  <cp:lastModifiedBy>Registered User</cp:lastModifiedBy>
  <dcterms:modified xsi:type="dcterms:W3CDTF">2010-06-03T12:03:29Z</dcterms:modified>
  <cp:revision>11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