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dt" idx="6"/>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7"/>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6"/>
          <p:cNvSpPr>
            <a:spLocks noGrp="1"/>
          </p:cNvSpPr>
          <p:nvPr>
            <p:ph type="sldNum" idx="8"/>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8FF5-46EF-4880-A54F-36836737A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BCEC-B217-4450-83EE-73FFB359FE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0525-2C3B-44EF-A2FC-B8A206A3D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F0B2-6F8E-496C-BDD5-C64E23B54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21E8D1-F6DE-4EA7-8EAA-C5D55E67343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D7DB1D-6912-44BB-958D-6D2BB80E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88945CC-641E-425C-B2A0-101BBE4E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DE37366-CD9B-44A8-A2A1-E5B6D248E3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3B56D0-D2D9-46B4-8DA0-AF53C7127A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926AD8-CE0E-4F75-8644-EA0014BBC2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449F82-4887-457B-AD38-A138259BB3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09A7B18-9F52-48D0-9437-4CF557403F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52D481D-FFD1-4D7B-8C37-B292527BE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1E8BC4B-264F-4A8D-B33F-428186076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D734ED-27CD-489E-97D3-46DEDA79AB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C55870-2777-4965-922C-93854D87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7E944AC-322B-4680-8EF0-3AD937AA4B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A84492-2A58-490F-8968-F508EF565A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B7A0AE-1E08-4037-8B1B-F91DEAF6CE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A44F0C5-590A-4B01-9752-6EB67E9AC7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B74FB9C-694E-42B7-B50A-FC80618517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81B31B-22F3-410A-85B4-CE040F6AA3A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34F2395-5959-4550-B57A-3342F20DB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6B9B56B-2F2C-4AC8-8B60-76142C007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DA70C401-F3B1-4385-A905-69D34E900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F0D6884-27E4-4785-AC93-25FA24FE4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7DA9E-8DE8-4721-BC79-A05BC8CF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D6E1D67-8647-4046-9944-A99F9F1FE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FFEF96A-4B15-4FCB-BCD9-69FB32929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278F550-5ECD-49F7-B56F-B75DC7B3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0ACA9B6-DEA2-45C9-BFC6-9E23C87F4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AEE34C8-21BD-48BA-A66A-0EC8B5BA9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024871E-5665-4263-99AC-4259F059B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40080B8-CD6A-4BEB-A4C1-B7B0EC871C6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327FE5-F026-41C3-93E6-A0AE3663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9A68BD-4377-46D0-A8D7-8815CEC9A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67910C4-6C5B-4F5B-A783-EDE98A15D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96060C-E57E-4E70-9D61-72FDDD64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83FF30-2013-487F-9D24-8EEE538B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04AE43-516A-411C-848B-E55ABD17BD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E51D-CBF3-4C62-82AA-049F40623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7B59-9304-4D99-8554-E587CCC7BF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3222720" y="304920"/>
            <a:ext cx="11909520" cy="4724280"/>
            <a:chOff x="-3222720" y="304920"/>
            <a:chExt cx="11909520" cy="4724280"/>
          </a:xfrm>
        </p:grpSpPr>
        <p:sp>
          <p:nvSpPr>
            <p:cNvPr id="8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0" name="Picture 10" descr="Ercot Logo"/>
          <p:cNvPicPr/>
          <p:nvPr/>
        </p:nvPicPr>
        <p:blipFill>
          <a:blip r:embed="rId2"/>
          <a:stretch/>
        </p:blipFill>
        <p:spPr>
          <a:xfrm>
            <a:off x="7620120" y="228600"/>
            <a:ext cx="1295280" cy="696960"/>
          </a:xfrm>
          <a:prstGeom prst="rect">
            <a:avLst/>
          </a:prstGeom>
          <a:ln w="0">
            <a:noFill/>
          </a:ln>
        </p:spPr>
      </p:pic>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CA9C-8C01-4EE4-A3D3-5EFBC5EF339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1FDD-9C48-4581-B67D-A46F5330D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PRR208 Discuss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Echol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ie Podraz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C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3,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62"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existing wind distributive generation premises with some recent 15 minute data from advanced meters has a load shape with on peak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6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3921-CD9E-4A3B-9A94-708412763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8" descr=""/>
          <p:cNvPicPr/>
          <p:nvPr/>
        </p:nvPicPr>
        <p:blipFill>
          <a:blip r:embed="rId1"/>
          <a:stretch/>
        </p:blipFill>
        <p:spPr>
          <a:xfrm>
            <a:off x="561960" y="749160"/>
            <a:ext cx="8263080" cy="608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 </a:t>
            </a:r>
            <a:endParaRPr b="0" lang="en-US" sz="3200" spc="-1" strike="noStrike">
              <a:solidFill>
                <a:srgbClr val="000000"/>
              </a:solidFill>
              <a:latin typeface="Arial"/>
            </a:endParaRPr>
          </a:p>
        </p:txBody>
      </p:sp>
      <p:sp>
        <p:nvSpPr>
          <p:cNvPr id="166" name=""/>
          <p:cNvSpPr txBox="1"/>
          <p:nvPr/>
        </p:nvSpPr>
        <p:spPr>
          <a:xfrm>
            <a:off x="761760" y="1066320"/>
            <a:ext cx="7543800" cy="4876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assisted in drafting language to reinstate the “flat” settlement of negative load for DG premises other than Photo Voltaic or Win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language introduces an additional method for settlement for Wind DG with a two tiered settlement formula for negative loa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is divided as to which two tiered approach is prefer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gap) in the TAC recommendation requires code to be removed with testing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two tier formulas are not coded therefore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nguage as recommended by PRS is currently coded into Nod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utilizes a single method to settle any non-PV distributed gener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of gray boxing new language into the PRS approved recommendation was discu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 or Post Nodal action is pending  the TAC and or the COPS action and the CEO impact analysis.</a:t>
            </a:r>
            <a:endParaRPr b="0" lang="en-US" sz="1600" spc="-1" strike="noStrike">
              <a:solidFill>
                <a:srgbClr val="000000"/>
              </a:solidFill>
              <a:latin typeface="Arial"/>
            </a:endParaRPr>
          </a:p>
        </p:txBody>
      </p:sp>
      <p:sp>
        <p:nvSpPr>
          <p:cNvPr id="16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E237-D40F-46B5-82B1-B8EF794A6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ata Concerns</a:t>
            </a:r>
            <a:endParaRPr b="0" lang="en-US" sz="3200" spc="-1" strike="noStrike">
              <a:solidFill>
                <a:srgbClr val="000000"/>
              </a:solidFill>
              <a:latin typeface="Arial"/>
            </a:endParaRPr>
          </a:p>
        </p:txBody>
      </p:sp>
      <p:sp>
        <p:nvSpPr>
          <p:cNvPr id="169" name=""/>
          <p:cNvSpPr txBox="1"/>
          <p:nvPr/>
        </p:nvSpPr>
        <p:spPr>
          <a:xfrm>
            <a:off x="761760" y="1294920"/>
            <a:ext cx="7543800" cy="4876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nd generation data from the ERCOT Planning web site is affected by congestion, ERCOT dispatch, upper and lower limits of operation, characteristics of large turbines and location of turbines (mostly in West Tex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rom 15 premises is not much data of excess wind generation with advance metering. </a:t>
            </a:r>
            <a:endParaRPr b="0" lang="en-US" sz="3200" spc="-1" strike="noStrike">
              <a:solidFill>
                <a:srgbClr val="000000"/>
              </a:solidFill>
              <a:latin typeface="Arial"/>
            </a:endParaRPr>
          </a:p>
        </p:txBody>
      </p:sp>
      <p:sp>
        <p:nvSpPr>
          <p:cNvPr id="17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12CE-1244-42D2-95C8-97E89C01A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0BC1-0C87-41D1-B06C-DF7C47C02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Box 4"/>
          <p:cNvSpPr/>
          <p:nvPr/>
        </p:nvSpPr>
        <p:spPr>
          <a:xfrm>
            <a:off x="380880" y="1600200"/>
            <a:ext cx="8534520" cy="29372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208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ation and Settlement o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Generation (DG)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One MW</a:t>
            </a:r>
            <a:endParaRPr b="0" lang="en-US" sz="3200" spc="-1" strike="noStrike">
              <a:solidFill>
                <a:srgbClr val="000000"/>
              </a:solidFill>
              <a:latin typeface="Arial"/>
            </a:endParaRPr>
          </a:p>
          <a:p>
            <a:pP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Events for NPRR208</a:t>
            </a:r>
            <a:endParaRPr b="0" lang="en-US" sz="3200" spc="-1" strike="noStrike">
              <a:solidFill>
                <a:srgbClr val="000000"/>
              </a:solidFill>
              <a:latin typeface="Arial"/>
            </a:endParaRPr>
          </a:p>
        </p:txBody>
      </p:sp>
      <p:sp>
        <p:nvSpPr>
          <p:cNvPr id="143" name=""/>
          <p:cNvSpPr txBox="1"/>
          <p:nvPr/>
        </p:nvSpPr>
        <p:spPr>
          <a:xfrm>
            <a:off x="761760" y="1294920"/>
            <a:ext cx="75438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S makes a recommendation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tables for one mon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C Comments on concern for PUCT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Recommendation with 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LCRA and CEO com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Board Remands back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meets on May 25 to discuss deleted language from Section 11.4.4.3</a:t>
            </a:r>
            <a:endParaRPr b="0" lang="en-US" sz="2800" spc="-1" strike="noStrike">
              <a:solidFill>
                <a:srgbClr val="000000"/>
              </a:solidFill>
              <a:latin typeface="Arial"/>
            </a:endParaRPr>
          </a:p>
        </p:txBody>
      </p:sp>
      <p:sp>
        <p:nvSpPr>
          <p:cNvPr id="144"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67CE-6D0E-4EAF-A577-7A1D5EE8BF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G May 25 Consensus</a:t>
            </a:r>
            <a:endParaRPr b="0" lang="en-US" sz="3200" spc="-1" strike="noStrike">
              <a:solidFill>
                <a:srgbClr val="000000"/>
              </a:solidFill>
              <a:latin typeface="Arial"/>
            </a:endParaRPr>
          </a:p>
        </p:txBody>
      </p:sp>
      <p:sp>
        <p:nvSpPr>
          <p:cNvPr id="146" name=""/>
          <p:cNvSpPr txBox="1"/>
          <p:nvPr/>
        </p:nvSpPr>
        <p:spPr>
          <a:xfrm>
            <a:off x="761760" y="1294920"/>
            <a:ext cx="7543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by the PWG Chair, “A consensus reached for wind distributive generation on a monthly read load profiled premise that a two tiered negative load settlement formula is more appropriate than a “flat” allocation as recommended by PRS for Section 11.4.4.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in meeting notes, “The PWG was in agreement that having a two-step shape for the settlement of wind generation exported to the grid would bring us closer to a more accurate settlement. “</a:t>
            </a:r>
            <a:endParaRPr b="0" lang="en-US" sz="2400" spc="-1" strike="noStrike">
              <a:solidFill>
                <a:srgbClr val="000000"/>
              </a:solidFill>
              <a:latin typeface="Arial"/>
            </a:endParaRPr>
          </a:p>
        </p:txBody>
      </p:sp>
      <p:sp>
        <p:nvSpPr>
          <p:cNvPr id="14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9856-7539-4673-906C-155B42487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a:t>
            </a:r>
            <a:endParaRPr b="0" lang="en-US" sz="3200" spc="-1" strike="noStrike">
              <a:solidFill>
                <a:srgbClr val="000000"/>
              </a:solidFill>
              <a:latin typeface="Arial"/>
            </a:endParaRPr>
          </a:p>
        </p:txBody>
      </p:sp>
      <p:sp>
        <p:nvSpPr>
          <p:cNvPr id="149" name=""/>
          <p:cNvSpPr txBox="1"/>
          <p:nvPr/>
        </p:nvSpPr>
        <p:spPr>
          <a:xfrm>
            <a:off x="761760" y="1294920"/>
            <a:ext cx="754380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eting of language by TAC leaves a gap in how to settle the non-Photo Voltaic distributive generation on a monthly read load profiled premise of less than 1 MW which also implies these premises would need to register as a Resource ID. If the gap is approved then Nodal resources and priorities are impacted by needed changes to ERCOT settlement system.</a:t>
            </a:r>
            <a:endParaRPr b="0" lang="en-US" sz="3200" spc="-1" strike="noStrike">
              <a:solidFill>
                <a:srgbClr val="000000"/>
              </a:solidFill>
              <a:latin typeface="Arial"/>
            </a:endParaRPr>
          </a:p>
        </p:txBody>
      </p:sp>
      <p:sp>
        <p:nvSpPr>
          <p:cNvPr id="15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85E9-2267-48F0-86F2-6AE080F89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2" name=""/>
          <p:cNvSpPr txBox="1"/>
          <p:nvPr/>
        </p:nvSpPr>
        <p:spPr>
          <a:xfrm>
            <a:off x="761760" y="1294920"/>
            <a:ext cx="7543800" cy="4876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 the wind distributive generation on a monthly read load profiled premise of less than 1 MW with a two tiered settlement formula for negative load based on ERCOT wind generation as found in the ERCOT Planning web site with a 70/30 split for off peak and on peak respectively where by off peak is higher than on peak (see following graph). </a:t>
            </a:r>
            <a:endParaRPr b="0" lang="en-US" sz="3200" spc="-1" strike="noStrike">
              <a:solidFill>
                <a:srgbClr val="000000"/>
              </a:solidFill>
              <a:latin typeface="Arial"/>
            </a:endParaRPr>
          </a:p>
        </p:txBody>
      </p:sp>
      <p:sp>
        <p:nvSpPr>
          <p:cNvPr id="15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DC5A-07E7-4C50-8AF3-B43230D09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5"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E1F3-4665-47FF-AA5B-BAA772761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6" name="Picture 2" descr=""/>
          <p:cNvPicPr/>
          <p:nvPr/>
        </p:nvPicPr>
        <p:blipFill>
          <a:blip r:embed="rId1"/>
          <a:stretch/>
        </p:blipFill>
        <p:spPr>
          <a:xfrm>
            <a:off x="609480" y="930240"/>
            <a:ext cx="7925040" cy="51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58"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wind speed data from the 20 ERCOT weather stations data used in the current residential load profiles shows on peak wind speed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59"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16A4-9246-42D6-9566-CEEB39A70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685800" y="533520"/>
            <a:ext cx="8153280" cy="60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5-27T19:06:42Z</dcterms:modified>
  <cp:revision>466</cp:revision>
  <dc:subject/>
  <dc:title>PowerPoint Presentation</dc:title>
</cp:coreProperties>
</file>