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1BF8C9-3981-467D-8CCA-3E227B5A1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930EB9-170D-401E-AE09-2C5A3F20A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#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1481760" y="2438280"/>
            <a:ext cx="62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ady-State Working Group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600200" y="38862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13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SWG Activ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WG has met four times since the April ROS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14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2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8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2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PIT update posted April 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 creating 2011 Data Set A c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mee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5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SWG Nodal Planning Model Activ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R Related Issues- (as of May 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ing Connectivity Node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 26 TP output: 1063 CNGs needing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3 TP output: 325 CNGs needing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hart 5" descr=""/>
          <p:cNvPicPr/>
          <p:nvPr/>
        </p:nvPicPr>
        <p:blipFill>
          <a:blip r:embed="rId1"/>
          <a:stretch/>
        </p:blipFill>
        <p:spPr>
          <a:xfrm>
            <a:off x="2054160" y="2664000"/>
            <a:ext cx="4200480" cy="3528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1"/>
          <p:cNvSpPr/>
          <p:nvPr/>
        </p:nvSpPr>
        <p:spPr>
          <a:xfrm>
            <a:off x="2374920" y="4343400"/>
            <a:ext cx="4665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127320" y="5533920"/>
            <a:ext cx="4096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365640" y="5676840"/>
            <a:ext cx="3999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4191120" y="5724360"/>
            <a:ext cx="488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4613400" y="5629320"/>
            <a:ext cx="3999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5470560" y="4381560"/>
            <a:ext cx="3999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5470560" y="4200480"/>
            <a:ext cx="4730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4"/>
          <p:cNvSpPr/>
          <p:nvPr/>
        </p:nvSpPr>
        <p:spPr>
          <a:xfrm>
            <a:off x="5280120" y="3543480"/>
            <a:ext cx="4284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5"/>
          <p:cNvSpPr/>
          <p:nvPr/>
        </p:nvSpPr>
        <p:spPr>
          <a:xfrm>
            <a:off x="4451400" y="2914560"/>
            <a:ext cx="51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3375000" y="3419640"/>
            <a:ext cx="51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2432160" y="4133880"/>
            <a:ext cx="237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SWG Nodal Planning Model Activ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logy Processor changes (Radial line reduction, Multi-section line cre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scheduled for May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 has submitted a System Change Request related to the Topology Processor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require additional changes to planning data in IMM (PSSE ckt IDs, PSSE bus numbers) after May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WG will ask ROS for SCR approval in Ju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WG requests direction from ROS for future System Change Request related to creation of Planning cases in Nodal environment (Examples, see SSWG Modeling Issues sli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ROS need to approve each SC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WG seeks approval of NPRR2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 Model Change Request (PMCR) &amp; Model On Demand (MOD) training in Ju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SWG Nodal Planning Model Issu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Planning Model related issu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ormer modeling: 2 winding vs 3 wi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atings on zero impedance line se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s and cap banks being collapsed to the correct C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 banks connected to distribution vol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S de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SWG Additional Item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 Generator Dispatch – Future c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WG agreed to begin using AWS Truewind data in cases with all CREZ lines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currently drafting proced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TPIT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Nodal work and training, SSWG plans to only update 345 kV changes to 10DSB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TPIT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Nodal work, SSWG plans to only update 2011 Winter and 11DSA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SWG Schedu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280" y="995040"/>
            <a:ext cx="8756640" cy="51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0" bIns="0" anchor="ctr">
            <a:normAutofit/>
          </a:bodyPr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y 2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SP/SSWG remaining data changes for CRR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y 25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P output with all changes through 5/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y 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SWG meeting –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y 2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Topology Processor enhancements deliv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y 28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Pass 3 changes due to 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une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31849b"/>
                </a:solidFill>
                <a:latin typeface="Arial"/>
                <a:ea typeface="Times New Roman"/>
              </a:rPr>
              <a:t>TPIT spreadsheet updates due to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une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31849b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ERCOT Sends Pass 4 cases to SS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une – Augu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ke remaining changes to IMM prior to Planning Go-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une 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Pass 4 changes due to ESP (updated gen dispatch for the meeting on the 15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une 15-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SSWG meeting to finalize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une – Ju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31849b"/>
                </a:solidFill>
                <a:latin typeface="Arial"/>
                <a:ea typeface="Times New Roman"/>
              </a:rPr>
              <a:t>TPIT update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u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SPs Complete changes based on TP enhanc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u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D/PMC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u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 TP output to SSWG 2010 summer peak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pt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31849b"/>
                </a:solidFill>
                <a:latin typeface="Arial"/>
                <a:ea typeface="Times New Roman"/>
              </a:rPr>
              <a:t>TPIT spreadsheet updates due to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pt 21-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SSWG meeting to finalize DSB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pt – O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31849b"/>
                </a:solidFill>
                <a:latin typeface="Arial"/>
                <a:ea typeface="Times New Roman"/>
              </a:rPr>
              <a:t>TPIT update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2012 summer peak case using TP and 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c – Feb 2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, update, and modify TP/MOD process for case cre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c 1</a:t>
            </a:r>
            <a:r>
              <a:rPr b="0" i="1" lang="en-US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b05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31849b"/>
                </a:solidFill>
                <a:latin typeface="Arial"/>
                <a:ea typeface="Times New Roman"/>
              </a:rPr>
              <a:t>TPIT spreadsheet updates due to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c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dal Go-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c – Jan 2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31849b"/>
                </a:solidFill>
                <a:latin typeface="Arial"/>
                <a:ea typeface="Times New Roman"/>
              </a:rPr>
              <a:t>TPIT upda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r – April 2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suming Nov test meets SSWG approval, begin work to create 12DSA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dal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680840" y="68580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dal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71560" y="68580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Base Cas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652280" y="68580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TPIT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00204343</cp:lastModifiedBy>
  <dcterms:modified xsi:type="dcterms:W3CDTF">2010-05-06T16:08:22Z</dcterms:modified>
  <cp:revision>1069</cp:revision>
  <dc:subject/>
  <dc:title>Texas Nodal Detailled Market Trials Planning Process 30 January 2007</dc:title>
</cp:coreProperties>
</file>