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E131-FB74-4584-9639-0FD17CE2A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6CE9-4D3D-4F7B-9540-EA15E7F0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8C00-A41C-4B59-A1B3-45C86703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9AB6-9D1F-4F97-8CB9-5DDEC36F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E607-AEAF-44F6-82E1-E488C980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1A72-891A-40D8-B914-69A3003B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0B11-BE01-4C6B-AF24-CA1343C6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5B0D-ED31-4445-8B9B-322B3B10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9DEF-D3EE-4C83-B606-D76AAD56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BB22-3102-45D0-AABD-300A732A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2ED7-9B2A-49AE-B968-565FA622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F652-75B7-42C7-B500-5F9E0351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E8DA-7A94-4529-B58C-94E3D64D4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Report to 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13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dney Nieme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7960" y="311040"/>
            <a:ext cx="866808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37960" y="230040"/>
            <a:ext cx="86680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38160" y="15840"/>
            <a:ext cx="922032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7960" y="201600"/>
            <a:ext cx="866808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 May 12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two March and four April disturba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Nodal LFC Tes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on NERC Frequency Response Initiative, FERC Order 693 and BAL-00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Nodal Operating Guide revie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meeting June 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23760" y="0"/>
            <a:ext cx="91915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629400" y="762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S1 = 145.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7240" y="458640"/>
            <a:ext cx="90295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2560" y="453960"/>
            <a:ext cx="903888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28440" y="220680"/>
            <a:ext cx="9200880" cy="6419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410080" y="4572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RCOT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8160" y="353880"/>
            <a:ext cx="922032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399960"/>
            <a:ext cx="9144000" cy="6061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124080" y="380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CPS1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1143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S1 12 Month Rolling Average = 143.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848720" y="175248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35080" y="473040"/>
            <a:ext cx="8673840" cy="59151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6915240" y="123840"/>
            <a:ext cx="16192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2304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ERCOT as a single control area is exempt from CPS2.  These scores are For Information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5880" y="1143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1.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1371600"/>
            <a:ext cx="9907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7:13:32Z</dcterms:created>
  <dc:creator>Sydney L. Niemeyer</dc:creator>
  <dc:description/>
  <dc:language>en-US</dc:language>
  <cp:lastModifiedBy>sniemeyer</cp:lastModifiedBy>
  <dcterms:modified xsi:type="dcterms:W3CDTF">2010-05-07T20:15:40Z</dcterms:modified>
  <cp:revision>64</cp:revision>
  <dc:subject/>
  <dc:title>Slide 1</dc:title>
</cp:coreProperties>
</file>