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pperplate Gothic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C123-5FB3-432A-B5D0-38CA78BAB98A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F39B-C8A9-461C-8CE3-5CBDE9E47C6B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023-8168-4748-BE55-1ACE4C064DA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217-702B-4DB0-8251-EC3A0747A881}" type="slidenum">
              <a:rPr b="0" lang="en-US" sz="1200" spc="-1" strike="noStrike">
                <a:solidFill>
                  <a:srgbClr val="000000"/>
                </a:solidFill>
                <a:latin typeface="Copperplate Gothic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3BF-01BB-4512-A4B1-EADAC8D0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16DA-0391-423D-99EE-DD345E81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C4D-EF9B-4701-AB8F-F1CECB0E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BE5-8C9B-45BE-8E16-4D12FE93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1C2D5-EE9C-435C-B876-B5338471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D4A0-8AF1-4D89-89E8-50B4CAD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5B26D-78C2-45DC-BBD7-2A6FE405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A4E7D-491E-4053-BE4F-221B356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E7788-139C-4368-B4B0-AB82D67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0230D-D5E6-4B1B-863A-9BDFA9AC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C9D1-E3D7-4AA7-9201-AAED6D3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8E1-F4BE-426B-83AF-41C6E0FF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45731-2D82-432B-B9C0-82E2B16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63D9E-71FC-4AF4-BE47-C86291B0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96933-2E56-49E0-85BB-C9C07707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A55F4-3B5B-4607-9F4E-71C74371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FC1ED-3E47-476A-8665-128CBA87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BC56B-C6C2-4A2C-8A9F-25A50661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878EF-C66E-41AC-BBDE-BFB5B29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5A1A-3D90-4819-9AB3-59276AE6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45089-4614-4FFE-9DE6-A7F8B3B7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18ED6-A7C6-4668-9DA2-DFB6BD8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4A3C-AC4A-4640-9B3A-999C21C7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2AE42-05FC-4885-AAD7-29D8997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7251-F4A7-4D8A-80B1-6F44883F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C2A7F-0705-4A5F-86E6-5DDCE14A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750F5-C923-4A8D-86E2-E5DDE973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6FE9D-338C-468E-8009-9E312CAE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A7EB1-E16C-494D-8E05-72080425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1483-9CDF-488D-B13D-80440187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19-5A64-4BD1-B5B6-646A6AC4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2F5-BD55-4A25-8C53-91CFD684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435-F98E-46A5-96A3-0CB5141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BA0-BCD8-4DD2-95F1-F0F02747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BB7-CE5F-4709-92D2-72EC8EA7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B3B6-DF20-4428-8A75-C3CA8C5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8D71-BE15-4379-9E64-491905A0B87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23C6-DD0E-4E08-A71F-5A4E16BF46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6EE-0A7A-456A-B5D1-CE6942FB3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0DC9-FE0C-40BB-BEF5-62E3F12F1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C7B2-5ED5-45C2-9C2B-29E8DA7A27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08D1-F047-457E-867C-900B1B626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5280" y="609480"/>
            <a:ext cx="1676520" cy="1676520"/>
          </a:xfrm>
          <a:prstGeom prst="rect">
            <a:avLst/>
          </a:prstGeom>
          <a:solidFill>
            <a:srgbClr val="99cc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1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B41-A063-44CE-8D79-5137E9BAA3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457200"/>
            <a:ext cx="152280" cy="152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09480"/>
            <a:ext cx="304920" cy="304920"/>
          </a:xfrm>
          <a:prstGeom prst="rect">
            <a:avLst/>
          </a:prstGeom>
          <a:solidFill>
            <a:srgbClr val="000046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914400"/>
            <a:ext cx="53352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09480"/>
            <a:ext cx="3049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371600"/>
            <a:ext cx="685800" cy="68580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43000"/>
            <a:ext cx="762120" cy="762120"/>
          </a:xfrm>
          <a:prstGeom prst="rect">
            <a:avLst/>
          </a:prstGeom>
          <a:solidFill>
            <a:srgbClr val="9999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457200"/>
            <a:ext cx="761760" cy="762120"/>
          </a:xfrm>
          <a:prstGeom prst="rect">
            <a:avLst/>
          </a:prstGeom>
          <a:gradFill rotWithShape="0">
            <a:gsLst>
              <a:gs pos="0">
                <a:srgbClr val="464675"/>
              </a:gs>
              <a:gs pos="100000">
                <a:srgbClr val="9999ff">
                  <a:alpha val="5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752480"/>
            <a:ext cx="304920" cy="304920"/>
          </a:xfrm>
          <a:prstGeom prst="rect">
            <a:avLst/>
          </a:prstGeom>
          <a:solidFill>
            <a:srgbClr val="9999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905120"/>
            <a:ext cx="1524240" cy="1523880"/>
          </a:xfrm>
          <a:prstGeom prst="rect">
            <a:avLst/>
          </a:prstGeom>
          <a:gradFill rotWithShape="0">
            <a:gsLst>
              <a:gs pos="0">
                <a:srgbClr val="000046">
                  <a:alpha val="58039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762120" y="2286000"/>
            <a:ext cx="632448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9703641" blurRad="0" rotWithShape="0">
                    <a:srgbClr val="00007d">
                      <a:alpha val="50000"/>
                    </a:srgbClr>
                  </a:outerShdw>
                </a:effectLst>
                <a:latin typeface="Times New Roman"/>
              </a:rPr>
              <a:t>RMS Upd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9703641" blurRad="0" rotWithShape="0">
                  <a:srgbClr val="00007d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13"/>
          <p:cNvSpPr txBox="1"/>
          <p:nvPr/>
        </p:nvSpPr>
        <p:spPr>
          <a:xfrm>
            <a:off x="762120" y="3352680"/>
            <a:ext cx="1981080" cy="457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5560" dir="10800000" blurRad="0" rotWithShape="0">
                    <a:srgbClr val="00007d">
                      <a:alpha val="50000"/>
                    </a:srgbClr>
                  </a:outerShdw>
                </a:effectLst>
                <a:latin typeface="Times New Roman"/>
              </a:rPr>
              <a:t>May 6, 201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5560" dir="10800000" blurRad="0" rotWithShape="0">
                  <a:srgbClr val="00007d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5715000"/>
            <a:ext cx="533520" cy="5335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6172200"/>
            <a:ext cx="685800" cy="685800"/>
          </a:xfrm>
          <a:prstGeom prst="rect">
            <a:avLst/>
          </a:prstGeom>
          <a:solidFill>
            <a:srgbClr val="00004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943600"/>
            <a:ext cx="762120" cy="762120"/>
          </a:xfrm>
          <a:prstGeom prst="rect">
            <a:avLst/>
          </a:prstGeom>
          <a:solidFill>
            <a:srgbClr val="99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58200" y="6248520"/>
            <a:ext cx="304920" cy="3045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4600" y="5913360"/>
            <a:ext cx="587520" cy="639720"/>
          </a:xfrm>
          <a:prstGeom prst="rect">
            <a:avLst/>
          </a:prstGeom>
          <a:solidFill>
            <a:srgbClr val="99cc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6095880"/>
            <a:ext cx="838080" cy="914400"/>
          </a:xfrm>
          <a:prstGeom prst="rect">
            <a:avLst/>
          </a:prstGeom>
          <a:solidFill>
            <a:srgbClr val="9999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429000"/>
            <a:ext cx="228600" cy="1219320"/>
          </a:xfrm>
          <a:prstGeom prst="rect">
            <a:avLst/>
          </a:prstGeom>
          <a:gradFill rotWithShape="0">
            <a:gsLst>
              <a:gs pos="0">
                <a:srgbClr val="3366ff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295280"/>
            <a:ext cx="228600" cy="228600"/>
          </a:xfrm>
          <a:prstGeom prst="rect">
            <a:avLst/>
          </a:prstGeom>
          <a:gradFill rotWithShape="0">
            <a:gsLst>
              <a:gs pos="0">
                <a:srgbClr val="dfdfe7"/>
              </a:gs>
              <a:gs pos="100000">
                <a:srgbClr val="000046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entury Schoolbook"/>
              </a:rPr>
              <a:t>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Discussion at RMS on Nodal Guiding Principles, RMS elected to table the principles and allow for TAC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Several RMGRRs Approved, but awaiting CEO review for next meeting.  These RMGRRs will be brought to TAC in 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Expedited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Distributiv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No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RMS to be reviewing COPMGRR for market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RMS will be providing its input on 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57200"/>
            <a:ext cx="152280" cy="15228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609480"/>
            <a:ext cx="304920" cy="304920"/>
          </a:xfrm>
          <a:prstGeom prst="rect">
            <a:avLst/>
          </a:prstGeom>
          <a:solidFill>
            <a:srgbClr val="000046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914400"/>
            <a:ext cx="533520" cy="533520"/>
          </a:xfrm>
          <a:prstGeom prst="rect">
            <a:avLst/>
          </a:prstGeom>
          <a:solidFill>
            <a:srgbClr val="99cc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609480"/>
            <a:ext cx="304920" cy="30492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371600"/>
            <a:ext cx="685800" cy="685800"/>
          </a:xfrm>
          <a:prstGeom prst="rect">
            <a:avLst/>
          </a:prstGeom>
          <a:solidFill>
            <a:srgbClr val="000046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143000"/>
            <a:ext cx="762120" cy="762120"/>
          </a:xfrm>
          <a:prstGeom prst="rect">
            <a:avLst/>
          </a:prstGeom>
          <a:solidFill>
            <a:srgbClr val="9999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57200"/>
            <a:ext cx="761760" cy="76212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752480"/>
            <a:ext cx="304920" cy="304920"/>
          </a:xfrm>
          <a:prstGeom prst="rect">
            <a:avLst/>
          </a:prstGeom>
          <a:solidFill>
            <a:srgbClr val="9999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solidFill>
            <a:srgbClr val="0000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5715000"/>
            <a:ext cx="533520" cy="533520"/>
          </a:xfrm>
          <a:prstGeom prst="rect">
            <a:avLst/>
          </a:prstGeom>
          <a:solidFill>
            <a:srgbClr val="99cc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91520" y="6172200"/>
            <a:ext cx="685800" cy="685800"/>
          </a:xfrm>
          <a:prstGeom prst="rect">
            <a:avLst/>
          </a:prstGeom>
          <a:solidFill>
            <a:srgbClr val="00004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943600"/>
            <a:ext cx="762120" cy="762120"/>
          </a:xfrm>
          <a:prstGeom prst="rect">
            <a:avLst/>
          </a:prstGeom>
          <a:solidFill>
            <a:srgbClr val="99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6248520"/>
            <a:ext cx="304920" cy="304560"/>
          </a:xfrm>
          <a:prstGeom prst="rect">
            <a:avLst/>
          </a:prstGeom>
          <a:solidFill>
            <a:srgbClr val="00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solidFill>
            <a:srgbClr val="00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13"/>
          <p:cNvSpPr txBox="1"/>
          <p:nvPr/>
        </p:nvSpPr>
        <p:spPr>
          <a:xfrm>
            <a:off x="685800" y="5335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00007d">
                      <a:alpha val="50000"/>
                    </a:srgbClr>
                  </a:outerShdw>
                </a:effectLst>
                <a:latin typeface="Times New Roman"/>
              </a:rPr>
              <a:t>RMS Upd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496" dir="9225519" blurRad="0" rotWithShape="0">
                  <a:srgbClr val="00007d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28800"/>
            <a:ext cx="2286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dee3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2666880"/>
            <a:ext cx="228600" cy="228600"/>
          </a:xfrm>
          <a:prstGeom prst="rect">
            <a:avLst/>
          </a:prstGeom>
          <a:gradFill rotWithShape="0">
            <a:gsLst>
              <a:gs pos="0">
                <a:srgbClr val="3366ff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2666880"/>
            <a:ext cx="228600" cy="228600"/>
          </a:xfrm>
          <a:prstGeom prst="rect">
            <a:avLst/>
          </a:prstGeom>
          <a:gradFill rotWithShape="0">
            <a:gsLst>
              <a:gs pos="0">
                <a:srgbClr val="3366ff">
                  <a:alpha val="51372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828800"/>
            <a:ext cx="2286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fdee3">
                  <a:alpha val="5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295280"/>
            <a:ext cx="228600" cy="228600"/>
          </a:xfrm>
          <a:prstGeom prst="rect">
            <a:avLst/>
          </a:prstGeom>
          <a:gradFill rotWithShape="0">
            <a:gsLst>
              <a:gs pos="0">
                <a:srgbClr val="dfdfe7"/>
              </a:gs>
              <a:gs pos="100000">
                <a:srgbClr val="000046">
                  <a:alpha val="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entury Schoolbook"/>
              </a:rPr>
              <a:t>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Meter Tampering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RMGRR is drafted, it will be submitted to RMS for consideration at May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Century Schoolbook"/>
              </a:rPr>
              <a:t>TDSP practices for handling tampering at a prem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Century Schoolbook"/>
              </a:rPr>
              <a:t>Retract/Rebill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Century Schoolbook"/>
              </a:rPr>
              <a:t>Switch Hold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PUCT Implementation date is July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Century Schoolbook"/>
              </a:rPr>
              <a:t>RMS will be requesting Urgent review and approval by T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TEXAS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Preparing for a guide release by end of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Agreeing to some new guide versioning pract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46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Century Schoolbook"/>
              </a:rPr>
              <a:t>MarkeTrak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46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Century Schoolbook"/>
              </a:rPr>
              <a:t>SCR756 MarkeTrak tool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57200"/>
            <a:ext cx="152280" cy="15228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609480"/>
            <a:ext cx="304920" cy="304920"/>
          </a:xfrm>
          <a:prstGeom prst="rect">
            <a:avLst/>
          </a:prstGeom>
          <a:solidFill>
            <a:srgbClr val="000046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914400"/>
            <a:ext cx="533520" cy="533520"/>
          </a:xfrm>
          <a:prstGeom prst="rect">
            <a:avLst/>
          </a:prstGeom>
          <a:solidFill>
            <a:srgbClr val="99cc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09480"/>
            <a:ext cx="304920" cy="30492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1371600"/>
            <a:ext cx="685800" cy="685800"/>
          </a:xfrm>
          <a:prstGeom prst="rect">
            <a:avLst/>
          </a:prstGeom>
          <a:solidFill>
            <a:srgbClr val="000046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143000"/>
            <a:ext cx="762120" cy="762120"/>
          </a:xfrm>
          <a:prstGeom prst="rect">
            <a:avLst/>
          </a:prstGeom>
          <a:solidFill>
            <a:srgbClr val="9999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457200"/>
            <a:ext cx="761760" cy="762120"/>
          </a:xfrm>
          <a:prstGeom prst="rect">
            <a:avLst/>
          </a:prstGeom>
          <a:solidFill>
            <a:srgbClr val="9999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8280" y="1752480"/>
            <a:ext cx="304920" cy="304920"/>
          </a:xfrm>
          <a:prstGeom prst="rect">
            <a:avLst/>
          </a:prstGeom>
          <a:solidFill>
            <a:srgbClr val="9999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57400" y="1447920"/>
            <a:ext cx="304920" cy="304560"/>
          </a:xfrm>
          <a:prstGeom prst="rect">
            <a:avLst/>
          </a:prstGeom>
          <a:solidFill>
            <a:srgbClr val="0000ff">
              <a:alpha val="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5715000"/>
            <a:ext cx="533520" cy="533520"/>
          </a:xfrm>
          <a:prstGeom prst="rect">
            <a:avLst/>
          </a:prstGeom>
          <a:solidFill>
            <a:srgbClr val="99cc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6172200"/>
            <a:ext cx="685800" cy="685800"/>
          </a:xfrm>
          <a:prstGeom prst="rect">
            <a:avLst/>
          </a:prstGeom>
          <a:solidFill>
            <a:srgbClr val="000046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943600"/>
            <a:ext cx="762120" cy="762120"/>
          </a:xfrm>
          <a:prstGeom prst="rect">
            <a:avLst/>
          </a:prstGeom>
          <a:solidFill>
            <a:srgbClr val="99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39080" y="6553080"/>
            <a:ext cx="304920" cy="304920"/>
          </a:xfrm>
          <a:prstGeom prst="rect">
            <a:avLst/>
          </a:prstGeom>
          <a:solidFill>
            <a:srgbClr val="9999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8200" y="6248520"/>
            <a:ext cx="304920" cy="304560"/>
          </a:xfrm>
          <a:prstGeom prst="rect">
            <a:avLst/>
          </a:prstGeom>
          <a:solidFill>
            <a:srgbClr val="00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48720" y="5791320"/>
            <a:ext cx="304560" cy="304560"/>
          </a:xfrm>
          <a:prstGeom prst="rect">
            <a:avLst/>
          </a:prstGeom>
          <a:solidFill>
            <a:srgbClr val="0000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13"/>
          <p:cNvSpPr txBox="1"/>
          <p:nvPr/>
        </p:nvSpPr>
        <p:spPr>
          <a:xfrm>
            <a:off x="685800" y="5335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28496" dir="9225519" blurRad="0" rotWithShape="0">
                    <a:srgbClr val="00007d">
                      <a:alpha val="50000"/>
                    </a:srgbClr>
                  </a:outerShdw>
                </a:effectLst>
                <a:latin typeface="Times New Roman"/>
              </a:rPr>
              <a:t>RMS Upd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28496" dir="9225519" blurRad="0" rotWithShape="0">
                  <a:srgbClr val="00007d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5-05T21:13:36Z</dcterms:modified>
  <cp:revision>62</cp:revision>
  <dc:subject/>
  <dc:title>R.M.S UPDATE</dc:title>
</cp:coreProperties>
</file>