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BF10-7883-41FF-92C2-8663AF062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FFDE-EBBE-4794-94D7-C0C8D342D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8FE9-19DD-4F7F-AA00-2BAF3B141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0D1-06E1-4D40-96D2-B7869AC7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7B2-BADD-4E6C-B834-6DBBD80C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2F2-F02A-456A-A6C6-B29D5155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D802-50EA-4D2F-942D-E21FAD9F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B628-C3E6-47B2-AE87-B76849CF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6D49-5185-43FF-A929-877399F3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E547-4FDC-412B-AB6F-34B54F1D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A9AE-8667-4ACB-AC5C-569E19F5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F19A-8777-46A5-ACAC-62C4C3D4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C70E-9D88-494C-8D19-BD0FCA0C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05BC-D294-4740-BCB1-61992361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C284-39F7-4F2A-8FBE-BB86E6F8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378-A5FF-4F07-88CC-0089A7D0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BDF5-AFFC-4C55-A0E5-9F8CE31F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3C05-B221-4A07-9FC2-E6B12591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5B16-199F-4E8E-899D-C94014C4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63AA-3E36-4D73-860F-1AAD1172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A5E-DFE4-45E9-8DE7-7FD350BF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987-8CD7-4524-979F-E4183BE6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FE6-831D-4159-A6F1-67DE5EE3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A4C-1654-491F-A1E8-D1336F1B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B48-55B1-4D92-8556-80B74863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654-996C-42DD-BD84-23AD2DEF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0B9-5E8C-47AD-90C5-A69345F7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35C2-A49D-4F0D-B6C4-00191255F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1F42-CC8F-493F-B187-82715F3EB9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30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CWG Update to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ril 13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3840-D5FD-4BDC-AA55-F96461D25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30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RSS Feeds Upd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ed EILS landing page RSS Fe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mit requests for new RSS Feeds through the ‘Feedback’ option on the ERCOT website or through CCW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A910-80DE-44BE-A1D3-9583C8DE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30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MGR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17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Creating Section 8.2, Settlement Statements and Invo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l review of comments, IA, and CEO Recommendation Report in Apr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18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Updates to References of IDR and/or IDR Meter due to the proposed definition of IDR Meter in PRR8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change is to capitalize IDR Mme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bled at CCWG at the request of the Retail Metering Working Grou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CD21-7D5F-4FD8-88B3-78C02F9DF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5"/>
          <p:cNvSpPr/>
          <p:nvPr/>
        </p:nvSpPr>
        <p:spPr>
          <a:xfrm>
            <a:off x="5943600" y="4952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30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MGR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1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Revisions for Texas Nodal Implementation and Synchronization with PRR82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RCOT Market Rules clean-up and standardization prior to Nod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CWG will review comments in Apr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2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Creating Subsection 10.3, Unregistered Distributed Generation Re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cifies reporting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l review of comments, IA, and CEO Recommendation Report in Apri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EF55-5A95-4765-835F-6BBC37963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30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MGR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raft COPMGR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Market Participant Market Notice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pdates Section 5 and Appendix 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bmitted for COPMGRR number and currently in 21 day comment peri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itial review by CCWG at April Mee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0071-0350-4614-B492-73D50EAA7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March 30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 Market Gu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ontin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6, Commercial Systems Model / Market Processes / Market Overvie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7, Inputs to Settlement Process and Data Aggreg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8, ERCOT Invoice and Settlement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10, Extracts and Re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CA18-725F-4620-B1DD-AA7AE363D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’s Next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9, 9:30 to Noon, ERCOT Austin, Room 211, or Web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COPMGRR, Market Participant No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work on the COP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2C48-CF14-4288-A13E-BC52956BB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’s Next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8752-A13A-46A7-97AB-41AFD6D6C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balbracht</cp:lastModifiedBy>
  <dcterms:modified xsi:type="dcterms:W3CDTF">2010-04-06T21:54:37Z</dcterms:modified>
  <cp:revision>256</cp:revision>
  <dc:subject/>
  <dc:title>CCWG 2006 Accomplishments</dc:title>
</cp:coreProperties>
</file>