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C587-DE28-4976-A2BA-55F18B9AA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B1B7-87C8-4560-A413-A2CC89FD75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557F-F400-4208-9619-76C1BD9219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F5E4-E567-4F19-9603-45FE5895BD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12C0-012E-410C-AF96-3AC47AFC34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27F6-1DD0-4175-A73F-3010B552BD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5788-4CC0-487C-BD7C-F6A5D9A671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6286-B637-4413-B7DF-AEC386FC63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3B2B-6490-4678-AE80-458DA12551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B02E-018E-4D0B-A0FE-A268B38F50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BA00-C5F7-40F2-9F13-358EEE5E35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2248-3831-4C8B-BDA9-30243E7E79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9E0-90B6-4B64-BA4F-FE77F59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B43-D5B5-49E0-8FF9-71B33F2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D3A5-7733-4015-BC30-5F72706A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797-44AB-4FB7-8CF6-3BD6C54B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A27-0023-4D74-B9A5-3F652705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64B7-AACC-480A-B35E-0D7EBFA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A68-EA51-4FD2-B0DD-B5A15D68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8F12-9A64-4911-81F7-5D591AF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3DA-52A8-4A68-BCA0-B1F6F00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2737-F5C6-4B84-AD3D-F60B988E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4589-E3FD-42E3-B3F5-D5A12AF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DBBA-AAED-4FE2-9410-7721A53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7BD-F022-4A87-9CCF-F9CAEC1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6E6A-AAED-410F-A353-DD480D9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CC5A-96C7-4DA6-9774-8EC0C266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280C-6FBC-457D-94F2-70BAA437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A9BD-C443-4E2D-A29A-37CDC829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FAE-BA40-491A-9B1C-B5FC785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232-9EB2-44EE-8224-AB05A622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11D-C35F-4D0A-A7A0-D046A7AD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FE0-0AF1-4D37-9032-89E747B2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861F-1C7F-4373-95E3-524171E1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73A-D219-415C-ACDA-B7D2D37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5F0-F4F0-4895-A886-37EE3487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C62A-41FD-45D2-98B2-0B182528AC7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32A-3146-4FD7-AA6A-9472154955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1A0-FC26-484A-9E19-A59FDE259AA7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B63-F7B5-424B-B402-D3DFD77BE72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April 13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523520"/>
            <a:ext cx="86104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JULY 2010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6-7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jects TBA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13-14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– Projects TBA (F2F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7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7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855-2FE0-481E-94B9-3A1383F1275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D7B4-9A4C-45EB-9023-C3E1D84E12E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1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914400" y="-609480"/>
            <a:ext cx="769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Interim Settlement S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04/10 Status Re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705720" y="640080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320" y="1676520"/>
          <a:ext cx="8991360" cy="3338280"/>
        </p:xfrm>
        <a:graphic>
          <a:graphicData uri="http://schemas.openxmlformats.org/drawingml/2006/table">
            <a:tbl>
              <a:tblPr/>
              <a:tblGrid>
                <a:gridCol w="3146400"/>
                <a:gridCol w="1724040"/>
                <a:gridCol w="1798560"/>
                <a:gridCol w="2322360"/>
              </a:tblGrid>
              <a:tr h="36180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cution Milesto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D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ef4"/>
                    </a:solidFill>
                  </a:tcPr>
                </a:tc>
              </a:tr>
              <a:tr h="14972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biliz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19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mplet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7240">
                <a:tc>
                  <a:txBody>
                    <a:bodyPr lIns="86760" rIns="86760" tIns="43560" bIns="4356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omple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/21/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6760" rIns="86760" tIns="43560" bIns="4356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chedule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6760" marR="86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 of April 6, 2010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692, 000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I IDs have been settled using 15 minute AMS data at ERC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EP is internally testing their AMS systems and their communication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5155-0BCD-4A76-9522-D71F71A9190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cor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900" spc="-1" strike="noStrike">
                <a:solidFill>
                  <a:srgbClr val="ffff00"/>
                </a:solidFill>
                <a:latin typeface="Tahoma"/>
              </a:rPr>
              <a:t>849,515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as of 3.31.201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1624-61EA-4E7D-AA38-C20E7E28407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enterPoint Energy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284,04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3.30.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000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000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00,000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AB06-D29E-4999-9534-855490C8B27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839C-ADC8-437C-959A-8DBBB140C15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5235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lvl="1" marL="339480" indent="-3394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RIL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6-7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Project # 4, HAN 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19-20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– Web Portal Project #2 Next Release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Tahoma"/>
              </a:rPr>
              <a:t>this is a change from Project 5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ahoma"/>
              </a:rPr>
              <a:t>(F2F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ue: 9:30-4:30  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State Capitol Extension, 112 East 11th Street, Room E2.0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101D-15C4-4F06-8617-76B4549494F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523520"/>
            <a:ext cx="861048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Y 20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4-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jects #4–Home Area Network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 TBD 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24-2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Project #8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– Long-Term Settlement Solution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tion:  TB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33D8-C3B9-4323-AC0E-E86D03D2826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523520"/>
            <a:ext cx="8610480" cy="579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NE 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8-9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</a:t>
            </a:r>
            <a:r>
              <a:rPr b="1" lang="en-US" sz="1500" spc="-1" strike="noStrike" u="sng">
                <a:solidFill>
                  <a:srgbClr val="ffff00"/>
                </a:solidFill>
                <a:uFillTx/>
                <a:latin typeface="Tahoma"/>
              </a:rPr>
              <a:t>Projects #8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Long Term Settlement Solution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22-23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1500" spc="-1" strike="noStrike" u="sng">
                <a:solidFill>
                  <a:srgbClr val="ffff00"/>
                </a:solidFill>
                <a:uFillTx/>
                <a:latin typeface="Tahoma"/>
              </a:rPr>
              <a:t>– </a:t>
            </a:r>
            <a:r>
              <a:rPr b="1" lang="en-US" sz="1500" spc="-1" strike="noStrike" u="sng">
                <a:solidFill>
                  <a:srgbClr val="ffff00"/>
                </a:solidFill>
                <a:uFillTx/>
                <a:latin typeface="Tahoma"/>
              </a:rPr>
              <a:t>Project #5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Retail Market Interface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d: 8:30-4:30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1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28-29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lang="en-US" sz="1500" spc="-1" strike="noStrike" u="sng">
                <a:solidFill>
                  <a:srgbClr val="ffffff"/>
                </a:solidFill>
                <a:uFillTx/>
                <a:latin typeface="Tahoma"/>
              </a:rPr>
              <a:t>– Projects TBA (F2F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Mon: 1:30-5:30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ue: 8:30-4:30                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3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WebEx: check AMIT webpage for instructions: </a:t>
            </a:r>
            <a:r>
              <a:rPr b="0" lang="en-US" sz="1300" spc="-1" strike="noStrike" u="sng">
                <a:solidFill>
                  <a:srgbClr val="ffffff"/>
                </a:solidFill>
                <a:uFillTx/>
                <a:latin typeface="Tahoma"/>
              </a:rPr>
              <a:t>http://www.puc.state.tx.us/electric/projects/34610/34610.cfm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7913-7C3E-423E-979B-23A408BA0A9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4-08T20:35:39Z</dcterms:modified>
  <cp:revision>323</cp:revision>
  <dc:subject/>
  <dc:title>MARS Taskforce </dc:title>
</cp:coreProperties>
</file>