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pperplate Gothic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pperplate Gothic Bol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pperplate Gothic Bold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pperplate Gothic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3B7F7-1B98-4107-9247-DED3E30BC208}" type="slidenum">
              <a:rPr b="0" lang="en-US" sz="1200" spc="-1" strike="noStrike">
                <a:solidFill>
                  <a:srgbClr val="000000"/>
                </a:solidFill>
                <a:latin typeface="Copperplate Gothic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C2F0E-5ACD-40D6-8B9E-1974FF02BA72}" type="slidenum">
              <a:rPr b="0" lang="en-US" sz="1200" spc="-1" strike="noStrike">
                <a:solidFill>
                  <a:srgbClr val="000000"/>
                </a:solidFill>
                <a:latin typeface="Copperplate Gothic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D42F7-7812-4390-97BD-9D83097C178A}" type="slidenum">
              <a:rPr b="0" lang="en-US" sz="1200" spc="-1" strike="noStrike">
                <a:solidFill>
                  <a:srgbClr val="000000"/>
                </a:solidFill>
                <a:latin typeface="Copperplate Gothic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429FB-C3E9-4525-91A1-43B1AE7EBD00}" type="slidenum">
              <a:rPr b="0" lang="en-US" sz="1200" spc="-1" strike="noStrike">
                <a:solidFill>
                  <a:srgbClr val="000000"/>
                </a:solidFill>
                <a:latin typeface="Copperplate Gothic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B400B-363F-41DC-A31F-69C4CB90BF44}" type="slidenum">
              <a:rPr b="0" lang="en-US" sz="1200" spc="-1" strike="noStrike">
                <a:solidFill>
                  <a:srgbClr val="000000"/>
                </a:solidFill>
                <a:latin typeface="Copperplate Gothic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8D712-D893-43AA-B1E8-0F6133EB75C5}" type="slidenum">
              <a:rPr b="0" lang="en-US" sz="1200" spc="-1" strike="noStrike">
                <a:solidFill>
                  <a:srgbClr val="000000"/>
                </a:solidFill>
                <a:latin typeface="Copperplate Gothic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1F289-70D5-4099-8757-3DD140146072}" type="slidenum">
              <a:rPr b="0" lang="en-US" sz="1200" spc="-1" strike="noStrike">
                <a:solidFill>
                  <a:srgbClr val="000000"/>
                </a:solidFill>
                <a:latin typeface="Copperplate Gothic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FCE5E-F241-44C7-A477-02414E50332E}" type="slidenum">
              <a:rPr b="0" lang="en-US" sz="1200" spc="-1" strike="noStrike">
                <a:solidFill>
                  <a:srgbClr val="000000"/>
                </a:solidFill>
                <a:latin typeface="Copperplate Gothic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30DC9-BD7F-4FFF-AA13-7AFFBD6204C7}" type="slidenum">
              <a:rPr b="0" lang="en-US" sz="1200" spc="-1" strike="noStrike">
                <a:solidFill>
                  <a:srgbClr val="000000"/>
                </a:solidFill>
                <a:latin typeface="Copperplate Gothic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A4684-D2D3-41C3-9E12-1D83A7C35735}" type="slidenum">
              <a:rPr b="0" lang="en-US" sz="1200" spc="-1" strike="noStrike">
                <a:solidFill>
                  <a:srgbClr val="000000"/>
                </a:solidFill>
                <a:latin typeface="Copperplate Gothic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64069-CD54-4BA0-AB65-A496CCE80840}" type="slidenum">
              <a:rPr b="0" lang="en-US" sz="1200" spc="-1" strike="noStrike">
                <a:solidFill>
                  <a:srgbClr val="000000"/>
                </a:solidFill>
                <a:latin typeface="Copperplate Gothic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99BE-C8D3-4993-8802-1B421DDDF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EA0C-EE94-4131-95FF-3B0937357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3DDC-25C0-4ACF-844A-099E12EC8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CD00-E318-4D3A-8F59-460B64FD4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CCC02-45BE-437C-A1AA-7F6E8FD1A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A48AE-0147-401D-9D61-AA2935A5D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08135-4803-473A-B4ED-E49A3046D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92E9E-BA03-41AC-A504-24E7AF0BE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E2909-A862-45AF-99F7-E3B7E02FD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A3916-2D5F-45F2-85A1-EB683509A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9CB12-AECA-4FD3-891C-F1E131A5B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BECE-1110-4E15-8CEC-6904D6999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A401D-466B-4D4C-A4E5-7B56CDC7E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C6375-E5E5-40BF-8F8B-F4BA26F32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D11BB-3FDD-4C1D-A057-41DDA079F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F718D-8F00-4D19-8285-3EDA33F7A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8209A-DEAA-4ADC-AB0A-B2851DC00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FFF39-7777-4425-A14A-F68429E3C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CAC52-1905-412D-B24F-92E6E0D2C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07A0A-4859-4B77-8AEF-A5C97E339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78D70-0166-49A3-8708-71E34E992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2A207-1334-44F6-9F5C-15145F243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D5E7-F8DA-4456-84B2-5A9DEF4CA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E030C-3254-4DC7-8263-F2E2B6266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95C7F-AB10-459D-BD74-95DC7DADC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89941-40C2-4D5C-B683-D41FC3A52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38B79-2B36-4DDB-B9C9-BEF6F036E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947A9-8F6C-457E-B5B9-5DA0BCEDE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04A69-F6F1-4471-9B1F-75260BBCF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C8D8F-27CD-468D-B04A-D6D56237B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84CF-6274-43FB-B9BC-EDC9F2D28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F4F9-A576-4E4D-9986-D4884B341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EB96-62F9-490F-A0DF-D21BE9B9D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2F19-F607-4FC4-902F-F90EE5730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44A4-FDF2-491D-B733-398B786C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1481-C08F-46F8-A596-6DF467FB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7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20014-EA9C-4B4D-AE18-A78BD70E0211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A4100-DCA5-447B-B798-616B6ECAD89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5cad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65641-832F-4C10-8A52-90457324A862}" type="datetime">
              <a:rPr b="0" lang="en-US" sz="1200" spc="-1" strike="noStrike">
                <a:solidFill>
                  <a:srgbClr val="ffffff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CB448-0D71-4156-B82A-CFDC21EE554C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3399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5cad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667b5b"/>
                </a:gs>
                <a:gs pos="100000">
                  <a:srgbClr val="5c6f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4BA14-F5DA-4207-B545-813CE3369DFF}" type="datetime">
              <a:rPr b="0" lang="en-US" sz="1200" spc="-1" strike="noStrike">
                <a:solidFill>
                  <a:srgbClr val="ffffff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C48D5-C6EB-4264-8B2A-C59658EB561A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5cad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87"/>
          <p:cNvSpPr/>
          <p:nvPr/>
        </p:nvSpPr>
        <p:spPr>
          <a:xfrm>
            <a:off x="0" y="4267080"/>
            <a:ext cx="609480" cy="1219320"/>
          </a:xfrm>
          <a:prstGeom prst="flowChartDecision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92"/>
          <p:cNvSpPr/>
          <p:nvPr/>
        </p:nvSpPr>
        <p:spPr>
          <a:xfrm rot="10800000">
            <a:off x="-360" y="-360"/>
            <a:ext cx="609480" cy="6094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WordArt 13"/>
          <p:cNvSpPr txBox="1"/>
          <p:nvPr/>
        </p:nvSpPr>
        <p:spPr>
          <a:xfrm>
            <a:off x="990720" y="1828800"/>
            <a:ext cx="5257800" cy="12952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38d75"/>
                  </a:outerShdw>
                </a:effectLst>
                <a:latin typeface="Monotype Corsiva"/>
              </a:rPr>
              <a:t>TAC Update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38d75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73" name="AutoShape 84"/>
          <p:cNvSpPr/>
          <p:nvPr/>
        </p:nvSpPr>
        <p:spPr>
          <a:xfrm>
            <a:off x="0" y="609480"/>
            <a:ext cx="609480" cy="1219320"/>
          </a:xfrm>
          <a:prstGeom prst="flowChartDecision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87"/>
          <p:cNvSpPr/>
          <p:nvPr/>
        </p:nvSpPr>
        <p:spPr>
          <a:xfrm>
            <a:off x="0" y="1828800"/>
            <a:ext cx="609480" cy="1219320"/>
          </a:xfrm>
          <a:prstGeom prst="flowChartDecision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88"/>
          <p:cNvSpPr/>
          <p:nvPr/>
        </p:nvSpPr>
        <p:spPr>
          <a:xfrm>
            <a:off x="0" y="3048120"/>
            <a:ext cx="609480" cy="1218960"/>
          </a:xfrm>
          <a:prstGeom prst="flowChartDecision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82"/>
          <p:cNvSpPr/>
          <p:nvPr/>
        </p:nvSpPr>
        <p:spPr>
          <a:xfrm>
            <a:off x="0" y="0"/>
            <a:ext cx="609480" cy="1219320"/>
          </a:xfrm>
          <a:prstGeom prst="flowChartDecision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81"/>
          <p:cNvSpPr/>
          <p:nvPr/>
        </p:nvSpPr>
        <p:spPr>
          <a:xfrm>
            <a:off x="0" y="1219320"/>
            <a:ext cx="609480" cy="1218960"/>
          </a:xfrm>
          <a:prstGeom prst="flowChartDecision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80"/>
          <p:cNvSpPr/>
          <p:nvPr/>
        </p:nvSpPr>
        <p:spPr>
          <a:xfrm>
            <a:off x="0" y="2438280"/>
            <a:ext cx="609480" cy="1219320"/>
          </a:xfrm>
          <a:prstGeom prst="flowChartDecision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79"/>
          <p:cNvSpPr/>
          <p:nvPr/>
        </p:nvSpPr>
        <p:spPr>
          <a:xfrm>
            <a:off x="0" y="3657600"/>
            <a:ext cx="609480" cy="1219320"/>
          </a:xfrm>
          <a:prstGeom prst="flowChartDecision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12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A1BEE-D641-4520-8E05-EB97689F1B0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87"/>
          <p:cNvSpPr/>
          <p:nvPr/>
        </p:nvSpPr>
        <p:spPr>
          <a:xfrm>
            <a:off x="0" y="6629400"/>
            <a:ext cx="609480" cy="1219320"/>
          </a:xfrm>
          <a:prstGeom prst="flowChartDecision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88"/>
          <p:cNvSpPr/>
          <p:nvPr/>
        </p:nvSpPr>
        <p:spPr>
          <a:xfrm>
            <a:off x="0" y="5410080"/>
            <a:ext cx="609480" cy="1219320"/>
          </a:xfrm>
          <a:prstGeom prst="flowChartDecision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79"/>
          <p:cNvSpPr/>
          <p:nvPr/>
        </p:nvSpPr>
        <p:spPr>
          <a:xfrm>
            <a:off x="0" y="6095880"/>
            <a:ext cx="609480" cy="1219320"/>
          </a:xfrm>
          <a:prstGeom prst="flowChartDecision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79"/>
          <p:cNvSpPr/>
          <p:nvPr/>
        </p:nvSpPr>
        <p:spPr>
          <a:xfrm>
            <a:off x="0" y="4876920"/>
            <a:ext cx="609480" cy="1218960"/>
          </a:xfrm>
          <a:prstGeom prst="flowChartDecision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5cad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AutoShape 87"/>
          <p:cNvSpPr/>
          <p:nvPr/>
        </p:nvSpPr>
        <p:spPr>
          <a:xfrm>
            <a:off x="0" y="4267080"/>
            <a:ext cx="609480" cy="1219320"/>
          </a:xfrm>
          <a:prstGeom prst="flowChartDecision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92"/>
          <p:cNvSpPr/>
          <p:nvPr/>
        </p:nvSpPr>
        <p:spPr>
          <a:xfrm rot="10800000">
            <a:off x="-360" y="-360"/>
            <a:ext cx="609480" cy="6094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WordArt 13"/>
          <p:cNvSpPr txBox="1"/>
          <p:nvPr/>
        </p:nvSpPr>
        <p:spPr>
          <a:xfrm>
            <a:off x="838080" y="380880"/>
            <a:ext cx="3962520" cy="8384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38d75"/>
                  </a:outerShdw>
                </a:effectLst>
                <a:latin typeface="Monotype Corsiva"/>
              </a:rPr>
              <a:t>TAC Update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38d75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315" name="AutoShape 84"/>
          <p:cNvSpPr/>
          <p:nvPr/>
        </p:nvSpPr>
        <p:spPr>
          <a:xfrm>
            <a:off x="0" y="609480"/>
            <a:ext cx="609480" cy="1219320"/>
          </a:xfrm>
          <a:prstGeom prst="flowChartDecision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87"/>
          <p:cNvSpPr/>
          <p:nvPr/>
        </p:nvSpPr>
        <p:spPr>
          <a:xfrm>
            <a:off x="0" y="1828800"/>
            <a:ext cx="609480" cy="1219320"/>
          </a:xfrm>
          <a:prstGeom prst="flowChartDecision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88"/>
          <p:cNvSpPr/>
          <p:nvPr/>
        </p:nvSpPr>
        <p:spPr>
          <a:xfrm>
            <a:off x="0" y="3048120"/>
            <a:ext cx="609480" cy="1218960"/>
          </a:xfrm>
          <a:prstGeom prst="flowChartDecision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82"/>
          <p:cNvSpPr/>
          <p:nvPr/>
        </p:nvSpPr>
        <p:spPr>
          <a:xfrm>
            <a:off x="0" y="0"/>
            <a:ext cx="609480" cy="1219320"/>
          </a:xfrm>
          <a:prstGeom prst="flowChartDecision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81"/>
          <p:cNvSpPr/>
          <p:nvPr/>
        </p:nvSpPr>
        <p:spPr>
          <a:xfrm>
            <a:off x="0" y="1219320"/>
            <a:ext cx="609480" cy="1218960"/>
          </a:xfrm>
          <a:prstGeom prst="flowChartDecision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80"/>
          <p:cNvSpPr/>
          <p:nvPr/>
        </p:nvSpPr>
        <p:spPr>
          <a:xfrm>
            <a:off x="0" y="2438280"/>
            <a:ext cx="609480" cy="1219320"/>
          </a:xfrm>
          <a:prstGeom prst="flowChartDecision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79"/>
          <p:cNvSpPr/>
          <p:nvPr/>
        </p:nvSpPr>
        <p:spPr>
          <a:xfrm>
            <a:off x="0" y="3657600"/>
            <a:ext cx="609480" cy="1219320"/>
          </a:xfrm>
          <a:prstGeom prst="flowChartDecision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lide Number Placeholder 12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5E6E9-ECCF-476F-A333-5A2928913F5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85800" y="1219320"/>
            <a:ext cx="7772400" cy="453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uture Agenda I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ff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Guiding Principles of the Nodal Mark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SzPct val="7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Subcommittees still reviewing, comments due next 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ff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Economic vs Reliability Team Re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SzPct val="7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To have an update to TAC next 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ff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PRR791, Shortage Pricing Mechanis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SzPct val="7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Originally linked to PRR776.  Language was that this was tabled pending PUCT action.  TAC can take either path on PRR791, either approve or withdra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87"/>
          <p:cNvSpPr/>
          <p:nvPr/>
        </p:nvSpPr>
        <p:spPr>
          <a:xfrm>
            <a:off x="0" y="6629400"/>
            <a:ext cx="609480" cy="1219320"/>
          </a:xfrm>
          <a:prstGeom prst="flowChartDecision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88"/>
          <p:cNvSpPr/>
          <p:nvPr/>
        </p:nvSpPr>
        <p:spPr>
          <a:xfrm>
            <a:off x="0" y="5410080"/>
            <a:ext cx="609480" cy="1219320"/>
          </a:xfrm>
          <a:prstGeom prst="flowChartDecision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79"/>
          <p:cNvSpPr/>
          <p:nvPr/>
        </p:nvSpPr>
        <p:spPr>
          <a:xfrm>
            <a:off x="0" y="6095880"/>
            <a:ext cx="609480" cy="1219320"/>
          </a:xfrm>
          <a:prstGeom prst="flowChartDecision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79"/>
          <p:cNvSpPr/>
          <p:nvPr/>
        </p:nvSpPr>
        <p:spPr>
          <a:xfrm>
            <a:off x="0" y="4876920"/>
            <a:ext cx="609480" cy="1218960"/>
          </a:xfrm>
          <a:prstGeom prst="flowChartDecision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5cad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AutoShape 87"/>
          <p:cNvSpPr/>
          <p:nvPr/>
        </p:nvSpPr>
        <p:spPr>
          <a:xfrm>
            <a:off x="0" y="4267080"/>
            <a:ext cx="609480" cy="1219320"/>
          </a:xfrm>
          <a:prstGeom prst="flowChartDecision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92"/>
          <p:cNvSpPr/>
          <p:nvPr/>
        </p:nvSpPr>
        <p:spPr>
          <a:xfrm rot="10800000">
            <a:off x="-360" y="-360"/>
            <a:ext cx="609480" cy="6094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WordArt 13"/>
          <p:cNvSpPr txBox="1"/>
          <p:nvPr/>
        </p:nvSpPr>
        <p:spPr>
          <a:xfrm>
            <a:off x="838080" y="380880"/>
            <a:ext cx="3962520" cy="8384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38d75"/>
                  </a:outerShdw>
                </a:effectLst>
                <a:latin typeface="Monotype Corsiva"/>
              </a:rPr>
              <a:t>TAC Update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38d75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88" name="AutoShape 84"/>
          <p:cNvSpPr/>
          <p:nvPr/>
        </p:nvSpPr>
        <p:spPr>
          <a:xfrm>
            <a:off x="0" y="609480"/>
            <a:ext cx="609480" cy="1219320"/>
          </a:xfrm>
          <a:prstGeom prst="flowChartDecision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87"/>
          <p:cNvSpPr/>
          <p:nvPr/>
        </p:nvSpPr>
        <p:spPr>
          <a:xfrm>
            <a:off x="0" y="1828800"/>
            <a:ext cx="609480" cy="1219320"/>
          </a:xfrm>
          <a:prstGeom prst="flowChartDecision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88"/>
          <p:cNvSpPr/>
          <p:nvPr/>
        </p:nvSpPr>
        <p:spPr>
          <a:xfrm>
            <a:off x="0" y="3048120"/>
            <a:ext cx="609480" cy="1218960"/>
          </a:xfrm>
          <a:prstGeom prst="flowChartDecision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82"/>
          <p:cNvSpPr/>
          <p:nvPr/>
        </p:nvSpPr>
        <p:spPr>
          <a:xfrm>
            <a:off x="0" y="0"/>
            <a:ext cx="609480" cy="1219320"/>
          </a:xfrm>
          <a:prstGeom prst="flowChartDecision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81"/>
          <p:cNvSpPr/>
          <p:nvPr/>
        </p:nvSpPr>
        <p:spPr>
          <a:xfrm>
            <a:off x="0" y="1219320"/>
            <a:ext cx="609480" cy="1218960"/>
          </a:xfrm>
          <a:prstGeom prst="flowChartDecision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80"/>
          <p:cNvSpPr/>
          <p:nvPr/>
        </p:nvSpPr>
        <p:spPr>
          <a:xfrm>
            <a:off x="0" y="2438280"/>
            <a:ext cx="609480" cy="1219320"/>
          </a:xfrm>
          <a:prstGeom prst="flowChartDecision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79"/>
          <p:cNvSpPr/>
          <p:nvPr/>
        </p:nvSpPr>
        <p:spPr>
          <a:xfrm>
            <a:off x="0" y="3657600"/>
            <a:ext cx="609480" cy="1219320"/>
          </a:xfrm>
          <a:prstGeom prst="flowChartDecision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762120" y="1295280"/>
            <a:ext cx="8229600" cy="453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Antitrust training was given to TAC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ERCOT Board Upda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ff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eorgia"/>
              </a:rPr>
              <a:t>PRRs and NPRRs were all approved by the Board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ff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eorgia"/>
              </a:rPr>
              <a:t>Generation Adequacy Task Force Recommendation was tabled by TAC, it was requested that TAC discuss adjustments at the April meeting.  Vote was taken by TAC and was “Approved”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ff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eorgia"/>
              </a:rPr>
              <a:t>Data Response to Board: Wind Cost Allocation.  Vote was taken by the Board.  Vote was inconclusive, so Board requested that additional discussion be held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AutoShape 87"/>
          <p:cNvSpPr/>
          <p:nvPr/>
        </p:nvSpPr>
        <p:spPr>
          <a:xfrm>
            <a:off x="0" y="6629400"/>
            <a:ext cx="609480" cy="1219320"/>
          </a:xfrm>
          <a:prstGeom prst="flowChartDecision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88"/>
          <p:cNvSpPr/>
          <p:nvPr/>
        </p:nvSpPr>
        <p:spPr>
          <a:xfrm>
            <a:off x="0" y="5410080"/>
            <a:ext cx="609480" cy="1219320"/>
          </a:xfrm>
          <a:prstGeom prst="flowChartDecision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79"/>
          <p:cNvSpPr/>
          <p:nvPr/>
        </p:nvSpPr>
        <p:spPr>
          <a:xfrm>
            <a:off x="0" y="6095880"/>
            <a:ext cx="609480" cy="1219320"/>
          </a:xfrm>
          <a:prstGeom prst="flowChartDecision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79"/>
          <p:cNvSpPr/>
          <p:nvPr/>
        </p:nvSpPr>
        <p:spPr>
          <a:xfrm>
            <a:off x="0" y="4876920"/>
            <a:ext cx="609480" cy="1218960"/>
          </a:xfrm>
          <a:prstGeom prst="flowChartDecision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5cad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AutoShape 87"/>
          <p:cNvSpPr/>
          <p:nvPr/>
        </p:nvSpPr>
        <p:spPr>
          <a:xfrm>
            <a:off x="0" y="4267080"/>
            <a:ext cx="609480" cy="1219320"/>
          </a:xfrm>
          <a:prstGeom prst="flowChartDecision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92"/>
          <p:cNvSpPr/>
          <p:nvPr/>
        </p:nvSpPr>
        <p:spPr>
          <a:xfrm rot="10800000">
            <a:off x="-360" y="-360"/>
            <a:ext cx="609480" cy="6094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WordArt 13"/>
          <p:cNvSpPr txBox="1"/>
          <p:nvPr/>
        </p:nvSpPr>
        <p:spPr>
          <a:xfrm>
            <a:off x="838080" y="380880"/>
            <a:ext cx="3962520" cy="8384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38d75"/>
                  </a:outerShdw>
                </a:effectLst>
                <a:latin typeface="Monotype Corsiva"/>
              </a:rPr>
              <a:t>TAC Update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38d75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203" name="AutoShape 84"/>
          <p:cNvSpPr/>
          <p:nvPr/>
        </p:nvSpPr>
        <p:spPr>
          <a:xfrm>
            <a:off x="0" y="609480"/>
            <a:ext cx="609480" cy="1219320"/>
          </a:xfrm>
          <a:prstGeom prst="flowChartDecision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87"/>
          <p:cNvSpPr/>
          <p:nvPr/>
        </p:nvSpPr>
        <p:spPr>
          <a:xfrm>
            <a:off x="0" y="1828800"/>
            <a:ext cx="609480" cy="1219320"/>
          </a:xfrm>
          <a:prstGeom prst="flowChartDecision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88"/>
          <p:cNvSpPr/>
          <p:nvPr/>
        </p:nvSpPr>
        <p:spPr>
          <a:xfrm>
            <a:off x="0" y="3048120"/>
            <a:ext cx="609480" cy="1218960"/>
          </a:xfrm>
          <a:prstGeom prst="flowChartDecision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82"/>
          <p:cNvSpPr/>
          <p:nvPr/>
        </p:nvSpPr>
        <p:spPr>
          <a:xfrm>
            <a:off x="0" y="0"/>
            <a:ext cx="609480" cy="1219320"/>
          </a:xfrm>
          <a:prstGeom prst="flowChartDecision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81"/>
          <p:cNvSpPr/>
          <p:nvPr/>
        </p:nvSpPr>
        <p:spPr>
          <a:xfrm>
            <a:off x="0" y="1219320"/>
            <a:ext cx="609480" cy="1218960"/>
          </a:xfrm>
          <a:prstGeom prst="flowChartDecision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80"/>
          <p:cNvSpPr/>
          <p:nvPr/>
        </p:nvSpPr>
        <p:spPr>
          <a:xfrm>
            <a:off x="0" y="2438280"/>
            <a:ext cx="609480" cy="1219320"/>
          </a:xfrm>
          <a:prstGeom prst="flowChartDecision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79"/>
          <p:cNvSpPr/>
          <p:nvPr/>
        </p:nvSpPr>
        <p:spPr>
          <a:xfrm>
            <a:off x="0" y="3657600"/>
            <a:ext cx="609480" cy="1219320"/>
          </a:xfrm>
          <a:prstGeom prst="flowChartDecision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12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6EAA6-49D7-4A02-B66D-64D2478EC03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62120" y="1260360"/>
            <a:ext cx="7772400" cy="453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Webcast of TAC Meeting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425"/>
              </a:spcBef>
              <a:buClr>
                <a:srgbClr val="ffff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entury Schoolbook"/>
              </a:rPr>
              <a:t>TAC discussed whether the meetings should be broadcast on the web starting after May.  TAC decided to not take a vote on this matter.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Nodal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425"/>
              </a:spcBef>
              <a:buClr>
                <a:srgbClr val="ffff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entury Schoolbook"/>
              </a:rPr>
              <a:t>ERCOT Program Updat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SzPct val="7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Integration testing has been mitigated back on schedule: No Impact on Go L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425"/>
              </a:spcBef>
              <a:buClr>
                <a:srgbClr val="ffff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entury Schoolbook"/>
              </a:rPr>
              <a:t>Statu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SzPct val="7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236 Days to Go L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SzPct val="7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22 days until Phase 5: Full Functionality Market Quality Testing and Operational Readi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425"/>
              </a:spcBef>
              <a:buClr>
                <a:srgbClr val="ffff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entury Schoolbook"/>
              </a:rPr>
              <a:t>Market Participant Readines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SzPct val="7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Market Trials have been running for 10 wee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SzPct val="7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QSE participation in DAM runs has been go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425"/>
              </a:spcBef>
              <a:buClr>
                <a:srgbClr val="ffff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entury Schoolbook"/>
              </a:rPr>
              <a:t>Train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SzPct val="7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Nodal Training sessions are available in Austin, S.A., Dallas, and Houston.  There will also be web-based train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87"/>
          <p:cNvSpPr/>
          <p:nvPr/>
        </p:nvSpPr>
        <p:spPr>
          <a:xfrm>
            <a:off x="0" y="6629400"/>
            <a:ext cx="609480" cy="1219320"/>
          </a:xfrm>
          <a:prstGeom prst="flowChartDecision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88"/>
          <p:cNvSpPr/>
          <p:nvPr/>
        </p:nvSpPr>
        <p:spPr>
          <a:xfrm>
            <a:off x="0" y="5410080"/>
            <a:ext cx="609480" cy="1219320"/>
          </a:xfrm>
          <a:prstGeom prst="flowChartDecision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79"/>
          <p:cNvSpPr/>
          <p:nvPr/>
        </p:nvSpPr>
        <p:spPr>
          <a:xfrm>
            <a:off x="0" y="6095880"/>
            <a:ext cx="609480" cy="1219320"/>
          </a:xfrm>
          <a:prstGeom prst="flowChartDecision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79"/>
          <p:cNvSpPr/>
          <p:nvPr/>
        </p:nvSpPr>
        <p:spPr>
          <a:xfrm>
            <a:off x="0" y="4876920"/>
            <a:ext cx="609480" cy="1218960"/>
          </a:xfrm>
          <a:prstGeom prst="flowChartDecision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5cad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AutoShape 87"/>
          <p:cNvSpPr/>
          <p:nvPr/>
        </p:nvSpPr>
        <p:spPr>
          <a:xfrm>
            <a:off x="0" y="4267080"/>
            <a:ext cx="609480" cy="1219320"/>
          </a:xfrm>
          <a:prstGeom prst="flowChartDecision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92"/>
          <p:cNvSpPr/>
          <p:nvPr/>
        </p:nvSpPr>
        <p:spPr>
          <a:xfrm rot="10800000">
            <a:off x="-360" y="-360"/>
            <a:ext cx="609480" cy="6094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WordArt 13"/>
          <p:cNvSpPr txBox="1"/>
          <p:nvPr/>
        </p:nvSpPr>
        <p:spPr>
          <a:xfrm>
            <a:off x="838080" y="380880"/>
            <a:ext cx="3962520" cy="8384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38d75"/>
                  </a:outerShdw>
                </a:effectLst>
                <a:latin typeface="Monotype Corsiva"/>
              </a:rPr>
              <a:t>TAC Update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38d75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219" name="AutoShape 84"/>
          <p:cNvSpPr/>
          <p:nvPr/>
        </p:nvSpPr>
        <p:spPr>
          <a:xfrm>
            <a:off x="0" y="609480"/>
            <a:ext cx="609480" cy="1219320"/>
          </a:xfrm>
          <a:prstGeom prst="flowChartDecision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87"/>
          <p:cNvSpPr/>
          <p:nvPr/>
        </p:nvSpPr>
        <p:spPr>
          <a:xfrm>
            <a:off x="0" y="1828800"/>
            <a:ext cx="609480" cy="1219320"/>
          </a:xfrm>
          <a:prstGeom prst="flowChartDecision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88"/>
          <p:cNvSpPr/>
          <p:nvPr/>
        </p:nvSpPr>
        <p:spPr>
          <a:xfrm>
            <a:off x="0" y="3048120"/>
            <a:ext cx="609480" cy="1218960"/>
          </a:xfrm>
          <a:prstGeom prst="flowChartDecision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82"/>
          <p:cNvSpPr/>
          <p:nvPr/>
        </p:nvSpPr>
        <p:spPr>
          <a:xfrm>
            <a:off x="0" y="0"/>
            <a:ext cx="609480" cy="1219320"/>
          </a:xfrm>
          <a:prstGeom prst="flowChartDecision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81"/>
          <p:cNvSpPr/>
          <p:nvPr/>
        </p:nvSpPr>
        <p:spPr>
          <a:xfrm>
            <a:off x="0" y="1219320"/>
            <a:ext cx="609480" cy="1218960"/>
          </a:xfrm>
          <a:prstGeom prst="flowChartDecision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80"/>
          <p:cNvSpPr/>
          <p:nvPr/>
        </p:nvSpPr>
        <p:spPr>
          <a:xfrm>
            <a:off x="0" y="2438280"/>
            <a:ext cx="609480" cy="1219320"/>
          </a:xfrm>
          <a:prstGeom prst="flowChartDecision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79"/>
          <p:cNvSpPr/>
          <p:nvPr/>
        </p:nvSpPr>
        <p:spPr>
          <a:xfrm>
            <a:off x="0" y="3657600"/>
            <a:ext cx="609480" cy="1219320"/>
          </a:xfrm>
          <a:prstGeom prst="flowChartDecision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12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95064-1678-4407-9BAA-B0055D96C3F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62120" y="1295280"/>
            <a:ext cx="7772400" cy="453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Protocol Revisions Subcommittee 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Protocol Revision Request (PRR) (Vote)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25"/>
              </a:spcBef>
              <a:buClr>
                <a:srgbClr val="ffff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entury Schoolbook"/>
              </a:rPr>
              <a:t>PRR844, Transmission and/or Distribution Service Provider (TDSP) Definition Revision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SzPct val="7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Appr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Nodal Protocol Revision Requests (NPRRs) (Vote)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25"/>
              </a:spcBef>
              <a:buClr>
                <a:srgbClr val="ffff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entury Schoolbook"/>
              </a:rPr>
              <a:t>NPRR205, Transmission and/or Distribution Service Provider (TDSP) Definition Revision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SzPct val="7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Tabled for one 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25"/>
              </a:spcBef>
              <a:buClr>
                <a:srgbClr val="ffff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entury Schoolbook"/>
              </a:rPr>
              <a:t>NPRR208, Registration and Settlement of Distributed Generation (DG) Less Than One MW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SzPct val="7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Tabl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PRS Recommendation (Vote) and NPRR Request for Withdrawal (Vote)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25"/>
              </a:spcBef>
              <a:buClr>
                <a:srgbClr val="ffff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entury Schoolbook"/>
              </a:rPr>
              <a:t>NPRR210, Wind Forecasting Change to P50, Synchronization with PRR841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SzPct val="7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Tabled, and remanded to P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87"/>
          <p:cNvSpPr/>
          <p:nvPr/>
        </p:nvSpPr>
        <p:spPr>
          <a:xfrm>
            <a:off x="0" y="6629400"/>
            <a:ext cx="609480" cy="1219320"/>
          </a:xfrm>
          <a:prstGeom prst="flowChartDecision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88"/>
          <p:cNvSpPr/>
          <p:nvPr/>
        </p:nvSpPr>
        <p:spPr>
          <a:xfrm>
            <a:off x="0" y="5410080"/>
            <a:ext cx="609480" cy="1219320"/>
          </a:xfrm>
          <a:prstGeom prst="flowChartDecision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79"/>
          <p:cNvSpPr/>
          <p:nvPr/>
        </p:nvSpPr>
        <p:spPr>
          <a:xfrm>
            <a:off x="0" y="6095880"/>
            <a:ext cx="609480" cy="1219320"/>
          </a:xfrm>
          <a:prstGeom prst="flowChartDecision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79"/>
          <p:cNvSpPr/>
          <p:nvPr/>
        </p:nvSpPr>
        <p:spPr>
          <a:xfrm>
            <a:off x="0" y="4876920"/>
            <a:ext cx="609480" cy="1218960"/>
          </a:xfrm>
          <a:prstGeom prst="flowChartDecision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5cad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AutoShape 87"/>
          <p:cNvSpPr/>
          <p:nvPr/>
        </p:nvSpPr>
        <p:spPr>
          <a:xfrm>
            <a:off x="0" y="4267080"/>
            <a:ext cx="609480" cy="1219320"/>
          </a:xfrm>
          <a:prstGeom prst="flowChartDecision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92"/>
          <p:cNvSpPr/>
          <p:nvPr/>
        </p:nvSpPr>
        <p:spPr>
          <a:xfrm rot="10800000">
            <a:off x="-360" y="-360"/>
            <a:ext cx="609480" cy="6094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WordArt 13"/>
          <p:cNvSpPr txBox="1"/>
          <p:nvPr/>
        </p:nvSpPr>
        <p:spPr>
          <a:xfrm>
            <a:off x="838080" y="380880"/>
            <a:ext cx="3962520" cy="8384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38d75"/>
                  </a:outerShdw>
                </a:effectLst>
                <a:latin typeface="Monotype Corsiva"/>
              </a:rPr>
              <a:t>TAC Update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38d75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235" name="AutoShape 84"/>
          <p:cNvSpPr/>
          <p:nvPr/>
        </p:nvSpPr>
        <p:spPr>
          <a:xfrm>
            <a:off x="0" y="609480"/>
            <a:ext cx="609480" cy="1219320"/>
          </a:xfrm>
          <a:prstGeom prst="flowChartDecision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87"/>
          <p:cNvSpPr/>
          <p:nvPr/>
        </p:nvSpPr>
        <p:spPr>
          <a:xfrm>
            <a:off x="0" y="1828800"/>
            <a:ext cx="609480" cy="1219320"/>
          </a:xfrm>
          <a:prstGeom prst="flowChartDecision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88"/>
          <p:cNvSpPr/>
          <p:nvPr/>
        </p:nvSpPr>
        <p:spPr>
          <a:xfrm>
            <a:off x="0" y="3048120"/>
            <a:ext cx="609480" cy="1218960"/>
          </a:xfrm>
          <a:prstGeom prst="flowChartDecision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82"/>
          <p:cNvSpPr/>
          <p:nvPr/>
        </p:nvSpPr>
        <p:spPr>
          <a:xfrm>
            <a:off x="0" y="0"/>
            <a:ext cx="609480" cy="1219320"/>
          </a:xfrm>
          <a:prstGeom prst="flowChartDecision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81"/>
          <p:cNvSpPr/>
          <p:nvPr/>
        </p:nvSpPr>
        <p:spPr>
          <a:xfrm>
            <a:off x="0" y="1219320"/>
            <a:ext cx="609480" cy="1218960"/>
          </a:xfrm>
          <a:prstGeom prst="flowChartDecision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80"/>
          <p:cNvSpPr/>
          <p:nvPr/>
        </p:nvSpPr>
        <p:spPr>
          <a:xfrm>
            <a:off x="0" y="2438280"/>
            <a:ext cx="609480" cy="1219320"/>
          </a:xfrm>
          <a:prstGeom prst="flowChartDecision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79"/>
          <p:cNvSpPr/>
          <p:nvPr/>
        </p:nvSpPr>
        <p:spPr>
          <a:xfrm>
            <a:off x="0" y="3657600"/>
            <a:ext cx="609480" cy="1219320"/>
          </a:xfrm>
          <a:prstGeom prst="flowChartDecision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12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CF94B-8871-440D-84C6-C0971E5982B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62120" y="1219320"/>
            <a:ext cx="7772400" cy="453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Revision Requests Tabled at TAC (Vote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425"/>
              </a:spcBef>
              <a:buClr>
                <a:srgbClr val="ffff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PRR833, Primary Frequency Response Requirement from Existing WGR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SzPct val="7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bate on whether the PRR with WMS input met the original expectations from TAC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SzPct val="7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Appr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425"/>
              </a:spcBef>
              <a:buClr>
                <a:srgbClr val="ffff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NPRR146, ICCP Telemetry Information Submittal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SzPct val="7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Tabled, requesting ROS feedback on ERCOT comm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425"/>
              </a:spcBef>
              <a:buClr>
                <a:srgbClr val="ffff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OGRR233, Backup Control Plan Submission Proces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SzPct val="7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Remanded to ROS, requested for review for NERC standa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425"/>
              </a:spcBef>
              <a:buClr>
                <a:srgbClr val="ffff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entury Schoolbook"/>
              </a:rPr>
              <a:t>NOGRR028, Synchronization – Backup Control Plan Submission Proces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SzPct val="7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Remanded to ROS, requested for review for NERC standa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425"/>
              </a:spcBef>
              <a:buClr>
                <a:srgbClr val="ffff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entury Schoolbook"/>
              </a:rPr>
              <a:t>NPRR207, Hour Start Unit Deselection and Half Hour Start Unit RUC Clawbac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SzPct val="7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Reliant filed comments and TAC took action to remand this to P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87"/>
          <p:cNvSpPr/>
          <p:nvPr/>
        </p:nvSpPr>
        <p:spPr>
          <a:xfrm>
            <a:off x="0" y="6629400"/>
            <a:ext cx="609480" cy="1219320"/>
          </a:xfrm>
          <a:prstGeom prst="flowChartDecision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88"/>
          <p:cNvSpPr/>
          <p:nvPr/>
        </p:nvSpPr>
        <p:spPr>
          <a:xfrm>
            <a:off x="0" y="5410080"/>
            <a:ext cx="609480" cy="1219320"/>
          </a:xfrm>
          <a:prstGeom prst="flowChartDecision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79"/>
          <p:cNvSpPr/>
          <p:nvPr/>
        </p:nvSpPr>
        <p:spPr>
          <a:xfrm>
            <a:off x="0" y="6095880"/>
            <a:ext cx="609480" cy="1219320"/>
          </a:xfrm>
          <a:prstGeom prst="flowChartDecision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79"/>
          <p:cNvSpPr/>
          <p:nvPr/>
        </p:nvSpPr>
        <p:spPr>
          <a:xfrm>
            <a:off x="0" y="4876920"/>
            <a:ext cx="609480" cy="1218960"/>
          </a:xfrm>
          <a:prstGeom prst="flowChartDecision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5cad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AutoShape 87"/>
          <p:cNvSpPr/>
          <p:nvPr/>
        </p:nvSpPr>
        <p:spPr>
          <a:xfrm>
            <a:off x="0" y="4267080"/>
            <a:ext cx="609480" cy="1219320"/>
          </a:xfrm>
          <a:prstGeom prst="flowChartDecision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92"/>
          <p:cNvSpPr/>
          <p:nvPr/>
        </p:nvSpPr>
        <p:spPr>
          <a:xfrm rot="10800000">
            <a:off x="-360" y="-360"/>
            <a:ext cx="609480" cy="6094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WordArt 13"/>
          <p:cNvSpPr txBox="1"/>
          <p:nvPr/>
        </p:nvSpPr>
        <p:spPr>
          <a:xfrm>
            <a:off x="838080" y="380880"/>
            <a:ext cx="3962520" cy="8384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38d75"/>
                  </a:outerShdw>
                </a:effectLst>
                <a:latin typeface="Monotype Corsiva"/>
              </a:rPr>
              <a:t>TAC Update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38d75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251" name="AutoShape 84"/>
          <p:cNvSpPr/>
          <p:nvPr/>
        </p:nvSpPr>
        <p:spPr>
          <a:xfrm>
            <a:off x="0" y="609480"/>
            <a:ext cx="609480" cy="1219320"/>
          </a:xfrm>
          <a:prstGeom prst="flowChartDecision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87"/>
          <p:cNvSpPr/>
          <p:nvPr/>
        </p:nvSpPr>
        <p:spPr>
          <a:xfrm>
            <a:off x="0" y="1828800"/>
            <a:ext cx="609480" cy="1219320"/>
          </a:xfrm>
          <a:prstGeom prst="flowChartDecision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88"/>
          <p:cNvSpPr/>
          <p:nvPr/>
        </p:nvSpPr>
        <p:spPr>
          <a:xfrm>
            <a:off x="0" y="3048120"/>
            <a:ext cx="609480" cy="1218960"/>
          </a:xfrm>
          <a:prstGeom prst="flowChartDecision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82"/>
          <p:cNvSpPr/>
          <p:nvPr/>
        </p:nvSpPr>
        <p:spPr>
          <a:xfrm>
            <a:off x="0" y="0"/>
            <a:ext cx="609480" cy="1219320"/>
          </a:xfrm>
          <a:prstGeom prst="flowChartDecision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81"/>
          <p:cNvSpPr/>
          <p:nvPr/>
        </p:nvSpPr>
        <p:spPr>
          <a:xfrm>
            <a:off x="0" y="1219320"/>
            <a:ext cx="609480" cy="1218960"/>
          </a:xfrm>
          <a:prstGeom prst="flowChartDecision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80"/>
          <p:cNvSpPr/>
          <p:nvPr/>
        </p:nvSpPr>
        <p:spPr>
          <a:xfrm>
            <a:off x="0" y="2438280"/>
            <a:ext cx="609480" cy="1219320"/>
          </a:xfrm>
          <a:prstGeom prst="flowChartDecision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79"/>
          <p:cNvSpPr/>
          <p:nvPr/>
        </p:nvSpPr>
        <p:spPr>
          <a:xfrm>
            <a:off x="0" y="3657600"/>
            <a:ext cx="609480" cy="1219320"/>
          </a:xfrm>
          <a:prstGeom prst="flowChartDecision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12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9B966-45E5-4BFD-8352-BF44333443E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1295280"/>
            <a:ext cx="7772400" cy="453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Wholesale Market Subcommittee Report*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ff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NPRR091, Scarcity Pricing and Mitigated Offer Cap During the Period Commencing on the Nodal Market Implementation Date and Continuing for a Total of 45 Days (Vote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SzPct val="7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Remanded to W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ff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Defining Day Ahead Market Collateral Parameters called for in NPRR206, Nodal Market Day-Ahead Market Credit Requirements (Vote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SzPct val="7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Recommended approval as Revised Compromise Proposal on DAM Collateral Parameters by 3/30/10 W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87"/>
          <p:cNvSpPr/>
          <p:nvPr/>
        </p:nvSpPr>
        <p:spPr>
          <a:xfrm>
            <a:off x="0" y="6629400"/>
            <a:ext cx="609480" cy="1219320"/>
          </a:xfrm>
          <a:prstGeom prst="flowChartDecision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88"/>
          <p:cNvSpPr/>
          <p:nvPr/>
        </p:nvSpPr>
        <p:spPr>
          <a:xfrm>
            <a:off x="0" y="5410080"/>
            <a:ext cx="609480" cy="1219320"/>
          </a:xfrm>
          <a:prstGeom prst="flowChartDecision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79"/>
          <p:cNvSpPr/>
          <p:nvPr/>
        </p:nvSpPr>
        <p:spPr>
          <a:xfrm>
            <a:off x="0" y="6095880"/>
            <a:ext cx="609480" cy="1219320"/>
          </a:xfrm>
          <a:prstGeom prst="flowChartDecision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79"/>
          <p:cNvSpPr/>
          <p:nvPr/>
        </p:nvSpPr>
        <p:spPr>
          <a:xfrm>
            <a:off x="0" y="4876920"/>
            <a:ext cx="609480" cy="1218960"/>
          </a:xfrm>
          <a:prstGeom prst="flowChartDecision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5cad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AutoShape 87"/>
          <p:cNvSpPr/>
          <p:nvPr/>
        </p:nvSpPr>
        <p:spPr>
          <a:xfrm>
            <a:off x="0" y="4267080"/>
            <a:ext cx="609480" cy="1219320"/>
          </a:xfrm>
          <a:prstGeom prst="flowChartDecision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92"/>
          <p:cNvSpPr/>
          <p:nvPr/>
        </p:nvSpPr>
        <p:spPr>
          <a:xfrm rot="10800000">
            <a:off x="-360" y="-360"/>
            <a:ext cx="609480" cy="6094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WordArt 13"/>
          <p:cNvSpPr txBox="1"/>
          <p:nvPr/>
        </p:nvSpPr>
        <p:spPr>
          <a:xfrm>
            <a:off x="838080" y="380880"/>
            <a:ext cx="3962520" cy="8384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38d75"/>
                  </a:outerShdw>
                </a:effectLst>
                <a:latin typeface="Monotype Corsiva"/>
              </a:rPr>
              <a:t>TAC Update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38d75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267" name="AutoShape 84"/>
          <p:cNvSpPr/>
          <p:nvPr/>
        </p:nvSpPr>
        <p:spPr>
          <a:xfrm>
            <a:off x="0" y="609480"/>
            <a:ext cx="609480" cy="1219320"/>
          </a:xfrm>
          <a:prstGeom prst="flowChartDecision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87"/>
          <p:cNvSpPr/>
          <p:nvPr/>
        </p:nvSpPr>
        <p:spPr>
          <a:xfrm>
            <a:off x="0" y="1828800"/>
            <a:ext cx="609480" cy="1219320"/>
          </a:xfrm>
          <a:prstGeom prst="flowChartDecision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88"/>
          <p:cNvSpPr/>
          <p:nvPr/>
        </p:nvSpPr>
        <p:spPr>
          <a:xfrm>
            <a:off x="0" y="3048120"/>
            <a:ext cx="609480" cy="1218960"/>
          </a:xfrm>
          <a:prstGeom prst="flowChartDecision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82"/>
          <p:cNvSpPr/>
          <p:nvPr/>
        </p:nvSpPr>
        <p:spPr>
          <a:xfrm>
            <a:off x="0" y="0"/>
            <a:ext cx="609480" cy="1219320"/>
          </a:xfrm>
          <a:prstGeom prst="flowChartDecision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81"/>
          <p:cNvSpPr/>
          <p:nvPr/>
        </p:nvSpPr>
        <p:spPr>
          <a:xfrm>
            <a:off x="0" y="1219320"/>
            <a:ext cx="609480" cy="1218960"/>
          </a:xfrm>
          <a:prstGeom prst="flowChartDecision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80"/>
          <p:cNvSpPr/>
          <p:nvPr/>
        </p:nvSpPr>
        <p:spPr>
          <a:xfrm>
            <a:off x="0" y="2438280"/>
            <a:ext cx="609480" cy="1219320"/>
          </a:xfrm>
          <a:prstGeom prst="flowChartDecision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79"/>
          <p:cNvSpPr/>
          <p:nvPr/>
        </p:nvSpPr>
        <p:spPr>
          <a:xfrm>
            <a:off x="0" y="3657600"/>
            <a:ext cx="609480" cy="1219320"/>
          </a:xfrm>
          <a:prstGeom prst="flowChartDecision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12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92CED-E61B-490D-AC36-10CFE642BD5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85800" y="1219320"/>
            <a:ext cx="7772400" cy="453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ommercial Operations Subcommittee Report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ffff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entury Schoolbook"/>
              </a:rPr>
              <a:t>COPMGRR016, Update to Section 12, Renewable Energy Credits due to PRR 808, Clean-up and Alignment of RECs Trading Program Language with PUCT Rules (Vote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SzPct val="7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Approved, with ERCOT com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ffff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entury Schoolbook"/>
              </a:rPr>
              <a:t>LPGRR036, Delete Document Control Section (Vote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SzPct val="7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Appr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Reliability and Operations Subcommittee Report 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ffff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entury Schoolbook"/>
              </a:rPr>
              <a:t>OGRR232, Revise the Process for Submitting Biennial Unit Reactive Limits (Lead and Lag) (Vote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ffff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entury Schoolbook"/>
              </a:rPr>
              <a:t>NOGRR027, Revise the Process for Submitting Biennial Unit Reactive Limits (Lead and Lag) (Vote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74"/>
              </a:spcBef>
              <a:buClr>
                <a:srgbClr val="ffff00"/>
              </a:buClr>
              <a:buSzPct val="7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entury Schoolbook"/>
              </a:rPr>
              <a:t>OGRR 232 &amp; NOGRR2232 were Approve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87"/>
          <p:cNvSpPr/>
          <p:nvPr/>
        </p:nvSpPr>
        <p:spPr>
          <a:xfrm>
            <a:off x="0" y="6629400"/>
            <a:ext cx="609480" cy="1219320"/>
          </a:xfrm>
          <a:prstGeom prst="flowChartDecision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88"/>
          <p:cNvSpPr/>
          <p:nvPr/>
        </p:nvSpPr>
        <p:spPr>
          <a:xfrm>
            <a:off x="0" y="5410080"/>
            <a:ext cx="609480" cy="1219320"/>
          </a:xfrm>
          <a:prstGeom prst="flowChartDecision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79"/>
          <p:cNvSpPr/>
          <p:nvPr/>
        </p:nvSpPr>
        <p:spPr>
          <a:xfrm>
            <a:off x="0" y="6095880"/>
            <a:ext cx="609480" cy="1219320"/>
          </a:xfrm>
          <a:prstGeom prst="flowChartDecision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79"/>
          <p:cNvSpPr/>
          <p:nvPr/>
        </p:nvSpPr>
        <p:spPr>
          <a:xfrm>
            <a:off x="0" y="4876920"/>
            <a:ext cx="609480" cy="1218960"/>
          </a:xfrm>
          <a:prstGeom prst="flowChartDecision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5cad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AutoShape 87"/>
          <p:cNvSpPr/>
          <p:nvPr/>
        </p:nvSpPr>
        <p:spPr>
          <a:xfrm>
            <a:off x="0" y="4267080"/>
            <a:ext cx="609480" cy="1219320"/>
          </a:xfrm>
          <a:prstGeom prst="flowChartDecision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92"/>
          <p:cNvSpPr/>
          <p:nvPr/>
        </p:nvSpPr>
        <p:spPr>
          <a:xfrm rot="10800000">
            <a:off x="-360" y="-360"/>
            <a:ext cx="609480" cy="6094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WordArt 13"/>
          <p:cNvSpPr txBox="1"/>
          <p:nvPr/>
        </p:nvSpPr>
        <p:spPr>
          <a:xfrm>
            <a:off x="838080" y="380880"/>
            <a:ext cx="3962520" cy="8384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38d75"/>
                  </a:outerShdw>
                </a:effectLst>
                <a:latin typeface="Monotype Corsiva"/>
              </a:rPr>
              <a:t>TAC Update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38d75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283" name="AutoShape 84"/>
          <p:cNvSpPr/>
          <p:nvPr/>
        </p:nvSpPr>
        <p:spPr>
          <a:xfrm>
            <a:off x="0" y="609480"/>
            <a:ext cx="609480" cy="1219320"/>
          </a:xfrm>
          <a:prstGeom prst="flowChartDecision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87"/>
          <p:cNvSpPr/>
          <p:nvPr/>
        </p:nvSpPr>
        <p:spPr>
          <a:xfrm>
            <a:off x="0" y="1828800"/>
            <a:ext cx="609480" cy="1219320"/>
          </a:xfrm>
          <a:prstGeom prst="flowChartDecision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88"/>
          <p:cNvSpPr/>
          <p:nvPr/>
        </p:nvSpPr>
        <p:spPr>
          <a:xfrm>
            <a:off x="0" y="3048120"/>
            <a:ext cx="609480" cy="1218960"/>
          </a:xfrm>
          <a:prstGeom prst="flowChartDecision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82"/>
          <p:cNvSpPr/>
          <p:nvPr/>
        </p:nvSpPr>
        <p:spPr>
          <a:xfrm>
            <a:off x="0" y="0"/>
            <a:ext cx="609480" cy="1219320"/>
          </a:xfrm>
          <a:prstGeom prst="flowChartDecision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81"/>
          <p:cNvSpPr/>
          <p:nvPr/>
        </p:nvSpPr>
        <p:spPr>
          <a:xfrm>
            <a:off x="0" y="1219320"/>
            <a:ext cx="609480" cy="1218960"/>
          </a:xfrm>
          <a:prstGeom prst="flowChartDecision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80"/>
          <p:cNvSpPr/>
          <p:nvPr/>
        </p:nvSpPr>
        <p:spPr>
          <a:xfrm>
            <a:off x="0" y="2438280"/>
            <a:ext cx="609480" cy="1219320"/>
          </a:xfrm>
          <a:prstGeom prst="flowChartDecision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79"/>
          <p:cNvSpPr/>
          <p:nvPr/>
        </p:nvSpPr>
        <p:spPr>
          <a:xfrm>
            <a:off x="0" y="3657600"/>
            <a:ext cx="609480" cy="1219320"/>
          </a:xfrm>
          <a:prstGeom prst="flowChartDecision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lide Number Placeholder 12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F1416-8B20-4A7B-8C5C-935425A43BC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62120" y="1295280"/>
            <a:ext cx="7772400" cy="453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2010 TAC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ff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Approv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MS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ff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Verbal Update, voting items to TAC next mon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newable Technologies Work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ff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00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87"/>
          <p:cNvSpPr/>
          <p:nvPr/>
        </p:nvSpPr>
        <p:spPr>
          <a:xfrm>
            <a:off x="0" y="6629400"/>
            <a:ext cx="609480" cy="1219320"/>
          </a:xfrm>
          <a:prstGeom prst="flowChartDecision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88"/>
          <p:cNvSpPr/>
          <p:nvPr/>
        </p:nvSpPr>
        <p:spPr>
          <a:xfrm>
            <a:off x="0" y="5410080"/>
            <a:ext cx="609480" cy="1219320"/>
          </a:xfrm>
          <a:prstGeom prst="flowChartDecision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79"/>
          <p:cNvSpPr/>
          <p:nvPr/>
        </p:nvSpPr>
        <p:spPr>
          <a:xfrm>
            <a:off x="0" y="6095880"/>
            <a:ext cx="609480" cy="1219320"/>
          </a:xfrm>
          <a:prstGeom prst="flowChartDecision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79"/>
          <p:cNvSpPr/>
          <p:nvPr/>
        </p:nvSpPr>
        <p:spPr>
          <a:xfrm>
            <a:off x="0" y="4876920"/>
            <a:ext cx="609480" cy="1218960"/>
          </a:xfrm>
          <a:prstGeom prst="flowChartDecision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5cad5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AutoShape 87"/>
          <p:cNvSpPr/>
          <p:nvPr/>
        </p:nvSpPr>
        <p:spPr>
          <a:xfrm>
            <a:off x="0" y="4267080"/>
            <a:ext cx="609480" cy="1219320"/>
          </a:xfrm>
          <a:prstGeom prst="flowChartDecision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92"/>
          <p:cNvSpPr/>
          <p:nvPr/>
        </p:nvSpPr>
        <p:spPr>
          <a:xfrm rot="10800000">
            <a:off x="-360" y="-360"/>
            <a:ext cx="609480" cy="6094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WordArt 13"/>
          <p:cNvSpPr txBox="1"/>
          <p:nvPr/>
        </p:nvSpPr>
        <p:spPr>
          <a:xfrm>
            <a:off x="838080" y="380880"/>
            <a:ext cx="3962520" cy="8384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38d75"/>
                  </a:outerShdw>
                </a:effectLst>
                <a:latin typeface="Monotype Corsiva"/>
              </a:rPr>
              <a:t>TAC Update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38d75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299" name="AutoShape 84"/>
          <p:cNvSpPr/>
          <p:nvPr/>
        </p:nvSpPr>
        <p:spPr>
          <a:xfrm>
            <a:off x="0" y="609480"/>
            <a:ext cx="609480" cy="1219320"/>
          </a:xfrm>
          <a:prstGeom prst="flowChartDecision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87"/>
          <p:cNvSpPr/>
          <p:nvPr/>
        </p:nvSpPr>
        <p:spPr>
          <a:xfrm>
            <a:off x="0" y="1828800"/>
            <a:ext cx="609480" cy="1219320"/>
          </a:xfrm>
          <a:prstGeom prst="flowChartDecision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88"/>
          <p:cNvSpPr/>
          <p:nvPr/>
        </p:nvSpPr>
        <p:spPr>
          <a:xfrm>
            <a:off x="0" y="3048120"/>
            <a:ext cx="609480" cy="1218960"/>
          </a:xfrm>
          <a:prstGeom prst="flowChartDecision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82"/>
          <p:cNvSpPr/>
          <p:nvPr/>
        </p:nvSpPr>
        <p:spPr>
          <a:xfrm>
            <a:off x="0" y="0"/>
            <a:ext cx="609480" cy="1219320"/>
          </a:xfrm>
          <a:prstGeom prst="flowChartDecision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81"/>
          <p:cNvSpPr/>
          <p:nvPr/>
        </p:nvSpPr>
        <p:spPr>
          <a:xfrm>
            <a:off x="0" y="1219320"/>
            <a:ext cx="609480" cy="1218960"/>
          </a:xfrm>
          <a:prstGeom prst="flowChartDecision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80"/>
          <p:cNvSpPr/>
          <p:nvPr/>
        </p:nvSpPr>
        <p:spPr>
          <a:xfrm>
            <a:off x="0" y="2438280"/>
            <a:ext cx="609480" cy="1219320"/>
          </a:xfrm>
          <a:prstGeom prst="flowChartDecision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79"/>
          <p:cNvSpPr/>
          <p:nvPr/>
        </p:nvSpPr>
        <p:spPr>
          <a:xfrm>
            <a:off x="0" y="3657600"/>
            <a:ext cx="609480" cy="1219320"/>
          </a:xfrm>
          <a:prstGeom prst="flowChartDecision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12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ED0C9-6B43-48C4-87C6-737ABFA11FB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62120" y="1219320"/>
            <a:ext cx="7772400" cy="453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Texas Regional (soon to be Reliability) Entity Separation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ffff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On track for July 1 separ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ffff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TRE has 92 member applications received 82 in good standing (paid due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SzPct val="7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ystem coordination and planning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SzPct val="7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Transmission 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SzPct val="7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Cooperative 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SzPct val="7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Municipality 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SzPct val="7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Generation 4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SzPct val="7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LSE 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ffff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ffff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87"/>
          <p:cNvSpPr/>
          <p:nvPr/>
        </p:nvSpPr>
        <p:spPr>
          <a:xfrm>
            <a:off x="0" y="6629400"/>
            <a:ext cx="609480" cy="1219320"/>
          </a:xfrm>
          <a:prstGeom prst="flowChartDecision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88"/>
          <p:cNvSpPr/>
          <p:nvPr/>
        </p:nvSpPr>
        <p:spPr>
          <a:xfrm>
            <a:off x="0" y="5410080"/>
            <a:ext cx="609480" cy="1219320"/>
          </a:xfrm>
          <a:prstGeom prst="flowChartDecision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79"/>
          <p:cNvSpPr/>
          <p:nvPr/>
        </p:nvSpPr>
        <p:spPr>
          <a:xfrm>
            <a:off x="0" y="6095880"/>
            <a:ext cx="609480" cy="1219320"/>
          </a:xfrm>
          <a:prstGeom prst="flowChartDecision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79"/>
          <p:cNvSpPr/>
          <p:nvPr/>
        </p:nvSpPr>
        <p:spPr>
          <a:xfrm>
            <a:off x="0" y="4876920"/>
            <a:ext cx="609480" cy="1218960"/>
          </a:xfrm>
          <a:prstGeom prst="flowChartDecision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16:19:53Z</dcterms:created>
  <dc:creator>Windows XP ver. 2.2</dc:creator>
  <dc:description/>
  <dc:language>en-US</dc:language>
  <cp:lastModifiedBy>kpatrick</cp:lastModifiedBy>
  <dcterms:modified xsi:type="dcterms:W3CDTF">2010-04-09T15:57:29Z</dcterms:modified>
  <cp:revision>66</cp:revision>
  <dc:subject/>
  <dc:title>R.M.S UPDATE</dc:title>
</cp:coreProperties>
</file>