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D7F-15D8-419B-B7A6-089472A0C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B95A-B33A-4A9C-9173-1903B1B32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6E04-83B5-4625-A9BF-AF761D7F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6166-9544-4780-89ED-42FD24CA0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819-F175-4395-B20C-6AE8B0EC9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84A-F27E-4240-9399-39D57E6A7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C9B8-27A6-403D-B0C6-4C7F5C3EF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B6DC-8015-4E4A-A9FE-0C15156595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D053-9392-49AA-8E70-109207C8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AC8BD-0AD5-4149-9D1C-5FB4FE2A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69D1-6053-4859-A330-A3AB05390E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73B-EE10-4152-B2A7-D38A907570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444-0C89-4C54-AF23-6AFFC3DA9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7F9-3F92-4D8F-A1CF-9DCA923B2E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194-6352-46A6-B7F8-0AA33964BB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D84-1C8C-4616-816B-2697E4F0DE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03FC-7A49-4B24-8287-703CFBB439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71A-EA29-4A6D-A3F4-737A5900D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223E-2149-4B3F-8447-AE7D6201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D21-A5E8-4659-BFFB-390866AEE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EFB-0979-4058-8214-853CD0385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9D3-8A79-4DD0-8946-1FA7D628E0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D10-1AE9-4E5B-84E9-034AA39CB2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4B7B-1580-497E-ACF0-E072A8BC89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E41-8C29-48FF-AFA7-51951AD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D3CB-B386-4CD0-85A2-A8C4B75B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9A2A-040A-4FA2-AB73-63BB7638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7D2-D1BB-450A-AB97-80B09934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CB5C-DB00-4990-919C-742FCAD7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FCAC-974B-4FBD-B4B2-A12181EC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DF9-FD66-4B1B-BCD0-C8ED4742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5BD1-FF87-4D43-A665-8401DA6C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49E2-AAD5-4FA9-BC49-A751D1F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1C64-B1B7-4847-87C6-A2B7B6D9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C591-ED9D-475F-B731-70A120D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F3B2-23EC-4713-811B-23C6A14E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3BD9-F969-4221-AB10-CF302B04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611F8-14AD-4C9E-B0D6-C5224487C2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DA133-D037-4FD0-9534-97941819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F733C-625A-4F99-9B1D-7A2C0A5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6D2AA-D213-4006-A34D-9A820C19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515AD-51DE-4D82-9BC3-E429EB8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E3CB6-322D-4D35-B097-D4A5510C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53DEB-562D-4AAF-9539-79200CC8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DF6F7F-9FCF-456B-9F20-8C5AE8BC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599FC-35C9-4257-B263-2B5198E5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A9B7D-DD70-4725-9638-CBE79626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5D80E-FCCC-43D6-AF59-1D4BB59E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C784E-CFE5-4F49-AEA6-9AC84A8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E9483-3CF9-4AF4-8001-1F479AEA1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8EF4-3612-4701-9E67-2E337062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65B1-FA38-429F-B2EF-93735CA1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15F09-27C5-4BA4-B32B-9FD4D1C1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EAF42-B9FA-4E68-8FDE-1AEA8BC2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075D-5B61-44BF-960B-8296415A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rcot Log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622-0ED0-4886-956C-4D7A841E3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94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9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AB5-3346-4AC9-BEE6-FF27C3754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D23-A889-4F5D-9C5A-63169356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ED57-D6BE-4ADB-8951-F773BAC026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0/03/20100324-PW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975-FBC1-4EEC-B65B-811A81777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13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D5BB-8954-40C9-9EF2-6F001619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228600" y="2262240"/>
            <a:ext cx="85978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440B-9482-4EB9-B58C-5E5791161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 2 Sample (Goal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DSPs completing data collection through December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Report to PWG delta of current profiles vs. Round 2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011 target new Load Profil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0/03/20100324-PW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liminary slides of sample vs. current profiles shown at the 3/24 PWG Mt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D40A-CB16-43BE-841C-2CC2E0303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Load Profile Mode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WG needs feedback from REPs on incremental cost of updating round 2 models vs. benef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odel updates at all are needed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estimate existing load profiling model coefficients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 models with new structures to address weather transitions per UFE presentation “profile discontinuity”,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round 3 samples in TDSP areas that are not installing AMS or have later timelines,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ile model transition likely to be needed due to difference in round 2 sample population mean to current profile models just like the last model implement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RCOT forecast of load profiles needed after AMS implement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 feedback was provided by MPs prior to the 3/24 PW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tg. Further discussions for next PWG Mt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792B-1EA2-451B-898D-F654A91F9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7986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in progress for Annual Validation suspension per AMS has been discussed and is a work in progress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sensus that AMS premises should not be subject to the same annual validation of Profile Type as NIDR premises. (Goal 3) PWG shall review at next PWG mt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6 – Draft LPGRR language per NPRR208, Registration and Settlement of Distributed Generation (DG) Less Than One MW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WG shall review LPGRR language at next PWG mt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6 Delete Document Control Section on a normal timelin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nt to the TAC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LPGRR that takes the LRS TDSP CSV Operations Guide and makes it Appendix A of the Load Profiling Guide (LPG)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draf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8 Revisions for Texas Nodal Market Implementation and Synchronization with PRR821, Update of Section 21, Process for Protocol Revisio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 be reviewed at the next PWG mt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F4AD-D729-45C6-9988-E57BEA2BE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aft PRR was presented by Direct Energy proposing that both IDR and NIDR distribution metered premises have an equal allocation factor of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No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iscuss about the relative allocation of transmission vs.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MIT stakeholders discussed and decided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. PWG and SEWG discussions contin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FE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1221-0B3D-43B9-A798-13C4615D8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FE Performance post 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January 27, 2010, PWG discussed the recent high values of positive Initial UFE (up to 1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severe weather swings and affects on scaling factors in sett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S ESIIDs had 6% more usage when compared to if they had been settled using their NIDR data” (ref. ERCOT SEWG UFE presentation 2/22/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WG discussed on 1 PM Feb 22, 2010 - PWG members particip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PWG discussed on Feb. 24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cussion to continue at SEWG and PWG – members of both groups are encouraged to participate in the joint UFE discussions in the two working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ril UFE preliminary report due at the April PWG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AD96-55BE-449A-B954-DDC610C1D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520" y="495936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0 meeting dates - 4th Wednesday of th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48080" cy="30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5" name="Picture 11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0-04-07T13:21:44Z</dcterms:modified>
  <cp:revision>429</cp:revision>
  <dc:subject/>
  <dc:title>PowerPoint Presentation</dc:title>
</cp:coreProperties>
</file>