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2E8A51-F29C-46D1-B7A0-F23223C63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36601F-9ECF-43C9-ABD7-32DDCE58F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70E849-5C25-4C2A-9D6F-544AB531D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AEDC94-B78C-4565-BB50-04DE2E1E0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D09678-95A7-4312-9494-F7CDCD8FC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1BED-FBB4-4300-9DE5-E850991C7E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535B6-209B-4801-90C7-6BB3162F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7E80-AB4C-4900-8786-C36A6E99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F74F-4327-47DC-95A2-1E62F501B3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A1A8-5ACE-4D32-9183-65D7E5F9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7B42A-29AC-44CE-9EC8-65008148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1FFAA-F749-4C37-AE87-D28D0FC6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F34D9-ED7B-4121-9F1B-7A38E7AE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483BE-1693-4361-BAA1-1ADD726B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F31CB-3C15-447C-AF4B-4FAFE426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7600-90BD-46E7-A07D-7FEDFE61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8C544-228E-4450-9E7D-B6898B4F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C2E77-FD06-4652-A575-7F05E84F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E6435-428E-47B8-BAE7-A54CFC90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F0733-D160-42F9-A6EB-93ABDEA1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834A8-AC92-4F6C-96C7-4983EA75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61A23-A63C-4AC1-B6E1-8BA3EAA5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01205-B90F-4C1D-82BC-68DB9502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944F6-95FE-437E-A56E-282E7E14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D57490-AC89-4668-9ED8-44145CA6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F466F-A802-4B05-8B4C-B9AFFB3C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9EDA-9263-4DC7-958B-FCA14D76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79FA1-378E-4338-84AC-C65206FA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4DED1-E9F1-4CD8-9368-1BE195B1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F4138-3CE3-4863-B37E-B5CFCFC7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F2302-AB8F-4605-A8F2-581A7DFB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17F48-C712-403C-B886-7F3C06C3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6EDBAF-0C23-4BBA-A724-77688FF3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D18E9-05C4-4225-8C74-25F7A8F8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296F0-E8F9-42C7-8310-9B2F4AE7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0FC60-F7F6-43FE-9B0D-03A635A4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9ACF-D1CB-43EC-A1B8-41DDC482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1864-5645-464B-9DFE-F4CEE095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F0F3-C491-4221-AE67-F2DF904D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E6B69-D762-4FF1-A192-F3762E6E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A146-8CFB-41D9-A87A-E6C5BA0F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3008-F0EF-46D9-947A-13AB2B2D8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5222-BA1E-4161-B63B-8B315BCD7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6DEB-28E3-45A5-A266-C9C3A7249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5F51-29F9-4D41-AB7F-E502CDD75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693E-7E22-4B3F-A22B-DD7854013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3B00-BBD6-4508-84DD-4788E1779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dt" idx="10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33160" y="1904760"/>
            <a:ext cx="620100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11 Project Prioritiz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6495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pril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1 Project Prioritization -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develop draft 2011 projec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 and incorporate input from the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year project forecast referenced and upd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3 / May 1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/endorsement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0 / June 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/endorsement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1 Project Prioritization – Additional Consid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,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bilization will be the focus for much of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freeze will likely extend into Q2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major release planned for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1 funding will be estimated f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for 2012 major re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CA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, IO,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 freeze will be lifted when reaso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11 funding to be requested in the usual man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list of proposed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 Project Charters, CBAs, and Time &amp; Cost Estim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e cutline based on resource and environment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1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 – Does this mean we will have to wait 1 ½ years for any enhancemen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– Not necessarily.  It is correct that 2011 will focus on system stabilization and future Nodal system changes will be implemented in a much more coordinated  fashion.  However, ERCOT will commit to the follow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ill always listen to input from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ill do our best to communicate the impacts and risks of expediting a system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hanges can be considered as a component of stab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1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60195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endix – Nodal Parking De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Parking Deck - Approved by Board of Directo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1066680"/>
          <a:ext cx="8686800" cy="4181760"/>
        </p:xfrm>
        <a:graphic>
          <a:graphicData uri="http://schemas.openxmlformats.org/drawingml/2006/table">
            <a:tbl>
              <a:tblPr/>
              <a:tblGrid>
                <a:gridCol w="1219320"/>
                <a:gridCol w="4190760"/>
                <a:gridCol w="1143000"/>
                <a:gridCol w="2133720"/>
              </a:tblGrid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Docum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orit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Sta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3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illary Service Trades with ERCO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1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8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P Definition Revis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1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5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Resource Fixed Quantity Block Off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1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2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6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bmitting Ancillary Service offers in SAS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1/19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2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5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.com Website Enhancemen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 Approved 2/16/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Parking Deck – Pending Approv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914400"/>
          <a:ext cx="8839440" cy="3660840"/>
        </p:xfrm>
        <a:graphic>
          <a:graphicData uri="http://schemas.openxmlformats.org/drawingml/2006/table">
            <a:tbl>
              <a:tblPr/>
              <a:tblGrid>
                <a:gridCol w="1306800"/>
                <a:gridCol w="3919320"/>
                <a:gridCol w="1306440"/>
                <a:gridCol w="2306880"/>
              </a:tblGrid>
              <a:tr h="6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 Docume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ggested Priorit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rrent Statu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949a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14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CP Telemetry Information Submitt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d at TA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approved 2/19/20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r Start Unit Deselection and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f Hour Start Unit RUC Clawbac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d at TA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S approved 2/19/20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y RUC Capacity Short Charge to Use Final Energy Trad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 at W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RR22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f-Hour Start Unit RUC Clawback (Companion to NPRR207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ing at PR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75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ments to the MarkeTrack 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d at R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anderson</cp:lastModifiedBy>
  <dcterms:modified xsi:type="dcterms:W3CDTF">2010-04-12T13:29:13Z</dcterms:modified>
  <cp:revision>593</cp:revision>
  <dc:subject/>
  <dc:title>Instructions</dc:title>
</cp:coreProperties>
</file>