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F341-1127-4430-9E6E-6EAC102C24BC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937B-EE95-48D9-8417-50A9D5E61EBD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61A-4646-4240-811C-B8EB455F137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83FD-25AB-4C99-9860-B518133437FA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F7F-E9FF-4054-B052-0EFE72E2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513-8CCA-4E4C-9E42-CF0EA33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8EE-2088-4455-838B-A6D9F4DA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6EA-3B3F-40AC-ADB8-9A421253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585D-E1E0-4FDA-BFDC-59CD5A08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273D-8E98-44AE-9CAD-5EB9D7F2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34DC-284B-4825-883D-DAB0E263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A603-1E9C-4305-A126-39EF149F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F1E-40A1-43AF-BC60-7FF9B869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783-169B-4CDF-9E9F-7FD533A2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E4E6-5B64-4FAE-BD71-8605200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628-F1B1-4F00-96DA-15DE3A8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076C-2967-4B20-AD47-EC9E7F3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9F1E-E8B8-48F2-A8D6-C0D0ED5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10D-85F0-4E22-B87B-D91FCAC7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C23-CFEE-449E-8521-24BBAC73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AC99-EE38-4405-95D9-E5BAB22D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F3C-679B-4261-B0A7-A89A0F2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E47-EF93-4DDC-BE55-497435E4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DAF-F366-4690-9A5E-2D9CD2FC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5D2-74D6-4052-8650-226EF61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FA7-FBA0-419A-A248-251C9E1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629-AFF6-46DF-8B64-CDD19A0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A97-8D8B-4E5E-97BF-F257155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0411-575D-46E1-AECE-1DCC3AA8B10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2FAE-3A14-4C3D-85CB-BAA47BFA51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972C-1710-44C8-9D14-B78ADE165B9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DFC-FAAF-4815-98EB-6493A2334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1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06E1-E986-4B54-AC64-8BBBD0422B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990720" y="3200400"/>
            <a:ext cx="259056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Monotype Corsiva"/>
              </a:rPr>
              <a:t>April 8, 20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5" name="WordArt 13"/>
          <p:cNvSpPr txBox="1"/>
          <p:nvPr/>
        </p:nvSpPr>
        <p:spPr>
          <a:xfrm>
            <a:off x="990720" y="1752480"/>
            <a:ext cx="5257800" cy="129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Monotype Corsiva"/>
              </a:rPr>
              <a:t>RMS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Monotype Corsiva"/>
              </a:rPr>
              <a:t>RMS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8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1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ask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Market Advanced Reads and Settlements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ERCOT recently settled 692,000 AMS ESI IDs with AMS interval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AEP has begun testing LSE files and mete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Retail Advanced Metering Process Task 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PUCT: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37624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 – Rulemaking to amend customer protection rules relating to disconnection and reconnection of service for customer with advanced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ampering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PUCT: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37291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Rulemaking relating to Meter Tamper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AC should expect deliverables from RMS on Urgent timetable to meet a July 1, 2010 rule implementation da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MarkeTrak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CR756 – Enhancements to MarkeTrak tool.  Will be added to Parking Deck very s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Monotype Corsiva"/>
              </a:rPr>
              <a:t>RMS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9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1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1488960"/>
            <a:ext cx="8153280" cy="4530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Schoolbook"/>
              </a:rPr>
              <a:t>Market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Schoolbook"/>
              </a:rPr>
              <a:t>RMS leadership working with COPS Communication Working Group to include Market Participant’s market notifications of system outages and informational updates</a:t>
            </a:r>
            <a:r>
              <a:rPr b="0" lang="en-US" sz="21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Schoolbook"/>
              </a:rPr>
              <a:t>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Schoolbook"/>
              </a:rPr>
              <a:t>TEXAS SET/TT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Schoolbook"/>
              </a:rPr>
              <a:t>Consolidation of these two working groups to be completed by end of year</a:t>
            </a:r>
            <a:r>
              <a:rPr b="1" lang="en-US" sz="21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Schoolbook"/>
              </a:rPr>
              <a:t>TDT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Schoolbook"/>
              </a:rPr>
              <a:t>Continue to assist in monitoring outages and market performance metr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Schoolbook"/>
              </a:rPr>
              <a:t>Retail Metering Working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5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Schoolbook"/>
              </a:rPr>
              <a:t>Addressing meter standards, cleaning up working  group gui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10-04-06T17:22:23Z</dcterms:modified>
  <cp:revision>59</cp:revision>
  <dc:subject/>
  <dc:title>R.M.S UPDATE</dc:title>
</cp:coreProperties>
</file>