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EF8-7FB4-4B66-9A18-3EEF97E0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FE2-55F7-4B42-B495-C965BCE4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D44-061B-4BC6-9F47-9601E6B7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C08-F4B6-435D-A3A8-D4B80112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8D2C-CF7A-4A8A-861A-08046A59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31D7-CF4B-41FC-B4C5-13A2C311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B131-7BAE-42FE-88F8-78E774A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95C0-09D0-4084-A1E4-92BE7C5B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DAAF-4385-469D-8984-554D742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79EF-C1DD-4AF6-AADE-50BB7E9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B6E9-1D4F-4495-916A-82FA987B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D88-A616-492B-A7D3-8990A8E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E19C-680D-4E7C-8CB0-345662A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5A31-E941-4935-85D1-94196CD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B695-6284-4921-85A7-0C8A4837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E827-13A4-41F4-A218-4B82E64D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69E1-A98E-46F4-9540-2DAA8915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EC6-6AD9-48D4-B442-D364FB36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6C5-368F-4BF0-B31E-8F147BBF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0E1-D1A9-437C-9163-D8FDCB45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CBD-3F02-4159-A561-043276D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C04-1E4E-4DA6-9ED0-598D10EE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066-9AB0-4687-AF22-1B70740E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93A-0B5C-419C-B59E-F8C39560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9973-EBCD-4665-9A8E-C9E44FEFAE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8E3D-B98F-4EA2-B98D-CE60D2A228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990720"/>
            <a:ext cx="8001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 Antiqua"/>
              </a:rPr>
              <a:t>Commercial Oper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Book Antiqua"/>
              </a:rPr>
              <a:t>Subcommitte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pril 8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Voting It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PS voted to approve COPMGRR016 Update to Section 12, Renewable Energy Credits due to PRR 808, Clean-up and Alignment of RECs Trading Program Language with PUCT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Ps voted to approve LPGRR036, Delete Document Contro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12680" y="1751040"/>
            <a:ext cx="75931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Questions 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Registered User</cp:lastModifiedBy>
  <dcterms:modified xsi:type="dcterms:W3CDTF">2010-04-07T18:18:34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