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6386D8-AA37-4987-863B-865F42C4D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DA6B2E-D5F7-4B4C-9FC9-C6BDE3F15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D529-1424-4192-AAD4-5BE0B8B2C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D49924-EFF3-4072-AC4C-3A91D324F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FDAD-C536-495D-B1CA-89DA968A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447AE7-D819-45E8-8541-31A3AFAB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977A-97C1-416E-BB22-E15F52E3D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8F5A532-6844-4F99-AF0F-8B8A4DA1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0885-688B-43E6-B4F2-9BE0D162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F8C541-BFF6-480F-84B5-64225A6C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0630-74DE-43BD-93F3-C75F273B1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3D8E8E-B35E-41F2-AA22-38F590C7D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050F-CA29-4E02-869A-4AF97297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61B003-16B1-422C-B5AB-DC7171D4E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A207-B1C1-41FF-BE30-4A19C976D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9D5672-125C-4666-8233-FAFAE1B8E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D5E4-A346-46B0-BFB2-47899F65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C2408F-EC18-4DB5-B0F0-55EFC064A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4906-2759-4DC7-BB95-C2390E4BA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577DDF7-3BC5-42F9-8333-9F786044F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F4BC-6FC5-418F-899B-2893B274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F070E4-44CA-4CD0-862B-252DD3B8D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9A72-0ACB-4DEA-8113-B53D869AC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8CE20A-7506-45C9-87DB-B26964FA8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3C8C-EC02-4E02-9FE5-E31C9511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0225C0-55F2-4A99-AA8E-C9064F67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5517-EE27-47C7-B5FC-EC529D570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B734180-DB2C-4253-9F31-BBB5625E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BF27-7752-47F5-A41D-DD000CBDA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1EBB84-4AC6-49E4-8355-6EDAF9CB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21D5-3A15-4361-A566-E43516341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10A426-DD63-4012-B2C8-A2EEC8228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458D-89E1-401A-AC83-A5C5B253D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5D5571-BA5A-4A2D-869C-8D94336D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3B49-E05C-4AE9-B972-5DC42D4D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AEBAC52-C075-4AF3-84F9-67B75272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nodal/mt/index" TargetMode="External"/><Relationship Id="rId2" Type="http://schemas.openxmlformats.org/officeDocument/2006/relationships/hyperlink" Target="http://nodal.ercot.com/readiness/markettrials/os/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0/04/20100409-MTTS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A2C3708-D015-4CEE-A8FD-919C84746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OS Update regard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SP Nodal Engagemen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12,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04920" y="942840"/>
            <a:ext cx="86104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Validation and maintenance of the Network Operation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 Mode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pporting Monthly CRR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Model On-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Outage Schedul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Telemetr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ing to Nodal go-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785AF8E-F103-4090-BAC1-19B87535A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7"/>
          <p:cNvSpPr/>
          <p:nvPr/>
        </p:nvSpPr>
        <p:spPr>
          <a:xfrm>
            <a:off x="2438280" y="914400"/>
            <a:ext cx="4267440" cy="5486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1143000" y="6629400"/>
            <a:ext cx="21337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3/04/2010 Ken Donoh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03B9-5B38-4721-AEAD-8CD83F7E62F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0160" y="145800"/>
            <a:ext cx="877248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Model Effort Activ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63480" y="1103400"/>
            <a:ext cx="1435320" cy="12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4921200" y="1141560"/>
            <a:ext cx="1435320" cy="123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2789280" y="1136520"/>
            <a:ext cx="1434960" cy="1235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7042320" y="1139760"/>
            <a:ext cx="1434960" cy="123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74640" y="2498760"/>
            <a:ext cx="1400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930920" y="2479680"/>
            <a:ext cx="1400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7043760" y="2492280"/>
            <a:ext cx="1400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792520" y="2492280"/>
            <a:ext cx="1400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ERC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tatus of Model for CRR Auc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F2C3327-3EAC-42E9-A437-47E11EF0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28600" y="914400"/>
            <a:ext cx="8686800" cy="34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WG began analyzing output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twork Operations Model via the Topology Process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December 2009 to validat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at SSWG of gaps in data needed to support Topology Process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WG/ERCOT quantifying effort needed to close gaps in Network Operations Model for proper provisioning of the model via Topology Processor to the CRR Monthly Au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2d050"/>
                </a:solidFill>
                <a:uFillTx/>
                <a:latin typeface="Arial"/>
              </a:rPr>
              <a:t>Change data (TSP submit data upd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f0"/>
                </a:solidFill>
                <a:uFillTx/>
                <a:latin typeface="Arial"/>
              </a:rPr>
              <a:t>Change software (ERCOT changes Topology Proces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09480" y="4822920"/>
            <a:ext cx="1762200" cy="123516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6413400" y="4861080"/>
            <a:ext cx="1435320" cy="123480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062160" y="4856040"/>
            <a:ext cx="2652840" cy="1235160"/>
          </a:xfrm>
          <a:prstGeom prst="rect">
            <a:avLst/>
          </a:prstGeom>
          <a:solidFill>
            <a:srgbClr val="b3b3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M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logy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Creates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397240" y="548784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5715000" y="549756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13"/>
          <p:cNvCxnSpPr>
            <a:endCxn id="138" idx="0"/>
          </p:cNvCxnSpPr>
          <p:nvPr/>
        </p:nvCxnSpPr>
        <p:spPr>
          <a:xfrm flipH="1">
            <a:off x="1490400" y="3451320"/>
            <a:ext cx="33840" cy="13723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lg" type="triangle" w="lg"/>
          </a:ln>
        </p:spPr>
      </p:cxnSp>
      <p:cxnSp>
        <p:nvCxnSpPr>
          <p:cNvPr id="144" name="Straight Arrow Connector 15"/>
          <p:cNvCxnSpPr/>
          <p:nvPr/>
        </p:nvCxnSpPr>
        <p:spPr>
          <a:xfrm flipH="1">
            <a:off x="3351960" y="3831840"/>
            <a:ext cx="1080" cy="1067400"/>
          </a:xfrm>
          <a:prstGeom prst="straightConnector1">
            <a:avLst/>
          </a:prstGeom>
          <a:ln w="19080">
            <a:solidFill>
              <a:srgbClr val="00b0f0"/>
            </a:solidFill>
            <a:miter/>
            <a:tailEnd len="lg" type="triangle" w="lg"/>
          </a:ln>
        </p:spPr>
      </p:cxnSp>
      <p:sp>
        <p:nvSpPr>
          <p:cNvPr id="145" name="Right Arrow 12"/>
          <p:cNvSpPr/>
          <p:nvPr/>
        </p:nvSpPr>
        <p:spPr>
          <a:xfrm>
            <a:off x="609480" y="6019920"/>
            <a:ext cx="7543800" cy="53316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low for creating CRR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tatus of Model for CRR Auc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C3B0020-7517-4957-BB1A-945696EFC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228600" y="762120"/>
            <a:ext cx="86868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rket Trial High-Level Key 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d9d9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Arial"/>
              </a:rPr>
              <a:t>June CRR Auction (conduct in M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d9d9d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d9d9"/>
                </a:solidFill>
                <a:latin typeface="Arial"/>
              </a:rPr>
              <a:t>March 17 TSP/SSWG Phase 1 work- assignment of Connectivity Node Groups and PSSE Generator I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CRR Auction (conduct in J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30 TSP/SSWG data changes received improve CRR Model for Connectivity Node to Connectivity Node Group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ust CRR Auction (conducted in Ju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1 TSP/SSWG remaining data changes for CR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8 ERCOT Topology Processor enhancements deli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 this is the last trial auction prior to 168-hou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SWG Schedu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ass of CNG and ID changes due to 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IT Pass 2 idvs due to 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SWG conference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 files, NOIE, and self-serve dispatch due to 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TPIT cases posted on t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SWG meeting - Tay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ends Pass 1 cases to SS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SWG conference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1 changes due to 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mplete CNG and CN updates for CRR marke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ends Pass 2 cases to SSWG (gen dispatch inclu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SWG conference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2 changes due to 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2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ends Pass 3 cases to SS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2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SWG meeting - Tay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2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3 changes due to 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5 –1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WG meeting to finalize 11DSA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SWG Planning Model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R Related Issues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ing Connectivity Node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 26 TP output: 1063 CNGs needing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 5 TP output: 540 CNGs needing 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540 CNGs, approx 150 are generator related, meaning TSPs will have to work with ERCOT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t Connectivity Nodes into the correct CNGs (i.e. Fix Top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logy Processor chan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ing important modeling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SWG Modeling Issu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n Demand related issu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ormer modeling: 2 winding vs 3 wi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atings on zero impedance line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ersh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s and cap banks being collapsed to the correct C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 banks connected to distribution vol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S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304920" y="942840"/>
            <a:ext cx="86104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Validation and maintenance of the Network Operation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 Mode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Supporting Monthly CRR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del On-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Outage Schedul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Telemetr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ing to Nodal go-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A029F0E-1C1A-496C-8980-8F4209AEE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7"/>
          <p:cNvSpPr/>
          <p:nvPr/>
        </p:nvSpPr>
        <p:spPr>
          <a:xfrm>
            <a:off x="6629400" y="914400"/>
            <a:ext cx="2286000" cy="5486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4"/>
          <p:cNvSpPr/>
          <p:nvPr/>
        </p:nvSpPr>
        <p:spPr>
          <a:xfrm>
            <a:off x="1143000" y="6629400"/>
            <a:ext cx="21337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3/04/2010 Ken Donoh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8B82-74A2-4EBC-9454-4565A76C8C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0160" y="145800"/>
            <a:ext cx="877248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Model Effort Activ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63480" y="1103400"/>
            <a:ext cx="1435320" cy="12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921200" y="1141560"/>
            <a:ext cx="1435320" cy="123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2789280" y="1136520"/>
            <a:ext cx="1434960" cy="1235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7042320" y="1139760"/>
            <a:ext cx="1434960" cy="123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74640" y="2498760"/>
            <a:ext cx="1400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4930920" y="2479680"/>
            <a:ext cx="1400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7043760" y="2492280"/>
            <a:ext cx="1400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2792520" y="2492280"/>
            <a:ext cx="1400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ERC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lanning Go-Live Summar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251915B-B7EB-462F-AA0D-E14429B0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28600" y="914400"/>
            <a:ext cx="876312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ification of Planning Model Go-Live in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understanding that Nodal Planning Model functionality is needed to comply with Nodal Protocols effective Dec 1, 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understanding that annual planning models will be created using new toolset (ie MOD) based on the Network Operations Model after Dec 1, 20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s Data sets published in 2011 (for 2012/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s Annual CRR Auction conducted in 2011 (for 2012/201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ERCOT flexibility in 2010 implementation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RCOT will work with TSPs (SSWG) and QSE/CRR (NATF) to consider refinement of Planning Model Go-Live sequence to extend from August 2010 go-live to being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no later than Dec 1, 2010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needs to work with TSPs on details of 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304920" y="942840"/>
            <a:ext cx="86104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 of new TSP Bi-Weekly Call (next call April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ation and maintenance of the Network Operation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Mode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Outage Schedul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Telemetr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ing to Nodal go-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A337C1B-A440-48A8-8C5B-3332F19CD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304920" y="942840"/>
            <a:ext cx="86104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Validation and maintenance of the Network Operation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Mode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Monthly CRR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On-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SP Outage Schedul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Telemetr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ing to Nodal go-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A3F5A21-392C-4D30-98B3-4F475D33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SP Outage Schedule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1779E6F-48D6-4CB8-A318-A0EAFE06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8600" y="914400"/>
            <a:ext cx="8763120" cy="53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cation activities in-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ly Market Call every Friday 9-10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nodal/mt/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book for Outage Schedul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odal.ercot.com/readiness/markettrials/os/index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Qualifica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/25 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% complete Equipment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04920" y="942840"/>
            <a:ext cx="86104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Validation and maintenance of the Network Operation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Mode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Monthly CRR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On-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Outage Schedul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SP Telemetr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ing to Nodal go-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FCCD1F0-F730-4561-9813-69259845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SPs being contacted to resolve telemetry issu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2806265-CCE1-4817-B2F6-89510643B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228600" y="1143000"/>
            <a:ext cx="8610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metry Compliance with Nodal Protocols 3.10.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Updates to ND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ending out missing poi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s have been working with ERCOT to comment on missing points (approx 1,5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on status of points for missing/provided tele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cketed into assignments and resolving with different ERCTO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effort is engaging ownership and model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 is to get to a maintenance mode with TSP telemetry by Ma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304920" y="942840"/>
            <a:ext cx="86104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Validation and maintenance of the Network Operation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Mode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Monthly CRR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On-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Outage Schedul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Telemetr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itioning to Nodal go-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2E4E534-741B-4D55-B7FC-2AFF0BA8C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orking Towards Go-Liv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45F2996-FFC7-424B-896B-D2F15FB55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228600" y="914400"/>
            <a:ext cx="876312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Frequency Model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 Operations Model currently being consumed every 2 weeks by Nodal EMS/MMS and other downstream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ly aligned with Zonal Model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orking with stakeholder on potentially increasing nodal model load frequency to weekly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s/OGRRs i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GRR034- Telemetry Performance (ROS/NDSWG and NATF feed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146- ICCP Telemetry/NetworkModel (ROS/NDS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-45720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219- Alignment NPRR for Outages (special PRS meeting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orking Towards Go-Liv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BBD5720-5362-4115-A341-7F72DC3A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28600" y="914400"/>
            <a:ext cx="8763120" cy="28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recognition that some Nodal Protocols come into effect to align with 12/1/2010 which are weeks or months before go-live on 12/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SP Model Changes due by Sept 1, for Dec 1 (per protocols 3.1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utages in parallel/dual-entry to support CRR Auction Model and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Auction process Oct-Nov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Board action on Nodal Protocols in July for market notice on August 1 for effective date on Sep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304920" y="942840"/>
            <a:ext cx="86104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Validation and maintenance of the Network Operation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Mode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Monthly CRR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On-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Outage Schedul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Telemetr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ing to Nodal go-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9C427C0-64FF-47A5-B717-2BB55E7E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ctive Market Participant Metrics (April 8, 2010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C86B4F7-DABD-4883-A13D-10FA26A3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28600" y="914400"/>
          <a:ext cx="8763120" cy="516240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631800"/>
                <a:gridCol w="687600"/>
                <a:gridCol w="576360"/>
                <a:gridCol w="631800"/>
                <a:gridCol w="631800"/>
                <a:gridCol w="946080"/>
                <a:gridCol w="1125360"/>
                <a:gridCol w="1322640"/>
              </a:tblGrid>
              <a:tr h="345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ic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es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llow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cored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Crit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6843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3 Market Submissions Connectivity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ful submission of RT and DAM trans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/84 QSERS  Qualified (includes QSEs with Load Resources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 weigh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/192 QSEs qualified.  Below 95% threshold for overall GREE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6 Telemetry Compliance with Nodal Protocols 3.10.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State Estimator telemetry submit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/79 QSERs completed.  3501/3502 SE points provided (99.6%)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SCED telemetry submit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/79 QSERs completed.  7621/7629 SCED points provided (99.1%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/White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ship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TSP telemetry per ICCP Handbook submitted.  No schedule for AMBER/RED sc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7 TSPs completed, all other TSPs are in review by ERCOT.  ~94% TSP CB and LD points provid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11 Resource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ered MW Capacity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sion Making Authority form submitted, and GENMAP valida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/157 Resources comple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ctive Market Participant Metrics (April 8, 2010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609EFCA-D5B5-4EB3-AA3C-D6D28EA46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280" y="835200"/>
          <a:ext cx="8686800" cy="5243400"/>
        </p:xfrm>
        <a:graphic>
          <a:graphicData uri="http://schemas.openxmlformats.org/drawingml/2006/table">
            <a:tbl>
              <a:tblPr/>
              <a:tblGrid>
                <a:gridCol w="1343160"/>
                <a:gridCol w="789120"/>
                <a:gridCol w="552240"/>
                <a:gridCol w="790560"/>
                <a:gridCol w="673200"/>
                <a:gridCol w="590400"/>
                <a:gridCol w="552600"/>
                <a:gridCol w="868320"/>
                <a:gridCol w="1122480"/>
                <a:gridCol w="1404720"/>
              </a:tblGrid>
              <a:tr h="415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ic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es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llow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cored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Crit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82548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14-C TSP Model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nership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twork Model data validated by T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/28 TSPs have submitted model validation e-mails to ERCO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15-A Real-time Market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tion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ekly average of daily SCED submiss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/79 QSERs above 95% weekly average for SCED submissions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15-B CRR Connectivity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RA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weigh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ccessful submission CRR transac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/70 CRRAHs qualified.  Greater than 5% overall R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16 DAM Particip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/White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tion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tion in 50% of the Day-Ahead Market r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/79 QSERs with adequate particip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/White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Weigh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 out of 192 QSEs with adequate particip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20 Outage Scheduler Connectivity Qual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ration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ccessful submission of OS transactions.  AMBER/RED scores light up 4/13/2010 after OS window clos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/78 QSERS qualified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wnership Ratio Sh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.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/25 TSPs qualified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942840"/>
            <a:ext cx="86104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t few months have revealed a gap in expectations and communications between TSPs and ERCOT nod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S/NDSWG/SSWG/NATF/NodalTrialCalls/TAC/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TSP dedicated call is being started on bi-weekly basis to better communicate and track significant activities/issues/risks specifically related to nodal program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mpting to aggregate key nodal information together for T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calls may yield lessons-learned for what forums should focus on which issues, and this call does not replace other forums, but allow a central sharing of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roduction and Objectiv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F615CC5-5C6B-4C3A-80A8-58A396A3A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ctive Market Participant Metrics (April 8, 2010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8547120" cy="45259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410C5FA-8A9C-4FD4-833F-479D0A25A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28600" y="990720"/>
          <a:ext cx="8686800" cy="1679400"/>
        </p:xfrm>
        <a:graphic>
          <a:graphicData uri="http://schemas.openxmlformats.org/drawingml/2006/table">
            <a:tbl>
              <a:tblPr/>
              <a:tblGrid>
                <a:gridCol w="1343160"/>
                <a:gridCol w="788760"/>
                <a:gridCol w="552600"/>
                <a:gridCol w="790560"/>
                <a:gridCol w="673200"/>
                <a:gridCol w="590400"/>
                <a:gridCol w="552600"/>
                <a:gridCol w="868320"/>
                <a:gridCol w="1122120"/>
                <a:gridCol w="1405080"/>
              </a:tblGrid>
              <a:tr h="415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ric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es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llow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d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Scored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ary Crit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263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R3 Operation of CRR Auctions and Allo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een/White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RA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weigh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icipation in at least one of the last two auctions or allocations.  AMBER/RED scores light up 5/5/2010 after May bid window clo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/70 CRRAHs with adequate participation in March or April Auctions or Allocatio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ctive ERCOT Metrics (April 8, 2010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156CC0A-A349-4AA2-8D31-D9AE4E86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6797520" y="586728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update – 4/7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52280" y="914400"/>
          <a:ext cx="8839440" cy="5221440"/>
        </p:xfrm>
        <a:graphic>
          <a:graphicData uri="http://schemas.openxmlformats.org/drawingml/2006/table">
            <a:tbl>
              <a:tblPr/>
              <a:tblGrid>
                <a:gridCol w="1230480"/>
                <a:gridCol w="1025640"/>
                <a:gridCol w="609480"/>
                <a:gridCol w="1081080"/>
                <a:gridCol w="2367000"/>
                <a:gridCol w="2525760"/>
              </a:tblGrid>
              <a:tr h="404640"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c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es 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(if applicab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Crit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790920"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1 ERCOT Staff Completes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plans must be adhered to for highly impacted depart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out of 15 highly impacted departments are up to date with their training plan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0"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9 Develop Nodal Proced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s developed 1 month prior an to the appropriate Market Trials Phase and/or procedures exercised in the current Market Trials phas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MT4 and MT5 are now developed and the MT3 procedures were exercised during MT3 as scheduled.  MT4 procedures on target to be exercised by the end of MT4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4 Verify SCED Execution Qua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of the successful SCED executions passed the post-execution price validations for the given reporting perio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the 3/23 – 4/5 period, there were 4,048 * SCED intervals with no price validation error flag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5 Generate 6 Months of L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 than 95% of the SCED executions produced and posted LMPs for the given reporting perio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the 3/23 – 4/5 period, 3,887 out of 4,052 SCED runs with LMP posted correctly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ket Trials 2010 Roadmap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F672011-EDC3-4E19-9175-E152CC313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Content Placeholder 4"/>
          <p:cNvGraphicFramePr/>
          <p:nvPr/>
        </p:nvGraphicFramePr>
        <p:xfrm>
          <a:off x="252360" y="744480"/>
          <a:ext cx="8739360" cy="56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744480"/>
                    <a:ext cx="8739360" cy="56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Straight Connector 5"/>
          <p:cNvSpPr/>
          <p:nvPr/>
        </p:nvSpPr>
        <p:spPr>
          <a:xfrm>
            <a:off x="3505320" y="762120"/>
            <a:ext cx="0" cy="54864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Date Placeholder 4"/>
          <p:cNvSpPr/>
          <p:nvPr/>
        </p:nvSpPr>
        <p:spPr>
          <a:xfrm>
            <a:off x="1143000" y="6629400"/>
            <a:ext cx="21337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3/04/2010 Ken Donoh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F75B-125A-454D-95CD-EAABCA253E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0160" y="145800"/>
            <a:ext cx="877248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Model Effort Activ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63480" y="1103400"/>
            <a:ext cx="1435320" cy="12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921200" y="1141560"/>
            <a:ext cx="1435320" cy="123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789280" y="1136520"/>
            <a:ext cx="1434960" cy="1235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7042320" y="1139760"/>
            <a:ext cx="1434960" cy="123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2124000" y="1768320"/>
            <a:ext cx="67968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6380280" y="176040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4257720" y="1778040"/>
            <a:ext cx="6793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674640" y="2498760"/>
            <a:ext cx="140040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4930920" y="2479680"/>
            <a:ext cx="140004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7043760" y="2492280"/>
            <a:ext cx="140004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To M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2792520" y="2492280"/>
            <a:ext cx="140004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15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2/24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Rectangle 16" descr=""/>
          <p:cNvPicPr/>
          <p:nvPr/>
        </p:nvPicPr>
        <p:blipFill>
          <a:blip r:embed="rId1"/>
          <a:stretch/>
        </p:blipFill>
        <p:spPr>
          <a:xfrm>
            <a:off x="914400" y="2755800"/>
            <a:ext cx="73216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04920" y="942840"/>
            <a:ext cx="861048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alidation and maintenance of the Network Operation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Mode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Outage Scheduler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P Telemetry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ing to Nodal go-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ric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587A69D-23B3-42B8-89DA-436CB156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7"/>
          <p:cNvSpPr/>
          <p:nvPr/>
        </p:nvSpPr>
        <p:spPr>
          <a:xfrm>
            <a:off x="304920" y="914400"/>
            <a:ext cx="2209680" cy="5486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TAC Meeting - ROS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4"/>
          <p:cNvSpPr/>
          <p:nvPr/>
        </p:nvSpPr>
        <p:spPr>
          <a:xfrm>
            <a:off x="1143000" y="6629400"/>
            <a:ext cx="213372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3/04/2010 Ken Donoh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845400" y="6397560"/>
            <a:ext cx="2133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AF2F-9A24-4C82-BF2D-4025D8DD70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145800"/>
            <a:ext cx="877248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Model Effort Activity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63480" y="1103400"/>
            <a:ext cx="1435320" cy="1235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921200" y="1141560"/>
            <a:ext cx="1435320" cy="123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89280" y="1136520"/>
            <a:ext cx="1434960" cy="1235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7042320" y="1139760"/>
            <a:ext cx="1434960" cy="123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674640" y="2498760"/>
            <a:ext cx="1400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4930920" y="2479680"/>
            <a:ext cx="1400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7043760" y="2492280"/>
            <a:ext cx="14000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2792520" y="2492280"/>
            <a:ext cx="14000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ERC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Update on SEM post Go-Live Activities for Network Operations Mod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5800" y="1981080"/>
            <a:ext cx="2209680" cy="30492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105520" y="1981080"/>
            <a:ext cx="2209680" cy="30492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i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895480" y="1981080"/>
            <a:ext cx="2210040" cy="30492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10"/>
          <p:cNvSpPr/>
          <p:nvPr/>
        </p:nvSpPr>
        <p:spPr>
          <a:xfrm>
            <a:off x="68580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85800" y="2362320"/>
            <a:ext cx="2133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applying high volumes of TSP NOMCRs (supporting TSP valid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completing RE/ RARFs i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releasing GenMap/EPS Meter packages to RE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testing bi-weekly model loads to nodal EMS/M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2895480" y="2362320"/>
            <a:ext cx="2133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anticipates TSP validation being ~90%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RF should be ~90%  complete (Load Resources by 3/15 Model Lo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staffed to support high volumes of NOMC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5"/>
          <p:cNvSpPr/>
          <p:nvPr/>
        </p:nvSpPr>
        <p:spPr>
          <a:xfrm>
            <a:off x="289548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5105520" y="2362320"/>
            <a:ext cx="2133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anticipates transitioning to maintenance mode for TSP and RARF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releasing RE confirmations of model (RARF as reflected in model since RE’s cannot acc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formally loading bi-weekly model loads to nodal EMS/MMS on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7"/>
          <p:cNvSpPr/>
          <p:nvPr/>
        </p:nvSpPr>
        <p:spPr>
          <a:xfrm>
            <a:off x="5105520" y="2286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1"/>
          <p:cNvSpPr/>
          <p:nvPr/>
        </p:nvSpPr>
        <p:spPr>
          <a:xfrm>
            <a:off x="2895480" y="4800600"/>
            <a:ext cx="2133720" cy="1006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1-TSP metric MP14C becomes Amber for TSPs that have not confirmed validation processing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5105520" y="4800600"/>
            <a:ext cx="2133360" cy="1006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r1- TSP metric becomes Red for TSPs that have not confirmed validation processing 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ight Arrow 24"/>
          <p:cNvSpPr/>
          <p:nvPr/>
        </p:nvSpPr>
        <p:spPr>
          <a:xfrm>
            <a:off x="685800" y="5715000"/>
            <a:ext cx="6629400" cy="38088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 Trials- Nodal Real-Time Market, State Estimator, CRR A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ight Arrow 25"/>
          <p:cNvSpPr/>
          <p:nvPr/>
        </p:nvSpPr>
        <p:spPr>
          <a:xfrm>
            <a:off x="5105520" y="5943600"/>
            <a:ext cx="228600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ket Trials- Day-Ahead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26"/>
          <p:cNvSpPr/>
          <p:nvPr/>
        </p:nvSpPr>
        <p:spPr>
          <a:xfrm>
            <a:off x="7162920" y="6172200"/>
            <a:ext cx="1752480" cy="38088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osed-Loop LFC T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152280" y="762120"/>
            <a:ext cx="87631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WSG/ROS updates related to Network Operations Mode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 Go-Live 8/31/09 and assessing status of Post SEM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Level view of Validation Progression and related me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3F11B90-9F0D-49DE-88F8-76A8DC87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04920" y="914400"/>
            <a:ext cx="85341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status of completion (measured by MP-14C TSP Model Validation)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 of 22 TSPs have submitted confirmation that validation is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99% of the modeled system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ing completion of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cting TSP workshops for Model Validation re-fresher/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one planned- Friday April 9, 1:30-3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0/04/20100409-MTT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tatus of Network Operations Model Valid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7FB3100-889E-4373-91BC-24075C67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10-04-09T20:47:31Z</dcterms:modified>
  <cp:revision>1017</cp:revision>
  <dc:subject/>
  <dc:title>Texas Nodal Detailled Market Trials Planning Process 30 January 2007</dc:title>
</cp:coreProperties>
</file>