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315-9E23-4096-8AF8-DD29F48D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4BF-3182-4635-A167-E4694AE4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182-8E01-46E8-9FE2-A1075A8B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760-493E-4FAD-927D-E00D1AF3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4FF-A906-4FD5-B774-03E0F104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3D0F-C3B1-4725-8EC1-A5630F1F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716-58D8-4597-8574-EC05D4C0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79E-2B95-4D93-A0F1-E2422C8D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9A15-0D6A-4D6D-A1CC-6D75CD34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A80-3E3A-4AEC-8DCA-152AD4EE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64F-E5E6-4E07-9735-62D73C1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8312-061D-44DD-B448-57BAD89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E39-447D-46F9-8B6E-33E719DB4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7960" y="311040"/>
            <a:ext cx="86680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37960" y="23004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8160" y="15840"/>
            <a:ext cx="922032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s of April 7,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with Governors presently set with an intentional deadband less than or equal to +/-0.01666 Hz and droop curve with no step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,317 MW Total Capacity Identified by PDCWG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90 MW Lig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89 MW C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80 MW Combustion Turbine Combined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19 MW Combustion Turbine Simpl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9 MW Steam Turbine – natural gas f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0 MW Hyd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Frequenc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567480" cy="518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66880" y="2209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 (Pre-disturbance frequ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259092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6248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Point (spi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38280" y="5867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343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Point (reset frequenc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74284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51055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30 seconds (evaluation of sustained governor respon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95120" y="53341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quency Respons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rtia and Load Damp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ponse from High Pressure Steam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Response from Combustion and Hydro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from Intermediate and Low Pressure Steam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from Combustion and Hydro Turb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B +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Sustained Frequency Response.  Determines if plant controls reduce frequency response, commonly called “outer loop MW control”.  ERCOT Protocol Section 5 initiated this evaluation point in late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3920" y="463680"/>
            <a:ext cx="869616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April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ed one February and four March disturb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BAL-003-0 FERC dir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needed for individual Generation Resource Primary Frequency Response similar to ERCOT Protocols, Operating Guides and BAL-001-TRE regional draf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 Interconnection Frequency Response by managing Generation Resource operating margins (Reserves) knowing that Governors are in service and working prope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and Track Interconnection Frequency Respo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d Nodal Operating Guide 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May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629400" y="762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= 138.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458640"/>
            <a:ext cx="9029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24480" y="4572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60" y="453960"/>
            <a:ext cx="903888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201240" cy="6419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10080" y="457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RCOT Freq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35388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8991720" cy="5959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124080" y="380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14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2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7524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942840"/>
            <a:ext cx="8674200" cy="59151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6915240" y="123840"/>
            <a:ext cx="16192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ERCOT as a single control area is exempt from CPS2.  These scores are For Informa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1143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371600"/>
            <a:ext cx="9907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niemeyer</cp:lastModifiedBy>
  <dcterms:modified xsi:type="dcterms:W3CDTF">2010-04-09T20:41:06Z</dcterms:modified>
  <cp:revision>60</cp:revision>
  <dc:subject/>
  <dc:title>Slide 1</dc:title>
</cp:coreProperties>
</file>